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العرض المخصص 1" id="0">
      <p:sldLst>
        <p:sld r:id="rId9"/>
        <p:sld r:id="rId10"/>
        <p:sld r:id="rId11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F75-8391-4CBD-8901-5DAB2858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C85-1852-41C8-93A0-E30A61B0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AE4-96BC-4D1B-9B11-24DBBD03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5A6-CB62-44A6-807C-0FC33DC2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1985-6FA0-4F0A-A1BC-4C787E92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A0EE-83B7-476F-BA45-373BB8BB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2B0C-4EA8-4C98-AB61-741F99C0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D496-32D3-4459-94E6-FD1FE989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3C06-208F-464E-9988-2FFE59FF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896C-5DE4-4DCD-97C6-48E43CC3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D69F-B670-49DA-AAE2-2478F0D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1D8-DF29-4AAB-9032-03A56DF3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78CA-F8EB-48AE-9250-94B06CE6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29A5-D649-479D-BA5B-285B0E3A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E8D9-E4F3-43ED-87FE-AD06A433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F434-297C-4447-B094-7AAE85FE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2A47-22B2-42B7-8994-42FE21FB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BBE-018E-467C-9971-77C83D79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F7B-CBD1-4F6A-9940-2BFFED8C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15D-5C80-4387-BAFE-3AF02CA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65A-1DB8-4DB4-8B61-0F5471B6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16E-31D4-4AB9-BCC3-79D6919E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FF8-D4E2-4DA4-A98E-17772183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A91-B172-49A2-9AE4-E75459E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361b00"/>
              </a:gs>
              <a:gs pos="50000">
                <a:srgbClr val="996633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5D8-E9F8-4CA8-80D2-4F8B13046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361b00"/>
              </a:gs>
              <a:gs pos="50000">
                <a:srgbClr val="996633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361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DEB7-3F19-4B48-AE90-C9D6D2A6F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25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التدريس بأسلوب العصف الذهني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eaching  By)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( Brainstorming Technique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120" y="3428640"/>
            <a:ext cx="8001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3300"/>
                </a:solidFill>
                <a:latin typeface="Times New Roman"/>
              </a:rPr>
              <a:t>ضم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3300"/>
                </a:solidFill>
                <a:latin typeface="Times New Roman"/>
              </a:rPr>
              <a:t>برنامج تنمية مهارات التدريس الفع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عدا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حمد بن محمد قاضي مخدو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مشرف الإدارة المدرس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c66"/>
                </a:solidFill>
                <a:latin typeface="Times New Roman"/>
              </a:rPr>
              <a:t>العصف الذهني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10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Times New Roman"/>
              </a:rPr>
              <a:t>استجابات وردود أفعال لفظية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:(من كلمة واحدة أو عدة كلمات )</a:t>
            </a:r>
            <a:r>
              <a:rPr b="1" lang="hi-IN" sz="4000" spc="-1" strike="noStrike">
                <a:solidFill>
                  <a:srgbClr val="66ff33"/>
                </a:solidFill>
                <a:latin typeface="Times New Roman"/>
              </a:rPr>
              <a:t>أو غير لفظية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:(كالرسم أو الكتابة أو الحركة )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، </a:t>
            </a:r>
            <a:r>
              <a:rPr b="1" lang="hi-IN" sz="4000" spc="-1" strike="noStrike">
                <a:solidFill>
                  <a:srgbClr val="66ff33"/>
                </a:solidFill>
                <a:latin typeface="Times New Roman"/>
              </a:rPr>
              <a:t>من شخص واح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:( مشارك أو موظف أو متدرب أو طالب ..الخ )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i-IN" sz="4000" spc="-1" strike="noStrike">
                <a:solidFill>
                  <a:srgbClr val="66ff33"/>
                </a:solidFill>
                <a:latin typeface="Times New Roman"/>
              </a:rPr>
              <a:t>أو أكثر من شخ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( جماعة أو فريق أو لجنة أو مجموعة ..الخ )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i-IN" sz="4000" spc="-1" strike="noStrike">
                <a:solidFill>
                  <a:srgbClr val="66ff33"/>
                </a:solidFill>
                <a:latin typeface="Times New Roman"/>
              </a:rPr>
              <a:t>لمثيرات 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( سؤال أو مهمة )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i-IN" sz="4000" spc="-1" strike="noStrike">
                <a:solidFill>
                  <a:srgbClr val="66ff33"/>
                </a:solidFill>
                <a:latin typeface="Times New Roman"/>
              </a:rPr>
              <a:t>مقدمة من مصدر مثير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( أستاذ أو مدرب أو مدير )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i-IN" sz="4000" spc="-1" strike="noStrike">
                <a:solidFill>
                  <a:srgbClr val="66ff33"/>
                </a:solidFill>
                <a:latin typeface="Times New Roman"/>
              </a:rPr>
              <a:t>لتحقيق هـدف أو أكثر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( حل مشكلة أو تقديم اقتراحات أو اعداد جدول أعمال .. الخ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).</a:t>
            </a:r>
            <a:r>
              <a:rPr b="1" lang="hi-IN" sz="4000" spc="-1" strike="noStrike">
                <a:solidFill>
                  <a:srgbClr val="66ff33"/>
                </a:solidFill>
                <a:latin typeface="Times New Roman"/>
              </a:rPr>
              <a:t>في فترة زمنية محدودة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9900"/>
                </a:solidFill>
                <a:latin typeface="Times New Roman"/>
              </a:rPr>
              <a:t>معوقات التفكير الإبداعي ( العصف الذهني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المعوقات الإدراكية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العوائق النفسية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التركيز على ضرورة التوافق مع الآخرين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القيود المفروضة ذاتياً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التقيد بأنماط محددة للتفكير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التسليم الأعمى للافتراضات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التسرع في تقويم الأفكار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خوف المشارك من سخرية الآخرين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66"/>
                </a:solidFill>
                <a:latin typeface="Times New Roman"/>
              </a:rPr>
              <a:t>خطوات جلسة العصف الذهني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تحديد ومناقشة المشكلة ( الموضوع )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إعادة صياغة الموضوع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تهيئة جو الإبداع ( الابتكار ) والعصف الذهني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تحديد أغرب فكرة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c66"/>
                </a:solidFill>
                <a:latin typeface="Times New Roman"/>
              </a:rPr>
              <a:t>تقويم جلسة العص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حتاج عملية التقويم لجلسة العصف الذهني إلى نوعاً من التفكير الانكماشى ( الذي يبدأ بعشرات الأفكار وتلخص حتى تصل إلى القلة الجيدة منها . ويمكن تصنيف الأفكار إلى :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فكار مفيدة وقابلة للتطبيق مباشرة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فكار مفيدة ، ولكنها تحتاج إلى مزيد من البحث أو موافقة جهات أخرى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فكار طريف وغير عملية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فكار مستثناة 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c66"/>
                </a:solidFill>
                <a:latin typeface="Times New Roman"/>
              </a:rPr>
              <a:t>مبادئ التدريس بطريقة العصف الذهني</a:t>
            </a:r>
            <a:br>
              <a:rPr sz="4400"/>
            </a:br>
            <a:r>
              <a:rPr b="0" lang="hi-IN" sz="4400" spc="-1" strike="noStrike">
                <a:solidFill>
                  <a:srgbClr val="ffcc66"/>
                </a:solidFill>
                <a:latin typeface="Times New Roman"/>
              </a:rPr>
              <a:t>بالنسبة للمدرب( الميسر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كن مبتسماً .. لا تنزعج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كن طبيعياً .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Be your Self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جاهزية والاستجابة.  // تعدد الأدوات والأساليب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نشاط.           // كسر الجمو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تدخل للتوجيه فقط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حيادية.    //   الانفتاحية في مقابل الانغلاقية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قدحية الفكرية .    //  كن صياداً للأفكار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قل أي شيء تريده بغض النظر عن خطئه أو صوابه أو غرابته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لا تنتقد أفكار الآخرين أو تعترض عليها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لا تسهب في الكلام وحاول الاختصار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يمكنك أن تطور أفكار زملائك أو تستنتج منها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سمع تعليمات المدرب ونفذها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عط فرصة للمقرر ( الكاتب ) لتدوين أفكارك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مبادئ التدريس بطريقة العصف الذهني</a:t>
            </a:r>
            <a:br>
              <a:rPr sz="2400"/>
            </a:b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بالنسبة للمتدرب( المشترك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9900"/>
                </a:solidFill>
                <a:latin typeface="Times New Roman"/>
              </a:rPr>
              <a:t>جلسة العصف الذهني الثانية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 rtl="1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Times New Roman"/>
              </a:rPr>
              <a:t>ما هي طرق ترشيد الماء والكهرباء في المنزل والمدرسة على المستوى العام والشخصي ؟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0000"/>
                </a:solidFill>
                <a:latin typeface="Times New Roman"/>
              </a:rPr>
              <a:t>سؤال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المجموعة الأولى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00"/>
          </a:solidFill>
          <a:ln w="9360">
            <a:solidFill>
              <a:srgbClr val="361b00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ctr" rtl="1">
              <a:spcBef>
                <a:spcPts val="22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663300"/>
                </a:solidFill>
                <a:latin typeface="Times New Roman"/>
              </a:rPr>
              <a:t>كيف ترشد استهلاك الماء على المستوى الشخصي؟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0000"/>
                </a:solidFill>
                <a:latin typeface="Times New Roman"/>
              </a:rPr>
              <a:t>سؤال المجموعة الثانية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96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24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a50021"/>
                </a:solidFill>
                <a:latin typeface="Times New Roman"/>
              </a:rPr>
              <a:t>كيف ترشد استهلاك الماء على المستوى العام؟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6633"/>
                </a:solidFill>
                <a:latin typeface="Times New Roman"/>
              </a:rPr>
              <a:t>سؤال المجموعة الثالثة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solidFill>
            <a:srgbClr val="ffcc00"/>
          </a:solidFill>
          <a:ln w="9360">
            <a:solidFill>
              <a:srgbClr val="361b00"/>
            </a:solidFill>
            <a:miter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spcBef>
                <a:spcPts val="22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hi-IN" sz="10600" spc="-1" strike="noStrike">
                <a:solidFill>
                  <a:srgbClr val="663300"/>
                </a:solidFill>
                <a:latin typeface="Times New Roman"/>
              </a:rPr>
              <a:t>كيف</a:t>
            </a:r>
            <a:r>
              <a:rPr b="1" lang="en-US" sz="8800" spc="-1" strike="noStrike">
                <a:solidFill>
                  <a:srgbClr val="663300"/>
                </a:solidFill>
                <a:latin typeface="Times New Roman"/>
              </a:rPr>
              <a:t> ترشد استهلاك الكهرباء على المستوى الشخصي ؟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  <a:ea typeface="Monotype Koufi"/>
              </a:rPr>
              <a:t> </a:t>
            </a:r>
            <a:r>
              <a:rPr b="1" lang="hi-IN" sz="6600" spc="-1" strike="noStrike">
                <a:solidFill>
                  <a:srgbClr val="ffcc66"/>
                </a:solidFill>
                <a:latin typeface="Times New Roman"/>
                <a:cs typeface="Monotype Koufi"/>
              </a:rPr>
              <a:t>اهداف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  <a:ea typeface="Monotype Koufi"/>
              </a:rPr>
              <a:t> الوحدة التدريبية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أن يدرس المعلمون الموضوعات التي ليس لها إجابة صحيحة واحدة وتحتاج إلى أفكار ابداعية بطريقة العصف الذهني(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Brainstorming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  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أن يطلق الطلاب العنان لأفكارهم في البحث عن كل الإجابات الصحيحة والحلول الممكنة للقضايا التي تعرض عليهم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أن يعتاد الطلاب تطوير أفكار زملائهم والبناء عليها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أن يحترم الطلاب أفكار زملائهم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996633"/>
                </a:solidFill>
                <a:latin typeface="Times New Roman"/>
              </a:rPr>
              <a:t>سؤال المجموعة الرابعة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2200"/>
              </a:spcBef>
              <a:buClr>
                <a:srgbClr val="361b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61b00"/>
                </a:solidFill>
                <a:latin typeface="Times New Roman"/>
              </a:rPr>
              <a:t> كيف ترشد استهلاك الكهرباء على المستوى العام ؟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cc66"/>
                </a:solidFill>
                <a:latin typeface="Times New Roman"/>
              </a:rPr>
              <a:t>جلسة التقييم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رجاء تصنيف الأفكار إلى :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أفكار مفيدة وقابلة للتطبيق مباشرة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أفكار مفيدة ، إلا أنها غير قابلة للتطبيق المباشر و تحتاج إلى مزيد من البحث أو موافقة جهات أخرى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أفكار طريفة وغير عملية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أفكار مستثناة لأنها غير عملية أو غير قابلة للتطبيق 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ffcc66"/>
                </a:solidFill>
                <a:latin typeface="Times New Roman"/>
              </a:rPr>
              <a:t>دعائي</a:t>
            </a: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hi-IN" sz="9600" spc="-1" strike="noStrike">
                <a:solidFill>
                  <a:srgbClr val="ffcc66"/>
                </a:solidFill>
                <a:latin typeface="Times New Roman"/>
              </a:rPr>
              <a:t>الصادق</a:t>
            </a: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hi-IN" sz="9600" spc="-1" strike="noStrike">
                <a:solidFill>
                  <a:srgbClr val="ffcc66"/>
                </a:solidFill>
                <a:latin typeface="Times New Roman"/>
              </a:rPr>
              <a:t>لكم</a:t>
            </a: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hi-IN" sz="9600" spc="-1" strike="noStrike">
                <a:solidFill>
                  <a:srgbClr val="ffcc66"/>
                </a:solidFill>
                <a:latin typeface="Times New Roman"/>
              </a:rPr>
              <a:t>بالتوفيق والسداد</a:t>
            </a:r>
            <a:endParaRPr b="0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41144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 rtl="1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Times New Roman"/>
              </a:rPr>
              <a:t>احمد بن محمد قاضي مخدوم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ctr" rtl="1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Times New Roman"/>
              </a:rPr>
              <a:t>مشرف الإدارة المدرسي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ea typeface="Monotype Koufi"/>
              </a:rPr>
              <a:t> </a:t>
            </a:r>
            <a:r>
              <a:rPr b="1" lang="ar-SA" sz="6600" spc="-1" strike="noStrike">
                <a:solidFill>
                  <a:srgbClr val="ffcc66"/>
                </a:solidFill>
                <a:latin typeface="Times New Roman"/>
                <a:cs typeface="Monotype Koufi"/>
              </a:rPr>
              <a:t>موضوعات</a:t>
            </a:r>
            <a:r>
              <a:rPr b="1" lang="ar-SA" sz="5400" spc="-1" strike="noStrike">
                <a:solidFill>
                  <a:srgbClr val="ffcc66"/>
                </a:solidFill>
                <a:latin typeface="Times New Roman"/>
                <a:ea typeface="Monotype Koufi"/>
              </a:rPr>
              <a:t> الوحدة التدريبية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مفهوم العصف الذهني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المبادئ الأساسية في العصف الذهني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خطوات جلسات العصف الذهني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معوقات العصف الذهني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التقويم في العصف الذهني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تمر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66"/>
                </a:solidFill>
                <a:latin typeface="Times New Roman"/>
              </a:rPr>
              <a:t>العصف الذهني ( </a:t>
            </a:r>
            <a:r>
              <a:rPr b="0" lang="ar-SA" sz="4800" spc="-1" strike="noStrike">
                <a:solidFill>
                  <a:srgbClr val="ffcc66"/>
                </a:solidFill>
                <a:latin typeface="Times New Roman"/>
              </a:rPr>
              <a:t>Brainstorming</a:t>
            </a:r>
            <a:r>
              <a:rPr b="0" lang="ar-SA" sz="4800" spc="-1" strike="noStrike">
                <a:solidFill>
                  <a:srgbClr val="ffcc66"/>
                </a:solidFill>
                <a:latin typeface="Times New Roman"/>
              </a:rPr>
              <a:t>   )  </a:t>
            </a:r>
            <a:br>
              <a:rPr sz="4800"/>
            </a:br>
            <a:r>
              <a:rPr b="0" lang="ar-SA" sz="4800" spc="-1" strike="noStrike">
                <a:solidFill>
                  <a:srgbClr val="ffcc66"/>
                </a:solidFill>
                <a:latin typeface="Times New Roman"/>
              </a:rPr>
              <a:t>مصطلحات شائعة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النزف الفكري .//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تعصيف الأفكار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 algn="r" rtl="1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استدراج الأفكار. //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استمطار المخ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 algn="r" rtl="1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الأفكار المجنونة .  //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المطر الفكري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 algn="ctr" rtl="1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عصر الأفكار 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cc66"/>
                </a:solidFill>
                <a:latin typeface="Times New Roman"/>
              </a:rPr>
              <a:t>جلسة العصف الذهني الأولى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تشكيل  المجموعات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توزيع الأدوار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توضيح مهمة كل دور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توزيع الأسئلة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البدء بعملية العصف الذهني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6633"/>
                </a:solidFill>
                <a:latin typeface="Times New Roman"/>
              </a:rPr>
              <a:t>سؤال</a:t>
            </a:r>
            <a:r>
              <a:rPr b="1" lang="en-US" sz="7200" spc="-1" strike="noStrike">
                <a:solidFill>
                  <a:srgbClr val="996633"/>
                </a:solidFill>
                <a:latin typeface="Times New Roman"/>
              </a:rPr>
              <a:t> المجموعة الأولى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00"/>
          </a:solidFill>
          <a:ln w="9360">
            <a:solidFill>
              <a:srgbClr val="361b00"/>
            </a:solidFill>
            <a:miter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 rtl="1">
              <a:spcBef>
                <a:spcPts val="22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3300"/>
                </a:solidFill>
                <a:latin typeface="Times New Roman"/>
              </a:rPr>
              <a:t>ماذا يعني لك مفهوم العصف الذهني ؟ وما هـي فوائده؟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0000"/>
                </a:solidFill>
                <a:latin typeface="Times New Roman"/>
              </a:rPr>
              <a:t>سؤال المجموعة الثانية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24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a50021"/>
                </a:solidFill>
                <a:latin typeface="Times New Roman"/>
              </a:rPr>
              <a:t>ما هي معوقات العصف الذهني ؟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6633"/>
                </a:solidFill>
                <a:latin typeface="Times New Roman"/>
              </a:rPr>
              <a:t>سؤال المجموعة الثالثة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00"/>
          </a:solidFill>
          <a:ln w="9360">
            <a:solidFill>
              <a:srgbClr val="361b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20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3300"/>
                </a:solidFill>
                <a:latin typeface="Times New Roman"/>
              </a:rPr>
              <a:t> ما هي خطوات جلسة العصف الذهني ؟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996633"/>
                </a:solidFill>
                <a:latin typeface="Times New Roman"/>
              </a:rPr>
              <a:t>سؤال المجموعة الرابعة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2200"/>
              </a:spcBef>
              <a:buClr>
                <a:srgbClr val="361b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61b00"/>
                </a:solidFill>
                <a:latin typeface="Times New Roman"/>
              </a:rPr>
              <a:t> متى يتم تقويم جلسة العصف الذهني ؟ </a:t>
            </a:r>
            <a:r>
              <a:rPr b="0" lang="hi-IN" sz="88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وكيف ؟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8T17:31:12Z</dcterms:created>
  <dc:creator>احمد مخدوم</dc:creator>
  <dc:description/>
  <dc:language>en-US</dc:language>
  <cp:lastModifiedBy>احمد مخدوم</cp:lastModifiedBy>
  <dcterms:modified xsi:type="dcterms:W3CDTF">1996-08-09T21:09:46Z</dcterms:modified>
  <cp:revision>5</cp:revision>
  <dc:subject/>
  <dc:title>التدريس بأسلوب العصف الذهني Teaching  By)   ( Brainstorming Technique </dc:title>
</cp:coreProperties>
</file>