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0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7.jpeg" ContentType="image/jpeg"/>
  <Override PartName="/ppt/media/image19.gif" ContentType="image/gif"/>
  <Override PartName="/ppt/media/image1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1B7-B280-43C4-B8B8-B6A982C4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D93-A737-460F-9C98-B1E1DE0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221-71B5-45B9-B1EC-0CD68FE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786-1CE6-4008-80FA-A06DED03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A10-1B5A-4360-8872-DB9187BD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D58-CD47-4B6D-9F58-654F66CA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8EB-ACA9-44D6-B2D0-A8BB525B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14C-5755-4562-BF94-FD9AA62F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DC7-8939-4494-99C5-AEE8BD4B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67A-3A93-4993-B145-2E619C5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865-C1CB-4CE9-A24B-A106238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AF3-A997-4F46-B9F5-06C0B21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DAE7-965F-4638-BD52-62CFA10A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54936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1e3c5b"/>
                  </a:outerShdw>
                </a:effectLst>
                <a:latin typeface="Font 091"/>
              </a:rPr>
              <a:t>الطريقة الذكية في إستغلال الخريطة الذهني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1e3c5b"/>
                </a:outerShdw>
              </a:effectLst>
              <a:latin typeface="Font 091"/>
              <a:ea typeface="Font 091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2708280"/>
            <a:ext cx="3743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80000"/>
                  </a:outerShdw>
                </a:effectLst>
                <a:latin typeface="Font 327"/>
              </a:rPr>
              <a:t>إعداد وتقديم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980000"/>
                </a:outerShdw>
              </a:effectLst>
              <a:latin typeface="Font 327"/>
              <a:ea typeface="Font 327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80000"/>
                  </a:outerShdw>
                </a:effectLst>
                <a:latin typeface="Font 327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80000"/>
                  </a:outerShdw>
                </a:effectLst>
                <a:latin typeface="Font 327"/>
              </a:rPr>
              <a:t>أ.محمد سيف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80000"/>
                  </a:outerShdw>
                </a:effectLst>
                <a:latin typeface="Font 327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980000"/>
                </a:outerShdw>
              </a:effectLst>
              <a:latin typeface="Font 327"/>
              <a:ea typeface="Font 327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72428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3348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1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7640" y="765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سهولة في التنظ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التسلي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3717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التظيم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667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التركي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سرعة التذكر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0403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329080" cy="383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أمثلة على الخريطة الذهن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11640" cy="414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أمثلة على الخريطة الذهن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969080" cy="411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أمثلة على الخريطة الذهن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إختبا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048360" cy="433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أدوات الخريطة الذهن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القل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Font 265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 rot="18468000">
            <a:off x="2373840" y="3179160"/>
            <a:ext cx="4608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ماهي الخريطة الذهني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3196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الالو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الورق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Font 265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ont 265"/>
              </a:rPr>
              <a:t>A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060640"/>
            <a:ext cx="3025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افكار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376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ماهي الخريطة الذهني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14180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4720" y="2060640"/>
            <a:ext cx="46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ريطة الذهنية هي أداة تساعد على التفكير والتعلّ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قد ظهر هذا المصطلح "الخريطة الذهنية ا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أول مرة عن طريق "توني بوزا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نهاية الستين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2416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Font 265"/>
              </a:rPr>
              <a:t>معلومات بسيطة عن الم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0606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84464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20606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84464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2952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فوائد الخرائط الذهني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إختصار المهمات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0403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السهولة في النتظيم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Font 265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3912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Font 265"/>
              </a:rPr>
              <a:t>إستمرارية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879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8:09:50Z</dcterms:created>
  <dc:creator> </dc:creator>
  <dc:description/>
  <dc:language>en-US</dc:language>
  <cp:lastModifiedBy> </cp:lastModifiedBy>
  <dcterms:modified xsi:type="dcterms:W3CDTF">2004-11-17T14:31:16Z</dcterms:modified>
  <cp:revision>25</cp:revision>
  <dc:subject/>
  <dc:title>الشريحة 1</dc:title>
</cp:coreProperties>
</file>