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24.gif" ContentType="image/gif"/>
  <Override PartName="/ppt/media/image10.gif" ContentType="image/gif"/>
  <Override PartName="/ppt/media/image9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21.wmf" ContentType="image/x-wmf"/>
  <Override PartName="/ppt/media/image11.png" ContentType="image/png"/>
  <Override PartName="/ppt/media/image7.jpeg" ContentType="image/jpeg"/>
  <Override PartName="/ppt/media/image25.gif" ContentType="image/gif"/>
  <Override PartName="/ppt/media/image20.gif" ContentType="image/gif"/>
  <Override PartName="/ppt/media/image19.gif" ContentType="image/gif"/>
  <Override PartName="/ppt/media/image1.jpeg" ContentType="image/jpeg"/>
  <Override PartName="/ppt/media/image15.jpeg" ContentType="image/jpeg"/>
  <Override PartName="/ppt/media/image14.gif" ContentType="image/gif"/>
  <Override PartName="/ppt/media/image22.gif" ContentType="image/gif"/>
  <Override PartName="/ppt/media/image2.png" ContentType="image/png"/>
  <Override PartName="/ppt/media/image5.jpeg" ContentType="image/jpeg"/>
  <Override PartName="/ppt/media/image17.jpeg" ContentType="image/jpeg"/>
  <Override PartName="/ppt/media/image23.gif" ContentType="image/gif"/>
  <Override PartName="/ppt/media/image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E754-D321-4329-A0DA-9FCA6EDF497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ECF5-C031-4E80-BB08-992314F65BE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بسم الل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23C-19F3-4E87-B86C-AB1F4729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3B74-8637-4406-B95F-0F4194DF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568-0AF4-43B1-BBB3-511ECC52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16F-5D69-438C-AF3F-CD74DCD5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660-06FB-4DD9-83EF-7D6B3E01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7076-878E-4B47-A6A0-85CE5A96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F68-3831-4DF9-826E-A2A2CCE1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672B-756A-47DD-A1A4-0DAD49D3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00A-5365-4232-9A43-36134C86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E84-3CE8-4CE6-9A5C-0ECBFF49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EE8-E270-4865-9074-B5C15733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4B03-A9D9-4B43-B4CB-1D19C0FA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3C65-0579-4356-BF50-CBFB8E4853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قناة النجاح"/>
          <p:cNvPicPr/>
          <p:nvPr/>
        </p:nvPicPr>
        <p:blipFill>
          <a:blip r:embed="rId1"/>
          <a:stretch/>
        </p:blipFill>
        <p:spPr>
          <a:xfrm>
            <a:off x="3852720" y="3203640"/>
            <a:ext cx="1871640" cy="151128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5"/>
          <p:cNvSpPr/>
          <p:nvPr/>
        </p:nvSpPr>
        <p:spPr>
          <a:xfrm>
            <a:off x="2143080" y="2203560"/>
            <a:ext cx="5400720" cy="1296720"/>
          </a:xfrm>
          <a:custGeom>
            <a:avLst/>
            <a:gdLst>
              <a:gd name="textAreaLeft" fmla="*/ 675000 w 5400720"/>
              <a:gd name="textAreaRight" fmla="*/ 4725720 w 5400720"/>
              <a:gd name="textAreaTop" fmla="*/ 88200 h 1296720"/>
              <a:gd name="textAreaBottom" fmla="*/ 97272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Arial"/>
                <a:cs typeface="PT Bold Heading"/>
              </a:rPr>
              <a:t>التفكير الابتكا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771640" y="471024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3300"/>
                </a:solidFill>
                <a:latin typeface="comic"/>
                <a:cs typeface="PT Bold Heading"/>
              </a:rPr>
              <a:t>للمدرب الأستا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2050920" y="5229360"/>
            <a:ext cx="5400720" cy="936360"/>
          </a:xfrm>
          <a:custGeom>
            <a:avLst/>
            <a:gdLst>
              <a:gd name="textAreaLeft" fmla="*/ 675000 w 5400720"/>
              <a:gd name="textAreaRight" fmla="*/ 4725720 w 5400720"/>
              <a:gd name="textAreaTop" fmla="*/ 63720 h 936360"/>
              <a:gd name="textAreaBottom" fmla="*/ 7023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99"/>
                </a:solidFill>
                <a:latin typeface="Arial"/>
                <a:cs typeface="PT Bold Heading"/>
              </a:rPr>
              <a:t>صلاح صالح معما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شعار ديبونو"/>
          <p:cNvPicPr/>
          <p:nvPr/>
        </p:nvPicPr>
        <p:blipFill>
          <a:blip r:embed="rId2"/>
          <a:stretch/>
        </p:blipFill>
        <p:spPr>
          <a:xfrm>
            <a:off x="7451640" y="5084640"/>
            <a:ext cx="1440000" cy="1224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2411280" y="609300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3300"/>
                </a:solidFill>
                <a:latin typeface="comic"/>
                <a:cs typeface="PT Bold Heading"/>
              </a:rPr>
              <a:t>مدرب معتمد لمهارات التفكي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ربع نص 13"/>
          <p:cNvSpPr/>
          <p:nvPr/>
        </p:nvSpPr>
        <p:spPr>
          <a:xfrm>
            <a:off x="3214800" y="1571760"/>
            <a:ext cx="29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تقدم دورة بعنو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571840" y="642960"/>
            <a:ext cx="471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3300"/>
                </a:solidFill>
                <a:latin typeface="comic"/>
                <a:cs typeface="PT Bold Heading"/>
              </a:rPr>
              <a:t>الكلية التقنية بالمدينة المنو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صورة 10" descr="شعار قطاف 2.jpg"/>
          <p:cNvPicPr/>
          <p:nvPr/>
        </p:nvPicPr>
        <p:blipFill>
          <a:blip r:embed="rId3"/>
          <a:stretch/>
        </p:blipFill>
        <p:spPr>
          <a:xfrm>
            <a:off x="633240" y="5065560"/>
            <a:ext cx="1451160" cy="1444680"/>
          </a:xfrm>
          <a:prstGeom prst="rect">
            <a:avLst/>
          </a:prstGeom>
          <a:ln w="0">
            <a:noFill/>
          </a:ln>
        </p:spPr>
      </p:pic>
      <p:pic>
        <p:nvPicPr>
          <p:cNvPr id="57" name="صورة 13" descr="التعليم الفني.jpg"/>
          <p:cNvPicPr/>
          <p:nvPr/>
        </p:nvPicPr>
        <p:blipFill>
          <a:blip r:embed="rId4"/>
          <a:stretch/>
        </p:blipFill>
        <p:spPr>
          <a:xfrm>
            <a:off x="7786800" y="428760"/>
            <a:ext cx="11811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468360" y="1557360"/>
            <a:ext cx="842472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  <a:ea typeface="PT Bold Heading"/>
              </a:rPr>
              <a:t>1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  <a:ea typeface="PT Bold Heading"/>
              </a:rPr>
              <a:t>- الطلاقة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PT Bold Heading"/>
              </a:rPr>
              <a:t>أي القدرة على إنتاج أكبر عدد من الأفكار الإبتكارية في وقت قصير نسبياً ( فكرية - لفظية – شكلية 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  <a:ea typeface="PT Bold Heading"/>
              </a:rPr>
              <a:t>2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  <a:ea typeface="PT Bold Heading"/>
              </a:rPr>
              <a:t>- المرونة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PT Bold Heading"/>
              </a:rPr>
              <a:t> ويُقصد بها القدرة على تغيير الحالة الذهنية بتغيير الموقف أو الظروف ، مع القدرة العالية على التشكيل والتلون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  <a:ea typeface="PT Bold Heading"/>
              </a:rPr>
              <a:t>3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  <a:ea typeface="PT Bold Heading"/>
              </a:rPr>
              <a:t>- الأصالة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PT Bold Heading"/>
              </a:rPr>
              <a:t>هي تلك المهارة التي تستخدم من أجل التفكير بطرق واستجابات غير عادية، أو فريدة من نوعها ، أي أن المبتكر لا يُكرّر أفكار الآخرين، فتكون أفكاره جديدة وأصيل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  <a:ea typeface="PT Bold Heading"/>
              </a:rPr>
              <a:t>4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  <a:ea typeface="PT Bold Heading"/>
              </a:rPr>
              <a:t>- التفاصيل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PT Bold Heading"/>
              </a:rPr>
              <a:t> فالمبتكر لديه القدرة على التعمق وذكر التفاصيل الدقيقة للفكر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920960" y="588960"/>
            <a:ext cx="574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أشكال الابتكا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حفار"/>
          <p:cNvPicPr/>
          <p:nvPr/>
        </p:nvPicPr>
        <p:blipFill>
          <a:blip r:embed="rId1"/>
          <a:stretch/>
        </p:blipFill>
        <p:spPr>
          <a:xfrm>
            <a:off x="8016840" y="514440"/>
            <a:ext cx="863640" cy="792000"/>
          </a:xfrm>
          <a:prstGeom prst="rect">
            <a:avLst/>
          </a:prstGeom>
          <a:ln w="0">
            <a:noFill/>
          </a:ln>
        </p:spPr>
      </p:pic>
      <p:sp>
        <p:nvSpPr>
          <p:cNvPr id="177" name="شكل بيضاوي 4"/>
          <p:cNvSpPr/>
          <p:nvPr/>
        </p:nvSpPr>
        <p:spPr>
          <a:xfrm>
            <a:off x="642960" y="5429160"/>
            <a:ext cx="1571760" cy="1000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PT Bold Heading"/>
              </a:rPr>
              <a:t>احد السل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PT Bold Heading"/>
              </a:rPr>
              <a:t>والاقنا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77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77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755640" y="1484280"/>
            <a:ext cx="80661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Arial"/>
                <a:ea typeface="PT Bold Heading"/>
              </a:rPr>
              <a:t>1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  <a:ea typeface="PT Bold Heading"/>
              </a:rPr>
              <a:t>. معوقات تتعلق بالفرد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عدم تقدير الذات – نقص المعرفة – قلة الدافعية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Arial"/>
                <a:ea typeface="PT Bold Heading"/>
              </a:rPr>
              <a:t>2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  <a:ea typeface="PT Bold Heading"/>
              </a:rPr>
              <a:t>. معوقات تتعلق بالأسرة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تربية خاطئة إما تسلط أو دلال – كثرة مشاكل الأسرة – عدم تهيئة جو الابتكار ، أمية الوالدين ،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Arial"/>
                <a:ea typeface="PT Bold Heading"/>
              </a:rPr>
              <a:t>3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  <a:ea typeface="PT Bold Heading"/>
              </a:rPr>
              <a:t>. معوقات تتعلق بالتعليم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منهج عقيم – معلم غير مبدع – نظام تقليدي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Arial"/>
                <a:ea typeface="PT Bold Heading"/>
              </a:rPr>
              <a:t>4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  <a:ea typeface="PT Bold Heading"/>
              </a:rPr>
              <a:t>. معوقات تتعلق بالمجتمع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عدم وجود نماذج حية مبتكرة – انتقاد كل جديد – فقر ..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908000" y="566640"/>
            <a:ext cx="59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3300"/>
                </a:solidFill>
                <a:latin typeface="Arial"/>
                <a:cs typeface="PT Bold Heading"/>
              </a:rPr>
              <a:t>معوقات التفكير الابتك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J0293570"/>
          <p:cNvPicPr/>
          <p:nvPr/>
        </p:nvPicPr>
        <p:blipFill>
          <a:blip r:embed="rId1"/>
          <a:stretch/>
        </p:blipFill>
        <p:spPr>
          <a:xfrm>
            <a:off x="7702560" y="501480"/>
            <a:ext cx="1224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70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6" descr="aaaaa[1]"/>
          <p:cNvPicPr/>
          <p:nvPr/>
        </p:nvPicPr>
        <p:blipFill>
          <a:blip r:embed="rId1">
            <a:lum contrast="-80000"/>
          </a:blip>
          <a:stretch/>
        </p:blipFill>
        <p:spPr>
          <a:xfrm>
            <a:off x="1547640" y="1989000"/>
            <a:ext cx="6697800" cy="4392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3203640" y="2060640"/>
            <a:ext cx="475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PT Bold Heading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PT Bold Heading"/>
              </a:rPr>
              <a:t>. يمتلك قدر مناسب من الذكاء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PT Bold Heading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PT Bold Heading"/>
              </a:rPr>
              <a:t>. يمتلك ثقة عالية بالنف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PT Bold Heading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PT Bold Heading"/>
              </a:rPr>
              <a:t>. لدية دافعية وطموح كبير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PT Bold Heading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PT Bold Heading"/>
              </a:rPr>
              <a:t>. لديه مرونة في التفكير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PT Bold Heading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PT Bold Heading"/>
              </a:rPr>
              <a:t>. يواجه الأخطاء ولا يخاف من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PT Bold Heading"/>
              </a:rPr>
              <a:t>6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PT Bold Heading"/>
              </a:rPr>
              <a:t>. يعشق الأمور الغامضة والصعب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PT Bold Heading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PT Bold Heading"/>
              </a:rPr>
              <a:t>. يخلق من المشكلة فرص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PT Bold Heading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PT Bold Heading"/>
              </a:rPr>
              <a:t>. لديه استقلال شخص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PT Bold Heading"/>
              </a:rPr>
              <a:t>9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PT Bold Heading"/>
              </a:rPr>
              <a:t>. يحب التميز والانفرا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PT Bold Heading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PT Bold Heading"/>
              </a:rPr>
              <a:t>. لديه أهداف واضحة ومحدد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195640" y="549360"/>
            <a:ext cx="574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سمات المبتك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403280" y="1427040"/>
            <a:ext cx="684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3399"/>
                </a:solidFill>
                <a:latin typeface="Arial"/>
                <a:cs typeface="PT Bold Heading"/>
              </a:rPr>
              <a:t>هناك بعض السمات التي يمتاز بها المبتكرون ومنها :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شكل بيضاوي 6"/>
          <p:cNvSpPr/>
          <p:nvPr/>
        </p:nvSpPr>
        <p:spPr>
          <a:xfrm>
            <a:off x="7286760" y="357120"/>
            <a:ext cx="1571400" cy="1000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PT Bold Heading"/>
              </a:rPr>
              <a:t>صاح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PT Bold Heading"/>
              </a:rPr>
              <a:t>الضفدع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2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0" dur="20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2195640" y="549360"/>
            <a:ext cx="574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استراح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,,l"/>
          <p:cNvPicPr/>
          <p:nvPr/>
        </p:nvPicPr>
        <p:blipFill>
          <a:blip r:embed="rId1"/>
          <a:stretch/>
        </p:blipFill>
        <p:spPr>
          <a:xfrm>
            <a:off x="7596360" y="474840"/>
            <a:ext cx="1123920" cy="866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استخدمات أخرى"/>
          <p:cNvPicPr/>
          <p:nvPr/>
        </p:nvPicPr>
        <p:blipFill>
          <a:blip r:embed="rId2"/>
          <a:stretch/>
        </p:blipFill>
        <p:spPr>
          <a:xfrm>
            <a:off x="611280" y="1413000"/>
            <a:ext cx="8281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2195640" y="549360"/>
            <a:ext cx="574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استراح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,,l"/>
          <p:cNvPicPr/>
          <p:nvPr/>
        </p:nvPicPr>
        <p:blipFill>
          <a:blip r:embed="rId1"/>
          <a:stretch/>
        </p:blipFill>
        <p:spPr>
          <a:xfrm>
            <a:off x="7596360" y="474840"/>
            <a:ext cx="1123920" cy="866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عجلة"/>
          <p:cNvPicPr/>
          <p:nvPr/>
        </p:nvPicPr>
        <p:blipFill>
          <a:blip r:embed="rId2"/>
          <a:stretch/>
        </p:blipFill>
        <p:spPr>
          <a:xfrm>
            <a:off x="611280" y="1413000"/>
            <a:ext cx="8281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195640" y="549360"/>
            <a:ext cx="574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استراح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,,l"/>
          <p:cNvPicPr/>
          <p:nvPr/>
        </p:nvPicPr>
        <p:blipFill>
          <a:blip r:embed="rId1"/>
          <a:stretch/>
        </p:blipFill>
        <p:spPr>
          <a:xfrm>
            <a:off x="7596360" y="474840"/>
            <a:ext cx="1123920" cy="866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كرسي حمام"/>
          <p:cNvPicPr/>
          <p:nvPr/>
        </p:nvPicPr>
        <p:blipFill>
          <a:blip r:embed="rId2"/>
          <a:stretch/>
        </p:blipFill>
        <p:spPr>
          <a:xfrm>
            <a:off x="598320" y="1413000"/>
            <a:ext cx="8317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195640" y="549360"/>
            <a:ext cx="574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استراح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,,l"/>
          <p:cNvPicPr/>
          <p:nvPr/>
        </p:nvPicPr>
        <p:blipFill>
          <a:blip r:embed="rId1"/>
          <a:stretch/>
        </p:blipFill>
        <p:spPr>
          <a:xfrm>
            <a:off x="7596360" y="474840"/>
            <a:ext cx="1123920" cy="86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سيارة"/>
          <p:cNvPicPr/>
          <p:nvPr/>
        </p:nvPicPr>
        <p:blipFill>
          <a:blip r:embed="rId2"/>
          <a:stretch/>
        </p:blipFill>
        <p:spPr>
          <a:xfrm>
            <a:off x="611280" y="1484280"/>
            <a:ext cx="8208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195640" y="549360"/>
            <a:ext cx="574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استراح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,,l"/>
          <p:cNvPicPr/>
          <p:nvPr/>
        </p:nvPicPr>
        <p:blipFill>
          <a:blip r:embed="rId1"/>
          <a:stretch/>
        </p:blipFill>
        <p:spPr>
          <a:xfrm>
            <a:off x="7596360" y="474840"/>
            <a:ext cx="1123920" cy="866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عجوز وفتاة"/>
          <p:cNvPicPr/>
          <p:nvPr/>
        </p:nvPicPr>
        <p:blipFill>
          <a:blip r:embed="rId2"/>
          <a:stretch/>
        </p:blipFill>
        <p:spPr>
          <a:xfrm>
            <a:off x="611280" y="1557360"/>
            <a:ext cx="7993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195640" y="549360"/>
            <a:ext cx="574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استراح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,,l"/>
          <p:cNvPicPr/>
          <p:nvPr/>
        </p:nvPicPr>
        <p:blipFill>
          <a:blip r:embed="rId1"/>
          <a:stretch/>
        </p:blipFill>
        <p:spPr>
          <a:xfrm>
            <a:off x="7596360" y="474840"/>
            <a:ext cx="1123920" cy="86652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4"/>
          <p:cNvGrpSpPr/>
          <p:nvPr/>
        </p:nvGrpSpPr>
        <p:grpSpPr>
          <a:xfrm>
            <a:off x="2484360" y="1844280"/>
            <a:ext cx="5111280" cy="2304720"/>
            <a:chOff x="2484360" y="1844280"/>
            <a:chExt cx="5111280" cy="2304720"/>
          </a:xfrm>
        </p:grpSpPr>
        <p:sp>
          <p:nvSpPr>
            <p:cNvPr id="204" name="Line 5"/>
            <p:cNvSpPr/>
            <p:nvPr/>
          </p:nvSpPr>
          <p:spPr>
            <a:xfrm flipV="1">
              <a:off x="2484360" y="2572560"/>
              <a:ext cx="0" cy="157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6"/>
            <p:cNvGrpSpPr/>
            <p:nvPr/>
          </p:nvGrpSpPr>
          <p:grpSpPr>
            <a:xfrm>
              <a:off x="2484360" y="1844280"/>
              <a:ext cx="5111280" cy="2272680"/>
              <a:chOff x="2484360" y="1844280"/>
              <a:chExt cx="5111280" cy="2272680"/>
            </a:xfrm>
          </p:grpSpPr>
          <p:sp>
            <p:nvSpPr>
              <p:cNvPr id="206" name="Line 7"/>
              <p:cNvSpPr/>
              <p:nvPr/>
            </p:nvSpPr>
            <p:spPr>
              <a:xfrm>
                <a:off x="4923720" y="1844640"/>
                <a:ext cx="2669400" cy="75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8"/>
              <p:cNvSpPr/>
              <p:nvPr/>
            </p:nvSpPr>
            <p:spPr>
              <a:xfrm>
                <a:off x="2484360" y="2601360"/>
                <a:ext cx="5111280" cy="1515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Group 9"/>
              <p:cNvGrpSpPr/>
              <p:nvPr/>
            </p:nvGrpSpPr>
            <p:grpSpPr>
              <a:xfrm>
                <a:off x="2484360" y="1844280"/>
                <a:ext cx="5108040" cy="2271960"/>
                <a:chOff x="2484360" y="1844280"/>
                <a:chExt cx="5108040" cy="2271960"/>
              </a:xfrm>
            </p:grpSpPr>
            <p:sp>
              <p:nvSpPr>
                <p:cNvPr id="209" name="Line 10"/>
                <p:cNvSpPr/>
                <p:nvPr/>
              </p:nvSpPr>
              <p:spPr>
                <a:xfrm>
                  <a:off x="2484360" y="2601000"/>
                  <a:ext cx="4992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0" name="Group 11"/>
                <p:cNvGrpSpPr/>
                <p:nvPr/>
              </p:nvGrpSpPr>
              <p:grpSpPr>
                <a:xfrm>
                  <a:off x="2484360" y="1844280"/>
                  <a:ext cx="5108040" cy="2271960"/>
                  <a:chOff x="2484360" y="1844280"/>
                  <a:chExt cx="5108040" cy="2271960"/>
                </a:xfrm>
              </p:grpSpPr>
              <p:sp>
                <p:nvSpPr>
                  <p:cNvPr id="211" name="Line 12"/>
                  <p:cNvSpPr/>
                  <p:nvPr/>
                </p:nvSpPr>
                <p:spPr>
                  <a:xfrm flipV="1">
                    <a:off x="2484360" y="1844280"/>
                    <a:ext cx="2436120" cy="756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13"/>
                  <p:cNvSpPr/>
                  <p:nvPr/>
                </p:nvSpPr>
                <p:spPr>
                  <a:xfrm>
                    <a:off x="2484360" y="4116240"/>
                    <a:ext cx="5108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4"/>
                  <p:cNvSpPr/>
                  <p:nvPr/>
                </p:nvSpPr>
                <p:spPr>
                  <a:xfrm flipV="1">
                    <a:off x="2484360" y="2600640"/>
                    <a:ext cx="5108040" cy="1515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4" name="Line 15"/>
            <p:cNvSpPr/>
            <p:nvPr/>
          </p:nvSpPr>
          <p:spPr>
            <a:xfrm flipV="1">
              <a:off x="7593480" y="2572560"/>
              <a:ext cx="0" cy="157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16"/>
          <p:cNvSpPr/>
          <p:nvPr/>
        </p:nvSpPr>
        <p:spPr>
          <a:xfrm>
            <a:off x="1403280" y="4797360"/>
            <a:ext cx="705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رسم الشكل السابق دون رفع القلم عن الورقة ودون ان تعود مره اخرى على نفس الخ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5"/>
          <p:cNvSpPr/>
          <p:nvPr/>
        </p:nvSpPr>
        <p:spPr>
          <a:xfrm>
            <a:off x="684360" y="1730520"/>
            <a:ext cx="820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   أي معارضة بعض الأفكار وعدم التسليم بها لكي نخرج بأفكار جديد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   </a:t>
            </a:r>
            <a:r>
              <a:rPr b="0" lang="ar-SA" sz="2800" spc="-1" strike="noStrike">
                <a:solidFill>
                  <a:srgbClr val="663300"/>
                </a:solidFill>
                <a:latin typeface="Arial"/>
                <a:cs typeface="PT Bold Heading"/>
              </a:rPr>
              <a:t>مثال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   عارض فكرة  أن النادي للرياضة فقط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  </a:t>
            </a:r>
            <a:r>
              <a:rPr b="0" lang="ar-SA" sz="2800" spc="-1" strike="noStrike">
                <a:solidFill>
                  <a:srgbClr val="663300"/>
                </a:solidFill>
                <a:latin typeface="Arial"/>
                <a:cs typeface="PT Bold Heading"/>
              </a:rPr>
              <a:t>الجواب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   للرياضة – للثقافة – للحفلات – للتعليم – لعقد الدورات التطويرية 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195640" y="476280"/>
            <a:ext cx="574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ea typeface="PT Bold Heading"/>
              </a:rPr>
              <a:t>( 1 ) </a:t>
            </a: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معارضة الفكر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,,"/>
          <p:cNvPicPr/>
          <p:nvPr/>
        </p:nvPicPr>
        <p:blipFill>
          <a:blip r:embed="rId1"/>
          <a:stretch/>
        </p:blipFill>
        <p:spPr>
          <a:xfrm>
            <a:off x="7772400" y="465120"/>
            <a:ext cx="10476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0" dur="2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915840" y="1649520"/>
            <a:ext cx="7543800" cy="5024160"/>
          </a:xfrm>
          <a:prstGeom prst="rect">
            <a:avLst/>
          </a:prstGeom>
          <a:blipFill rotWithShape="0">
            <a:blip r:embed="rId1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  <a:cs typeface="PT Bold Heading"/>
              </a:rPr>
              <a:t>المدرب / صلاح صالح معم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2e01"/>
                </a:solidFill>
                <a:latin typeface="Arial"/>
                <a:cs typeface="PT Bold Heading"/>
              </a:rPr>
              <a:t>مشرف تدريب تربوي بالإدارة العامة للتربية والتعليم بالمدينة المنو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2e01"/>
                </a:solidFill>
                <a:latin typeface="Arial"/>
                <a:cs typeface="PT Bold Heading"/>
              </a:rPr>
              <a:t>ماجستير مناهج وإشراف تربوي بجامعة أم القر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2e01"/>
                </a:solidFill>
                <a:latin typeface="Arial"/>
                <a:cs typeface="PT Bold Heading"/>
              </a:rPr>
              <a:t>مدرب محترف معتمد من المركز الكندي للتنمية البش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2e01"/>
                </a:solidFill>
                <a:latin typeface="Arial"/>
                <a:cs typeface="PT Bold Heading"/>
              </a:rPr>
              <a:t>مدرب معتمد لمهارات التفكير في مركز دي بونو للتفك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2e01"/>
                </a:solidFill>
                <a:latin typeface="Arial"/>
                <a:cs typeface="PT Bold Heading"/>
              </a:rPr>
              <a:t>مدرب معتمد لكورت التفكير من مركز ديبونو للتفك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2e01"/>
                </a:solidFill>
                <a:latin typeface="Arial"/>
                <a:cs typeface="PT Bold Heading"/>
              </a:rPr>
              <a:t>مدرب معتمد في البرمجة اللغوية العصبية من المركز الكن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2e01"/>
                </a:solidFill>
                <a:latin typeface="Arial"/>
                <a:cs typeface="PT Bold Heading"/>
              </a:rPr>
              <a:t>مدرب ومستشار من الاكاديمية البريطانية في بوصلة التفك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2e01"/>
                </a:solidFill>
                <a:latin typeface="Arial"/>
                <a:cs typeface="PT Bold Heading"/>
              </a:rPr>
              <a:t>ممارس معتمد من الاتحاد العالمي للبرمجة اللغوية العصب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2e01"/>
                </a:solidFill>
                <a:latin typeface="Arial"/>
                <a:cs typeface="PT Bold Heading"/>
              </a:rPr>
              <a:t>ممارس معتمد من البورد الامريكي للتنويم الإيحائ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can10007"/>
          <p:cNvPicPr/>
          <p:nvPr/>
        </p:nvPicPr>
        <p:blipFill>
          <a:blip r:embed="rId2"/>
          <a:srcRect l="0" t="0" r="0" b="24059"/>
          <a:stretch/>
        </p:blipFill>
        <p:spPr>
          <a:xfrm>
            <a:off x="7885080" y="468360"/>
            <a:ext cx="1079640" cy="865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1619280" y="566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3300"/>
                </a:solidFill>
                <a:latin typeface="Arial"/>
                <a:cs typeface="PT Bold Heading"/>
              </a:rPr>
              <a:t>التفكير الابتك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1628640"/>
            <a:ext cx="831528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spcBef>
                <a:spcPts val="2251"/>
              </a:spcBef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Arial"/>
                <a:cs typeface="PT Bold Heading"/>
              </a:rPr>
              <a:t>والآن و بالتعاون مع أفراد مجموعتك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 rtl="1">
              <a:spcBef>
                <a:spcPts val="751"/>
              </a:spcBef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spcBef>
                <a:spcPts val="2251"/>
              </a:spcBef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. عارض فكرة الكأس لشرب الماء   ؟  ..........................................................................................................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. عارض فكرة الحقيبة لحمل الكتب    ؟ ..........................................................................................................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an47"/>
          <p:cNvPicPr/>
          <p:nvPr/>
        </p:nvPicPr>
        <p:blipFill>
          <a:blip r:embed="rId1"/>
          <a:stretch/>
        </p:blipFill>
        <p:spPr>
          <a:xfrm>
            <a:off x="7093080" y="260280"/>
            <a:ext cx="1722240" cy="10810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2914560" y="5493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  <a:cs typeface="PT Bold Heading"/>
              </a:rPr>
              <a:t>نشاط جماع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2195640" y="549360"/>
            <a:ext cx="574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استراح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,,l"/>
          <p:cNvPicPr/>
          <p:nvPr/>
        </p:nvPicPr>
        <p:blipFill>
          <a:blip r:embed="rId1"/>
          <a:stretch/>
        </p:blipFill>
        <p:spPr>
          <a:xfrm>
            <a:off x="7596360" y="474840"/>
            <a:ext cx="1123920" cy="86652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4"/>
          <p:cNvGrpSpPr/>
          <p:nvPr/>
        </p:nvGrpSpPr>
        <p:grpSpPr>
          <a:xfrm>
            <a:off x="3565440" y="1700280"/>
            <a:ext cx="2374560" cy="2449440"/>
            <a:chOff x="3565440" y="1700280"/>
            <a:chExt cx="2374560" cy="2449440"/>
          </a:xfrm>
        </p:grpSpPr>
        <p:sp>
          <p:nvSpPr>
            <p:cNvPr id="225" name="Oval 5"/>
            <p:cNvSpPr/>
            <p:nvPr/>
          </p:nvSpPr>
          <p:spPr>
            <a:xfrm>
              <a:off x="4503600" y="3716280"/>
              <a:ext cx="358560" cy="433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4430520" y="1700280"/>
              <a:ext cx="358560" cy="433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4862160" y="2274840"/>
              <a:ext cx="358920" cy="433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8"/>
            <p:cNvSpPr/>
            <p:nvPr/>
          </p:nvSpPr>
          <p:spPr>
            <a:xfrm>
              <a:off x="4501800" y="2924280"/>
              <a:ext cx="358920" cy="43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9"/>
            <p:cNvSpPr/>
            <p:nvPr/>
          </p:nvSpPr>
          <p:spPr>
            <a:xfrm>
              <a:off x="4141440" y="2274840"/>
              <a:ext cx="358920" cy="433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0"/>
            <p:cNvSpPr/>
            <p:nvPr/>
          </p:nvSpPr>
          <p:spPr>
            <a:xfrm>
              <a:off x="5221080" y="2924280"/>
              <a:ext cx="358560" cy="43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5581440" y="3716280"/>
              <a:ext cx="358560" cy="433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2"/>
            <p:cNvSpPr/>
            <p:nvPr/>
          </p:nvSpPr>
          <p:spPr>
            <a:xfrm>
              <a:off x="3852720" y="2924280"/>
              <a:ext cx="358560" cy="43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3"/>
            <p:cNvSpPr/>
            <p:nvPr/>
          </p:nvSpPr>
          <p:spPr>
            <a:xfrm>
              <a:off x="3565440" y="3716280"/>
              <a:ext cx="358560" cy="433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4"/>
          <p:cNvSpPr/>
          <p:nvPr/>
        </p:nvSpPr>
        <p:spPr>
          <a:xfrm>
            <a:off x="1908000" y="4797360"/>
            <a:ext cx="58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هل تستطيع تحريك ثلاث دوائر فقط         لتقلب المثلث رأساً على عق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5"/>
          <p:cNvSpPr/>
          <p:nvPr/>
        </p:nvSpPr>
        <p:spPr>
          <a:xfrm>
            <a:off x="900000" y="1393920"/>
            <a:ext cx="799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  إضافة أي كلمة عشوائية دون ترتيب مسبق لها على الشيء الذي أريد تطويره أو حل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3300"/>
                </a:solidFill>
                <a:latin typeface="Arial"/>
                <a:ea typeface="PT Bold Heading"/>
              </a:rPr>
              <a:t>   مثال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  أريد تطوير سيارة وادخل كلمة عشوائية ....... على ماذا احصل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3300"/>
                </a:solidFill>
                <a:latin typeface="Arial"/>
                <a:ea typeface="PT Bold Heading"/>
              </a:rPr>
              <a:t>   الجواب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   يفضل اختيار الكلمة العشوائية من أي طرف خارجي أو أي شخص حولك ، فتطلب منه  بذكر كلمة وخذ هذه الكلمة دون تردد وطبق التمرين وهنا على سبيل المثال الكلمة هي ساعة ، إذا من الإجابات المقترحة لتطوير السيارة باستخدام كلمة ساعة ما يلي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 سيارة تعمل بالشحن وليس بالبنزين - سيارة على شكل ساعة - سيارة ضد الماء والصدأ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2124000" y="517680"/>
            <a:ext cx="574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ea typeface="PT Bold Heading"/>
              </a:rPr>
              <a:t>( 2 ) </a:t>
            </a: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الكلمات العشوائ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J0212957"/>
          <p:cNvPicPr/>
          <p:nvPr/>
        </p:nvPicPr>
        <p:blipFill>
          <a:blip r:embed="rId1"/>
          <a:stretch/>
        </p:blipFill>
        <p:spPr>
          <a:xfrm>
            <a:off x="7956720" y="549360"/>
            <a:ext cx="8935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6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5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5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5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84360" y="1628640"/>
            <a:ext cx="8315280" cy="71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spcBef>
                <a:spcPts val="2251"/>
              </a:spcBef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Arial"/>
                <a:cs typeface="PT Bold Heading"/>
              </a:rPr>
              <a:t>والآن و بالتعاون مع أفراد مجموعتك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 rtl="1">
              <a:spcBef>
                <a:spcPts val="751"/>
              </a:spcBef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spcBef>
                <a:spcPts val="2251"/>
              </a:spcBef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.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م الكلمة العشوائية ( قلم ) لتطوير التلفاز ؟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..........................................................................................................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.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م الكلمة العشوائية ( قلم ) لتطوير الكرسي  ؟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..........................................................................................................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an47"/>
          <p:cNvPicPr/>
          <p:nvPr/>
        </p:nvPicPr>
        <p:blipFill>
          <a:blip r:embed="rId1"/>
          <a:stretch/>
        </p:blipFill>
        <p:spPr>
          <a:xfrm>
            <a:off x="7093080" y="260280"/>
            <a:ext cx="1722240" cy="10810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2914560" y="5493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  <a:cs typeface="PT Bold Heading"/>
              </a:rPr>
              <a:t>نشاط جماع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195640" y="549360"/>
            <a:ext cx="574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استراح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,,l"/>
          <p:cNvPicPr/>
          <p:nvPr/>
        </p:nvPicPr>
        <p:blipFill>
          <a:blip r:embed="rId1"/>
          <a:stretch/>
        </p:blipFill>
        <p:spPr>
          <a:xfrm>
            <a:off x="7596360" y="474840"/>
            <a:ext cx="1123920" cy="866520"/>
          </a:xfrm>
          <a:prstGeom prst="rect">
            <a:avLst/>
          </a:prstGeom>
          <a:ln w="0">
            <a:noFill/>
          </a:ln>
        </p:spPr>
      </p:pic>
      <p:sp>
        <p:nvSpPr>
          <p:cNvPr id="243" name="Oval 4"/>
          <p:cNvSpPr/>
          <p:nvPr/>
        </p:nvSpPr>
        <p:spPr>
          <a:xfrm>
            <a:off x="3637080" y="1773360"/>
            <a:ext cx="2447640" cy="21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4284720" y="2347920"/>
            <a:ext cx="1223640" cy="936720"/>
            <a:chOff x="4284720" y="2347920"/>
            <a:chExt cx="1223640" cy="936720"/>
          </a:xfrm>
        </p:grpSpPr>
        <p:sp>
          <p:nvSpPr>
            <p:cNvPr id="245" name="Line 6"/>
            <p:cNvSpPr/>
            <p:nvPr/>
          </p:nvSpPr>
          <p:spPr>
            <a:xfrm>
              <a:off x="4284720" y="2347920"/>
              <a:ext cx="0" cy="936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7"/>
            <p:cNvSpPr/>
            <p:nvPr/>
          </p:nvSpPr>
          <p:spPr>
            <a:xfrm>
              <a:off x="4572000" y="2565360"/>
              <a:ext cx="360360" cy="5032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"/>
            <p:cNvSpPr/>
            <p:nvPr/>
          </p:nvSpPr>
          <p:spPr>
            <a:xfrm>
              <a:off x="5148000" y="2565360"/>
              <a:ext cx="360360" cy="5032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9"/>
          <p:cNvSpPr/>
          <p:nvPr/>
        </p:nvSpPr>
        <p:spPr>
          <a:xfrm>
            <a:off x="1692360" y="4449600"/>
            <a:ext cx="61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رسم الشكل السابق بدون أن ترفع القلم عن الورقة وبدون استخدام أكثر من ق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684360" y="1268280"/>
            <a:ext cx="820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    أي دمج عنصرين أو أكثر للحصول على اختراع جديد   وحديث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3300"/>
                </a:solidFill>
                <a:latin typeface="Arial"/>
                <a:ea typeface="PT Bold Heading"/>
              </a:rPr>
              <a:t>   مثال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  قم بدمج سيارة + قارب على ماذا تحصل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3300"/>
                </a:solidFill>
                <a:latin typeface="Arial"/>
                <a:ea typeface="PT Bold Heading"/>
              </a:rPr>
              <a:t>   الجواب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  مركبة برمائية والآن بدأت تستخدم مثل هذه الفكرة لغرض السياح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611280" y="522936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08080"/>
                </a:solidFill>
                <a:latin typeface="Arial"/>
                <a:cs typeface="PT Bold Heading"/>
              </a:rPr>
              <a:t>ملاحظة :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PT Bold Heading"/>
              </a:rPr>
              <a:t> مهارة الكلمات العشوائية الكلمة الثانية دائماً غائبة بالإضافة إلى أنني محصور بتطوير شيء واحد فقط ولا أطور في الكلمة العشوائية ، أما في الدمج فبإمكاني أن أخرج بثلاث حالات وهي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PT Bold Heading"/>
              </a:rPr>
              <a:t>دمج شيئين ينتج لي شيء ثالث - تطوير الكلمة الأولى - تطوير الكلمة الثاني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2124000" y="428760"/>
            <a:ext cx="574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ea typeface="PT Bold Heading"/>
              </a:rPr>
              <a:t>( 3 ) </a:t>
            </a: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الدم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9" descr="a12[1]"/>
          <p:cNvPicPr/>
          <p:nvPr/>
        </p:nvPicPr>
        <p:blipFill>
          <a:blip r:embed="rId1"/>
          <a:stretch/>
        </p:blipFill>
        <p:spPr>
          <a:xfrm>
            <a:off x="7308720" y="458640"/>
            <a:ext cx="15843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684360" y="1628640"/>
            <a:ext cx="8315280" cy="66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spcBef>
                <a:spcPts val="2251"/>
              </a:spcBef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Arial"/>
                <a:cs typeface="PT Bold Heading"/>
              </a:rPr>
              <a:t>والآن و بالتعاون مع أفراد مجموعتك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 rtl="1">
              <a:spcBef>
                <a:spcPts val="751"/>
              </a:spcBef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spcBef>
                <a:spcPts val="2251"/>
              </a:spcBef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. أدمج المكيف + الكتاب ؟  ..........................................................................................................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. أدمج  سيارة + طابعة   ؟ ..........................................................................................................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an47"/>
          <p:cNvPicPr/>
          <p:nvPr/>
        </p:nvPicPr>
        <p:blipFill>
          <a:blip r:embed="rId1"/>
          <a:stretch/>
        </p:blipFill>
        <p:spPr>
          <a:xfrm>
            <a:off x="7093080" y="260280"/>
            <a:ext cx="1722240" cy="10810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2914560" y="5493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  <a:cs typeface="PT Bold Heading"/>
              </a:rPr>
              <a:t>نشاط جماع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2195640" y="549360"/>
            <a:ext cx="574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استراح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,,l"/>
          <p:cNvPicPr/>
          <p:nvPr/>
        </p:nvPicPr>
        <p:blipFill>
          <a:blip r:embed="rId1"/>
          <a:stretch/>
        </p:blipFill>
        <p:spPr>
          <a:xfrm>
            <a:off x="7596360" y="474840"/>
            <a:ext cx="1123920" cy="8665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5"/>
          <p:cNvSpPr/>
          <p:nvPr/>
        </p:nvSpPr>
        <p:spPr>
          <a:xfrm>
            <a:off x="1000080" y="2276640"/>
            <a:ext cx="7317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ذهب خالد لاستقبال ثلاثة من الجنسيات الأمريكية والبريطانية و الاسترالية وأحده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أسمه جورج وعرفه خالد فوراً مع العلم أنه لا يعرفه قبل ذلك ولم يصفه أحد ، فكيف عرفه خالد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5"/>
          <p:cNvSpPr/>
          <p:nvPr/>
        </p:nvSpPr>
        <p:spPr>
          <a:xfrm>
            <a:off x="611280" y="1870200"/>
            <a:ext cx="81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   أحذف جزء أو خطوة واحدة من جهاز أو نظام أداري أو مشكلة م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3300"/>
                </a:solidFill>
                <a:latin typeface="Arial"/>
                <a:ea typeface="PT Bold Heading"/>
              </a:rPr>
              <a:t>    مثال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   أحذف لوحة المفاتيح من الكمبيوتر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3300"/>
                </a:solidFill>
                <a:latin typeface="Arial"/>
                <a:ea typeface="PT Bold Heading"/>
              </a:rPr>
              <a:t>    الجواب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   الحصول على شاشة قلم يكتب عليها بدل لوحة المفاتيح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2124000" y="517680"/>
            <a:ext cx="574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ea typeface="PT Bold Heading"/>
              </a:rPr>
              <a:t>( 4 ) </a:t>
            </a: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الحذ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" descr="AG00154_"/>
          <p:cNvPicPr/>
          <p:nvPr/>
        </p:nvPicPr>
        <p:blipFill>
          <a:blip r:embed="rId1"/>
          <a:stretch/>
        </p:blipFill>
        <p:spPr>
          <a:xfrm>
            <a:off x="7572240" y="404640"/>
            <a:ext cx="124776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9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684360" y="1628640"/>
            <a:ext cx="8315280" cy="61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spcBef>
                <a:spcPts val="2251"/>
              </a:spcBef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Arial"/>
                <a:cs typeface="PT Bold Heading"/>
              </a:rPr>
              <a:t>والآن و بالتعاون مع أفراد مجموعتك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 rtl="1">
              <a:spcBef>
                <a:spcPts val="751"/>
              </a:spcBef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spcBef>
                <a:spcPts val="2251"/>
              </a:spcBef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.   احذف الحبر من القلم ؟  ..........................................................................................................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.   احذف السويتش من السيارة  ؟ ..........................................................................................................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an47"/>
          <p:cNvPicPr/>
          <p:nvPr/>
        </p:nvPicPr>
        <p:blipFill>
          <a:blip r:embed="rId1"/>
          <a:stretch/>
        </p:blipFill>
        <p:spPr>
          <a:xfrm>
            <a:off x="7093080" y="260280"/>
            <a:ext cx="1722240" cy="10810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2914560" y="5493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  <a:cs typeface="PT Bold Heading"/>
              </a:rPr>
              <a:t>نشاط جماع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3"/>
          <p:cNvSpPr/>
          <p:nvPr/>
        </p:nvSpPr>
        <p:spPr>
          <a:xfrm>
            <a:off x="5005440" y="2571840"/>
            <a:ext cx="3887640" cy="576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993300"/>
              </a:gs>
            </a:gsLst>
            <a:lin ang="5400000"/>
          </a:gra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شكال الابت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4970520" y="1638360"/>
            <a:ext cx="3887640" cy="57636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993300"/>
              </a:gs>
            </a:gsLst>
            <a:lin ang="5400000"/>
          </a:gra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دخل الى الابتكار ومفهوم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5003640" y="3567240"/>
            <a:ext cx="3888000" cy="576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993300"/>
              </a:gs>
            </a:gsLst>
            <a:lin ang="5400000"/>
          </a:gra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عوقات التفكير الابتكا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5003640" y="4638600"/>
            <a:ext cx="3888000" cy="57636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993300"/>
              </a:gs>
            </a:gsLst>
            <a:lin ang="5400000"/>
          </a:gra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سمات المبتكر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8"/>
          <p:cNvSpPr/>
          <p:nvPr/>
        </p:nvSpPr>
        <p:spPr>
          <a:xfrm>
            <a:off x="5005440" y="5638680"/>
            <a:ext cx="3887640" cy="57636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993300"/>
              </a:gs>
            </a:gsLst>
            <a:lin ang="5400000"/>
          </a:gra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هارة معارضة الفك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673200" y="1643040"/>
            <a:ext cx="3887640" cy="57636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993300"/>
              </a:gs>
            </a:gsLst>
            <a:lin ang="5400000"/>
          </a:gra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هارة الكلمات العشو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673200" y="2567160"/>
            <a:ext cx="3887640" cy="576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993300"/>
              </a:gs>
            </a:gsLst>
            <a:lin ang="5400000"/>
          </a:gra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هارة الدم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3"/>
          <p:cNvSpPr/>
          <p:nvPr/>
        </p:nvSpPr>
        <p:spPr>
          <a:xfrm>
            <a:off x="658800" y="3571920"/>
            <a:ext cx="3887640" cy="57636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993300"/>
              </a:gs>
            </a:gsLst>
            <a:lin ang="5400000"/>
          </a:gra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هارة الحذ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4"/>
          <p:cNvSpPr/>
          <p:nvPr/>
        </p:nvSpPr>
        <p:spPr>
          <a:xfrm>
            <a:off x="646200" y="4638600"/>
            <a:ext cx="3887640" cy="57636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993300"/>
              </a:gs>
            </a:gsLst>
            <a:lin ang="5400000"/>
          </a:gra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هارة استخدامات أخر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5"/>
          <p:cNvSpPr/>
          <p:nvPr/>
        </p:nvSpPr>
        <p:spPr>
          <a:xfrm>
            <a:off x="684360" y="5643720"/>
            <a:ext cx="3887640" cy="576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993300"/>
              </a:gs>
            </a:gsLst>
            <a:lin ang="5400000"/>
          </a:gra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هارة صغر – كبر - بد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27"/>
          <p:cNvGrpSpPr/>
          <p:nvPr/>
        </p:nvGrpSpPr>
        <p:grpSpPr>
          <a:xfrm>
            <a:off x="7811640" y="477720"/>
            <a:ext cx="1069560" cy="863640"/>
            <a:chOff x="7811640" y="477720"/>
            <a:chExt cx="1069560" cy="863640"/>
          </a:xfrm>
        </p:grpSpPr>
        <p:grpSp>
          <p:nvGrpSpPr>
            <p:cNvPr id="72" name="Group 28"/>
            <p:cNvGrpSpPr/>
            <p:nvPr/>
          </p:nvGrpSpPr>
          <p:grpSpPr>
            <a:xfrm>
              <a:off x="7811640" y="477720"/>
              <a:ext cx="946440" cy="863640"/>
              <a:chOff x="7811640" y="477720"/>
              <a:chExt cx="946440" cy="863640"/>
            </a:xfrm>
          </p:grpSpPr>
          <p:grpSp>
            <p:nvGrpSpPr>
              <p:cNvPr id="73" name="Group 29"/>
              <p:cNvGrpSpPr/>
              <p:nvPr/>
            </p:nvGrpSpPr>
            <p:grpSpPr>
              <a:xfrm>
                <a:off x="8327520" y="477720"/>
                <a:ext cx="430560" cy="602640"/>
                <a:chOff x="8327520" y="477720"/>
                <a:chExt cx="430560" cy="602640"/>
              </a:xfrm>
            </p:grpSpPr>
            <p:sp>
              <p:nvSpPr>
                <p:cNvPr id="74" name="Freeform 30"/>
                <p:cNvSpPr/>
                <p:nvPr/>
              </p:nvSpPr>
              <p:spPr>
                <a:xfrm flipH="1">
                  <a:off x="8375760" y="477720"/>
                  <a:ext cx="382320" cy="554040"/>
                </a:xfrm>
                <a:prstGeom prst="pie">
                  <a:avLst/>
                </a:pr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1"/>
                <p:cNvSpPr/>
                <p:nvPr/>
              </p:nvSpPr>
              <p:spPr>
                <a:xfrm flipH="1">
                  <a:off x="8327520" y="508680"/>
                  <a:ext cx="347760" cy="571680"/>
                </a:xfrm>
                <a:prstGeom prst="pie">
                  <a:avLst/>
                </a:prstGeom>
                <a:solidFill>
                  <a:srgbClr val="ff66cc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" name="Group 32"/>
                <p:cNvGrpSpPr/>
                <p:nvPr/>
              </p:nvGrpSpPr>
              <p:grpSpPr>
                <a:xfrm>
                  <a:off x="8667000" y="532440"/>
                  <a:ext cx="62640" cy="54360"/>
                  <a:chOff x="8667000" y="532440"/>
                  <a:chExt cx="62640" cy="54360"/>
                </a:xfrm>
              </p:grpSpPr>
              <p:sp>
                <p:nvSpPr>
                  <p:cNvPr id="77" name="Freeform 33"/>
                  <p:cNvSpPr/>
                  <p:nvPr/>
                </p:nvSpPr>
                <p:spPr>
                  <a:xfrm flipH="1">
                    <a:off x="8666640" y="535680"/>
                    <a:ext cx="61560" cy="51120"/>
                  </a:xfrm>
                  <a:prstGeom prst="pie">
                    <a:avLst/>
                  </a:prstGeom>
                  <a:solidFill>
                    <a:srgbClr val="80808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34"/>
                  <p:cNvSpPr/>
                  <p:nvPr/>
                </p:nvSpPr>
                <p:spPr>
                  <a:xfrm flipH="1">
                    <a:off x="8667720" y="532440"/>
                    <a:ext cx="61560" cy="50400"/>
                  </a:xfrm>
                  <a:prstGeom prst="pie">
                    <a:avLst/>
                  </a:prstGeom>
                  <a:solidFill>
                    <a:srgbClr val="c0c0c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" name="Freeform 35"/>
                <p:cNvSpPr/>
                <p:nvPr/>
              </p:nvSpPr>
              <p:spPr>
                <a:xfrm flipH="1">
                  <a:off x="8675280" y="535320"/>
                  <a:ext cx="82800" cy="543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66cc"/>
                    </a:gs>
                    <a:gs pos="100000">
                      <a:srgbClr val="0000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Oval 36"/>
                <p:cNvSpPr/>
                <p:nvPr/>
              </p:nvSpPr>
              <p:spPr>
                <a:xfrm flipH="1">
                  <a:off x="8718840" y="617040"/>
                  <a:ext cx="13680" cy="15480"/>
                </a:xfrm>
                <a:prstGeom prst="ellipse">
                  <a:avLst/>
                </a:prstGeom>
                <a:solidFill>
                  <a:srgbClr val="c0c0c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Oval 37"/>
                <p:cNvSpPr/>
                <p:nvPr/>
              </p:nvSpPr>
              <p:spPr>
                <a:xfrm flipH="1">
                  <a:off x="8717400" y="951480"/>
                  <a:ext cx="14400" cy="14760"/>
                </a:xfrm>
                <a:prstGeom prst="ellipse">
                  <a:avLst/>
                </a:prstGeom>
                <a:solidFill>
                  <a:srgbClr val="c0c0c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Group 38"/>
              <p:cNvGrpSpPr/>
              <p:nvPr/>
            </p:nvGrpSpPr>
            <p:grpSpPr>
              <a:xfrm>
                <a:off x="8202240" y="546480"/>
                <a:ext cx="429840" cy="602640"/>
                <a:chOff x="8202240" y="546480"/>
                <a:chExt cx="429840" cy="602640"/>
              </a:xfrm>
            </p:grpSpPr>
            <p:sp>
              <p:nvSpPr>
                <p:cNvPr id="83" name="Freeform 39"/>
                <p:cNvSpPr/>
                <p:nvPr/>
              </p:nvSpPr>
              <p:spPr>
                <a:xfrm flipH="1">
                  <a:off x="8249760" y="546480"/>
                  <a:ext cx="381960" cy="554040"/>
                </a:xfrm>
                <a:prstGeom prst="pie">
                  <a:avLst/>
                </a:pr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0"/>
                <p:cNvSpPr/>
                <p:nvPr/>
              </p:nvSpPr>
              <p:spPr>
                <a:xfrm flipH="1">
                  <a:off x="8201880" y="577440"/>
                  <a:ext cx="347400" cy="571680"/>
                </a:xfrm>
                <a:prstGeom prst="pie">
                  <a:avLst/>
                </a:prstGeom>
                <a:solidFill>
                  <a:srgbClr val="009999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" name="Group 41"/>
                <p:cNvGrpSpPr/>
                <p:nvPr/>
              </p:nvGrpSpPr>
              <p:grpSpPr>
                <a:xfrm>
                  <a:off x="8541360" y="601200"/>
                  <a:ext cx="62280" cy="54360"/>
                  <a:chOff x="8541360" y="601200"/>
                  <a:chExt cx="62280" cy="54360"/>
                </a:xfrm>
              </p:grpSpPr>
              <p:sp>
                <p:nvSpPr>
                  <p:cNvPr id="86" name="Freeform 42"/>
                  <p:cNvSpPr/>
                  <p:nvPr/>
                </p:nvSpPr>
                <p:spPr>
                  <a:xfrm flipH="1">
                    <a:off x="8541360" y="604440"/>
                    <a:ext cx="61200" cy="51120"/>
                  </a:xfrm>
                  <a:prstGeom prst="pie">
                    <a:avLst/>
                  </a:prstGeom>
                  <a:solidFill>
                    <a:srgbClr val="80808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Freeform 43"/>
                  <p:cNvSpPr/>
                  <p:nvPr/>
                </p:nvSpPr>
                <p:spPr>
                  <a:xfrm flipH="1">
                    <a:off x="8542440" y="601200"/>
                    <a:ext cx="61200" cy="50400"/>
                  </a:xfrm>
                  <a:prstGeom prst="pie">
                    <a:avLst/>
                  </a:prstGeom>
                  <a:solidFill>
                    <a:srgbClr val="c0c0c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" name="Freeform 44"/>
                <p:cNvSpPr/>
                <p:nvPr/>
              </p:nvSpPr>
              <p:spPr>
                <a:xfrm flipH="1">
                  <a:off x="8549280" y="604080"/>
                  <a:ext cx="82440" cy="543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00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Oval 45"/>
                <p:cNvSpPr/>
                <p:nvPr/>
              </p:nvSpPr>
              <p:spPr>
                <a:xfrm flipH="1">
                  <a:off x="8592840" y="685800"/>
                  <a:ext cx="13680" cy="15480"/>
                </a:xfrm>
                <a:prstGeom prst="ellipse">
                  <a:avLst/>
                </a:prstGeom>
                <a:solidFill>
                  <a:srgbClr val="c0c0c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Oval 46"/>
                <p:cNvSpPr/>
                <p:nvPr/>
              </p:nvSpPr>
              <p:spPr>
                <a:xfrm flipH="1">
                  <a:off x="8591400" y="1020240"/>
                  <a:ext cx="14400" cy="14400"/>
                </a:xfrm>
                <a:prstGeom prst="ellipse">
                  <a:avLst/>
                </a:prstGeom>
                <a:solidFill>
                  <a:srgbClr val="c0c0c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Group 47"/>
              <p:cNvGrpSpPr/>
              <p:nvPr/>
            </p:nvGrpSpPr>
            <p:grpSpPr>
              <a:xfrm>
                <a:off x="8076600" y="610200"/>
                <a:ext cx="429840" cy="602640"/>
                <a:chOff x="8076600" y="610200"/>
                <a:chExt cx="429840" cy="602640"/>
              </a:xfrm>
            </p:grpSpPr>
            <p:sp>
              <p:nvSpPr>
                <p:cNvPr id="92" name="Freeform 48"/>
                <p:cNvSpPr/>
                <p:nvPr/>
              </p:nvSpPr>
              <p:spPr>
                <a:xfrm flipH="1">
                  <a:off x="8124120" y="610200"/>
                  <a:ext cx="381960" cy="554040"/>
                </a:xfrm>
                <a:prstGeom prst="pie">
                  <a:avLst/>
                </a:pr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9"/>
                <p:cNvSpPr/>
                <p:nvPr/>
              </p:nvSpPr>
              <p:spPr>
                <a:xfrm flipH="1">
                  <a:off x="8076240" y="641160"/>
                  <a:ext cx="347400" cy="571680"/>
                </a:xfrm>
                <a:prstGeom prst="pie">
                  <a:avLst/>
                </a:prstGeom>
                <a:solidFill>
                  <a:srgbClr val="ff99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" name="Group 50"/>
                <p:cNvGrpSpPr/>
                <p:nvPr/>
              </p:nvGrpSpPr>
              <p:grpSpPr>
                <a:xfrm>
                  <a:off x="8415720" y="664920"/>
                  <a:ext cx="62280" cy="54360"/>
                  <a:chOff x="8415720" y="664920"/>
                  <a:chExt cx="62280" cy="54360"/>
                </a:xfrm>
              </p:grpSpPr>
              <p:sp>
                <p:nvSpPr>
                  <p:cNvPr id="95" name="Freeform 51"/>
                  <p:cNvSpPr/>
                  <p:nvPr/>
                </p:nvSpPr>
                <p:spPr>
                  <a:xfrm flipH="1">
                    <a:off x="8415720" y="668160"/>
                    <a:ext cx="61200" cy="51120"/>
                  </a:xfrm>
                  <a:prstGeom prst="pie">
                    <a:avLst/>
                  </a:prstGeom>
                  <a:solidFill>
                    <a:srgbClr val="80808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Freeform 52"/>
                  <p:cNvSpPr/>
                  <p:nvPr/>
                </p:nvSpPr>
                <p:spPr>
                  <a:xfrm flipH="1">
                    <a:off x="8416800" y="664920"/>
                    <a:ext cx="61200" cy="50400"/>
                  </a:xfrm>
                  <a:prstGeom prst="pie">
                    <a:avLst/>
                  </a:prstGeom>
                  <a:solidFill>
                    <a:srgbClr val="c0c0c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" name="Freeform 53"/>
                <p:cNvSpPr/>
                <p:nvPr/>
              </p:nvSpPr>
              <p:spPr>
                <a:xfrm flipH="1">
                  <a:off x="8423640" y="667800"/>
                  <a:ext cx="82440" cy="543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0000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Oval 54"/>
                <p:cNvSpPr/>
                <p:nvPr/>
              </p:nvSpPr>
              <p:spPr>
                <a:xfrm flipH="1">
                  <a:off x="8467200" y="749520"/>
                  <a:ext cx="13680" cy="15480"/>
                </a:xfrm>
                <a:prstGeom prst="ellipse">
                  <a:avLst/>
                </a:prstGeom>
                <a:solidFill>
                  <a:srgbClr val="c0c0c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Oval 55"/>
                <p:cNvSpPr/>
                <p:nvPr/>
              </p:nvSpPr>
              <p:spPr>
                <a:xfrm flipH="1">
                  <a:off x="8465760" y="1083960"/>
                  <a:ext cx="14400" cy="14760"/>
                </a:xfrm>
                <a:prstGeom prst="ellipse">
                  <a:avLst/>
                </a:prstGeom>
                <a:solidFill>
                  <a:srgbClr val="c0c0c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56"/>
              <p:cNvGrpSpPr/>
              <p:nvPr/>
            </p:nvGrpSpPr>
            <p:grpSpPr>
              <a:xfrm>
                <a:off x="7950240" y="674280"/>
                <a:ext cx="430200" cy="602640"/>
                <a:chOff x="7950240" y="674280"/>
                <a:chExt cx="430200" cy="602640"/>
              </a:xfrm>
            </p:grpSpPr>
            <p:sp>
              <p:nvSpPr>
                <p:cNvPr id="101" name="Freeform 57"/>
                <p:cNvSpPr/>
                <p:nvPr/>
              </p:nvSpPr>
              <p:spPr>
                <a:xfrm flipH="1">
                  <a:off x="7997400" y="674280"/>
                  <a:ext cx="382680" cy="554040"/>
                </a:xfrm>
                <a:prstGeom prst="pie">
                  <a:avLst/>
                </a:pr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58"/>
                <p:cNvSpPr/>
                <p:nvPr/>
              </p:nvSpPr>
              <p:spPr>
                <a:xfrm flipH="1">
                  <a:off x="7950240" y="705240"/>
                  <a:ext cx="347760" cy="571680"/>
                </a:xfrm>
                <a:prstGeom prst="pie">
                  <a:avLst/>
                </a:prstGeom>
                <a:solidFill>
                  <a:srgbClr val="0066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" name="Group 59"/>
                <p:cNvGrpSpPr/>
                <p:nvPr/>
              </p:nvGrpSpPr>
              <p:grpSpPr>
                <a:xfrm>
                  <a:off x="8289720" y="729000"/>
                  <a:ext cx="62280" cy="54360"/>
                  <a:chOff x="8289720" y="729000"/>
                  <a:chExt cx="62280" cy="54360"/>
                </a:xfrm>
              </p:grpSpPr>
              <p:sp>
                <p:nvSpPr>
                  <p:cNvPr id="104" name="Freeform 60"/>
                  <p:cNvSpPr/>
                  <p:nvPr/>
                </p:nvSpPr>
                <p:spPr>
                  <a:xfrm flipH="1">
                    <a:off x="8289720" y="732240"/>
                    <a:ext cx="61200" cy="51120"/>
                  </a:xfrm>
                  <a:prstGeom prst="pie">
                    <a:avLst/>
                  </a:prstGeom>
                  <a:solidFill>
                    <a:srgbClr val="80808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61"/>
                  <p:cNvSpPr/>
                  <p:nvPr/>
                </p:nvSpPr>
                <p:spPr>
                  <a:xfrm flipH="1">
                    <a:off x="8290800" y="729000"/>
                    <a:ext cx="61200" cy="50400"/>
                  </a:xfrm>
                  <a:prstGeom prst="pie">
                    <a:avLst/>
                  </a:prstGeom>
                  <a:solidFill>
                    <a:srgbClr val="c0c0c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" name="Freeform 62"/>
                <p:cNvSpPr/>
                <p:nvPr/>
              </p:nvSpPr>
              <p:spPr>
                <a:xfrm flipH="1">
                  <a:off x="8297640" y="731880"/>
                  <a:ext cx="82440" cy="543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66ff"/>
                    </a:gs>
                    <a:gs pos="100000">
                      <a:srgbClr val="0000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Oval 63"/>
                <p:cNvSpPr/>
                <p:nvPr/>
              </p:nvSpPr>
              <p:spPr>
                <a:xfrm flipH="1">
                  <a:off x="8341200" y="813600"/>
                  <a:ext cx="13680" cy="15480"/>
                </a:xfrm>
                <a:prstGeom prst="ellipse">
                  <a:avLst/>
                </a:prstGeom>
                <a:solidFill>
                  <a:srgbClr val="c0c0c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Oval 64"/>
                <p:cNvSpPr/>
                <p:nvPr/>
              </p:nvSpPr>
              <p:spPr>
                <a:xfrm flipH="1">
                  <a:off x="8339760" y="1148040"/>
                  <a:ext cx="14400" cy="14400"/>
                </a:xfrm>
                <a:prstGeom prst="ellipse">
                  <a:avLst/>
                </a:prstGeom>
                <a:solidFill>
                  <a:srgbClr val="c0c0c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65"/>
              <p:cNvGrpSpPr/>
              <p:nvPr/>
            </p:nvGrpSpPr>
            <p:grpSpPr>
              <a:xfrm>
                <a:off x="7811640" y="738360"/>
                <a:ext cx="430560" cy="603000"/>
                <a:chOff x="7811640" y="738360"/>
                <a:chExt cx="430560" cy="603000"/>
              </a:xfrm>
            </p:grpSpPr>
            <p:sp>
              <p:nvSpPr>
                <p:cNvPr id="110" name="Freeform 66"/>
                <p:cNvSpPr/>
                <p:nvPr/>
              </p:nvSpPr>
              <p:spPr>
                <a:xfrm flipH="1">
                  <a:off x="7859880" y="738360"/>
                  <a:ext cx="382320" cy="554400"/>
                </a:xfrm>
                <a:prstGeom prst="pie">
                  <a:avLst/>
                </a:pr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67"/>
                <p:cNvSpPr/>
                <p:nvPr/>
              </p:nvSpPr>
              <p:spPr>
                <a:xfrm flipH="1">
                  <a:off x="7811640" y="769320"/>
                  <a:ext cx="347760" cy="572040"/>
                </a:xfrm>
                <a:prstGeom prst="pie">
                  <a:avLst/>
                </a:prstGeom>
                <a:solidFill>
                  <a:srgbClr val="cc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" name="Group 68"/>
                <p:cNvGrpSpPr/>
                <p:nvPr/>
              </p:nvGrpSpPr>
              <p:grpSpPr>
                <a:xfrm>
                  <a:off x="8151120" y="793080"/>
                  <a:ext cx="62640" cy="54360"/>
                  <a:chOff x="8151120" y="793080"/>
                  <a:chExt cx="62640" cy="54360"/>
                </a:xfrm>
              </p:grpSpPr>
              <p:sp>
                <p:nvSpPr>
                  <p:cNvPr id="113" name="Freeform 69"/>
                  <p:cNvSpPr/>
                  <p:nvPr/>
                </p:nvSpPr>
                <p:spPr>
                  <a:xfrm flipH="1">
                    <a:off x="8150760" y="796320"/>
                    <a:ext cx="61560" cy="51120"/>
                  </a:xfrm>
                  <a:prstGeom prst="pie">
                    <a:avLst/>
                  </a:prstGeom>
                  <a:solidFill>
                    <a:srgbClr val="80808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70"/>
                  <p:cNvSpPr/>
                  <p:nvPr/>
                </p:nvSpPr>
                <p:spPr>
                  <a:xfrm flipH="1">
                    <a:off x="8151840" y="793080"/>
                    <a:ext cx="61560" cy="50400"/>
                  </a:xfrm>
                  <a:prstGeom prst="pie">
                    <a:avLst/>
                  </a:prstGeom>
                  <a:solidFill>
                    <a:srgbClr val="c0c0c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" name="Freeform 71"/>
                <p:cNvSpPr/>
                <p:nvPr/>
              </p:nvSpPr>
              <p:spPr>
                <a:xfrm flipH="1">
                  <a:off x="8159400" y="795960"/>
                  <a:ext cx="82800" cy="5443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0000"/>
                    </a:gs>
                    <a:gs pos="100000">
                      <a:srgbClr val="0000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Oval 72"/>
                <p:cNvSpPr/>
                <p:nvPr/>
              </p:nvSpPr>
              <p:spPr>
                <a:xfrm flipH="1">
                  <a:off x="8202960" y="878040"/>
                  <a:ext cx="13680" cy="15480"/>
                </a:xfrm>
                <a:prstGeom prst="ellipse">
                  <a:avLst/>
                </a:prstGeom>
                <a:solidFill>
                  <a:srgbClr val="c0c0c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Oval 73"/>
                <p:cNvSpPr/>
                <p:nvPr/>
              </p:nvSpPr>
              <p:spPr>
                <a:xfrm flipH="1">
                  <a:off x="8201520" y="1212120"/>
                  <a:ext cx="14400" cy="14760"/>
                </a:xfrm>
                <a:prstGeom prst="ellipse">
                  <a:avLst/>
                </a:prstGeom>
                <a:solidFill>
                  <a:srgbClr val="c0c0c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" name="Rectangle 74"/>
            <p:cNvSpPr/>
            <p:nvPr/>
          </p:nvSpPr>
          <p:spPr>
            <a:xfrm rot="576600">
              <a:off x="7856640" y="918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5"/>
            <p:cNvSpPr/>
            <p:nvPr/>
          </p:nvSpPr>
          <p:spPr>
            <a:xfrm>
              <a:off x="8034840" y="939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76"/>
            <p:cNvSpPr/>
            <p:nvPr/>
          </p:nvSpPr>
          <p:spPr>
            <a:xfrm>
              <a:off x="8295120" y="834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7"/>
            <p:cNvSpPr/>
            <p:nvPr/>
          </p:nvSpPr>
          <p:spPr>
            <a:xfrm>
              <a:off x="8425080" y="767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8"/>
            <p:cNvSpPr/>
            <p:nvPr/>
          </p:nvSpPr>
          <p:spPr>
            <a:xfrm>
              <a:off x="8558640" y="700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79"/>
            <p:cNvSpPr/>
            <p:nvPr/>
          </p:nvSpPr>
          <p:spPr>
            <a:xfrm>
              <a:off x="8183880" y="879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80"/>
          <p:cNvSpPr/>
          <p:nvPr/>
        </p:nvSpPr>
        <p:spPr>
          <a:xfrm>
            <a:off x="1692360" y="566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3300"/>
                </a:solidFill>
                <a:latin typeface="Arial"/>
                <a:cs typeface="PT Bold Heading"/>
              </a:rPr>
              <a:t>محتوى الدو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5"/>
          <p:cNvSpPr/>
          <p:nvPr/>
        </p:nvSpPr>
        <p:spPr>
          <a:xfrm>
            <a:off x="611280" y="174312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أي استخدم أي شيء بغير الاستخدام المألوف عنه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3300"/>
                </a:solidFill>
                <a:latin typeface="Arial"/>
                <a:cs typeface="PT Bold Heading"/>
              </a:rPr>
              <a:t>مثال 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ذكر ثلاث استخدامات اخرى لعلبة البيبسي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3300"/>
                </a:solidFill>
                <a:latin typeface="Arial"/>
                <a:cs typeface="PT Bold Heading"/>
              </a:rPr>
              <a:t>الجواب 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حافظة اقلام – حصالة نقود - مزهر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2281320" y="517680"/>
            <a:ext cx="574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ea typeface="PT Bold Heading"/>
              </a:rPr>
              <a:t>( 5) </a:t>
            </a: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استخدامات أخر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865"/>
          <p:cNvPicPr/>
          <p:nvPr/>
        </p:nvPicPr>
        <p:blipFill>
          <a:blip r:embed="rId1"/>
          <a:stretch/>
        </p:blipFill>
        <p:spPr>
          <a:xfrm>
            <a:off x="7885080" y="476280"/>
            <a:ext cx="86364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1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4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4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684360" y="1628640"/>
            <a:ext cx="8315280" cy="61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spcBef>
                <a:spcPts val="2251"/>
              </a:spcBef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Arial"/>
                <a:cs typeface="PT Bold Heading"/>
              </a:rPr>
              <a:t>والآن و بالتعاون مع أفراد مجموعتك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 rtl="1">
              <a:spcBef>
                <a:spcPts val="751"/>
              </a:spcBef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spcBef>
                <a:spcPts val="2251"/>
              </a:spcBef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.  اذكر استخدامات اخرى للقلم  ؟  ..........................................................................................................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.   اذكر استخدامات اخرى للعقال  ؟ ..........................................................................................................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an47"/>
          <p:cNvPicPr/>
          <p:nvPr/>
        </p:nvPicPr>
        <p:blipFill>
          <a:blip r:embed="rId1"/>
          <a:stretch/>
        </p:blipFill>
        <p:spPr>
          <a:xfrm>
            <a:off x="7093080" y="260280"/>
            <a:ext cx="1722240" cy="10810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4"/>
          <p:cNvSpPr/>
          <p:nvPr/>
        </p:nvSpPr>
        <p:spPr>
          <a:xfrm>
            <a:off x="2914560" y="5493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  <a:cs typeface="PT Bold Heading"/>
              </a:rPr>
              <a:t>نشاط جماع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2195640" y="549360"/>
            <a:ext cx="574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استراح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,,l"/>
          <p:cNvPicPr/>
          <p:nvPr/>
        </p:nvPicPr>
        <p:blipFill>
          <a:blip r:embed="rId1"/>
          <a:stretch/>
        </p:blipFill>
        <p:spPr>
          <a:xfrm>
            <a:off x="7596360" y="474840"/>
            <a:ext cx="1123920" cy="86652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7"/>
          <p:cNvSpPr/>
          <p:nvPr/>
        </p:nvSpPr>
        <p:spPr>
          <a:xfrm>
            <a:off x="2195640" y="2205000"/>
            <a:ext cx="5473440" cy="1871640"/>
          </a:xfrm>
          <a:prstGeom prst="flowChart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979640" y="4422600"/>
            <a:ext cx="56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كم مثلث في الشكل الساب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 flipV="1">
            <a:off x="2268360" y="2204640"/>
            <a:ext cx="79092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 flipV="1">
            <a:off x="4645080" y="2204640"/>
            <a:ext cx="7905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 flipV="1">
            <a:off x="2844720" y="2204640"/>
            <a:ext cx="7905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 flipV="1">
            <a:off x="3924360" y="2204640"/>
            <a:ext cx="7905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 flipV="1">
            <a:off x="5437080" y="2204640"/>
            <a:ext cx="7905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 flipV="1">
            <a:off x="6877080" y="2204640"/>
            <a:ext cx="7905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 flipV="1">
            <a:off x="2268360" y="2204640"/>
            <a:ext cx="539928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 flipV="1">
            <a:off x="4643280" y="2852640"/>
            <a:ext cx="3024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 flipV="1">
            <a:off x="3348000" y="2204640"/>
            <a:ext cx="7905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>
            <a:off x="2208240" y="2205000"/>
            <a:ext cx="466884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 flipV="1">
            <a:off x="6084720" y="2204640"/>
            <a:ext cx="79092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 flipH="1" flipV="1">
            <a:off x="2193840" y="2923920"/>
            <a:ext cx="244944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1"/>
          <p:cNvSpPr/>
          <p:nvPr/>
        </p:nvSpPr>
        <p:spPr>
          <a:xfrm flipV="1">
            <a:off x="2916360" y="2205000"/>
            <a:ext cx="4680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>
            <a:off x="2195640" y="2924280"/>
            <a:ext cx="2520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3"/>
          <p:cNvSpPr/>
          <p:nvPr/>
        </p:nvSpPr>
        <p:spPr>
          <a:xfrm>
            <a:off x="2987640" y="2492280"/>
            <a:ext cx="4608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3"/>
          <p:cNvSpPr/>
          <p:nvPr/>
        </p:nvSpPr>
        <p:spPr>
          <a:xfrm>
            <a:off x="612720" y="1438200"/>
            <a:ext cx="813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   أي كبر كل ما تره أمامك أو صغره لتحصل على أشياء جديدة أو بدل شيء مكان شي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3300"/>
                </a:solidFill>
                <a:latin typeface="Arial"/>
                <a:ea typeface="PT Bold Heading"/>
              </a:rPr>
              <a:t>   مثال 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  كبر قلم الرصاص – صغر جهاز التلفاز – بدل الحبر من القلم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3300"/>
                </a:solidFill>
                <a:latin typeface="Arial"/>
                <a:ea typeface="PT Bold Heading"/>
              </a:rPr>
              <a:t>   الجواب 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  قلم بحجم الورقة – تلفاز بحجم الجوال – قلم بالبو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2138400" y="517680"/>
            <a:ext cx="574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ea typeface="PT Bold Heading"/>
              </a:rPr>
              <a:t> </a:t>
            </a:r>
            <a:r>
              <a:rPr b="1" lang="ar-SA" sz="4800" spc="-1" strike="noStrike">
                <a:solidFill>
                  <a:srgbClr val="993300"/>
                </a:solidFill>
                <a:latin typeface="Arial"/>
                <a:ea typeface="PT Bold Heading"/>
              </a:rPr>
              <a:t>( 6 ) </a:t>
            </a: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صغر – كبر - بد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7" descr="23"/>
          <p:cNvPicPr/>
          <p:nvPr/>
        </p:nvPicPr>
        <p:blipFill>
          <a:blip r:embed="rId1"/>
          <a:stretch/>
        </p:blipFill>
        <p:spPr>
          <a:xfrm>
            <a:off x="7618320" y="519120"/>
            <a:ext cx="13334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4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77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1" dur="77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3" dur="77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5" dur="77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628640"/>
            <a:ext cx="8315280" cy="66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spcBef>
                <a:spcPts val="2251"/>
              </a:spcBef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Arial"/>
                <a:cs typeface="PT Bold Heading"/>
              </a:rPr>
              <a:t>والآن و بالتعاون مع أفراد مجموعتك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 rtl="1">
              <a:spcBef>
                <a:spcPts val="751"/>
              </a:spcBef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spcBef>
                <a:spcPts val="2251"/>
              </a:spcBef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.  كبر ( الكتاب – التلفاز ؟  ..............................................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 startAt="2"/>
              <a:tabLst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صغر ( السيارة – الكمبيوتر )  ؟ ............................................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 startAt="2"/>
              <a:tabLst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بدل بين التلفاز والمكيف في عدد من الأشياء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   ........................................................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an47"/>
          <p:cNvPicPr/>
          <p:nvPr/>
        </p:nvPicPr>
        <p:blipFill>
          <a:blip r:embed="rId1"/>
          <a:stretch/>
        </p:blipFill>
        <p:spPr>
          <a:xfrm>
            <a:off x="7093080" y="260280"/>
            <a:ext cx="1722240" cy="10810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6"/>
          <p:cNvSpPr/>
          <p:nvPr/>
        </p:nvSpPr>
        <p:spPr>
          <a:xfrm>
            <a:off x="2914560" y="5493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  <a:cs typeface="PT Bold Heading"/>
              </a:rPr>
              <a:t>نشاط جماع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3"/>
          <p:cNvSpPr/>
          <p:nvPr/>
        </p:nvSpPr>
        <p:spPr>
          <a:xfrm>
            <a:off x="826920" y="2852640"/>
            <a:ext cx="4969080" cy="2737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"/>
          <p:cNvSpPr/>
          <p:nvPr/>
        </p:nvSpPr>
        <p:spPr>
          <a:xfrm flipV="1">
            <a:off x="4140360" y="3646440"/>
            <a:ext cx="28728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5"/>
          <p:cNvSpPr/>
          <p:nvPr/>
        </p:nvSpPr>
        <p:spPr>
          <a:xfrm flipH="1" flipV="1">
            <a:off x="3995280" y="3930120"/>
            <a:ext cx="142920" cy="2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"/>
          <p:cNvSpPr/>
          <p:nvPr/>
        </p:nvSpPr>
        <p:spPr>
          <a:xfrm flipV="1">
            <a:off x="3780000" y="4365360"/>
            <a:ext cx="21564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7"/>
          <p:cNvSpPr/>
          <p:nvPr/>
        </p:nvSpPr>
        <p:spPr>
          <a:xfrm flipH="1" flipV="1">
            <a:off x="3779640" y="4365360"/>
            <a:ext cx="21564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>
            <a:off x="1042920" y="3789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>
            <a:off x="971640" y="386064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10"/>
          <p:cNvGrpSpPr/>
          <p:nvPr/>
        </p:nvGrpSpPr>
        <p:grpSpPr>
          <a:xfrm>
            <a:off x="826920" y="2842920"/>
            <a:ext cx="4968720" cy="2746800"/>
            <a:chOff x="826920" y="2842920"/>
            <a:chExt cx="4968720" cy="2746800"/>
          </a:xfrm>
        </p:grpSpPr>
        <p:sp>
          <p:nvSpPr>
            <p:cNvPr id="304" name="Line 11"/>
            <p:cNvSpPr/>
            <p:nvPr/>
          </p:nvSpPr>
          <p:spPr>
            <a:xfrm flipH="1">
              <a:off x="4858920" y="3789360"/>
              <a:ext cx="93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2"/>
            <p:cNvSpPr/>
            <p:nvPr/>
          </p:nvSpPr>
          <p:spPr>
            <a:xfrm flipH="1">
              <a:off x="4858920" y="4005360"/>
              <a:ext cx="93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 flipH="1">
              <a:off x="4858920" y="4221360"/>
              <a:ext cx="93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4"/>
            <p:cNvSpPr/>
            <p:nvPr/>
          </p:nvSpPr>
          <p:spPr>
            <a:xfrm flipH="1">
              <a:off x="4858920" y="4437000"/>
              <a:ext cx="93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5"/>
            <p:cNvSpPr/>
            <p:nvPr/>
          </p:nvSpPr>
          <p:spPr>
            <a:xfrm>
              <a:off x="3708000" y="3284640"/>
              <a:ext cx="432000" cy="576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16"/>
            <p:cNvSpPr/>
            <p:nvPr/>
          </p:nvSpPr>
          <p:spPr>
            <a:xfrm>
              <a:off x="2771640" y="4292640"/>
              <a:ext cx="431640" cy="576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7"/>
            <p:cNvSpPr/>
            <p:nvPr/>
          </p:nvSpPr>
          <p:spPr>
            <a:xfrm>
              <a:off x="3274560" y="3789360"/>
              <a:ext cx="432000" cy="576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8"/>
            <p:cNvSpPr/>
            <p:nvPr/>
          </p:nvSpPr>
          <p:spPr>
            <a:xfrm>
              <a:off x="4571640" y="50850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9"/>
            <p:cNvSpPr/>
            <p:nvPr/>
          </p:nvSpPr>
          <p:spPr>
            <a:xfrm>
              <a:off x="5219280" y="508500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 flipV="1">
              <a:off x="3563640" y="508500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1"/>
            <p:cNvSpPr/>
            <p:nvPr/>
          </p:nvSpPr>
          <p:spPr>
            <a:xfrm>
              <a:off x="3563640" y="50850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2"/>
            <p:cNvSpPr/>
            <p:nvPr/>
          </p:nvSpPr>
          <p:spPr>
            <a:xfrm flipV="1">
              <a:off x="4066920" y="508500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 flipV="1">
              <a:off x="2916000" y="508500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4"/>
            <p:cNvSpPr/>
            <p:nvPr/>
          </p:nvSpPr>
          <p:spPr>
            <a:xfrm>
              <a:off x="2266560" y="5085000"/>
              <a:ext cx="64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rc 25"/>
            <p:cNvSpPr/>
            <p:nvPr/>
          </p:nvSpPr>
          <p:spPr>
            <a:xfrm flipV="1">
              <a:off x="826920" y="2842560"/>
              <a:ext cx="1438200" cy="1654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6"/>
            <p:cNvSpPr/>
            <p:nvPr/>
          </p:nvSpPr>
          <p:spPr>
            <a:xfrm>
              <a:off x="1042560" y="4510080"/>
              <a:ext cx="144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1402920" y="4365720"/>
              <a:ext cx="216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8"/>
            <p:cNvSpPr/>
            <p:nvPr/>
          </p:nvSpPr>
          <p:spPr>
            <a:xfrm>
              <a:off x="1690560" y="4149720"/>
              <a:ext cx="2872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1979280" y="3861000"/>
              <a:ext cx="28728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0"/>
            <p:cNvSpPr/>
            <p:nvPr/>
          </p:nvSpPr>
          <p:spPr>
            <a:xfrm>
              <a:off x="2195280" y="3429000"/>
              <a:ext cx="287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>
              <a:off x="2266560" y="306864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rc 32"/>
            <p:cNvSpPr/>
            <p:nvPr/>
          </p:nvSpPr>
          <p:spPr>
            <a:xfrm flipH="1" rot="8904600">
              <a:off x="1257840" y="3284280"/>
              <a:ext cx="523800" cy="5047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33"/>
            <p:cNvSpPr/>
            <p:nvPr/>
          </p:nvSpPr>
          <p:spPr>
            <a:xfrm flipV="1">
              <a:off x="1402920" y="3357720"/>
              <a:ext cx="144720" cy="287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4"/>
            <p:cNvSpPr/>
            <p:nvPr/>
          </p:nvSpPr>
          <p:spPr>
            <a:xfrm>
              <a:off x="971280" y="3068640"/>
              <a:ext cx="936720" cy="935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35"/>
            <p:cNvSpPr/>
            <p:nvPr/>
          </p:nvSpPr>
          <p:spPr>
            <a:xfrm>
              <a:off x="1187280" y="393408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36"/>
            <p:cNvSpPr/>
            <p:nvPr/>
          </p:nvSpPr>
          <p:spPr>
            <a:xfrm>
              <a:off x="1258560" y="3068640"/>
              <a:ext cx="144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37"/>
            <p:cNvSpPr/>
            <p:nvPr/>
          </p:nvSpPr>
          <p:spPr>
            <a:xfrm>
              <a:off x="1331640" y="2924280"/>
              <a:ext cx="2160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38"/>
            <p:cNvSpPr/>
            <p:nvPr/>
          </p:nvSpPr>
          <p:spPr>
            <a:xfrm>
              <a:off x="1187280" y="321336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39"/>
          <p:cNvSpPr/>
          <p:nvPr/>
        </p:nvSpPr>
        <p:spPr>
          <a:xfrm>
            <a:off x="2843280" y="170028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الجريمة الغامض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0"/>
          <p:cNvSpPr/>
          <p:nvPr/>
        </p:nvSpPr>
        <p:spPr>
          <a:xfrm>
            <a:off x="5869080" y="2941560"/>
            <a:ext cx="3024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ما هو اسم القاتل 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ما هي مهنة القاتل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متى وقعت الجريم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أين مكان الجريم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ما هو اسم المقتول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1"/>
          <p:cNvSpPr/>
          <p:nvPr/>
        </p:nvSpPr>
        <p:spPr>
          <a:xfrm>
            <a:off x="2195640" y="549360"/>
            <a:ext cx="574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استراح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2" descr=",,l"/>
          <p:cNvPicPr/>
          <p:nvPr/>
        </p:nvPicPr>
        <p:blipFill>
          <a:blip r:embed="rId1"/>
          <a:stretch/>
        </p:blipFill>
        <p:spPr>
          <a:xfrm>
            <a:off x="7596360" y="474840"/>
            <a:ext cx="1123920" cy="86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9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4"/>
          <p:cNvSpPr/>
          <p:nvPr/>
        </p:nvSpPr>
        <p:spPr>
          <a:xfrm>
            <a:off x="2195640" y="476280"/>
            <a:ext cx="574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طرق التواص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826920" y="1700280"/>
            <a:ext cx="7777440" cy="4321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أ . صلاح صالح معم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جوال /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05543594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فاكس /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0483919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ص . ب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0583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  المدينة المنورة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13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يميل /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Abo_Lyan@Hot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وق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www.memar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2195640" y="476280"/>
            <a:ext cx="574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مفهوم التفكير الابتكار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826920" y="1700280"/>
            <a:ext cx="7921800" cy="1512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   وقد يُعرّف التفكير الإبتكاري : بأنه الاستعداد والقدرة على إنتاج شيء جديد ، والذي يؤدي إلى التغيير نحو الأفضل ، وينفي الأفكار المسلمة المقبولة مسبقا 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755640" y="3789360"/>
            <a:ext cx="79930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ما جيلفورد يعرف التفكير الإبتكاري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بأنه تفكير في نسق مفتوح، يتميز الإنتاج فيه بخاصية فريدة تتمثل في تنوّع الإجابات المنتجة، التي لا تحدّدها المعلومات المعطاة .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شكل بيضاوي 4"/>
          <p:cNvSpPr/>
          <p:nvPr/>
        </p:nvSpPr>
        <p:spPr>
          <a:xfrm>
            <a:off x="571680" y="5429160"/>
            <a:ext cx="1571400" cy="1000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PT Bold Heading"/>
              </a:rPr>
              <a:t>الحلاق ووجود ال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2195640" y="476280"/>
            <a:ext cx="574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مدخل الى الابتكا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39640" y="1736640"/>
            <a:ext cx="828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  <a:cs typeface="PT Bold Heading"/>
              </a:rPr>
              <a:t>اسحاق نيوتن</a:t>
            </a:r>
            <a:r>
              <a:rPr b="1" lang="ar-SA" sz="2800" spc="-1" strike="noStrike">
                <a:solidFill>
                  <a:srgbClr val="808080"/>
                </a:solidFill>
                <a:latin typeface="Arial"/>
                <a:ea typeface="PT Bold Heading"/>
              </a:rPr>
              <a:t> :</a:t>
            </a:r>
            <a:r>
              <a:rPr b="1" lang="ar-SA" sz="3200" spc="-1" strike="noStrike">
                <a:solidFill>
                  <a:srgbClr val="808080"/>
                </a:solidFill>
                <a:latin typeface="Arial"/>
                <a:ea typeface="PT Bold Heading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كان دائماً من الراسبين في المدرسة إلا انه نجح في وضع نظرية الجاذبي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.</a:t>
            </a:r>
            <a:br>
              <a:rPr sz="3200"/>
            </a:br>
            <a:r>
              <a:rPr b="1" lang="ar-SA" sz="2800" spc="-1" strike="noStrike">
                <a:solidFill>
                  <a:srgbClr val="333399"/>
                </a:solidFill>
                <a:latin typeface="Arial"/>
                <a:cs typeface="PT Bold Heading"/>
              </a:rPr>
              <a:t>توماس اديسون</a:t>
            </a:r>
            <a:r>
              <a:rPr b="1" lang="ar-SA" sz="3200" spc="-1" strike="noStrike">
                <a:solidFill>
                  <a:srgbClr val="333399"/>
                </a:solidFill>
                <a:latin typeface="Arial"/>
                <a:ea typeface="PT Bold Heading"/>
              </a:rPr>
              <a:t> :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كانت كلمة أساتذته في وجهة دائماً انت غبي وعديم النفع إلا انه نجح في إنارة بيوتنا بالكهرباء .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  <a:cs typeface="PT Bold Heading"/>
              </a:rPr>
              <a:t>البرت آينشتاين</a:t>
            </a:r>
            <a:r>
              <a:rPr b="1" lang="ar-SA" sz="3200" spc="-1" strike="noStrike">
                <a:solidFill>
                  <a:srgbClr val="333399"/>
                </a:solidFill>
                <a:latin typeface="Arial"/>
                <a:ea typeface="PT Bold Heading"/>
              </a:rPr>
              <a:t> :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كان أهله يعتقدوا انه مجنون لحد التسع سنو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وكان يقطع في الكلام ولا يستطيع الاجابة على الاسئل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1003"/>
          <p:cNvPicPr/>
          <p:nvPr/>
        </p:nvPicPr>
        <p:blipFill>
          <a:blip r:embed="rId1"/>
          <a:stretch/>
        </p:blipFill>
        <p:spPr>
          <a:xfrm>
            <a:off x="7380360" y="115920"/>
            <a:ext cx="1841400" cy="2521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754200" y="4786200"/>
            <a:ext cx="8065800" cy="127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PT Simple Bold Ruled"/>
              </a:rPr>
              <a:t>* ان العبقرية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PT Simple Bold Ruled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PT Simple Bold Ruled"/>
              </a:rPr>
              <a:t>% موهبة و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PT Simple Bold Ruled"/>
              </a:rPr>
              <a:t>99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PT Simple Bold Ruled"/>
              </a:rPr>
              <a:t> % اجتهاد والتزام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  <a:ea typeface="PT Simple Bold Ruled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Simple Bold Ruled"/>
              </a:rPr>
              <a:t>” توماس اديسون ”</a:t>
            </a:r>
            <a:r>
              <a:rPr b="1" lang="ar-SA" sz="2400" spc="-1" strike="noStrike">
                <a:solidFill>
                  <a:srgbClr val="000066"/>
                </a:solidFill>
                <a:latin typeface="Arial"/>
                <a:ea typeface="Ramad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116000" y="3463920"/>
            <a:ext cx="7010280" cy="685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371600" y="3228840"/>
            <a:ext cx="64771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 algn="ctr" rtl="1">
              <a:lnSpc>
                <a:spcPct val="200000"/>
              </a:lnSpc>
              <a:spcBef>
                <a:spcPts val="1874"/>
              </a:spcBef>
              <a:spcAft>
                <a:spcPts val="1874"/>
              </a:spcAft>
              <a:tabLst>
                <a:tab algn="l" pos="0"/>
                <a:tab algn="l" pos="1476360"/>
                <a:tab algn="l" pos="2952720"/>
                <a:tab algn="l" pos="4429080"/>
                <a:tab algn="l" pos="5905440"/>
                <a:tab algn="l" pos="7381800"/>
                <a:tab algn="l" pos="8858160"/>
                <a:tab algn="l" pos="1033452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Arial"/>
                <a:cs typeface="PT Bold Heading"/>
              </a:rPr>
              <a:t>من أنا حتى أتطلع الى الابتكار ؟</a:t>
            </a:r>
            <a:r>
              <a:rPr b="1" lang="ar-SA" sz="30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000840" y="1943280"/>
            <a:ext cx="2603520" cy="838080"/>
          </a:xfrm>
          <a:prstGeom prst="bevel">
            <a:avLst>
              <a:gd name="adj" fmla="val 20833"/>
            </a:avLst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227640" y="2092320"/>
            <a:ext cx="22291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أنا ضعيف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755640" y="1943280"/>
            <a:ext cx="2603520" cy="838080"/>
          </a:xfrm>
          <a:prstGeom prst="bevel">
            <a:avLst>
              <a:gd name="adj" fmla="val 20833"/>
            </a:avLst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826920" y="2092320"/>
            <a:ext cx="22291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أنا عاجز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1090440" y="4221000"/>
            <a:ext cx="7010640" cy="936720"/>
          </a:xfrm>
          <a:prstGeom prst="bevel">
            <a:avLst>
              <a:gd name="adj" fmla="val 20833"/>
            </a:avLst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695600" y="4437000"/>
            <a:ext cx="554328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حظ سبب السعادة وأنا غير محظوظ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1162080" y="5300640"/>
            <a:ext cx="7010280" cy="1081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084320" y="5373720"/>
            <a:ext cx="7016760" cy="13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نت لا تغضب من نفسك عندما تطلق عليها تلك الأوصاف لكنك تغضب حين يطلقها عليك شخص آخر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doctor_thoughtful_lg_blk"/>
          <p:cNvPicPr/>
          <p:nvPr/>
        </p:nvPicPr>
        <p:blipFill>
          <a:blip r:embed="rId1"/>
          <a:stretch/>
        </p:blipFill>
        <p:spPr>
          <a:xfrm>
            <a:off x="3564000" y="1557360"/>
            <a:ext cx="2286000" cy="1800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4"/>
          <p:cNvSpPr/>
          <p:nvPr/>
        </p:nvSpPr>
        <p:spPr>
          <a:xfrm>
            <a:off x="1928880" y="476280"/>
            <a:ext cx="574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3300"/>
                </a:solidFill>
                <a:latin typeface="Arial"/>
                <a:cs typeface="PT Bold Heading"/>
              </a:rPr>
              <a:t>مدخل إلى الابتكا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3132000" y="1268280"/>
            <a:ext cx="31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3300"/>
                </a:solidFill>
                <a:latin typeface="Arial"/>
                <a:cs typeface="PT Bold Heading"/>
              </a:rPr>
              <a:t>تخلص من الأوه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شكل بيضاوي 14"/>
          <p:cNvSpPr/>
          <p:nvPr/>
        </p:nvSpPr>
        <p:spPr>
          <a:xfrm>
            <a:off x="7358040" y="357120"/>
            <a:ext cx="1571760" cy="1000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PT Bold Heading"/>
              </a:rPr>
              <a:t>الحص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PT Bold Heading"/>
              </a:rPr>
              <a:t>والبئ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1908000" y="571680"/>
            <a:ext cx="545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PT Bold Heading"/>
              </a:rPr>
              <a:t>نشاط لقياس الإبداع في الأشك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an47"/>
          <p:cNvPicPr/>
          <p:nvPr/>
        </p:nvPicPr>
        <p:blipFill>
          <a:blip r:embed="rId1"/>
          <a:stretch/>
        </p:blipFill>
        <p:spPr>
          <a:xfrm>
            <a:off x="7596360" y="260280"/>
            <a:ext cx="1218960" cy="108108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6"/>
          <p:cNvGrpSpPr/>
          <p:nvPr/>
        </p:nvGrpSpPr>
        <p:grpSpPr>
          <a:xfrm>
            <a:off x="1295280" y="1773360"/>
            <a:ext cx="7237440" cy="4392000"/>
            <a:chOff x="1295280" y="1773360"/>
            <a:chExt cx="7237440" cy="4392000"/>
          </a:xfrm>
        </p:grpSpPr>
        <p:sp>
          <p:nvSpPr>
            <p:cNvPr id="150" name="AutoShape 7"/>
            <p:cNvSpPr/>
            <p:nvPr/>
          </p:nvSpPr>
          <p:spPr>
            <a:xfrm>
              <a:off x="1295280" y="1827720"/>
              <a:ext cx="936720" cy="856080"/>
            </a:xfrm>
            <a:prstGeom prst="flowChartExtract">
              <a:avLst/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8"/>
            <p:cNvSpPr/>
            <p:nvPr/>
          </p:nvSpPr>
          <p:spPr>
            <a:xfrm>
              <a:off x="1295280" y="2898720"/>
              <a:ext cx="936720" cy="856080"/>
            </a:xfrm>
            <a:prstGeom prst="flowChartExtract">
              <a:avLst/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9"/>
            <p:cNvSpPr/>
            <p:nvPr/>
          </p:nvSpPr>
          <p:spPr>
            <a:xfrm>
              <a:off x="3657600" y="4077360"/>
              <a:ext cx="936720" cy="856080"/>
            </a:xfrm>
            <a:prstGeom prst="flowChartExtract">
              <a:avLst/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0"/>
            <p:cNvSpPr/>
            <p:nvPr/>
          </p:nvSpPr>
          <p:spPr>
            <a:xfrm>
              <a:off x="3733920" y="2952000"/>
              <a:ext cx="936360" cy="856080"/>
            </a:xfrm>
            <a:prstGeom prst="flowChartExtract">
              <a:avLst/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3733920" y="5201640"/>
              <a:ext cx="936360" cy="856080"/>
            </a:xfrm>
            <a:prstGeom prst="flowChartExtract">
              <a:avLst/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12"/>
            <p:cNvSpPr/>
            <p:nvPr/>
          </p:nvSpPr>
          <p:spPr>
            <a:xfrm>
              <a:off x="1295280" y="5201640"/>
              <a:ext cx="936720" cy="856080"/>
            </a:xfrm>
            <a:prstGeom prst="flowChartExtract">
              <a:avLst/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3"/>
            <p:cNvSpPr/>
            <p:nvPr/>
          </p:nvSpPr>
          <p:spPr>
            <a:xfrm>
              <a:off x="3657600" y="1773360"/>
              <a:ext cx="936720" cy="856080"/>
            </a:xfrm>
            <a:prstGeom prst="flowChartExtract">
              <a:avLst/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4"/>
            <p:cNvSpPr/>
            <p:nvPr/>
          </p:nvSpPr>
          <p:spPr>
            <a:xfrm>
              <a:off x="5796000" y="5256000"/>
              <a:ext cx="936720" cy="856080"/>
            </a:xfrm>
            <a:prstGeom prst="flowChartExtract">
              <a:avLst/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5"/>
            <p:cNvSpPr/>
            <p:nvPr/>
          </p:nvSpPr>
          <p:spPr>
            <a:xfrm>
              <a:off x="5796000" y="4077360"/>
              <a:ext cx="936720" cy="856080"/>
            </a:xfrm>
            <a:prstGeom prst="flowChartExtract">
              <a:avLst/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16"/>
            <p:cNvSpPr/>
            <p:nvPr/>
          </p:nvSpPr>
          <p:spPr>
            <a:xfrm>
              <a:off x="5724360" y="3006360"/>
              <a:ext cx="936720" cy="856080"/>
            </a:xfrm>
            <a:prstGeom prst="flowChartExtract">
              <a:avLst/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7"/>
            <p:cNvSpPr/>
            <p:nvPr/>
          </p:nvSpPr>
          <p:spPr>
            <a:xfrm>
              <a:off x="5651640" y="1827720"/>
              <a:ext cx="936360" cy="856080"/>
            </a:xfrm>
            <a:prstGeom prst="flowChartExtract">
              <a:avLst/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8"/>
            <p:cNvSpPr/>
            <p:nvPr/>
          </p:nvSpPr>
          <p:spPr>
            <a:xfrm>
              <a:off x="7596360" y="5309280"/>
              <a:ext cx="936360" cy="856080"/>
            </a:xfrm>
            <a:prstGeom prst="flowChartExtract">
              <a:avLst/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9"/>
            <p:cNvSpPr/>
            <p:nvPr/>
          </p:nvSpPr>
          <p:spPr>
            <a:xfrm>
              <a:off x="7596360" y="4183560"/>
              <a:ext cx="936360" cy="856080"/>
            </a:xfrm>
            <a:prstGeom prst="flowChartExtract">
              <a:avLst/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20"/>
            <p:cNvSpPr/>
            <p:nvPr/>
          </p:nvSpPr>
          <p:spPr>
            <a:xfrm>
              <a:off x="7524720" y="3059280"/>
              <a:ext cx="936720" cy="856080"/>
            </a:xfrm>
            <a:prstGeom prst="flowChartExtract">
              <a:avLst/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21"/>
            <p:cNvSpPr/>
            <p:nvPr/>
          </p:nvSpPr>
          <p:spPr>
            <a:xfrm>
              <a:off x="7543800" y="1872360"/>
              <a:ext cx="936720" cy="856080"/>
            </a:xfrm>
            <a:prstGeom prst="flowChartExtract">
              <a:avLst/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22"/>
            <p:cNvSpPr/>
            <p:nvPr/>
          </p:nvSpPr>
          <p:spPr>
            <a:xfrm>
              <a:off x="1295280" y="4023000"/>
              <a:ext cx="936720" cy="856080"/>
            </a:xfrm>
            <a:prstGeom prst="flowChartExtract">
              <a:avLst/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0"/>
          <p:cNvSpPr/>
          <p:nvPr/>
        </p:nvSpPr>
        <p:spPr>
          <a:xfrm>
            <a:off x="571680" y="3214800"/>
            <a:ext cx="82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. شكل من الحروف السابقة أكبر عدد ممكن من الكلمات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908000" y="571680"/>
            <a:ext cx="545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PT Bold Heading"/>
              </a:rPr>
              <a:t>نشاط لقياس الإبداع في الألفا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an47"/>
          <p:cNvPicPr/>
          <p:nvPr/>
        </p:nvPicPr>
        <p:blipFill>
          <a:blip r:embed="rId1"/>
          <a:stretch/>
        </p:blipFill>
        <p:spPr>
          <a:xfrm>
            <a:off x="7596360" y="260280"/>
            <a:ext cx="1218960" cy="10810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0"/>
          <p:cNvSpPr/>
          <p:nvPr/>
        </p:nvSpPr>
        <p:spPr>
          <a:xfrm>
            <a:off x="571680" y="4929120"/>
            <a:ext cx="814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ea typeface="PT Bold Heading"/>
              </a:rPr>
              <a:t>2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ea typeface="PT Bold Heading"/>
              </a:rPr>
              <a:t>. اذكر أكبر عدد من المأكولات تبدأ بحرف الميم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5880" y="1857240"/>
          <a:ext cx="7920000" cy="714600"/>
        </p:xfrm>
        <a:graphic>
          <a:graphicData uri="http://schemas.openxmlformats.org/drawingml/2006/table">
            <a:tbl>
              <a:tblPr/>
              <a:tblGrid>
                <a:gridCol w="650880"/>
                <a:gridCol w="714240"/>
                <a:gridCol w="650880"/>
                <a:gridCol w="655560"/>
                <a:gridCol w="657360"/>
                <a:gridCol w="654120"/>
                <a:gridCol w="655560"/>
                <a:gridCol w="658800"/>
                <a:gridCol w="650880"/>
                <a:gridCol w="657360"/>
                <a:gridCol w="658800"/>
                <a:gridCol w="65556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920" algn="r" rtl="1">
                        <a:spcAft>
                          <a:spcPts val="601"/>
                        </a:spcAft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و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920" algn="r" rtl="1">
                        <a:spcAft>
                          <a:spcPts val="601"/>
                        </a:spcAft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س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920" algn="r" rtl="1">
                        <a:spcAft>
                          <a:spcPts val="601"/>
                        </a:spcAft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ع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920" algn="r" rtl="1">
                        <a:spcAft>
                          <a:spcPts val="601"/>
                        </a:spcAft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ل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920" algn="r" rtl="1">
                        <a:spcAft>
                          <a:spcPts val="601"/>
                        </a:spcAft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ي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920" algn="r" rtl="1">
                        <a:spcAft>
                          <a:spcPts val="601"/>
                        </a:spcAft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م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920" algn="r" rtl="1">
                        <a:spcAft>
                          <a:spcPts val="601"/>
                        </a:spcAft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ق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920" algn="r" rtl="1">
                        <a:spcAft>
                          <a:spcPts val="601"/>
                        </a:spcAft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ف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920" algn="r" rtl="1">
                        <a:spcAft>
                          <a:spcPts val="601"/>
                        </a:spcAft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ر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920" algn="r" rtl="1">
                        <a:spcAft>
                          <a:spcPts val="601"/>
                        </a:spcAft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ن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920" algn="r" rtl="1">
                        <a:spcAft>
                          <a:spcPts val="601"/>
                        </a:spcAft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ب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920" algn="r" rtl="1">
                        <a:spcAft>
                          <a:spcPts val="601"/>
                        </a:spcAft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ح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0"/>
          <p:cNvSpPr/>
          <p:nvPr/>
        </p:nvSpPr>
        <p:spPr>
          <a:xfrm>
            <a:off x="857160" y="1643040"/>
            <a:ext cx="761688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اذكر عدد من الأفكار الإبداعية التي توفر لك الحصول على مبلغ مالي كبير لإقامة مشروع حياتك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Arial"/>
                <a:cs typeface="PT Bold Heading"/>
              </a:rPr>
              <a:t>أذكر أفكار إبداعية للحصول على موارد مالية للمشروع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908000" y="571680"/>
            <a:ext cx="545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PT Bold Heading"/>
              </a:rPr>
              <a:t>نشاط لقياس الإبداع في الأفك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an47"/>
          <p:cNvPicPr/>
          <p:nvPr/>
        </p:nvPicPr>
        <p:blipFill>
          <a:blip r:embed="rId1"/>
          <a:stretch/>
        </p:blipFill>
        <p:spPr>
          <a:xfrm>
            <a:off x="7596360" y="260280"/>
            <a:ext cx="12189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6:14:47Z</dcterms:created>
  <dc:creator>Vaio</dc:creator>
  <dc:description/>
  <dc:language>en-US</dc:language>
  <cp:lastModifiedBy>memar</cp:lastModifiedBy>
  <dcterms:modified xsi:type="dcterms:W3CDTF">2007-04-07T21:26:57Z</dcterms:modified>
  <cp:revision>81</cp:revision>
  <dc:subject/>
  <dc:title>الشريحة 1</dc:title>
</cp:coreProperties>
</file>