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20.wmf" ContentType="image/x-wmf"/>
  <Override PartName="/ppt/media/image4.png" ContentType="image/png"/>
  <Override PartName="/ppt/media/image19.gif" ContentType="image/gif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21.png" ContentType="image/png"/>
  <Override PartName="/ppt/media/image16.gif" ContentType="image/gif"/>
  <Override PartName="/ppt/media/image15.gif" ContentType="image/gif"/>
  <Override PartName="/ppt/media/image17.png" ContentType="image/png"/>
  <Override PartName="/ppt/media/image14.gif" ContentType="image/gi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907588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F30-170D-43DA-9BA2-20442671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56840" y="41324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665-9571-4B32-BB6F-4BD04D4F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6714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56840" y="41324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71440" y="41324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691-F43A-44FF-A46A-1D57D114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04080" y="19828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050960" y="19828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56840" y="41324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204080" y="41324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050960" y="41324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776-FA95-4FB1-875F-26D89F4D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5022-E24B-4B23-8F1B-1DE8CBC5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56840" y="19828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9F2B-93D8-420C-87A0-A9FB56CA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4354-71DD-4CDF-8366-4EE5EE07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71440" y="19828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FF83-C9CA-4957-83DE-BDEC0651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18B5-4458-4489-8F82-E6A81D68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56840" y="6109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D354-CA2A-4CCD-A961-CCB2A88E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71440" y="19828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56840" y="41324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878F-6AEF-4436-BB36-BDD7CB9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56840" y="19828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510-92E1-48C1-82BE-3C6CBCD7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714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71440" y="41324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DF30-9BA3-49EE-B028-A3C613FD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714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56840" y="41324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BF01-60A0-4AD5-8E84-7E1AF533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56840" y="41324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DD2B-814D-41EF-A17C-B8B9E1CE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714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56840" y="41324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71440" y="41324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9432-34BD-4E0C-9273-23AD1C44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04080" y="19828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050960" y="19828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56840" y="41324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204080" y="41324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7050960" y="41324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7822-1A88-40D2-90B2-638A1289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16F-8CC6-46B4-BD57-4BB1BA52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71440" y="19828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5CE-6486-40ED-AD37-FE902F8A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171-91DE-4C1E-8B09-B3C37437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56840" y="6109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B5C-EEF1-47FF-A32D-8125D387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1440" y="19828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56840" y="41324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743-A32D-4691-8759-368B402C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714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71440" y="41324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235-5D11-439A-80A5-288E89AD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568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71440" y="19828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56840" y="41324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B63-320D-4153-ABC8-901325FA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08760" y="-439920"/>
            <a:ext cx="2763720" cy="7721280"/>
            <a:chOff x="-608760" y="-439920"/>
            <a:chExt cx="2763720" cy="7721280"/>
          </a:xfrm>
        </p:grpSpPr>
        <p:sp>
          <p:nvSpPr>
            <p:cNvPr id="1" name=""/>
            <p:cNvSpPr/>
            <p:nvPr/>
          </p:nvSpPr>
          <p:spPr>
            <a:xfrm rot="2700000">
              <a:off x="-266040" y="-149400"/>
              <a:ext cx="1444320" cy="156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267840" y="-158040"/>
              <a:ext cx="1442880" cy="155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258840" y="-151920"/>
              <a:ext cx="1443600" cy="156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256680" y="-155520"/>
              <a:ext cx="1444680" cy="156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96480" y="240480"/>
              <a:ext cx="682200" cy="74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266040" y="1091520"/>
              <a:ext cx="1443600" cy="156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268920" y="1082880"/>
              <a:ext cx="1443600" cy="155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258840" y="1089000"/>
              <a:ext cx="1443600" cy="156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258120" y="1085760"/>
              <a:ext cx="1445760" cy="156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96480" y="1486800"/>
              <a:ext cx="682200" cy="74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266040" y="2342880"/>
              <a:ext cx="1443600" cy="156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266040" y="3598920"/>
              <a:ext cx="1443600" cy="156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268920" y="3590280"/>
              <a:ext cx="1443600" cy="155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258840" y="3596400"/>
              <a:ext cx="1443600" cy="156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258120" y="3593160"/>
              <a:ext cx="1445760" cy="156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96480" y="3989160"/>
              <a:ext cx="682200" cy="74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266040" y="4845600"/>
              <a:ext cx="1444320" cy="156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4480" y="496080"/>
              <a:ext cx="156132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5840" y="496080"/>
              <a:ext cx="1561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91960" y="496800"/>
              <a:ext cx="156132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9440" y="500400"/>
              <a:ext cx="1561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735840" y="885960"/>
              <a:ext cx="73692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5280" y="1737720"/>
              <a:ext cx="156060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5560" y="1738080"/>
              <a:ext cx="1560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302400" y="1738440"/>
              <a:ext cx="156132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94480" y="1742040"/>
              <a:ext cx="1561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735480" y="2127960"/>
              <a:ext cx="73692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268920" y="2334240"/>
              <a:ext cx="1443600" cy="155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258840" y="2340360"/>
              <a:ext cx="1443600" cy="156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253080" y="2337120"/>
              <a:ext cx="1445760" cy="156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96480" y="2738160"/>
              <a:ext cx="682200" cy="74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9960" y="2988720"/>
              <a:ext cx="156132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11400" y="2989440"/>
              <a:ext cx="1561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8160" y="2989800"/>
              <a:ext cx="155952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9520" y="2993400"/>
              <a:ext cx="1561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740880" y="3379320"/>
              <a:ext cx="73692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5280" y="4244760"/>
              <a:ext cx="156060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5560" y="4245120"/>
              <a:ext cx="1560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302400" y="4245480"/>
              <a:ext cx="156132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9520" y="4249080"/>
              <a:ext cx="1561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735480" y="4635000"/>
              <a:ext cx="73692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267840" y="4836960"/>
              <a:ext cx="1442880" cy="155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258840" y="4843080"/>
              <a:ext cx="1443600" cy="156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256680" y="4839480"/>
              <a:ext cx="1444680" cy="156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96480" y="5240520"/>
              <a:ext cx="682200" cy="74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5280" y="5491440"/>
              <a:ext cx="156060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6280" y="5491800"/>
              <a:ext cx="1560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302400" y="5492160"/>
              <a:ext cx="156132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94480" y="5495760"/>
              <a:ext cx="1561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735840" y="5881320"/>
              <a:ext cx="73692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6840" y="610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US" sz="46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56840" y="19828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4000"/>
          </a:bodyPr>
          <a:p>
            <a:pPr marL="338400" indent="-338400">
              <a:spcBef>
                <a:spcPts val="85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2600" indent="-283320">
              <a:spcBef>
                <a:spcPts val="850"/>
              </a:spcBef>
              <a:buClr>
                <a:srgbClr val="ff7c8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26440" indent="-225360">
              <a:spcBef>
                <a:spcPts val="850"/>
              </a:spcBef>
              <a:buClr>
                <a:srgbClr val="9933ff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75720" indent="-225360">
              <a:spcBef>
                <a:spcPts val="850"/>
              </a:spcBef>
              <a:buClr>
                <a:srgbClr val="ffffcc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lvl="4" marL="2024640" indent="-223560">
              <a:spcBef>
                <a:spcPts val="850"/>
              </a:spcBef>
              <a:buClr>
                <a:srgbClr val="ffffcc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lvl="5" marL="2024640" indent="-223560">
              <a:spcBef>
                <a:spcPts val="850"/>
              </a:spcBef>
              <a:buClr>
                <a:srgbClr val="ffffcc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lvl="6" marL="2024640" indent="-223560">
              <a:spcBef>
                <a:spcPts val="850"/>
              </a:spcBef>
              <a:buClr>
                <a:srgbClr val="ffffcc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356840" y="62467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lstStyle>
            <a:lvl1pPr indent="0" algn="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998880" y="62467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lstStyle>
            <a:lvl1pPr indent="0" algn="ct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713720" y="62467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lstStyle>
            <a:lvl1pPr indent="0" algn="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15ED093-0EB8-49FF-9D1A-6DD55F67CEB4}" type="slidenum">
              <a:rPr b="0" lang="en-US" sz="15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532960" y="-1658160"/>
            <a:ext cx="14764320" cy="14746320"/>
            <a:chOff x="-2532960" y="-1658160"/>
            <a:chExt cx="14764320" cy="14746320"/>
          </a:xfrm>
        </p:grpSpPr>
        <p:sp>
          <p:nvSpPr>
            <p:cNvPr id="93" name=""/>
            <p:cNvSpPr/>
            <p:nvPr/>
          </p:nvSpPr>
          <p:spPr>
            <a:xfrm rot="18900000">
              <a:off x="-581040" y="781200"/>
              <a:ext cx="1078092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590040" y="752400"/>
              <a:ext cx="10782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592560" y="736920"/>
              <a:ext cx="1077768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490320" y="696240"/>
              <a:ext cx="10782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141480" y="1178640"/>
              <a:ext cx="997344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49400" y="1150920"/>
              <a:ext cx="997128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129600" y="1122120"/>
              <a:ext cx="997272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-54360" y="1083960"/>
              <a:ext cx="997056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687040" y="3798000"/>
              <a:ext cx="441504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37684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US" sz="46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539280" y="1116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lstStyle>
            <a:lvl1pPr indent="0" algn="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384360" y="111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lstStyle>
            <a:lvl1pPr indent="0" algn="ct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7289280" y="1116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lstStyle>
            <a:lvl1pPr indent="0" algn="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E35E08E-EFBC-47C0-A225-73F631BF4351}" type="slidenum">
              <a:rPr b="0" lang="en-US" sz="15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9.gif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 flipH="1" rot="10800000">
            <a:off x="2112840" y="374040"/>
            <a:ext cx="4604040" cy="1522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867360" y="727200"/>
            <a:ext cx="12384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ff"/>
                </a:solidFill>
                <a:latin typeface="Simplified Arabic"/>
              </a:rPr>
              <a:t>مجلة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Simplified Arabic"/>
              <a:ea typeface="Simplified Arabic"/>
            </a:endParaRPr>
          </a:p>
        </p:txBody>
      </p:sp>
      <p:sp>
        <p:nvSpPr>
          <p:cNvPr id="144" name=""/>
          <p:cNvSpPr/>
          <p:nvPr/>
        </p:nvSpPr>
        <p:spPr>
          <a:xfrm rot="16204200">
            <a:off x="8738640" y="685440"/>
            <a:ext cx="22194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عدد السادس عشر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-889200" y="889560"/>
            <a:ext cx="221112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بريل  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2003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057400"/>
            <a:ext cx="9906120" cy="5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057040"/>
            <a:ext cx="75265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ترحـب بكـم في الـدورة التـدريبـية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057400" y="2590920"/>
            <a:ext cx="5562720" cy="426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05120" y="26668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ff0000"/>
                </a:solidFill>
                <a:latin typeface="Arial"/>
                <a:cs typeface="Simplified Arabic"/>
              </a:rPr>
              <a:t>من اتخاذ القرار الى صناعة القرار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124080" y="3257640"/>
            <a:ext cx="3276720" cy="2914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24080" y="3276720"/>
            <a:ext cx="3276720" cy="2895480"/>
          </a:xfrm>
          <a:prstGeom prst="rect">
            <a:avLst/>
          </a:prstGeom>
          <a:noFill/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6248520"/>
            <a:ext cx="3810240" cy="533160"/>
          </a:xfrm>
          <a:prstGeom prst="rect">
            <a:avLst/>
          </a:prstGeom>
          <a:solidFill>
            <a:srgbClr val="ff00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0" rIns="154800" tIns="77400" bIns="774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ar-SA" sz="4100" spc="-1" strike="noStrike">
                <a:solidFill>
                  <a:srgbClr val="ffffff"/>
                </a:solidFill>
                <a:latin typeface="Arial"/>
                <a:cs typeface="Simplified Arabic"/>
              </a:rPr>
              <a:t>د . عمـاد ملكاوي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2590920"/>
            <a:ext cx="5562720" cy="4267080"/>
          </a:xfrm>
          <a:prstGeom prst="rect">
            <a:avLst/>
          </a:prstGeom>
          <a:noFill/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666880" y="533520"/>
            <a:ext cx="4800600" cy="879480"/>
            <a:chOff x="2666880" y="533520"/>
            <a:chExt cx="4800600" cy="879480"/>
          </a:xfrm>
        </p:grpSpPr>
        <p:sp>
          <p:nvSpPr>
            <p:cNvPr id="259" name=""/>
            <p:cNvSpPr/>
            <p:nvPr/>
          </p:nvSpPr>
          <p:spPr>
            <a:xfrm>
              <a:off x="2666880" y="533520"/>
              <a:ext cx="4800600" cy="879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3d8fe"/>
                </a:gs>
              </a:gsLst>
              <a:lin ang="5400000"/>
            </a:gradFill>
            <a:ln w="101520">
              <a:solidFill>
                <a:srgbClr val="800080"/>
              </a:solidFill>
              <a:miter/>
            </a:ln>
            <a:effectLst>
              <a:outerShdw dist="107932" dir="189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19520" y="685800"/>
              <a:ext cx="4495680" cy="67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800" spc="-1" strike="noStrike">
                  <a:solidFill>
                    <a:srgbClr val="5f5f5f"/>
                  </a:solidFill>
                  <a:latin typeface="Simplified Arabic"/>
                  <a:cs typeface="Simplified Arabic"/>
                </a:rPr>
                <a:t>آليــة صنـع القـرار</a:t>
              </a:r>
              <a:endParaRPr b="0" lang="en-US" sz="3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8305920" y="1738440"/>
            <a:ext cx="1066680" cy="957600"/>
          </a:xfrm>
          <a:custGeom>
            <a:avLst/>
            <a:gdLst>
              <a:gd name="textAreaLeft" fmla="*/ 243360 w 1066680"/>
              <a:gd name="textAreaRight" fmla="*/ 823320 w 106668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9a9a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Times New Roman"/>
                <a:ea typeface="Simplified Arabic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1905120"/>
            <a:ext cx="4534200" cy="1191240"/>
          </a:xfrm>
          <a:prstGeom prst="rect">
            <a:avLst/>
          </a:prstGeom>
          <a:solidFill>
            <a:srgbClr val="5f5f5f"/>
          </a:solidFill>
          <a:ln w="0">
            <a:noFill/>
          </a:ln>
          <a:effectLst>
            <a:outerShdw dist="107932" dir="135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  <a:cs typeface="Simplified Arabic"/>
              </a:rPr>
              <a:t>ترجيـح البديل الأفضـل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352680"/>
            <a:ext cx="8001000" cy="535680"/>
          </a:xfrm>
          <a:prstGeom prst="rect">
            <a:avLst/>
          </a:prstGeom>
          <a:solidFill>
            <a:srgbClr val="990099"/>
          </a:solidFill>
          <a:ln w="12600">
            <a:solidFill>
              <a:srgbClr val="5f5f5f"/>
            </a:solidFill>
            <a:miter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cc"/>
                </a:solidFill>
                <a:latin typeface="Arial"/>
                <a:cs typeface="Simplified Arabic"/>
              </a:rPr>
              <a:t>اختيار أحد البدائل واستبعاد البدائل الأخرى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343400"/>
            <a:ext cx="8001000" cy="977400"/>
          </a:xfrm>
          <a:prstGeom prst="rect">
            <a:avLst/>
          </a:prstGeom>
          <a:solidFill>
            <a:srgbClr val="990099"/>
          </a:solidFill>
          <a:ln w="12600">
            <a:solidFill>
              <a:srgbClr val="5f5f5f"/>
            </a:solidFill>
            <a:miter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بديل المرجح يجب أن يصب مباشرة في الهـدف المنشـود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5334120"/>
            <a:ext cx="8001000" cy="977400"/>
          </a:xfrm>
          <a:prstGeom prst="rect">
            <a:avLst/>
          </a:prstGeom>
          <a:solidFill>
            <a:srgbClr val="990099"/>
          </a:solidFill>
          <a:ln w="12600">
            <a:solidFill>
              <a:srgbClr val="5f5f5f"/>
            </a:solidFill>
            <a:miter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cc"/>
                </a:solidFill>
                <a:latin typeface="Arial"/>
                <a:cs typeface="Simplified Arabic"/>
              </a:rPr>
              <a:t>ترجيح البديل الأفضل هي ما يسمى اتخاذ القرار وهو جزء من عملية صنع القـرار</a:t>
            </a:r>
            <a:r>
              <a:rPr b="1" lang="ar-SA" sz="29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2666880" y="533520"/>
            <a:ext cx="4800600" cy="879480"/>
            <a:chOff x="2666880" y="533520"/>
            <a:chExt cx="4800600" cy="879480"/>
          </a:xfrm>
        </p:grpSpPr>
        <p:sp>
          <p:nvSpPr>
            <p:cNvPr id="268" name=""/>
            <p:cNvSpPr/>
            <p:nvPr/>
          </p:nvSpPr>
          <p:spPr>
            <a:xfrm>
              <a:off x="2666880" y="533520"/>
              <a:ext cx="4800600" cy="879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3d8fe"/>
                </a:gs>
              </a:gsLst>
              <a:lin ang="5400000"/>
            </a:gradFill>
            <a:ln w="101520">
              <a:solidFill>
                <a:srgbClr val="800080"/>
              </a:solidFill>
              <a:miter/>
            </a:ln>
            <a:effectLst>
              <a:outerShdw dist="107932" dir="189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85800"/>
              <a:ext cx="4495680" cy="67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800" spc="-1" strike="noStrike">
                  <a:solidFill>
                    <a:srgbClr val="5f5f5f"/>
                  </a:solidFill>
                  <a:latin typeface="Simplified Arabic"/>
                  <a:cs typeface="Simplified Arabic"/>
                </a:rPr>
                <a:t>آليــة صنـع القـرار</a:t>
              </a:r>
              <a:endParaRPr b="0" lang="en-US" sz="3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305920" y="1738440"/>
            <a:ext cx="1066680" cy="957600"/>
          </a:xfrm>
          <a:custGeom>
            <a:avLst/>
            <a:gdLst>
              <a:gd name="textAreaLeft" fmla="*/ 243360 w 1066680"/>
              <a:gd name="textAreaRight" fmla="*/ 823320 w 106668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9a9a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Times New Roman"/>
                <a:ea typeface="Simplified Arabic"/>
              </a:rPr>
              <a:t>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81280" y="1905120"/>
            <a:ext cx="4534200" cy="642600"/>
          </a:xfrm>
          <a:prstGeom prst="rect">
            <a:avLst/>
          </a:prstGeom>
          <a:solidFill>
            <a:srgbClr val="5f5f5f"/>
          </a:solidFill>
          <a:ln w="0">
            <a:noFill/>
          </a:ln>
          <a:effectLst>
            <a:outerShdw dist="107932" dir="135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  <a:cs typeface="Simplified Arabic"/>
              </a:rPr>
              <a:t>وضـع آليـة التنفيـ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960" y="3733920"/>
            <a:ext cx="853452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aae8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كثير من القرارات الجيـدة فشلت بسبب عدم وجود آلية مناسبة للتنفي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2895480"/>
            <a:ext cx="85341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aae8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آلية التنفيذ جزء من القرار و بدونها يكون القرار مجرد نية طيب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4481640"/>
            <a:ext cx="3543480" cy="473040"/>
          </a:xfrm>
          <a:prstGeom prst="rect">
            <a:avLst/>
          </a:prstGeom>
          <a:solidFill>
            <a:srgbClr val="990099"/>
          </a:solidFill>
          <a:ln w="0">
            <a:noFill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cc"/>
                </a:solidFill>
                <a:latin typeface="Arial"/>
                <a:cs typeface="Simplified Arabic"/>
              </a:rPr>
              <a:t>آلية التنفيذ تتضمن</a:t>
            </a:r>
            <a:r>
              <a:rPr b="1" lang="ar-SA" sz="27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24560" y="5257800"/>
            <a:ext cx="3543120" cy="869040"/>
          </a:xfrm>
          <a:prstGeom prst="rect">
            <a:avLst/>
          </a:prstGeom>
          <a:solidFill>
            <a:srgbClr val="5f5f5f"/>
          </a:solidFill>
          <a:ln w="9360">
            <a:solidFill>
              <a:srgbClr val="990099"/>
            </a:solidFill>
            <a:miter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أقسام المعنية وأدوارها</a:t>
            </a:r>
            <a:r>
              <a:rPr b="1" lang="ar-SA" sz="27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5257800"/>
            <a:ext cx="3543480" cy="853560"/>
          </a:xfrm>
          <a:prstGeom prst="rect">
            <a:avLst/>
          </a:prstGeom>
          <a:solidFill>
            <a:srgbClr val="5f5f5f"/>
          </a:solidFill>
          <a:ln w="9360">
            <a:solidFill>
              <a:srgbClr val="990099"/>
            </a:solidFill>
            <a:miter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أشخاص المعنيون وأدوارهم</a:t>
            </a:r>
            <a:r>
              <a:rPr b="1" lang="ar-SA" sz="2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24560" y="6005520"/>
            <a:ext cx="3543120" cy="853560"/>
          </a:xfrm>
          <a:prstGeom prst="rect">
            <a:avLst/>
          </a:prstGeom>
          <a:solidFill>
            <a:srgbClr val="5f5f5f"/>
          </a:solidFill>
          <a:ln w="9360">
            <a:solidFill>
              <a:srgbClr val="990099"/>
            </a:solidFill>
            <a:miter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برنامج الزمني للتنفيذ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6005520"/>
            <a:ext cx="3543480" cy="853560"/>
          </a:xfrm>
          <a:prstGeom prst="rect">
            <a:avLst/>
          </a:prstGeom>
          <a:solidFill>
            <a:srgbClr val="5f5f5f"/>
          </a:solidFill>
          <a:ln w="9360">
            <a:solidFill>
              <a:srgbClr val="990099"/>
            </a:solidFill>
            <a:miter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وسائل اللازمة للتنفيذ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666880" y="457200"/>
            <a:ext cx="4800600" cy="879480"/>
            <a:chOff x="2666880" y="457200"/>
            <a:chExt cx="4800600" cy="879480"/>
          </a:xfrm>
        </p:grpSpPr>
        <p:sp>
          <p:nvSpPr>
            <p:cNvPr id="281" name=""/>
            <p:cNvSpPr/>
            <p:nvPr/>
          </p:nvSpPr>
          <p:spPr>
            <a:xfrm>
              <a:off x="2666880" y="457200"/>
              <a:ext cx="4800600" cy="879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3d8fe"/>
                </a:gs>
              </a:gsLst>
              <a:lin ang="5400000"/>
            </a:gradFill>
            <a:ln w="101520">
              <a:solidFill>
                <a:srgbClr val="800080"/>
              </a:solidFill>
              <a:miter/>
            </a:ln>
            <a:effectLst>
              <a:outerShdw dist="107932" dir="189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19520" y="609480"/>
              <a:ext cx="4495680" cy="67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800" spc="-1" strike="noStrike">
                  <a:solidFill>
                    <a:srgbClr val="5f5f5f"/>
                  </a:solidFill>
                  <a:latin typeface="Simplified Arabic"/>
                  <a:cs typeface="Simplified Arabic"/>
                </a:rPr>
                <a:t>آليــة صنـع القـرار</a:t>
              </a:r>
              <a:endParaRPr b="0" lang="en-US" sz="3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05920" y="1724040"/>
            <a:ext cx="1066680" cy="957600"/>
          </a:xfrm>
          <a:custGeom>
            <a:avLst/>
            <a:gdLst>
              <a:gd name="textAreaLeft" fmla="*/ 243360 w 1066680"/>
              <a:gd name="textAreaRight" fmla="*/ 823320 w 106668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9a9a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Times New Roman"/>
                <a:ea typeface="Simplified Arabic"/>
              </a:rPr>
              <a:t>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1905120"/>
            <a:ext cx="4534200" cy="642600"/>
          </a:xfrm>
          <a:prstGeom prst="rect">
            <a:avLst/>
          </a:prstGeom>
          <a:solidFill>
            <a:srgbClr val="5f5f5f"/>
          </a:solidFill>
          <a:ln w="0">
            <a:noFill/>
          </a:ln>
          <a:effectLst>
            <a:outerShdw dist="107932" dir="135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متــابعة والتصحيح</a:t>
            </a:r>
            <a:r>
              <a:rPr b="1" lang="ar-SA" sz="3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2335680"/>
            <a:ext cx="9448920" cy="2837520"/>
          </a:xfrm>
          <a:prstGeom prst="flowChartDecision">
            <a:avLst/>
          </a:prstGeom>
          <a:solidFill>
            <a:srgbClr val="5f5f5f"/>
          </a:solidFill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قرار يحتاج الى متابعة أثناء التنفيذ وقد يحتاج الى تعديل وتطوير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4876920"/>
            <a:ext cx="9448560" cy="1828800"/>
          </a:xfrm>
          <a:prstGeom prst="flowChartDecision">
            <a:avLst/>
          </a:prstGeom>
          <a:solidFill>
            <a:srgbClr val="5f5f5f"/>
          </a:solidFill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9040" y="5486400"/>
            <a:ext cx="9609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لا مانع من إلغاء القرار إذا تبين من المتـابعة أنه خطأ</a:t>
            </a:r>
            <a:r>
              <a:rPr b="1" lang="ar-SA" sz="29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895480" y="3808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335480" y="5316480"/>
            <a:ext cx="1989000" cy="14652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1981080" y="-25920"/>
            <a:ext cx="6553080" cy="1404360"/>
            <a:chOff x="1981080" y="-25920"/>
            <a:chExt cx="6553080" cy="1404360"/>
          </a:xfrm>
        </p:grpSpPr>
        <p:sp>
          <p:nvSpPr>
            <p:cNvPr id="291" name=""/>
            <p:cNvSpPr/>
            <p:nvPr/>
          </p:nvSpPr>
          <p:spPr>
            <a:xfrm>
              <a:off x="1981080" y="228600"/>
              <a:ext cx="6553080" cy="82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35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9320" y="-25920"/>
              <a:ext cx="4946760" cy="140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63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41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مواصفات القرار الفعال</a:t>
              </a:r>
              <a:endParaRPr b="0" lang="en-US" sz="4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5280" y="1731240"/>
            <a:ext cx="9655200" cy="693360"/>
          </a:xfrm>
          <a:prstGeom prst="verticalScroll">
            <a:avLst>
              <a:gd name="adj" fmla="val 12500"/>
            </a:avLst>
          </a:prstGeom>
          <a:solidFill>
            <a:srgbClr val="747474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cc"/>
                </a:solidFill>
                <a:latin typeface="Arial"/>
                <a:ea typeface="Simplified Arabic"/>
              </a:rPr>
              <a:t>1- </a:t>
            </a:r>
            <a:r>
              <a:rPr b="1" lang="ar-SA" sz="28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تركيز على ما هو صحيح لا على ما هو مقبو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3440" y="2874240"/>
            <a:ext cx="9642600" cy="693360"/>
          </a:xfrm>
          <a:prstGeom prst="verticalScroll">
            <a:avLst>
              <a:gd name="adj" fmla="val 12500"/>
            </a:avLst>
          </a:prstGeom>
          <a:solidFill>
            <a:srgbClr val="747474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cc"/>
                </a:solidFill>
                <a:latin typeface="Arial"/>
                <a:ea typeface="Simplified Arabic"/>
              </a:rPr>
              <a:t>2- </a:t>
            </a:r>
            <a:r>
              <a:rPr b="1" lang="ar-SA" sz="2800" spc="-1" strike="noStrike">
                <a:solidFill>
                  <a:srgbClr val="ffffcc"/>
                </a:solidFill>
                <a:latin typeface="Arial"/>
                <a:cs typeface="Simplified Arabic"/>
              </a:rPr>
              <a:t>عدم تفضيل الحل الوسط على حساب الحل الصحي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3600" y="3713400"/>
            <a:ext cx="9782280" cy="1830960"/>
          </a:xfrm>
          <a:prstGeom prst="verticalScroll">
            <a:avLst>
              <a:gd name="adj" fmla="val 12500"/>
            </a:avLst>
          </a:prstGeom>
          <a:solidFill>
            <a:srgbClr val="747474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Arial"/>
                <a:ea typeface="Simplified Arabic"/>
              </a:rPr>
              <a:t>3- </a:t>
            </a:r>
            <a:r>
              <a:rPr b="1" lang="ar-SA" sz="2800" spc="-1" strike="noStrike">
                <a:solidFill>
                  <a:srgbClr val="ffffcc"/>
                </a:solidFill>
                <a:latin typeface="Arial"/>
                <a:cs typeface="Simplified Arabic"/>
              </a:rPr>
              <a:t>لا يوجد قرار صحيح لكل الظروف وإنما يكون القرار فعالاً ضمن ظروف     محددة</a:t>
            </a:r>
            <a:r>
              <a:rPr b="1" lang="ar-SA" sz="2800" spc="-1" strike="noStrike">
                <a:solidFill>
                  <a:srgbClr val="ffffcc"/>
                </a:solidFill>
                <a:latin typeface="Arial"/>
                <a:ea typeface="Simplified Arabic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1523880" y="146160"/>
            <a:ext cx="6934320" cy="1301760"/>
            <a:chOff x="1523880" y="146160"/>
            <a:chExt cx="6934320" cy="1301760"/>
          </a:xfrm>
        </p:grpSpPr>
        <p:sp>
          <p:nvSpPr>
            <p:cNvPr id="298" name=""/>
            <p:cNvSpPr/>
            <p:nvPr/>
          </p:nvSpPr>
          <p:spPr>
            <a:xfrm>
              <a:off x="1523880" y="152280"/>
              <a:ext cx="6934320" cy="1295640"/>
            </a:xfrm>
            <a:custGeom>
              <a:avLst/>
              <a:gdLst>
                <a:gd name="textAreaLeft" fmla="*/ 1013760 w 6934320"/>
                <a:gd name="textAreaRight" fmla="*/ 5920560 w 6934320"/>
                <a:gd name="textAreaTop" fmla="*/ 0 h 1295640"/>
                <a:gd name="textAreaBottom" fmla="*/ 864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20700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4400"/>
                  </a:lnTo>
                  <a:lnTo>
                    <a:pt x="0" y="7200"/>
                  </a:lnTo>
                  <a:lnTo>
                    <a:pt x="3158" y="7200"/>
                  </a:lnTo>
                  <a:lnTo>
                    <a:pt x="3158" y="1800"/>
                  </a:lnTo>
                  <a:cubicBezTo>
                    <a:pt x="3158" y="900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900"/>
                    <a:pt x="18442" y="1800"/>
                  </a:cubicBezTo>
                  <a:lnTo>
                    <a:pt x="18442" y="7200"/>
                  </a:lnTo>
                  <a:lnTo>
                    <a:pt x="21600" y="7200"/>
                  </a:lnTo>
                  <a:lnTo>
                    <a:pt x="18850" y="14400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0700"/>
                    <a:pt x="15742" y="19800"/>
                  </a:cubicBezTo>
                  <a:lnTo>
                    <a:pt x="15742" y="14400"/>
                  </a:lnTo>
                  <a:close/>
                </a:path>
                <a:path fill="darkenLess"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18900"/>
                    <a:pt x="5438" y="18000"/>
                    <a:pt x="5018" y="18000"/>
                  </a:cubicBezTo>
                  <a:lnTo>
                    <a:pt x="3998" y="18000"/>
                  </a:lnTo>
                  <a:cubicBezTo>
                    <a:pt x="3578" y="18000"/>
                    <a:pt x="3158" y="17100"/>
                    <a:pt x="3158" y="16200"/>
                  </a:cubicBezTo>
                  <a:cubicBezTo>
                    <a:pt x="3158" y="15300"/>
                    <a:pt x="3578" y="14400"/>
                    <a:pt x="3998" y="14400"/>
                  </a:cubicBezTo>
                  <a:close/>
                </a:path>
                <a:path fill="darkenLess" w="21600" h="21600">
                  <a:moveTo>
                    <a:pt x="15742" y="14400"/>
                  </a:moveTo>
                  <a:lnTo>
                    <a:pt x="15742" y="19800"/>
                  </a:lnTo>
                  <a:cubicBezTo>
                    <a:pt x="15742" y="18900"/>
                    <a:pt x="16162" y="18000"/>
                    <a:pt x="16582" y="18000"/>
                  </a:cubicBezTo>
                  <a:lnTo>
                    <a:pt x="17602" y="18000"/>
                  </a:lnTo>
                  <a:cubicBezTo>
                    <a:pt x="18022" y="18000"/>
                    <a:pt x="18442" y="17100"/>
                    <a:pt x="18442" y="16200"/>
                  </a:cubicBezTo>
                  <a:cubicBezTo>
                    <a:pt x="18442" y="15300"/>
                    <a:pt x="18022" y="14400"/>
                    <a:pt x="17602" y="14400"/>
                  </a:cubicBezTo>
                  <a:close/>
                </a:path>
                <a:path fill="darkenLess" w="21600" h="21600">
                  <a:moveTo>
                    <a:pt x="3158" y="16200"/>
                  </a:moveTo>
                  <a:lnTo>
                    <a:pt x="3158" y="7200"/>
                  </a:lnTo>
                </a:path>
                <a:path fill="darkenLess" w="21600" h="21600">
                  <a:moveTo>
                    <a:pt x="18442" y="16200"/>
                  </a:moveTo>
                  <a:lnTo>
                    <a:pt x="18442" y="720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7880" y="146160"/>
              <a:ext cx="4491000" cy="996840"/>
            </a:xfrm>
            <a:prstGeom prst="wedgeRoundRectCallout">
              <a:avLst>
                <a:gd name="adj1" fmla="val -5759"/>
                <a:gd name="adj2" fmla="val 78384"/>
                <a:gd name="adj3" fmla="val 16667"/>
              </a:avLst>
            </a:prstGeom>
            <a:noFill/>
            <a:ln w="0">
              <a:noFill/>
            </a:ln>
            <a:effectLst>
              <a:outerShdw dist="153753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63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41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أدوات صناعة القرار</a:t>
              </a:r>
              <a:endParaRPr b="0" lang="en-US" sz="4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019920" y="2118960"/>
            <a:ext cx="3352680" cy="1130040"/>
            <a:chOff x="6019920" y="2118960"/>
            <a:chExt cx="3352680" cy="1130040"/>
          </a:xfrm>
        </p:grpSpPr>
        <p:sp>
          <p:nvSpPr>
            <p:cNvPr id="301" name=""/>
            <p:cNvSpPr/>
            <p:nvPr/>
          </p:nvSpPr>
          <p:spPr>
            <a:xfrm>
              <a:off x="6019920" y="2362320"/>
              <a:ext cx="3352680" cy="6490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15280" y="2118960"/>
              <a:ext cx="27050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3200" spc="-1" strike="noStrike">
                  <a:solidFill>
                    <a:srgbClr val="ffffcc"/>
                  </a:solidFill>
                  <a:latin typeface="Arial"/>
                  <a:ea typeface="Simplified Arabic"/>
                </a:rPr>
                <a:t>1- </a:t>
              </a:r>
              <a:r>
                <a:rPr b="1" lang="ar-SA" sz="32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المعلومات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990720" y="2362320"/>
            <a:ext cx="3352680" cy="649080"/>
            <a:chOff x="990720" y="2362320"/>
            <a:chExt cx="3352680" cy="649080"/>
          </a:xfrm>
        </p:grpSpPr>
        <p:sp>
          <p:nvSpPr>
            <p:cNvPr id="304" name=""/>
            <p:cNvSpPr/>
            <p:nvPr/>
          </p:nvSpPr>
          <p:spPr>
            <a:xfrm>
              <a:off x="990720" y="2362320"/>
              <a:ext cx="3352680" cy="6490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95280" y="2362320"/>
              <a:ext cx="270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3200" spc="-1" strike="noStrike">
                  <a:solidFill>
                    <a:srgbClr val="ffffcc"/>
                  </a:solidFill>
                  <a:latin typeface="Arial"/>
                  <a:ea typeface="Simplified Arabic"/>
                </a:rPr>
                <a:t>2- </a:t>
              </a:r>
              <a:r>
                <a:rPr b="1" lang="ar-SA" sz="32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المعايير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019920" y="3886200"/>
            <a:ext cx="3390840" cy="685440"/>
            <a:chOff x="6019920" y="3886200"/>
            <a:chExt cx="3390840" cy="685440"/>
          </a:xfrm>
        </p:grpSpPr>
        <p:sp>
          <p:nvSpPr>
            <p:cNvPr id="307" name=""/>
            <p:cNvSpPr/>
            <p:nvPr/>
          </p:nvSpPr>
          <p:spPr>
            <a:xfrm>
              <a:off x="6019920" y="3886200"/>
              <a:ext cx="3352680" cy="649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05720" y="3929040"/>
              <a:ext cx="270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3200" spc="-1" strike="noStrike">
                  <a:solidFill>
                    <a:srgbClr val="ffffcc"/>
                  </a:solidFill>
                  <a:latin typeface="Arial"/>
                  <a:ea typeface="Simplified Arabic"/>
                </a:rPr>
                <a:t>3- </a:t>
              </a:r>
              <a:r>
                <a:rPr b="1" lang="ar-SA" sz="32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الخبرة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90720" y="3642840"/>
            <a:ext cx="3352680" cy="1130040"/>
            <a:chOff x="990720" y="3642840"/>
            <a:chExt cx="3352680" cy="1130040"/>
          </a:xfrm>
        </p:grpSpPr>
        <p:sp>
          <p:nvSpPr>
            <p:cNvPr id="310" name=""/>
            <p:cNvSpPr/>
            <p:nvPr/>
          </p:nvSpPr>
          <p:spPr>
            <a:xfrm>
              <a:off x="990720" y="3886200"/>
              <a:ext cx="3352680" cy="588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33440" y="3642840"/>
              <a:ext cx="27050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3200" spc="-1" strike="noStrike">
                  <a:solidFill>
                    <a:srgbClr val="ffffcc"/>
                  </a:solidFill>
                  <a:latin typeface="Arial"/>
                  <a:ea typeface="Simplified Arabic"/>
                </a:rPr>
                <a:t>4- </a:t>
              </a:r>
              <a:r>
                <a:rPr b="1" lang="ar-SA" sz="32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المسؤولية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352680" y="5243040"/>
            <a:ext cx="3353040" cy="1130040"/>
            <a:chOff x="3352680" y="5243040"/>
            <a:chExt cx="3353040" cy="1130040"/>
          </a:xfrm>
        </p:grpSpPr>
        <p:sp>
          <p:nvSpPr>
            <p:cNvPr id="313" name=""/>
            <p:cNvSpPr/>
            <p:nvPr/>
          </p:nvSpPr>
          <p:spPr>
            <a:xfrm>
              <a:off x="3352680" y="5486400"/>
              <a:ext cx="3353040" cy="649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98840" y="5243040"/>
              <a:ext cx="31719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3200" spc="-1" strike="noStrike">
                  <a:solidFill>
                    <a:srgbClr val="ffffcc"/>
                  </a:solidFill>
                  <a:latin typeface="Arial"/>
                  <a:ea typeface="Simplified Arabic"/>
                </a:rPr>
                <a:t>5- </a:t>
              </a:r>
              <a:r>
                <a:rPr b="1" lang="ar-SA" sz="32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نظم دعم القرار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3276720" y="1661760"/>
            <a:ext cx="3352680" cy="1130040"/>
            <a:chOff x="3276720" y="1661760"/>
            <a:chExt cx="3352680" cy="1130040"/>
          </a:xfrm>
        </p:grpSpPr>
        <p:sp>
          <p:nvSpPr>
            <p:cNvPr id="317" name=""/>
            <p:cNvSpPr/>
            <p:nvPr/>
          </p:nvSpPr>
          <p:spPr>
            <a:xfrm>
              <a:off x="3276720" y="1905120"/>
              <a:ext cx="3352680" cy="6490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72080" y="1661760"/>
              <a:ext cx="27050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ea typeface="Simplified Arabic"/>
                </a:rPr>
                <a:t> </a:t>
              </a: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ea typeface="Simplified Arabic"/>
                </a:rPr>
                <a:t>1 -  </a:t>
              </a: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cs typeface="Simplified Arabic"/>
                </a:rPr>
                <a:t>المعلومات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23880" y="146160"/>
            <a:ext cx="6934320" cy="1301760"/>
            <a:chOff x="1523880" y="146160"/>
            <a:chExt cx="6934320" cy="1301760"/>
          </a:xfrm>
        </p:grpSpPr>
        <p:sp>
          <p:nvSpPr>
            <p:cNvPr id="320" name=""/>
            <p:cNvSpPr/>
            <p:nvPr/>
          </p:nvSpPr>
          <p:spPr>
            <a:xfrm>
              <a:off x="1523880" y="152280"/>
              <a:ext cx="6934320" cy="1295640"/>
            </a:xfrm>
            <a:custGeom>
              <a:avLst/>
              <a:gdLst>
                <a:gd name="textAreaLeft" fmla="*/ 1013760 w 6934320"/>
                <a:gd name="textAreaRight" fmla="*/ 5920560 w 6934320"/>
                <a:gd name="textAreaTop" fmla="*/ 0 h 1295640"/>
                <a:gd name="textAreaBottom" fmla="*/ 864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20700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4400"/>
                  </a:lnTo>
                  <a:lnTo>
                    <a:pt x="0" y="7200"/>
                  </a:lnTo>
                  <a:lnTo>
                    <a:pt x="3158" y="7200"/>
                  </a:lnTo>
                  <a:lnTo>
                    <a:pt x="3158" y="1800"/>
                  </a:lnTo>
                  <a:cubicBezTo>
                    <a:pt x="3158" y="900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900"/>
                    <a:pt x="18442" y="1800"/>
                  </a:cubicBezTo>
                  <a:lnTo>
                    <a:pt x="18442" y="7200"/>
                  </a:lnTo>
                  <a:lnTo>
                    <a:pt x="21600" y="7200"/>
                  </a:lnTo>
                  <a:lnTo>
                    <a:pt x="18850" y="14400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0700"/>
                    <a:pt x="15742" y="19800"/>
                  </a:cubicBezTo>
                  <a:lnTo>
                    <a:pt x="15742" y="14400"/>
                  </a:lnTo>
                  <a:close/>
                </a:path>
                <a:path fill="darkenLess"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18900"/>
                    <a:pt x="5438" y="18000"/>
                    <a:pt x="5018" y="18000"/>
                  </a:cubicBezTo>
                  <a:lnTo>
                    <a:pt x="3998" y="18000"/>
                  </a:lnTo>
                  <a:cubicBezTo>
                    <a:pt x="3578" y="18000"/>
                    <a:pt x="3158" y="17100"/>
                    <a:pt x="3158" y="16200"/>
                  </a:cubicBezTo>
                  <a:cubicBezTo>
                    <a:pt x="3158" y="15300"/>
                    <a:pt x="3578" y="14400"/>
                    <a:pt x="3998" y="14400"/>
                  </a:cubicBezTo>
                  <a:close/>
                </a:path>
                <a:path fill="darkenLess" w="21600" h="21600">
                  <a:moveTo>
                    <a:pt x="15742" y="14400"/>
                  </a:moveTo>
                  <a:lnTo>
                    <a:pt x="15742" y="19800"/>
                  </a:lnTo>
                  <a:cubicBezTo>
                    <a:pt x="15742" y="18900"/>
                    <a:pt x="16162" y="18000"/>
                    <a:pt x="16582" y="18000"/>
                  </a:cubicBezTo>
                  <a:lnTo>
                    <a:pt x="17602" y="18000"/>
                  </a:lnTo>
                  <a:cubicBezTo>
                    <a:pt x="18022" y="18000"/>
                    <a:pt x="18442" y="17100"/>
                    <a:pt x="18442" y="16200"/>
                  </a:cubicBezTo>
                  <a:cubicBezTo>
                    <a:pt x="18442" y="15300"/>
                    <a:pt x="18022" y="14400"/>
                    <a:pt x="17602" y="14400"/>
                  </a:cubicBezTo>
                  <a:close/>
                </a:path>
                <a:path fill="darkenLess" w="21600" h="21600">
                  <a:moveTo>
                    <a:pt x="3158" y="16200"/>
                  </a:moveTo>
                  <a:lnTo>
                    <a:pt x="3158" y="7200"/>
                  </a:lnTo>
                </a:path>
                <a:path fill="darkenLess" w="21600" h="21600">
                  <a:moveTo>
                    <a:pt x="18442" y="16200"/>
                  </a:moveTo>
                  <a:lnTo>
                    <a:pt x="18442" y="720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47880" y="146160"/>
              <a:ext cx="4491000" cy="996840"/>
            </a:xfrm>
            <a:prstGeom prst="wedgeRoundRectCallout">
              <a:avLst>
                <a:gd name="adj1" fmla="val -5759"/>
                <a:gd name="adj2" fmla="val 78384"/>
                <a:gd name="adj3" fmla="val 16667"/>
              </a:avLst>
            </a:prstGeom>
            <a:noFill/>
            <a:ln w="0">
              <a:noFill/>
            </a:ln>
            <a:effectLst>
              <a:outerShdw dist="153753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100" spc="-1" strike="noStrike">
                  <a:solidFill>
                    <a:srgbClr val="000000"/>
                  </a:solidFill>
                  <a:latin typeface="Simplified Arabic"/>
                  <a:cs typeface="Simplified Arabic"/>
                </a:rPr>
                <a:t>أدوات صناعة القرار</a:t>
              </a:r>
              <a:endParaRPr b="0" lang="en-US" sz="4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809880" y="3286080"/>
            <a:ext cx="2362320" cy="5893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 rtl="1">
              <a:spcBef>
                <a:spcPts val="2188"/>
              </a:spcBef>
              <a:tabLst>
                <a:tab algn="l" pos="0"/>
                <a:tab algn="l" pos="557280"/>
                <a:tab algn="l" pos="1114560"/>
                <a:tab algn="l" pos="1671480"/>
                <a:tab algn="l" pos="2228760"/>
                <a:tab algn="l" pos="2786040"/>
                <a:tab algn="l" pos="3343320"/>
                <a:tab algn="l" pos="3900600"/>
                <a:tab algn="l" pos="4457880"/>
                <a:tab algn="l" pos="5014800"/>
                <a:tab algn="l" pos="5572080"/>
                <a:tab algn="l" pos="6129360"/>
                <a:tab algn="l" pos="6686640"/>
                <a:tab algn="l" pos="7243920"/>
                <a:tab algn="l" pos="7800840"/>
                <a:tab algn="l" pos="8358120"/>
                <a:tab algn="l" pos="8915400"/>
                <a:tab algn="l" pos="9472680"/>
                <a:tab algn="l" pos="10029960"/>
                <a:tab algn="l" pos="10586880"/>
              </a:tabLst>
            </a:pPr>
            <a:r>
              <a:rPr b="1" lang="ar-SA" sz="35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ارير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3276720"/>
            <a:ext cx="2361960" cy="5893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 rtl="1">
              <a:spcBef>
                <a:spcPts val="2188"/>
              </a:spcBef>
              <a:tabLst>
                <a:tab algn="l" pos="0"/>
                <a:tab algn="l" pos="557280"/>
                <a:tab algn="l" pos="1114560"/>
                <a:tab algn="l" pos="1671480"/>
                <a:tab algn="l" pos="2228760"/>
                <a:tab algn="l" pos="2786040"/>
                <a:tab algn="l" pos="3343320"/>
                <a:tab algn="l" pos="3900600"/>
                <a:tab algn="l" pos="4457880"/>
                <a:tab algn="l" pos="5014800"/>
                <a:tab algn="l" pos="5572080"/>
                <a:tab algn="l" pos="6129360"/>
                <a:tab algn="l" pos="6686640"/>
                <a:tab algn="l" pos="7243920"/>
                <a:tab algn="l" pos="7800840"/>
                <a:tab algn="l" pos="8358120"/>
                <a:tab algn="l" pos="8915400"/>
                <a:tab algn="l" pos="9472680"/>
                <a:tab algn="l" pos="10029960"/>
                <a:tab algn="l" pos="10586880"/>
              </a:tabLst>
            </a:pPr>
            <a:r>
              <a:rPr b="1" lang="ar-SA" sz="35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حصائيـات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00800" y="3286080"/>
            <a:ext cx="2362320" cy="5893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 rtl="1">
              <a:spcBef>
                <a:spcPts val="2188"/>
              </a:spcBef>
              <a:tabLst>
                <a:tab algn="l" pos="0"/>
                <a:tab algn="l" pos="557280"/>
                <a:tab algn="l" pos="1114560"/>
                <a:tab algn="l" pos="1671480"/>
                <a:tab algn="l" pos="2228760"/>
                <a:tab algn="l" pos="2786040"/>
                <a:tab algn="l" pos="3343320"/>
                <a:tab algn="l" pos="3900600"/>
                <a:tab algn="l" pos="4457880"/>
                <a:tab algn="l" pos="5014800"/>
                <a:tab algn="l" pos="5572080"/>
                <a:tab algn="l" pos="6129360"/>
                <a:tab algn="l" pos="6686640"/>
                <a:tab algn="l" pos="7243920"/>
                <a:tab algn="l" pos="7800840"/>
                <a:tab algn="l" pos="8358120"/>
                <a:tab algn="l" pos="8915400"/>
                <a:tab algn="l" pos="9472680"/>
                <a:tab algn="l" pos="10029960"/>
                <a:tab algn="l" pos="10586880"/>
              </a:tabLst>
            </a:pPr>
            <a:r>
              <a:rPr b="1" lang="ar-SA" sz="35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راسـات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13381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1066680" y="4425840"/>
            <a:ext cx="2438640" cy="665640"/>
            <a:chOff x="1066680" y="4425840"/>
            <a:chExt cx="2438640" cy="665640"/>
          </a:xfrm>
        </p:grpSpPr>
        <p:sp>
          <p:nvSpPr>
            <p:cNvPr id="327" name=""/>
            <p:cNvSpPr/>
            <p:nvPr/>
          </p:nvSpPr>
          <p:spPr>
            <a:xfrm>
              <a:off x="1066680" y="4425840"/>
              <a:ext cx="2438640" cy="6656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4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فنيـة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26680" y="4425840"/>
              <a:ext cx="19674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400800" y="4425840"/>
            <a:ext cx="2438280" cy="665640"/>
            <a:chOff x="6400800" y="4425840"/>
            <a:chExt cx="2438280" cy="665640"/>
          </a:xfrm>
        </p:grpSpPr>
        <p:sp>
          <p:nvSpPr>
            <p:cNvPr id="330" name=""/>
            <p:cNvSpPr/>
            <p:nvPr/>
          </p:nvSpPr>
          <p:spPr>
            <a:xfrm>
              <a:off x="6400800" y="4425840"/>
              <a:ext cx="2438280" cy="6656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4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إداريـة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60800" y="4425840"/>
              <a:ext cx="1967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733920" y="4419720"/>
            <a:ext cx="2438280" cy="680040"/>
            <a:chOff x="3733920" y="4419720"/>
            <a:chExt cx="2438280" cy="680040"/>
          </a:xfrm>
        </p:grpSpPr>
        <p:sp>
          <p:nvSpPr>
            <p:cNvPr id="333" name=""/>
            <p:cNvSpPr/>
            <p:nvPr/>
          </p:nvSpPr>
          <p:spPr>
            <a:xfrm>
              <a:off x="3733920" y="4434120"/>
              <a:ext cx="2438280" cy="6656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4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ماليـة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93920" y="4419720"/>
              <a:ext cx="19670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590920" y="10666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3276720" y="1814040"/>
            <a:ext cx="3352680" cy="1130040"/>
            <a:chOff x="3276720" y="1814040"/>
            <a:chExt cx="3352680" cy="1130040"/>
          </a:xfrm>
        </p:grpSpPr>
        <p:sp>
          <p:nvSpPr>
            <p:cNvPr id="337" name=""/>
            <p:cNvSpPr/>
            <p:nvPr/>
          </p:nvSpPr>
          <p:spPr>
            <a:xfrm>
              <a:off x="3276720" y="2057400"/>
              <a:ext cx="3352680" cy="6490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81280" y="1814040"/>
              <a:ext cx="27054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ea typeface="Simplified Arabic"/>
                </a:rPr>
                <a:t> </a:t>
              </a: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ea typeface="Simplified Arabic"/>
                </a:rPr>
                <a:t>2 -  </a:t>
              </a: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cs typeface="Simplified Arabic"/>
                </a:rPr>
                <a:t>المعايير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523880" y="146160"/>
            <a:ext cx="6934320" cy="1301760"/>
            <a:chOff x="1523880" y="146160"/>
            <a:chExt cx="6934320" cy="1301760"/>
          </a:xfrm>
        </p:grpSpPr>
        <p:sp>
          <p:nvSpPr>
            <p:cNvPr id="340" name=""/>
            <p:cNvSpPr/>
            <p:nvPr/>
          </p:nvSpPr>
          <p:spPr>
            <a:xfrm>
              <a:off x="1523880" y="152280"/>
              <a:ext cx="6934320" cy="1295640"/>
            </a:xfrm>
            <a:custGeom>
              <a:avLst/>
              <a:gdLst>
                <a:gd name="textAreaLeft" fmla="*/ 1013760 w 6934320"/>
                <a:gd name="textAreaRight" fmla="*/ 5920560 w 6934320"/>
                <a:gd name="textAreaTop" fmla="*/ 0 h 1295640"/>
                <a:gd name="textAreaBottom" fmla="*/ 864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20700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4400"/>
                  </a:lnTo>
                  <a:lnTo>
                    <a:pt x="0" y="7200"/>
                  </a:lnTo>
                  <a:lnTo>
                    <a:pt x="3158" y="7200"/>
                  </a:lnTo>
                  <a:lnTo>
                    <a:pt x="3158" y="1800"/>
                  </a:lnTo>
                  <a:cubicBezTo>
                    <a:pt x="3158" y="900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900"/>
                    <a:pt x="18442" y="1800"/>
                  </a:cubicBezTo>
                  <a:lnTo>
                    <a:pt x="18442" y="7200"/>
                  </a:lnTo>
                  <a:lnTo>
                    <a:pt x="21600" y="7200"/>
                  </a:lnTo>
                  <a:lnTo>
                    <a:pt x="18850" y="14400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0700"/>
                    <a:pt x="15742" y="19800"/>
                  </a:cubicBezTo>
                  <a:lnTo>
                    <a:pt x="15742" y="14400"/>
                  </a:lnTo>
                  <a:close/>
                </a:path>
                <a:path fill="darkenLess"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18900"/>
                    <a:pt x="5438" y="18000"/>
                    <a:pt x="5018" y="18000"/>
                  </a:cubicBezTo>
                  <a:lnTo>
                    <a:pt x="3998" y="18000"/>
                  </a:lnTo>
                  <a:cubicBezTo>
                    <a:pt x="3578" y="18000"/>
                    <a:pt x="3158" y="17100"/>
                    <a:pt x="3158" y="16200"/>
                  </a:cubicBezTo>
                  <a:cubicBezTo>
                    <a:pt x="3158" y="15300"/>
                    <a:pt x="3578" y="14400"/>
                    <a:pt x="3998" y="14400"/>
                  </a:cubicBezTo>
                  <a:close/>
                </a:path>
                <a:path fill="darkenLess" w="21600" h="21600">
                  <a:moveTo>
                    <a:pt x="15742" y="14400"/>
                  </a:moveTo>
                  <a:lnTo>
                    <a:pt x="15742" y="19800"/>
                  </a:lnTo>
                  <a:cubicBezTo>
                    <a:pt x="15742" y="18900"/>
                    <a:pt x="16162" y="18000"/>
                    <a:pt x="16582" y="18000"/>
                  </a:cubicBezTo>
                  <a:lnTo>
                    <a:pt x="17602" y="18000"/>
                  </a:lnTo>
                  <a:cubicBezTo>
                    <a:pt x="18022" y="18000"/>
                    <a:pt x="18442" y="17100"/>
                    <a:pt x="18442" y="16200"/>
                  </a:cubicBezTo>
                  <a:cubicBezTo>
                    <a:pt x="18442" y="15300"/>
                    <a:pt x="18022" y="14400"/>
                    <a:pt x="17602" y="14400"/>
                  </a:cubicBezTo>
                  <a:close/>
                </a:path>
                <a:path fill="darkenLess" w="21600" h="21600">
                  <a:moveTo>
                    <a:pt x="3158" y="16200"/>
                  </a:moveTo>
                  <a:lnTo>
                    <a:pt x="3158" y="7200"/>
                  </a:lnTo>
                </a:path>
                <a:path fill="darkenLess" w="21600" h="21600">
                  <a:moveTo>
                    <a:pt x="18442" y="16200"/>
                  </a:moveTo>
                  <a:lnTo>
                    <a:pt x="18442" y="720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7880" y="146160"/>
              <a:ext cx="4491000" cy="996840"/>
            </a:xfrm>
            <a:prstGeom prst="wedgeRoundRectCallout">
              <a:avLst>
                <a:gd name="adj1" fmla="val -5759"/>
                <a:gd name="adj2" fmla="val 78384"/>
                <a:gd name="adj3" fmla="val 16667"/>
              </a:avLst>
            </a:prstGeom>
            <a:noFill/>
            <a:ln w="0">
              <a:noFill/>
            </a:ln>
            <a:effectLst>
              <a:outerShdw dist="153753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100" spc="-1" strike="noStrike">
                  <a:solidFill>
                    <a:srgbClr val="000000"/>
                  </a:solidFill>
                  <a:latin typeface="Simplified Arabic"/>
                  <a:cs typeface="Simplified Arabic"/>
                </a:rPr>
                <a:t>أدوات صناعة القرار</a:t>
              </a:r>
              <a:endParaRPr b="0" lang="en-US" sz="4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562720" y="3421080"/>
            <a:ext cx="4079880" cy="1303200"/>
            <a:chOff x="5562720" y="3421080"/>
            <a:chExt cx="4079880" cy="1303200"/>
          </a:xfrm>
        </p:grpSpPr>
        <p:sp>
          <p:nvSpPr>
            <p:cNvPr id="343" name=""/>
            <p:cNvSpPr/>
            <p:nvPr/>
          </p:nvSpPr>
          <p:spPr>
            <a:xfrm>
              <a:off x="5562720" y="3725640"/>
              <a:ext cx="3809880" cy="609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cffff"/>
              </a:solidFill>
              <a:miter/>
            </a:ln>
            <a:effectLst>
              <a:outerShdw dist="107932" dir="135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80080" y="3421080"/>
              <a:ext cx="396252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0" rIns="154800" tIns="77400" bIns="774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28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المعيـار التـاريخي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562720" y="4944960"/>
            <a:ext cx="4079880" cy="1303560"/>
            <a:chOff x="5562720" y="4944960"/>
            <a:chExt cx="4079880" cy="1303560"/>
          </a:xfrm>
        </p:grpSpPr>
        <p:sp>
          <p:nvSpPr>
            <p:cNvPr id="346" name=""/>
            <p:cNvSpPr/>
            <p:nvPr/>
          </p:nvSpPr>
          <p:spPr>
            <a:xfrm>
              <a:off x="5562720" y="5249880"/>
              <a:ext cx="3809880" cy="6094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cffff"/>
              </a:solidFill>
              <a:miter/>
            </a:ln>
            <a:effectLst>
              <a:outerShdw dist="107932" dir="135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0080" y="4944960"/>
              <a:ext cx="3962520" cy="13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0" rIns="154800" tIns="77400" bIns="774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28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المعايير الفنية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09480" y="3421080"/>
            <a:ext cx="4079880" cy="1303200"/>
            <a:chOff x="609480" y="3421080"/>
            <a:chExt cx="4079880" cy="1303200"/>
          </a:xfrm>
        </p:grpSpPr>
        <p:sp>
          <p:nvSpPr>
            <p:cNvPr id="349" name=""/>
            <p:cNvSpPr/>
            <p:nvPr/>
          </p:nvSpPr>
          <p:spPr>
            <a:xfrm>
              <a:off x="609480" y="3725640"/>
              <a:ext cx="3809880" cy="609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cffff"/>
              </a:solidFill>
              <a:miter/>
            </a:ln>
            <a:effectLst>
              <a:outerShdw dist="107932" dir="135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6840" y="3421080"/>
              <a:ext cx="396252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0" rIns="154800" tIns="77400" bIns="774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28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معيار الصناعة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68440" y="4944960"/>
            <a:ext cx="4079880" cy="1303560"/>
            <a:chOff x="568440" y="4944960"/>
            <a:chExt cx="4079880" cy="1303560"/>
          </a:xfrm>
        </p:grpSpPr>
        <p:sp>
          <p:nvSpPr>
            <p:cNvPr id="352" name=""/>
            <p:cNvSpPr/>
            <p:nvPr/>
          </p:nvSpPr>
          <p:spPr>
            <a:xfrm>
              <a:off x="568440" y="5249880"/>
              <a:ext cx="3809880" cy="6094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cffff"/>
              </a:solidFill>
              <a:miter/>
            </a:ln>
            <a:effectLst>
              <a:outerShdw dist="107932" dir="135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4944960"/>
              <a:ext cx="3962520" cy="13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0" rIns="154800" tIns="77400" bIns="774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28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المعايير المحلية والدولية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75960" cy="7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1517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3276720" y="1890360"/>
            <a:ext cx="3352680" cy="1130040"/>
            <a:chOff x="3276720" y="1890360"/>
            <a:chExt cx="3352680" cy="1130040"/>
          </a:xfrm>
        </p:grpSpPr>
        <p:sp>
          <p:nvSpPr>
            <p:cNvPr id="357" name=""/>
            <p:cNvSpPr/>
            <p:nvPr/>
          </p:nvSpPr>
          <p:spPr>
            <a:xfrm>
              <a:off x="3276720" y="2133720"/>
              <a:ext cx="3352680" cy="6490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81280" y="1890360"/>
              <a:ext cx="27054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ea typeface="Simplified Arabic"/>
                </a:rPr>
                <a:t> </a:t>
              </a: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ea typeface="Simplified Arabic"/>
                </a:rPr>
                <a:t>3 -  </a:t>
              </a: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cs typeface="Simplified Arabic"/>
                </a:rPr>
                <a:t>الخبــرة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600200" y="228600"/>
            <a:ext cx="6934320" cy="1301760"/>
            <a:chOff x="1600200" y="228600"/>
            <a:chExt cx="6934320" cy="1301760"/>
          </a:xfrm>
        </p:grpSpPr>
        <p:sp>
          <p:nvSpPr>
            <p:cNvPr id="360" name=""/>
            <p:cNvSpPr/>
            <p:nvPr/>
          </p:nvSpPr>
          <p:spPr>
            <a:xfrm>
              <a:off x="1600200" y="234720"/>
              <a:ext cx="6934320" cy="1295640"/>
            </a:xfrm>
            <a:custGeom>
              <a:avLst/>
              <a:gdLst>
                <a:gd name="textAreaLeft" fmla="*/ 1013760 w 6934320"/>
                <a:gd name="textAreaRight" fmla="*/ 5920560 w 6934320"/>
                <a:gd name="textAreaTop" fmla="*/ 0 h 1295640"/>
                <a:gd name="textAreaBottom" fmla="*/ 864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20700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4400"/>
                  </a:lnTo>
                  <a:lnTo>
                    <a:pt x="0" y="7200"/>
                  </a:lnTo>
                  <a:lnTo>
                    <a:pt x="3158" y="7200"/>
                  </a:lnTo>
                  <a:lnTo>
                    <a:pt x="3158" y="1800"/>
                  </a:lnTo>
                  <a:cubicBezTo>
                    <a:pt x="3158" y="900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900"/>
                    <a:pt x="18442" y="1800"/>
                  </a:cubicBezTo>
                  <a:lnTo>
                    <a:pt x="18442" y="7200"/>
                  </a:lnTo>
                  <a:lnTo>
                    <a:pt x="21600" y="7200"/>
                  </a:lnTo>
                  <a:lnTo>
                    <a:pt x="18850" y="14400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0700"/>
                    <a:pt x="15742" y="19800"/>
                  </a:cubicBezTo>
                  <a:lnTo>
                    <a:pt x="15742" y="14400"/>
                  </a:lnTo>
                  <a:close/>
                </a:path>
                <a:path fill="darkenLess"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18900"/>
                    <a:pt x="5438" y="18000"/>
                    <a:pt x="5018" y="18000"/>
                  </a:cubicBezTo>
                  <a:lnTo>
                    <a:pt x="3998" y="18000"/>
                  </a:lnTo>
                  <a:cubicBezTo>
                    <a:pt x="3578" y="18000"/>
                    <a:pt x="3158" y="17100"/>
                    <a:pt x="3158" y="16200"/>
                  </a:cubicBezTo>
                  <a:cubicBezTo>
                    <a:pt x="3158" y="15300"/>
                    <a:pt x="3578" y="14400"/>
                    <a:pt x="3998" y="14400"/>
                  </a:cubicBezTo>
                  <a:close/>
                </a:path>
                <a:path fill="darkenLess" w="21600" h="21600">
                  <a:moveTo>
                    <a:pt x="15742" y="14400"/>
                  </a:moveTo>
                  <a:lnTo>
                    <a:pt x="15742" y="19800"/>
                  </a:lnTo>
                  <a:cubicBezTo>
                    <a:pt x="15742" y="18900"/>
                    <a:pt x="16162" y="18000"/>
                    <a:pt x="16582" y="18000"/>
                  </a:cubicBezTo>
                  <a:lnTo>
                    <a:pt x="17602" y="18000"/>
                  </a:lnTo>
                  <a:cubicBezTo>
                    <a:pt x="18022" y="18000"/>
                    <a:pt x="18442" y="17100"/>
                    <a:pt x="18442" y="16200"/>
                  </a:cubicBezTo>
                  <a:cubicBezTo>
                    <a:pt x="18442" y="15300"/>
                    <a:pt x="18022" y="14400"/>
                    <a:pt x="17602" y="14400"/>
                  </a:cubicBezTo>
                  <a:close/>
                </a:path>
                <a:path fill="darkenLess" w="21600" h="21600">
                  <a:moveTo>
                    <a:pt x="3158" y="16200"/>
                  </a:moveTo>
                  <a:lnTo>
                    <a:pt x="3158" y="7200"/>
                  </a:lnTo>
                </a:path>
                <a:path fill="darkenLess" w="21600" h="21600">
                  <a:moveTo>
                    <a:pt x="18442" y="16200"/>
                  </a:moveTo>
                  <a:lnTo>
                    <a:pt x="18442" y="720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24200" y="228600"/>
              <a:ext cx="4491000" cy="996840"/>
            </a:xfrm>
            <a:prstGeom prst="wedgeRoundRectCallout">
              <a:avLst>
                <a:gd name="adj1" fmla="val -5759"/>
                <a:gd name="adj2" fmla="val 78384"/>
                <a:gd name="adj3" fmla="val 16667"/>
              </a:avLst>
            </a:prstGeom>
            <a:noFill/>
            <a:ln w="0">
              <a:noFill/>
            </a:ln>
            <a:effectLst>
              <a:outerShdw dist="153753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100" spc="-1" strike="noStrike">
                  <a:solidFill>
                    <a:srgbClr val="000000"/>
                  </a:solidFill>
                  <a:latin typeface="Simplified Arabic"/>
                  <a:cs typeface="Simplified Arabic"/>
                </a:rPr>
                <a:t>أدوات صناعة القرار</a:t>
              </a:r>
              <a:endParaRPr b="0" lang="en-US" sz="4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80880" y="3429000"/>
            <a:ext cx="925056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ccffff"/>
            </a:solidFill>
            <a:miter/>
          </a:ln>
          <a:effectLst>
            <a:outerShdw dist="107932" dir="135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خبرة الحقيقية تقوم على أساس علمي متين مع تطبيق عملي في الميدان</a:t>
            </a:r>
            <a:r>
              <a:rPr b="1" lang="ar-SA" sz="28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ffffcc"/>
                </a:solidFill>
                <a:latin typeface="Arial"/>
                <a:ea typeface="Simplified Arabic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4495680"/>
            <a:ext cx="9250560" cy="609840"/>
          </a:xfrm>
          <a:prstGeom prst="rect">
            <a:avLst/>
          </a:prstGeom>
          <a:solidFill>
            <a:srgbClr val="000080"/>
          </a:solidFill>
          <a:ln w="9360">
            <a:solidFill>
              <a:srgbClr val="ccffff"/>
            </a:solidFill>
            <a:miter/>
          </a:ln>
          <a:effectLst>
            <a:outerShdw dist="107932" dir="135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خبرة الجماعية أفضل من الخبرة الفردية 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5715000"/>
            <a:ext cx="925056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ccffff"/>
            </a:solidFill>
            <a:miter/>
          </a:ln>
          <a:effectLst>
            <a:outerShdw dist="107932" dir="135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cc"/>
                </a:solidFill>
                <a:latin typeface="Arial"/>
                <a:cs typeface="Simplified Arabic"/>
              </a:rPr>
              <a:t>يمكن شراء الخبرة أو استئجارها بالاستشارة . 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6" name=""/>
          <p:cNvCxnSpPr/>
          <p:nvPr/>
        </p:nvCxnSpPr>
        <p:spPr>
          <a:xfrm rot="10800000">
            <a:off x="8036640" y="5334840"/>
            <a:ext cx="1321200" cy="124560"/>
          </a:xfrm>
          <a:prstGeom prst="bentConnector3">
            <a:avLst>
              <a:gd name="adj1" fmla="val 49986"/>
            </a:avLst>
          </a:prstGeom>
          <a:ln w="0">
            <a:noFill/>
          </a:ln>
        </p:spPr>
      </p:cxnSp>
      <p:cxnSp>
        <p:nvCxnSpPr>
          <p:cNvPr id="367" name=""/>
          <p:cNvCxnSpPr/>
          <p:nvPr/>
        </p:nvCxnSpPr>
        <p:spPr>
          <a:xfrm flipV="1" rot="10800000">
            <a:off x="8265240" y="5155200"/>
            <a:ext cx="1321200" cy="624600"/>
          </a:xfrm>
          <a:prstGeom prst="bentConnector3">
            <a:avLst>
              <a:gd name="adj1" fmla="val 49986"/>
            </a:avLst>
          </a:prstGeom>
          <a:ln w="0">
            <a:noFill/>
          </a:ln>
        </p:spPr>
      </p:cxnSp>
      <p:cxnSp>
        <p:nvCxnSpPr>
          <p:cNvPr id="368" name=""/>
          <p:cNvCxnSpPr/>
          <p:nvPr/>
        </p:nvCxnSpPr>
        <p:spPr>
          <a:xfrm flipV="1" rot="10800000">
            <a:off x="8265240" y="5499000"/>
            <a:ext cx="1321200" cy="1395720"/>
          </a:xfrm>
          <a:prstGeom prst="bentConnector3">
            <a:avLst>
              <a:gd name="adj1" fmla="val 49986"/>
            </a:avLst>
          </a:prstGeom>
          <a:ln w="0">
            <a:noFill/>
          </a:ln>
        </p:spPr>
      </p:cxn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1633680" cy="187164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276720" y="1814040"/>
            <a:ext cx="3352680" cy="1130040"/>
            <a:chOff x="3276720" y="1814040"/>
            <a:chExt cx="3352680" cy="1130040"/>
          </a:xfrm>
        </p:grpSpPr>
        <p:sp>
          <p:nvSpPr>
            <p:cNvPr id="371" name=""/>
            <p:cNvSpPr/>
            <p:nvPr/>
          </p:nvSpPr>
          <p:spPr>
            <a:xfrm>
              <a:off x="3276720" y="2057400"/>
              <a:ext cx="3352680" cy="6490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1814040"/>
              <a:ext cx="27054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ea typeface="Simplified Arabic"/>
                </a:rPr>
                <a:t> </a:t>
              </a: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ea typeface="Simplified Arabic"/>
                </a:rPr>
                <a:t>4 - </a:t>
              </a:r>
              <a:r>
                <a:rPr b="1" lang="ar-SA" sz="3200" spc="-1" strike="noStrike">
                  <a:solidFill>
                    <a:srgbClr val="ffffcc"/>
                  </a:solidFill>
                  <a:latin typeface="Simplified Arabic"/>
                  <a:cs typeface="Simplified Arabic"/>
                </a:rPr>
                <a:t>المسؤولية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523880" y="146160"/>
            <a:ext cx="6934320" cy="1301760"/>
            <a:chOff x="1523880" y="146160"/>
            <a:chExt cx="6934320" cy="1301760"/>
          </a:xfrm>
        </p:grpSpPr>
        <p:sp>
          <p:nvSpPr>
            <p:cNvPr id="374" name=""/>
            <p:cNvSpPr/>
            <p:nvPr/>
          </p:nvSpPr>
          <p:spPr>
            <a:xfrm>
              <a:off x="1523880" y="152280"/>
              <a:ext cx="6934320" cy="1295640"/>
            </a:xfrm>
            <a:custGeom>
              <a:avLst/>
              <a:gdLst>
                <a:gd name="textAreaLeft" fmla="*/ 1013760 w 6934320"/>
                <a:gd name="textAreaRight" fmla="*/ 5920560 w 6934320"/>
                <a:gd name="textAreaTop" fmla="*/ 0 h 1295640"/>
                <a:gd name="textAreaBottom" fmla="*/ 864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20700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4400"/>
                  </a:lnTo>
                  <a:lnTo>
                    <a:pt x="0" y="7200"/>
                  </a:lnTo>
                  <a:lnTo>
                    <a:pt x="3158" y="7200"/>
                  </a:lnTo>
                  <a:lnTo>
                    <a:pt x="3158" y="1800"/>
                  </a:lnTo>
                  <a:cubicBezTo>
                    <a:pt x="3158" y="900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900"/>
                    <a:pt x="18442" y="1800"/>
                  </a:cubicBezTo>
                  <a:lnTo>
                    <a:pt x="18442" y="7200"/>
                  </a:lnTo>
                  <a:lnTo>
                    <a:pt x="21600" y="7200"/>
                  </a:lnTo>
                  <a:lnTo>
                    <a:pt x="18850" y="14400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0700"/>
                    <a:pt x="15742" y="19800"/>
                  </a:cubicBezTo>
                  <a:lnTo>
                    <a:pt x="15742" y="14400"/>
                  </a:lnTo>
                  <a:close/>
                </a:path>
                <a:path fill="darkenLess"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18900"/>
                    <a:pt x="5438" y="18000"/>
                    <a:pt x="5018" y="18000"/>
                  </a:cubicBezTo>
                  <a:lnTo>
                    <a:pt x="3998" y="18000"/>
                  </a:lnTo>
                  <a:cubicBezTo>
                    <a:pt x="3578" y="18000"/>
                    <a:pt x="3158" y="17100"/>
                    <a:pt x="3158" y="16200"/>
                  </a:cubicBezTo>
                  <a:cubicBezTo>
                    <a:pt x="3158" y="15300"/>
                    <a:pt x="3578" y="14400"/>
                    <a:pt x="3998" y="14400"/>
                  </a:cubicBezTo>
                  <a:close/>
                </a:path>
                <a:path fill="darkenLess" w="21600" h="21600">
                  <a:moveTo>
                    <a:pt x="15742" y="14400"/>
                  </a:moveTo>
                  <a:lnTo>
                    <a:pt x="15742" y="19800"/>
                  </a:lnTo>
                  <a:cubicBezTo>
                    <a:pt x="15742" y="18900"/>
                    <a:pt x="16162" y="18000"/>
                    <a:pt x="16582" y="18000"/>
                  </a:cubicBezTo>
                  <a:lnTo>
                    <a:pt x="17602" y="18000"/>
                  </a:lnTo>
                  <a:cubicBezTo>
                    <a:pt x="18022" y="18000"/>
                    <a:pt x="18442" y="17100"/>
                    <a:pt x="18442" y="16200"/>
                  </a:cubicBezTo>
                  <a:cubicBezTo>
                    <a:pt x="18442" y="15300"/>
                    <a:pt x="18022" y="14400"/>
                    <a:pt x="17602" y="14400"/>
                  </a:cubicBezTo>
                  <a:close/>
                </a:path>
                <a:path fill="darkenLess" w="21600" h="21600">
                  <a:moveTo>
                    <a:pt x="3158" y="16200"/>
                  </a:moveTo>
                  <a:lnTo>
                    <a:pt x="3158" y="7200"/>
                  </a:lnTo>
                </a:path>
                <a:path fill="darkenLess" w="21600" h="21600">
                  <a:moveTo>
                    <a:pt x="18442" y="16200"/>
                  </a:moveTo>
                  <a:lnTo>
                    <a:pt x="18442" y="720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47880" y="146160"/>
              <a:ext cx="4491000" cy="996840"/>
            </a:xfrm>
            <a:prstGeom prst="wedgeRoundRectCallout">
              <a:avLst>
                <a:gd name="adj1" fmla="val -5759"/>
                <a:gd name="adj2" fmla="val 78384"/>
                <a:gd name="adj3" fmla="val 16667"/>
              </a:avLst>
            </a:prstGeom>
            <a:noFill/>
            <a:ln w="0">
              <a:noFill/>
            </a:ln>
            <a:effectLst>
              <a:outerShdw dist="153753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100" spc="-1" strike="noStrike">
                  <a:solidFill>
                    <a:srgbClr val="000000"/>
                  </a:solidFill>
                  <a:latin typeface="Simplified Arabic"/>
                  <a:cs typeface="Simplified Arabic"/>
                </a:rPr>
                <a:t>أدوات صناعة القرار</a:t>
              </a:r>
              <a:endParaRPr b="0" lang="en-US" sz="4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71680" y="3124080"/>
            <a:ext cx="8915400" cy="609840"/>
          </a:xfrm>
          <a:prstGeom prst="rect">
            <a:avLst/>
          </a:prstGeom>
          <a:solidFill>
            <a:srgbClr val="000080"/>
          </a:solidFill>
          <a:ln w="9360">
            <a:solidFill>
              <a:srgbClr val="ccffff"/>
            </a:solidFill>
            <a:miter/>
          </a:ln>
          <a:effectLst>
            <a:outerShdw dist="107932" dir="135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cc"/>
                </a:solidFill>
                <a:latin typeface="Arial"/>
                <a:cs typeface="Simplified Arabic"/>
              </a:rPr>
              <a:t>تنفيذ القرار يحقق نتائج ، والنتائج لا بد من تحمل مسؤوليتها مهما كانت</a:t>
            </a:r>
            <a:r>
              <a:rPr b="1" lang="ar-SA" sz="27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2700" spc="-1" strike="noStrike">
                <a:solidFill>
                  <a:srgbClr val="ffffcc"/>
                </a:solidFill>
                <a:latin typeface="Arial"/>
                <a:ea typeface="Simplified Arabic"/>
              </a:rPr>
              <a:t>.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257800" y="4869000"/>
            <a:ext cx="4079880" cy="1303200"/>
            <a:chOff x="5257800" y="4869000"/>
            <a:chExt cx="4079880" cy="1303200"/>
          </a:xfrm>
        </p:grpSpPr>
        <p:sp>
          <p:nvSpPr>
            <p:cNvPr id="378" name=""/>
            <p:cNvSpPr/>
            <p:nvPr/>
          </p:nvSpPr>
          <p:spPr>
            <a:xfrm>
              <a:off x="5257800" y="5173560"/>
              <a:ext cx="3809880" cy="609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cffff"/>
              </a:solidFill>
              <a:miter/>
            </a:ln>
            <a:effectLst>
              <a:outerShdw dist="107932" dir="135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75160" y="4869000"/>
              <a:ext cx="396252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0" rIns="154800" tIns="77400" bIns="77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أركان المسؤولية</a:t>
              </a:r>
              <a:r>
                <a:rPr b="1" lang="ar-SA" sz="3000" spc="-1" strike="noStrike">
                  <a:solidFill>
                    <a:srgbClr val="ffffcc"/>
                  </a:solidFill>
                  <a:latin typeface="Arial"/>
                  <a:ea typeface="Simplified Arabic"/>
                </a:rPr>
                <a:t> </a:t>
              </a:r>
              <a:r>
                <a:rPr b="1" lang="ar-SA" sz="3000" spc="-1" strike="noStrike">
                  <a:solidFill>
                    <a:srgbClr val="ffffcc"/>
                  </a:solidFill>
                  <a:latin typeface="Arial"/>
                  <a:ea typeface="Simplified Arabic"/>
                </a:rPr>
                <a:t>: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62120" y="5715000"/>
            <a:ext cx="3809880" cy="838080"/>
          </a:xfrm>
          <a:prstGeom prst="leftArrow">
            <a:avLst>
              <a:gd name="adj1" fmla="val 75343"/>
              <a:gd name="adj2" fmla="val 427131"/>
            </a:avLst>
          </a:prstGeom>
          <a:solidFill>
            <a:srgbClr val="33cccc"/>
          </a:solidFill>
          <a:ln w="31680">
            <a:solidFill>
              <a:srgbClr val="80008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5105520"/>
            <a:ext cx="3810240" cy="838080"/>
          </a:xfrm>
          <a:prstGeom prst="rightArrow">
            <a:avLst>
              <a:gd name="adj1" fmla="val 78407"/>
              <a:gd name="adj2" fmla="val 434559"/>
            </a:avLst>
          </a:prstGeom>
          <a:solidFill>
            <a:srgbClr val="33cccc"/>
          </a:solidFill>
          <a:ln w="31680">
            <a:solidFill>
              <a:srgbClr val="80008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2120" y="4495680"/>
            <a:ext cx="3809880" cy="838440"/>
          </a:xfrm>
          <a:prstGeom prst="leftArrow">
            <a:avLst>
              <a:gd name="adj1" fmla="val 75343"/>
              <a:gd name="adj2" fmla="val 426948"/>
            </a:avLst>
          </a:prstGeom>
          <a:solidFill>
            <a:srgbClr val="33cccc"/>
          </a:solidFill>
          <a:ln w="31680">
            <a:solidFill>
              <a:srgbClr val="80008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4648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Ramadan"/>
                <a:cs typeface="Simplified Arabic"/>
              </a:rPr>
              <a:t>الأهليــة</a:t>
            </a:r>
            <a:r>
              <a:rPr b="1" lang="ar-SA" sz="2000" spc="-1" strike="noStrike">
                <a:solidFill>
                  <a:srgbClr val="000000"/>
                </a:solidFill>
                <a:latin typeface="Ramadan"/>
                <a:ea typeface="Simplified Arabic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5257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Ramadan"/>
                <a:cs typeface="Simplified Arabic"/>
              </a:rPr>
              <a:t>الصلاحيات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58672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جــرأة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2590920" y="10666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6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5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247680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3352680" y="1796760"/>
            <a:ext cx="3352680" cy="1008360"/>
            <a:chOff x="3352680" y="1796760"/>
            <a:chExt cx="3352680" cy="1008360"/>
          </a:xfrm>
        </p:grpSpPr>
        <p:sp>
          <p:nvSpPr>
            <p:cNvPr id="389" name=""/>
            <p:cNvSpPr/>
            <p:nvPr/>
          </p:nvSpPr>
          <p:spPr>
            <a:xfrm>
              <a:off x="3352680" y="1981080"/>
              <a:ext cx="3352680" cy="6490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7600" rIns="147600" tIns="73800" bIns="73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57240" y="1796760"/>
              <a:ext cx="2705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ffcc"/>
                  </a:solidFill>
                  <a:latin typeface="Arial"/>
                  <a:ea typeface="Simplified Arabic"/>
                </a:rPr>
                <a:t>5-  </a:t>
              </a:r>
              <a:r>
                <a:rPr b="1" lang="ar-SA" sz="28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نظم دعم القرار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523880" y="146160"/>
            <a:ext cx="6934320" cy="1301760"/>
            <a:chOff x="1523880" y="146160"/>
            <a:chExt cx="6934320" cy="1301760"/>
          </a:xfrm>
        </p:grpSpPr>
        <p:sp>
          <p:nvSpPr>
            <p:cNvPr id="392" name=""/>
            <p:cNvSpPr/>
            <p:nvPr/>
          </p:nvSpPr>
          <p:spPr>
            <a:xfrm>
              <a:off x="1523880" y="152280"/>
              <a:ext cx="6934320" cy="1295640"/>
            </a:xfrm>
            <a:custGeom>
              <a:avLst/>
              <a:gdLst>
                <a:gd name="textAreaLeft" fmla="*/ 1013760 w 6934320"/>
                <a:gd name="textAreaRight" fmla="*/ 5920560 w 6934320"/>
                <a:gd name="textAreaTop" fmla="*/ 0 h 1295640"/>
                <a:gd name="textAreaBottom" fmla="*/ 864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20700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4400"/>
                  </a:lnTo>
                  <a:lnTo>
                    <a:pt x="0" y="7200"/>
                  </a:lnTo>
                  <a:lnTo>
                    <a:pt x="3158" y="7200"/>
                  </a:lnTo>
                  <a:lnTo>
                    <a:pt x="3158" y="1800"/>
                  </a:lnTo>
                  <a:cubicBezTo>
                    <a:pt x="3158" y="900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900"/>
                    <a:pt x="18442" y="1800"/>
                  </a:cubicBezTo>
                  <a:lnTo>
                    <a:pt x="18442" y="7200"/>
                  </a:lnTo>
                  <a:lnTo>
                    <a:pt x="21600" y="7200"/>
                  </a:lnTo>
                  <a:lnTo>
                    <a:pt x="18850" y="14400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0700"/>
                    <a:pt x="15742" y="19800"/>
                  </a:cubicBezTo>
                  <a:lnTo>
                    <a:pt x="15742" y="14400"/>
                  </a:lnTo>
                  <a:close/>
                </a:path>
                <a:path fill="darkenLess" w="21600" h="21600">
                  <a:moveTo>
                    <a:pt x="5858" y="14400"/>
                  </a:moveTo>
                  <a:lnTo>
                    <a:pt x="5858" y="19800"/>
                  </a:lnTo>
                  <a:cubicBezTo>
                    <a:pt x="5858" y="18900"/>
                    <a:pt x="5438" y="18000"/>
                    <a:pt x="5018" y="18000"/>
                  </a:cubicBezTo>
                  <a:lnTo>
                    <a:pt x="3998" y="18000"/>
                  </a:lnTo>
                  <a:cubicBezTo>
                    <a:pt x="3578" y="18000"/>
                    <a:pt x="3158" y="17100"/>
                    <a:pt x="3158" y="16200"/>
                  </a:cubicBezTo>
                  <a:cubicBezTo>
                    <a:pt x="3158" y="15300"/>
                    <a:pt x="3578" y="14400"/>
                    <a:pt x="3998" y="14400"/>
                  </a:cubicBezTo>
                  <a:close/>
                </a:path>
                <a:path fill="darkenLess" w="21600" h="21600">
                  <a:moveTo>
                    <a:pt x="15742" y="14400"/>
                  </a:moveTo>
                  <a:lnTo>
                    <a:pt x="15742" y="19800"/>
                  </a:lnTo>
                  <a:cubicBezTo>
                    <a:pt x="15742" y="18900"/>
                    <a:pt x="16162" y="18000"/>
                    <a:pt x="16582" y="18000"/>
                  </a:cubicBezTo>
                  <a:lnTo>
                    <a:pt x="17602" y="18000"/>
                  </a:lnTo>
                  <a:cubicBezTo>
                    <a:pt x="18022" y="18000"/>
                    <a:pt x="18442" y="17100"/>
                    <a:pt x="18442" y="16200"/>
                  </a:cubicBezTo>
                  <a:cubicBezTo>
                    <a:pt x="18442" y="15300"/>
                    <a:pt x="18022" y="14400"/>
                    <a:pt x="17602" y="14400"/>
                  </a:cubicBezTo>
                  <a:close/>
                </a:path>
                <a:path fill="darkenLess" w="21600" h="21600">
                  <a:moveTo>
                    <a:pt x="3158" y="16200"/>
                  </a:moveTo>
                  <a:lnTo>
                    <a:pt x="3158" y="7200"/>
                  </a:lnTo>
                </a:path>
                <a:path fill="darkenLess" w="21600" h="21600">
                  <a:moveTo>
                    <a:pt x="18442" y="16200"/>
                  </a:moveTo>
                  <a:lnTo>
                    <a:pt x="18442" y="720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7880" y="146160"/>
              <a:ext cx="4491000" cy="996840"/>
            </a:xfrm>
            <a:prstGeom prst="wedgeRoundRectCallout">
              <a:avLst>
                <a:gd name="adj1" fmla="val -5759"/>
                <a:gd name="adj2" fmla="val 78384"/>
                <a:gd name="adj3" fmla="val 16667"/>
              </a:avLst>
            </a:prstGeom>
            <a:noFill/>
            <a:ln w="0">
              <a:noFill/>
            </a:ln>
            <a:effectLst>
              <a:outerShdw dist="153753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100" spc="-1" strike="noStrike">
                  <a:solidFill>
                    <a:srgbClr val="000000"/>
                  </a:solidFill>
                  <a:latin typeface="Simplified Arabic"/>
                  <a:cs typeface="Simplified Arabic"/>
                </a:rPr>
                <a:t>أدوات صناعة القرار</a:t>
              </a:r>
              <a:endParaRPr b="0" lang="en-US" sz="4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809880" y="3273480"/>
            <a:ext cx="2361960" cy="612720"/>
            <a:chOff x="3809880" y="3273480"/>
            <a:chExt cx="2361960" cy="612720"/>
          </a:xfrm>
        </p:grpSpPr>
        <p:sp>
          <p:nvSpPr>
            <p:cNvPr id="395" name=""/>
            <p:cNvSpPr/>
            <p:nvPr/>
          </p:nvSpPr>
          <p:spPr>
            <a:xfrm>
              <a:off x="3809880" y="3276720"/>
              <a:ext cx="2361960" cy="6094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cffff"/>
              </a:solidFill>
              <a:miter/>
            </a:ln>
            <a:effectLst>
              <a:outerShdw dist="107932" dir="135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38480" y="3273480"/>
              <a:ext cx="19191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126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r>
                <a:rPr b="1" lang="en-US" sz="3400" spc="-1" strike="noStrike">
                  <a:solidFill>
                    <a:srgbClr val="ffffcc"/>
                  </a:solidFill>
                  <a:latin typeface="Times New Roman"/>
                  <a:ea typeface="Simplified Arabic"/>
                </a:rPr>
                <a:t>DSS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71680" y="4724280"/>
            <a:ext cx="8915400" cy="1585080"/>
            <a:chOff x="571680" y="4724280"/>
            <a:chExt cx="8915400" cy="1585080"/>
          </a:xfrm>
        </p:grpSpPr>
        <p:sp>
          <p:nvSpPr>
            <p:cNvPr id="398" name=""/>
            <p:cNvSpPr/>
            <p:nvPr/>
          </p:nvSpPr>
          <p:spPr>
            <a:xfrm>
              <a:off x="571680" y="4724280"/>
              <a:ext cx="8915400" cy="13716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cffff"/>
              </a:solidFill>
              <a:miter/>
            </a:ln>
            <a:effectLst>
              <a:outerShdw dist="107932" dir="135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1720" y="4889520"/>
              <a:ext cx="8453520" cy="14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181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r>
                <a:rPr b="1" lang="ar-SA" sz="2900" spc="-1" strike="noStrike">
                  <a:solidFill>
                    <a:srgbClr val="ffffcc"/>
                  </a:solidFill>
                  <a:latin typeface="Times New Roman"/>
                  <a:cs typeface="Simplified Arabic"/>
                </a:rPr>
                <a:t>نظام آلي يشمل قاعدة بيانات ونماذج وأدوات تحليل ومصمم بهدف المساعدة في اتخاذ القرارات الادارية والمالية والفنية</a:t>
              </a:r>
              <a:endParaRPr b="0" lang="en-US" sz="2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0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438280" y="669960"/>
            <a:ext cx="51055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ccffff"/>
            </a:solidFill>
            <a:miter/>
          </a:ln>
          <a:effectLst>
            <a:outerShdw dist="107932" dir="135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نــاعة القرار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520" y="1828800"/>
            <a:ext cx="9067680" cy="1084680"/>
            <a:chOff x="533520" y="1828800"/>
            <a:chExt cx="9067680" cy="1084680"/>
          </a:xfrm>
        </p:grpSpPr>
        <p:sp>
          <p:nvSpPr>
            <p:cNvPr id="156" name=""/>
            <p:cNvSpPr/>
            <p:nvPr/>
          </p:nvSpPr>
          <p:spPr>
            <a:xfrm>
              <a:off x="533520" y="1828800"/>
              <a:ext cx="9067680" cy="70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07932" dir="135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1844640"/>
              <a:ext cx="8610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Arial"/>
                  <a:cs typeface="Simplified Arabic"/>
                </a:rPr>
                <a:t>منهج يرتكز على مرجعية محددة ويعتمد على الدراسة والتحلي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80880" y="5089680"/>
            <a:ext cx="9067680" cy="1157760"/>
            <a:chOff x="380880" y="5089680"/>
            <a:chExt cx="9067680" cy="1157760"/>
          </a:xfrm>
        </p:grpSpPr>
        <p:sp>
          <p:nvSpPr>
            <p:cNvPr id="159" name=""/>
            <p:cNvSpPr/>
            <p:nvPr/>
          </p:nvSpPr>
          <p:spPr>
            <a:xfrm>
              <a:off x="380880" y="5089680"/>
              <a:ext cx="9067680" cy="70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07932" dir="135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0880" y="5178600"/>
              <a:ext cx="8610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Simplified Arabic"/>
                  <a:cs typeface="Simplified Arabic"/>
                </a:rPr>
                <a:t>رد فعل يتم استجابة للأزمات والحالات الطارئة بدون منهجية</a:t>
              </a:r>
              <a:r>
                <a:rPr b="1" lang="ar-SA" sz="3200" spc="-1" strike="noStrike">
                  <a:solidFill>
                    <a:srgbClr val="ffff00"/>
                  </a:solidFill>
                  <a:latin typeface="Simplified Arabic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400480" y="3962520"/>
            <a:ext cx="51051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ccffff"/>
            </a:solidFill>
            <a:miter/>
          </a:ln>
          <a:effectLst>
            <a:outerShdw dist="107932" dir="135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تخـاذ القرار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38280" y="5936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 flipH="1">
            <a:off x="6867000" y="4489560"/>
            <a:ext cx="132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433320" y="4240080"/>
            <a:ext cx="105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680080" y="4987800"/>
            <a:ext cx="0" cy="124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0" y="4240080"/>
            <a:ext cx="79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1760" y="4240080"/>
            <a:ext cx="0" cy="1495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744560" cy="19954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8112240" y="3809880"/>
            <a:ext cx="1717560" cy="1008360"/>
          </a:xfrm>
          <a:prstGeom prst="rect">
            <a:avLst/>
          </a:prstGeom>
          <a:solidFill>
            <a:srgbClr val="ff5b5f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يانات المشكلة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3730680"/>
            <a:ext cx="2244600" cy="1146240"/>
          </a:xfrm>
          <a:prstGeom prst="ellipse">
            <a:avLst/>
          </a:prstGeom>
          <a:solidFill>
            <a:srgbClr val="c5518b"/>
          </a:solidFill>
          <a:ln w="12600">
            <a:solidFill>
              <a:srgbClr val="ffffcc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54800" rIns="154800" tIns="77400" bIns="774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نماذج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تحلي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6857640" y="4343400"/>
            <a:ext cx="1219320" cy="144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1373400"/>
            <a:ext cx="2638440" cy="5811120"/>
          </a:xfrm>
          <a:prstGeom prst="flowChartDecision">
            <a:avLst/>
          </a:prstGeom>
          <a:solidFill>
            <a:srgbClr val="9933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Simplified Arabic"/>
              </a:rPr>
              <a:t>اسقاط النموذج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Simplified Arabic"/>
              </a:rPr>
              <a:t>على المشكل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3433680" y="4311720"/>
            <a:ext cx="1138320" cy="1440"/>
          </a:xfrm>
          <a:prstGeom prst="line">
            <a:avLst/>
          </a:prstGeom>
          <a:ln w="69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320" y="5924520"/>
            <a:ext cx="1717560" cy="10083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وصيات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5680080" y="4952880"/>
            <a:ext cx="1440" cy="103680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14800" y="5943600"/>
            <a:ext cx="3038400" cy="551520"/>
          </a:xfrm>
          <a:prstGeom prst="rect">
            <a:avLst/>
          </a:prstGeom>
          <a:solidFill>
            <a:srgbClr val="c5518b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اعدة بيانات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03280" y="4311720"/>
            <a:ext cx="3348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1720" y="4343400"/>
            <a:ext cx="1800" cy="160020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380880"/>
            <a:ext cx="502920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ffffcc"/>
                </a:solidFill>
                <a:latin typeface="Arial"/>
                <a:cs typeface="Simplified Arabic"/>
              </a:rPr>
              <a:t>نظم دعم القرار</a:t>
            </a:r>
            <a:endParaRPr b="0" lang="en-US" sz="41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819520" y="1676520"/>
            <a:ext cx="4419360" cy="1205280"/>
            <a:chOff x="2819520" y="1676520"/>
            <a:chExt cx="4419360" cy="1205280"/>
          </a:xfrm>
        </p:grpSpPr>
        <p:sp>
          <p:nvSpPr>
            <p:cNvPr id="419" name=""/>
            <p:cNvSpPr/>
            <p:nvPr/>
          </p:nvSpPr>
          <p:spPr>
            <a:xfrm>
              <a:off x="2819520" y="1676520"/>
              <a:ext cx="4419360" cy="711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3d8fe"/>
                </a:gs>
              </a:gsLst>
              <a:lin ang="5400000"/>
            </a:gradFill>
            <a:ln w="101520">
              <a:solidFill>
                <a:srgbClr val="800080"/>
              </a:solidFill>
              <a:miter/>
            </a:ln>
            <a:effectLst>
              <a:outerShdw dist="107932" dir="189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59200" y="1752480"/>
              <a:ext cx="414000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كونات نظام دعم القرار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2743200" y="9144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5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"/>
                            </p:stCondLst>
                            <p:childTnLst>
                              <p:par>
                                <p:cTn id="5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500"/>
                            </p:stCondLst>
                            <p:childTnLst>
                              <p:par>
                                <p:cTn id="5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000"/>
                            </p:stCondLst>
                            <p:childTnLst>
                              <p:par>
                                <p:cTn id="5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500"/>
                            </p:stCondLst>
                            <p:childTnLst>
                              <p:par>
                                <p:cTn id="5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7500"/>
                            </p:stCondLst>
                            <p:childTnLst>
                              <p:par>
                                <p:cTn id="6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80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8500"/>
                            </p:stCondLst>
                            <p:childTnLst>
                              <p:par>
                                <p:cTn id="6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1" dur="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886280" y="2743200"/>
            <a:ext cx="4756320" cy="67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 algn="ctr" rtl="1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ar-SA" sz="3400" spc="-1" strike="noStrike">
                <a:solidFill>
                  <a:srgbClr val="0000ff"/>
                </a:solidFill>
                <a:latin typeface="Arial"/>
                <a:ea typeface="Simplified Arabic"/>
              </a:rPr>
              <a:t> نظم معالجة البيانات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52600" y="2743200"/>
            <a:ext cx="1981080" cy="67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 algn="ctr" rtl="1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Arial"/>
                <a:ea typeface="Simplified Arabic"/>
              </a:rPr>
              <a:t>MDS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86280" y="3797280"/>
            <a:ext cx="4756320" cy="1190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 algn="ctr" rtl="1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ar-SA" sz="3400" spc="-1" strike="noStrike">
                <a:solidFill>
                  <a:srgbClr val="0000ff"/>
                </a:solidFill>
                <a:latin typeface="Arial"/>
                <a:ea typeface="Simplified Arabic"/>
              </a:rPr>
              <a:t> نظم المعلومات الإدارية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52600" y="3865680"/>
            <a:ext cx="1981080" cy="67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 algn="ctr" rtl="1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Arial"/>
                <a:ea typeface="Simplified Arabic"/>
              </a:rPr>
              <a:t>MIS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4795920"/>
            <a:ext cx="4756320" cy="672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 algn="ctr" rtl="1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ar-SA" sz="3400" spc="-1" strike="noStrike">
                <a:solidFill>
                  <a:srgbClr val="0000ff"/>
                </a:solidFill>
                <a:latin typeface="Arial"/>
                <a:ea typeface="Simplified Arabic"/>
              </a:rPr>
              <a:t> نظم دعم القرار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86280" y="5861160"/>
            <a:ext cx="4756320" cy="672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 algn="ctr" rtl="1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ar-SA" sz="3400" spc="-1" strike="noStrike">
                <a:solidFill>
                  <a:srgbClr val="0000ff"/>
                </a:solidFill>
                <a:latin typeface="Arial"/>
                <a:ea typeface="Simplified Arabic"/>
              </a:rPr>
              <a:t> نظم الذكاء الصناعي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52600" y="4862520"/>
            <a:ext cx="1981080" cy="672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 algn="ctr" rtl="1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Arial"/>
                <a:ea typeface="Simplified Arabic"/>
              </a:rPr>
              <a:t>DSS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52600" y="5861160"/>
            <a:ext cx="1981080" cy="672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 algn="ctr" rtl="1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Arial"/>
                <a:ea typeface="Simplified Arabic"/>
              </a:rPr>
              <a:t>AI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9"/>
          <a:stretch/>
        </p:blipFill>
        <p:spPr>
          <a:xfrm>
            <a:off x="3132000" y="1214280"/>
            <a:ext cx="2278080" cy="152892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1828800" y="122400"/>
            <a:ext cx="6553080" cy="1190520"/>
            <a:chOff x="1828800" y="122400"/>
            <a:chExt cx="6553080" cy="1190520"/>
          </a:xfrm>
        </p:grpSpPr>
        <p:sp>
          <p:nvSpPr>
            <p:cNvPr id="432" name=""/>
            <p:cNvSpPr/>
            <p:nvPr/>
          </p:nvSpPr>
          <p:spPr>
            <a:xfrm>
              <a:off x="1828800" y="304920"/>
              <a:ext cx="6553080" cy="822240"/>
            </a:xfrm>
            <a:prstGeom prst="rect">
              <a:avLst/>
            </a:prstGeom>
            <a:solidFill>
              <a:srgbClr val="3641ca"/>
            </a:solidFill>
            <a:ln w="0">
              <a:noFill/>
            </a:ln>
            <a:effectLst>
              <a:outerShdw dist="107932" dir="135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040" y="122400"/>
              <a:ext cx="609588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800" rIns="154800" tIns="77400" bIns="77400" anchor="ctr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547640"/>
                  <a:tab algn="l" pos="3095640"/>
                  <a:tab algn="l" pos="4643280"/>
                  <a:tab algn="l" pos="6191280"/>
                  <a:tab algn="l" pos="7738920"/>
                  <a:tab algn="l" pos="9286920"/>
                  <a:tab algn="l" pos="10834560"/>
                </a:tabLst>
              </a:pPr>
              <a:r>
                <a:rPr b="1" lang="ar-SA" sz="3400" spc="-1" strike="noStrike">
                  <a:solidFill>
                    <a:srgbClr val="ffffcc"/>
                  </a:solidFill>
                  <a:latin typeface="Arial"/>
                  <a:cs typeface="Simplified Arabic"/>
                </a:rPr>
                <a:t>تطور نظم المعلومات التي تدعم القرار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434" name="" descr=""/>
          <p:cNvPicPr/>
          <p:nvPr/>
        </p:nvPicPr>
        <p:blipFill>
          <a:blip r:embed="rId10"/>
          <a:stretch/>
        </p:blipFill>
        <p:spPr>
          <a:xfrm>
            <a:off x="1905120" y="304920"/>
            <a:ext cx="75960" cy="75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500"/>
                            </p:stCondLst>
                            <p:childTnLst>
                              <p:par>
                                <p:cTn id="6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790640" y="304920"/>
            <a:ext cx="6400800" cy="10191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36" name=""/>
          <p:cNvSpPr/>
          <p:nvPr/>
        </p:nvSpPr>
        <p:spPr>
          <a:xfrm>
            <a:off x="3276720" y="1752480"/>
            <a:ext cx="4800600" cy="1184040"/>
          </a:xfrm>
          <a:prstGeom prst="rect">
            <a:avLst/>
          </a:prstGeom>
          <a:solidFill>
            <a:srgbClr val="5f5f5f"/>
          </a:solidFill>
          <a:ln w="12600">
            <a:solidFill>
              <a:srgbClr val="ffff00"/>
            </a:solidFill>
            <a:miter/>
          </a:ln>
          <a:effectLst>
            <a:outerShdw dist="52300" dir="4563564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تفكيـر أهم من التصويت</a:t>
            </a:r>
            <a:r>
              <a:rPr b="1" lang="ar-SA" sz="3600" spc="-1" strike="noStrike">
                <a:solidFill>
                  <a:srgbClr val="ffff07"/>
                </a:solidFill>
                <a:latin typeface="Arial"/>
                <a:ea typeface="Simplified Arabic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3429000"/>
            <a:ext cx="9144000" cy="20001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ef3e9"/>
              </a:gs>
              <a:gs pos="100000">
                <a:srgbClr val="ffcc99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915400" y="4422600"/>
            <a:ext cx="314280" cy="301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523880" y="609480"/>
            <a:ext cx="6553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وصيـات لصناعة قرارات ناجحـة</a:t>
            </a:r>
            <a:r>
              <a:rPr b="1" lang="ar-SA" sz="3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3680" y="1653840"/>
            <a:ext cx="1060200" cy="957600"/>
          </a:xfrm>
          <a:custGeom>
            <a:avLst/>
            <a:gdLst>
              <a:gd name="textAreaLeft" fmla="*/ 241920 w 1060200"/>
              <a:gd name="textAreaRight" fmla="*/ 818280 w 106020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990720" y="3962520"/>
            <a:ext cx="7772400" cy="1494360"/>
            <a:chOff x="990720" y="3962520"/>
            <a:chExt cx="7772400" cy="1494360"/>
          </a:xfrm>
        </p:grpSpPr>
        <p:sp>
          <p:nvSpPr>
            <p:cNvPr id="442" name=""/>
            <p:cNvSpPr/>
            <p:nvPr/>
          </p:nvSpPr>
          <p:spPr>
            <a:xfrm>
              <a:off x="990720" y="3962520"/>
              <a:ext cx="7772400" cy="1181160"/>
            </a:xfrm>
            <a:prstGeom prst="rect">
              <a:avLst/>
            </a:prstGeom>
            <a:noFill/>
            <a:ln w="982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19320" y="4083120"/>
              <a:ext cx="7467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التفكير يؤدي إلى توليد البدائل أما مجرد التصويت على أحد البدائل فلا يعني أنه الأفضل</a:t>
              </a: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ea typeface="Simplified Arabic"/>
                </a:rPr>
                <a:t> 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1828800" y="38088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2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16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500"/>
                            </p:stCondLst>
                            <p:childTnLst>
                              <p:par>
                                <p:cTn id="7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000"/>
                            </p:stCondLst>
                            <p:childTnLst>
                              <p:par>
                                <p:cTn id="7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4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790640" y="152280"/>
            <a:ext cx="6400800" cy="10191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46" name=""/>
          <p:cNvSpPr/>
          <p:nvPr/>
        </p:nvSpPr>
        <p:spPr>
          <a:xfrm>
            <a:off x="3276720" y="1569960"/>
            <a:ext cx="4800600" cy="1122840"/>
          </a:xfrm>
          <a:prstGeom prst="rect">
            <a:avLst/>
          </a:prstGeom>
          <a:solidFill>
            <a:srgbClr val="5f5f5f"/>
          </a:solidFill>
          <a:ln w="12600">
            <a:solidFill>
              <a:srgbClr val="ffff00"/>
            </a:solidFill>
            <a:miter/>
          </a:ln>
          <a:effectLst>
            <a:outerShdw dist="52300" dir="4563564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خروج من نفق الصراعات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280" y="2963880"/>
            <a:ext cx="9601200" cy="2751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ef3e9"/>
              </a:gs>
              <a:gs pos="100000">
                <a:srgbClr val="ffcc99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8839080" y="4346640"/>
            <a:ext cx="314280" cy="3016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523880" y="457200"/>
            <a:ext cx="6553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وصيـات لصناعة قرارات ناجحـة</a:t>
            </a:r>
            <a:r>
              <a:rPr b="1" lang="ar-SA" sz="3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83680" y="1471320"/>
            <a:ext cx="1060200" cy="957600"/>
          </a:xfrm>
          <a:custGeom>
            <a:avLst/>
            <a:gdLst>
              <a:gd name="textAreaLeft" fmla="*/ 241920 w 1060200"/>
              <a:gd name="textAreaRight" fmla="*/ 818280 w 106020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62120" y="3581280"/>
            <a:ext cx="7924320" cy="1920960"/>
            <a:chOff x="762120" y="3581280"/>
            <a:chExt cx="7924320" cy="1920960"/>
          </a:xfrm>
        </p:grpSpPr>
        <p:sp>
          <p:nvSpPr>
            <p:cNvPr id="452" name=""/>
            <p:cNvSpPr/>
            <p:nvPr/>
          </p:nvSpPr>
          <p:spPr>
            <a:xfrm>
              <a:off x="762120" y="3581280"/>
              <a:ext cx="7924320" cy="1638360"/>
            </a:xfrm>
            <a:prstGeom prst="rect">
              <a:avLst/>
            </a:prstGeom>
            <a:noFill/>
            <a:ln w="982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95040" y="3701880"/>
              <a:ext cx="7614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صناعة القرارات تقوم على الدراسة والتقييم والمعايير أما إذا تمت </a:t>
              </a:r>
              <a:r>
                <a:rPr b="1" lang="ar-AE" sz="2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بناءً</a:t>
              </a: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ea typeface="Simplified Arabic"/>
                </a:rPr>
                <a:t> على حسابات المصالح والصراعات ففي أحسن الأحوال تؤدي إلى حل وسط</a:t>
              </a: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ea typeface="Simplified Arabic"/>
                </a:rPr>
                <a:t> 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1905120" y="304920"/>
            <a:ext cx="75960" cy="7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00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790640" y="152280"/>
            <a:ext cx="6400800" cy="10191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56" name=""/>
          <p:cNvSpPr/>
          <p:nvPr/>
        </p:nvSpPr>
        <p:spPr>
          <a:xfrm>
            <a:off x="3276720" y="1569960"/>
            <a:ext cx="4800600" cy="1122840"/>
          </a:xfrm>
          <a:prstGeom prst="rect">
            <a:avLst/>
          </a:prstGeom>
          <a:solidFill>
            <a:srgbClr val="5f5f5f"/>
          </a:solidFill>
          <a:ln w="12600">
            <a:solidFill>
              <a:srgbClr val="ffff00"/>
            </a:solidFill>
            <a:miter/>
          </a:ln>
          <a:effectLst>
            <a:outerShdw dist="52300" dir="4563564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  <a:cs typeface="Simplified Arabic"/>
              </a:rPr>
              <a:t>إشراك الآخرين في صناعة القرار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895480"/>
            <a:ext cx="9601200" cy="2751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ef3e9"/>
              </a:gs>
              <a:gs pos="100000">
                <a:srgbClr val="ffcc99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839080" y="4267080"/>
            <a:ext cx="314280" cy="3016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523880" y="457200"/>
            <a:ext cx="6553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وصيـات لصناعة قرارات ناجحـة</a:t>
            </a:r>
            <a:r>
              <a:rPr b="1" lang="ar-SA" sz="3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83680" y="1471320"/>
            <a:ext cx="1060200" cy="957600"/>
          </a:xfrm>
          <a:custGeom>
            <a:avLst/>
            <a:gdLst>
              <a:gd name="textAreaLeft" fmla="*/ 241920 w 1060200"/>
              <a:gd name="textAreaRight" fmla="*/ 818280 w 106020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2120" y="3695760"/>
            <a:ext cx="7924680" cy="1333440"/>
          </a:xfrm>
          <a:prstGeom prst="rect">
            <a:avLst/>
          </a:prstGeom>
          <a:noFill/>
          <a:ln w="982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95400" y="3854520"/>
            <a:ext cx="761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حتمال الخطأ في القرار الفردي أكبر أما القرار الجماعي فهو أقرب للصحة والقبو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1905120" y="304920"/>
            <a:ext cx="75960" cy="7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500"/>
                            </p:stCondLst>
                            <p:childTnLst>
                              <p:par>
                                <p:cTn id="7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500"/>
                            </p:stCondLst>
                            <p:childTnLst>
                              <p:par>
                                <p:cTn id="8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9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6400800" cy="10191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65" name=""/>
          <p:cNvSpPr/>
          <p:nvPr/>
        </p:nvSpPr>
        <p:spPr>
          <a:xfrm>
            <a:off x="2743200" y="1798560"/>
            <a:ext cx="4800600" cy="1122840"/>
          </a:xfrm>
          <a:prstGeom prst="rect">
            <a:avLst/>
          </a:prstGeom>
          <a:solidFill>
            <a:srgbClr val="5f5f5f"/>
          </a:solidFill>
          <a:ln w="12600">
            <a:solidFill>
              <a:srgbClr val="ffff00"/>
            </a:solidFill>
            <a:miter/>
          </a:ln>
          <a:effectLst>
            <a:outerShdw dist="52300" dir="4563564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  <a:cs typeface="Simplified Arabic"/>
              </a:rPr>
              <a:t>ادرس ما تجهل ولا تكتفي بما تعلم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3880" y="457200"/>
            <a:ext cx="6553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وصيـات لصناعة قرارات ناجحـة</a:t>
            </a:r>
            <a:r>
              <a:rPr b="1" lang="ar-SA" sz="3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560" y="1699920"/>
            <a:ext cx="1060560" cy="957600"/>
          </a:xfrm>
          <a:custGeom>
            <a:avLst/>
            <a:gdLst>
              <a:gd name="textAreaLeft" fmla="*/ 241920 w 1060560"/>
              <a:gd name="textAreaRight" fmla="*/ 818640 w 106056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14600" y="3175200"/>
            <a:ext cx="5724360" cy="977400"/>
            <a:chOff x="2514600" y="3175200"/>
            <a:chExt cx="5724360" cy="977400"/>
          </a:xfrm>
        </p:grpSpPr>
        <p:pic>
          <p:nvPicPr>
            <p:cNvPr id="469" name="" descr=""/>
            <p:cNvPicPr/>
            <p:nvPr/>
          </p:nvPicPr>
          <p:blipFill>
            <a:blip r:embed="rId2"/>
            <a:stretch/>
          </p:blipFill>
          <p:spPr>
            <a:xfrm>
              <a:off x="7924680" y="3505320"/>
              <a:ext cx="314280" cy="3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514600" y="3175200"/>
              <a:ext cx="5295960" cy="9774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ff"/>
                  </a:solidFill>
                  <a:latin typeface="Simplified Arabic"/>
                  <a:cs typeface="Simplified Arabic"/>
                </a:rPr>
                <a:t>معلومات إضافية عن أسباب المشكلة </a:t>
              </a:r>
              <a:endParaRPr b="0" lang="en-US" sz="2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14600" y="4115160"/>
            <a:ext cx="5724360" cy="977400"/>
            <a:chOff x="2514600" y="4115160"/>
            <a:chExt cx="5724360" cy="977400"/>
          </a:xfrm>
        </p:grpSpPr>
        <p:pic>
          <p:nvPicPr>
            <p:cNvPr id="472" name="" descr=""/>
            <p:cNvPicPr/>
            <p:nvPr/>
          </p:nvPicPr>
          <p:blipFill>
            <a:blip r:embed="rId3"/>
            <a:stretch/>
          </p:blipFill>
          <p:spPr>
            <a:xfrm>
              <a:off x="7924680" y="4445280"/>
              <a:ext cx="314280" cy="3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2514600" y="4115160"/>
              <a:ext cx="5295960" cy="9774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ff"/>
                  </a:solidFill>
                  <a:latin typeface="Simplified Arabic"/>
                  <a:cs typeface="Simplified Arabic"/>
                </a:rPr>
                <a:t>معلومات عن معوقات تنفيذ القرار </a:t>
              </a:r>
              <a:endParaRPr b="0" lang="en-US" sz="2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14600" y="5042160"/>
            <a:ext cx="5724360" cy="977400"/>
            <a:chOff x="2514600" y="5042160"/>
            <a:chExt cx="5724360" cy="977400"/>
          </a:xfrm>
        </p:grpSpPr>
        <p:pic>
          <p:nvPicPr>
            <p:cNvPr id="475" name="" descr=""/>
            <p:cNvPicPr/>
            <p:nvPr/>
          </p:nvPicPr>
          <p:blipFill>
            <a:blip r:embed="rId4"/>
            <a:stretch/>
          </p:blipFill>
          <p:spPr>
            <a:xfrm>
              <a:off x="7924680" y="5372280"/>
              <a:ext cx="314280" cy="3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2514600" y="5042160"/>
              <a:ext cx="5295960" cy="9774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ff"/>
                  </a:solidFill>
                  <a:latin typeface="Simplified Arabic"/>
                  <a:cs typeface="Simplified Arabic"/>
                </a:rPr>
                <a:t>معلومات عن وجهة النظر المعارضة</a:t>
              </a:r>
              <a:endParaRPr b="0" lang="en-US" sz="2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477" name="" descr=""/>
          <p:cNvPicPr/>
          <p:nvPr/>
        </p:nvPicPr>
        <p:blipFill>
          <a:blip r:embed="rId5"/>
          <a:stretch/>
        </p:blipFill>
        <p:spPr>
          <a:xfrm>
            <a:off x="1981080" y="3049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3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790640" y="152280"/>
            <a:ext cx="6400800" cy="10191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79" name=""/>
          <p:cNvSpPr/>
          <p:nvPr/>
        </p:nvSpPr>
        <p:spPr>
          <a:xfrm>
            <a:off x="1828800" y="1712880"/>
            <a:ext cx="5405400" cy="1122840"/>
          </a:xfrm>
          <a:prstGeom prst="rect">
            <a:avLst/>
          </a:prstGeom>
          <a:solidFill>
            <a:srgbClr val="5f5f5f"/>
          </a:solidFill>
          <a:ln w="12600">
            <a:solidFill>
              <a:srgbClr val="ffff00"/>
            </a:solidFill>
            <a:miter/>
          </a:ln>
          <a:effectLst>
            <a:outerShdw dist="52300" dir="4563564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  <a:cs typeface="Simplified Arabic"/>
              </a:rPr>
              <a:t>لا تقرر لغيرك ولا تدع غيرك يقرر ل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457200"/>
            <a:ext cx="6553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وصيـات لصناعة قرارات ناجحـة</a:t>
            </a:r>
            <a:r>
              <a:rPr b="1" lang="ar-SA" sz="3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45360" y="1547640"/>
            <a:ext cx="1060560" cy="957600"/>
          </a:xfrm>
          <a:custGeom>
            <a:avLst/>
            <a:gdLst>
              <a:gd name="textAreaLeft" fmla="*/ 241920 w 1060560"/>
              <a:gd name="textAreaRight" fmla="*/ 818640 w 106056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2895480"/>
            <a:ext cx="9601200" cy="2751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ef3e9"/>
              </a:gs>
              <a:gs pos="100000">
                <a:srgbClr val="ffcc99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8839080" y="4267080"/>
            <a:ext cx="314280" cy="3016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62120" y="3695760"/>
            <a:ext cx="7924680" cy="1333440"/>
          </a:xfrm>
          <a:prstGeom prst="rect">
            <a:avLst/>
          </a:prstGeom>
          <a:noFill/>
          <a:ln w="982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5400" y="3854520"/>
            <a:ext cx="761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عندما تقرر لغيرك تعطيه المجال للهروب من المسؤولية وعندما يقرر لك غيرك فأنت تبحث عن مهرب من المسؤو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1905120" y="304920"/>
            <a:ext cx="75960" cy="7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500"/>
                            </p:stCondLst>
                            <p:childTnLst>
                              <p:par>
                                <p:cTn id="8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9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3" dur="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09480" y="5562720"/>
            <a:ext cx="8667720" cy="99036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Simplified Arabic"/>
              </a:rPr>
              <a:t>نسعى إلى إعداد الإنسان الخبير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2819520" y="228600"/>
            <a:ext cx="4324320" cy="137484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2590920" y="1828800"/>
            <a:ext cx="4800600" cy="1095840"/>
            <a:chOff x="2590920" y="1828800"/>
            <a:chExt cx="4800600" cy="1095840"/>
          </a:xfrm>
        </p:grpSpPr>
        <p:sp>
          <p:nvSpPr>
            <p:cNvPr id="490" name=""/>
            <p:cNvSpPr/>
            <p:nvPr/>
          </p:nvSpPr>
          <p:spPr>
            <a:xfrm>
              <a:off x="2590920" y="1828800"/>
              <a:ext cx="4800600" cy="74304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71800" y="1855800"/>
              <a:ext cx="3962520" cy="106884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معكم على طريق الإبداع</a:t>
              </a:r>
              <a:r>
                <a:rPr b="1" lang="ar-SA" sz="32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 txBox="1"/>
          <p:nvPr/>
        </p:nvSpPr>
        <p:spPr>
          <a:xfrm>
            <a:off x="7467480" y="525600"/>
            <a:ext cx="12384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ff"/>
                </a:solidFill>
                <a:latin typeface="Simplified Arabic"/>
              </a:rPr>
              <a:t>مجلة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Simplified Arabic"/>
              <a:ea typeface="Simplified Arabic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3581280" y="2781360"/>
            <a:ext cx="2971800" cy="2628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581280" y="2743200"/>
            <a:ext cx="2971800" cy="266688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3" dur="1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8" dur="1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3680" y="1419120"/>
            <a:ext cx="1063440" cy="957600"/>
          </a:xfrm>
          <a:custGeom>
            <a:avLst/>
            <a:gdLst>
              <a:gd name="textAreaLeft" fmla="*/ 242640 w 1063440"/>
              <a:gd name="textAreaRight" fmla="*/ 820800 w 106344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5f5f5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429000" y="1600200"/>
            <a:ext cx="4800600" cy="1205640"/>
            <a:chOff x="3429000" y="1600200"/>
            <a:chExt cx="4800600" cy="1205640"/>
          </a:xfrm>
        </p:grpSpPr>
        <p:sp>
          <p:nvSpPr>
            <p:cNvPr id="165" name=""/>
            <p:cNvSpPr/>
            <p:nvPr/>
          </p:nvSpPr>
          <p:spPr>
            <a:xfrm>
              <a:off x="3429000" y="1600200"/>
              <a:ext cx="4800600" cy="777960"/>
            </a:xfrm>
            <a:prstGeom prst="rect">
              <a:avLst/>
            </a:prstGeom>
            <a:noFill/>
            <a:ln w="76320">
              <a:solidFill>
                <a:srgbClr val="800080"/>
              </a:solidFill>
              <a:miter/>
            </a:ln>
            <a:effectLst>
              <a:outerShdw dist="107932" dir="189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33880" y="1676520"/>
              <a:ext cx="36385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4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مصيــدة الاستـدراج</a:t>
              </a: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666880" y="222120"/>
            <a:ext cx="5319720" cy="1577880"/>
            <a:chOff x="2666880" y="222120"/>
            <a:chExt cx="5319720" cy="1577880"/>
          </a:xfrm>
        </p:grpSpPr>
        <p:grpSp>
          <p:nvGrpSpPr>
            <p:cNvPr id="168" name=""/>
            <p:cNvGrpSpPr/>
            <p:nvPr/>
          </p:nvGrpSpPr>
          <p:grpSpPr>
            <a:xfrm>
              <a:off x="2666880" y="222120"/>
              <a:ext cx="5319720" cy="1155600"/>
              <a:chOff x="2666880" y="222120"/>
              <a:chExt cx="5319720" cy="1155600"/>
            </a:xfrm>
          </p:grpSpPr>
          <p:sp>
            <p:nvSpPr>
              <p:cNvPr id="169" name=""/>
              <p:cNvSpPr/>
              <p:nvPr/>
            </p:nvSpPr>
            <p:spPr>
              <a:xfrm>
                <a:off x="2666880" y="222120"/>
                <a:ext cx="5319720" cy="1145520"/>
              </a:xfrm>
              <a:prstGeom prst="flowChartMultidocumen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63360">
                <a:solidFill>
                  <a:srgbClr val="800080"/>
                </a:solidFill>
                <a:prstDash val="sysDot"/>
                <a:miter/>
              </a:ln>
              <a:effectLst>
                <a:outerShdw dist="107932" dir="135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Arial"/>
                    <a:ea typeface="Simplified Arabic"/>
                  </a:rPr>
                  <a:t> 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66240" y="676800"/>
                <a:ext cx="428724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971800" y="547560"/>
              <a:ext cx="356220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مصـائد القـرارات</a:t>
              </a:r>
              <a:r>
                <a:rPr b="1" lang="ar-SA" sz="3800" spc="-1" strike="noStrike">
                  <a:solidFill>
                    <a:srgbClr val="000000"/>
                  </a:solidFill>
                  <a:latin typeface="Arial"/>
                  <a:ea typeface="Simplified Arabic"/>
                </a:rPr>
                <a:t> </a:t>
              </a:r>
              <a:endParaRPr b="0" lang="en-US" sz="3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57400" y="2590920"/>
            <a:ext cx="5867280" cy="1037520"/>
            <a:chOff x="2057400" y="2590920"/>
            <a:chExt cx="5867280" cy="1037520"/>
          </a:xfrm>
        </p:grpSpPr>
        <p:sp>
          <p:nvSpPr>
            <p:cNvPr id="173" name=""/>
            <p:cNvSpPr/>
            <p:nvPr/>
          </p:nvSpPr>
          <p:spPr>
            <a:xfrm>
              <a:off x="2057400" y="2590920"/>
              <a:ext cx="5867280" cy="677880"/>
            </a:xfrm>
            <a:prstGeom prst="rect">
              <a:avLst/>
            </a:prstGeom>
            <a:noFill/>
            <a:ln w="982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38280" y="2681280"/>
              <a:ext cx="517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الاعتماد على معلومة متـاحة تبدو جذابة</a:t>
              </a: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9906120" cy="3505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45720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كم يبلغ عدد سكان تركيا  ؟</a:t>
            </a:r>
            <a:r>
              <a:rPr b="1" lang="ar-SA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72200"/>
            <a:ext cx="51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ليـون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3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 مليـون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5867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عظم الناس يختارون الجواب الثاني مع أن الجواب هو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6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 مليون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5410080"/>
            <a:ext cx="228600" cy="22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5410080"/>
            <a:ext cx="228600" cy="22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86200" y="3505320"/>
            <a:ext cx="2819160" cy="748440"/>
            <a:chOff x="3886200" y="3505320"/>
            <a:chExt cx="2819160" cy="748440"/>
          </a:xfrm>
        </p:grpSpPr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6379200" y="3684240"/>
              <a:ext cx="326160" cy="35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"/>
            <p:cNvGrpSpPr/>
            <p:nvPr/>
          </p:nvGrpSpPr>
          <p:grpSpPr>
            <a:xfrm>
              <a:off x="3886200" y="3505320"/>
              <a:ext cx="2216160" cy="748440"/>
              <a:chOff x="3886200" y="3505320"/>
              <a:chExt cx="2216160" cy="748440"/>
            </a:xfrm>
          </p:grpSpPr>
          <p:sp>
            <p:nvSpPr>
              <p:cNvPr id="185" name=""/>
              <p:cNvSpPr/>
              <p:nvPr/>
            </p:nvSpPr>
            <p:spPr>
              <a:xfrm>
                <a:off x="3886200" y="3505320"/>
                <a:ext cx="2216160" cy="678240"/>
              </a:xfrm>
              <a:prstGeom prst="rect">
                <a:avLst/>
              </a:prstGeom>
              <a:noFill/>
              <a:ln w="982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29480" y="3611160"/>
                <a:ext cx="195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000000"/>
                    </a:solidFill>
                    <a:latin typeface="Arial"/>
                    <a:cs typeface="Simplified Arabic"/>
                  </a:rPr>
                  <a:t>مثال</a:t>
                </a:r>
                <a:r>
                  <a:rPr b="1" lang="ar-SA" sz="3600" spc="-1" strike="noStrike">
                    <a:solidFill>
                      <a:srgbClr val="000000"/>
                    </a:solidFill>
                    <a:latin typeface="Arial"/>
                    <a:ea typeface="Simplified Arabic"/>
                  </a:rPr>
                  <a:t>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3680" y="1419120"/>
            <a:ext cx="1063440" cy="957600"/>
          </a:xfrm>
          <a:custGeom>
            <a:avLst/>
            <a:gdLst>
              <a:gd name="textAreaLeft" fmla="*/ 242640 w 1063440"/>
              <a:gd name="textAreaRight" fmla="*/ 820800 w 106344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5f5f5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429000" y="1600200"/>
            <a:ext cx="4800600" cy="1205640"/>
            <a:chOff x="3429000" y="1600200"/>
            <a:chExt cx="4800600" cy="1205640"/>
          </a:xfrm>
        </p:grpSpPr>
        <p:sp>
          <p:nvSpPr>
            <p:cNvPr id="189" name=""/>
            <p:cNvSpPr/>
            <p:nvPr/>
          </p:nvSpPr>
          <p:spPr>
            <a:xfrm>
              <a:off x="3429000" y="1600200"/>
              <a:ext cx="4800600" cy="777960"/>
            </a:xfrm>
            <a:prstGeom prst="rect">
              <a:avLst/>
            </a:prstGeom>
            <a:noFill/>
            <a:ln w="76320">
              <a:solidFill>
                <a:srgbClr val="800080"/>
              </a:solidFill>
              <a:miter/>
            </a:ln>
            <a:effectLst>
              <a:outerShdw dist="107932" dir="189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1280" y="1676520"/>
              <a:ext cx="44197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4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مصيـدة القطيع المنـدفع</a:t>
              </a: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666880" y="222120"/>
            <a:ext cx="5319720" cy="1577880"/>
            <a:chOff x="2666880" y="222120"/>
            <a:chExt cx="5319720" cy="1577880"/>
          </a:xfrm>
        </p:grpSpPr>
        <p:grpSp>
          <p:nvGrpSpPr>
            <p:cNvPr id="192" name=""/>
            <p:cNvGrpSpPr/>
            <p:nvPr/>
          </p:nvGrpSpPr>
          <p:grpSpPr>
            <a:xfrm>
              <a:off x="2666880" y="222120"/>
              <a:ext cx="5319720" cy="1155600"/>
              <a:chOff x="2666880" y="222120"/>
              <a:chExt cx="5319720" cy="1155600"/>
            </a:xfrm>
          </p:grpSpPr>
          <p:sp>
            <p:nvSpPr>
              <p:cNvPr id="193" name=""/>
              <p:cNvSpPr/>
              <p:nvPr/>
            </p:nvSpPr>
            <p:spPr>
              <a:xfrm>
                <a:off x="2666880" y="222120"/>
                <a:ext cx="5319720" cy="1145520"/>
              </a:xfrm>
              <a:prstGeom prst="flowChartMultidocumen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63360">
                <a:solidFill>
                  <a:srgbClr val="800080"/>
                </a:solidFill>
                <a:prstDash val="sysDot"/>
                <a:miter/>
              </a:ln>
              <a:effectLst>
                <a:outerShdw dist="107932" dir="135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Arial"/>
                  </a:rPr>
                  <a:t> 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766240" y="676800"/>
                <a:ext cx="428724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971800" y="547560"/>
              <a:ext cx="356220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مصـائد القـرارات</a:t>
              </a:r>
              <a:r>
                <a:rPr b="1" lang="ar-SA" sz="3800" spc="-1" strike="noStrike">
                  <a:solidFill>
                    <a:srgbClr val="000000"/>
                  </a:solidFill>
                  <a:latin typeface="Arial"/>
                  <a:ea typeface="Simplified Arabic"/>
                </a:rPr>
                <a:t> </a:t>
              </a:r>
              <a:endParaRPr b="0" lang="en-US" sz="3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133720" y="2827440"/>
            <a:ext cx="5638680" cy="1037520"/>
            <a:chOff x="2133720" y="2827440"/>
            <a:chExt cx="5638680" cy="1037520"/>
          </a:xfrm>
        </p:grpSpPr>
        <p:sp>
          <p:nvSpPr>
            <p:cNvPr id="197" name=""/>
            <p:cNvSpPr/>
            <p:nvPr/>
          </p:nvSpPr>
          <p:spPr>
            <a:xfrm>
              <a:off x="2133720" y="2827440"/>
              <a:ext cx="5638680" cy="677880"/>
            </a:xfrm>
            <a:prstGeom prst="rect">
              <a:avLst/>
            </a:prstGeom>
            <a:noFill/>
            <a:ln w="982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9480" y="2917800"/>
              <a:ext cx="4970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وتعني مجاراة التيار والالتزام بالمألوف</a:t>
              </a: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0" y="3809880"/>
            <a:ext cx="2714400" cy="732960"/>
            <a:chOff x="6858000" y="3809880"/>
            <a:chExt cx="2714400" cy="73296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9258120" y="3962520"/>
              <a:ext cx="314280" cy="30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6858000" y="3809880"/>
              <a:ext cx="2133720" cy="732960"/>
              <a:chOff x="6858000" y="3809880"/>
              <a:chExt cx="2133720" cy="732960"/>
            </a:xfrm>
          </p:grpSpPr>
          <p:sp>
            <p:nvSpPr>
              <p:cNvPr id="202" name=""/>
              <p:cNvSpPr/>
              <p:nvPr/>
            </p:nvSpPr>
            <p:spPr>
              <a:xfrm>
                <a:off x="6858000" y="3809880"/>
                <a:ext cx="2133720" cy="677880"/>
              </a:xfrm>
              <a:prstGeom prst="rect">
                <a:avLst/>
              </a:prstGeom>
              <a:noFill/>
              <a:ln w="982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96240" y="3900240"/>
                <a:ext cx="1881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000000"/>
                    </a:solidFill>
                    <a:latin typeface="Arial"/>
                    <a:cs typeface="Simplified Arabic"/>
                  </a:rPr>
                  <a:t>مثـال</a:t>
                </a:r>
                <a:r>
                  <a:rPr b="1" lang="ar-SA" sz="3600" spc="-1" strike="noStrike">
                    <a:solidFill>
                      <a:srgbClr val="000000"/>
                    </a:solidFill>
                    <a:latin typeface="Arial"/>
                    <a:ea typeface="Simplified Arabic"/>
                  </a:rPr>
                  <a:t>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609480" y="4808520"/>
            <a:ext cx="8839440" cy="1197000"/>
          </a:xfrm>
          <a:prstGeom prst="rect">
            <a:avLst/>
          </a:prstGeom>
          <a:noFill/>
          <a:ln w="982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49482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شابه المنتجات والسلع التي تطرحها الشركات وتردد الكثيرين في الابتكار والإبداع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971800" y="3049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383680" y="1884240"/>
            <a:ext cx="1063440" cy="957600"/>
          </a:xfrm>
          <a:custGeom>
            <a:avLst/>
            <a:gdLst>
              <a:gd name="textAreaLeft" fmla="*/ 242640 w 1063440"/>
              <a:gd name="textAreaRight" fmla="*/ 820800 w 106344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5f5f5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429000" y="1965240"/>
            <a:ext cx="4800600" cy="777960"/>
            <a:chOff x="3429000" y="1965240"/>
            <a:chExt cx="4800600" cy="777960"/>
          </a:xfrm>
        </p:grpSpPr>
        <p:sp>
          <p:nvSpPr>
            <p:cNvPr id="209" name=""/>
            <p:cNvSpPr/>
            <p:nvPr/>
          </p:nvSpPr>
          <p:spPr>
            <a:xfrm>
              <a:off x="3429000" y="1965240"/>
              <a:ext cx="4800600" cy="777960"/>
            </a:xfrm>
            <a:prstGeom prst="rect">
              <a:avLst/>
            </a:prstGeom>
            <a:noFill/>
            <a:ln w="76320">
              <a:solidFill>
                <a:srgbClr val="800080"/>
              </a:solidFill>
              <a:miter/>
            </a:ln>
            <a:effectLst>
              <a:outerShdw dist="107932" dir="189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81280" y="2041560"/>
              <a:ext cx="4419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4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مصيـدة ذيول الخطـأ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666880" y="222120"/>
            <a:ext cx="5319720" cy="1577880"/>
            <a:chOff x="2666880" y="222120"/>
            <a:chExt cx="5319720" cy="1577880"/>
          </a:xfrm>
        </p:grpSpPr>
        <p:grpSp>
          <p:nvGrpSpPr>
            <p:cNvPr id="212" name=""/>
            <p:cNvGrpSpPr/>
            <p:nvPr/>
          </p:nvGrpSpPr>
          <p:grpSpPr>
            <a:xfrm>
              <a:off x="2666880" y="222120"/>
              <a:ext cx="5319720" cy="1155600"/>
              <a:chOff x="2666880" y="222120"/>
              <a:chExt cx="5319720" cy="1155600"/>
            </a:xfrm>
          </p:grpSpPr>
          <p:sp>
            <p:nvSpPr>
              <p:cNvPr id="213" name=""/>
              <p:cNvSpPr/>
              <p:nvPr/>
            </p:nvSpPr>
            <p:spPr>
              <a:xfrm>
                <a:off x="2666880" y="222120"/>
                <a:ext cx="5319720" cy="1145520"/>
              </a:xfrm>
              <a:prstGeom prst="flowChartMultidocumen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63360">
                <a:solidFill>
                  <a:srgbClr val="800080"/>
                </a:solidFill>
                <a:prstDash val="sysDot"/>
                <a:miter/>
              </a:ln>
              <a:effectLst>
                <a:outerShdw dist="107932" dir="135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Arial"/>
                  </a:rPr>
                  <a:t> 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66240" y="676800"/>
                <a:ext cx="428724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971800" y="547560"/>
              <a:ext cx="356220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مصـائد القـرارات</a:t>
              </a:r>
              <a:r>
                <a:rPr b="1" lang="ar-SA" sz="3800" spc="-1" strike="noStrike">
                  <a:solidFill>
                    <a:srgbClr val="000000"/>
                  </a:solidFill>
                  <a:latin typeface="Arial"/>
                  <a:ea typeface="Simplified Arabic"/>
                </a:rPr>
                <a:t> </a:t>
              </a:r>
              <a:endParaRPr b="0" lang="en-US" sz="3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7200" y="3543480"/>
            <a:ext cx="8915400" cy="1180800"/>
          </a:xfrm>
          <a:prstGeom prst="rect">
            <a:avLst/>
          </a:prstGeom>
          <a:noFill/>
          <a:ln w="982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3692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إصدار سلسلة من القرارات المساندة للقرار الخطأ بهدف تحسينه مع أن الأفضل التراجع عنه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75960" cy="7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3680" y="1884240"/>
            <a:ext cx="1063440" cy="957600"/>
          </a:xfrm>
          <a:custGeom>
            <a:avLst/>
            <a:gdLst>
              <a:gd name="textAreaLeft" fmla="*/ 242640 w 1063440"/>
              <a:gd name="textAreaRight" fmla="*/ 820800 w 106344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5f5f5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429000" y="1965240"/>
            <a:ext cx="4800600" cy="1205640"/>
            <a:chOff x="3429000" y="1965240"/>
            <a:chExt cx="4800600" cy="1205640"/>
          </a:xfrm>
        </p:grpSpPr>
        <p:sp>
          <p:nvSpPr>
            <p:cNvPr id="221" name=""/>
            <p:cNvSpPr/>
            <p:nvPr/>
          </p:nvSpPr>
          <p:spPr>
            <a:xfrm>
              <a:off x="3429000" y="1965240"/>
              <a:ext cx="4800600" cy="777960"/>
            </a:xfrm>
            <a:prstGeom prst="rect">
              <a:avLst/>
            </a:prstGeom>
            <a:noFill/>
            <a:ln w="76320">
              <a:solidFill>
                <a:srgbClr val="800080"/>
              </a:solidFill>
              <a:miter/>
            </a:ln>
            <a:effectLst>
              <a:outerShdw dist="107932" dir="189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81280" y="2041560"/>
              <a:ext cx="44197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4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مصيـدة القرار المعكـوس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66880" y="222120"/>
            <a:ext cx="5319720" cy="1577880"/>
            <a:chOff x="2666880" y="222120"/>
            <a:chExt cx="5319720" cy="1577880"/>
          </a:xfrm>
        </p:grpSpPr>
        <p:grpSp>
          <p:nvGrpSpPr>
            <p:cNvPr id="224" name=""/>
            <p:cNvGrpSpPr/>
            <p:nvPr/>
          </p:nvGrpSpPr>
          <p:grpSpPr>
            <a:xfrm>
              <a:off x="2666880" y="222120"/>
              <a:ext cx="5319720" cy="1155600"/>
              <a:chOff x="2666880" y="222120"/>
              <a:chExt cx="5319720" cy="1155600"/>
            </a:xfrm>
          </p:grpSpPr>
          <p:sp>
            <p:nvSpPr>
              <p:cNvPr id="225" name=""/>
              <p:cNvSpPr/>
              <p:nvPr/>
            </p:nvSpPr>
            <p:spPr>
              <a:xfrm>
                <a:off x="2666880" y="222120"/>
                <a:ext cx="5319720" cy="1145520"/>
              </a:xfrm>
              <a:prstGeom prst="flowChartMultidocumen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63360">
                <a:solidFill>
                  <a:srgbClr val="800080"/>
                </a:solidFill>
                <a:prstDash val="sysDot"/>
                <a:miter/>
              </a:ln>
              <a:effectLst>
                <a:outerShdw dist="107932" dir="135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Arial"/>
                  </a:rPr>
                  <a:t> 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66240" y="676800"/>
                <a:ext cx="428724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2971800" y="547560"/>
              <a:ext cx="356220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مصـائد القـرارات</a:t>
              </a:r>
              <a:r>
                <a:rPr b="1" lang="ar-SA" sz="3800" spc="-1" strike="noStrike">
                  <a:solidFill>
                    <a:srgbClr val="000000"/>
                  </a:solidFill>
                  <a:latin typeface="Arial"/>
                  <a:ea typeface="Simplified Arabic"/>
                </a:rPr>
                <a:t> </a:t>
              </a:r>
              <a:endParaRPr b="0" lang="en-US" sz="3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7200" y="3513240"/>
            <a:ext cx="8915400" cy="1104840"/>
          </a:xfrm>
          <a:prstGeom prst="rect">
            <a:avLst/>
          </a:prstGeom>
          <a:noFill/>
          <a:ln w="982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3603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تخاذ القرار أولاً ثم محاولة تبريره ، مع أن الصحيح هو وضع المبررات ودراستها ثم اتخاذ القرار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124080" y="3049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2666880" y="533520"/>
            <a:ext cx="4800600" cy="879480"/>
            <a:chOff x="2666880" y="533520"/>
            <a:chExt cx="4800600" cy="879480"/>
          </a:xfrm>
        </p:grpSpPr>
        <p:sp>
          <p:nvSpPr>
            <p:cNvPr id="232" name=""/>
            <p:cNvSpPr/>
            <p:nvPr/>
          </p:nvSpPr>
          <p:spPr>
            <a:xfrm>
              <a:off x="2666880" y="533520"/>
              <a:ext cx="4800600" cy="879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3d8fe"/>
                </a:gs>
              </a:gsLst>
              <a:lin ang="5400000"/>
            </a:gradFill>
            <a:ln w="101520">
              <a:solidFill>
                <a:srgbClr val="800080"/>
              </a:solidFill>
              <a:miter/>
            </a:ln>
            <a:effectLst>
              <a:outerShdw dist="107932" dir="189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520" y="685800"/>
              <a:ext cx="4495680" cy="67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800" spc="-1" strike="noStrike">
                  <a:solidFill>
                    <a:srgbClr val="5f5f5f"/>
                  </a:solidFill>
                  <a:latin typeface="Simplified Arabic"/>
                  <a:cs typeface="Simplified Arabic"/>
                </a:rPr>
                <a:t>آليــة صنـع القـرار</a:t>
              </a:r>
              <a:endParaRPr b="0" lang="en-US" sz="3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305920" y="1738440"/>
            <a:ext cx="1066680" cy="957600"/>
          </a:xfrm>
          <a:custGeom>
            <a:avLst/>
            <a:gdLst>
              <a:gd name="textAreaLeft" fmla="*/ 243360 w 1066680"/>
              <a:gd name="textAreaRight" fmla="*/ 823320 w 106668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9a9a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Simplified Arabic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05120"/>
            <a:ext cx="4534200" cy="642600"/>
          </a:xfrm>
          <a:prstGeom prst="rect">
            <a:avLst/>
          </a:prstGeom>
          <a:solidFill>
            <a:srgbClr val="5f5f5f"/>
          </a:solidFill>
          <a:ln w="0">
            <a:noFill/>
          </a:ln>
          <a:effectLst>
            <a:outerShdw dist="107932" dir="135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  <a:cs typeface="Simplified Arabic"/>
              </a:rPr>
              <a:t>تقييـم المـوقـ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429000"/>
            <a:ext cx="8458200" cy="1419120"/>
          </a:xfrm>
          <a:prstGeom prst="rect">
            <a:avLst/>
          </a:prstGeom>
          <a:solidFill>
            <a:srgbClr val="990099"/>
          </a:solidFill>
          <a:ln w="0">
            <a:noFill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cc"/>
                </a:solidFill>
                <a:latin typeface="Arial"/>
                <a:cs typeface="Simplified Arabic"/>
              </a:rPr>
              <a:t>دراسة المشكلة وتحليلها وتحديد الفرص والتهديدات وتنتهي بوضع أهداف يسعى القرار لتحقيقها</a:t>
            </a:r>
            <a:r>
              <a:rPr b="1" lang="ar-SA" sz="29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5257800"/>
            <a:ext cx="8458200" cy="977400"/>
          </a:xfrm>
          <a:prstGeom prst="rect">
            <a:avLst/>
          </a:prstGeom>
          <a:solidFill>
            <a:srgbClr val="990099"/>
          </a:solidFill>
          <a:ln w="0">
            <a:noFill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cc"/>
                </a:solidFill>
                <a:latin typeface="Arial"/>
                <a:cs typeface="Simplified Arabic"/>
              </a:rPr>
              <a:t>إذا لم تكن الأهداف واضحة ومحددة فأي قرار يتخذ يكون فاشلاً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62120" y="3352680"/>
            <a:ext cx="8458200" cy="977400"/>
          </a:xfrm>
          <a:prstGeom prst="rect">
            <a:avLst/>
          </a:prstGeom>
          <a:solidFill>
            <a:srgbClr val="990099"/>
          </a:solidFill>
          <a:ln w="0">
            <a:noFill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بدائل هي الخيارات الممكنة وكل بديل يمكن أن يكون قراراً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666880" y="533520"/>
            <a:ext cx="4800600" cy="879480"/>
            <a:chOff x="2666880" y="533520"/>
            <a:chExt cx="4800600" cy="879480"/>
          </a:xfrm>
        </p:grpSpPr>
        <p:sp>
          <p:nvSpPr>
            <p:cNvPr id="241" name=""/>
            <p:cNvSpPr/>
            <p:nvPr/>
          </p:nvSpPr>
          <p:spPr>
            <a:xfrm>
              <a:off x="2666880" y="533520"/>
              <a:ext cx="4800600" cy="879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3d8fe"/>
                </a:gs>
              </a:gsLst>
              <a:lin ang="5400000"/>
            </a:gradFill>
            <a:ln w="101520">
              <a:solidFill>
                <a:srgbClr val="800080"/>
              </a:solidFill>
              <a:miter/>
            </a:ln>
            <a:effectLst>
              <a:outerShdw dist="107932" dir="189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9520" y="685800"/>
              <a:ext cx="4495680" cy="67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800" spc="-1" strike="noStrike">
                  <a:solidFill>
                    <a:srgbClr val="5f5f5f"/>
                  </a:solidFill>
                  <a:latin typeface="Simplified Arabic"/>
                  <a:cs typeface="Simplified Arabic"/>
                </a:rPr>
                <a:t>آليــة صنـع القـرار</a:t>
              </a:r>
              <a:endParaRPr b="0" lang="en-US" sz="3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8305920" y="1738440"/>
            <a:ext cx="1066680" cy="957600"/>
          </a:xfrm>
          <a:custGeom>
            <a:avLst/>
            <a:gdLst>
              <a:gd name="textAreaLeft" fmla="*/ 243360 w 1066680"/>
              <a:gd name="textAreaRight" fmla="*/ 823320 w 106668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9a9a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Times New Roman"/>
                <a:ea typeface="Simplified Arabic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1905120"/>
            <a:ext cx="4534200" cy="642600"/>
          </a:xfrm>
          <a:prstGeom prst="rect">
            <a:avLst/>
          </a:prstGeom>
          <a:solidFill>
            <a:srgbClr val="5f5f5f"/>
          </a:solidFill>
          <a:ln w="0">
            <a:noFill/>
          </a:ln>
          <a:effectLst>
            <a:outerShdw dist="107932" dir="135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  <a:cs typeface="Simplified Arabic"/>
              </a:rPr>
              <a:t>تـوليـد البـدائل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343400"/>
            <a:ext cx="8458200" cy="977400"/>
          </a:xfrm>
          <a:prstGeom prst="rect">
            <a:avLst/>
          </a:prstGeom>
          <a:solidFill>
            <a:srgbClr val="990099"/>
          </a:solidFill>
          <a:ln w="0">
            <a:noFill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cc"/>
                </a:solidFill>
                <a:latin typeface="Arial"/>
                <a:cs typeface="Simplified Arabic"/>
              </a:rPr>
              <a:t>كلما زادت البدائل كانت فرصة نجاح القرار أكبـر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334120"/>
            <a:ext cx="8458200" cy="535680"/>
          </a:xfrm>
          <a:prstGeom prst="rect">
            <a:avLst/>
          </a:prstGeom>
          <a:solidFill>
            <a:srgbClr val="990099"/>
          </a:solidFill>
          <a:ln w="0">
            <a:noFill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cc"/>
                </a:solidFill>
                <a:latin typeface="Arial"/>
                <a:cs typeface="Simplified Arabic"/>
              </a:rPr>
              <a:t>وجود بديل واحد فقط يلغي عملية صنع القرار</a:t>
            </a:r>
            <a:r>
              <a:rPr b="1" lang="ar-SA" sz="29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666880" y="152280"/>
            <a:ext cx="4800600" cy="879480"/>
            <a:chOff x="2666880" y="152280"/>
            <a:chExt cx="4800600" cy="879480"/>
          </a:xfrm>
        </p:grpSpPr>
        <p:sp>
          <p:nvSpPr>
            <p:cNvPr id="249" name=""/>
            <p:cNvSpPr/>
            <p:nvPr/>
          </p:nvSpPr>
          <p:spPr>
            <a:xfrm>
              <a:off x="2666880" y="152280"/>
              <a:ext cx="4800600" cy="879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3d8fe"/>
                </a:gs>
              </a:gsLst>
              <a:lin ang="5400000"/>
            </a:gradFill>
            <a:ln w="101520">
              <a:solidFill>
                <a:srgbClr val="800080"/>
              </a:solidFill>
              <a:miter/>
            </a:ln>
            <a:effectLst>
              <a:outerShdw dist="107932" dir="189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19520" y="304560"/>
              <a:ext cx="4495680" cy="67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800" spc="-1" strike="noStrike">
                  <a:solidFill>
                    <a:srgbClr val="5f5f5f"/>
                  </a:solidFill>
                  <a:latin typeface="Simplified Arabic"/>
                  <a:cs typeface="Simplified Arabic"/>
                </a:rPr>
                <a:t>آليــة صنـع القـرار</a:t>
              </a:r>
              <a:endParaRPr b="0" lang="en-US" sz="3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620120" y="1119240"/>
            <a:ext cx="1066680" cy="957600"/>
          </a:xfrm>
          <a:custGeom>
            <a:avLst/>
            <a:gdLst>
              <a:gd name="textAreaLeft" fmla="*/ 243360 w 1066680"/>
              <a:gd name="textAreaRight" fmla="*/ 823320 w 1066680"/>
              <a:gd name="textAreaTop" fmla="*/ 218520 h 957600"/>
              <a:gd name="textAreaBottom" fmla="*/ 739080 h 9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9a9a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Times New Roman"/>
                <a:ea typeface="Simplified Arabic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1285920"/>
            <a:ext cx="4533840" cy="1191240"/>
          </a:xfrm>
          <a:prstGeom prst="rect">
            <a:avLst/>
          </a:prstGeom>
          <a:solidFill>
            <a:srgbClr val="5f5f5f"/>
          </a:solidFill>
          <a:ln w="0">
            <a:noFill/>
          </a:ln>
          <a:effectLst>
            <a:outerShdw dist="107932" dir="135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مفاضلة بين البدائل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2209680"/>
            <a:ext cx="8001000" cy="977400"/>
          </a:xfrm>
          <a:prstGeom prst="rect">
            <a:avLst/>
          </a:prstGeom>
          <a:solidFill>
            <a:srgbClr val="990099"/>
          </a:solidFill>
          <a:ln w="0">
            <a:noFill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مفاضلة تتم بالدراسة والتحليل باستخدام المعايير</a:t>
            </a:r>
            <a:r>
              <a:rPr b="1" lang="ar-SA" sz="29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2895480"/>
            <a:ext cx="8001000" cy="977400"/>
          </a:xfrm>
          <a:prstGeom prst="rect">
            <a:avLst/>
          </a:prstGeom>
          <a:solidFill>
            <a:srgbClr val="990099"/>
          </a:solidFill>
          <a:ln w="0">
            <a:noFill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مفاضلة بدون معايير لا تقود إلى البديل الأفضل</a:t>
            </a:r>
            <a:r>
              <a:rPr b="1" lang="ar-SA" sz="29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8600" y="5576760"/>
            <a:ext cx="38750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Arial"/>
                <a:cs typeface="Simplified Arabic"/>
              </a:rPr>
              <a:t>جدول ضرب القرارات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62320" y="3505320"/>
          <a:ext cx="5054400" cy="3198600"/>
        </p:xfrm>
        <a:graphic>
          <a:graphicData uri="http://schemas.openxmlformats.org/drawingml/2006/table">
            <a:tbl>
              <a:tblPr/>
              <a:tblGrid>
                <a:gridCol w="1011240"/>
                <a:gridCol w="1011240"/>
                <a:gridCol w="1009440"/>
                <a:gridCol w="1011240"/>
                <a:gridCol w="101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أ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ب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ج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د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ffffcc"/>
                          </a:solidFill>
                          <a:latin typeface="Times New Roman"/>
                          <a:cs typeface="Simplified Arabic"/>
                        </a:rPr>
                        <a:t>ب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ffffcc"/>
                          </a:solidFill>
                          <a:latin typeface="Times New Roman"/>
                          <a:cs typeface="Simplified Arabic"/>
                        </a:rPr>
                        <a:t>أ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ffffcc"/>
                          </a:solidFill>
                          <a:latin typeface="Times New Roman"/>
                          <a:cs typeface="Simplified Arabic"/>
                        </a:rPr>
                        <a:t>د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أ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ffffcc"/>
                          </a:solidFill>
                          <a:latin typeface="Times New Roman"/>
                          <a:cs typeface="Simplified Arabic"/>
                        </a:rPr>
                        <a:t>ب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ffffcc"/>
                          </a:solidFill>
                          <a:latin typeface="Times New Roman"/>
                          <a:cs typeface="Simplified Arabic"/>
                        </a:rPr>
                        <a:t>ب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ب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ffffcc"/>
                          </a:solidFill>
                          <a:latin typeface="Times New Roman"/>
                          <a:cs typeface="Simplified Arabic"/>
                        </a:rPr>
                        <a:t>د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ج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ar-SA" sz="36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د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Hussein Yaghi</dc:creator>
  <dc:description/>
  <dc:language>en-US</dc:language>
  <cp:lastModifiedBy>talhamdan</cp:lastModifiedBy>
  <cp:lastPrinted>1999-09-28T07:47:02Z</cp:lastPrinted>
  <dcterms:modified xsi:type="dcterms:W3CDTF">2006-02-14T08:23:23Z</dcterms:modified>
  <cp:revision>1724</cp:revision>
  <dc:subject/>
  <dc:title>No Slide Title</dc:title>
</cp:coreProperties>
</file>