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90DA5-CFFA-4D47-B650-D2CC07ED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4C03-2F57-40AC-BA72-02BA41D9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71542-14E8-4093-BA58-2C23298F2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D1AB1-FA7B-4C92-8DBC-FFCD0CAC9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7C7D8-9261-42DF-9473-DC8D112D7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18C4-2EFE-4FFB-9629-8126B3D35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EA015-10BB-4127-B62C-3863E170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69681-2E0B-410F-8C7A-FF892476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23F23-8B47-4074-A1F7-803649B45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5614-8BF8-4754-9E68-24E34DAB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9384-1010-4C7D-A06A-7F777CFB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B1399-7188-438E-8338-16803BAB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088C-E8E0-4B25-B342-C348648513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contrast="24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u="sng">
                <a:solidFill>
                  <a:srgbClr val="008000"/>
                </a:solidFill>
                <a:uFillTx/>
                <a:latin typeface="Arial"/>
                <a:cs typeface="Simple Indust Shaded"/>
              </a:rPr>
              <a:t>ثلاثة أنماط للسلو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5</a:t>
            </a:r>
            <a:endParaRPr b="0" lang="en-US" sz="3200" spc="-1" strike="noStrike">
              <a:solidFill>
                <a:srgbClr val="000000"/>
              </a:solidFill>
              <a:latin typeface="Arial"/>
            </a:endParaRPr>
          </a:p>
        </p:txBody>
      </p:sp>
      <p:sp>
        <p:nvSpPr>
          <p:cNvPr id="367" name="PlaceHolder 2"/>
          <p:cNvSpPr>
            <a:spLocks noGrp="1"/>
          </p:cNvSpPr>
          <p:nvPr>
            <p:ph/>
          </p:nvPr>
        </p:nvSpPr>
        <p:spPr>
          <a:xfrm>
            <a:off x="60480" y="901800"/>
            <a:ext cx="9023040" cy="5938560"/>
          </a:xfrm>
          <a:prstGeom prst="rect">
            <a:avLst/>
          </a:prstGeom>
          <a:noFill/>
          <a:ln w="0">
            <a:noFill/>
          </a:ln>
        </p:spPr>
        <p:txBody>
          <a:bodyPr lIns="90000" rIns="90000" tIns="46800" bIns="46800" anchor="t">
            <a:normAutofit fontScale="78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م بتجزئة الأمر الى خطوات صغيرة </a:t>
            </a:r>
            <a:endParaRPr b="0" lang="en-US" sz="24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هذا يعود بنا الى النصيحة رقم </a:t>
            </a:r>
            <a:r>
              <a:rPr b="1" lang="ar-SA" sz="2200" spc="-1" strike="noStrike">
                <a:solidFill>
                  <a:srgbClr val="000000"/>
                </a:solidFill>
                <a:latin typeface="Arial"/>
              </a:rPr>
              <a:t>2</a:t>
            </a:r>
            <a:r>
              <a:rPr b="1" lang="ar-SA" sz="2200" spc="-1" strike="noStrike">
                <a:solidFill>
                  <a:srgbClr val="000000"/>
                </a:solidFill>
                <a:latin typeface="Arial"/>
              </a:rPr>
              <a:t> التي تناولناها من قبل إذا كنت تجد صعوبة خاصة في التعامل مع شخص معين ،فليس من الحكمة أن تحاول أن تكون حاسماً معه تماماً في الحال . سوف يكون هذا كثيراً عليك . وبلغة الرياضيين ، سوف يكون هذا أشبه بمحاولة خوض سباق الماراتون بدون أي تدريب أو ممارسة . أنت هنا لن تفشل فحسب ، ولكن سيكون هذا مؤلما لك للغاية . على سبيل المثال ، إذا كنت قد فررت أن تكون حاسماً مع مديرك في العمل الذي يقوم بتهديدك وتخويفك ، فقسم سلوكك الى مراحل وبالتالي تزيد من وقتك ببطء .</a:t>
            </a:r>
            <a:endParaRPr b="0" lang="en-US" sz="2200" spc="-1" strike="noStrike">
              <a:solidFill>
                <a:srgbClr val="000000"/>
              </a:solidFill>
              <a:latin typeface="Arial"/>
            </a:endParaRPr>
          </a:p>
          <a:p>
            <a:pPr indent="1476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حرص على أن تتواجد في أي مكان يتواجد به بقدر الإمكان . لا يتعين عليك هذا أن تقول أي شيء أو تتصرف بشكل مختلف عن الطبيعي ، ثم بعد ذلك : </a:t>
            </a:r>
            <a:endParaRPr b="0" lang="en-US" sz="2200" spc="-1" strike="noStrike">
              <a:solidFill>
                <a:srgbClr val="000000"/>
              </a:solidFill>
              <a:latin typeface="Arial"/>
            </a:endParaRPr>
          </a:p>
          <a:p>
            <a:pPr indent="1476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استخدم لغة الجسد الحاسمة عن طريق الاتصال بالعين واتجاه الجسم والحيز الشخصي .ومرة ثاني لا يتعين عليك هذا أن تقول أي شيء بعد ذلك وعندما تكون مستعداً </a:t>
            </a:r>
            <a:endParaRPr b="0" lang="en-US" sz="2200" spc="-1" strike="noStrike">
              <a:solidFill>
                <a:srgbClr val="000000"/>
              </a:solidFill>
              <a:latin typeface="Arial"/>
            </a:endParaRPr>
          </a:p>
          <a:p>
            <a:pPr indent="1476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عندما يتكلم هذا الشخص ،لخص ما قاله في عبارات موجزة كلما كان ذلك ممكناّ ، مثلاً  ”إذن ما تحاول أن تقوله هو...، فهل هذا صحيح؟“ بعد ذلك ، وعندما تكون مستعداً :</a:t>
            </a:r>
            <a:endParaRPr b="0" lang="en-US" sz="2200" spc="-1" strike="noStrike">
              <a:solidFill>
                <a:srgbClr val="000000"/>
              </a:solidFill>
              <a:latin typeface="Arial"/>
            </a:endParaRPr>
          </a:p>
          <a:p>
            <a:pPr indent="1476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استخدم طريقة الاختلاف في الرأي المقترحة في موضع سابق من هذا الكتاب (انظر ص</a:t>
            </a:r>
            <a:r>
              <a:rPr b="1" lang="ar-SA" sz="2200" spc="-1" strike="noStrike">
                <a:solidFill>
                  <a:srgbClr val="000000"/>
                </a:solidFill>
                <a:latin typeface="Arial"/>
              </a:rPr>
              <a:t>66</a:t>
            </a:r>
            <a:r>
              <a:rPr b="1" lang="ar-SA" sz="2200" spc="-1" strike="noStrike">
                <a:solidFill>
                  <a:srgbClr val="000000"/>
                </a:solidFill>
                <a:latin typeface="Arial"/>
              </a:rPr>
              <a:t>)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من المحتمل أن يكون الأشخاص الذين تجدهم ذوي طبيعة صعبة عدوانيين وليسوا حاسمين ، ولذلك فإن سلوكك الجديد سوف يفاجئهم .توقع منهم استجابة عدوانية مبدئية ،وتعامل معها بحسم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68000" y="274680"/>
            <a:ext cx="8218440" cy="417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6</a:t>
            </a:r>
            <a:endParaRPr b="0" lang="en-US" sz="3200" spc="-1" strike="noStrike">
              <a:solidFill>
                <a:srgbClr val="000000"/>
              </a:solidFill>
              <a:latin typeface="Arial"/>
            </a:endParaRPr>
          </a:p>
        </p:txBody>
      </p:sp>
      <p:sp>
        <p:nvSpPr>
          <p:cNvPr id="369" name="PlaceHolder 2"/>
          <p:cNvSpPr>
            <a:spLocks noGrp="1"/>
          </p:cNvSpPr>
          <p:nvPr>
            <p:ph/>
          </p:nvPr>
        </p:nvSpPr>
        <p:spPr>
          <a:xfrm>
            <a:off x="181080" y="728280"/>
            <a:ext cx="8781840" cy="5940360"/>
          </a:xfrm>
          <a:prstGeom prst="rect">
            <a:avLst/>
          </a:prstGeom>
          <a:noFill/>
          <a:ln w="0">
            <a:noFill/>
          </a:ln>
        </p:spPr>
        <p:txBody>
          <a:bodyPr lIns="90000" rIns="90000" tIns="46800" bIns="46800" anchor="t">
            <a:normAutofit fontScale="82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إعطاء المديح </a:t>
            </a:r>
            <a:endParaRPr b="0" lang="en-US" sz="2400" spc="-1" strike="noStrike">
              <a:solidFill>
                <a:srgbClr val="000000"/>
              </a:solidFill>
              <a:latin typeface="Arial"/>
            </a:endParaRPr>
          </a:p>
          <a:p>
            <a:pPr indent="154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300" spc="-1" strike="noStrike">
                <a:solidFill>
                  <a:srgbClr val="000000"/>
                </a:solidFill>
                <a:latin typeface="Arial"/>
              </a:rPr>
              <a:t>قم بعمل قائمة بأسماء خمسة من أصدقائك أو زملائك وأمام كل واحد منهم اذكر ثلاثة أو أربعة أشياء تعجبك فيه ، وفكر في مواقف أظهروا فيها هذه السمات أو السلوكيات .</a:t>
            </a:r>
            <a:endParaRPr b="0" lang="en-US" sz="2300" spc="-1" strike="noStrike">
              <a:solidFill>
                <a:srgbClr val="000000"/>
              </a:solidFill>
              <a:latin typeface="Arial"/>
            </a:endParaRPr>
          </a:p>
          <a:p>
            <a:pPr indent="154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 اكتب ما ستقوله لهم في المرة القادمة عندما يظهرون هذا السلوك استخدم عبارات في صيغة المتكلم (”أعتقد أنك/أشعر أنك /أود أن أخبرك أنك حسن جداً في...“ بدلاً حسن جداً في...) وكن دقيقاً مع الإشارة الى سلوكهم الفعلي في خلال مدحك لهم .</a:t>
            </a:r>
            <a:endParaRPr b="0" lang="en-US" sz="2300" spc="-1" strike="noStrike">
              <a:solidFill>
                <a:srgbClr val="000000"/>
              </a:solidFill>
              <a:latin typeface="Arial"/>
            </a:endParaRPr>
          </a:p>
          <a:p>
            <a:pPr indent="154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 انظر كيف يستجيبون لذلك ولاحظ ما إذا كانوا يزيدون من فعل هذا السلوك عندما يكونون معك.</a:t>
            </a:r>
            <a:endParaRPr b="0" lang="en-US" sz="2300" spc="-1" strike="noStrike">
              <a:solidFill>
                <a:srgbClr val="000000"/>
              </a:solidFill>
              <a:latin typeface="Arial"/>
            </a:endParaRPr>
          </a:p>
          <a:p>
            <a:pPr indent="154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 في كل أسبوع ،اعقد العزم على أن تمتدح على الأقل ثلاثة أشخاص على عملهم أو سلوكهم أو ما يقدمونه لك من دعم دون ملاحظة في دفتر يومياتك بما تقدمه لهم من مديح لتذكر نفسك بأنك قد فعلت ذلك المسألة ليست سهلة !</a:t>
            </a:r>
            <a:endParaRPr b="0" lang="en-US" sz="2300" spc="-1" strike="noStrike">
              <a:solidFill>
                <a:srgbClr val="000000"/>
              </a:solidFill>
              <a:latin typeface="Arial"/>
            </a:endParaRPr>
          </a:p>
          <a:p>
            <a:pPr indent="15480" algn="r" rtl="1">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rPr>
              <a:t> قم بعمل قائمة بكل الأشياء المحددة التي تعجبك في شريكة حياتك أو والدك أو والدتك او طفلك .خطط مسبقاً ليوم تعرف فيه أن هذا الشخص لن يكون مشغولاً واجلس معه ،وأخبره بكل الأشياء التي تعجبك على نحو خاص وكمكافأة امنحه يوماً يوماً يفعل فيه ما يحلو له ، ويمكنك فيه أن تقوم بتدليله . لماذا تنتظر عيد الأم أو الأب أو يوع عيد الميلاد؟ افعل ذلك الآن !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7</a:t>
            </a:r>
            <a:endParaRPr b="0" lang="en-US" sz="3200" spc="-1" strike="noStrike">
              <a:solidFill>
                <a:srgbClr val="000000"/>
              </a:solidFill>
              <a:latin typeface="Arial"/>
            </a:endParaRPr>
          </a:p>
        </p:txBody>
      </p:sp>
      <p:sp>
        <p:nvSpPr>
          <p:cNvPr id="371" name="PlaceHolder 2"/>
          <p:cNvSpPr>
            <a:spLocks noGrp="1"/>
          </p:cNvSpPr>
          <p:nvPr>
            <p:ph/>
          </p:nvPr>
        </p:nvSpPr>
        <p:spPr>
          <a:xfrm>
            <a:off x="111240" y="1125360"/>
            <a:ext cx="8921520" cy="5553360"/>
          </a:xfrm>
          <a:prstGeom prst="rect">
            <a:avLst/>
          </a:prstGeom>
          <a:noFill/>
          <a:ln w="0">
            <a:noFill/>
          </a:ln>
        </p:spPr>
        <p:txBody>
          <a:bodyPr lIns="90000" rIns="90000" tIns="46800" bIns="46800" anchor="t">
            <a:normAutofit fontScale="8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بحث لك عن معلم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بر تعرفه ويعرفك جيداً وتحترم آراءه أنك قد بدأت في العمل على برنامج الحسم الشخصي الخاص بك ، وأنك سوف تقدر له بشكل كبير أن تقبل أن يكون معلمك في بعض الأوقات ، وهذا لأنك تكن له الكثير من التقدير والاحترا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طرح عليه واستعرض وناقش معه : </a:t>
            </a:r>
            <a:endParaRPr b="0" lang="en-US" sz="2400" spc="-1" strike="noStrike">
              <a:solidFill>
                <a:srgbClr val="000000"/>
              </a:solidFill>
              <a:latin typeface="Arial"/>
            </a:endParaRPr>
          </a:p>
          <a:p>
            <a:pPr indent="16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هدافك وغاياتك </a:t>
            </a:r>
            <a:endParaRPr b="0" lang="en-US" sz="2400" spc="-1" strike="noStrike">
              <a:solidFill>
                <a:srgbClr val="000000"/>
              </a:solidFill>
              <a:latin typeface="Arial"/>
            </a:endParaRPr>
          </a:p>
          <a:p>
            <a:pPr indent="16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صوص التي تقوم بكتابتها </a:t>
            </a:r>
            <a:endParaRPr b="0" lang="en-US" sz="2400" spc="-1" strike="noStrike">
              <a:solidFill>
                <a:srgbClr val="000000"/>
              </a:solidFill>
              <a:latin typeface="Arial"/>
            </a:endParaRPr>
          </a:p>
          <a:p>
            <a:pPr indent="16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جاحاتك وإخفاقاتك </a:t>
            </a:r>
            <a:endParaRPr b="0" lang="en-US" sz="2400" spc="-1" strike="noStrike">
              <a:solidFill>
                <a:srgbClr val="000000"/>
              </a:solidFill>
              <a:latin typeface="Arial"/>
            </a:endParaRPr>
          </a:p>
          <a:p>
            <a:pPr indent="16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أشياء التي تجدها صعبة </a:t>
            </a:r>
            <a:endParaRPr b="0" lang="en-US" sz="2400" spc="-1" strike="noStrike">
              <a:solidFill>
                <a:srgbClr val="000000"/>
              </a:solidFill>
              <a:latin typeface="Arial"/>
            </a:endParaRPr>
          </a:p>
          <a:p>
            <a:pPr indent="16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أشياء التي تجدها سهل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في نهاية كل اجتماع ، اتفق معه على الأهداف ، وعلى ما ستفعله في المرحلة القادم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لميح :</a:t>
            </a:r>
            <a:r>
              <a:rPr b="0" lang="ar-SA" sz="2400" spc="-1" strike="noStrike">
                <a:solidFill>
                  <a:srgbClr val="000000"/>
                </a:solidFill>
                <a:latin typeface="Arial"/>
              </a:rPr>
              <a:t> اجعل هناك فاصلاً زمنياً بين الاجتماعات من ستة الى ثمانية أسابيع ، وهذا لكي تمنح وقتاً كافياً للتدريب وللفشل والتعلم والمحاولة قم بعمل سجل تدون فيه تقدم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8</a:t>
            </a:r>
            <a:endParaRPr b="0" lang="en-US" sz="3200" spc="-1" strike="noStrike">
              <a:solidFill>
                <a:srgbClr val="000000"/>
              </a:solidFill>
              <a:latin typeface="Arial"/>
            </a:endParaRPr>
          </a:p>
        </p:txBody>
      </p:sp>
      <p:sp>
        <p:nvSpPr>
          <p:cNvPr id="373" name="PlaceHolder 2"/>
          <p:cNvSpPr>
            <a:spLocks noGrp="1"/>
          </p:cNvSpPr>
          <p:nvPr>
            <p:ph/>
          </p:nvPr>
        </p:nvSpPr>
        <p:spPr>
          <a:xfrm>
            <a:off x="163440" y="931680"/>
            <a:ext cx="8817120" cy="5857560"/>
          </a:xfrm>
          <a:prstGeom prst="rect">
            <a:avLst/>
          </a:prstGeom>
          <a:noFill/>
          <a:ln w="0">
            <a:noFill/>
          </a:ln>
        </p:spPr>
        <p:txBody>
          <a:bodyPr lIns="90000" rIns="90000" tIns="46800" bIns="46800" anchor="t">
            <a:normAutofit fontScale="9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التقييم والنقد </a:t>
            </a:r>
            <a:endParaRPr b="0" lang="en-US" sz="2400" spc="-1" strike="noStrike">
              <a:solidFill>
                <a:srgbClr val="000000"/>
              </a:solidFill>
              <a:latin typeface="Arial"/>
            </a:endParaRPr>
          </a:p>
          <a:p>
            <a:pPr indent="1764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200" spc="-1" strike="noStrike">
                <a:solidFill>
                  <a:srgbClr val="000000"/>
                </a:solidFill>
                <a:latin typeface="Arial"/>
              </a:rPr>
              <a:t>تخبر شخصاً تعرفه ويعرف سلوكك جيداً وتحترم آراءه أخبره أنك قد بدأت في العمل على برنامج الحسم الشخصي الخاص بك وأنك تقدر ما سيعطيه لك من تقييم وهذا لأنك تكن له الكثير من التقدير والاحترام . </a:t>
            </a:r>
            <a:endParaRPr b="0" lang="en-US" sz="2200" spc="-1" strike="noStrike">
              <a:solidFill>
                <a:srgbClr val="000000"/>
              </a:solidFill>
              <a:latin typeface="Arial"/>
            </a:endParaRPr>
          </a:p>
          <a:p>
            <a:pPr indent="1764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اتفق معه على مقابلته في موعد ومكان مناسب لكما تتوفر فيه عناصر الخصوصية والسرية والارتياح </a:t>
            </a:r>
            <a:endParaRPr b="0" lang="en-US" sz="2200" spc="-1" strike="noStrike">
              <a:solidFill>
                <a:srgbClr val="000000"/>
              </a:solidFill>
              <a:latin typeface="Arial"/>
            </a:endParaRPr>
          </a:p>
          <a:p>
            <a:pPr indent="1764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قبل الاجتماع بعدة أيام أرسل القائمة الموجودة أدناه ،واطلب منه تقييماً محدداً ، مع اكبر عدد ممكن من الأمثلة الفعلية على سلوكك .</a:t>
            </a:r>
            <a:endParaRPr b="0" lang="en-US" sz="2200" spc="-1" strike="noStrike">
              <a:solidFill>
                <a:srgbClr val="000000"/>
              </a:solidFill>
              <a:latin typeface="Arial"/>
            </a:endParaRPr>
          </a:p>
          <a:p>
            <a:pPr indent="1764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اتفقا على بروتوكولات السرية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rPr>
              <a:t>القائمة </a:t>
            </a:r>
            <a:endParaRPr b="0" lang="en-US" sz="2200" spc="-1" strike="noStrike">
              <a:solidFill>
                <a:srgbClr val="000000"/>
              </a:solidFill>
              <a:latin typeface="Arial"/>
            </a:endParaRPr>
          </a:p>
          <a:p>
            <a:pPr indent="1764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ما الشيء الجذاب في شخصيتي ولماذا ؟ </a:t>
            </a:r>
            <a:endParaRPr b="0" lang="en-US" sz="2200" spc="-1" strike="noStrike">
              <a:solidFill>
                <a:srgbClr val="000000"/>
              </a:solidFill>
              <a:latin typeface="Arial"/>
            </a:endParaRPr>
          </a:p>
          <a:p>
            <a:pPr indent="1764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ما الشيء غير الجذاب في شخصيتي ولماذا؟ </a:t>
            </a:r>
            <a:endParaRPr b="0" lang="en-US" sz="2200" spc="-1" strike="noStrike">
              <a:solidFill>
                <a:srgbClr val="000000"/>
              </a:solidFill>
              <a:latin typeface="Arial"/>
            </a:endParaRPr>
          </a:p>
          <a:p>
            <a:pPr indent="1764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ما رأيك في طريقة ملبسي وفي الصورة التي توصلها عني ؟ </a:t>
            </a:r>
            <a:endParaRPr b="0" lang="en-US" sz="2200" spc="-1" strike="noStrike">
              <a:solidFill>
                <a:srgbClr val="000000"/>
              </a:solidFill>
              <a:latin typeface="Arial"/>
            </a:endParaRPr>
          </a:p>
          <a:p>
            <a:pPr indent="1764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في أي موقف استخدمت فيه قدراتي كاملة ، وأين تكمن فرص التحسين ؟ </a:t>
            </a:r>
            <a:endParaRPr b="0" lang="en-US" sz="2200" spc="-1" strike="noStrike">
              <a:solidFill>
                <a:srgbClr val="000000"/>
              </a:solidFill>
              <a:latin typeface="Arial"/>
            </a:endParaRPr>
          </a:p>
          <a:p>
            <a:pPr indent="17640" algn="r" rtl="1">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أي من عاداتي الشخصية تسبب لك الضيق والإزعاج ولماذا؟</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8</a:t>
            </a:r>
            <a:endParaRPr b="0" lang="en-US" sz="3200" spc="-1" strike="noStrike">
              <a:solidFill>
                <a:srgbClr val="000000"/>
              </a:solidFill>
              <a:latin typeface="Arial"/>
            </a:endParaRPr>
          </a:p>
        </p:txBody>
      </p:sp>
      <p:sp>
        <p:nvSpPr>
          <p:cNvPr id="375" name="PlaceHolder 2"/>
          <p:cNvSpPr>
            <a:spLocks noGrp="1"/>
          </p:cNvSpPr>
          <p:nvPr>
            <p:ph/>
          </p:nvPr>
        </p:nvSpPr>
        <p:spPr>
          <a:xfrm>
            <a:off x="42840" y="917640"/>
            <a:ext cx="9058320" cy="6045120"/>
          </a:xfrm>
          <a:prstGeom prst="rect">
            <a:avLst/>
          </a:prstGeom>
          <a:noFill/>
          <a:ln w="0">
            <a:noFill/>
          </a:ln>
        </p:spPr>
        <p:txBody>
          <a:bodyPr lIns="90000" rIns="90000" tIns="46800" bIns="46800" anchor="t">
            <a:normAutofit fontScale="99000"/>
          </a:bodyPr>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rPr>
              <a:t>التقييم والنقد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6</a:t>
            </a:r>
            <a:r>
              <a:rPr b="1" lang="ar-SA" sz="2200" spc="-1" strike="noStrike">
                <a:solidFill>
                  <a:srgbClr val="000000"/>
                </a:solidFill>
                <a:latin typeface="Arial"/>
              </a:rPr>
              <a:t>. في رأيك الى أي مدى أبدو واثقاً من نفسي ولماذا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7</a:t>
            </a:r>
            <a:r>
              <a:rPr b="1" lang="ar-SA" sz="2200" spc="-1" strike="noStrike">
                <a:solidFill>
                  <a:srgbClr val="000000"/>
                </a:solidFill>
                <a:latin typeface="Arial"/>
              </a:rPr>
              <a:t>. في رأيك الى أي مدى أبدو  حاسماً ولماذا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8</a:t>
            </a:r>
            <a:r>
              <a:rPr b="1" lang="ar-SA" sz="2200" spc="-1" strike="noStrike">
                <a:solidFill>
                  <a:srgbClr val="000000"/>
                </a:solidFill>
                <a:latin typeface="Arial"/>
              </a:rPr>
              <a:t>. ما رائك فيما لدي من مهارات التواصل مع الآخرين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9</a:t>
            </a:r>
            <a:r>
              <a:rPr b="1" lang="ar-SA" sz="2200" spc="-1" strike="noStrike">
                <a:solidFill>
                  <a:srgbClr val="000000"/>
                </a:solidFill>
                <a:latin typeface="Arial"/>
              </a:rPr>
              <a:t>. كيف يمكنني أن أحسن علاقاتي مع الآخرين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0</a:t>
            </a:r>
            <a:r>
              <a:rPr b="1" lang="ar-SA" sz="2200" spc="-1" strike="noStrike">
                <a:solidFill>
                  <a:srgbClr val="000000"/>
                </a:solidFill>
                <a:latin typeface="Arial"/>
              </a:rPr>
              <a:t>. ما مدى فصاحتي ولياقتي في الكلام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1</a:t>
            </a:r>
            <a:r>
              <a:rPr b="1" lang="ar-SA" sz="2200" spc="-1" strike="noStrike">
                <a:solidFill>
                  <a:srgbClr val="000000"/>
                </a:solidFill>
                <a:latin typeface="Arial"/>
              </a:rPr>
              <a:t>. كيف أظهر مشاعري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2</a:t>
            </a:r>
            <a:r>
              <a:rPr b="1" lang="ar-SA" sz="2200" spc="-1" strike="noStrike">
                <a:solidFill>
                  <a:srgbClr val="000000"/>
                </a:solidFill>
                <a:latin typeface="Arial"/>
              </a:rPr>
              <a:t>. إذا أمكن أن تصنفني في ثلاث صفات فقط ، فما هي ولماذا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3</a:t>
            </a:r>
            <a:r>
              <a:rPr b="1" lang="ar-SA" sz="2200" spc="-1" strike="noStrike">
                <a:solidFill>
                  <a:srgbClr val="000000"/>
                </a:solidFill>
                <a:latin typeface="Arial"/>
              </a:rPr>
              <a:t>. ما الذي يجب على أن أفعله لكي احسن من مهارتي الاجتماعية ؟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4</a:t>
            </a:r>
            <a:r>
              <a:rPr b="1" lang="ar-SA" sz="2200" spc="-1" strike="noStrike">
                <a:solidFill>
                  <a:srgbClr val="000000"/>
                </a:solidFill>
                <a:latin typeface="Arial"/>
              </a:rPr>
              <a:t>.أي نوع من الأزواج/الآباء/الأصدقاء/الموظفين وجدتني عليه وما الذي يمكنني فعله لكي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أتحسن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5</a:t>
            </a:r>
            <a:r>
              <a:rPr b="1" lang="ar-SA" sz="2200" spc="-1" strike="noStrike">
                <a:solidFill>
                  <a:srgbClr val="000000"/>
                </a:solidFill>
                <a:latin typeface="Arial"/>
              </a:rPr>
              <a:t>. ما الذي يتعين على تغييره لكي أحسن علاقتي معك ؟</a:t>
            </a:r>
            <a:endParaRPr b="0" lang="en-US" sz="2200" spc="-1" strike="noStrike">
              <a:solidFill>
                <a:srgbClr val="000000"/>
              </a:solidFill>
              <a:latin typeface="Arial"/>
            </a:endParaRPr>
          </a:p>
          <a:p>
            <a:pPr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مثل هذه المعلومات لا تقدر بثمن تقبلها كما هي ولا تحاول أن تدافع عن نفسك أمام صديقك أو أمام نفسك . </a:t>
            </a:r>
            <a:endParaRPr b="0" lang="en-US" sz="2200" spc="-1" strike="noStrike">
              <a:solidFill>
                <a:srgbClr val="000000"/>
              </a:solidFill>
              <a:latin typeface="Arial"/>
            </a:endParaRPr>
          </a:p>
          <a:p>
            <a:pPr indent="1872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اعمل في ضوء هذه المعلومات باستخدام قائمة المراجعة الخاصة بالتعامل مع النقد والمقدمة في مرحلة سابقة من هذا الكتاب (انظر ص </a:t>
            </a:r>
            <a:r>
              <a:rPr b="1" lang="ar-SA" sz="2200" spc="-1" strike="noStrike">
                <a:solidFill>
                  <a:srgbClr val="000000"/>
                </a:solidFill>
                <a:latin typeface="Arial"/>
              </a:rPr>
              <a:t>58</a:t>
            </a:r>
            <a:r>
              <a:rPr b="1" lang="ar-SA" sz="2200" spc="-1" strike="noStrike">
                <a:solidFill>
                  <a:srgbClr val="000000"/>
                </a:solidFill>
                <a:latin typeface="Arial"/>
              </a:rPr>
              <a:t> ، </a:t>
            </a:r>
            <a:r>
              <a:rPr b="1" lang="ar-SA" sz="2200" spc="-1" strike="noStrike">
                <a:solidFill>
                  <a:srgbClr val="000000"/>
                </a:solidFill>
                <a:latin typeface="Arial"/>
              </a:rPr>
              <a:t>59</a:t>
            </a:r>
            <a:r>
              <a:rPr b="1" lang="ar-SA" sz="2200" spc="-1" strike="noStrike">
                <a:solidFill>
                  <a:srgbClr val="000000"/>
                </a:solidFill>
                <a:latin typeface="Arial"/>
              </a:rPr>
              <a:t> )تأمل كافة المعلومات ،وحدد أي جانب منها سوف تختار العمل عليه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9</a:t>
            </a:r>
            <a:endParaRPr b="0" lang="en-US" sz="3200" spc="-1" strike="noStrike">
              <a:solidFill>
                <a:srgbClr val="000000"/>
              </a:solidFill>
              <a:latin typeface="Arial"/>
            </a:endParaRPr>
          </a:p>
        </p:txBody>
      </p:sp>
      <p:sp>
        <p:nvSpPr>
          <p:cNvPr id="377" name="PlaceHolder 2"/>
          <p:cNvSpPr>
            <a:spLocks noGrp="1"/>
          </p:cNvSpPr>
          <p:nvPr>
            <p:ph/>
          </p:nvPr>
        </p:nvSpPr>
        <p:spPr>
          <a:xfrm>
            <a:off x="163440" y="1039680"/>
            <a:ext cx="8817120" cy="5440320"/>
          </a:xfrm>
          <a:prstGeom prst="rect">
            <a:avLst/>
          </a:prstGeom>
          <a:noFill/>
          <a:ln w="0">
            <a:noFill/>
          </a:ln>
        </p:spPr>
        <p:txBody>
          <a:bodyPr lIns="90000" rIns="90000" tIns="46800" bIns="46800" anchor="t">
            <a:normAutofit fontScale="87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جانب كبير من الحسم يرتبط بتقدير الذات وبما نتمسك به عن آراء عن أنفسنا . ويمكنك أن تحسن من تقديرك لذاتك بشكل كبير بأن تعتني بنفسك . وأنت تعرف القواعد الأساسية التالية ولكنها وضعت هنا لتذكر بأن تفعل شيئاً حيالها ، وتشجعك على ذلك . </a:t>
            </a:r>
            <a:endParaRPr b="0" lang="en-US" sz="2400" spc="-1" strike="noStrike">
              <a:solidFill>
                <a:srgbClr val="000000"/>
              </a:solidFill>
              <a:latin typeface="Arial"/>
            </a:endParaRPr>
          </a:p>
          <a:p>
            <a:pPr indent="1656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زد أو أنقص من وزنك حتى تصل الى وزنك المثالي مع وضع حالة جسمك وبنية</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ظامك في الاعتبار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مارس التمرينات الرياضية بانتظام حتى تصبح لائقاً بدنياً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جسمك هو ما تأكله ولذلك تناول الطعام بشكل معقول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خطط للحصول على وقت خاص لنفسك كل أسبوع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توقف عن مشاهدة التليفزيون ، بدلاً من ذلك ركز على أحد الاهتمامات الأخرى التي</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ستفيدك بشكل ما : جسدياً أو اجتماعياً أو فكرياً أو عاطقياً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خطط لقضاء وقت طيب مع أسرتك ومن يهمونك عاطفياً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7</a:t>
            </a:r>
            <a:r>
              <a:rPr b="0" lang="ar-SA" sz="2400" spc="-1" strike="noStrike">
                <a:solidFill>
                  <a:srgbClr val="000000"/>
                </a:solidFill>
                <a:latin typeface="Arial"/>
              </a:rPr>
              <a:t>. قم بمكافأة نفسك على نجاحاتك : مكافآت صغيرة على الأشياء الصغيرة ، ومكافآت</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همة على الإنجازات الخطي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10</a:t>
            </a:r>
            <a:endParaRPr b="0" lang="en-US" sz="3200" spc="-1" strike="noStrike">
              <a:solidFill>
                <a:srgbClr val="000000"/>
              </a:solidFill>
              <a:latin typeface="Arial"/>
            </a:endParaRPr>
          </a:p>
        </p:txBody>
      </p:sp>
      <p:sp>
        <p:nvSpPr>
          <p:cNvPr id="379" name="PlaceHolder 2"/>
          <p:cNvSpPr>
            <a:spLocks noGrp="1"/>
          </p:cNvSpPr>
          <p:nvPr>
            <p:ph/>
          </p:nvPr>
        </p:nvSpPr>
        <p:spPr>
          <a:xfrm>
            <a:off x="77760" y="1125000"/>
            <a:ext cx="8988480" cy="507852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أي وقت ، وفي أي مكان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ممارسة الحسم في أي وقت وفي أي مكان ، وفيما يلي بعض الأفكار : </a:t>
            </a:r>
            <a:endParaRPr b="0" lang="en-US" sz="2400" spc="-1" strike="noStrike">
              <a:solidFill>
                <a:srgbClr val="000000"/>
              </a:solidFill>
              <a:latin typeface="Arial"/>
            </a:endParaRPr>
          </a:p>
          <a:p>
            <a:pPr indent="1764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أنت في طريقك الى العمل ، جرب أن تلفت انتباه الآخرين ثم بعد ذلك تحافظ على اتصالك بالعين معهم الى أ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 ) ينظروا في اتجاه آخ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 تبتسم وتقول ” صباح الخي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ذهب الى محل تجاري واختر شيئاً لتشتريه وساوم على السعر عن طريق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 ) تقديم عرض للبائع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 سؤاله إن أمكنه البيع بسعر أرخص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استخدم الأسلوب المفترض استخدمه في الحديث مع الأسرة والأصدقاء وراقب النتائج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hi-IN" sz="3200" spc="-1" strike="noStrike">
                <a:solidFill>
                  <a:srgbClr val="cc0000"/>
                </a:solidFill>
                <a:latin typeface="Arial"/>
                <a:cs typeface="PT Bold Heading"/>
              </a:rPr>
              <a:t>الخيارات الثلاث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واجه الحيوانات مواقف عصبية يكون أمامها خيارا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هرب   =  عدم الحسم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واجهة  =  العدوان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ا الإنسان فأمامه خيار ثالث : الذي يعتبر بشكل أساسي استجابة محسوبة ومدروسة للمواقف الصعب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دعنا ننظر الى هذه الخيارات الثلاثة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دم الحسم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عدواني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سم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تى نستطيع أن نميزها في أنفسنا وحتى نصبح قادرين على إدارتها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7" name="PlaceHolder 2"/>
          <p:cNvSpPr>
            <a:spLocks noGrp="1"/>
          </p:cNvSpPr>
          <p:nvPr>
            <p:ph/>
          </p:nvPr>
        </p:nvSpPr>
        <p:spPr>
          <a:xfrm>
            <a:off x="457200" y="1267920"/>
            <a:ext cx="8400960" cy="5372280"/>
          </a:xfrm>
          <a:prstGeom prst="rect">
            <a:avLst/>
          </a:prstGeom>
          <a:noFill/>
          <a:ln w="0">
            <a:noFill/>
          </a:ln>
        </p:spPr>
        <p:txBody>
          <a:bodyPr lIns="90000" rIns="90000" tIns="46800" bIns="46800" anchor="t">
            <a:normAutofit fontScale="9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udir MT"/>
              </a:rPr>
              <a:t>الشخص غير الحاسم  : </a:t>
            </a:r>
            <a:endParaRPr b="0" lang="en-US" sz="28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رفض التعبير عن آرائه وعن مشاعره على وجه الخصوص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غالباً ما يشعر باستغلال الآخرين له وإساءة معاملته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ظل هادئاً بينما يستغل الآخرين الفرص والمواقف المتاح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حجم عن الشكوى عندما لا تكون الخدمات أو المنتجات على المستوى المطلوب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جد صعوبة في رفض ما يفرضه الآخرون على وقته ومصادره من مطالب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ذعن لآراء ورغبات ، رغم أنها قد تتعارض مع آرائه ورغباته الشخصي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ثيراً ما يقدم تنازلات من أجل تحقيق التوافق والانسجام مع ا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ره أن يضايق أو يزعج الآخرين بالتعبير عن رغباته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سم بالخضوع في حضور السلوك العدواني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فضل أن يحتفظ بآرائه لنفسه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شعر بأنه عديم القي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9" name="PlaceHolder 2"/>
          <p:cNvSpPr>
            <a:spLocks noGrp="1"/>
          </p:cNvSpPr>
          <p:nvPr>
            <p:ph/>
          </p:nvPr>
        </p:nvSpPr>
        <p:spPr>
          <a:xfrm>
            <a:off x="96840" y="1114560"/>
            <a:ext cx="8950320" cy="5410080"/>
          </a:xfrm>
          <a:prstGeom prst="rect">
            <a:avLst/>
          </a:prstGeom>
          <a:noFill/>
          <a:ln w="0">
            <a:noFill/>
          </a:ln>
        </p:spPr>
        <p:txBody>
          <a:bodyPr lIns="90000" rIns="90000" tIns="46800" bIns="46800" anchor="t">
            <a:normAutofit fontScale="90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سبا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خوف من مضايقة الآخرين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خرافة في العلاقات بيت الأشخاص تقول : إذا ضحيت بما فيه الكفاية ،واجتهدت بما فيه الكفاية واهتممت بما فيه الطفاية ،وسامحت بها فيه الكفاية ،فسوف تحصل على استحسان الآخرين .ثم تزداد هذه الخرافة سواءاً : وإذا لم تحصل على استحسانهم فالسبب في ذلك هو انك تتنازل بما فيه الكفاية ، ولا تجتهد بما فيه الكفاية ،ولا تهتم بما فيع الكفاية ..الخ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ان تختار أن تغير سلوكك إذا اعتقدت أن الثمن الذي ستتكبده من خسارة صداقة الأشخاص أكبر من فعل أو قول ما تريده ،ولكن من النادر حقاً أن يكون هناك شيء بهذه الأهمية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قيقتك هي شيء مطلق ومستقل عن مشاعره الآخرين تجاهك . إن ما يعتقده الآخرون عنك لا يزيد أو ينقص من حقيقتك شيئاً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ادة ما يريد منك الآخرون أن تغير سلوكك عندما لا يحصلون على يريدونه بالضبط ، وحتى إذا كان رأيهم فيك سلبياً فما تعرفه أنت عن نفسك وعن حقيقتك لا يتأثر أو يتغ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41" name="PlaceHolder 2"/>
          <p:cNvSpPr>
            <a:spLocks noGrp="1"/>
          </p:cNvSpPr>
          <p:nvPr>
            <p:ph/>
          </p:nvPr>
        </p:nvSpPr>
        <p:spPr>
          <a:xfrm>
            <a:off x="216000" y="1052280"/>
            <a:ext cx="8712000" cy="5365800"/>
          </a:xfrm>
          <a:prstGeom prst="rect">
            <a:avLst/>
          </a:prstGeom>
          <a:noFill/>
          <a:ln w="0">
            <a:noFill/>
          </a:ln>
        </p:spPr>
        <p:txBody>
          <a:bodyPr lIns="90000" rIns="90000" tIns="46800" bIns="46800" anchor="t">
            <a:normAutofit fontScale="9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سبا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وف من الرفض</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ه هي الصورة المفرطة للخوف من مضايقة الآخرين فإذا كنت تعرف أن طلب ما تريده كم الطرف الآخرون يوف يتسبب في مضايفته تمتنع عن هذا الطلب ، خشية أن يتجلى عن مساعدتك ويرفضك كلية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العلاقات بين الناس ، يجب أن هناك أخذ وعطاء ، ولكن إذا كان الطرف واحد فقط هو الذي يأخذ باستمرار والطرف الآخر هو الذي يعطي باستمرار ،إذا فهناك خلل في العلاقة بشكل أساسي وثمن هذا أكبر من أن يتحمله أي إنسان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ادة ما تكفي دقيقة واحدة فقط من التأمل لجعلك تدرك أن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 ) إذا قال لك الآخر ”لا“ في موقف ما فليس هذا رفضاً لك كشخص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 أما إذا أراد أن يرفضك بالفعل إذن فثمن صداقته باهظ جداً على أية حا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43"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سبا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شعور بالمسئولية عن الطرف الآخر في العلاق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ناك فرق حقيقي بين الإساءة الى شخص ما الفعل و“شعور“ هذا الشخص بأنك قد أسأت إليه . أنت لست مسئولاً عن مشاعر الآخرين إذا كان الطرف الآخر ”يشعر“ بأنك قد أسأت إليه لأنك قد أعطيت الأولوية بشكل منطقي يمكن تبريره لحاجتك أنت إذن فهذا خياره هو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ا يختلف تماماً عن موقف تسيء فيه شخص آخر من خلال سلوك عدواني من خلال الاعتداء على حقوقه أو استغلاله بشكل معتمد أو عدم احترامه كإنسا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صوات الداخلية غير الملائم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ا يحدث عندما تكون القواعد التي نسترشد بها في حياتنا قد حددها لنا أشخاص آخرون ، عادة خلال طفولتنا ولا نزال بها (انظر صفحة </a:t>
            </a:r>
            <a:r>
              <a:rPr b="0" lang="ar-SA" sz="2400" spc="-1" strike="noStrike">
                <a:solidFill>
                  <a:srgbClr val="000000"/>
                </a:solidFill>
                <a:latin typeface="Arial"/>
              </a:rPr>
              <a:t>22</a:t>
            </a:r>
            <a:r>
              <a:rPr b="0" lang="ar-SA" sz="2400" spc="-1" strike="noStrike">
                <a:solidFill>
                  <a:srgbClr val="000000"/>
                </a:solidFill>
                <a:latin typeface="Arial"/>
              </a:rPr>
              <a:t> لمزيد من الأفكار حول هذا الموضوع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45" name="PlaceHolder 2"/>
          <p:cNvSpPr>
            <a:spLocks noGrp="1"/>
          </p:cNvSpPr>
          <p:nvPr>
            <p:ph/>
          </p:nvPr>
        </p:nvSpPr>
        <p:spPr>
          <a:xfrm>
            <a:off x="0" y="980640"/>
            <a:ext cx="8964720" cy="5877000"/>
          </a:xfrm>
          <a:prstGeom prst="rect">
            <a:avLst/>
          </a:prstGeom>
          <a:noFill/>
          <a:ln w="0">
            <a:noFill/>
          </a:ln>
        </p:spPr>
        <p:txBody>
          <a:bodyPr lIns="90000" rIns="90000" tIns="46800" bIns="46800" anchor="t">
            <a:normAutofit fontScale="92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لعاب الذهنية المحبطة للذات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يل ذات مرة إن هناك حقيقتين : الأشياء كما نراها نحن ، والأشياء كما حقيقتها. والطريقة التي نرى بها أنفسنا وتجاربنا يمكن أن تؤثر علينا وعلى سلوكنا بشكل كبير فإذا ما كان ترى وتدركه هو ما يشكل الحقائق بالنسبة لك ، يجب أن تحرص بشدة على تنخرط في حيل أو العاب ذهنية محبطة للذات.يجب أن تكون على دراية بما يطلق عليه علماء النفس ”التشوهات المعرفية وهي الطريقة التي يضفي بها العقل تفسيراً غير مناسب على تجربة محايد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حقائق محايدة + تفسير انفعالي = حقيقة مشوه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عميم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هويل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صنيف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راءة الأفكار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رشيح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شخيص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سوف نناقش كلا منها تباع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47" name="PlaceHolder 2"/>
          <p:cNvSpPr>
            <a:spLocks noGrp="1"/>
          </p:cNvSpPr>
          <p:nvPr>
            <p:ph/>
          </p:nvPr>
        </p:nvSpPr>
        <p:spPr>
          <a:xfrm>
            <a:off x="457200" y="1125000"/>
            <a:ext cx="8229600" cy="5078520"/>
          </a:xfrm>
          <a:prstGeom prst="rect">
            <a:avLst/>
          </a:prstGeom>
          <a:noFill/>
          <a:ln w="0">
            <a:noFill/>
          </a:ln>
        </p:spPr>
        <p:txBody>
          <a:bodyPr lIns="90000" rIns="90000" tIns="46800" bIns="46800" anchor="t">
            <a:normAutofit fontScale="8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لعاب الذهنية المحبطة للذات</a:t>
            </a:r>
            <a:endParaRPr b="0" lang="en-US" sz="2400" spc="-1" strike="noStrike">
              <a:solidFill>
                <a:srgbClr val="000000"/>
              </a:solidFill>
              <a:latin typeface="Arial"/>
            </a:endParaRPr>
          </a:p>
          <a:p>
            <a:pPr indent="16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عميم</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و التعرض لحادثة ما والاعتقاد أنها سوف تقع دائما ”فشلت مرة ولذلك سوف أفشل دائماً ” أو ” لم أنجح في هذه المرة الأولى ، ولذا لن أنجح فيه أبداً ”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ذا يجعلنا نعود الى الفكرة التي تقول : ”أعتقد في قدرتك على إنجاز الأمور أو في عجزك عن إنجازها وستكون محقاً في الحالتين ” أنت تحصل على ما تتوقعه . فإذا توقعت الفشل باستمرار ، فمن المؤكد أن هذا النبوءة سوف تتحقق . </a:t>
            </a:r>
            <a:endParaRPr b="0" lang="en-US" sz="2400" spc="-1" strike="noStrike">
              <a:solidFill>
                <a:srgbClr val="000000"/>
              </a:solidFill>
              <a:latin typeface="Arial"/>
            </a:endParaRPr>
          </a:p>
          <a:p>
            <a:pPr indent="16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تهويل</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و تضخم الأمور ويكون ذلك عادة ذلك بأن فشلاً بسيطاً أكثر مما يستحقه من الاهتمام وتتعامل معه على أنه أمر في منتهى الخطورة كما لو كان سيؤدي الى نهاية العالم إن أفراح وأحزان كل يوم تصبح في هذه الحالة سلسلة من الماسي والكوارث المفجعة التي تضاعف مشاعر الفشل الشخصي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49" name="PlaceHolder 2"/>
          <p:cNvSpPr>
            <a:spLocks noGrp="1"/>
          </p:cNvSpPr>
          <p:nvPr>
            <p:ph/>
          </p:nvPr>
        </p:nvSpPr>
        <p:spPr>
          <a:xfrm>
            <a:off x="0" y="980640"/>
            <a:ext cx="8926560" cy="5877000"/>
          </a:xfrm>
          <a:prstGeom prst="rect">
            <a:avLst/>
          </a:prstGeom>
          <a:noFill/>
          <a:ln w="0">
            <a:noFill/>
          </a:ln>
        </p:spPr>
        <p:txBody>
          <a:bodyPr lIns="90000" rIns="90000" tIns="46800" bIns="46800" anchor="t">
            <a:normAutofit fontScale="8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لعاب الذهنية المحبطة للذات </a:t>
            </a:r>
            <a:endParaRPr b="0" lang="en-US" sz="2400" spc="-1" strike="noStrike">
              <a:solidFill>
                <a:srgbClr val="000000"/>
              </a:solidFill>
              <a:latin typeface="Arial"/>
            </a:endParaRPr>
          </a:p>
          <a:p>
            <a:pPr indent="16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تصنيف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علق حول رقبتك لافته كبيرة تقول إنك ”عاجز“ أو ”كسول“ أو ”معدوم الأصدقاء“</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أنت بذلك تصنف نفسك وتسمها بسمة معينة.وعندما تتاح لك الفرصة لفعل شيء ما تنظ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ى هذه اللافتة وتتصرف طبقاً وإذا كنت تتصرف كما لو كنت ”البطة السوداء“ وتقول دائماً: ”لا أحد يحبني ” وتظل تردد ذلك لنفسك فسرعان ما سيتحول هذا الى حقيقة .</a:t>
            </a:r>
            <a:endParaRPr b="0" lang="en-US" sz="2400" spc="-1" strike="noStrike">
              <a:solidFill>
                <a:srgbClr val="000000"/>
              </a:solidFill>
              <a:latin typeface="Arial"/>
            </a:endParaRPr>
          </a:p>
          <a:p>
            <a:pPr indent="162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قراءة الأفكار</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بتسم لأحد أصدقائك في الحفل ويتجاهلك ،وعلى الفور تفكر في أنه لا يحبك أو أنك قد ضايقته . والسبب في هذا هو انك تستطيع قراءة أفكار الآخرين وبمجرد أن تنظر الى أي إنسان يمكنك أن تحدد ما يفكر فيه تماماً . وحقيقة أن هذا الصديق ربما يكون مصاباً بقصر النظر أو ربما كان في هذه اللحظة يفكر ملياً في أمر ما ، لا تهمك بالمرة بل هي في الواقع غائبة عنك تمام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الناس يفعلون الأشياء لأسباب كثير جداً ومما يحبط الذات أن تحمل سلوكهم موقفاً سلبياً تجاه ذاتك عن طريق قراءة أفكارهم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51" name="PlaceHolder 2"/>
          <p:cNvSpPr>
            <a:spLocks noGrp="1"/>
          </p:cNvSpPr>
          <p:nvPr>
            <p:ph/>
          </p:nvPr>
        </p:nvSpPr>
        <p:spPr>
          <a:xfrm>
            <a:off x="147600" y="907920"/>
            <a:ext cx="8996400" cy="5950080"/>
          </a:xfrm>
          <a:prstGeom prst="rect">
            <a:avLst/>
          </a:prstGeom>
          <a:noFill/>
          <a:ln w="0">
            <a:noFill/>
          </a:ln>
        </p:spPr>
        <p:txBody>
          <a:bodyPr lIns="90000" rIns="90000" tIns="46800" bIns="46800" anchor="t">
            <a:normAutofit fontScale="9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ألعاب الذهنية المحبطة للذات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ترشيح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رشحات تقوم بمهمة رائعة وهي حجب المواد غير المرغوبة والتخلص منها ولكن في حالة المرشح الشخصي لا يرى إلا حياتك كل الأشياء الإيجابية . وكمن ينظر للحياة من وراء منظار أسود ،فشخص الذي يستخدم المرشح الشخصي لا يرى إلا الأشياء السيئة في نفسه وفي الموقف الذي يتعرض له فهذا يؤكد على نظرته السوداوية للعالم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تشخيص</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عتمد الى التشخيص ،فأنت تحمل نفسك المسئولية الشخصية الكاملة عن حادثة مؤسفة أو مشكلة ما. إن الحوادث تقع لأسباب كثيرة. ولكنك تحم نفسك المسئولية الشخصية الكاملة عنها ، حتى إذا كان دورك فيها محدود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ك دائماً أن تفعل المزيد ، وأن تحاول بجهد أكبر ، وأن تكون أكثر إصراراً ومثابرة ولكنك لا تستطيع أن تسيطر على كل شيء أو أن تكون سبباً في كل شيء .وإذا داومت على تحميل نفسك المسئولية كل شيء يحدث في حياتك ، فسوف يمحكم عليك بأن تعيش حياة يملؤها الشك والشعور بالذنب واللوم والتقليل من شأن الذات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u="sng">
                <a:solidFill>
                  <a:srgbClr val="008000"/>
                </a:solidFill>
                <a:uFillTx/>
                <a:latin typeface="Arial"/>
                <a:cs typeface="Simple Indust Shaded"/>
              </a:rPr>
              <a:t>مقدم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53" name="PlaceHolder 2"/>
          <p:cNvSpPr>
            <a:spLocks noGrp="1"/>
          </p:cNvSpPr>
          <p:nvPr>
            <p:ph/>
          </p:nvPr>
        </p:nvSpPr>
        <p:spPr>
          <a:xfrm>
            <a:off x="457200" y="981000"/>
            <a:ext cx="8229600" cy="5222880"/>
          </a:xfrm>
          <a:prstGeom prst="rect">
            <a:avLst/>
          </a:prstGeom>
          <a:noFill/>
          <a:ln w="0">
            <a:noFill/>
          </a:ln>
        </p:spPr>
        <p:txBody>
          <a:bodyPr lIns="90000" rIns="90000" tIns="46800" bIns="46800" anchor="t">
            <a:normAutofit fontScale="91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غيان دائرة الواجبات والمفروضات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شخص غير الحاسم يظل سجيناً للواجبات والمفروضات الموجودة في رأسه </a:t>
            </a:r>
            <a:endParaRPr b="0" lang="en-US" sz="2400" spc="-1" strike="noStrike">
              <a:solidFill>
                <a:srgbClr val="000000"/>
              </a:solidFill>
              <a:latin typeface="Arial"/>
            </a:endParaRPr>
          </a:p>
        </p:txBody>
      </p:sp>
      <p:sp>
        <p:nvSpPr>
          <p:cNvPr id="154" name=""/>
          <p:cNvSpPr/>
          <p:nvPr/>
        </p:nvSpPr>
        <p:spPr>
          <a:xfrm>
            <a:off x="4807080" y="1486080"/>
            <a:ext cx="3743280" cy="10029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ن أكون طيباً وعطوفاً لأن ...</a:t>
            </a:r>
            <a:endParaRPr b="0" lang="en-US" sz="2000" spc="-1" strike="noStrike">
              <a:solidFill>
                <a:srgbClr val="000000"/>
              </a:solidFill>
              <a:latin typeface="Times New Roman"/>
            </a:endParaRPr>
          </a:p>
        </p:txBody>
      </p:sp>
      <p:sp>
        <p:nvSpPr>
          <p:cNvPr id="155" name=""/>
          <p:cNvSpPr/>
          <p:nvPr/>
        </p:nvSpPr>
        <p:spPr>
          <a:xfrm>
            <a:off x="4932360" y="3068640"/>
            <a:ext cx="3743280" cy="10033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ن أحصل على السعادة من</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خلال خدماتي للآخرين لأن ...</a:t>
            </a:r>
            <a:endParaRPr b="0" lang="en-US" sz="2000" spc="-1" strike="noStrike">
              <a:solidFill>
                <a:srgbClr val="000000"/>
              </a:solidFill>
              <a:latin typeface="Times New Roman"/>
            </a:endParaRPr>
          </a:p>
        </p:txBody>
      </p:sp>
      <p:sp>
        <p:nvSpPr>
          <p:cNvPr id="156" name=""/>
          <p:cNvSpPr/>
          <p:nvPr/>
        </p:nvSpPr>
        <p:spPr>
          <a:xfrm>
            <a:off x="5003640" y="4508640"/>
            <a:ext cx="3743640" cy="10033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ن أفعل ما طلب مني أو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ا يتوقع مني لأن </a:t>
            </a:r>
            <a:endParaRPr b="0" lang="en-US" sz="2000" spc="-1" strike="noStrike">
              <a:solidFill>
                <a:srgbClr val="000000"/>
              </a:solidFill>
              <a:latin typeface="Times New Roman"/>
            </a:endParaRPr>
          </a:p>
        </p:txBody>
      </p:sp>
      <p:sp>
        <p:nvSpPr>
          <p:cNvPr id="157" name=""/>
          <p:cNvSpPr/>
          <p:nvPr/>
        </p:nvSpPr>
        <p:spPr>
          <a:xfrm>
            <a:off x="395280" y="4581360"/>
            <a:ext cx="3743280" cy="10033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ن أحترم من هم أكبر مني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سناً ومقاماً لأن ..</a:t>
            </a:r>
            <a:endParaRPr b="0" lang="en-US" sz="2000" spc="-1" strike="noStrike">
              <a:solidFill>
                <a:srgbClr val="000000"/>
              </a:solidFill>
              <a:latin typeface="Times New Roman"/>
            </a:endParaRPr>
          </a:p>
        </p:txBody>
      </p:sp>
      <p:sp>
        <p:nvSpPr>
          <p:cNvPr id="158" name=""/>
          <p:cNvSpPr/>
          <p:nvPr/>
        </p:nvSpPr>
        <p:spPr>
          <a:xfrm>
            <a:off x="324000" y="3141720"/>
            <a:ext cx="3743280" cy="10033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وافق على المطالب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نطقية لأن ..</a:t>
            </a:r>
            <a:endParaRPr b="0" lang="en-US" sz="2000" spc="-1" strike="noStrike">
              <a:solidFill>
                <a:srgbClr val="000000"/>
              </a:solidFill>
              <a:latin typeface="Times New Roman"/>
            </a:endParaRPr>
          </a:p>
        </p:txBody>
      </p:sp>
      <p:sp>
        <p:nvSpPr>
          <p:cNvPr id="159" name=""/>
          <p:cNvSpPr/>
          <p:nvPr/>
        </p:nvSpPr>
        <p:spPr>
          <a:xfrm>
            <a:off x="395280" y="1557360"/>
            <a:ext cx="3743280" cy="10033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يجب ألا أجرح مشاعر أي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أحد لأن ... </a:t>
            </a:r>
            <a:endParaRPr b="0" lang="en-US" sz="2000" spc="-1" strike="noStrike">
              <a:solidFill>
                <a:srgbClr val="000000"/>
              </a:solidFill>
              <a:latin typeface="Times New Roman"/>
            </a:endParaRPr>
          </a:p>
        </p:txBody>
      </p:sp>
      <p:sp>
        <p:nvSpPr>
          <p:cNvPr id="160" name=""/>
          <p:cNvSpPr/>
          <p:nvPr/>
        </p:nvSpPr>
        <p:spPr>
          <a:xfrm flipH="1">
            <a:off x="4140000" y="1989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68360" y="2565360"/>
            <a:ext cx="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268360" y="4149720"/>
            <a:ext cx="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140360" y="5084640"/>
            <a:ext cx="86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flipV="1">
            <a:off x="6877080" y="4076640"/>
            <a:ext cx="0" cy="4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V="1">
            <a:off x="6877080" y="2565360"/>
            <a:ext cx="0" cy="503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67"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ضبان سجن الإلزامية غير المناسب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رية والحسم هما اختيار القواع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ي تريد أن تحيا بها </a:t>
            </a:r>
            <a:endParaRPr b="0" lang="en-US" sz="2400" spc="-1" strike="noStrike">
              <a:solidFill>
                <a:srgbClr val="000000"/>
              </a:solidFill>
              <a:latin typeface="Arial"/>
            </a:endParaRPr>
          </a:p>
        </p:txBody>
      </p:sp>
      <p:sp>
        <p:nvSpPr>
          <p:cNvPr id="168" name=""/>
          <p:cNvSpPr/>
          <p:nvPr/>
        </p:nvSpPr>
        <p:spPr>
          <a:xfrm>
            <a:off x="2124000" y="1844640"/>
            <a:ext cx="5327640" cy="22320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rot="16200000">
            <a:off x="1708920" y="2691360"/>
            <a:ext cx="2232000" cy="538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00"/>
                </a:solidFill>
                <a:latin typeface="Arial"/>
                <a:cs typeface="PT Bold Heading"/>
              </a:rPr>
              <a:t>يلزم</a:t>
            </a:r>
            <a:endParaRPr b="0" lang="en-US" sz="2400" spc="-1" strike="noStrike">
              <a:solidFill>
                <a:srgbClr val="000000"/>
              </a:solidFill>
              <a:latin typeface="Times New Roman"/>
            </a:endParaRPr>
          </a:p>
        </p:txBody>
      </p:sp>
      <p:sp>
        <p:nvSpPr>
          <p:cNvPr id="170" name=""/>
          <p:cNvSpPr/>
          <p:nvPr/>
        </p:nvSpPr>
        <p:spPr>
          <a:xfrm rot="16200000">
            <a:off x="3060720" y="2700360"/>
            <a:ext cx="22161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00"/>
                </a:solidFill>
                <a:latin typeface="Arial"/>
                <a:cs typeface="PT Bold Heading"/>
              </a:rPr>
              <a:t>يتحتم</a:t>
            </a:r>
            <a:endParaRPr b="0" lang="en-US" sz="2400" spc="-1" strike="noStrike">
              <a:solidFill>
                <a:srgbClr val="000000"/>
              </a:solidFill>
              <a:latin typeface="Times New Roman"/>
            </a:endParaRPr>
          </a:p>
        </p:txBody>
      </p:sp>
      <p:sp>
        <p:nvSpPr>
          <p:cNvPr id="171" name=""/>
          <p:cNvSpPr/>
          <p:nvPr/>
        </p:nvSpPr>
        <p:spPr>
          <a:xfrm rot="16200000">
            <a:off x="4376520" y="2707920"/>
            <a:ext cx="2232000" cy="50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00"/>
                </a:solidFill>
                <a:latin typeface="Arial"/>
                <a:cs typeface="PT Bold Heading"/>
              </a:rPr>
              <a:t>يتعين</a:t>
            </a:r>
            <a:endParaRPr b="0" lang="en-US" sz="2400" spc="-1" strike="noStrike">
              <a:solidFill>
                <a:srgbClr val="000000"/>
              </a:solidFill>
              <a:latin typeface="Times New Roman"/>
            </a:endParaRPr>
          </a:p>
        </p:txBody>
      </p:sp>
      <p:sp>
        <p:nvSpPr>
          <p:cNvPr id="172" name=""/>
          <p:cNvSpPr/>
          <p:nvPr/>
        </p:nvSpPr>
        <p:spPr>
          <a:xfrm rot="16200000">
            <a:off x="5718240" y="2708280"/>
            <a:ext cx="223200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00"/>
                </a:solidFill>
                <a:latin typeface="Arial"/>
                <a:cs typeface="PT Bold Heading"/>
              </a:rPr>
              <a:t>يج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74"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ديث الذات : دائرتا الفشل والنجاح </a:t>
            </a:r>
            <a:endParaRPr b="0" lang="en-US" sz="2400" spc="-1" strike="noStrike">
              <a:solidFill>
                <a:srgbClr val="000000"/>
              </a:solidFill>
              <a:latin typeface="Arial"/>
            </a:endParaRPr>
          </a:p>
        </p:txBody>
      </p:sp>
      <p:sp>
        <p:nvSpPr>
          <p:cNvPr id="175" name=""/>
          <p:cNvSpPr/>
          <p:nvPr/>
        </p:nvSpPr>
        <p:spPr>
          <a:xfrm>
            <a:off x="2050920" y="4508640"/>
            <a:ext cx="4608720" cy="1873080"/>
          </a:xfrm>
          <a:prstGeom prst="flowChartMagneticTap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hi-IN" sz="2000" spc="-1" strike="noStrike">
                <a:solidFill>
                  <a:srgbClr val="000000"/>
                </a:solidFill>
                <a:latin typeface="Arial"/>
                <a:cs typeface="Mudir MT"/>
              </a:rPr>
              <a:t>اعتقد في قدرتك على إنجاز الأمور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أو في عجزك عن إنجازها ، وستكون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حقاً في الحالتين ”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udir MT"/>
              </a:rPr>
              <a:t>                                              هنري فورد</a:t>
            </a:r>
            <a:endParaRPr b="0" lang="en-US" sz="1800" spc="-1" strike="noStrike">
              <a:solidFill>
                <a:srgbClr val="000000"/>
              </a:solidFill>
              <a:latin typeface="Times New Roman"/>
            </a:endParaRPr>
          </a:p>
        </p:txBody>
      </p:sp>
      <p:sp>
        <p:nvSpPr>
          <p:cNvPr id="176" name=""/>
          <p:cNvSpPr/>
          <p:nvPr/>
        </p:nvSpPr>
        <p:spPr>
          <a:xfrm>
            <a:off x="6300720" y="2276640"/>
            <a:ext cx="1513080" cy="129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txBox="1"/>
          <p:nvPr/>
        </p:nvSpPr>
        <p:spPr>
          <a:xfrm>
            <a:off x="6443640" y="1700280"/>
            <a:ext cx="1390680" cy="496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Black"/>
              </a:rPr>
              <a:t>أفكار سلبية عن الذات </a:t>
            </a:r>
            <a:endParaRPr b="0" lang="en-US" sz="1600" spc="1" strike="noStrike">
              <a:ln w="9360">
                <a:solidFill>
                  <a:srgbClr val="000000"/>
                </a:solidFill>
                <a:miter/>
              </a:ln>
              <a:solidFill>
                <a:srgbClr val="000000"/>
              </a:solidFill>
              <a:latin typeface="Arial Black"/>
              <a:ea typeface="Arial Black"/>
            </a:endParaRPr>
          </a:p>
        </p:txBody>
      </p:sp>
      <p:sp>
        <p:nvSpPr>
          <p:cNvPr id="178" name=""/>
          <p:cNvSpPr/>
          <p:nvPr/>
        </p:nvSpPr>
        <p:spPr>
          <a:xfrm>
            <a:off x="1763640" y="2421000"/>
            <a:ext cx="1513080" cy="129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txBox="1"/>
          <p:nvPr/>
        </p:nvSpPr>
        <p:spPr>
          <a:xfrm>
            <a:off x="7885080" y="2637000"/>
            <a:ext cx="1000080" cy="514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تقدير متدن للذات </a:t>
            </a:r>
            <a:endParaRPr b="0" lang="en-US" sz="1400" spc="1" strike="noStrike">
              <a:ln w="9360">
                <a:solidFill>
                  <a:srgbClr val="000000"/>
                </a:solidFill>
                <a:miter/>
              </a:ln>
              <a:solidFill>
                <a:srgbClr val="000000"/>
              </a:solidFill>
              <a:latin typeface="Arial Black"/>
              <a:ea typeface="Arial Black"/>
            </a:endParaRPr>
          </a:p>
        </p:txBody>
      </p:sp>
      <p:sp>
        <p:nvSpPr>
          <p:cNvPr id="180" name=""/>
          <p:cNvSpPr txBox="1"/>
          <p:nvPr/>
        </p:nvSpPr>
        <p:spPr>
          <a:xfrm>
            <a:off x="6588000" y="3789360"/>
            <a:ext cx="1152720" cy="51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توقع الفشل </a:t>
            </a:r>
            <a:endParaRPr b="0" lang="en-US" sz="1400" spc="1" strike="noStrike">
              <a:ln w="9360">
                <a:solidFill>
                  <a:srgbClr val="000000"/>
                </a:solidFill>
                <a:miter/>
              </a:ln>
              <a:solidFill>
                <a:srgbClr val="000000"/>
              </a:solidFill>
              <a:latin typeface="Arial Black"/>
              <a:ea typeface="Arial Black"/>
            </a:endParaRPr>
          </a:p>
        </p:txBody>
      </p:sp>
      <p:sp>
        <p:nvSpPr>
          <p:cNvPr id="181" name=""/>
          <p:cNvSpPr txBox="1"/>
          <p:nvPr/>
        </p:nvSpPr>
        <p:spPr>
          <a:xfrm>
            <a:off x="4932360" y="2708280"/>
            <a:ext cx="1085760" cy="51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فشل شخصي فعلي </a:t>
            </a:r>
            <a:endParaRPr b="0" lang="en-US" sz="1400" spc="1" strike="noStrike">
              <a:ln w="9360">
                <a:solidFill>
                  <a:srgbClr val="000000"/>
                </a:solidFill>
                <a:miter/>
              </a:ln>
              <a:solidFill>
                <a:srgbClr val="000000"/>
              </a:solidFill>
              <a:latin typeface="Arial Black"/>
              <a:ea typeface="Arial Black"/>
            </a:endParaRPr>
          </a:p>
        </p:txBody>
      </p:sp>
      <p:sp>
        <p:nvSpPr>
          <p:cNvPr id="182" name=""/>
          <p:cNvSpPr txBox="1"/>
          <p:nvPr/>
        </p:nvSpPr>
        <p:spPr>
          <a:xfrm>
            <a:off x="1692360" y="1700280"/>
            <a:ext cx="1342800" cy="51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أفكار إيجابية عن الذات </a:t>
            </a:r>
            <a:endParaRPr b="0" lang="en-US" sz="1400" spc="1" strike="noStrike">
              <a:ln w="9360">
                <a:solidFill>
                  <a:srgbClr val="000000"/>
                </a:solidFill>
                <a:miter/>
              </a:ln>
              <a:solidFill>
                <a:srgbClr val="000000"/>
              </a:solidFill>
              <a:latin typeface="Arial Black"/>
              <a:ea typeface="Arial Black"/>
            </a:endParaRPr>
          </a:p>
        </p:txBody>
      </p:sp>
      <p:sp>
        <p:nvSpPr>
          <p:cNvPr id="183" name=""/>
          <p:cNvSpPr txBox="1"/>
          <p:nvPr/>
        </p:nvSpPr>
        <p:spPr>
          <a:xfrm>
            <a:off x="3348000" y="2708280"/>
            <a:ext cx="1047960" cy="51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تقدير مرتفه للذات </a:t>
            </a:r>
            <a:endParaRPr b="0" lang="en-US" sz="1400" spc="1" strike="noStrike">
              <a:ln w="9360">
                <a:solidFill>
                  <a:srgbClr val="000000"/>
                </a:solidFill>
                <a:miter/>
              </a:ln>
              <a:solidFill>
                <a:srgbClr val="000000"/>
              </a:solidFill>
              <a:latin typeface="Arial Black"/>
              <a:ea typeface="Arial Black"/>
            </a:endParaRPr>
          </a:p>
        </p:txBody>
      </p:sp>
      <p:sp>
        <p:nvSpPr>
          <p:cNvPr id="184" name=""/>
          <p:cNvSpPr txBox="1"/>
          <p:nvPr/>
        </p:nvSpPr>
        <p:spPr>
          <a:xfrm>
            <a:off x="2195640" y="3933720"/>
            <a:ext cx="714240" cy="5144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توقع النجاح </a:t>
            </a:r>
            <a:endParaRPr b="0" lang="en-US" sz="1400" spc="1" strike="noStrike">
              <a:ln w="9360">
                <a:solidFill>
                  <a:srgbClr val="000000"/>
                </a:solidFill>
                <a:miter/>
              </a:ln>
              <a:solidFill>
                <a:srgbClr val="000000"/>
              </a:solidFill>
              <a:latin typeface="Arial Black"/>
              <a:ea typeface="Arial Black"/>
            </a:endParaRPr>
          </a:p>
        </p:txBody>
      </p:sp>
      <p:sp>
        <p:nvSpPr>
          <p:cNvPr id="185" name=""/>
          <p:cNvSpPr txBox="1"/>
          <p:nvPr/>
        </p:nvSpPr>
        <p:spPr>
          <a:xfrm>
            <a:off x="324000" y="2852640"/>
            <a:ext cx="1301760" cy="40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9360">
                  <a:solidFill>
                    <a:srgbClr val="000000"/>
                  </a:solidFill>
                  <a:miter/>
                </a:ln>
                <a:solidFill>
                  <a:srgbClr val="000000"/>
                </a:solidFill>
                <a:latin typeface="Arial Black"/>
              </a:rPr>
              <a:t>نجاح شخصي فعلي</a:t>
            </a:r>
            <a:endParaRPr b="0" lang="en-US" sz="1400" spc="1" strike="noStrike">
              <a:ln w="9360">
                <a:solidFill>
                  <a:srgbClr val="000000"/>
                </a:solidFill>
                <a:miter/>
              </a:ln>
              <a:solidFill>
                <a:srgbClr val="000000"/>
              </a:solidFill>
              <a:latin typeface="Arial Black"/>
              <a:ea typeface="Arial Black"/>
            </a:endParaRPr>
          </a:p>
        </p:txBody>
      </p:sp>
      <p:sp>
        <p:nvSpPr>
          <p:cNvPr id="186" name=""/>
          <p:cNvSpPr/>
          <p:nvPr/>
        </p:nvSpPr>
        <p:spPr>
          <a:xfrm flipV="1">
            <a:off x="5651640" y="2060280"/>
            <a:ext cx="79200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flipH="1">
            <a:off x="6372360" y="1989000"/>
            <a:ext cx="7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372360" y="198900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flipH="1" flipV="1">
            <a:off x="5580000" y="3213000"/>
            <a:ext cx="100800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H="1">
            <a:off x="7811640" y="3141720"/>
            <a:ext cx="64764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956720" y="2060640"/>
            <a:ext cx="64584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flipV="1">
            <a:off x="900000" y="2060280"/>
            <a:ext cx="79236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flipH="1" flipV="1">
            <a:off x="828720" y="3213000"/>
            <a:ext cx="100800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H="1">
            <a:off x="3058920" y="3284640"/>
            <a:ext cx="64764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205080" y="2060640"/>
            <a:ext cx="64620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1</a:t>
            </a:r>
            <a:r>
              <a:rPr b="0" lang="en-US" sz="3200" spc="-1" strike="noStrike">
                <a:solidFill>
                  <a:srgbClr val="cc0000"/>
                </a:solidFill>
                <a:latin typeface="Arial"/>
                <a:ea typeface="PT Bold Heading"/>
              </a:rPr>
              <a:t>. السلوك غير الحاسم </a:t>
            </a:r>
            <a:endParaRPr b="0" lang="en-US" sz="3200" spc="-1" strike="noStrike">
              <a:solidFill>
                <a:srgbClr val="000000"/>
              </a:solidFill>
              <a:latin typeface="Arial"/>
            </a:endParaRPr>
          </a:p>
        </p:txBody>
      </p:sp>
      <p:sp>
        <p:nvSpPr>
          <p:cNvPr id="197" name="PlaceHolder 2"/>
          <p:cNvSpPr>
            <a:spLocks noGrp="1"/>
          </p:cNvSpPr>
          <p:nvPr>
            <p:ph/>
          </p:nvPr>
        </p:nvSpPr>
        <p:spPr>
          <a:xfrm>
            <a:off x="144360" y="765000"/>
            <a:ext cx="8855280" cy="59040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غيان الأصوات الداخلية </a:t>
            </a:r>
            <a:endParaRPr b="0" lang="en-US" sz="24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طريقة التي نتحدث بها عن أنفسنا ضدنا في بعض الأحيان ونحن جميعاً لدينا أصوات داخل رءوسنا تراقب أفعالنا وتصرفاتنا وأحياناً أخرى تكون أصوات أشخاص مهمين في ماضينا ، كآبائنا أو مدرسينا أو أي أحد آخر كان مهما لنا في طفولتنا على المستوى العاطفي . وأحياناً تكون هذه الأصوات مفيدة ولكنها لا تكون كذلك في أحيانا أخرى . بينما يكون من الصعب إسكات هذه الأصوات حتى إذا كنت تعرف أن ما تسمعه هو صوت والدتك الآتي من الماضي ،فإمكانك أن تقرر ما إذا كنت ستتأثر بها أم لا . وهذه هي أصوات غير مفيدة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98" name=""/>
          <p:cNvGraphicFramePr/>
          <p:nvPr/>
        </p:nvGraphicFramePr>
        <p:xfrm>
          <a:off x="826920" y="3368520"/>
          <a:ext cx="7921800" cy="3162600"/>
        </p:xfrm>
        <a:graphic>
          <a:graphicData uri="http://schemas.openxmlformats.org/drawingml/2006/table">
            <a:tbl>
              <a:tblPr/>
              <a:tblGrid>
                <a:gridCol w="3961080"/>
                <a:gridCol w="3960720"/>
              </a:tblGrid>
              <a:tr h="70380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ليس مقدراً للحياة أن تكون ممتع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لا يحدث جلبة لا داعي له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كن طيب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حترام دائماً الأكبر منك سناً ومقام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أطفال يجب أن يروا لا أن يسمعو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يجب أن تعمل بجد دائم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لا تقاطع الآخري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رجل الحقيقي لا يبكي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تقبل الأمور ولا تشتك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مرأة الجيدة هي الصبورة دائم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كن مثالي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أمور بخواتيمه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يجب أن تنهى ما بدأته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لا تحاول فهم مشكلاتك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كبار دائماً على حق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يجب أن تفعل بجهد أكبر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2</a:t>
            </a:r>
            <a:r>
              <a:rPr b="0" lang="en-US" sz="3200" spc="-1" strike="noStrike">
                <a:solidFill>
                  <a:srgbClr val="cc0000"/>
                </a:solidFill>
                <a:latin typeface="Arial"/>
                <a:ea typeface="PT Bold Heading"/>
              </a:rPr>
              <a:t>.السلوك العدواني </a:t>
            </a:r>
            <a:endParaRPr b="0" lang="en-US" sz="3200" spc="-1" strike="noStrike">
              <a:solidFill>
                <a:srgbClr val="000000"/>
              </a:solidFill>
              <a:latin typeface="Arial"/>
            </a:endParaRPr>
          </a:p>
        </p:txBody>
      </p:sp>
      <p:sp>
        <p:nvSpPr>
          <p:cNvPr id="200"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غيان الأصوات الداخل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جئنا الى العالم ، لم نكن نجد صعوبة في جعل الآخرين يستشعرون احتياجاتنا . كذلك فقد كنا نتسم بالمرونة بشكل ممتاز ، وكنا نفعل كل ما يتطلبه الأمر لكي نحصل على الطعام أو على اهتمام الآخرين . ولكننا بمرور الوقت نفقد عفويتنا وتلقائيتنا ونتقبل ما يمليه علينا الآخرين من ”مفروضات“ و“واجبات“ الى أن تصبح مبدأ لنا ، وجزءاً طبيعياً مهما من شخصيتن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كي تكون حاسماً يجب عليك أن تدرك أن الأصوات الداخلية تكون مفيدة في بعض الأحيان ، ولكنها في أحيان أخرى تكون مقيدة وغير ملائمة . استمع دائماً الى الذي يتردد بداخلك ولكن لا تسمح له بأن يسيطر عليك في كل الأوقات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2</a:t>
            </a:r>
            <a:r>
              <a:rPr b="0" lang="en-US" sz="3200" spc="-1" strike="noStrike">
                <a:solidFill>
                  <a:srgbClr val="cc0000"/>
                </a:solidFill>
                <a:latin typeface="Arial"/>
                <a:ea typeface="PT Bold Heading"/>
              </a:rPr>
              <a:t>.السلوك العدواني </a:t>
            </a:r>
            <a:endParaRPr b="0" lang="en-US" sz="3200" spc="-1" strike="noStrike">
              <a:solidFill>
                <a:srgbClr val="000000"/>
              </a:solidFill>
              <a:latin typeface="Arial"/>
            </a:endParaRPr>
          </a:p>
        </p:txBody>
      </p:sp>
      <p:sp>
        <p:nvSpPr>
          <p:cNvPr id="202" name="PlaceHolder 2"/>
          <p:cNvSpPr>
            <a:spLocks noGrp="1"/>
          </p:cNvSpPr>
          <p:nvPr>
            <p:ph/>
          </p:nvPr>
        </p:nvSpPr>
        <p:spPr>
          <a:xfrm>
            <a:off x="147600" y="1268280"/>
            <a:ext cx="8848800" cy="4935600"/>
          </a:xfrm>
          <a:prstGeom prst="rect">
            <a:avLst/>
          </a:prstGeom>
          <a:noFill/>
          <a:ln w="0">
            <a:noFill/>
          </a:ln>
        </p:spPr>
        <p:txBody>
          <a:bodyPr lIns="90000" rIns="90000" tIns="46800" bIns="46800" anchor="t">
            <a:normAutofit fontScale="92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شخص العدواني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ثيراً ما يتجادل مع ا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ثيراً ما يغضب ويعتقد أن الآخرين بحاجة الى أن يضعوا في حجمهم الصحيح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ا يجد صعوبة في الشكوى عندما تكون المنتجات أو الخدمات التي يتلقاها رديئة الجودة</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ادة ما ينفذ ما يريده في المواقف المختلف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وقع من الآخرين أن يتكيفوا مع جداوله الزمني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ه آراء قوية في كثير من الموضوعات ولا يجد صعوبة في التعبير عنه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ائم الانتقاد للآخرين ولا يجد صعوبة في ذلك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ائماً ما يعمل على تحقيق أهدافه الخاصة على حساب ا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ادراً ما يشعر باحتياجات أو مشاعر ا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نافس مع الآخرين ويغضب إن لم يحقق النجا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hi-IN" sz="3200" spc="-1" strike="noStrike">
                <a:solidFill>
                  <a:srgbClr val="cc0000"/>
                </a:solidFill>
                <a:latin typeface="Arial"/>
                <a:cs typeface="PT Bold Heading"/>
              </a:rPr>
              <a:t>الخيارات الثلاثة</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182520" y="1268280"/>
            <a:ext cx="8778960" cy="4935600"/>
          </a:xfrm>
          <a:prstGeom prst="rect">
            <a:avLst/>
          </a:prstGeom>
          <a:noFill/>
          <a:ln w="0">
            <a:noFill/>
          </a:ln>
        </p:spPr>
        <p:txBody>
          <a:bodyPr lIns="90000" rIns="90000" tIns="46800" bIns="46800"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دوان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شخاص العدوانيون يتسمون بالأنانية بشكل أساسي . وهم يعرفون ما يريدونه  وما يحبونه ، ولا يكترثون باحتياجات الآخرين في سبيل إشباع احتياجاتهم ه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م يرون أنفسهم أسمى وأرفع مقاماً من الاخرين ، ويعتقدون أنهم هم الوحيدون الأسوياء وأن باقي العالم ليس كذلك . وهم يعتبرون عن آرائهم واحتياجاتهم ، ويتصرفون كما لو كان الاخرون ليس لهم أي أهمي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نشأ السلوك العدواني يعتبر مسألة معقدة ومن الجائز أنهم عندما أطفالاً عدوانيين ، قد اكتشفوا أن بإمكانهم الحصول على ما يريدونه من خلال هذا السلوك ، وبالتالي نما معهم هذا السلوك غير المناسب ، وإن كان ناجحاً في ظاهره وفي بعض الأحيان يكون السلوك العدواني تصحيحاً مفرطاً لحالة السلبية الشديدة ، أو يكون طريقة غير مناسبة للتعامل مع الغض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130320" y="1267920"/>
            <a:ext cx="9013680" cy="5589720"/>
          </a:xfrm>
          <a:prstGeom prst="rect">
            <a:avLst/>
          </a:prstGeom>
          <a:noFill/>
          <a:ln w="0">
            <a:noFill/>
          </a:ln>
        </p:spPr>
        <p:txBody>
          <a:bodyPr lIns="90000" rIns="90000" tIns="46800" bIns="46800" anchor="t">
            <a:normAutofit fontScale="91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شخص الحاسم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التعبير عن رغباته ومشاعره ل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التحدث مع الآخرين من كل المستويات والعمل معهم بشكل جيد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تقدير آراء الآخرين وتقبل ما يبدو منها أكثر منطقية من آرائه هو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إدراك احتياجات ورغبات الآخرين بدون الشعور بالعجز وعدم الكفاء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إدراك احتياجات ورغبات الآخرين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الاختلاف مع الاخرين ولكن مع الاحتفاظ بصداقتهم واحترامهم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التعبير عن مخاوفه أو احتياجاته بدون أن يسبب حرجاً له أو للطرف الآخرى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السيطرة على مشاعره وأحاسيسه حتى في المواقف الصعبة أو المشحونة عاطفي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رفض طلب شخص آخر بدون الشعور بالذنب أو الاضطرار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در على طلب ما يريده وعلى الاصرار على نيل حقوقه المشروعة بدون أن ينفعل أو يخرج عن شعور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8" name="PlaceHolder 2"/>
          <p:cNvSpPr>
            <a:spLocks noGrp="1"/>
          </p:cNvSpPr>
          <p:nvPr>
            <p:ph/>
          </p:nvPr>
        </p:nvSpPr>
        <p:spPr>
          <a:xfrm>
            <a:off x="0" y="1268280"/>
            <a:ext cx="8686800" cy="493560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يزة المزدوج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شخص الحاسم يستمتع بمزايا الشخص غير الحاسم والشخص العدواني وليس لديه أي من عيوبهما </a:t>
            </a:r>
            <a:endParaRPr b="0" lang="en-US" sz="2400" spc="-1" strike="noStrike">
              <a:solidFill>
                <a:srgbClr val="000000"/>
              </a:solidFill>
              <a:latin typeface="Arial"/>
            </a:endParaRPr>
          </a:p>
        </p:txBody>
      </p:sp>
      <p:sp>
        <p:nvSpPr>
          <p:cNvPr id="209" name=""/>
          <p:cNvSpPr/>
          <p:nvPr/>
        </p:nvSpPr>
        <p:spPr>
          <a:xfrm>
            <a:off x="5796000" y="1700280"/>
            <a:ext cx="3024000" cy="2016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PT Bold Heading"/>
              </a:rPr>
              <a:t>غير حاسم</a:t>
            </a:r>
            <a:r>
              <a:rPr b="0" lang="en-US" sz="1800" spc="-1" strike="noStrike">
                <a:solidFill>
                  <a:srgbClr val="000000"/>
                </a:solidFill>
                <a:latin typeface="Arial"/>
              </a:rPr>
              <a:t>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العيوب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تقدير متدن للذات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لا يعبر عن آرائه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تنتابه مشاعر القلق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يتعرض للاستغلال من الآخرين</a:t>
            </a:r>
            <a:endParaRPr b="0" lang="en-US" sz="1800" spc="-1" strike="noStrike">
              <a:solidFill>
                <a:srgbClr val="000000"/>
              </a:solidFill>
              <a:latin typeface="Times New Roman"/>
            </a:endParaRPr>
          </a:p>
        </p:txBody>
      </p:sp>
      <p:sp>
        <p:nvSpPr>
          <p:cNvPr id="210" name=""/>
          <p:cNvSpPr/>
          <p:nvPr/>
        </p:nvSpPr>
        <p:spPr>
          <a:xfrm>
            <a:off x="250920" y="1916280"/>
            <a:ext cx="3024000" cy="2016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PT Bold Heading"/>
              </a:rPr>
              <a:t>العيوب </a:t>
            </a:r>
            <a:endParaRPr b="0" lang="en-US" sz="1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يصبح في عزلة عن الآخرين </a:t>
            </a:r>
            <a:endParaRPr b="0" lang="en-US" sz="1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لا يكون محبوباً من جانبهم </a:t>
            </a:r>
            <a:endParaRPr b="0" lang="en-US" sz="1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يؤذي الآخرين</a:t>
            </a:r>
            <a:endParaRPr b="0" lang="en-US" sz="1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Mudir MT"/>
              </a:rPr>
              <a:t>يقوم باستغلال الآخرين</a:t>
            </a:r>
            <a:endParaRPr b="0" lang="en-US" sz="1800" spc="-1" strike="noStrike">
              <a:solidFill>
                <a:srgbClr val="000000"/>
              </a:solidFill>
              <a:latin typeface="Times New Roman"/>
            </a:endParaRPr>
          </a:p>
        </p:txBody>
      </p:sp>
      <p:sp>
        <p:nvSpPr>
          <p:cNvPr id="211" name=""/>
          <p:cNvSpPr/>
          <p:nvPr/>
        </p:nvSpPr>
        <p:spPr>
          <a:xfrm>
            <a:off x="2556000" y="2997360"/>
            <a:ext cx="3743280" cy="2016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PT Bold Heading"/>
              </a:rPr>
              <a:t>المزايا                                    المزايا</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لا يشعر على الدوام            تقدير مرتفع للذات</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ملحة في الفوز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ينسجم معه الآخرون          يحصل على ما تريده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لا يشعر بالذنب</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لا يزعج أو يضيق            يعبر عن احتياجاته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الآخرين               لا يستطيع الآخرون استغلاله</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3"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زايا النفسية </a:t>
            </a:r>
            <a:endParaRPr b="0" lang="en-US" sz="28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أن تضع حدوداً لسلوكك وسلوك الآخرين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أن تحظى برؤية واقعية لما هو ممكن لك وما هو مستحيل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ا تتأثر على نحو غير ملائم بالأشخاص الوقحين أو غير المهذبين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أن تبتهج بنجاحاتك وأن تتقبل إخفاقاتك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دائماً أن تسيطر على سلوكك ، وأن تتجنب أن يدفعك أحد الى الغضب</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شديد أو يجبرك على الخض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flipH="1">
            <a:off x="2340000" y="3718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flipH="1">
            <a:off x="2340000" y="3141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flipH="1">
            <a:off x="2340000" y="2565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flipH="1">
            <a:off x="6300720" y="20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تعريف الحسم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456840" y="1268280"/>
            <a:ext cx="8402760" cy="5297760"/>
          </a:xfrm>
          <a:prstGeom prst="rect">
            <a:avLst/>
          </a:prstGeom>
          <a:noFill/>
          <a:ln w="0">
            <a:noFill/>
          </a:ln>
        </p:spPr>
        <p:txBody>
          <a:bodyPr lIns="90000" rIns="90000" tIns="46800" bIns="46800" anchor="t">
            <a:normAutofit/>
          </a:bodyPr>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اسم :</a:t>
            </a:r>
            <a:r>
              <a:rPr b="0" lang="ar-SA" sz="2400" spc="-1" strike="noStrike">
                <a:solidFill>
                  <a:srgbClr val="000000"/>
                </a:solidFill>
                <a:latin typeface="Arial"/>
              </a:rPr>
              <a:t> (صفة) واثق وصريح عند التعامل مع الآخرين </a:t>
            </a: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عجم كولينز </a:t>
            </a:r>
            <a:r>
              <a:rPr b="0" lang="en-US" sz="2400" spc="-1" strike="noStrike">
                <a:solidFill>
                  <a:srgbClr val="000000"/>
                </a:solidFill>
                <a:latin typeface="Arial"/>
              </a:rPr>
              <a:t>Collins</a:t>
            </a:r>
            <a:r>
              <a:rPr b="0" lang="ar-SA" sz="2400" spc="-1" strike="noStrike">
                <a:solidFill>
                  <a:srgbClr val="000000"/>
                </a:solidFill>
                <a:latin typeface="Arial"/>
              </a:rPr>
              <a:t> للغة الإنجليزية </a:t>
            </a: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سم هو أن يحافظ المرء على استقامته وكرامته ويصونهما ، وفي نفس وقت يشجع ويميز هذا السلوك في الآخرين</a:t>
            </a:r>
            <a:endParaRPr b="0" lang="en-US" sz="2400" spc="-1" strike="noStrike">
              <a:solidFill>
                <a:srgbClr val="000000"/>
              </a:solidFill>
              <a:latin typeface="Arial"/>
            </a:endParaRPr>
          </a:p>
        </p:txBody>
      </p:sp>
      <p:sp>
        <p:nvSpPr>
          <p:cNvPr id="49" name=""/>
          <p:cNvSpPr/>
          <p:nvPr/>
        </p:nvSpPr>
        <p:spPr>
          <a:xfrm>
            <a:off x="6732720" y="2565360"/>
            <a:ext cx="2016000" cy="43200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PT Bold Heading"/>
              </a:rPr>
              <a:t>الحسم</a:t>
            </a:r>
            <a:endParaRPr b="0" lang="en-US" sz="2200" spc="-1" strike="noStrike">
              <a:solidFill>
                <a:srgbClr val="000000"/>
              </a:solidFill>
              <a:latin typeface="Times New Roman"/>
            </a:endParaRPr>
          </a:p>
        </p:txBody>
      </p:sp>
      <p:sp>
        <p:nvSpPr>
          <p:cNvPr id="50" name=""/>
          <p:cNvSpPr/>
          <p:nvPr/>
        </p:nvSpPr>
        <p:spPr>
          <a:xfrm>
            <a:off x="4356000" y="1916280"/>
            <a:ext cx="2016360" cy="288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متع بحقوقك</a:t>
            </a:r>
            <a:endParaRPr b="0" lang="en-US" sz="1800" spc="-1" strike="noStrike">
              <a:solidFill>
                <a:srgbClr val="000000"/>
              </a:solidFill>
              <a:latin typeface="Times New Roman"/>
            </a:endParaRPr>
          </a:p>
        </p:txBody>
      </p:sp>
      <p:sp>
        <p:nvSpPr>
          <p:cNvPr id="51" name=""/>
          <p:cNvSpPr/>
          <p:nvPr/>
        </p:nvSpPr>
        <p:spPr>
          <a:xfrm>
            <a:off x="4356000" y="2421000"/>
            <a:ext cx="2016360" cy="288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عبير عن مشاعرك</a:t>
            </a:r>
            <a:endParaRPr b="0" lang="en-US" sz="1800" spc="-1" strike="noStrike">
              <a:solidFill>
                <a:srgbClr val="000000"/>
              </a:solidFill>
              <a:latin typeface="Times New Roman"/>
            </a:endParaRPr>
          </a:p>
        </p:txBody>
      </p:sp>
      <p:sp>
        <p:nvSpPr>
          <p:cNvPr id="52" name=""/>
          <p:cNvSpPr/>
          <p:nvPr/>
        </p:nvSpPr>
        <p:spPr>
          <a:xfrm>
            <a:off x="4356000" y="2924280"/>
            <a:ext cx="2016360" cy="288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طلب ما تريده</a:t>
            </a:r>
            <a:endParaRPr b="0" lang="en-US" sz="1800" spc="-1" strike="noStrike">
              <a:solidFill>
                <a:srgbClr val="000000"/>
              </a:solidFill>
              <a:latin typeface="Times New Roman"/>
            </a:endParaRPr>
          </a:p>
        </p:txBody>
      </p:sp>
      <p:sp>
        <p:nvSpPr>
          <p:cNvPr id="53" name=""/>
          <p:cNvSpPr/>
          <p:nvPr/>
        </p:nvSpPr>
        <p:spPr>
          <a:xfrm>
            <a:off x="4356000" y="3500280"/>
            <a:ext cx="2016360" cy="289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356000" y="3500280"/>
            <a:ext cx="2016360" cy="289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عبير عن آرائك</a:t>
            </a:r>
            <a:endParaRPr b="0" lang="en-US" sz="1800" spc="-1" strike="noStrike">
              <a:solidFill>
                <a:srgbClr val="000000"/>
              </a:solidFill>
              <a:latin typeface="Times New Roman"/>
            </a:endParaRPr>
          </a:p>
        </p:txBody>
      </p:sp>
      <p:sp>
        <p:nvSpPr>
          <p:cNvPr id="55" name=""/>
          <p:cNvSpPr/>
          <p:nvPr/>
        </p:nvSpPr>
        <p:spPr>
          <a:xfrm>
            <a:off x="395280" y="1844640"/>
            <a:ext cx="2016000" cy="289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ستقامة</a:t>
            </a:r>
            <a:endParaRPr b="0" lang="en-US" sz="1800" spc="-1" strike="noStrike">
              <a:solidFill>
                <a:srgbClr val="000000"/>
              </a:solidFill>
              <a:latin typeface="Times New Roman"/>
            </a:endParaRPr>
          </a:p>
        </p:txBody>
      </p:sp>
      <p:sp>
        <p:nvSpPr>
          <p:cNvPr id="56" name=""/>
          <p:cNvSpPr/>
          <p:nvPr/>
        </p:nvSpPr>
        <p:spPr>
          <a:xfrm>
            <a:off x="395280" y="2421000"/>
            <a:ext cx="2016000" cy="288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دق</a:t>
            </a:r>
            <a:endParaRPr b="0" lang="en-US" sz="1800" spc="-1" strike="noStrike">
              <a:solidFill>
                <a:srgbClr val="000000"/>
              </a:solidFill>
              <a:latin typeface="Times New Roman"/>
            </a:endParaRPr>
          </a:p>
        </p:txBody>
      </p:sp>
      <p:sp>
        <p:nvSpPr>
          <p:cNvPr id="57" name=""/>
          <p:cNvSpPr/>
          <p:nvPr/>
        </p:nvSpPr>
        <p:spPr>
          <a:xfrm>
            <a:off x="395280" y="2997360"/>
            <a:ext cx="2016000" cy="288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وضوح</a:t>
            </a:r>
            <a:endParaRPr b="0" lang="en-US" sz="1800" spc="-1" strike="noStrike">
              <a:solidFill>
                <a:srgbClr val="000000"/>
              </a:solidFill>
              <a:latin typeface="Times New Roman"/>
            </a:endParaRPr>
          </a:p>
        </p:txBody>
      </p:sp>
      <p:sp>
        <p:nvSpPr>
          <p:cNvPr id="58" name=""/>
          <p:cNvSpPr/>
          <p:nvPr/>
        </p:nvSpPr>
        <p:spPr>
          <a:xfrm>
            <a:off x="395280" y="3573360"/>
            <a:ext cx="2016000" cy="289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حترام للآخرين</a:t>
            </a:r>
            <a:endParaRPr b="0" lang="en-US" sz="1800" spc="-1" strike="noStrike">
              <a:solidFill>
                <a:srgbClr val="000000"/>
              </a:solidFill>
              <a:latin typeface="Times New Roman"/>
            </a:endParaRPr>
          </a:p>
        </p:txBody>
      </p:sp>
      <p:sp>
        <p:nvSpPr>
          <p:cNvPr id="59" name=""/>
          <p:cNvSpPr/>
          <p:nvPr/>
        </p:nvSpPr>
        <p:spPr>
          <a:xfrm>
            <a:off x="2843280" y="2708280"/>
            <a:ext cx="936720" cy="289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ـــ</a:t>
            </a:r>
            <a:endParaRPr b="0" lang="en-US" sz="1800" spc="-1" strike="noStrike">
              <a:solidFill>
                <a:srgbClr val="000000"/>
              </a:solidFill>
              <a:latin typeface="Times New Roman"/>
            </a:endParaRPr>
          </a:p>
        </p:txBody>
      </p:sp>
      <p:sp>
        <p:nvSpPr>
          <p:cNvPr id="60" name=""/>
          <p:cNvSpPr/>
          <p:nvPr/>
        </p:nvSpPr>
        <p:spPr>
          <a:xfrm>
            <a:off x="6588000" y="2060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flipH="1">
            <a:off x="6372000" y="2565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flipH="1">
            <a:off x="6372000" y="3068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6372000" y="3645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H="1">
            <a:off x="6588000" y="2852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556000" y="1989000"/>
            <a:ext cx="0" cy="172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flipH="1">
            <a:off x="2556000" y="2924280"/>
            <a:ext cx="28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flipH="1">
            <a:off x="2411280" y="1989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5" name="PlaceHolder 2"/>
          <p:cNvSpPr>
            <a:spLocks noGrp="1"/>
          </p:cNvSpPr>
          <p:nvPr>
            <p:ph/>
          </p:nvPr>
        </p:nvSpPr>
        <p:spPr>
          <a:xfrm>
            <a:off x="200160" y="1125000"/>
            <a:ext cx="8743680" cy="5543640"/>
          </a:xfrm>
          <a:prstGeom prst="rect">
            <a:avLst/>
          </a:prstGeom>
          <a:noFill/>
          <a:ln w="0">
            <a:noFill/>
          </a:ln>
        </p:spPr>
        <p:txBody>
          <a:bodyPr lIns="90000" rIns="90000" tIns="46800" bIns="46800" anchor="t">
            <a:normAutofit fontScale="8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حرير الأصوات الداخلية</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 أن تكون الأصوات الداخلية مقيدة ولكنها من الممكن أيضاً أن تؤثر على سلوكنا بإيجابية . ومادام الأمر كذلك فمن المهم للغاية أن تكون عن أنفسنا عبارات تتسم بالقوة والإيجابية . فإذا كانت صورتنا الذاتية قادرة على خلق واقعنا وحقيقتنا ، يجب علينا إذن أن ننظر الى أنفسنا بالطريقة الصحيحة . ومن طرق القيام بذلك استخدام التأكيدات الإيجاب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إذا كنت تخبر نفسك باستمرار أنك شخص مهم ، فستكون هذه أي الفكرة التي سيوجه سلوكك نفسه على اساسها .وإذا كنت تخبر نفسك باستمرار أنك شخص ناجح وسعيد ، فسيغير هذا من توقعاتك من العالم ، ومن تفسيرك لما تتلقاه منه . وهذا مبدأ مقبول ومثبت بشكل جيد ، فكل الرياضيين المتفوقين يرون أنفسهم ناجحين وفائزين ، وهذا يمنحهم تلك الميزة النفسية . وعن طريق استخدام التأكيدات الإيجابية ، يمكنك أن تعطي نفسك أيضاً نفس هذه الميز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وضح لك دائرة التحرر الموجودة في الصفحة التالية كيف تعمل تلك العبارة التأكيدية التي تقول ”إنني شخص حاسم“ لاحظ أن مدى نجاحك ليس هم المهم ن ولكن المهم هو كيف تتصرف . تصرف طبقاً لتأكيدك الإيجابي ، وسيلي النجاح ذلك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flipV="1">
            <a:off x="2050920" y="3429000"/>
            <a:ext cx="187344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دائرة التحرير</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لما فعلت المزيد مما داومت على فعله ، حصلت على المزيد مما داومت على الحصول عليه ”</a:t>
            </a:r>
            <a:endParaRPr b="0" lang="en-US" sz="2400" spc="-1" strike="noStrike">
              <a:solidFill>
                <a:srgbClr val="000000"/>
              </a:solidFill>
              <a:latin typeface="Arial"/>
            </a:endParaRPr>
          </a:p>
        </p:txBody>
      </p:sp>
      <p:sp>
        <p:nvSpPr>
          <p:cNvPr id="219" name=""/>
          <p:cNvSpPr txBox="1"/>
          <p:nvPr/>
        </p:nvSpPr>
        <p:spPr>
          <a:xfrm>
            <a:off x="2556000" y="765000"/>
            <a:ext cx="2666880" cy="863640"/>
          </a:xfrm>
          <a:prstGeom prst="rect">
            <a:avLst/>
          </a:prstGeom>
        </p:spPr>
        <p:txBody>
          <a:bodyPr wrap="none" lIns="90000" rIns="90000" tIns="46800" bIns="46800" anchor="t" anchorCtr="1">
            <a:prstTxWarp prst="textPlain">
              <a:avLst>
                <a:gd name="adj" fmla="val 4445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أكيدات إيجاب</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r>
              <a:rPr b="0" lang="hi-IN" sz="1800" spc="1" strike="noStrike">
                <a:ln w="9360">
                  <a:solidFill>
                    <a:srgbClr val="000000"/>
                  </a:solidFill>
                  <a:miter/>
                </a:ln>
                <a:solidFill>
                  <a:srgbClr val="000000"/>
                </a:solidFill>
                <a:latin typeface="Arial Black"/>
              </a:rPr>
              <a:t>إنني شخص حاسم</a:t>
            </a: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p:txBody>
      </p:sp>
      <p:sp>
        <p:nvSpPr>
          <p:cNvPr id="220" name=""/>
          <p:cNvSpPr/>
          <p:nvPr/>
        </p:nvSpPr>
        <p:spPr>
          <a:xfrm>
            <a:off x="5292720" y="2133720"/>
            <a:ext cx="237492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أفكار وحوارات داخلية </a:t>
            </a:r>
            <a:endParaRPr b="0" lang="en-US" sz="2000" spc="-1" strike="noStrike">
              <a:solidFill>
                <a:srgbClr val="000000"/>
              </a:solidFill>
              <a:latin typeface="Times New Roman"/>
            </a:endParaRPr>
          </a:p>
        </p:txBody>
      </p:sp>
      <p:sp>
        <p:nvSpPr>
          <p:cNvPr id="221" name=""/>
          <p:cNvSpPr/>
          <p:nvPr/>
        </p:nvSpPr>
        <p:spPr>
          <a:xfrm>
            <a:off x="1476360" y="3716280"/>
            <a:ext cx="223200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أفعال وسلوكيات خارجية</a:t>
            </a:r>
            <a:endParaRPr b="0" lang="en-US" sz="2000" spc="-1" strike="noStrike">
              <a:solidFill>
                <a:srgbClr val="000000"/>
              </a:solidFill>
              <a:latin typeface="Times New Roman"/>
            </a:endParaRPr>
          </a:p>
        </p:txBody>
      </p:sp>
      <p:sp>
        <p:nvSpPr>
          <p:cNvPr id="222" name=""/>
          <p:cNvSpPr/>
          <p:nvPr/>
        </p:nvSpPr>
        <p:spPr>
          <a:xfrm>
            <a:off x="5292720" y="1413000"/>
            <a:ext cx="1150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txBox="1"/>
          <p:nvPr/>
        </p:nvSpPr>
        <p:spPr>
          <a:xfrm>
            <a:off x="6227640" y="3357720"/>
            <a:ext cx="2562480" cy="9428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توقعات إيجابية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r>
              <a:rPr b="0" lang="hi-IN" sz="1800" spc="1" strike="noStrike">
                <a:ln w="9360">
                  <a:solidFill>
                    <a:srgbClr val="000000"/>
                  </a:solidFill>
                  <a:miter/>
                </a:ln>
                <a:solidFill>
                  <a:srgbClr val="000000"/>
                </a:solidFill>
                <a:latin typeface="Arial Black"/>
              </a:rPr>
              <a:t>إنني شخص مقنع عند الضرورة</a:t>
            </a: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p:txBody>
      </p:sp>
      <p:sp>
        <p:nvSpPr>
          <p:cNvPr id="224" name=""/>
          <p:cNvSpPr/>
          <p:nvPr/>
        </p:nvSpPr>
        <p:spPr>
          <a:xfrm>
            <a:off x="6804000" y="2708280"/>
            <a:ext cx="792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H="1">
            <a:off x="6732720" y="4005360"/>
            <a:ext cx="1079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txBox="1"/>
          <p:nvPr/>
        </p:nvSpPr>
        <p:spPr>
          <a:xfrm>
            <a:off x="4140360" y="4221000"/>
            <a:ext cx="2476440" cy="12574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سلوكنا حاسم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r>
              <a:rPr b="0" lang="hi-IN" sz="1800" spc="1" strike="noStrike">
                <a:ln w="9360">
                  <a:solidFill>
                    <a:srgbClr val="000000"/>
                  </a:solidFill>
                  <a:miter/>
                </a:ln>
                <a:solidFill>
                  <a:srgbClr val="000000"/>
                </a:solidFill>
                <a:latin typeface="Arial Black"/>
              </a:rPr>
              <a:t>أستطيع أن أتفهم وجهة نظرك</a:t>
            </a: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Black"/>
              </a:rPr>
              <a:t>ولكن موقفي من هذا الأمر هو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p:txBody>
      </p:sp>
      <p:sp>
        <p:nvSpPr>
          <p:cNvPr id="227" name=""/>
          <p:cNvSpPr txBox="1"/>
          <p:nvPr/>
        </p:nvSpPr>
        <p:spPr>
          <a:xfrm>
            <a:off x="826920" y="2421000"/>
            <a:ext cx="215280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 </a:t>
            </a:r>
            <a:r>
              <a:rPr b="0" lang="hi-IN" sz="1800" spc="1" strike="noStrike">
                <a:ln w="9360">
                  <a:solidFill>
                    <a:srgbClr val="000000"/>
                  </a:solidFill>
                  <a:miter/>
                </a:ln>
                <a:solidFill>
                  <a:srgbClr val="000000"/>
                </a:solidFill>
                <a:latin typeface="Arial Black"/>
              </a:rPr>
              <a:t>نتائج إيجابية</a:t>
            </a:r>
            <a:r>
              <a:rPr b="0" lang="en-US" sz="1800" spc="1" strike="noStrike">
                <a:ln w="9360">
                  <a:solidFill>
                    <a:srgbClr val="000000"/>
                  </a:solidFill>
                  <a:miter/>
                </a:ln>
                <a:solidFill>
                  <a:srgbClr val="000000"/>
                </a:solidFill>
                <a:latin typeface="Arial Black"/>
              </a:rPr>
              <a:t> </a:t>
            </a:r>
            <a:endParaRPr b="0" lang="en-US" sz="1800" spc="1" strike="noStrike">
              <a:ln w="936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r>
              <a:rPr b="0" lang="hi-IN" sz="1800" spc="1" strike="noStrike">
                <a:ln w="9360">
                  <a:solidFill>
                    <a:srgbClr val="000000"/>
                  </a:solidFill>
                  <a:miter/>
                </a:ln>
                <a:solidFill>
                  <a:srgbClr val="000000"/>
                </a:solidFill>
                <a:latin typeface="Arial Black"/>
              </a:rPr>
              <a:t>كنت حاسماً في هذا الموقف</a:t>
            </a: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28" name=""/>
          <p:cNvSpPr/>
          <p:nvPr/>
        </p:nvSpPr>
        <p:spPr>
          <a:xfrm flipV="1">
            <a:off x="2050920" y="1412640"/>
            <a:ext cx="1297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0"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خدم التأكيدات هو إحدى الطرق لتحسين أصواتنا الداخل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تأكيد هو عبارة شخصية تلخص معتقداتنا عن أنفسنا نتمسك بها بشدة ويمكن أن تكون التأكيدات إيجابية أو سلبية . ومن الواضح أن التأكيدات الإيجابية هي الأفضل لصحتنا الذهن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تأكيدات الإيجابية تساعدك على أن :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تخلص من قيود معتقدات الآخرين التي ورثتها من الطفولة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صبح شخصاً مستقلاً وبالتالي تصبح قوياً قادراً على الاعتماد على نفسك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كتسب الثقة بنفس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في الصفحة التالية بعض الأمثلة على التأكيدات الإيجابية ، ولكن عليك أن تفكر لكي تضع تأكيدات خاصة بك خذ الوقت الكافي لقراءة هذه التأكيدات بانتظام وخصوصا في الصباح الباكر وقبل أن تنا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2" name="PlaceHolder 2"/>
          <p:cNvSpPr>
            <a:spLocks noGrp="1"/>
          </p:cNvSpPr>
          <p:nvPr>
            <p:ph/>
          </p:nvPr>
        </p:nvSpPr>
        <p:spPr>
          <a:xfrm>
            <a:off x="468360" y="981000"/>
            <a:ext cx="8229600" cy="5616720"/>
          </a:xfrm>
          <a:prstGeom prst="rect">
            <a:avLst/>
          </a:prstGeom>
          <a:noFill/>
          <a:ln w="0">
            <a:noFill/>
          </a:ln>
        </p:spPr>
        <p:txBody>
          <a:bodyPr lIns="90000" rIns="90000" tIns="46800" bIns="46800" anchor="t">
            <a:normAutofit fontScale="98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أكيدات للعمل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شخص كفء وواثق بنفسي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ائماً أتعلم من أخطائي واخطاء الآخرين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شخص جذاب ومثير للاهتمام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ستمع الآخرون لما أقوله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إسهامي مميز في الاجتماعات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شخص مقتنع ومؤثر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مسئول عن نفسي وعن تصرفاتي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يمتي الشخصية لا تعتمد على نيل استحسان الآخرين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ني دائماً أن اجد فرصاً في موقف التغيير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أخلق مستقبلي الذي أرجو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ربما يروقك بعض هذه التأكيدات ،وقد لا يروقك بعضها الآخر .المهم هو أن تضع مجموعة من التأكيدات الخاصة ب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ثلاثة أنماط للسلوك</a:t>
            </a:r>
            <a:br>
              <a:rPr sz="2400"/>
            </a:br>
            <a:r>
              <a:rPr b="0" lang="en-US" sz="2400" spc="-1" strike="noStrike">
                <a:solidFill>
                  <a:srgbClr val="0066ff"/>
                </a:solidFill>
                <a:latin typeface="Arial"/>
                <a:ea typeface="Mudir MT"/>
              </a:rPr>
              <a:t> </a:t>
            </a:r>
            <a:r>
              <a:rPr b="0" lang="en-US" sz="3200" spc="-1" strike="noStrike">
                <a:solidFill>
                  <a:srgbClr val="cc0000"/>
                </a:solidFill>
                <a:latin typeface="Arial"/>
                <a:ea typeface="PT Bold Heading"/>
              </a:rPr>
              <a:t>3</a:t>
            </a:r>
            <a:r>
              <a:rPr b="0" lang="en-US" sz="3200" spc="-1" strike="noStrike">
                <a:solidFill>
                  <a:srgbClr val="cc0000"/>
                </a:solidFill>
                <a:latin typeface="Arial"/>
                <a:ea typeface="PT Bold Heading"/>
              </a:rPr>
              <a:t>. السلوك الحاس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4"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أكيدات للحياة</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أتصرف بطبيعتي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 كل المصادر لكي أفعل ما أريده فعل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متوحد مع ذاتي ومع عالمي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 مطلق الحرية لأكون الشخص الذي أريد أن أكون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حترم ذاتي وكل المخلوقات الحية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بي لذاتي يجعلني قادراً على حب الآخرين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ائماً ما أنمو وأتطور في اتجاه ذاتي الداخلية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كل شيء في هذه الحياة معنى ، ودائماً ما تنطوي الشدائد والمحن على فرصة ما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عطاء يجعلني أحقق المزيد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ني منفتح للفرص التي سيجلبها هذا اليو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394920" y="404280"/>
            <a:ext cx="8497800" cy="5721480"/>
          </a:xfrm>
          <a:prstGeom prst="rect">
            <a:avLst/>
          </a:prstGeom>
          <a:noFill/>
          <a:ln w="0">
            <a:noFill/>
          </a:ln>
        </p:spPr>
        <p:txBody>
          <a:bodyPr lIns="90000" rIns="90000" tIns="46800" bIns="46800" anchor="t">
            <a:normAutofit/>
          </a:bodyPr>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u="sng">
                <a:solidFill>
                  <a:srgbClr val="008000"/>
                </a:solidFill>
                <a:uFillTx/>
                <a:latin typeface="Arial"/>
                <a:cs typeface="Simple Indust Shaded"/>
              </a:rPr>
              <a:t>الحقوق والمسئوليات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000" y="274680"/>
            <a:ext cx="8218440" cy="417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hi-IN" sz="3200" spc="-1" strike="noStrike">
                <a:solidFill>
                  <a:srgbClr val="cc0000"/>
                </a:solidFill>
                <a:latin typeface="Arial"/>
                <a:cs typeface="PT Bold Heading"/>
              </a:rPr>
              <a:t>الحقوق الأساسية</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37" name="PlaceHolder 2"/>
          <p:cNvSpPr>
            <a:spLocks noGrp="1"/>
          </p:cNvSpPr>
          <p:nvPr>
            <p:ph/>
          </p:nvPr>
        </p:nvSpPr>
        <p:spPr>
          <a:xfrm>
            <a:off x="65160" y="730080"/>
            <a:ext cx="8820000" cy="6121440"/>
          </a:xfrm>
          <a:prstGeom prst="rect">
            <a:avLst/>
          </a:prstGeom>
          <a:noFill/>
          <a:ln w="0">
            <a:noFill/>
          </a:ln>
        </p:spPr>
        <p:txBody>
          <a:bodyPr lIns="90000" rIns="90000" tIns="46800" bIns="46800" anchor="t">
            <a:normAutofit fontScale="90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ريف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عتراف بأن الأشخاص الذين يعيشون في مجتمع حر يجب أن يتمتعوا بحقوقهم ،الأمر الذي يشجعهم على التصرف بطرق تمكنهم من الناحية النفسية من أن يصبحوا في كامل فعاليتهم ، وهذا لصالحهم ولصالح المجتمع ككل . </a:t>
            </a:r>
            <a:endParaRPr b="0" lang="en-US" sz="24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200" spc="-1" strike="noStrike" u="sng">
                <a:solidFill>
                  <a:srgbClr val="0066ff"/>
                </a:solidFill>
                <a:uFillTx/>
                <a:latin typeface="Arial"/>
              </a:rPr>
              <a:t>وهذا يعني أن بإمكانك أن :</a:t>
            </a:r>
            <a:r>
              <a:rPr b="1" lang="ar-SA" sz="2200" spc="-1" strike="noStrike">
                <a:solidFill>
                  <a:srgbClr val="000000"/>
                </a:solidFill>
                <a:latin typeface="Arial"/>
              </a:rPr>
              <a:t>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تصرف طبقاًًً لحقوقك ، بدون الحاجة الى استحسان الآخرين أو الإذن منهم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توقع أن تستخدم هذه الحقوق بدون أن يطلب منك أن تبرر سلوكك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شجع الآخرين على استخدام حقوقهم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توقع من المجتمع أن يدعمك في ممارستك لهذه الحقوق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66ff"/>
                </a:solidFill>
                <a:uFillTx/>
                <a:latin typeface="Arial"/>
              </a:rPr>
              <a:t>وإذا لم تمارس حقوقك فإنك سوف :</a:t>
            </a:r>
            <a:r>
              <a:rPr b="1" lang="ar-SA" sz="2200" spc="-1" strike="noStrike">
                <a:solidFill>
                  <a:srgbClr val="000000"/>
                </a:solidFill>
                <a:latin typeface="Arial"/>
              </a:rPr>
              <a:t>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دمر ذاتك من الناحية النفسية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زيد من مستوى ما تشعر به من التوتر والقلق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تلقى أقل من نصيبك العادل من الأشياء التي تقيمها </a:t>
            </a:r>
            <a:endParaRPr b="0" lang="en-US" sz="2200" spc="-1" strike="noStrike">
              <a:solidFill>
                <a:srgbClr val="000000"/>
              </a:solidFill>
              <a:latin typeface="Arial"/>
            </a:endParaRPr>
          </a:p>
          <a:p>
            <a:pPr indent="1692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تلف وتدمر علاقاتك مع الاخرين</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عندما تكون حاسماً بشكل مسئول ، تصبح على حقيقتك وتشجع الآخرين على فعل نفس الشيء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hi-IN" sz="3200" spc="-1" strike="noStrike">
                <a:solidFill>
                  <a:srgbClr val="cc0000"/>
                </a:solidFill>
                <a:latin typeface="Arial"/>
                <a:cs typeface="PT Bold Heading"/>
              </a:rPr>
              <a:t>الحقوق الأساسية الحاسمة </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39"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ل إنسان لديه الحق في ان : </a:t>
            </a:r>
            <a:endParaRPr b="0" lang="en-US" sz="28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عامل باحترام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عبر عن آرائه ومشاعر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ضع أهدافاً وغايات خاصة ب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رفض طلباً  أو يقول ” لا“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طلب ما يريد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خطئ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الحكم على سلوكه الخاص ، بغض النظر عن رأي الآخرين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حصل على ما يدفع ثمن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غير رأي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قرر أن يكون حاسماً أو ل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الأساسية الحاسمة </a:t>
            </a:r>
            <a:endParaRPr b="0" lang="en-US" sz="3200" spc="-1" strike="noStrike">
              <a:solidFill>
                <a:srgbClr val="000000"/>
              </a:solidFill>
              <a:latin typeface="Arial"/>
            </a:endParaRPr>
          </a:p>
        </p:txBody>
      </p:sp>
      <p:sp>
        <p:nvSpPr>
          <p:cNvPr id="241"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fontScale="83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عامل باحترام</a:t>
            </a:r>
            <a:r>
              <a:rPr b="0" lang="ar-SA" sz="2400" spc="-1" strike="noStrike">
                <a:solidFill>
                  <a:srgbClr val="000000"/>
                </a:solidFill>
                <a:latin typeface="Arial"/>
              </a:rPr>
              <a:t>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حيا حياتك كما تريد،وأن تسعى لتحقيق أهدافك وغاياتك . بشرط ألا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ؤذي الآخرين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يعاملك الآخرون بأدب ولطف ،فبصرف النظر عن مكانتهم أو مركزهم</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فالكرامة والاحترام شرطان أساسيان في أي مجتمع ديمقراطي متحضر</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عبر عن آرائك ومشاعرك</a:t>
            </a:r>
            <a:r>
              <a:rPr b="0" lang="ar-SA" sz="2400" spc="-1" strike="noStrike">
                <a:solidFill>
                  <a:srgbClr val="000000"/>
                </a:solidFill>
                <a:latin typeface="Arial"/>
              </a:rPr>
              <a:t>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عبر عن نفسك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ذا رغبت في أن تعلن عن موقفك أو تعبر عن مشاعرك أمام الجميع ، فمن حقك أن تفعل</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ذلك ، فأنت وحدك وليس أي شخص آخر من يقرر هل يجب عليك ذلك أم لا</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رؤيتك للمواقف المختلفة ومشاعرك تجاهها مهمة ، شانك في ذلك شأن أي شخص آخر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أخفيت مشاعرك وآراءك ، فلن تتاح للآخرين فرصة معرفتك أو فهمك وبالتالي سوف تحرم من قبعة وجمال الصداقة الحقيق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الأساسية الحاسمة </a:t>
            </a:r>
            <a:endParaRPr b="0" lang="en-US" sz="3200" spc="-1" strike="noStrike">
              <a:solidFill>
                <a:srgbClr val="000000"/>
              </a:solidFill>
              <a:latin typeface="Arial"/>
            </a:endParaRPr>
          </a:p>
        </p:txBody>
      </p:sp>
      <p:sp>
        <p:nvSpPr>
          <p:cNvPr id="243" name="PlaceHolder 2"/>
          <p:cNvSpPr>
            <a:spLocks noGrp="1"/>
          </p:cNvSpPr>
          <p:nvPr>
            <p:ph/>
          </p:nvPr>
        </p:nvSpPr>
        <p:spPr>
          <a:xfrm>
            <a:off x="162000" y="1190520"/>
            <a:ext cx="8820000" cy="5392800"/>
          </a:xfrm>
          <a:prstGeom prst="rect">
            <a:avLst/>
          </a:prstGeom>
          <a:noFill/>
          <a:ln w="0">
            <a:noFill/>
          </a:ln>
        </p:spPr>
        <p:txBody>
          <a:bodyPr lIns="90000" rIns="90000" tIns="46800" bIns="46800" anchor="t">
            <a:normAutofit fontScale="82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ضع أهدافاً وغايات خاصة بك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ضع أهدافك الخاصة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ياة ليست بروفة ،ولن تتاح لك فرصة عيشها من جديد هذه هي الحقيقة ، وتذكر أن</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سيطرة على ما تريده أن تفعله فيها</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ذا لم تضع لنفسك أهدافاً خاصة ،فسرعان ما ستجد أنك تعمل على تحقيق أهداف من</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ضع الآخرين ، وهؤلاء لن يضعوا مصلحتك نصب أعينهم بالضرورة</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رفض طلباً أو تقول ” لا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الرفض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ندما تعمل على تحقيق أهدافك الخاصة ، وتقرر ما هو مهم وما هو ليس مهماً ، سوف</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أمامك وقت محدود لتفعل ما تريده ، وعندما بفرض الآخرون مطالب على وقتك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سوف يتعين عليك أن تقرر ما إذا كنت ترغب في منحه لهم أو لا  </a:t>
            </a:r>
            <a:endParaRPr b="0" lang="en-US" sz="2400" spc="-1" strike="noStrike">
              <a:solidFill>
                <a:srgbClr val="000000"/>
              </a:solidFill>
              <a:latin typeface="Arial"/>
            </a:endParaRPr>
          </a:p>
          <a:p>
            <a:pPr indent="154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وقت لآخر ،سوف يلزمك أن تقول ”نعم“ لنفسك أو ”لا“ للآخرين . إن قول ”لا“ في بعض الأحيان لا يجعلك أنانياً وإنما يجعلك شخصياً يهتم بنفسه بقدر ما يهتم بالآخري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الرواج المتزايد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سم والمهارات المرتبطة به يتزايدان رواجاً ، وأسباب ذلك هي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صبح هناك ازدياد في الحرية الشخصي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سم يمنح من يتصف به القو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سم يحسن الصحة النفسية لمن يستخدم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هياكل العمل التي يقل فيها التسلسل الهرمي للقيادة ، الإدارة من خلال المنصب</a:t>
            </a: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حده لم تعد فعالة</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مزيد من المنافسة على المصادر يجعل من الضروري للأشخاص السعي من أجل </a:t>
            </a: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حصول على حقوقهم المشروع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الأساسية الحاسمة </a:t>
            </a:r>
            <a:endParaRPr b="0" lang="en-US" sz="3200" spc="-1" strike="noStrike">
              <a:solidFill>
                <a:srgbClr val="000000"/>
              </a:solidFill>
              <a:latin typeface="Arial"/>
            </a:endParaRPr>
          </a:p>
        </p:txBody>
      </p:sp>
      <p:sp>
        <p:nvSpPr>
          <p:cNvPr id="245" name="PlaceHolder 2"/>
          <p:cNvSpPr>
            <a:spLocks noGrp="1"/>
          </p:cNvSpPr>
          <p:nvPr>
            <p:ph/>
          </p:nvPr>
        </p:nvSpPr>
        <p:spPr>
          <a:xfrm>
            <a:off x="161640" y="933480"/>
            <a:ext cx="8731080" cy="5664240"/>
          </a:xfrm>
          <a:prstGeom prst="rect">
            <a:avLst/>
          </a:prstGeom>
          <a:noFill/>
          <a:ln w="0">
            <a:noFill/>
          </a:ln>
        </p:spPr>
        <p:txBody>
          <a:bodyPr lIns="90000" rIns="90000" tIns="46800" bIns="46800" anchor="t">
            <a:normAutofit fontScale="8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طلب ما تريده </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عبر عن احتياجاتك الخاصة </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ة كل من احتياجات ورغبات وطلبات ومن المفيد في علاقاتك مع الآخرين أن تعبر</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نها أولاً هذا يساعدك الآخرين على منحك ما تريده حقيقة وثانياً هذا يساعدهم أيضاً على</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طلبوا منك ما يريدونه</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ن تحصل دائماً على ما تطلب ، ولكن هل ستحصل على ما تريده إذا لم تطلب الحصول</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لي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خطئ</a:t>
            </a:r>
            <a:r>
              <a:rPr b="0" lang="ar-SA" sz="2400" spc="-1" strike="noStrike">
                <a:solidFill>
                  <a:srgbClr val="000000"/>
                </a:solidFill>
                <a:latin typeface="Arial"/>
              </a:rPr>
              <a:t> </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تخطئ </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رتكاب الأخطاء جزء أساسي من عملية التعلم ، فنحن نتعلم من أخطائنا ، ولا نعرف الصواب إلا بالوقوع في الخطأ </a:t>
            </a:r>
            <a:endParaRPr b="0" lang="en-US" sz="2400" spc="-1" strike="noStrike">
              <a:solidFill>
                <a:srgbClr val="000000"/>
              </a:solidFill>
              <a:latin typeface="Arial"/>
            </a:endParaRPr>
          </a:p>
          <a:p>
            <a:pPr indent="1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شخص الوحيد الذي لم يرتكب أي اخطاء هو الذي لم يستغل ذاته أو حياته بأي شكل من الأشكا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الأساسية الحاسمة </a:t>
            </a:r>
            <a:endParaRPr b="0" lang="en-US" sz="3200" spc="-1" strike="noStrike">
              <a:solidFill>
                <a:srgbClr val="000000"/>
              </a:solidFill>
              <a:latin typeface="Arial"/>
            </a:endParaRPr>
          </a:p>
        </p:txBody>
      </p:sp>
      <p:sp>
        <p:nvSpPr>
          <p:cNvPr id="247"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كون الحكم على سلوكك الخاص بغض النظر عن رأي الآخرين</a:t>
            </a:r>
            <a:r>
              <a:rPr b="0" lang="ar-SA" sz="2400" spc="-1" strike="noStrike">
                <a:solidFill>
                  <a:srgbClr val="000000"/>
                </a:solidFill>
                <a:latin typeface="Arial"/>
              </a:rPr>
              <a:t>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حكم على نفسك .فمادمت إنساناً مستقيماً وجديراً ،فلست بحاجة الى الآخرين ليخبروك بما يجب أن تفعله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مكنك أن تحكم على سلوكك الخاص ، بدون الحاجة الى استحسان الآخرين لتصرفك أو انتقادهم له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حصل على ما تدفع ثمنه</a:t>
            </a:r>
            <a:r>
              <a:rPr b="0" lang="ar-SA" sz="2400" spc="-1" strike="noStrike">
                <a:solidFill>
                  <a:srgbClr val="000000"/>
                </a:solidFill>
                <a:latin typeface="Arial"/>
              </a:rPr>
              <a:t>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حصل على ما تدفع ثمنه . إن كسب المال أمر شاق ، ناهيك عن رؤيته وهو يهدر في مقابل بضائع رديئة أو خدمة سيئة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ت تعمل بجد للحصول على المال ، وما تتلقاه في مقابل يجب أن يكون شيئاً قيماً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ذا لم يكن كذلك ، فلديك الحق في أن تطلب القيمة أو الخدمة أو الجودة التي دفعت ثمنها أو أن تسترد ما دفعت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الأساسية الحاسمة </a:t>
            </a:r>
            <a:endParaRPr b="0" lang="en-US" sz="3200" spc="-1" strike="noStrike">
              <a:solidFill>
                <a:srgbClr val="000000"/>
              </a:solidFill>
              <a:latin typeface="Arial"/>
            </a:endParaRPr>
          </a:p>
        </p:txBody>
      </p:sp>
      <p:sp>
        <p:nvSpPr>
          <p:cNvPr id="249" name="PlaceHolder 2"/>
          <p:cNvSpPr>
            <a:spLocks noGrp="1"/>
          </p:cNvSpPr>
          <p:nvPr>
            <p:ph/>
          </p:nvPr>
        </p:nvSpPr>
        <p:spPr>
          <a:xfrm>
            <a:off x="162000" y="1052280"/>
            <a:ext cx="8820000" cy="5616360"/>
          </a:xfrm>
          <a:prstGeom prst="rect">
            <a:avLst/>
          </a:prstGeom>
          <a:noFill/>
          <a:ln w="0">
            <a:noFill/>
          </a:ln>
        </p:spPr>
        <p:txBody>
          <a:bodyPr lIns="90000" rIns="90000" tIns="46800" bIns="46800" anchor="t">
            <a:normAutofit fontScale="9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غير رأيك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غير رأيك . ذات مرة ، في مقابلة تليفزيونية مع أحد الوزراء أخبر المحاور بلهجة متحدية ، وكان شديد الجرأة بأنه كان في وقت من الأوقات عضواً نشطاً في الحزب الشيوعي . وبعد لحظات من التأمل ،رد عليه الوزير قائلاً : ”نعم كنت كذلك ،وقبل هذا كنت اؤمن بوجود بابا نويل“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تغيير معناه النمو والتطور إذا كنت لا ترضى عن ذاتك وعن أفكارك وقيمك ، إذن فالتغيير أمر حتم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حقك أن تقرر أن تكون حاسماً أو لا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ديك الحق في أن تحدد خيارتك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أي موقف مع الآخرين ، يمكنك أن تقرر ما هو الأفضل بالنسبة لك ، وان تتصرف طبقاً لذلك أحياناً سوف يعني هذا أنك ستكون حاسماً وتقول ”لا“ لشيء تفضل ألا تفعله ، وأحياناً أخرى سوف تقول ”نعم“ في نفس الموقف ، لأنك ستختار أن ترضي شخصاً تحب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قطة المهمة هي انك أنت من يتخذ القرار ، بعد أن تكون قد فكرت في العواقب ، وقررت أنك ستتحمل المسئولية عن النتيج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hi-IN" sz="3200" spc="-1" strike="noStrike">
                <a:solidFill>
                  <a:srgbClr val="cc0000"/>
                </a:solidFill>
                <a:latin typeface="Arial"/>
                <a:cs typeface="PT Bold Heading"/>
              </a:rPr>
              <a:t>حقوق أساسية</a:t>
            </a: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أخرى</a:t>
            </a:r>
            <a:endParaRPr b="0" lang="en-US" sz="3200" spc="-1" strike="noStrike">
              <a:solidFill>
                <a:srgbClr val="000000"/>
              </a:solidFill>
              <a:latin typeface="Arial"/>
            </a:endParaRPr>
          </a:p>
        </p:txBody>
      </p:sp>
      <p:sp>
        <p:nvSpPr>
          <p:cNvPr id="251"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fontScale="9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البرامج التي قمنا بإدارتها قام المشاركون بوضع قائمة من الحقوق . وقد جاء في هذه القائمة أن من حق كل إنسان أن :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ضع حدوده ويعين توقعاته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طلق حكماً ليس مبنياً على المنطق أو العقلانية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خذ قراراته الخاصة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مستقلاً عن رفقة الآخرين ويستمتع بوقته الخاص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ختار أن يتورط في شئون أو مشكلات الآخرين أو لا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جاهلاً بالأمور وألا يفهمها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ناجحاً </a:t>
            </a:r>
            <a:endParaRPr b="0" lang="en-US" sz="2400" spc="-1" strike="noStrike">
              <a:solidFill>
                <a:srgbClr val="000000"/>
              </a:solidFill>
              <a:latin typeface="Arial"/>
            </a:endParaRPr>
          </a:p>
          <a:p>
            <a:pPr indent="187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قول ” لا أعرف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عندما تنتهي من قراءة الكتاب وتطبق ما به على موقفك ، سوف تضع بالتدرج ”قائمة حقوق“ خاصة ب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حقوق أساسية</a:t>
            </a: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أخرى</a:t>
            </a:r>
            <a:endParaRPr b="0" lang="en-US" sz="3200" spc="-1" strike="noStrike">
              <a:solidFill>
                <a:srgbClr val="000000"/>
              </a:solidFill>
              <a:latin typeface="Arial"/>
            </a:endParaRPr>
          </a:p>
        </p:txBody>
      </p:sp>
      <p:sp>
        <p:nvSpPr>
          <p:cNvPr id="253"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قطة ارتكاز الحسم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خلال ممارسة حقوقك ، أنت لا تطلب أكثر مما تستحقه ، ولكن تتوقع أن تمنح ما لك تماماً أنت مستعد لتقبل نتائج أفعالك بطريقة مسئولة . ولكن إذا قبلت ان لك حقوقاً ، وأنك تستطيع ممارستها إذن فأنت تقبل أيضاً بشكل تلقائي المسئوليات التي تنشأ من فوائد تلك الحقوق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مسئوليات </a:t>
            </a:r>
            <a:endParaRPr b="0" lang="en-US" sz="3200" spc="-1" strike="noStrike">
              <a:solidFill>
                <a:srgbClr val="000000"/>
              </a:solidFill>
              <a:latin typeface="Arial"/>
            </a:endParaRPr>
          </a:p>
        </p:txBody>
      </p:sp>
      <p:sp>
        <p:nvSpPr>
          <p:cNvPr id="255"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ريف :</a:t>
            </a:r>
            <a:r>
              <a:rPr b="0" lang="ar-SA" sz="2400" spc="-1" strike="noStrike">
                <a:solidFill>
                  <a:srgbClr val="000000"/>
                </a:solidFill>
                <a:latin typeface="Arial"/>
              </a:rPr>
              <a:t> مسئولية الإنسان عن افعاله وقرارات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أن لنا حقوقاً فلآخرين حقوقاً أيضاً ، وكما نتوقع أن يحترم الآخرون حقوقنا ويعترفون بها ، يجب أن نفعل نفس الشيء له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يس هناك شيء بدون مقابل فكل فعل من جانب الإنسان رد فعل من جانب الانسان رد فعل من جانب المجتمع أو معنى لديه . وعندما نختار أن نمارس أحد حقوقنا ، يجب أن نتحمل المسئولية عن نتيجة هذا القرا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لى سبيل المثال ، لديك الحق في أن تطلب ما تريده ،ولكنك مسئول عن تقبل النتائج إذا قال أحد ”لا“ الطلب . وبالمث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مارست حقك في الرفض وقلت ”لا“ لطلب ما فأنت مسئول عما لهذا الرفض من تأثيرات على علاقتك بالشخص الذ&gt; رفضت طلبه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مسئوليات متناظرة </a:t>
            </a:r>
            <a:endParaRPr b="0" lang="en-US" sz="3200" spc="-1" strike="noStrike">
              <a:solidFill>
                <a:srgbClr val="000000"/>
              </a:solidFill>
              <a:latin typeface="Arial"/>
            </a:endParaRPr>
          </a:p>
        </p:txBody>
      </p:sp>
      <p:graphicFrame>
        <p:nvGraphicFramePr>
          <p:cNvPr id="257" name=""/>
          <p:cNvGraphicFramePr/>
          <p:nvPr/>
        </p:nvGraphicFramePr>
        <p:xfrm>
          <a:off x="142920" y="1197000"/>
          <a:ext cx="8858160" cy="4476600"/>
        </p:xfrm>
        <a:graphic>
          <a:graphicData uri="http://schemas.openxmlformats.org/drawingml/2006/table">
            <a:tbl>
              <a:tblPr/>
              <a:tblGrid>
                <a:gridCol w="5888160"/>
                <a:gridCol w="2970000"/>
              </a:tblGrid>
              <a:tr h="565560">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مسئولية</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99cc00"/>
                    </a:solidFill>
                  </a:tcPr>
                </a:tc>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حق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99cc00"/>
                    </a:solidFill>
                  </a:tcPr>
                </a:tc>
              </a:tr>
              <a:tr h="56412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Mudir MT"/>
                        </a:rPr>
                        <a:t>وبالتالي فمسئوليتي هي أن :</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Mudir MT"/>
                        </a:rPr>
                        <a:t>لدي الحق في أن : </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0000"/>
                    </a:solidFill>
                  </a:tcPr>
                </a:tc>
              </a:tr>
              <a:tr h="56592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حترم حقوق الآخرين</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عامل باحترام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82548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رحب بآراء ومشاعر الآخرين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عبر عن آرائي ومشاعري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6556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ساعد الآخرين على تحقيق أهدافهم وغاياتهم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ضع اهدافي الخاصة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82548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جع الاخرين على الاستفادة من وقتهم بالطريقة التي يرونها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رفض طلباً أو أقول ”لا“</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6448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جع الآخرين على إشباع حاجاتهم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طلب ما أريده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مسئوليات متناظرة </a:t>
            </a:r>
            <a:endParaRPr b="0" lang="en-US" sz="3200" spc="-1" strike="noStrike">
              <a:solidFill>
                <a:srgbClr val="000000"/>
              </a:solidFill>
              <a:latin typeface="Arial"/>
            </a:endParaRPr>
          </a:p>
        </p:txBody>
      </p:sp>
      <p:graphicFrame>
        <p:nvGraphicFramePr>
          <p:cNvPr id="259" name=""/>
          <p:cNvGraphicFramePr/>
          <p:nvPr/>
        </p:nvGraphicFramePr>
        <p:xfrm>
          <a:off x="260280" y="1374840"/>
          <a:ext cx="8629560" cy="3929040"/>
        </p:xfrm>
        <a:graphic>
          <a:graphicData uri="http://schemas.openxmlformats.org/drawingml/2006/table">
            <a:tbl>
              <a:tblPr/>
              <a:tblGrid>
                <a:gridCol w="5900760"/>
                <a:gridCol w="2728800"/>
              </a:tblGrid>
              <a:tr h="520560">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مسئولية</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99cc00"/>
                    </a:solidFill>
                  </a:tcPr>
                </a:tc>
                <a:tc>
                  <a:txBody>
                    <a:bodyPr lIns="90000" rIns="90000" tIns="46800" bIns="46800" anchor="ctr">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حق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99cc00"/>
                    </a:solidFill>
                  </a:tcPr>
                </a:tc>
              </a:tr>
              <a:tr h="459720">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Mudir MT"/>
                        </a:rPr>
                        <a:t>وبالتالي فمسئوليتي هي أن :</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Mudir MT"/>
                        </a:rPr>
                        <a:t>لدي الحق في أن : </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0000"/>
                    </a:solidFill>
                  </a:tcPr>
                </a:tc>
              </a:tr>
              <a:tr h="764280">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ساعد الاخرين على التعلم من أخطائهم حتى يستطيعوا النضج</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خطي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r>
              <a:tr h="764280">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عطي أفضل قيمة وخدمة في مقابل المال الذي أتلقاه من الاخرين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حصل على ما أدفع ثمنه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r>
              <a:tr h="764280">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ساعد الآخرين على الوصول لاستنتاجات بشأن تجاربهم في الحياة</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غير رأيي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r>
              <a:tr h="764280">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أعطي للآخرين الحرية في اختيار الطريقة التي يتصرفون بها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أقرر أن أكون حاسماً أو لا </a:t>
                      </a:r>
                      <a:endParaRPr b="0" lang="en-US" sz="2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في العمل</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61"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ان هناك حقوقاً في الحياة عامة ، هناك ايضاً حقوق في العمل وبشكل أساسي هناك  ثلاث فئات للحقوق في العمل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قوق الموظف القانوني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تمتع بفرص متساوية للمنافسة من أجل الحصول على عمل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كون آمناً في عمل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لا يتم التمييز ضده في العمل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تقاضى أجره بعملة قانونية متداول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كون لديه عقد توظيف أو خدمة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عاقب بشكل عادل ألا بفضل فصلاً تعسفياً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كون هناك من يمثل مصالح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حقوق في العمل</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63" name="PlaceHolder 2"/>
          <p:cNvSpPr>
            <a:spLocks noGrp="1"/>
          </p:cNvSpPr>
          <p:nvPr>
            <p:ph/>
          </p:nvPr>
        </p:nvSpPr>
        <p:spPr>
          <a:xfrm>
            <a:off x="162000" y="1052280"/>
            <a:ext cx="8820000" cy="559908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قوق الموظف التنظيمية</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تم تدريبه على ما سيفعل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تم تقييم أدائه بانتظام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عرف ما يتوقع من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قوق الموظف الشخصية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عامل باحترام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م استشارته فيما يتعلق بجوانب العمل التي تؤثر علي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عبر عن آرائه في عمله وفي كيفية إنجازه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يسعى للوصول الى تحسينات في الأجر والظروف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بعض الحيان ، سوف تطغى الالتزامات القانونية على الحقوق التنظيمية والشخصية .على سبيل المثال ، ربما تكون أنت والمؤسسة على استعداد للإضلاع بعمل غير آمن من أجل زيادة راتبك ، لكن الالتزامات القانونية سوف تمنع هذا وفي أحيان آخرى سوف تطغى الحقوق التنظيمية على الحقوق الشخص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مع من يمكن أن تكون حاسماً ؟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قيقة هي أن الحسم سوف يفيدك عند التعامل مع أي شخص تعتقد أو تشعر أنه يقوم باستغلالك </a:t>
            </a:r>
            <a:endParaRPr b="0" lang="en-US" sz="2400" spc="-1" strike="noStrike">
              <a:solidFill>
                <a:srgbClr val="000000"/>
              </a:solidFill>
              <a:latin typeface="Arial"/>
            </a:endParaRPr>
          </a:p>
        </p:txBody>
      </p:sp>
      <p:sp>
        <p:nvSpPr>
          <p:cNvPr id="72" name=""/>
          <p:cNvSpPr/>
          <p:nvPr/>
        </p:nvSpPr>
        <p:spPr>
          <a:xfrm>
            <a:off x="3635280" y="2637000"/>
            <a:ext cx="2016360" cy="115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أنت</a:t>
            </a:r>
            <a:endParaRPr b="0" lang="en-US" sz="2800" spc="-1" strike="noStrike">
              <a:solidFill>
                <a:srgbClr val="000000"/>
              </a:solidFill>
              <a:latin typeface="Times New Roman"/>
            </a:endParaRPr>
          </a:p>
        </p:txBody>
      </p:sp>
      <p:sp>
        <p:nvSpPr>
          <p:cNvPr id="73" name=""/>
          <p:cNvSpPr/>
          <p:nvPr/>
        </p:nvSpPr>
        <p:spPr>
          <a:xfrm>
            <a:off x="5940360" y="256536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سرتك</a:t>
            </a:r>
            <a:endParaRPr b="0" lang="en-US" sz="2800" spc="-1" strike="noStrike">
              <a:solidFill>
                <a:srgbClr val="000000"/>
              </a:solidFill>
              <a:latin typeface="Times New Roman"/>
            </a:endParaRPr>
          </a:p>
        </p:txBody>
      </p:sp>
      <p:sp>
        <p:nvSpPr>
          <p:cNvPr id="74" name=""/>
          <p:cNvSpPr/>
          <p:nvPr/>
        </p:nvSpPr>
        <p:spPr>
          <a:xfrm>
            <a:off x="5940360" y="342900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صدقاؤك</a:t>
            </a:r>
            <a:endParaRPr b="0" lang="en-US" sz="2800" spc="-1" strike="noStrike">
              <a:solidFill>
                <a:srgbClr val="000000"/>
              </a:solidFill>
              <a:latin typeface="Times New Roman"/>
            </a:endParaRPr>
          </a:p>
        </p:txBody>
      </p:sp>
      <p:sp>
        <p:nvSpPr>
          <p:cNvPr id="75" name=""/>
          <p:cNvSpPr/>
          <p:nvPr/>
        </p:nvSpPr>
        <p:spPr>
          <a:xfrm>
            <a:off x="1152360" y="254952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ديرك</a:t>
            </a:r>
            <a:endParaRPr b="0" lang="en-US" sz="2800" spc="-1" strike="noStrike">
              <a:solidFill>
                <a:srgbClr val="000000"/>
              </a:solidFill>
              <a:latin typeface="Times New Roman"/>
            </a:endParaRPr>
          </a:p>
        </p:txBody>
      </p:sp>
      <p:sp>
        <p:nvSpPr>
          <p:cNvPr id="76" name=""/>
          <p:cNvSpPr/>
          <p:nvPr/>
        </p:nvSpPr>
        <p:spPr>
          <a:xfrm>
            <a:off x="1187280" y="342900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ريقك</a:t>
            </a:r>
            <a:endParaRPr b="0" lang="en-US" sz="2800" spc="-1" strike="noStrike">
              <a:solidFill>
                <a:srgbClr val="000000"/>
              </a:solidFill>
              <a:latin typeface="Times New Roman"/>
            </a:endParaRPr>
          </a:p>
        </p:txBody>
      </p:sp>
      <p:sp>
        <p:nvSpPr>
          <p:cNvPr id="77" name=""/>
          <p:cNvSpPr/>
          <p:nvPr/>
        </p:nvSpPr>
        <p:spPr>
          <a:xfrm>
            <a:off x="4643280" y="177336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195640" y="1773360"/>
            <a:ext cx="216036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43280" y="177336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ذاتك</a:t>
            </a:r>
            <a:endParaRPr b="0" lang="en-US" sz="2800" spc="-1" strike="noStrike">
              <a:solidFill>
                <a:srgbClr val="000000"/>
              </a:solidFill>
              <a:latin typeface="Times New Roman"/>
            </a:endParaRPr>
          </a:p>
        </p:txBody>
      </p:sp>
      <p:sp>
        <p:nvSpPr>
          <p:cNvPr id="80" name=""/>
          <p:cNvSpPr/>
          <p:nvPr/>
        </p:nvSpPr>
        <p:spPr>
          <a:xfrm>
            <a:off x="2195640" y="1773360"/>
            <a:ext cx="216036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مرءوسوك</a:t>
            </a:r>
            <a:endParaRPr b="0" lang="en-US" sz="2800" spc="-1" strike="noStrike">
              <a:solidFill>
                <a:srgbClr val="000000"/>
              </a:solidFill>
              <a:latin typeface="Times New Roman"/>
            </a:endParaRPr>
          </a:p>
        </p:txBody>
      </p:sp>
      <p:sp>
        <p:nvSpPr>
          <p:cNvPr id="81" name=""/>
          <p:cNvSpPr/>
          <p:nvPr/>
        </p:nvSpPr>
        <p:spPr>
          <a:xfrm>
            <a:off x="5651640" y="4221000"/>
            <a:ext cx="2160360" cy="505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شبكة علاقاتك</a:t>
            </a:r>
            <a:endParaRPr b="0" lang="en-US" sz="2800" spc="-1" strike="noStrike">
              <a:solidFill>
                <a:srgbClr val="000000"/>
              </a:solidFill>
              <a:latin typeface="Times New Roman"/>
            </a:endParaRPr>
          </a:p>
        </p:txBody>
      </p:sp>
      <p:sp>
        <p:nvSpPr>
          <p:cNvPr id="82" name=""/>
          <p:cNvSpPr/>
          <p:nvPr/>
        </p:nvSpPr>
        <p:spPr>
          <a:xfrm>
            <a:off x="1619280" y="4221000"/>
            <a:ext cx="2160720" cy="505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زملاؤك</a:t>
            </a:r>
            <a:endParaRPr b="0" lang="en-US" sz="2800" spc="-1" strike="noStrike">
              <a:solidFill>
                <a:srgbClr val="000000"/>
              </a:solidFill>
              <a:latin typeface="Times New Roman"/>
            </a:endParaRPr>
          </a:p>
        </p:txBody>
      </p:sp>
      <p:sp>
        <p:nvSpPr>
          <p:cNvPr id="83" name=""/>
          <p:cNvSpPr/>
          <p:nvPr/>
        </p:nvSpPr>
        <p:spPr>
          <a:xfrm flipV="1">
            <a:off x="4932360" y="227628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flipH="1" flipV="1">
            <a:off x="3780000" y="22762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flipH="1" flipV="1">
            <a:off x="3276720" y="2923920"/>
            <a:ext cx="358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flipH="1">
            <a:off x="3348000" y="3573360"/>
            <a:ext cx="503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H="1">
            <a:off x="3634920" y="3716280"/>
            <a:ext cx="576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5292720" y="3645000"/>
            <a:ext cx="5745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508720" y="350028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flipV="1">
            <a:off x="5580000" y="2923920"/>
            <a:ext cx="360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851280" y="4365720"/>
            <a:ext cx="172728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ملاؤك</a:t>
            </a:r>
            <a:endParaRPr b="0" lang="en-US" sz="2800" spc="-1" strike="noStrike">
              <a:solidFill>
                <a:srgbClr val="000000"/>
              </a:solidFill>
              <a:latin typeface="Times New Roman"/>
            </a:endParaRPr>
          </a:p>
        </p:txBody>
      </p:sp>
      <p:sp>
        <p:nvSpPr>
          <p:cNvPr id="92" name=""/>
          <p:cNvSpPr/>
          <p:nvPr/>
        </p:nvSpPr>
        <p:spPr>
          <a:xfrm>
            <a:off x="4643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hi-IN" sz="3200" spc="-1" strike="noStrike">
                <a:solidFill>
                  <a:srgbClr val="cc0000"/>
                </a:solidFill>
                <a:latin typeface="Arial"/>
                <a:cs typeface="PT Bold Heading"/>
              </a:rPr>
              <a:t>الحقوق في العمل</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65" name="PlaceHolder 2"/>
          <p:cNvSpPr>
            <a:spLocks noGrp="1"/>
          </p:cNvSpPr>
          <p:nvPr>
            <p:ph/>
          </p:nvPr>
        </p:nvSpPr>
        <p:spPr>
          <a:xfrm>
            <a:off x="6480" y="1190520"/>
            <a:ext cx="9131040" cy="5548320"/>
          </a:xfrm>
          <a:prstGeom prst="rect">
            <a:avLst/>
          </a:prstGeom>
          <a:noFill/>
          <a:ln w="0">
            <a:noFill/>
          </a:ln>
        </p:spPr>
        <p:txBody>
          <a:bodyPr lIns="90000" rIns="90000" tIns="46800" bIns="46800" anchor="t">
            <a:normAutofit fontScale="89000"/>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مع التحديات</a:t>
            </a:r>
            <a:r>
              <a:rPr b="0" lang="ar-SA" sz="2800" spc="-1" strike="noStrike">
                <a:solidFill>
                  <a:srgbClr val="000000"/>
                </a:solidFill>
                <a:latin typeface="Arial"/>
              </a:rPr>
              <a:t> </a:t>
            </a:r>
            <a:endParaRPr b="0" lang="en-US" sz="28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راجع حقوقك القانونية.اتصل باللجنة الاستشارية للتوفيق والتحكم أو بهيئة الصحة والأمان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راجع السياسات التنظيمية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راجع الحوادث السابقة المماثلة التي نشأت من مواقف مماثلة حدثت في الماضي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راجع منظمات أصحاب العمل حول أفضل الإجراءات أو الإجراءات الجيدة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راجع النقابة العمالية لمعرفة أفضل الإجراءات أو الإجراءات الجيدة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قدم طلبك للإدارة ومعه المعلومات التي جمعتها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7</a:t>
            </a:r>
            <a:r>
              <a:rPr b="0" lang="ar-SA" sz="2400" spc="-1" strike="noStrike">
                <a:solidFill>
                  <a:srgbClr val="000000"/>
                </a:solidFill>
                <a:latin typeface="Arial"/>
              </a:rPr>
              <a:t>. إذا شعرت بعدم الرضا ، فقم بتقديم تظلم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إذا كان هذا مناسباً فالتمس المساعدة من طرف ثالث مناسب :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سئول اللجنة الاستشارية للتوفيق والتحكيم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سئول أو ممثل هيئة الصحة والأمان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سئول للنقابة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ممثل هيئة الموظفين</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الحقوق والمسئوليات</a:t>
            </a:r>
            <a:br>
              <a:rPr sz="2400"/>
            </a:br>
            <a:r>
              <a:rPr b="0" lang="hi-IN" sz="3200" spc="-1" strike="noStrike">
                <a:solidFill>
                  <a:srgbClr val="cc0000"/>
                </a:solidFill>
                <a:latin typeface="Arial"/>
                <a:cs typeface="PT Bold Heading"/>
              </a:rPr>
              <a:t>المسئوليات في العمل </a:t>
            </a:r>
            <a:r>
              <a:rPr b="0" lang="en-US" sz="2400" spc="-1" strike="noStrike">
                <a:solidFill>
                  <a:srgbClr val="0066ff"/>
                </a:solidFill>
                <a:latin typeface="Arial"/>
                <a:ea typeface="Mudir MT"/>
              </a:rPr>
              <a:t> </a:t>
            </a:r>
            <a:endParaRPr b="0" lang="en-US" sz="2400" spc="-1" strike="noStrike">
              <a:solidFill>
                <a:srgbClr val="000000"/>
              </a:solidFill>
              <a:latin typeface="Arial"/>
            </a:endParaRPr>
          </a:p>
        </p:txBody>
      </p:sp>
      <p:sp>
        <p:nvSpPr>
          <p:cNvPr id="267" name="PlaceHolder 2"/>
          <p:cNvSpPr>
            <a:spLocks noGrp="1"/>
          </p:cNvSpPr>
          <p:nvPr>
            <p:ph/>
          </p:nvPr>
        </p:nvSpPr>
        <p:spPr>
          <a:xfrm>
            <a:off x="162000" y="1052280"/>
            <a:ext cx="8820000" cy="5151240"/>
          </a:xfrm>
          <a:prstGeom prst="rect">
            <a:avLst/>
          </a:prstGeom>
          <a:noFill/>
          <a:ln w="0">
            <a:noFill/>
          </a:ln>
        </p:spPr>
        <p:txBody>
          <a:bodyPr lIns="90000" rIns="90000" tIns="46800" bIns="46800" anchor="t">
            <a:normAutofit fontScale="92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سئوليات أيضاً تعكس الحقوق الأساسية في العمل ، وفيها يلي بعض منها :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بذل أقصى ما في وسعك في العمل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واجد في العمل في الأوقات المتفق عليه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صرف بطريقة آمن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عامل مع تعليمات الإدارة المعقول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بع السياسات والإجراءات والقواعد التنظيمي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تعاون مع زملائك في العمل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ستخدم الأدوات والأجهزة والمصادر استخداما صحيح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حافظ على معايير وإجراءات الجودة المتفق عليه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روج للمصالح التجارية المشروعة لصاحب العم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ثل هذه المسئوليات يمكن أن يتم توقعها منك بشكل معقول في العمل ، ويمكن أن تتوقعها بشكل معقول من مديرك وزملائك ومرءوسك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u="sng">
                <a:solidFill>
                  <a:srgbClr val="008000"/>
                </a:solidFill>
                <a:uFillTx/>
                <a:latin typeface="Arial"/>
                <a:cs typeface="Simple Indust Shaded"/>
              </a:rPr>
              <a:t>مهارات الحس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لغة الجسد</a:t>
            </a:r>
            <a:endParaRPr b="0" lang="en-US" sz="3200" spc="-1" strike="noStrike">
              <a:solidFill>
                <a:srgbClr val="000000"/>
              </a:solidFill>
              <a:latin typeface="Arial"/>
            </a:endParaRPr>
          </a:p>
        </p:txBody>
      </p:sp>
      <p:sp>
        <p:nvSpPr>
          <p:cNvPr id="270" name="PlaceHolder 2"/>
          <p:cNvSpPr>
            <a:spLocks noGrp="1"/>
          </p:cNvSpPr>
          <p:nvPr>
            <p:ph/>
          </p:nvPr>
        </p:nvSpPr>
        <p:spPr>
          <a:xfrm>
            <a:off x="144360" y="980640"/>
            <a:ext cx="8855280" cy="5472360"/>
          </a:xfrm>
          <a:prstGeom prst="rect">
            <a:avLst/>
          </a:prstGeom>
          <a:noFill/>
          <a:ln w="0">
            <a:noFill/>
          </a:ln>
        </p:spPr>
        <p:txBody>
          <a:bodyPr lIns="90000" rIns="90000" tIns="46800" bIns="46800" anchor="t">
            <a:normAutofit fontScale="9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قترح ”ألبرت مهربيان“ وهو أخصائي في علم اللغة وعلاقتها بالمجتمع ، أن الجانب الكبر من تأثير ما نقوله من كلمات ينبع من لغة الجسد . وكما نرى من التخطيط الدائري الموضح ، والذي وضعه ألبرت ، فنحن عندما نقرر ما إذا كان الشخص الذي نتكلم معه يعني ما يقوله أم لا ، فإن </a:t>
            </a:r>
            <a:r>
              <a:rPr b="0" lang="ar-SA" sz="2400" spc="-1" strike="noStrike">
                <a:solidFill>
                  <a:srgbClr val="000000"/>
                </a:solidFill>
                <a:latin typeface="Arial"/>
              </a:rPr>
              <a:t>55</a:t>
            </a:r>
            <a:r>
              <a:rPr b="0" lang="ar-SA" sz="2400" spc="-1" strike="noStrike">
                <a:solidFill>
                  <a:srgbClr val="000000"/>
                </a:solidFill>
                <a:latin typeface="Arial"/>
              </a:rPr>
              <a:t>% من هذا القرار يتأثر بلغة الجسد ، </a:t>
            </a:r>
            <a:r>
              <a:rPr b="0" lang="ar-SA" sz="2400" spc="-1" strike="noStrike">
                <a:solidFill>
                  <a:srgbClr val="000000"/>
                </a:solidFill>
                <a:latin typeface="Arial"/>
              </a:rPr>
              <a:t>7</a:t>
            </a:r>
            <a:r>
              <a:rPr b="0" lang="ar-SA" sz="2400" spc="-1" strike="noStrike">
                <a:solidFill>
                  <a:srgbClr val="000000"/>
                </a:solidFill>
                <a:latin typeface="Arial"/>
              </a:rPr>
              <a:t>% منه يتأثر بالكلمات الفعلية التي يقوله هذا الشخص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لغة الجسد                   </a:t>
            </a:r>
            <a:r>
              <a:rPr b="1" lang="ar-SA" sz="2400" spc="-1" strike="noStrike">
                <a:solidFill>
                  <a:srgbClr val="000000"/>
                </a:solidFill>
                <a:latin typeface="Arial"/>
                <a:ea typeface="Mudir MT"/>
              </a:rPr>
              <a:t>55</a:t>
            </a:r>
            <a:r>
              <a:rPr b="1" lang="ar-SA" sz="2400" spc="-1" strike="noStrike">
                <a:solidFill>
                  <a:srgbClr val="000000"/>
                </a:solidFill>
                <a:latin typeface="Arial"/>
                <a:ea typeface="Mudir MT"/>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صوت                       </a:t>
            </a:r>
            <a:r>
              <a:rPr b="1" lang="ar-SA" sz="2400" spc="-1" strike="noStrike">
                <a:solidFill>
                  <a:srgbClr val="000000"/>
                </a:solidFill>
                <a:latin typeface="Arial"/>
                <a:ea typeface="Mudir MT"/>
              </a:rPr>
              <a:t>38</a:t>
            </a:r>
            <a:r>
              <a:rPr b="1" lang="ar-SA" sz="2400" spc="-1" strike="noStrike">
                <a:solidFill>
                  <a:srgbClr val="000000"/>
                </a:solidFill>
                <a:latin typeface="Arial"/>
                <a:ea typeface="Mudir MT"/>
              </a:rPr>
              <a:t>%</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كلمات الفعلية          </a:t>
            </a:r>
            <a:r>
              <a:rPr b="1" lang="ar-SA" sz="2400" spc="-1" strike="noStrike">
                <a:solidFill>
                  <a:srgbClr val="000000"/>
                </a:solidFill>
                <a:latin typeface="Arial"/>
                <a:ea typeface="Mudir MT"/>
              </a:rPr>
              <a:t>7</a:t>
            </a:r>
            <a:r>
              <a:rPr b="1" lang="ar-SA" sz="2400" spc="-1" strike="noStrike">
                <a:solidFill>
                  <a:srgbClr val="000000"/>
                </a:solidFill>
                <a:latin typeface="Arial"/>
                <a:ea typeface="Mudir MT"/>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التالي ، فإذا أردت أن تكون حاسماً ، فمن المهم بشكل أساسي أن تنسجم كلماتك وتتناغم مع لغة الجسد الخاصة بك والمصاحبة لهذه الكلمات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لغة الجسد غير الحاسمة</a:t>
            </a:r>
            <a:endParaRPr b="0" lang="en-US" sz="3200" spc="-1" strike="noStrike">
              <a:solidFill>
                <a:srgbClr val="000000"/>
              </a:solidFill>
              <a:latin typeface="Arial"/>
            </a:endParaRPr>
          </a:p>
        </p:txBody>
      </p:sp>
      <p:graphicFrame>
        <p:nvGraphicFramePr>
          <p:cNvPr id="272" name=""/>
          <p:cNvGraphicFramePr/>
          <p:nvPr/>
        </p:nvGraphicFramePr>
        <p:xfrm>
          <a:off x="254160" y="1125360"/>
          <a:ext cx="8683560" cy="4972320"/>
        </p:xfrm>
        <a:graphic>
          <a:graphicData uri="http://schemas.openxmlformats.org/drawingml/2006/table">
            <a:tbl>
              <a:tblPr/>
              <a:tblGrid>
                <a:gridCol w="2893680"/>
                <a:gridCol w="2895840"/>
                <a:gridCol w="289404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ينان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عبيرات الوجه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ضعية الجسم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نظر لأسفل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رتباك وحير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انحناء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10720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أقل قدر ممكن من الاتصال</a:t>
                      </a:r>
                      <a:endParaRPr b="0" lang="en-US" sz="2000" spc="-1" strike="noStrike">
                        <a:solidFill>
                          <a:srgbClr val="000000"/>
                        </a:solidFill>
                        <a:latin typeface="Times New Roman"/>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بالعي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نصف ابتسامة تعبيراً عن</a:t>
                      </a:r>
                      <a:endParaRPr b="0" lang="en-US" sz="2000" spc="-1" strike="noStrike">
                        <a:solidFill>
                          <a:srgbClr val="000000"/>
                        </a:solidFill>
                        <a:latin typeface="Times New Roman"/>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موافق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طأطأة الرأس/ انحناء الكتفي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عدم اهتمام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احدودواب</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خوف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إيماءا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كلام والصو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تململ وعدم ارتياح</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هادئ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إيماء بالرأس عند الموافق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تردد / بطيء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قرص الجسم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ضعيف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لدى اليدين وهما متشابكتا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سريع(عند الخوف أو القلق)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لغة الجسد العدوانية</a:t>
            </a:r>
            <a:endParaRPr b="0" lang="en-US" sz="3200" spc="-1" strike="noStrike">
              <a:solidFill>
                <a:srgbClr val="000000"/>
              </a:solidFill>
              <a:latin typeface="Arial"/>
            </a:endParaRPr>
          </a:p>
        </p:txBody>
      </p:sp>
      <p:graphicFrame>
        <p:nvGraphicFramePr>
          <p:cNvPr id="274" name=""/>
          <p:cNvGraphicFramePr/>
          <p:nvPr/>
        </p:nvGraphicFramePr>
        <p:xfrm>
          <a:off x="210960" y="1125360"/>
          <a:ext cx="8744040" cy="4975560"/>
        </p:xfrm>
        <a:graphic>
          <a:graphicData uri="http://schemas.openxmlformats.org/drawingml/2006/table">
            <a:tbl>
              <a:tblPr/>
              <a:tblGrid>
                <a:gridCol w="2294280"/>
                <a:gridCol w="3535200"/>
                <a:gridCol w="291456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ينان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عبيرات الوجه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ضعية الجسم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تحديق</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إطباق الفكي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صرامة</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جحوظ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نظريات الخاطف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إحكام القبضتي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نظرات المرتكب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عبوس والتهجم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إطباق الأسنان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نظر شزراً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إيماءا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كلام والصو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إشارة بالأصابع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سريع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هز الأصابع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عال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طعن بالأصابع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ختصر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تعدي على المساحة الشخصي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حاد الطبق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قاس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عنيد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لغة الجسد الحاسمة</a:t>
            </a:r>
            <a:endParaRPr b="0" lang="en-US" sz="3200" spc="-1" strike="noStrike">
              <a:solidFill>
                <a:srgbClr val="000000"/>
              </a:solidFill>
              <a:latin typeface="Arial"/>
            </a:endParaRPr>
          </a:p>
        </p:txBody>
      </p:sp>
      <p:graphicFrame>
        <p:nvGraphicFramePr>
          <p:cNvPr id="276" name=""/>
          <p:cNvGraphicFramePr/>
          <p:nvPr/>
        </p:nvGraphicFramePr>
        <p:xfrm>
          <a:off x="468360" y="1268280"/>
          <a:ext cx="8229600" cy="4569120"/>
        </p:xfrm>
        <a:graphic>
          <a:graphicData uri="http://schemas.openxmlformats.org/drawingml/2006/table">
            <a:tbl>
              <a:tblPr/>
              <a:tblGrid>
                <a:gridCol w="2743200"/>
                <a:gridCol w="2743200"/>
                <a:gridCol w="2743200"/>
              </a:tblGrid>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عينان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تعبيرات الوجه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ضعية الجسم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405720">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تصال شديد بالعين</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التزام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نتصاب القامة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اكتراث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استرخاء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اهتمام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عدم التقيد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تجارب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إيماءا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كلام والصوت :</a:t>
                      </a:r>
                      <a:endParaRPr b="0" lang="en-US" sz="2400" spc="-1" strike="noStrike">
                        <a:solidFill>
                          <a:srgbClr val="000000"/>
                        </a:solidFill>
                        <a:latin typeface="Times New Roman"/>
                      </a:endParaRPr>
                    </a:p>
                  </a:txBody>
                  <a:tcPr anchor="t" marL="90000" marR="90000">
                    <a:lnL>
                      <a:noFill/>
                    </a:lnL>
                    <a:lnR>
                      <a:noFill/>
                    </a:lnR>
                    <a:lnT>
                      <a:noFill/>
                    </a:lnT>
                    <a:lnB>
                      <a:noFill/>
                    </a:lnB>
                    <a:solidFill>
                      <a:srgbClr val="c0c0c0"/>
                    </a:solidFill>
                  </a:tcPr>
                </a:tc>
              </a:tr>
              <a:tr h="405720">
                <a:tc gridSpan="2" rowSpan="5">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تفتح </a:t>
                      </a:r>
                      <a:endParaRPr b="0" lang="en-US" sz="2000" spc="-1" strike="noStrike">
                        <a:solidFill>
                          <a:srgbClr val="000000"/>
                        </a:solidFill>
                        <a:latin typeface="Times New Roman"/>
                      </a:endParaRPr>
                    </a:p>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يدان غير مرتفعتين فوق المرفقين </a:t>
                      </a:r>
                      <a:endParaRPr b="0" lang="en-US" sz="2000" spc="-1" strike="noStrike">
                        <a:solidFill>
                          <a:srgbClr val="000000"/>
                        </a:solidFill>
                        <a:latin typeface="Times New Roman"/>
                      </a:endParaRPr>
                    </a:p>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الكتفان متحاذيتان  </a:t>
                      </a:r>
                      <a:endParaRPr b="0" lang="en-US" sz="2000" spc="-1" strike="noStrike">
                        <a:solidFill>
                          <a:srgbClr val="000000"/>
                        </a:solidFill>
                        <a:latin typeface="Times New Roman"/>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txBody>
                  <a:tcPr anchor="t" marL="90000" marR="90000">
                    <a:lnL>
                      <a:noFill/>
                    </a:lnL>
                    <a:lnR>
                      <a:noFill/>
                    </a:lnR>
                    <a:lnT>
                      <a:noFill/>
                    </a:lnT>
                    <a:lnB>
                      <a:noFill/>
                    </a:lnB>
                    <a:noFill/>
                  </a:tcPr>
                </a:tc>
                <a:tc hMerge="1" row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باشر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سترخ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ودود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5720">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معتدل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r h="403920">
                <a:tc vMerge="1" gridSpan="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غير متوتر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تعامل مع النقد</a:t>
            </a:r>
            <a:endParaRPr b="0" lang="en-US" sz="3200" spc="-1" strike="noStrike">
              <a:solidFill>
                <a:srgbClr val="000000"/>
              </a:solidFill>
              <a:latin typeface="Arial"/>
            </a:endParaRPr>
          </a:p>
        </p:txBody>
      </p:sp>
      <p:sp>
        <p:nvSpPr>
          <p:cNvPr id="278" name="PlaceHolder 2"/>
          <p:cNvSpPr>
            <a:spLocks noGrp="1"/>
          </p:cNvSpPr>
          <p:nvPr>
            <p:ph/>
          </p:nvPr>
        </p:nvSpPr>
        <p:spPr>
          <a:xfrm>
            <a:off x="177840" y="1268280"/>
            <a:ext cx="8788320" cy="4935600"/>
          </a:xfrm>
          <a:prstGeom prst="rect">
            <a:avLst/>
          </a:prstGeom>
          <a:noFill/>
          <a:ln w="0">
            <a:noFill/>
          </a:ln>
        </p:spPr>
        <p:txBody>
          <a:bodyPr lIns="90000" rIns="90000" tIns="46800" bIns="46800" anchor="t">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نتقد شيء مفيد لأنه تقييماً لما لسلوكك من آثار ، ويمكنك أن تقرر ما إذا كان النقد مفيداً لك أم لا . وفي بعض الأحيان يكون النقد خبيثاً ماكراً أو غير مبرر أو مجرد ظلم محض . وفيما يلي إجراءات أساسية أو قائمة مراجعة لمساعدتك على التعامل مع النقد . </a:t>
            </a:r>
            <a:endParaRPr b="0" lang="en-US" sz="2400" spc="-1" strike="noStrike">
              <a:solidFill>
                <a:srgbClr val="000000"/>
              </a:solidFill>
              <a:latin typeface="Arial"/>
            </a:endParaRPr>
          </a:p>
          <a:p>
            <a:pPr indent="162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ل الشخص الذي ينتقدك مؤهل لإعطاء النقد وهل هو يعرفك بما فيه الكفاية ؟ </a:t>
            </a:r>
            <a:endParaRPr b="0" lang="en-US" sz="2400" spc="-1" strike="noStrike">
              <a:solidFill>
                <a:srgbClr val="000000"/>
              </a:solidFill>
              <a:latin typeface="Arial"/>
            </a:endParaRPr>
          </a:p>
          <a:p>
            <a:pPr indent="162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هل يمكنك أن تغير السلوك الذي ينتقدك الآخرون بسببه؟(تذكر أنه من المستحيل أن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غير شخصيتك . فإذا كنت ”خجولا“ أو ”غير مستقل“ بالفطرة فهذه هي طبيعت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سيتعين على الطرف الآخر أن يتقبلها كما هي . يمكنك فقط أن تغير سلوك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هل تدرك أن هذا السلوك يبدر منك بالفعل ؟ إذا لم يكن الأمر كذلك ، فراقب نفس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مدى تكرار هذا السلوك وظروف تكرار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11280" y="260280"/>
            <a:ext cx="8229600" cy="851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تعامل مع النقد</a:t>
            </a:r>
            <a:endParaRPr b="0" lang="en-US" sz="3200" spc="-1" strike="noStrike">
              <a:solidFill>
                <a:srgbClr val="000000"/>
              </a:solidFill>
              <a:latin typeface="Arial"/>
            </a:endParaRPr>
          </a:p>
        </p:txBody>
      </p:sp>
      <p:sp>
        <p:nvSpPr>
          <p:cNvPr id="280"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8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هل يبدر منك هذا السلوك بتكرار يكفي لجذب انتباهك ل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هل نتائج هذا السلوك مهمة بما فيه الكفاية لجذب انتباه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فكر في الأسباب التي تجعلك تسلك هذا السلوك. ما الفوائد التي ستعود عليك أو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سائر التي ستتحملها إذا داومت على فعل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7</a:t>
            </a:r>
            <a:r>
              <a:rPr b="0" lang="ar-SA" sz="2400" spc="-1" strike="noStrike">
                <a:solidFill>
                  <a:srgbClr val="000000"/>
                </a:solidFill>
                <a:latin typeface="Arial"/>
              </a:rPr>
              <a:t>. فكر لتعرف إن كنت ترغب في أن تغير سلوكك أم لا ما الفوائد التي ستعود عليك</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 قمت بتغيير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هل أنت على استعداد لأن تدفع ثمن هذا التغيي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9</a:t>
            </a:r>
            <a:r>
              <a:rPr b="0" lang="ar-SA" sz="2400" spc="-1" strike="noStrike">
                <a:solidFill>
                  <a:srgbClr val="000000"/>
                </a:solidFill>
                <a:latin typeface="Arial"/>
              </a:rPr>
              <a:t>. قرر هل ستتغير أم لا ، واعمل على تنفيذ هذا القرا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0</a:t>
            </a:r>
            <a:r>
              <a:rPr b="0" lang="ar-SA" sz="2400" spc="-1" strike="noStrike">
                <a:solidFill>
                  <a:srgbClr val="000000"/>
                </a:solidFill>
                <a:latin typeface="Arial"/>
              </a:rPr>
              <a:t>. ترفق بنفسك ، وتوقع بعض التراخي من جانبك ، فبصرف النظر عن مدى</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صميمك والتزامك ، فالتغير الشخصي لا يحدث بسرع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تعامل مع النقد</a:t>
            </a:r>
            <a:endParaRPr b="0" lang="en-US" sz="3200" spc="-1" strike="noStrike">
              <a:solidFill>
                <a:srgbClr val="000000"/>
              </a:solidFill>
              <a:latin typeface="Arial"/>
            </a:endParaRPr>
          </a:p>
        </p:txBody>
      </p:sp>
      <p:sp>
        <p:nvSpPr>
          <p:cNvPr id="282" name="PlaceHolder 2"/>
          <p:cNvSpPr>
            <a:spLocks noGrp="1"/>
          </p:cNvSpPr>
          <p:nvPr>
            <p:ph/>
          </p:nvPr>
        </p:nvSpPr>
        <p:spPr>
          <a:xfrm>
            <a:off x="200160" y="1268280"/>
            <a:ext cx="8743680" cy="4935600"/>
          </a:xfrm>
          <a:prstGeom prst="rect">
            <a:avLst/>
          </a:prstGeom>
          <a:noFill/>
          <a:ln w="0">
            <a:noFill/>
          </a:ln>
        </p:spPr>
        <p:txBody>
          <a:bodyPr lIns="90000" rIns="90000" tIns="46800" bIns="46800" anchor="t">
            <a:normAutofit fontScale="98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عامل مع النقد بشكل عقلاني ومنطقي ، وليس بشكل انفعالي . فيما يلي بعض التلميحات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نقد هو مجرد تقييم ، وهو بسلوكك وليس بشخصك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بعض الأحيان يكون النقد الذي تتلقاه لا أساس له من الصحة ، لذلك ، يجب عليك أ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راجع كل ما تتلقاه من نقد لكي تكتشف ما هو مفيد وما ليس كذلك</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غير المناسب أن تستقرئ  النقد لتستدل منه على أشياء لا وجود لها،فمن غير الحكم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تستخرج شيئاً عاماً من تفاصيل مختلفة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جب عليك أن تفكر في النقد لا أن تشن حرباً عليه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ذا يكن النقد بخصوص سلوك محدد ، إذا فهو محدود القيمة أو عديم القيمة على الإطلا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لماذا الكلام عن الحسم الان ؟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144360" y="1268280"/>
            <a:ext cx="8855280" cy="4935600"/>
          </a:xfrm>
          <a:prstGeom prst="rect">
            <a:avLst/>
          </a:prstGeom>
          <a:noFill/>
          <a:ln w="0">
            <a:noFill/>
          </a:ln>
        </p:spPr>
        <p:txBody>
          <a:bodyPr lIns="90000" rIns="90000" tIns="46800" bIns="46800" anchor="t">
            <a:normAutofit fontScale="81000"/>
          </a:bodyPr>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000" spc="-1" strike="noStrike">
                <a:solidFill>
                  <a:srgbClr val="000000"/>
                </a:solidFill>
                <a:latin typeface="Arial"/>
              </a:rPr>
              <a:t>الهرمية الاجتماعية والسياسية القائمة على الأصل أو الطبقة لم تعد ناجحة داخل الهياكل الرأسمالية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مؤسسات الناجحة أصبحت تقوم الآن على مبدأ الاستحقاقية وتطلب من الجميع تحقيق أفضل ما يمكنهم تحقيقه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مجتمع يطالب كل إنسان بأن يكون له إسهامه حتى يحقق النجاح .لم يعد هناك تفاضل بين الناس بحكم أصلهم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تغبير الإنسان عن آرائه وتوضيح حقيقة موقفه وجد أنهما يؤديان الى تحسين صحته النفسية وتحسين علاقاته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شخص الذي يؤدي مهمته جيداً في العمل هو من يستطيع أن يسهم أكبر إسهام في تحسينه وتطويره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قيمة والقوة السياسية وراء حركة المساواة وإلغاء التمييز على اساس الجنس أو العرق أو الدين أو اللون أصبحتا الآن جزءاً من ثقافة الدول المتحضرة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اثمار الكامل لمبادئ الديمقراطية فيما يتعلق بالحرية الشخصية والمساواة بين الجميع في الحقوق داخل المجتمع يشجع الجميع على السعى من أجل على حقوقهم وتحقيق أهدافهم </a:t>
            </a:r>
            <a:endParaRPr b="0" lang="en-US" sz="2000" spc="-1" strike="noStrike">
              <a:solidFill>
                <a:srgbClr val="000000"/>
              </a:solidFill>
              <a:latin typeface="Arial"/>
            </a:endParaRPr>
          </a:p>
          <a:p>
            <a:pPr indent="15120" algn="r" rtl="1">
              <a:spcBef>
                <a:spcPts val="499"/>
              </a:spcBef>
              <a:buClr>
                <a:srgbClr val="000000"/>
              </a:buClr>
              <a:buFont typeface="Arial"/>
              <a:buChar char="•"/>
              <a:tabLst>
                <a:tab algn="l" pos="3139920"/>
                <a:tab algn="l" pos="3225960"/>
                <a:tab algn="l" pos="34164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فلسفة العصر  الجديد عن تمكين الأشخاص والسعي لتحقيق الامتياز والتفوق الشخصي تشجع الناس على أن يكونوا على حقيقتهم وطبيعتهم على التعبير عن أنفسهم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لإعطاء النقد</a:t>
            </a:r>
            <a:endParaRPr b="0" lang="en-US" sz="3200" spc="-1" strike="noStrike">
              <a:solidFill>
                <a:srgbClr val="000000"/>
              </a:solidFill>
              <a:latin typeface="Arial"/>
            </a:endParaRPr>
          </a:p>
        </p:txBody>
      </p:sp>
      <p:sp>
        <p:nvSpPr>
          <p:cNvPr id="284" name="PlaceHolder 2"/>
          <p:cNvSpPr>
            <a:spLocks noGrp="1"/>
          </p:cNvSpPr>
          <p:nvPr>
            <p:ph/>
          </p:nvPr>
        </p:nvSpPr>
        <p:spPr>
          <a:xfrm>
            <a:off x="138240" y="907920"/>
            <a:ext cx="9005760" cy="5950080"/>
          </a:xfrm>
          <a:prstGeom prst="rect">
            <a:avLst/>
          </a:prstGeom>
          <a:noFill/>
          <a:ln w="0">
            <a:noFill/>
          </a:ln>
        </p:spPr>
        <p:txBody>
          <a:bodyPr lIns="90000" rIns="90000" tIns="46800" bIns="46800" anchor="t">
            <a:normAutofit fontScale="90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ذا شعرت بحاجة الى انتقاد الآخرين ، يجب عليك أن تعاملهم بنفس الطريقة التي تحب أن يعاملوك بها .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نتقد فقط السلوك الذي يستطيع الطرف الآخر تغييره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كن محددأ ودقيقاً بقدر الإمكان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كن قادراً على إعطاء أمثلة مختلفة على السلوك الذي تنتقده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نتقد السلوك بعد وقوعه مباشرة بقدر الإمكان ، وإلا لن يكون نقدك مفيداً . لا تترك</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أشياء تتراكم ثم تعمد الى تذكير الطرف الآخر بها مرة واحدة</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لا تجعل صوتك محملاً بمشاعر معينة وحافظ على لغة جسدك إيجابية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ستخدم عبارات تدل على تعاطفك معه :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 ربما يكون هذا صعباً عليك....“</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ن الجائز أنك لا تدرك ...“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 ربما يكون هذا مفاجئاً لك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لن يكون هذا من السهل عليك أن تعامل مع ...“ </a:t>
            </a:r>
            <a:endParaRPr b="0" lang="en-US" sz="2000" spc="-1" strike="noStrike">
              <a:solidFill>
                <a:srgbClr val="000000"/>
              </a:solidFill>
              <a:latin typeface="Arial"/>
            </a:endParaRPr>
          </a:p>
          <a:p>
            <a:pPr indent="169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در الطرف الآخر وقم بمكافأته على سبيل المثال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 شكراً على إصغائك لي ...“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 إنني متأكد من أنك لن تفعل هذا مرة ثانية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 إنني واثق من أن بمقدورك أن تؤدي بشكل أفضل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استجابة للنقد</a:t>
            </a:r>
            <a:endParaRPr b="0" lang="en-US" sz="3200" spc="-1" strike="noStrike">
              <a:solidFill>
                <a:srgbClr val="000000"/>
              </a:solidFill>
              <a:latin typeface="Arial"/>
            </a:endParaRPr>
          </a:p>
        </p:txBody>
      </p:sp>
      <p:sp>
        <p:nvSpPr>
          <p:cNvPr id="286" name="PlaceHolder 2"/>
          <p:cNvSpPr>
            <a:spLocks noGrp="1"/>
          </p:cNvSpPr>
          <p:nvPr>
            <p:ph/>
          </p:nvPr>
        </p:nvSpPr>
        <p:spPr>
          <a:xfrm>
            <a:off x="182520" y="1268280"/>
            <a:ext cx="877896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ا يمكنك أن تهرب من النقد ، ولذلك فمن المعقول السليم أن تتقبله وتتعامل معه بنجاح . وربما يفيدك أن تتذكر ما يلي دائماً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يس كل النقد مفيداً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يس كل النقد عادلاً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يس كل النقد له ما يبرره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يس كل النقد صحيح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لكن عندما تكون حاسماً فإن يساعدك على تتعامل مع النقد بفعالي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ا عندما يتعرض الشخص غير الحاسم للانتقاد ، فإن يحاول أن يحظى فإنه يحاول أن يحظى باستحسان الطرف الآخر ، ويبقى هادئاً وصامتاً ، ويبدو عليه أنه يتقبل النقد . ولكن من الجائز أنه من الداخل يستشيط غضباً أو يتألم أو ربما يريد مزيداً من التوضيح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استجابة للنقد</a:t>
            </a:r>
            <a:endParaRPr b="0" lang="en-US" sz="3200" spc="-1" strike="noStrike">
              <a:solidFill>
                <a:srgbClr val="000000"/>
              </a:solidFill>
              <a:latin typeface="Arial"/>
            </a:endParaRPr>
          </a:p>
        </p:txBody>
      </p:sp>
      <p:sp>
        <p:nvSpPr>
          <p:cNvPr id="288"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عض الناس يتقبلون كل ما يتعرضون له من نقد على أنه منصف وعادل بشكل تلقائي ويحاولون تغيير أنفسهم إرضاء للآخرين . وهذا شيء خطير وخصوصاً إذا كان ليس ما يبرره و/أو كان غير عاد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أشخاص العدوانيون سوف يهاجمون من ينتقدهم على الفور أو يبذلون قصارى جهدهم في تبرير سلوكه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ا عندما تكون حاسماً ، فهذا معناه أنك قادر على تقبل النقد والتعامل معه .أنت تعلم من خلال التقييم تكون قادراً على أن تفهم تماماً ما لسلوكك من معان وتأثيرات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أشخاص الحاسمون يستطيعون :         التعامل مع النق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عطاء النق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دون انفعال ، وبدون أن يؤثر ذلك على كرامتهم واستقامتهم كأشخا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تلقي تقييم إيجابي </a:t>
            </a:r>
            <a:endParaRPr b="0" lang="en-US" sz="3200" spc="-1" strike="noStrike">
              <a:solidFill>
                <a:srgbClr val="000000"/>
              </a:solidFill>
              <a:latin typeface="Arial"/>
            </a:endParaRPr>
          </a:p>
        </p:txBody>
      </p:sp>
      <p:sp>
        <p:nvSpPr>
          <p:cNvPr id="290"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88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ثيراً ما نقلل من أهمية ما نتلقاه من مديح وتقييم إيجابي حقيقي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م يكن شيئاً مهما في الواقع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ان بوسع أي أحد القيام بذل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حن عندما نفعل هذا لا نرفض معلومات قيمة عن انفسنا فحسب ، لكننا أيضاً نعاقب من يقوم بمدحنا وإطرائنا إذا تجاهلنا دائماً مديح الآخرين ، فنحن بذلك ندرب أسرتنا وأصدقاءنا على عدم منحه لنا وبالتالي نحكم على أنفسنا بالعيش في عالم كئيب من النقد المستم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المديح يزيد من رصيد الأصدقاء لديهم بعضهم البعض ويبني تقدير الذات لدى كل المانح والمتلقي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قبل المديح أمر في غاية السهولة فكل ما عليك هو أن تبتسم – فالابتسامة على حال هي أفضل تعبير يمكن أن ترسمه على وجهك – وتقول للطرف الآخر ” شكراً“ وعندما يصبح تلقي المديح أمراً مألوفاً بالنسبة لك ، سوف تجد إعطاءه للآخرين قد أصبح أكثر سهولة . إن الحياة أقصر من أن تعيشها بدون أن تخبر الآخرين بالأشياء التي تسعدك أو تعجبك فيهم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تقييم الإيجابي </a:t>
            </a:r>
            <a:endParaRPr b="0" lang="en-US" sz="3200" spc="-1" strike="noStrike">
              <a:solidFill>
                <a:srgbClr val="000000"/>
              </a:solidFill>
              <a:latin typeface="Arial"/>
            </a:endParaRPr>
          </a:p>
        </p:txBody>
      </p:sp>
      <p:sp>
        <p:nvSpPr>
          <p:cNvPr id="292"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ندما تتقبل مديحاً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تم تعزيز ثقتك بنفسك وإشباع غرورك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شعر بمشاعر افضل تجاه ذاتك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بدو أكثر ثقة بنفسك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وف تتلقى المديح بتكرار أكبر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ن يمتدحونك سوف يشعرون بمشاعر طيبة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ندما تعطي للآخرين تقييماً إيجابياً فإنهم :</a:t>
            </a:r>
            <a:r>
              <a:rPr b="0" lang="ar-SA" sz="2400" spc="-1" strike="noStrike">
                <a:solidFill>
                  <a:srgbClr val="000000"/>
                </a:solidFill>
                <a:latin typeface="Arial"/>
              </a:rPr>
              <a:t>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شعرون تجاه أنفسهم بمشاعر طيبة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شعرون بمزيد من التحفيز والالتزام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قدرونك ويحترمونك بشكل أكبر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عملون بشكل أفضل مع الآخرين </a:t>
            </a:r>
            <a:endParaRPr b="0" lang="en-US" sz="2400" spc="-1" strike="noStrike">
              <a:solidFill>
                <a:srgbClr val="000000"/>
              </a:solidFill>
              <a:latin typeface="Arial"/>
            </a:endParaRPr>
          </a:p>
          <a:p>
            <a:pPr indent="19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حسنون أداء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يف تختلف في الرأي مع الآخرين ؟ </a:t>
            </a:r>
            <a:endParaRPr b="0" lang="en-US" sz="3200" spc="-1" strike="noStrike">
              <a:solidFill>
                <a:srgbClr val="000000"/>
              </a:solidFill>
              <a:latin typeface="Arial"/>
            </a:endParaRPr>
          </a:p>
        </p:txBody>
      </p:sp>
      <p:sp>
        <p:nvSpPr>
          <p:cNvPr id="294" name="PlaceHolder 2"/>
          <p:cNvSpPr>
            <a:spLocks noGrp="1"/>
          </p:cNvSpPr>
          <p:nvPr>
            <p:ph/>
          </p:nvPr>
        </p:nvSpPr>
        <p:spPr>
          <a:xfrm>
            <a:off x="199800" y="1052640"/>
            <a:ext cx="8778600" cy="5605200"/>
          </a:xfrm>
          <a:prstGeom prst="rect">
            <a:avLst/>
          </a:prstGeom>
          <a:noFill/>
          <a:ln w="0">
            <a:noFill/>
          </a:ln>
        </p:spPr>
        <p:txBody>
          <a:bodyPr lIns="90000" rIns="90000" tIns="46800" bIns="46800"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حسم معناه أنه سيكون لك آراؤك الخاصة . ربما أن الآخرين أيضاً سيكون لهم آراؤهم الخاصة ، فهذا يعني أنه سيكون هناك اختلاف في الرأي من وقت لآخر . وفي مثل هذه المواقف ، لا يعد استجابة بناءة رأي الطرف الآخر أو تقوم بالهجوم علي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ناك عملية بسيطة متدرجة سوف اتباعها على التعبير عن موقفك بدون أن تفقد أعصابك أو استقامتك أو احترامك للطرف الآخر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ملية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بارة إيجابية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بارة ملطفة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وضيح العملية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رض الأسباب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ختلاف معه في الرأي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رض التسو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سوية أمر اختياري ، وأنت من تقرر هل تقدم تنازلاً أم لا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عملية الاختلاف </a:t>
            </a:r>
            <a:endParaRPr b="0" lang="en-US" sz="3200" spc="-1" strike="noStrike">
              <a:solidFill>
                <a:srgbClr val="000000"/>
              </a:solidFill>
              <a:latin typeface="Arial"/>
            </a:endParaRPr>
          </a:p>
        </p:txBody>
      </p:sp>
      <p:sp>
        <p:nvSpPr>
          <p:cNvPr id="296" name="PlaceHolder 2"/>
          <p:cNvSpPr>
            <a:spLocks noGrp="1"/>
          </p:cNvSpPr>
          <p:nvPr>
            <p:ph/>
          </p:nvPr>
        </p:nvSpPr>
        <p:spPr>
          <a:xfrm>
            <a:off x="182520" y="836640"/>
            <a:ext cx="8778960" cy="6021360"/>
          </a:xfrm>
          <a:prstGeom prst="rect">
            <a:avLst/>
          </a:prstGeom>
          <a:noFill/>
          <a:ln w="0">
            <a:noFill/>
          </a:ln>
        </p:spPr>
        <p:txBody>
          <a:bodyPr lIns="90000" rIns="90000" tIns="46800" bIns="46800" anchor="t">
            <a:normAutofit fontScale="81000"/>
          </a:bodyPr>
          <a:p>
            <a:pPr indent="1512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بارة الإيجاب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مقصود بها ببساطة أن تقول ”نعم“ ربما يبدو غريباً أن تقولها في نفس الوقت الذي تختلف فيه مع الطرف الآخر في الرأي ، ولكن إذا قلت ”لا“ فإنه سيعمد على الفور الى المجادلة ، ومن غير المحتمل في هذه الحالة أن يصغي لك .أنت تستخدم كلمة ”نعم” في بداية كلامك لتجهز الطرف الآخر لما تقوله ، وليس لتشير الى اتفاقك معه في الرأ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عبارة الملطف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آراء معظم الأشخاص تتأثر بخلفياتهم أو خبراتهم أو حياتهم المهنية . يمكنك أن تظهر أنك تقدر هذا داخل سياق عبارة ملطفة وفيها يلي بعض الأمثلة : </a:t>
            </a:r>
            <a:endParaRPr b="0" lang="en-US" sz="2400" spc="-1" strike="noStrike">
              <a:solidFill>
                <a:srgbClr val="000000"/>
              </a:solidFill>
              <a:latin typeface="Arial"/>
            </a:endParaRPr>
          </a:p>
          <a:p>
            <a:pPr indent="15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بصفتك مهندساً ، أستطيع أن أفهم لماذا تتبنى مثل هذا الموقف ” </a:t>
            </a:r>
            <a:endParaRPr b="0" lang="en-US" sz="2400" spc="-1" strike="noStrike">
              <a:solidFill>
                <a:srgbClr val="000000"/>
              </a:solidFill>
              <a:latin typeface="Arial"/>
            </a:endParaRPr>
          </a:p>
          <a:p>
            <a:pPr indent="15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لى اعتبار أنك أكبر مني سناً بكثير ،ولك قيم مختلفة ، يمكنني أن أفهم لماذا تفكر بهذ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طريقة </a:t>
            </a:r>
            <a:endParaRPr b="0" lang="en-US" sz="2400" spc="-1" strike="noStrike">
              <a:solidFill>
                <a:srgbClr val="000000"/>
              </a:solidFill>
              <a:latin typeface="Arial"/>
            </a:endParaRPr>
          </a:p>
          <a:p>
            <a:pPr indent="15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باعتبارك رجلاً يعمل في بيئة وثقافة ذكورية تقليدية ، يمكنني أن أفهم لماذا قلت ذلك ” </a:t>
            </a:r>
            <a:endParaRPr b="0" lang="en-US" sz="2400" spc="-1" strike="noStrike">
              <a:solidFill>
                <a:srgbClr val="000000"/>
              </a:solidFill>
              <a:latin typeface="Arial"/>
            </a:endParaRPr>
          </a:p>
          <a:p>
            <a:pPr indent="15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لى أساس أنك مدير مسئوليته الرئيسية هي الانتاج ، يمكنني أن أفهم أن موقفك معقو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منطقي الى حد كبي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عملية الاختلاف في الرأي </a:t>
            </a:r>
            <a:endParaRPr b="0" lang="en-US" sz="3200" spc="-1" strike="noStrike">
              <a:solidFill>
                <a:srgbClr val="000000"/>
              </a:solidFill>
              <a:latin typeface="Arial"/>
            </a:endParaRPr>
          </a:p>
        </p:txBody>
      </p:sp>
      <p:sp>
        <p:nvSpPr>
          <p:cNvPr id="298" name="PlaceHolder 2"/>
          <p:cNvSpPr>
            <a:spLocks noGrp="1"/>
          </p:cNvSpPr>
          <p:nvPr>
            <p:ph/>
          </p:nvPr>
        </p:nvSpPr>
        <p:spPr>
          <a:xfrm>
            <a:off x="165240" y="981000"/>
            <a:ext cx="8813520" cy="5616720"/>
          </a:xfrm>
          <a:prstGeom prst="rect">
            <a:avLst/>
          </a:prstGeom>
          <a:noFill/>
          <a:ln w="0">
            <a:noFill/>
          </a:ln>
        </p:spPr>
        <p:txBody>
          <a:bodyPr lIns="90000" rIns="90000" tIns="46800" bIns="46800" anchor="t">
            <a:normAutofit fontScale="91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توضيح العمل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هذه الخطوة سوف توضح للطرف الآخر العملية التي سوف تستخدمها لكي تعرض موقفك  وما لديه من أسباب جعلتك تتبنى هذا الموقف . وهذه بعض الأمثلة :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و سمحت لي ، أود أن أقول شيئاً عن ...“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هل يمكنني أن أخبرك كيف وصلت الى رأيي هذا....؟“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عني أوضح لك موقفي باختصار وأسباب هذا الموقف..“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كانت المناقشة ستمضي بشكل عقلاني فعلى الطرف الآخر أن يسمح لك بعرض موقفك .أما إذا لم يكن مستعداً للاستماع إليك إذن فأنت تهدر وقتك على اية حال وسيكون من الأفضل أن تنهي المناقشة على الفور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عرض الأسبا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هذه الخطوة سوف تقوم ببساطة بإعطاء الطرف الآخر تبريراً لموقفك أو أسباب هذا الموقف . ويمكنك أن تفعل هذا بطريقة مباشرة ، أو أن تعطيه رؤية متوازنة للإيجابيات والسلبيات ،موضحاً له لماذا اخترت هذا الموقف الذي تدافع عنه دون غيره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عملية الاختلاف في الرأي </a:t>
            </a:r>
            <a:endParaRPr b="0" lang="en-US" sz="3200" spc="-1" strike="noStrike">
              <a:solidFill>
                <a:srgbClr val="000000"/>
              </a:solidFill>
              <a:latin typeface="Arial"/>
            </a:endParaRPr>
          </a:p>
        </p:txBody>
      </p:sp>
      <p:sp>
        <p:nvSpPr>
          <p:cNvPr id="300" name="PlaceHolder 2"/>
          <p:cNvSpPr>
            <a:spLocks noGrp="1"/>
          </p:cNvSpPr>
          <p:nvPr>
            <p:ph/>
          </p:nvPr>
        </p:nvSpPr>
        <p:spPr>
          <a:xfrm>
            <a:off x="127080" y="1268280"/>
            <a:ext cx="8889840" cy="4935600"/>
          </a:xfrm>
          <a:prstGeom prst="rect">
            <a:avLst/>
          </a:prstGeom>
          <a:noFill/>
          <a:ln w="0">
            <a:noFill/>
          </a:ln>
        </p:spPr>
        <p:txBody>
          <a:bodyPr lIns="90000" rIns="90000" tIns="46800" bIns="46800" anchor="t">
            <a:normAutofit fontScale="91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اختلاف معه في الرأ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الخطوة ، لا تعتذر أو تتحدث بلهجة مترددة . استخدم لهجة شديدة وقوية الى أقصى حد تستطيعه ، وتذكر أن يكون كلامك مصحوباً بلغة الجسد المناسبة . وإليك بعض الأمثلة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ذا لا يمكنني أن أتفق معك في الرأي ”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ذا يتحتم على أن أختلف معك فر الرأي ” </a:t>
            </a:r>
            <a:endParaRPr b="0" lang="en-US" sz="2400" spc="-1" strike="noStrike">
              <a:solidFill>
                <a:srgbClr val="000000"/>
              </a:solidFill>
              <a:latin typeface="Arial"/>
            </a:endParaRPr>
          </a:p>
          <a:p>
            <a:pPr indent="17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ذا أعتقد أنك مخطئ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الحروف الثلاثة التي تتكون منها كلمة ”لذا“ قوية بشكل غير عادي لأنها تجعلك قرارك النهائي منطقياً وطبيعياً بأقصى شكل ممكن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6</a:t>
            </a:r>
            <a:r>
              <a:rPr b="1" lang="ar-SA" sz="2400" spc="-1" strike="noStrike">
                <a:solidFill>
                  <a:srgbClr val="000000"/>
                </a:solidFill>
                <a:latin typeface="Arial"/>
              </a:rPr>
              <a:t>. التسوية</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ه خطوة اختيارية ولكنها مفيدة إذا كانت لن تكلفك شيئاً أو لن تكلفك الكثير . ومع ذلك ، يجب أن تكون التسوية التي تعرضها مشروطة دائماً بأن تحصل على ما تريده ( انظر الأمثل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عملية الاختلاف في الرأي </a:t>
            </a:r>
            <a:endParaRPr b="0" lang="en-US" sz="3200" spc="-1" strike="noStrike">
              <a:solidFill>
                <a:srgbClr val="000000"/>
              </a:solidFill>
              <a:latin typeface="Arial"/>
            </a:endParaRPr>
          </a:p>
        </p:txBody>
      </p:sp>
      <p:sp>
        <p:nvSpPr>
          <p:cNvPr id="302" name="PlaceHolder 2"/>
          <p:cNvSpPr>
            <a:spLocks noGrp="1"/>
          </p:cNvSpPr>
          <p:nvPr>
            <p:ph/>
          </p:nvPr>
        </p:nvSpPr>
        <p:spPr>
          <a:xfrm>
            <a:off x="44280" y="1268280"/>
            <a:ext cx="9055440" cy="4935600"/>
          </a:xfrm>
          <a:prstGeom prst="rect">
            <a:avLst/>
          </a:prstGeom>
          <a:noFill/>
          <a:ln w="0">
            <a:noFill/>
          </a:ln>
        </p:spPr>
        <p:txBody>
          <a:bodyPr lIns="90000" rIns="90000" tIns="46800" bIns="46800" anchor="t">
            <a:normAutofit fontScale="88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أمثلة</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وقف : ” لا أعتقد أنه يجب عليك الخروج هذه الليلة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عبارة إيجابية</a:t>
            </a:r>
            <a:r>
              <a:rPr b="0" lang="ar-SA" sz="2400" spc="-1" strike="noStrike">
                <a:solidFill>
                  <a:srgbClr val="000000"/>
                </a:solidFill>
                <a:latin typeface="Arial"/>
              </a:rPr>
              <a:t>    </a:t>
            </a:r>
            <a:r>
              <a:rPr b="0" lang="ar-SA" sz="2400" spc="-1" strike="noStrike">
                <a:solidFill>
                  <a:srgbClr val="000000"/>
                </a:solidFill>
                <a:latin typeface="Arial"/>
              </a:rPr>
              <a:t>1</a:t>
            </a:r>
            <a:r>
              <a:rPr b="0" lang="ar-SA" sz="2400" spc="-1" strike="noStrike">
                <a:solidFill>
                  <a:srgbClr val="000000"/>
                </a:solidFill>
                <a:latin typeface="Arial"/>
              </a:rPr>
              <a:t>. ”نعم“</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عبارة ملطفة</a:t>
            </a: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 يمكنني أن أفهم تماماً لماذا تريدون مني أن أبقى معك كما فعلت في</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طلة نهاية الأسبوع في الأسابيع الثلاثة الماضية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توضيح</a:t>
            </a: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 ولكن دعيني أوضح لك سبب أن هذه الليلة مهمة للغاية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عرض</a:t>
            </a:r>
            <a:r>
              <a:rPr b="0" lang="ar-SA" sz="2400" spc="-1" strike="noStrike">
                <a:solidFill>
                  <a:srgbClr val="000000"/>
                </a:solidFill>
                <a:latin typeface="Arial"/>
              </a:rPr>
              <a:t>          </a:t>
            </a:r>
            <a:r>
              <a:rPr b="0" lang="ar-SA" sz="2400" spc="-1" strike="noStrike">
                <a:solidFill>
                  <a:srgbClr val="000000"/>
                </a:solidFill>
                <a:latin typeface="Arial"/>
              </a:rPr>
              <a:t>4</a:t>
            </a:r>
            <a:r>
              <a:rPr b="0" lang="ar-SA" sz="2400" spc="-1" strike="noStrike">
                <a:solidFill>
                  <a:srgbClr val="000000"/>
                </a:solidFill>
                <a:latin typeface="Arial"/>
              </a:rPr>
              <a:t>. فانا أريد تحديداً أن أرى هذا العرض الجديد لمسرحية ”ماكبث“ فقد حظى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العديد من المقالات النقدية الممتازة وإذا لم أره هذه الليلة ، فلن أدركه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عد ذلك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اختلاف</a:t>
            </a:r>
            <a:r>
              <a:rPr b="0" lang="ar-SA" sz="2400" spc="-1" strike="noStrike">
                <a:solidFill>
                  <a:srgbClr val="000000"/>
                </a:solidFill>
                <a:latin typeface="Arial"/>
              </a:rPr>
              <a:t>        </a:t>
            </a:r>
            <a:r>
              <a:rPr b="0" lang="ar-SA" sz="2400" spc="-1" strike="noStrike">
                <a:solidFill>
                  <a:srgbClr val="000000"/>
                </a:solidFill>
                <a:latin typeface="Arial"/>
              </a:rPr>
              <a:t>5</a:t>
            </a:r>
            <a:r>
              <a:rPr b="0" lang="ar-SA" sz="2400" spc="-1" strike="noStrike">
                <a:solidFill>
                  <a:srgbClr val="000000"/>
                </a:solidFill>
                <a:latin typeface="Arial"/>
              </a:rPr>
              <a:t>. ” لذا فقد قررت أنني سوف أخرج الليلة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udir MT"/>
              </a:rPr>
              <a:t>التسوية</a:t>
            </a:r>
            <a:r>
              <a:rPr b="0" lang="ar-SA" sz="2400" spc="-1" strike="noStrike">
                <a:solidFill>
                  <a:srgbClr val="000000"/>
                </a:solidFill>
                <a:latin typeface="Arial"/>
              </a:rPr>
              <a:t>          </a:t>
            </a:r>
            <a:r>
              <a:rPr b="0" lang="ar-SA" sz="2400" spc="-1" strike="noStrike">
                <a:solidFill>
                  <a:srgbClr val="000000"/>
                </a:solidFill>
                <a:latin typeface="Arial"/>
              </a:rPr>
              <a:t>6</a:t>
            </a:r>
            <a:r>
              <a:rPr b="0" lang="ar-SA" sz="2400" spc="-1" strike="noStrike">
                <a:solidFill>
                  <a:srgbClr val="000000"/>
                </a:solidFill>
                <a:latin typeface="Arial"/>
              </a:rPr>
              <a:t>. ” ولكنني سأكون سعيداً للغاية بأن أكون معك طوال الغ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تعريف الحسم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6" name=""/>
          <p:cNvSpPr/>
          <p:nvPr/>
        </p:nvSpPr>
        <p:spPr>
          <a:xfrm>
            <a:off x="5940360" y="256536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ريد التفاوض</a:t>
            </a:r>
            <a:endParaRPr b="0" lang="en-US" sz="2000" spc="-1" strike="noStrike">
              <a:solidFill>
                <a:srgbClr val="000000"/>
              </a:solidFill>
              <a:latin typeface="Times New Roman"/>
            </a:endParaRPr>
          </a:p>
        </p:txBody>
      </p:sp>
      <p:sp>
        <p:nvSpPr>
          <p:cNvPr id="97" name=""/>
          <p:cNvSpPr/>
          <p:nvPr/>
        </p:nvSpPr>
        <p:spPr>
          <a:xfrm>
            <a:off x="5940360" y="342900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في وجه النقد</a:t>
            </a:r>
            <a:endParaRPr b="0" lang="en-US" sz="2000" spc="-1" strike="noStrike">
              <a:solidFill>
                <a:srgbClr val="000000"/>
              </a:solidFill>
              <a:latin typeface="Times New Roman"/>
            </a:endParaRPr>
          </a:p>
        </p:txBody>
      </p:sp>
      <p:sp>
        <p:nvSpPr>
          <p:cNvPr id="98" name=""/>
          <p:cNvSpPr/>
          <p:nvPr/>
        </p:nvSpPr>
        <p:spPr>
          <a:xfrm>
            <a:off x="1152360" y="254952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نجرح مشاعرك</a:t>
            </a:r>
            <a:endParaRPr b="0" lang="en-US" sz="2000" spc="-1" strike="noStrike">
              <a:solidFill>
                <a:srgbClr val="000000"/>
              </a:solidFill>
              <a:latin typeface="Times New Roman"/>
            </a:endParaRPr>
          </a:p>
        </p:txBody>
      </p:sp>
      <p:sp>
        <p:nvSpPr>
          <p:cNvPr id="99" name=""/>
          <p:cNvSpPr/>
          <p:nvPr/>
        </p:nvSpPr>
        <p:spPr>
          <a:xfrm>
            <a:off x="1187280" y="342900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شعر بالسعادة</a:t>
            </a:r>
            <a:endParaRPr b="0" lang="en-US" sz="2000" spc="-1" strike="noStrike">
              <a:solidFill>
                <a:srgbClr val="000000"/>
              </a:solidFill>
              <a:latin typeface="Times New Roman"/>
            </a:endParaRPr>
          </a:p>
        </p:txBody>
      </p:sp>
      <p:sp>
        <p:nvSpPr>
          <p:cNvPr id="100" name=""/>
          <p:cNvSpPr/>
          <p:nvPr/>
        </p:nvSpPr>
        <p:spPr>
          <a:xfrm>
            <a:off x="4643280" y="177336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ريد شيئاً</a:t>
            </a:r>
            <a:endParaRPr b="0" lang="en-US" sz="2000" spc="-1" strike="noStrike">
              <a:solidFill>
                <a:srgbClr val="000000"/>
              </a:solidFill>
              <a:latin typeface="Times New Roman"/>
            </a:endParaRPr>
          </a:p>
        </p:txBody>
      </p:sp>
      <p:sp>
        <p:nvSpPr>
          <p:cNvPr id="101" name=""/>
          <p:cNvSpPr/>
          <p:nvPr/>
        </p:nvSpPr>
        <p:spPr>
          <a:xfrm>
            <a:off x="2195640" y="1773360"/>
            <a:ext cx="216036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رفض شيئاً </a:t>
            </a:r>
            <a:endParaRPr b="0" lang="en-US" sz="2000" spc="-1" strike="noStrike">
              <a:solidFill>
                <a:srgbClr val="000000"/>
              </a:solidFill>
              <a:latin typeface="Times New Roman"/>
            </a:endParaRPr>
          </a:p>
        </p:txBody>
      </p:sp>
      <p:sp>
        <p:nvSpPr>
          <p:cNvPr id="102" name=""/>
          <p:cNvSpPr/>
          <p:nvPr/>
        </p:nvSpPr>
        <p:spPr>
          <a:xfrm>
            <a:off x="6084720" y="4221000"/>
            <a:ext cx="2160720" cy="50508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شعر بالغضب</a:t>
            </a:r>
            <a:endParaRPr b="0" lang="en-US" sz="2000" spc="-1" strike="noStrike">
              <a:solidFill>
                <a:srgbClr val="000000"/>
              </a:solidFill>
              <a:latin typeface="Times New Roman"/>
            </a:endParaRPr>
          </a:p>
        </p:txBody>
      </p:sp>
      <p:sp>
        <p:nvSpPr>
          <p:cNvPr id="103" name=""/>
          <p:cNvSpPr/>
          <p:nvPr/>
        </p:nvSpPr>
        <p:spPr>
          <a:xfrm>
            <a:off x="1116000" y="4292640"/>
            <a:ext cx="2160720" cy="50472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شعر بالإحباط</a:t>
            </a:r>
            <a:endParaRPr b="0" lang="en-US" sz="2000" spc="-1" strike="noStrike">
              <a:solidFill>
                <a:srgbClr val="000000"/>
              </a:solidFill>
              <a:latin typeface="Times New Roman"/>
            </a:endParaRPr>
          </a:p>
        </p:txBody>
      </p:sp>
      <p:sp>
        <p:nvSpPr>
          <p:cNvPr id="104" name=""/>
          <p:cNvSpPr/>
          <p:nvPr/>
        </p:nvSpPr>
        <p:spPr>
          <a:xfrm flipV="1">
            <a:off x="4932360" y="227628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flipH="1" flipV="1">
            <a:off x="3780000" y="22762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flipH="1" flipV="1">
            <a:off x="3276720" y="2923920"/>
            <a:ext cx="358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H="1">
            <a:off x="3348000" y="3573360"/>
            <a:ext cx="503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flipH="1">
            <a:off x="3203640" y="3716280"/>
            <a:ext cx="1008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292720" y="3645000"/>
            <a:ext cx="863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35640" y="3429000"/>
            <a:ext cx="504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V="1">
            <a:off x="5580000" y="2923920"/>
            <a:ext cx="360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635280" y="4365720"/>
            <a:ext cx="1943280" cy="647640"/>
          </a:xfrm>
          <a:prstGeom prst="flowChartTermina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عندما تريد أن تعطي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قييماً </a:t>
            </a:r>
            <a:endParaRPr b="0" lang="en-US" sz="2000" spc="-1" strike="noStrike">
              <a:solidFill>
                <a:srgbClr val="000000"/>
              </a:solidFill>
              <a:latin typeface="Times New Roman"/>
            </a:endParaRPr>
          </a:p>
        </p:txBody>
      </p:sp>
      <p:sp>
        <p:nvSpPr>
          <p:cNvPr id="113" name=""/>
          <p:cNvSpPr/>
          <p:nvPr/>
        </p:nvSpPr>
        <p:spPr>
          <a:xfrm>
            <a:off x="4643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635280" y="2421000"/>
            <a:ext cx="1944720" cy="1368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أن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عملية الاختلاف في الرأي </a:t>
            </a:r>
            <a:endParaRPr b="0" lang="en-US" sz="3200" spc="-1" strike="noStrike">
              <a:solidFill>
                <a:srgbClr val="000000"/>
              </a:solidFill>
              <a:latin typeface="Arial"/>
            </a:endParaRPr>
          </a:p>
        </p:txBody>
      </p:sp>
      <p:sp>
        <p:nvSpPr>
          <p:cNvPr id="304"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fontScale="87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ثلة </a:t>
            </a:r>
            <a:endParaRPr b="0" lang="en-US" sz="24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وقف : ” أريدك أن تعمل وقتاً إضافياً الليلة ”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بارة إيجابية</a:t>
            </a:r>
            <a:r>
              <a:rPr b="0"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نعم يمكنني أن أفهم ذلك ”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بارة ملطفة   </a:t>
            </a:r>
            <a:r>
              <a:rPr b="1" lang="ar-SA" sz="2000" spc="-1" strike="noStrike">
                <a:solidFill>
                  <a:srgbClr val="000000"/>
                </a:solidFill>
                <a:latin typeface="Arial"/>
              </a:rPr>
              <a:t>2</a:t>
            </a:r>
            <a:r>
              <a:rPr b="1" lang="ar-SA" sz="2000" spc="-1" strike="noStrike">
                <a:solidFill>
                  <a:srgbClr val="000000"/>
                </a:solidFill>
                <a:latin typeface="Arial"/>
              </a:rPr>
              <a:t>.” فقد كان عدد طاقم العمل أقل مما ينبغي طوال الأسبوع ، وأعرف أن ذلك كان أمراً صعباً</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ضيح       </a:t>
            </a:r>
            <a:r>
              <a:rPr b="1" lang="ar-SA" sz="2000" spc="-1" strike="noStrike">
                <a:solidFill>
                  <a:srgbClr val="000000"/>
                </a:solidFill>
                <a:latin typeface="Arial"/>
              </a:rPr>
              <a:t>3</a:t>
            </a:r>
            <a:r>
              <a:rPr b="1" lang="ar-SA" sz="2000" spc="-1" strike="noStrike">
                <a:solidFill>
                  <a:srgbClr val="000000"/>
                </a:solidFill>
                <a:latin typeface="Arial"/>
              </a:rPr>
              <a:t>. ” ولكن يجب أن أخبرك بشيء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رض         </a:t>
            </a:r>
            <a:r>
              <a:rPr b="1" lang="ar-SA" sz="2000" spc="-1" strike="noStrike">
                <a:solidFill>
                  <a:srgbClr val="000000"/>
                </a:solidFill>
                <a:latin typeface="Arial"/>
              </a:rPr>
              <a:t>4</a:t>
            </a:r>
            <a:r>
              <a:rPr b="1" lang="ar-SA" sz="2000" spc="-1" strike="noStrike">
                <a:solidFill>
                  <a:srgbClr val="000000"/>
                </a:solidFill>
                <a:latin typeface="Arial"/>
              </a:rPr>
              <a:t>. ”فأنا لم أر اطفالي كثيراً هذا الأسبوع ، وقد وعدت بأن أصطحبهم الى المنتزة هذه الليلة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لاف       </a:t>
            </a:r>
            <a:r>
              <a:rPr b="1" lang="ar-SA" sz="2000" spc="-1" strike="noStrike">
                <a:solidFill>
                  <a:srgbClr val="000000"/>
                </a:solidFill>
                <a:latin typeface="Arial"/>
              </a:rPr>
              <a:t>5</a:t>
            </a:r>
            <a:r>
              <a:rPr b="1" lang="ar-SA" sz="2000" spc="-1" strike="noStrike">
                <a:solidFill>
                  <a:srgbClr val="000000"/>
                </a:solidFill>
                <a:latin typeface="Arial"/>
              </a:rPr>
              <a:t>. ” لذا ، لا يمكنني أن أعمل وقتاً إضافياً الليلة ”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سوية        </a:t>
            </a:r>
            <a:r>
              <a:rPr b="1" lang="ar-SA" sz="2000" spc="-1" strike="noStrike">
                <a:solidFill>
                  <a:srgbClr val="000000"/>
                </a:solidFill>
                <a:latin typeface="Arial"/>
              </a:rPr>
              <a:t>6</a:t>
            </a:r>
            <a:r>
              <a:rPr b="1" lang="ar-SA" sz="2000" spc="-1" strike="noStrike">
                <a:solidFill>
                  <a:srgbClr val="000000"/>
                </a:solidFill>
                <a:latin typeface="Arial"/>
              </a:rPr>
              <a:t>. ” فهل سيكون مفيداً إذا عملت لوقت إضافي غداً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وقف ” لا يمكن ان تحصل على زيادة في راتبك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بارة إيجابية</a:t>
            </a:r>
            <a:r>
              <a:rPr b="0"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نعم لا بد وأن هذا أمر صعب ”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بارة ملطفة   </a:t>
            </a:r>
            <a:r>
              <a:rPr b="1" lang="ar-SA" sz="2000" spc="-1" strike="noStrike">
                <a:solidFill>
                  <a:srgbClr val="000000"/>
                </a:solidFill>
                <a:latin typeface="Arial"/>
              </a:rPr>
              <a:t>2</a:t>
            </a:r>
            <a:r>
              <a:rPr b="1" lang="ar-SA" sz="2000" spc="-1" strike="noStrike">
                <a:solidFill>
                  <a:srgbClr val="000000"/>
                </a:solidFill>
                <a:latin typeface="Arial"/>
              </a:rPr>
              <a:t>. ”فأنا أعرف أن العمل لم يسر بشكل جيد في الشهور الستة الأخيرة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ضيح       </a:t>
            </a:r>
            <a:r>
              <a:rPr b="1" lang="ar-SA" sz="2000" spc="-1" strike="noStrike">
                <a:solidFill>
                  <a:srgbClr val="000000"/>
                </a:solidFill>
                <a:latin typeface="Arial"/>
              </a:rPr>
              <a:t>3</a:t>
            </a:r>
            <a:r>
              <a:rPr b="1" lang="ar-SA" sz="2000" spc="-1" strike="noStrike">
                <a:solidFill>
                  <a:srgbClr val="000000"/>
                </a:solidFill>
                <a:latin typeface="Arial"/>
              </a:rPr>
              <a:t>.  ”ولكنني سأوضح لك موقفي ”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رض         </a:t>
            </a:r>
            <a:r>
              <a:rPr b="1" lang="ar-SA" sz="2000" spc="-1" strike="noStrike">
                <a:solidFill>
                  <a:srgbClr val="000000"/>
                </a:solidFill>
                <a:latin typeface="Arial"/>
              </a:rPr>
              <a:t>4</a:t>
            </a:r>
            <a:r>
              <a:rPr b="1" lang="ar-SA" sz="2000" spc="-1" strike="noStrike">
                <a:solidFill>
                  <a:srgbClr val="000000"/>
                </a:solidFill>
                <a:latin typeface="Arial"/>
              </a:rPr>
              <a:t>. ” فقد وعدتني بزيادة راتبي بعد </a:t>
            </a:r>
            <a:r>
              <a:rPr b="1" lang="ar-SA" sz="2000" spc="-1" strike="noStrike">
                <a:solidFill>
                  <a:srgbClr val="000000"/>
                </a:solidFill>
                <a:latin typeface="Arial"/>
              </a:rPr>
              <a:t>3</a:t>
            </a:r>
            <a:r>
              <a:rPr b="1" lang="ar-SA" sz="2000" spc="-1" strike="noStrike">
                <a:solidFill>
                  <a:srgbClr val="000000"/>
                </a:solidFill>
                <a:latin typeface="Arial"/>
              </a:rPr>
              <a:t> أشهر من بدء عملي ، ولكن تم تأجيل هذا الأمر ، وقد</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مضي على وجودي هنا </a:t>
            </a:r>
            <a:r>
              <a:rPr b="1" lang="ar-SA" sz="2000" spc="-1" strike="noStrike">
                <a:solidFill>
                  <a:srgbClr val="000000"/>
                </a:solidFill>
                <a:latin typeface="Arial"/>
              </a:rPr>
              <a:t>12</a:t>
            </a:r>
            <a:r>
              <a:rPr b="1" lang="ar-SA" sz="2000" spc="-1" strike="noStrike">
                <a:solidFill>
                  <a:srgbClr val="000000"/>
                </a:solidFill>
                <a:latin typeface="Arial"/>
              </a:rPr>
              <a:t> شهراً حتى الآن والى جانب أنني أؤدي عملي جيداً ، فقد قمت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بزيارة مسئولياتي الى حد كبير ”</a:t>
            </a:r>
            <a:endParaRPr b="0" lang="en-US" sz="2000" spc="-1" strike="noStrike">
              <a:solidFill>
                <a:srgbClr val="000000"/>
              </a:solidFill>
              <a:latin typeface="Arial"/>
            </a:endParaRPr>
          </a:p>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لاف       </a:t>
            </a:r>
            <a:r>
              <a:rPr b="1" lang="ar-SA" sz="2000" spc="-1" strike="noStrike">
                <a:solidFill>
                  <a:srgbClr val="000000"/>
                </a:solidFill>
                <a:latin typeface="Arial"/>
              </a:rPr>
              <a:t>5</a:t>
            </a:r>
            <a:r>
              <a:rPr b="1" lang="ar-SA" sz="2000" spc="-1" strike="noStrike">
                <a:solidFill>
                  <a:srgbClr val="000000"/>
                </a:solidFill>
                <a:latin typeface="Arial"/>
              </a:rPr>
              <a:t>. ” لذا من المهم أن تحصل على الزيادة المستحقة لي وشكراً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عبارات التي تستخدم صيغة المتكلم </a:t>
            </a:r>
            <a:endParaRPr b="0" lang="en-US" sz="3200" spc="-1" strike="noStrike">
              <a:solidFill>
                <a:srgbClr val="000000"/>
              </a:solidFill>
              <a:latin typeface="Arial"/>
            </a:endParaRPr>
          </a:p>
        </p:txBody>
      </p:sp>
      <p:sp>
        <p:nvSpPr>
          <p:cNvPr id="306" name="PlaceHolder 2"/>
          <p:cNvSpPr>
            <a:spLocks noGrp="1"/>
          </p:cNvSpPr>
          <p:nvPr>
            <p:ph/>
          </p:nvPr>
        </p:nvSpPr>
        <p:spPr>
          <a:xfrm>
            <a:off x="146160" y="1268280"/>
            <a:ext cx="885168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بارات التي تستخدم صيغة المتكلم تعتبر من أكثر الوسائل المفيدة ، سواء بالنسبة لك أو للآخري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ستخدم عبارات بصيغة المتكلم ، فأنت تؤكد على ذاتك وحقيقتك وعلى ما تريده . إن استخدام مثل هذه العبارات هو جوهر الحسم . ويمكن ان تستخدم هذه العبارات لأغراض متنوعة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عرض الموقف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تفسير وفهم الموقف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لتعبير عن المشاعر والأحاسيس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لتعبير عن الرغبات والاحتياجات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للتعبير عن الإجراءات المستقبل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عبارات التي تستخدم صيغة المتكلم  </a:t>
            </a:r>
            <a:endParaRPr b="0" lang="en-US" sz="3200" spc="-1" strike="noStrike">
              <a:solidFill>
                <a:srgbClr val="000000"/>
              </a:solidFill>
              <a:latin typeface="Arial"/>
            </a:endParaRPr>
          </a:p>
        </p:txBody>
      </p:sp>
      <p:sp>
        <p:nvSpPr>
          <p:cNvPr id="308" name="PlaceHolder 2"/>
          <p:cNvSpPr>
            <a:spLocks noGrp="1"/>
          </p:cNvSpPr>
          <p:nvPr>
            <p:ph/>
          </p:nvPr>
        </p:nvSpPr>
        <p:spPr>
          <a:xfrm>
            <a:off x="138240" y="1125000"/>
            <a:ext cx="8867520" cy="554364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رض الموقف</a:t>
            </a:r>
            <a:r>
              <a:rPr b="0" lang="ar-SA" sz="2400" spc="-1" strike="noStrike">
                <a:solidFill>
                  <a:srgbClr val="000000"/>
                </a:solidFill>
                <a:latin typeface="Arial"/>
              </a:rPr>
              <a:t>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قد طلب مني أن أعمل لوقت متأخر ثلاث مرات هذا الأسبوع ”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رى أنه قد تم التجاوز عني في الترقية مرة ثانية ”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لاحظ أنك تكلمني منذ ثلاثة أيا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بارات التي توضح الموقف هي عبارات قوية ، وهذا لأنها واقعية ، وغير قابلة للتفاوض باعتبارها ملاحظة من جانب . وهي تصف العالم كما تراه ، وبالطريقة التي يؤثر بها عليك مباشر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سير وفهم الموقف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دي انطباع بأنك لا تهتم ”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دي شعور بانك لا تريد ما عندي من أفكار“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عتقد أنك تتجاهلني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ذه العبارات قوية لأنك تصف فيها تفسيرك للموقف ، وليس مجرد المواقف نفسه . وهي تخبر الطرف الآخر مباشرة بما لسلوكه من تأثير عليك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عبارات التي تستخدم صيغة المتكلم </a:t>
            </a:r>
            <a:endParaRPr b="0" lang="en-US" sz="3200" spc="-1" strike="noStrike">
              <a:solidFill>
                <a:srgbClr val="000000"/>
              </a:solidFill>
              <a:latin typeface="Arial"/>
            </a:endParaRPr>
          </a:p>
        </p:txBody>
      </p:sp>
      <p:sp>
        <p:nvSpPr>
          <p:cNvPr id="310" name="PlaceHolder 2"/>
          <p:cNvSpPr>
            <a:spLocks noGrp="1"/>
          </p:cNvSpPr>
          <p:nvPr>
            <p:ph/>
          </p:nvPr>
        </p:nvSpPr>
        <p:spPr>
          <a:xfrm>
            <a:off x="324000" y="980640"/>
            <a:ext cx="8362800" cy="5543640"/>
          </a:xfrm>
          <a:prstGeom prst="rect">
            <a:avLst/>
          </a:prstGeom>
          <a:noFill/>
          <a:ln w="0">
            <a:noFill/>
          </a:ln>
        </p:spPr>
        <p:txBody>
          <a:bodyPr lIns="90000" rIns="90000" tIns="46800" bIns="46800" anchor="t">
            <a:normAutofit fontScale="91000"/>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rPr>
              <a:t>التعبير عن المشاعر والأحاسيس</a:t>
            </a:r>
            <a:r>
              <a:rPr b="1" lang="ar-SA" sz="2200" spc="-1" strike="noStrike">
                <a:solidFill>
                  <a:srgbClr val="000000"/>
                </a:solidFill>
                <a:latin typeface="Arial"/>
              </a:rPr>
              <a:t>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أشعر بالخيانة ”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شعر بأنني قد تعرضت للاستغلال ”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أشعر بالغضب والإحباط والضيق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هذه العبارات لا تعلق فقط بالتعبير عن المشاعر والأحاسيس ، ولكنها في الحقيقة طريقة للتعبير عن رأيك بقوة أكبر . ومرة ثانية ، هذه العبارات قوية لأنها غير قابلة للتفاوض ولا يمكن دحضها ، فلا أحد يمكنه أن يعارضك ويقول : ”لا ،أنت لا تشعر بهذه الطريقة ”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rPr>
              <a:t>التعبير عن الرغبات ولاحتياجات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أريد أن تنتبه ”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أريد تعاونك الكامل ” </a:t>
            </a:r>
            <a:endParaRPr b="0" lang="en-US" sz="2200" spc="-1" strike="noStrike">
              <a:solidFill>
                <a:srgbClr val="000000"/>
              </a:solidFill>
              <a:latin typeface="Arial"/>
            </a:endParaRPr>
          </a:p>
          <a:p>
            <a:pPr indent="172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أريد أن تأتي في الموعد المحدد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كن قوة هذه العبارات في انها تجعل الطرف الآخر موقفك بالتحديد ، وما الذي تتوقعه تماماً فأنت هنا لا تترك له مجالا للتخمين ، فهو يستطيع فقط أن يقول ”نعم“ أو ”لا“ أو يتفاوض معك في الأمر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العبارات التي تستخدم صيغة المتكلم </a:t>
            </a:r>
            <a:endParaRPr b="0" lang="en-US" sz="3200" spc="-1" strike="noStrike">
              <a:solidFill>
                <a:srgbClr val="000000"/>
              </a:solidFill>
              <a:latin typeface="Arial"/>
            </a:endParaRPr>
          </a:p>
        </p:txBody>
      </p:sp>
      <p:sp>
        <p:nvSpPr>
          <p:cNvPr id="312"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بير عن الإجراءات المستقبلية </a:t>
            </a:r>
            <a:endParaRPr b="0" lang="en-US" sz="28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سوف أذكرك كل يوم من أيام الاثنين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سوف أتأكد من أن أكون متاحاً للحديث معك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سوف أخبرك بالأمر في المرة القادمة التي يحدث فيها ذل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طرف الآخر يعرف هنا الذي بعد ذلك ، وبالتالي فليست هناك مفاجآت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جمع بين الأغراض السابقة </a:t>
            </a:r>
            <a:endParaRPr b="0" lang="en-US" sz="3200" spc="-1" strike="noStrike">
              <a:solidFill>
                <a:srgbClr val="000000"/>
              </a:solidFill>
              <a:latin typeface="Arial"/>
            </a:endParaRPr>
          </a:p>
        </p:txBody>
      </p:sp>
      <p:sp>
        <p:nvSpPr>
          <p:cNvPr id="314"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ممكن الآن أن تستخدم الأغراض السابقة مجتمعة . عندما تكون حاسماً ، فإن استخدام عبارات بصيغة المتكلم تعتبر أمراً قوياً للغاي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قف :</a:t>
            </a:r>
            <a:r>
              <a:rPr b="0" lang="ar-SA" sz="2400" spc="-1" strike="noStrike">
                <a:solidFill>
                  <a:srgbClr val="000000"/>
                </a:solidFill>
                <a:latin typeface="Arial"/>
              </a:rPr>
              <a:t>   ” أرى أن هذه هي المرة الثالثة التي لم تفعل فيها كما طلبت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فسير :</a:t>
            </a:r>
            <a:r>
              <a:rPr b="0" lang="ar-SA" sz="2400" spc="-1" strike="noStrike">
                <a:solidFill>
                  <a:srgbClr val="000000"/>
                </a:solidFill>
                <a:latin typeface="Arial"/>
              </a:rPr>
              <a:t> ” أعتقد أنك تحاول أن تفعل أقل ما يمكن عندما لا أتواجد مع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مشاعر :</a:t>
            </a:r>
            <a:r>
              <a:rPr b="0" lang="ar-SA" sz="2400" spc="-1" strike="noStrike">
                <a:solidFill>
                  <a:srgbClr val="000000"/>
                </a:solidFill>
                <a:latin typeface="Arial"/>
              </a:rPr>
              <a:t> ” أشعر بالإحباط والضيق لأنني أضطر دائماً الى أن اكرر ما أقوله ل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رغبة :</a:t>
            </a:r>
            <a:r>
              <a:rPr b="0" lang="ar-SA" sz="2400" spc="-1" strike="noStrike">
                <a:solidFill>
                  <a:srgbClr val="000000"/>
                </a:solidFill>
                <a:latin typeface="Arial"/>
              </a:rPr>
              <a:t> ” لذا أريدك أن تفعل ما أطلبه حتى إذا لم أكن موجوداً لأشرف علي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إجراءات المستقبلية :</a:t>
            </a:r>
            <a:r>
              <a:rPr b="0" lang="ar-SA" sz="2400" spc="-1" strike="noStrike">
                <a:solidFill>
                  <a:srgbClr val="000000"/>
                </a:solidFill>
                <a:latin typeface="Arial"/>
              </a:rPr>
              <a:t> ” سوف أخبرك إن صدر ذلك عنك مرة ثان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يف تعطي تعليمات حاسمة </a:t>
            </a:r>
            <a:endParaRPr b="0" lang="en-US" sz="3200" spc="-1" strike="noStrike">
              <a:solidFill>
                <a:srgbClr val="000000"/>
              </a:solidFill>
              <a:latin typeface="Arial"/>
            </a:endParaRPr>
          </a:p>
        </p:txBody>
      </p:sp>
      <p:sp>
        <p:nvSpPr>
          <p:cNvPr id="316" name="PlaceHolder 2"/>
          <p:cNvSpPr>
            <a:spLocks noGrp="1"/>
          </p:cNvSpPr>
          <p:nvPr>
            <p:ph/>
          </p:nvPr>
        </p:nvSpPr>
        <p:spPr>
          <a:xfrm>
            <a:off x="147600" y="1052280"/>
            <a:ext cx="8848800" cy="5545080"/>
          </a:xfrm>
          <a:prstGeom prst="rect">
            <a:avLst/>
          </a:prstGeom>
          <a:noFill/>
          <a:ln w="0">
            <a:noFill/>
          </a:ln>
        </p:spPr>
        <p:txBody>
          <a:bodyPr lIns="90000" rIns="90000" tIns="46800" bIns="46800" anchor="t">
            <a:normAutofit fontScale="96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لب ما تريده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جانب كبير من الإدارة وكذلك من تربية الأبناء في حقيقة الأمر ، يتعلق بطلب ما تريده من الآخرين . وقد تعلم بعضنا في الطفولة أنه من الوقاحة أن تطلب شيئاً من الآخرين . إن المسألة تبدو كما لو كنت تأمل أن الآخرين لديهم كرة بلورية ، وبالتالي سوف يعرفون كيف يقومون بإرضائك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في بعض الأحيان نلقى باللوم على الآخرين :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يجب أن يعرفوا ذلك الآن ”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مطلوب فعله أمر واضح جداً ”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لو كان لديهم أي عقل ، لعرفوا ما أريده ”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ملية أو هيكل طلب ما تريده بسيط للغاية . والمقومات هي :</a:t>
            </a:r>
            <a:r>
              <a:rPr b="0" lang="ar-SA" sz="2400" spc="-1" strike="noStrike">
                <a:solidFill>
                  <a:srgbClr val="000000"/>
                </a:solidFill>
                <a:latin typeface="Arial"/>
              </a:rPr>
              <a:t>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سم الشخص                     • لماذا تريده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ا تريده                          • متى تريده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الإضافة الى  </a:t>
            </a:r>
            <a:endParaRPr b="0" lang="en-US" sz="2400" spc="-1" strike="noStrike">
              <a:solidFill>
                <a:srgbClr val="000000"/>
              </a:solidFill>
              <a:latin typeface="Arial"/>
            </a:endParaRPr>
          </a:p>
          <a:p>
            <a:pPr indent="1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كلمة ” شكراً ” المفترض منك قول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طلب ما تريده </a:t>
            </a:r>
            <a:endParaRPr b="0" lang="en-US" sz="3200" spc="-1" strike="noStrike">
              <a:solidFill>
                <a:srgbClr val="000000"/>
              </a:solidFill>
              <a:latin typeface="Arial"/>
            </a:endParaRPr>
          </a:p>
        </p:txBody>
      </p:sp>
      <p:sp>
        <p:nvSpPr>
          <p:cNvPr id="318" name="PlaceHolder 2"/>
          <p:cNvSpPr>
            <a:spLocks noGrp="1"/>
          </p:cNvSpPr>
          <p:nvPr>
            <p:ph/>
          </p:nvPr>
        </p:nvSpPr>
        <p:spPr>
          <a:xfrm>
            <a:off x="323640" y="1052280"/>
            <a:ext cx="8569080" cy="515124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يت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ريدك أن تنتقل الى الخط </a:t>
            </a:r>
            <a:r>
              <a:rPr b="0" lang="ar-SA" sz="2400" spc="-1" strike="noStrike">
                <a:solidFill>
                  <a:srgbClr val="000000"/>
                </a:solidFill>
                <a:latin typeface="Arial"/>
              </a:rPr>
              <a:t>10</a:t>
            </a:r>
            <a:r>
              <a:rPr b="0" lang="ar-SA" sz="2400" spc="-1" strike="noStrike">
                <a:solidFill>
                  <a:srgbClr val="000000"/>
                </a:solidFill>
                <a:latin typeface="Arial"/>
              </a:rPr>
              <a:t> من الغد لأن به نقصاً في عدد العاملين ، سوف يكون هذا لك كجزء من تدريبك الشامل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كر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ار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ريدك أن تنهي من هذا التقرير قبل مغادرة الليلة حتى يكون في حوزتي في اجتماع الإدارة صباح الع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شكر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ذكر : يجب أن يتم إعطاء التعليمات مع لغة الجسد المناسبة حتى هذه التعليمات أثرها الكامل ( انظر ص </a:t>
            </a:r>
            <a:r>
              <a:rPr b="0" lang="ar-SA" sz="2400" spc="-1" strike="noStrike">
                <a:solidFill>
                  <a:srgbClr val="000000"/>
                </a:solidFill>
                <a:latin typeface="Arial"/>
              </a:rPr>
              <a:t>54</a:t>
            </a:r>
            <a:r>
              <a:rPr b="0" lang="ar-S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اسطوانة المشروخة</a:t>
            </a:r>
            <a:endParaRPr b="0" lang="en-US" sz="3200" spc="-1" strike="noStrike">
              <a:solidFill>
                <a:srgbClr val="000000"/>
              </a:solidFill>
              <a:latin typeface="Arial"/>
            </a:endParaRPr>
          </a:p>
        </p:txBody>
      </p:sp>
      <p:sp>
        <p:nvSpPr>
          <p:cNvPr id="320" name="PlaceHolder 2"/>
          <p:cNvSpPr>
            <a:spLocks noGrp="1"/>
          </p:cNvSpPr>
          <p:nvPr>
            <p:ph/>
          </p:nvPr>
        </p:nvSpPr>
        <p:spPr>
          <a:xfrm>
            <a:off x="92160" y="1052280"/>
            <a:ext cx="8959680" cy="5151240"/>
          </a:xfrm>
          <a:prstGeom prst="rect">
            <a:avLst/>
          </a:prstGeom>
          <a:noFill/>
          <a:ln w="0">
            <a:noFill/>
          </a:ln>
        </p:spPr>
        <p:txBody>
          <a:bodyPr lIns="90000" rIns="90000" tIns="46800" bIns="46800" anchor="t">
            <a:normAutofit fontScale="9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علق الاسطوانة فإنها تظل تطلق نفس اللحن مراراً وتكراراً ولذلك في طريقة الاسطوانة المشروخة ، كل ما عليك كل ما عليك أن تفعله هو أن تكرر ما تقوله مراراً وتكراراً ، حتى يستسلم الطرف الآخر أو يذعن لمطالبك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أطفال أساتذة في استخدام طريقة الاسطوانة المشروخة ولكننا بطريقة ما أثناء مرحلة المراهقة نفقد هذه المهارة . ومن خلال خبرتي فمعظم الأشخاص يكفون عن المقاومة بعد أن تكرر كلامك ثلاث مرات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تعامل مع من هم في السلطة ، أو عندما تشعر أن الطرف الآخر أكثر منك خبرة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عتقد أنك لا تحصل على حقك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تعامل مع أناس أكثر منك ذكاءً أو فصحة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كون من المحتمل أن يلجأ الطرف الآخر الى إحباطك أو مهاجمتك لفظي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أن يتعين عليك هنا أن تكرر كلامك فقط ، فإن طريقة الاسطوانة المشروخة تعتبر سهلة الاستخدام حق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أمثلة على طريقة الأسطوانة المشروخة</a:t>
            </a:r>
            <a:endParaRPr b="0" lang="en-US" sz="3200" spc="-1" strike="noStrike">
              <a:solidFill>
                <a:srgbClr val="000000"/>
              </a:solidFill>
              <a:latin typeface="Arial"/>
            </a:endParaRPr>
          </a:p>
        </p:txBody>
      </p:sp>
      <p:sp>
        <p:nvSpPr>
          <p:cNvPr id="322" name="PlaceHolder 2"/>
          <p:cNvSpPr>
            <a:spLocks noGrp="1"/>
          </p:cNvSpPr>
          <p:nvPr>
            <p:ph/>
          </p:nvPr>
        </p:nvSpPr>
        <p:spPr>
          <a:xfrm>
            <a:off x="92160" y="1268280"/>
            <a:ext cx="8959680" cy="4935600"/>
          </a:xfrm>
          <a:prstGeom prst="rect">
            <a:avLst/>
          </a:prstGeom>
          <a:noFill/>
          <a:ln w="0">
            <a:noFill/>
          </a:ln>
        </p:spPr>
        <p:txBody>
          <a:bodyPr lIns="90000" rIns="90000" tIns="46800" bIns="46800" anchor="t">
            <a:normAutofit fontScale="86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ثال</a:t>
            </a:r>
            <a:r>
              <a:rPr b="0" lang="ar-SA" sz="2400" spc="-1" strike="noStrike">
                <a:solidFill>
                  <a:srgbClr val="000000"/>
                </a:solidFill>
                <a:latin typeface="Arial"/>
              </a:rPr>
              <a:t>1</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لم يرق البرنامج الى المستوى المطلوب ولم يتم تغطية كل العناصر التي اشتملت</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ليها النشرة عليها الدعائية ، ولذلك أريد استعادة الرسوم التي دفعتها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 لم يشتك أناس آخرون والحقيقة أن بعض التقييمات التي تلقيناها كانت ممتاز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ربما تكون كذلك ، ولكنني أريد استعادة الرسوم التي دفعتها لأن العمل لم يك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المستوى المطلو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 في رأيي باعتباري مدرسا في هذا الصف ، فقد كان الصف على المستوى المطلو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أقدر رأيك هذا ولكنني أريد استعادة الرسوم التي دفعته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 ليس من سياستنا أن نعيد الرسوم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ربما تكون هذه سياستكم ، ولكنني أريد استعادة الرسوم التي دفعتها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الحسم والاستقامة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يكون الإنسان حاسماً ، فإن يزيد من استقامته وثباته على مبادئه ، لأنه يكون صادقاً مع نفسه مع الآخرين . </a:t>
            </a: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نكون صادقين مع أنفسنا ، ونعبر عن هذا بحسم في علاقتنا بالآخرين ، نكون قادرين على تحقيق ما نريده بدون أي تنازلات .</a:t>
            </a:r>
            <a:endParaRPr b="0" lang="en-US" sz="2400" spc="-1" strike="noStrike">
              <a:solidFill>
                <a:srgbClr val="000000"/>
              </a:solidFill>
              <a:latin typeface="Arial"/>
            </a:endParaRPr>
          </a:p>
        </p:txBody>
      </p:sp>
      <p:sp>
        <p:nvSpPr>
          <p:cNvPr id="117" name=""/>
          <p:cNvSpPr/>
          <p:nvPr/>
        </p:nvSpPr>
        <p:spPr>
          <a:xfrm>
            <a:off x="1573200" y="222264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ع الاخرين </a:t>
            </a:r>
            <a:endParaRPr b="0" lang="en-US" sz="2000" spc="-1" strike="noStrike">
              <a:solidFill>
                <a:srgbClr val="000000"/>
              </a:solidFill>
              <a:latin typeface="Times New Roman"/>
            </a:endParaRPr>
          </a:p>
        </p:txBody>
      </p:sp>
      <p:sp>
        <p:nvSpPr>
          <p:cNvPr id="118" name=""/>
          <p:cNvSpPr/>
          <p:nvPr/>
        </p:nvSpPr>
        <p:spPr>
          <a:xfrm>
            <a:off x="1573200" y="287028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تأثيرهم </a:t>
            </a:r>
            <a:endParaRPr b="0" lang="en-US" sz="2000" spc="-1" strike="noStrike">
              <a:solidFill>
                <a:srgbClr val="000000"/>
              </a:solidFill>
              <a:latin typeface="Times New Roman"/>
            </a:endParaRPr>
          </a:p>
        </p:txBody>
      </p:sp>
      <p:sp>
        <p:nvSpPr>
          <p:cNvPr id="119" name=""/>
          <p:cNvSpPr/>
          <p:nvPr/>
        </p:nvSpPr>
        <p:spPr>
          <a:xfrm>
            <a:off x="1573200" y="3519360"/>
            <a:ext cx="223200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سلوكهم</a:t>
            </a:r>
            <a:endParaRPr b="0" lang="en-US" sz="2000" spc="-1" strike="noStrike">
              <a:solidFill>
                <a:srgbClr val="000000"/>
              </a:solidFill>
              <a:latin typeface="Times New Roman"/>
            </a:endParaRPr>
          </a:p>
        </p:txBody>
      </p:sp>
      <p:sp>
        <p:nvSpPr>
          <p:cNvPr id="120" name=""/>
          <p:cNvSpPr/>
          <p:nvPr/>
        </p:nvSpPr>
        <p:spPr>
          <a:xfrm>
            <a:off x="1573200" y="423864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ا تتوقعه منهم </a:t>
            </a:r>
            <a:endParaRPr b="0" lang="en-US" sz="2000" spc="-1" strike="noStrike">
              <a:solidFill>
                <a:srgbClr val="000000"/>
              </a:solidFill>
              <a:latin typeface="Times New Roman"/>
            </a:endParaRPr>
          </a:p>
        </p:txBody>
      </p:sp>
      <p:sp>
        <p:nvSpPr>
          <p:cNvPr id="121" name=""/>
          <p:cNvSpPr/>
          <p:nvPr/>
        </p:nvSpPr>
        <p:spPr>
          <a:xfrm>
            <a:off x="5810400" y="222264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ع النفس </a:t>
            </a:r>
            <a:endParaRPr b="0" lang="en-US" sz="2000" spc="-1" strike="noStrike">
              <a:solidFill>
                <a:srgbClr val="000000"/>
              </a:solidFill>
              <a:latin typeface="Times New Roman"/>
            </a:endParaRPr>
          </a:p>
        </p:txBody>
      </p:sp>
      <p:sp>
        <p:nvSpPr>
          <p:cNvPr id="122" name=""/>
          <p:cNvSpPr/>
          <p:nvPr/>
        </p:nvSpPr>
        <p:spPr>
          <a:xfrm>
            <a:off x="5810400" y="287028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ا تشعر به</a:t>
            </a:r>
            <a:endParaRPr b="0" lang="en-US" sz="2000" spc="-1" strike="noStrike">
              <a:solidFill>
                <a:srgbClr val="000000"/>
              </a:solidFill>
              <a:latin typeface="Times New Roman"/>
            </a:endParaRPr>
          </a:p>
        </p:txBody>
      </p:sp>
      <p:sp>
        <p:nvSpPr>
          <p:cNvPr id="123" name=""/>
          <p:cNvSpPr/>
          <p:nvPr/>
        </p:nvSpPr>
        <p:spPr>
          <a:xfrm>
            <a:off x="5810400" y="3519360"/>
            <a:ext cx="223200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ا تفكر فيه</a:t>
            </a:r>
            <a:endParaRPr b="0" lang="en-US" sz="2000" spc="-1" strike="noStrike">
              <a:solidFill>
                <a:srgbClr val="000000"/>
              </a:solidFill>
              <a:latin typeface="Times New Roman"/>
            </a:endParaRPr>
          </a:p>
        </p:txBody>
      </p:sp>
      <p:sp>
        <p:nvSpPr>
          <p:cNvPr id="124" name=""/>
          <p:cNvSpPr/>
          <p:nvPr/>
        </p:nvSpPr>
        <p:spPr>
          <a:xfrm>
            <a:off x="5810400" y="4238640"/>
            <a:ext cx="22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Mudir MT"/>
              </a:rPr>
              <a:t>ما تحتاج إليه</a:t>
            </a:r>
            <a:endParaRPr b="0" lang="en-US" sz="2000" spc="-1" strike="noStrike">
              <a:solidFill>
                <a:srgbClr val="000000"/>
              </a:solidFill>
              <a:latin typeface="Times New Roman"/>
            </a:endParaRPr>
          </a:p>
        </p:txBody>
      </p:sp>
      <p:sp>
        <p:nvSpPr>
          <p:cNvPr id="125" name=""/>
          <p:cNvSpPr/>
          <p:nvPr/>
        </p:nvSpPr>
        <p:spPr>
          <a:xfrm>
            <a:off x="3708360" y="2133720"/>
            <a:ext cx="2232000" cy="647640"/>
          </a:xfrm>
          <a:prstGeom prst="leftRightArrow">
            <a:avLst>
              <a:gd name="adj1" fmla="val 50000"/>
              <a:gd name="adj2" fmla="val 686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PT Bold Heading"/>
              </a:rPr>
              <a:t>الصد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أمثلة على طريقة الأسطوانة المشروخة</a:t>
            </a:r>
            <a:endParaRPr b="0" lang="en-US" sz="3200" spc="-1" strike="noStrike">
              <a:solidFill>
                <a:srgbClr val="000000"/>
              </a:solidFill>
              <a:latin typeface="Arial"/>
            </a:endParaRPr>
          </a:p>
        </p:txBody>
      </p:sp>
      <p:sp>
        <p:nvSpPr>
          <p:cNvPr id="324" name="PlaceHolder 2"/>
          <p:cNvSpPr>
            <a:spLocks noGrp="1"/>
          </p:cNvSpPr>
          <p:nvPr>
            <p:ph/>
          </p:nvPr>
        </p:nvSpPr>
        <p:spPr>
          <a:xfrm>
            <a:off x="181080" y="907920"/>
            <a:ext cx="8781840" cy="5950080"/>
          </a:xfrm>
          <a:prstGeom prst="rect">
            <a:avLst/>
          </a:prstGeom>
          <a:noFill/>
          <a:ln w="0">
            <a:noFill/>
          </a:ln>
        </p:spPr>
        <p:txBody>
          <a:bodyPr lIns="90000" rIns="90000" tIns="46800" bIns="46800" anchor="t">
            <a:normAutofit fontScale="92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ثال</a:t>
            </a:r>
            <a:r>
              <a:rPr b="0" lang="ar-SA" sz="2400" spc="-1" strike="noStrike">
                <a:solidFill>
                  <a:srgbClr val="000000"/>
                </a:solidFill>
                <a:latin typeface="Arial"/>
              </a:rPr>
              <a:t>2</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لست راضياً عن مستوى الخدمة ، أريد أن أرى المدي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إنه مشغول الآن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إنني واثق من أنه كذلك ، ولكنني لازلت أود أن أرا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 إنه عادة ما يترك لنا مثل هذه  الأمور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أستطيع أن أفهم هذا ، ولكنني أريد أن أرا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 يجب عليك أن تحدد موعداً أول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ربما تكون هذه هي الإجراءات المتبعة لديكم ، ولكنني أريد أن أراه الآ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رد : ”حسناً إذا كنت على استعداد لأن تنتظر ساعة فسأرى ما يمكنني فعله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شكراً لك  ولكنني أريد أن أراه الآ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تأكيد السلبي </a:t>
            </a:r>
            <a:endParaRPr b="0" lang="en-US" sz="3200" spc="-1" strike="noStrike">
              <a:solidFill>
                <a:srgbClr val="000000"/>
              </a:solidFill>
              <a:latin typeface="Arial"/>
            </a:endParaRPr>
          </a:p>
        </p:txBody>
      </p:sp>
      <p:sp>
        <p:nvSpPr>
          <p:cNvPr id="326" name="PlaceHolder 2"/>
          <p:cNvSpPr>
            <a:spLocks noGrp="1"/>
          </p:cNvSpPr>
          <p:nvPr>
            <p:ph/>
          </p:nvPr>
        </p:nvSpPr>
        <p:spPr>
          <a:xfrm>
            <a:off x="333000" y="981000"/>
            <a:ext cx="8559720" cy="5222880"/>
          </a:xfrm>
          <a:prstGeom prst="rect">
            <a:avLst/>
          </a:prstGeom>
          <a:noFill/>
          <a:ln w="0">
            <a:noFill/>
          </a:ln>
        </p:spPr>
        <p:txBody>
          <a:bodyPr lIns="90000" rIns="90000" tIns="46800" bIns="46800" anchor="t">
            <a:normAutofit fontScale="8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ينعتنا الآخرون بصفات سيئة أو يلصقون بنا سمات سلبية ، فعادة ما نرغب في الدفاع عن أنفسنا،أو نشعر بالألم لأننا قد انسحبنا وتراجعنا . وسرعان ما يجد  الأشخاص العدوانيون أو المستغلون الذين يفعلون ذلك بنا نقاط ضعفنا ، فيقومون باستغلالها إجبارنا على فعل ما يريدونه ، أو لإحراز نقاط على حسابنا أمام الآخري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أكيد السلبي يشبه المصارعة اليابانية ن حيث تستخدم قوة خصمك لتقلب الموقف لصالحك ، لا يوجد إنسان كامل ، ولذلك ففي التأكيد السلبي كل ما عليك أن تفعله هو أن تتقبل الصفة التي ينعتك بها كأمر واقع . تأمل الأمثلة التالي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إذا كنت تعتقد هذا فلا بد أنك غبي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أعترف أنني ليت أذكي إنسان هنا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وأنت دائماً ما ترتكب أخطاء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نعم إنني أرتكب أخطاء بالفعل من وقت لآخر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كما انك شخص كسو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        ” أنا لم أدع أبداً أنني أكثر الناس نشاطاً واجتهاد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تشويش</a:t>
            </a:r>
            <a:endParaRPr b="0" lang="en-US" sz="3200" spc="-1" strike="noStrike">
              <a:solidFill>
                <a:srgbClr val="000000"/>
              </a:solidFill>
              <a:latin typeface="Arial"/>
            </a:endParaRPr>
          </a:p>
        </p:txBody>
      </p:sp>
      <p:sp>
        <p:nvSpPr>
          <p:cNvPr id="328" name="PlaceHolder 2"/>
          <p:cNvSpPr>
            <a:spLocks noGrp="1"/>
          </p:cNvSpPr>
          <p:nvPr>
            <p:ph/>
          </p:nvPr>
        </p:nvSpPr>
        <p:spPr>
          <a:xfrm>
            <a:off x="60480" y="822240"/>
            <a:ext cx="9023040" cy="5911920"/>
          </a:xfrm>
          <a:prstGeom prst="rect">
            <a:avLst/>
          </a:prstGeom>
          <a:noFill/>
          <a:ln w="0">
            <a:noFill/>
          </a:ln>
        </p:spPr>
        <p:txBody>
          <a:bodyPr lIns="90000" rIns="90000" tIns="46800" bIns="46800" anchor="t">
            <a:normAutofit fontScale="8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تبر التشويش مفيداً عندما يفرض شخص ما ضغوطاً عليك لتفعل شيئاً ليس في مصلحتك في حقيقة الأمر وتفضل ألا تفعله وبالتالي فاستجابتك لطلبه في هذه هي أن تلجأ الى التشويش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مع لما يقوله هذا الشخص ، وقرر هل تريد الإذعان لطلبه أم لا . إذا قررت عدم الخضوع له ، إذن فباستخدام كلماته ، أو كلمات ممثلة لها ، اعترف بحاجته وتقبلها ، ولكن في نفس الوقت قم بعرض موقفك بهذه الطريقة تظهر له أنك قد فهمت طلب ، وأنك رغم ذلك لن تذعن له . وهذه طريقة مهذبة للغاية لقول ” لا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لب                       استجاب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ريد ذلك الآن“          ” أستطيع أن أفهم لماذا تريد ذلك ولكن الأولوية التي الآن ه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يجب أن تساعدني”    ” ربما يجب على ذلك ، لكني الآن لدي أولويات أخرى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هذا أمر مهم“          ” بالطبع هذا أمر مهم ولكنه ليس على نفس أهمي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حتاج الى ذلك“        ” إنني واثق من حاجتك هذه ، ولكن هذا ليس ممكنا الآن“</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خلال استخدام هذا الأسلوب ،يصبح من غير المحتمل أن يستغلك أحد ويجبرك على فعل شيء تفضل ألا تفعله ، وفي نفس الوقت لا يمكن أن تهمك أحد تقديرك لحاجة الطرف الآخر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استعلام السلبي</a:t>
            </a:r>
            <a:endParaRPr b="0" lang="en-US" sz="3200" spc="-1" strike="noStrike">
              <a:solidFill>
                <a:srgbClr val="000000"/>
              </a:solidFill>
              <a:latin typeface="Arial"/>
            </a:endParaRPr>
          </a:p>
        </p:txBody>
      </p:sp>
      <p:sp>
        <p:nvSpPr>
          <p:cNvPr id="330" name="PlaceHolder 2"/>
          <p:cNvSpPr>
            <a:spLocks noGrp="1"/>
          </p:cNvSpPr>
          <p:nvPr>
            <p:ph/>
          </p:nvPr>
        </p:nvSpPr>
        <p:spPr>
          <a:xfrm>
            <a:off x="60480" y="1052280"/>
            <a:ext cx="9023040" cy="5151240"/>
          </a:xfrm>
          <a:prstGeom prst="rect">
            <a:avLst/>
          </a:prstGeom>
          <a:noFill/>
          <a:ln w="0">
            <a:noFill/>
          </a:ln>
        </p:spPr>
        <p:txBody>
          <a:bodyPr lIns="90000" rIns="90000" tIns="46800" bIns="46800" anchor="t">
            <a:normAutofit fontScale="8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تقن طريقة التأكيد وطريقة التشويش ، سوف تكون مستعداً لطريقة الاستعلام السلبي ،وهي طريقة ممتعة بحق في هذه الطريقة ، تشجع الطرف الآخر على إعطائك المزيد من النقد/أو الأمثلة وبالتالي تستفيد من التقييم الإضافي الذي ستحصل علي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تهام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ت شخص كسول“     ” حقاً في أي جانب بالتحدي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ائماً ما تتأخر ”         ” دائماً؟ ما الذي يجعلك متأكد على هذا النحو؟“</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ت شخص غبي“      ” ربما يكون فهمي مختلفاً عن فهمك، فما الذي تعنيه بذلك التحديد</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نت شخص أناني“      ” هل يمكنك أن توضح لي لماذا جعلك هذا الموقف بالتحديد تصنفي</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هذه الصف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كان هذا الشخص صادقا ويهتم بك بحق ، فسوف تقوم مثل هذه الردود الى تقييم حقيقي . بعد يمكنك أن تقرر ما إذا كان الاتهام مبرراً أم  لا ،وما كنت تريد أن تفعل شيئاً حياله ( انظر صفحة </a:t>
            </a:r>
            <a:r>
              <a:rPr b="0" lang="ar-SA" sz="2400" spc="-1" strike="noStrike">
                <a:solidFill>
                  <a:srgbClr val="000000"/>
                </a:solidFill>
                <a:latin typeface="Arial"/>
              </a:rPr>
              <a:t>58</a:t>
            </a:r>
            <a:r>
              <a:rPr b="0" lang="ar-SA" sz="2400" spc="-1" strike="noStrike">
                <a:solidFill>
                  <a:srgbClr val="000000"/>
                </a:solidFill>
                <a:latin typeface="Arial"/>
              </a:rPr>
              <a:t>) </a:t>
            </a:r>
            <a:br>
              <a:rPr sz="2400"/>
            </a:b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الكلمات الفعالة </a:t>
            </a:r>
            <a:endParaRPr b="0" lang="en-US" sz="3200" spc="-1" strike="noStrike">
              <a:solidFill>
                <a:srgbClr val="000000"/>
              </a:solidFill>
              <a:latin typeface="Arial"/>
            </a:endParaRPr>
          </a:p>
        </p:txBody>
      </p:sp>
      <p:sp>
        <p:nvSpPr>
          <p:cNvPr id="332"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ذا أردت أن تكون حاسماً ، هناك كلمات معينة تعتبر فعالة يمكنك استخدامها ، وإذا استخدمتها في السياق الصحيح ، فإنها تكون مقنعة على نحو ممتاز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ه الكلمات الفعالة هي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
          <p:cNvSpPr/>
          <p:nvPr/>
        </p:nvSpPr>
        <p:spPr>
          <a:xfrm>
            <a:off x="4800600" y="2549520"/>
            <a:ext cx="2016000" cy="1440000"/>
          </a:xfrm>
          <a:prstGeom prst="flowChartDecision">
            <a:avLst/>
          </a:prstGeom>
          <a:gradFill rotWithShape="0">
            <a:gsLst>
              <a:gs pos="0">
                <a:srgbClr val="009900"/>
              </a:gs>
              <a:gs pos="50000">
                <a:srgbClr val="fefefe"/>
              </a:gs>
              <a:gs pos="100000">
                <a:srgbClr val="009900"/>
              </a:gs>
            </a:gsLst>
            <a:lin ang="5400000"/>
          </a:gradFill>
          <a:ln w="57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e Indust Shaded"/>
              </a:rPr>
              <a:t>شكراً</a:t>
            </a:r>
            <a:endParaRPr b="0" lang="en-US" sz="3200" spc="-1" strike="noStrike">
              <a:solidFill>
                <a:srgbClr val="000000"/>
              </a:solidFill>
              <a:latin typeface="Times New Roman"/>
            </a:endParaRPr>
          </a:p>
        </p:txBody>
      </p:sp>
      <p:sp>
        <p:nvSpPr>
          <p:cNvPr id="334" name=""/>
          <p:cNvSpPr/>
          <p:nvPr/>
        </p:nvSpPr>
        <p:spPr>
          <a:xfrm>
            <a:off x="2424240" y="2549520"/>
            <a:ext cx="2016000" cy="1440000"/>
          </a:xfrm>
          <a:prstGeom prst="flowChartDecision">
            <a:avLst/>
          </a:prstGeom>
          <a:gradFill rotWithShape="0">
            <a:gsLst>
              <a:gs pos="0">
                <a:srgbClr val="009900"/>
              </a:gs>
              <a:gs pos="50000">
                <a:srgbClr val="fefefe"/>
              </a:gs>
              <a:gs pos="100000">
                <a:srgbClr val="009900"/>
              </a:gs>
            </a:gsLst>
            <a:lin ang="5400000"/>
          </a:gradFill>
          <a:ln w="57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e Indust Shaded"/>
              </a:rPr>
              <a:t>لا</a:t>
            </a:r>
            <a:endParaRPr b="0" lang="en-US" sz="3200" spc="-1" strike="noStrike">
              <a:solidFill>
                <a:srgbClr val="000000"/>
              </a:solidFill>
              <a:latin typeface="Times New Roman"/>
            </a:endParaRPr>
          </a:p>
        </p:txBody>
      </p:sp>
      <p:sp>
        <p:nvSpPr>
          <p:cNvPr id="335" name=""/>
          <p:cNvSpPr/>
          <p:nvPr/>
        </p:nvSpPr>
        <p:spPr>
          <a:xfrm>
            <a:off x="4800600" y="4349880"/>
            <a:ext cx="2016000" cy="1439640"/>
          </a:xfrm>
          <a:prstGeom prst="flowChartDecision">
            <a:avLst/>
          </a:prstGeom>
          <a:gradFill rotWithShape="0">
            <a:gsLst>
              <a:gs pos="0">
                <a:srgbClr val="009900"/>
              </a:gs>
              <a:gs pos="50000">
                <a:srgbClr val="fefefe"/>
              </a:gs>
              <a:gs pos="100000">
                <a:srgbClr val="009900"/>
              </a:gs>
            </a:gsLst>
            <a:lin ang="5400000"/>
          </a:gradFill>
          <a:ln w="57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e Indust Shaded"/>
              </a:rPr>
              <a:t>عندما</a:t>
            </a:r>
            <a:endParaRPr b="0" lang="en-US" sz="3200" spc="-1" strike="noStrike">
              <a:solidFill>
                <a:srgbClr val="000000"/>
              </a:solidFill>
              <a:latin typeface="Times New Roman"/>
            </a:endParaRPr>
          </a:p>
        </p:txBody>
      </p:sp>
      <p:sp>
        <p:nvSpPr>
          <p:cNvPr id="336" name=""/>
          <p:cNvSpPr/>
          <p:nvPr/>
        </p:nvSpPr>
        <p:spPr>
          <a:xfrm>
            <a:off x="2424240" y="4276800"/>
            <a:ext cx="2016000" cy="1439640"/>
          </a:xfrm>
          <a:prstGeom prst="flowChartDecision">
            <a:avLst/>
          </a:prstGeom>
          <a:gradFill rotWithShape="0">
            <a:gsLst>
              <a:gs pos="0">
                <a:srgbClr val="009900"/>
              </a:gs>
              <a:gs pos="50000">
                <a:srgbClr val="fefefe"/>
              </a:gs>
              <a:gs pos="100000">
                <a:srgbClr val="009900"/>
              </a:gs>
            </a:gsLst>
            <a:lin ang="5400000"/>
          </a:gradFill>
          <a:ln w="57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e Indust Shaded"/>
              </a:rPr>
              <a:t>إذ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لا </a:t>
            </a:r>
            <a:endParaRPr b="0" lang="en-US" sz="3200" spc="-1" strike="noStrike">
              <a:solidFill>
                <a:srgbClr val="000000"/>
              </a:solidFill>
              <a:latin typeface="Arial"/>
            </a:endParaRPr>
          </a:p>
        </p:txBody>
      </p:sp>
      <p:sp>
        <p:nvSpPr>
          <p:cNvPr id="338" name="PlaceHolder 2"/>
          <p:cNvSpPr>
            <a:spLocks noGrp="1"/>
          </p:cNvSpPr>
          <p:nvPr>
            <p:ph/>
          </p:nvPr>
        </p:nvSpPr>
        <p:spPr>
          <a:xfrm>
            <a:off x="95400" y="835200"/>
            <a:ext cx="8953200" cy="5875200"/>
          </a:xfrm>
          <a:prstGeom prst="rect">
            <a:avLst/>
          </a:prstGeom>
          <a:noFill/>
          <a:ln w="0">
            <a:noFill/>
          </a:ln>
        </p:spPr>
        <p:txBody>
          <a:bodyPr lIns="90000" rIns="90000" tIns="46800" bIns="46800" anchor="t">
            <a:normAutofit fontScale="93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لمة ”لا“ هي واحدة من أصعب الكلمات التي يمك أن نقولها للآخرين ، وهذا عادة لأننا نخشى أن نفقد رضاهم عنا أو اهتمامهم بنا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 كل إنسان يرغب بصورة طبيعية أن ينظر إليه الآخرون على أنه عطوف ونافع ومراع لمشاعر الآخرين .نحن نشعر بمشاعر طيبة عندما نرضى الآخرين ، وبالتالي ، فعلى المدى القصير ، يصبح قول ”نعم“ أسهل من قول ”لا“ </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ما يلي قائمة مراجعة بالأمور التي يجب أن نضعها في الحسبان قبل أن نقول ”لا“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هل أريد هذا الأمر بالفعل ، أم أنني فقط أرضى شخصاً آخر؟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ما الفائدة التي سأجنبها إن فلت ”نعم“؟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إذا فعلت ذلك ، فهل سأستمتع به ؟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هل أنا مضطر لقول ”نعم“ أو ”لا“ الآن؟ هل من مصلحتي أن أؤجل قراري ؟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كيف أشعر تجاه هذا الطلب؟ كيف أشعر عاطفياً تجاهه؟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هل أحتاج الى مزيد من المعلومات قبل أن أتخذ قراري ؟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هل أريد بدلاً </a:t>
            </a:r>
            <a:endParaRPr b="0" lang="en-US" sz="2000" spc="-1" strike="noStrike">
              <a:solidFill>
                <a:srgbClr val="000000"/>
              </a:solidFill>
              <a:latin typeface="Arial"/>
            </a:endParaRPr>
          </a:p>
          <a:p>
            <a:pPr indent="17640" algn="r" rtl="1">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ما الثمن الذي سأدفعه إن قلت ”لا“.</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القائمة طويلة يمكنك دائماً أن تستخدم البند رقم </a:t>
            </a:r>
            <a:r>
              <a:rPr b="1" lang="ar-SA" sz="2000" spc="-1" strike="noStrike">
                <a:solidFill>
                  <a:srgbClr val="000000"/>
                </a:solidFill>
                <a:latin typeface="Arial"/>
              </a:rPr>
              <a:t>4</a:t>
            </a:r>
            <a:r>
              <a:rPr b="1" lang="ar-SA" sz="2000" spc="-1" strike="noStrike">
                <a:solidFill>
                  <a:srgbClr val="000000"/>
                </a:solidFill>
                <a:latin typeface="Arial"/>
              </a:rPr>
              <a:t> حتى تمنح نفسك بعض الوقت للتفكير(ثم تعود الى هذه القائم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يف تقول لا</a:t>
            </a:r>
            <a:endParaRPr b="0" lang="en-US" sz="3200" spc="-1" strike="noStrike">
              <a:solidFill>
                <a:srgbClr val="000000"/>
              </a:solidFill>
              <a:latin typeface="Arial"/>
            </a:endParaRPr>
          </a:p>
        </p:txBody>
      </p:sp>
      <p:sp>
        <p:nvSpPr>
          <p:cNvPr id="340" name="PlaceHolder 2"/>
          <p:cNvSpPr>
            <a:spLocks noGrp="1"/>
          </p:cNvSpPr>
          <p:nvPr>
            <p:ph/>
          </p:nvPr>
        </p:nvSpPr>
        <p:spPr>
          <a:xfrm>
            <a:off x="457200" y="974520"/>
            <a:ext cx="8229600" cy="5770440"/>
          </a:xfrm>
          <a:prstGeom prst="rect">
            <a:avLst/>
          </a:prstGeom>
          <a:noFill/>
          <a:ln w="0">
            <a:noFill/>
          </a:ln>
        </p:spPr>
        <p:txBody>
          <a:bodyPr lIns="90000" rIns="90000" tIns="46800" bIns="46800" anchor="t">
            <a:normAutofit fontScale="95000"/>
          </a:bodyPr>
          <a:p>
            <a:pPr indent="180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200" spc="-1" strike="noStrike">
                <a:solidFill>
                  <a:srgbClr val="000000"/>
                </a:solidFill>
                <a:latin typeface="Arial"/>
              </a:rPr>
              <a:t>قل ”لا“ فحسب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لا تمهد لها بعبارة ”متأسف ولكن ..“ أو بعبارة مترددة“ أود حقاً أفعل ذلك ولكن..“</a:t>
            </a:r>
            <a:endParaRPr b="0" lang="en-US" sz="2200" spc="-1" strike="noStrike">
              <a:solidFill>
                <a:srgbClr val="000000"/>
              </a:solidFill>
              <a:latin typeface="Arial"/>
            </a:endParaRPr>
          </a:p>
          <a:p>
            <a:pPr indent="180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لا تشعر بأنك مضطر لتقديم تفسير لمشاعر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لا يبدو مناسباً أن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لا أحب أن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سوف أشعر بأنني مجبر على ...“</a:t>
            </a:r>
            <a:endParaRPr b="0" lang="en-US" sz="2200" spc="-1" strike="noStrike">
              <a:solidFill>
                <a:srgbClr val="000000"/>
              </a:solidFill>
              <a:latin typeface="Arial"/>
            </a:endParaRPr>
          </a:p>
          <a:p>
            <a:pPr indent="180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لا تشعر بأنك مضطر لشرح أسبابك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لأنه يتحتم على أن أفعل كذا أو كذا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لأن لدي التزاماً بالفعل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لأنني لا أملك الوقت الكافي ” </a:t>
            </a:r>
            <a:endParaRPr b="0" lang="en-US" sz="2200" spc="-1" strike="noStrike">
              <a:solidFill>
                <a:srgbClr val="000000"/>
              </a:solidFill>
              <a:latin typeface="Arial"/>
            </a:endParaRPr>
          </a:p>
          <a:p>
            <a:pPr indent="1800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وجه الشكر للطرف الآخر ، إن كان هذا مناسباً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شكراً لك لأنني قد خطرت على ذهنك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شكراً لك على دعوتك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انظر الصفحة التالية حول استخدام كلمة ”شكرا“ً)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لمة شكراً الفعالة </a:t>
            </a:r>
            <a:endParaRPr b="0" lang="en-US" sz="3200" spc="-1" strike="noStrike">
              <a:solidFill>
                <a:srgbClr val="000000"/>
              </a:solidFill>
              <a:latin typeface="Arial"/>
            </a:endParaRPr>
          </a:p>
        </p:txBody>
      </p:sp>
      <p:sp>
        <p:nvSpPr>
          <p:cNvPr id="342"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fontScale="93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لمة ”شكراً“ هي كلمة مثيرة للاهتمام .ونحن قج تربينا ونحن صغار على أن نقول ”من فضلك“ عندما نريد شيئاً غير أن هذه العبارة أننا نطلب هذا الشيء من الطرف الآخر وبالتالي فهو من يملك المبادرة لأنه هو الذي يستطيع أ يقول ”نعم“ أو ”ل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اننا قد تعلمنا أن نقول ”شكراً ” عندما يعطينا أحد شيئاً طلبناه . ولكن هناك شيء مثير للاهتمام يحدث عندما نقول ”شكراً“ في موقف يفترض فيه بشكل طبيعي أن نقول ”من فضلك“ فنحن عندما نقول ذلك نفترض أن الطرف الآخر سوف يفعل أو يمنحنا ما نطلب منه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 الاستخدام الحصيف لكلمة ”شكراً“ مع لغة الجسد المناسبة ،يمكن أن يكون فعالاً على نحو ممتاز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ريد أن أحظى ببعض الهدوء الآن شكراً“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ريد أن تساعدني شكراً“ </a:t>
            </a:r>
            <a:endParaRPr b="0" lang="en-US" sz="2400" spc="-1" strike="noStrike">
              <a:solidFill>
                <a:srgbClr val="000000"/>
              </a:solidFill>
              <a:latin typeface="Arial"/>
            </a:endParaRPr>
          </a:p>
          <a:p>
            <a:pPr indent="17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أريد أن تنتبه شكراً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لمة إذا الحاسمة </a:t>
            </a:r>
            <a:endParaRPr b="0" lang="en-US" sz="3200" spc="-1" strike="noStrike">
              <a:solidFill>
                <a:srgbClr val="000000"/>
              </a:solidFill>
              <a:latin typeface="Arial"/>
            </a:endParaRPr>
          </a:p>
        </p:txBody>
      </p:sp>
      <p:sp>
        <p:nvSpPr>
          <p:cNvPr id="344" name="PlaceHolder 2"/>
          <p:cNvSpPr>
            <a:spLocks noGrp="1"/>
          </p:cNvSpPr>
          <p:nvPr>
            <p:ph/>
          </p:nvPr>
        </p:nvSpPr>
        <p:spPr>
          <a:xfrm>
            <a:off x="165240" y="985320"/>
            <a:ext cx="8813520" cy="559764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داة الربط ”إذا“ هي كلمة فعالة على نحو رائع ، وذلك عندما تريد أن تقدم تنازلاً أو تهب شيئاً ما . وهي تعمل كقطعة مطاط تستطيع بها أن تسحب التنازل الذي قدمته على ما تريده في مقابلة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التالي تصبح كلمة ”إذا تعتبر عن الشرط :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إذا فعلت هذا ، فإنني سوف ...“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إذا عملت بجد أكبر ، فإنني سوف ...“ </a:t>
            </a:r>
            <a:endParaRPr b="0" lang="en-US" sz="2400" spc="-1" strike="noStrike">
              <a:solidFill>
                <a:srgbClr val="000000"/>
              </a:solidFill>
              <a:latin typeface="Arial"/>
            </a:endParaRPr>
          </a:p>
          <a:p>
            <a:pPr indent="18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ذا أبدت تعاوناً فسيمكنك أن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معظم الجدات يعرف هذا لأنهن دائماً ما ينصحن أحفادهن قائلين : ” إذا أكلتم طبق الخضروات ، يمكنكم عندئذ أن تأكلوا طبق الحلوى“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احظ في الجمل الشرطية كيف أن خياراً له أولوية متدنية يتم ربطه بخيار آخر له أولوية كبير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في الحياة  يترك معظمنا الآخرين يحظون بطبق الحلوى أولاً على أمل أنهم سوف يفعلون الصواب ويعطوننا ما نريده . ويا ليت الحياة كانت بهذه البساط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هارات الحسم</a:t>
            </a:r>
            <a:br>
              <a:rPr sz="2400"/>
            </a:br>
            <a:r>
              <a:rPr b="0" lang="hi-IN" sz="3200" spc="-1" strike="noStrike">
                <a:solidFill>
                  <a:srgbClr val="cc0000"/>
                </a:solidFill>
                <a:latin typeface="Arial"/>
                <a:cs typeface="PT Bold Heading"/>
              </a:rPr>
              <a:t>كلمة عندما الافتراضية </a:t>
            </a:r>
            <a:endParaRPr b="0" lang="en-US" sz="3200" spc="-1" strike="noStrike">
              <a:solidFill>
                <a:srgbClr val="000000"/>
              </a:solidFill>
              <a:latin typeface="Arial"/>
            </a:endParaRPr>
          </a:p>
        </p:txBody>
      </p:sp>
      <p:sp>
        <p:nvSpPr>
          <p:cNvPr id="346" name="PlaceHolder 2"/>
          <p:cNvSpPr>
            <a:spLocks noGrp="1"/>
          </p:cNvSpPr>
          <p:nvPr>
            <p:ph/>
          </p:nvPr>
        </p:nvSpPr>
        <p:spPr>
          <a:xfrm>
            <a:off x="457200" y="1268280"/>
            <a:ext cx="8229600" cy="493560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ه أداة ربط تشبه ” إذا تماما عندما تستخدم في الأساليب الشرطية ولها نفس تأثيرها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ندما تقوم بذلك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ندما يتم الانتهاء من العمل ...“ </a:t>
            </a:r>
            <a:endParaRPr b="0" lang="en-US" sz="2400" spc="-1" strike="noStrike">
              <a:solidFill>
                <a:srgbClr val="000000"/>
              </a:solidFill>
              <a:latin typeface="Arial"/>
            </a:endParaRPr>
          </a:p>
          <a:p>
            <a:pPr indent="19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عندما تتوقف عن توجيه الاتهامات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مقدمة</a:t>
            </a:r>
            <a:br>
              <a:rPr sz="2400"/>
            </a:br>
            <a:r>
              <a:rPr b="0" lang="hi-IN" sz="3200" spc="-1" strike="noStrike">
                <a:solidFill>
                  <a:srgbClr val="cc0000"/>
                </a:solidFill>
                <a:latin typeface="Arial"/>
                <a:cs typeface="PT Bold Heading"/>
              </a:rPr>
              <a:t>المحافظة على التوازن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0" y="1268280"/>
            <a:ext cx="9144000" cy="4935600"/>
          </a:xfrm>
          <a:prstGeom prst="rect">
            <a:avLst/>
          </a:prstGeom>
          <a:noFill/>
          <a:ln w="0">
            <a:noFill/>
          </a:ln>
        </p:spPr>
        <p:txBody>
          <a:bodyPr lIns="90000" rIns="90000" tIns="46800" bIns="46800" anchor="t">
            <a:normAutofit fontScale="91000"/>
          </a:bodyPr>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نتسم بالحسم ،فإننا نوازن بين احتياجات الآخرين واحتياجاتنا الخاصة ، ونعاملهم بما نحب أن يعاملونا بما نحب أن يعاملونا به . عند الضرورة ، يمكننا أن نختار بين أن نعطي الأولوية لاحتياجات الآخرين أو نعطي اهتماماً أكبر لاحتياجاتنا الخاصة .</a:t>
            </a: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ضعيف : عندما تضع كل احتياجات الآخرين قبل احتياجاتك أنت </a:t>
            </a: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واني : عندما تضع احتياجاتك الشخصية قبل احتياجات الآخرين </a:t>
            </a: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اسم : عندما توازن بين احتياجاتك الخاصة واحتياجات الآخرين ، وتتصرف حسب ما تراه</a:t>
            </a:r>
            <a:endParaRPr b="0" lang="en-US" sz="2400" spc="-1" strike="noStrike">
              <a:solidFill>
                <a:srgbClr val="000000"/>
              </a:solidFill>
              <a:latin typeface="Arial"/>
            </a:endParaRPr>
          </a:p>
          <a:p>
            <a:pPr indent="0" algn="r" rtl="1">
              <a:lnSpc>
                <a:spcPct val="90000"/>
              </a:lnSpc>
              <a:spcBef>
                <a:spcPts val="601"/>
              </a:spcBef>
              <a:buNone/>
              <a:tabLst>
                <a:tab algn="l" pos="0"/>
                <a:tab algn="l" pos="3139920"/>
                <a:tab algn="l" pos="3225960"/>
                <a:tab algn="l" pos="34164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ar-SA" sz="2400" spc="-1" strike="noStrike">
                <a:solidFill>
                  <a:srgbClr val="000000"/>
                </a:solidFill>
                <a:latin typeface="Arial"/>
              </a:rPr>
              <a:t>         من الأولويات</a:t>
            </a:r>
            <a:endParaRPr b="0" lang="en-US" sz="2400" spc="-1" strike="noStrike">
              <a:solidFill>
                <a:srgbClr val="000000"/>
              </a:solidFill>
              <a:latin typeface="Arial"/>
            </a:endParaRPr>
          </a:p>
        </p:txBody>
      </p:sp>
      <p:sp>
        <p:nvSpPr>
          <p:cNvPr id="128" name=""/>
          <p:cNvSpPr/>
          <p:nvPr/>
        </p:nvSpPr>
        <p:spPr>
          <a:xfrm>
            <a:off x="87480" y="6280200"/>
            <a:ext cx="599760" cy="439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9" name=""/>
          <p:cNvSpPr/>
          <p:nvPr/>
        </p:nvSpPr>
        <p:spPr>
          <a:xfrm>
            <a:off x="611280" y="2421000"/>
            <a:ext cx="77058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Mudir MT"/>
              </a:rPr>
              <a:t>احتياجات الآخرين                                               احتياجاتك</a:t>
            </a:r>
            <a:endParaRPr b="0" lang="en-US" sz="2800" spc="-1" strike="noStrike">
              <a:solidFill>
                <a:srgbClr val="000000"/>
              </a:solidFill>
              <a:latin typeface="Times New Roman"/>
            </a:endParaRPr>
          </a:p>
        </p:txBody>
      </p:sp>
      <p:sp>
        <p:nvSpPr>
          <p:cNvPr id="130" name=""/>
          <p:cNvSpPr/>
          <p:nvPr/>
        </p:nvSpPr>
        <p:spPr>
          <a:xfrm>
            <a:off x="5796000" y="3284640"/>
            <a:ext cx="2448000" cy="647640"/>
          </a:xfrm>
          <a:prstGeom prst="upArrowCallout">
            <a:avLst>
              <a:gd name="adj1" fmla="val 94506"/>
              <a:gd name="adj2" fmla="val 94497"/>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غير حاسم</a:t>
            </a:r>
            <a:endParaRPr b="0" lang="en-US" sz="2400" spc="-1" strike="noStrike">
              <a:solidFill>
                <a:srgbClr val="000000"/>
              </a:solidFill>
              <a:latin typeface="Times New Roman"/>
            </a:endParaRPr>
          </a:p>
        </p:txBody>
      </p:sp>
      <p:sp>
        <p:nvSpPr>
          <p:cNvPr id="131" name=""/>
          <p:cNvSpPr/>
          <p:nvPr/>
        </p:nvSpPr>
        <p:spPr>
          <a:xfrm>
            <a:off x="3203640" y="3284640"/>
            <a:ext cx="2448000" cy="647640"/>
          </a:xfrm>
          <a:prstGeom prst="upArrowCallout">
            <a:avLst>
              <a:gd name="adj1" fmla="val 94506"/>
              <a:gd name="adj2" fmla="val 94497"/>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حاسم </a:t>
            </a:r>
            <a:endParaRPr b="0" lang="en-US" sz="1800" spc="-1" strike="noStrike">
              <a:solidFill>
                <a:srgbClr val="000000"/>
              </a:solidFill>
              <a:latin typeface="Times New Roman"/>
            </a:endParaRPr>
          </a:p>
        </p:txBody>
      </p:sp>
      <p:sp>
        <p:nvSpPr>
          <p:cNvPr id="132" name=""/>
          <p:cNvSpPr/>
          <p:nvPr/>
        </p:nvSpPr>
        <p:spPr>
          <a:xfrm>
            <a:off x="611280" y="3213000"/>
            <a:ext cx="2448000" cy="647640"/>
          </a:xfrm>
          <a:prstGeom prst="upArrowCallout">
            <a:avLst>
              <a:gd name="adj1" fmla="val 94506"/>
              <a:gd name="adj2" fmla="val 94497"/>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وان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64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u="sng">
                <a:solidFill>
                  <a:srgbClr val="008000"/>
                </a:solidFill>
                <a:uFillTx/>
                <a:latin typeface="Arial"/>
                <a:cs typeface="Simple Indust Shaded"/>
              </a:rPr>
              <a:t>أنشطة حاسم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صائح عامة</a:t>
            </a:r>
            <a:endParaRPr b="0" lang="en-US" sz="3200" spc="-1" strike="noStrike">
              <a:solidFill>
                <a:srgbClr val="000000"/>
              </a:solidFill>
              <a:latin typeface="Arial"/>
            </a:endParaRPr>
          </a:p>
        </p:txBody>
      </p:sp>
      <p:sp>
        <p:nvSpPr>
          <p:cNvPr id="349" name="PlaceHolder 2"/>
          <p:cNvSpPr>
            <a:spLocks noGrp="1"/>
          </p:cNvSpPr>
          <p:nvPr>
            <p:ph/>
          </p:nvPr>
        </p:nvSpPr>
        <p:spPr>
          <a:xfrm>
            <a:off x="68400" y="1125000"/>
            <a:ext cx="9007200" cy="5078520"/>
          </a:xfrm>
          <a:prstGeom prst="rect">
            <a:avLst/>
          </a:prstGeom>
          <a:noFill/>
          <a:ln w="0">
            <a:noFill/>
          </a:ln>
        </p:spPr>
        <p:txBody>
          <a:bodyPr lIns="90000" rIns="90000" tIns="46800" bIns="46800" anchor="t">
            <a:normAutofit fontScale="88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بل أن نبدأ في العمل على الأنشطة الحاسمة ، فيما يلي بعض النصائح التي ستساعدك في تقدمك لتصبح أكثر حسماً .</a:t>
            </a:r>
            <a:endParaRPr b="0" lang="en-US" sz="2400" spc="-1" strike="noStrike">
              <a:solidFill>
                <a:srgbClr val="000000"/>
              </a:solidFill>
              <a:latin typeface="Arial"/>
            </a:endParaRPr>
          </a:p>
          <a:p>
            <a:pPr indent="1656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وقع المفاجآت أو حتى المقاومة</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لقد استغرقت عمراً بطوله لتتصرف بالطريقة التي تتصرف بها الآن ، ولذلك لا تتوقع أن تغير بين عشية وضحاها.تذكر أيضاً أن المقربين منك لا يتوقعون من سلوكك أن تغير، وربما يكون هناك آخرون ممن لهم مصلحة كبيرة في أن تظل شخصاً غير حاسم أو عدواني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ا يعني أنه عندما تقرر أن تغير سلوكك ، فإلى جانب فرض النظام على نفسك ، عليك أيضاً أن تتوقع بعض المفاجآت ، بل وحتى مقاومة ومعارضة ، من الآخرين الذين يعرفون شخصيتك ”القديمة“ ولهم مصلحة قوية في أن تبقى كما ه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عليك بالتغيير خطوة خطو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غير الحكمة أن تضع لنفسك غايات طموحة للغاية .ابدأ بجوزة البلوط واتركها لتنمو ببطء لتصبح شجرة بلوط ضخمة . قم بعمل تغييرات صغيرة واعتمد عليها في الوصول الى التغييرات الكبير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صائح عامة</a:t>
            </a:r>
            <a:endParaRPr b="0" lang="en-US" sz="3200" spc="-1" strike="noStrike">
              <a:solidFill>
                <a:srgbClr val="000000"/>
              </a:solidFill>
              <a:latin typeface="Arial"/>
            </a:endParaRPr>
          </a:p>
        </p:txBody>
      </p:sp>
      <p:sp>
        <p:nvSpPr>
          <p:cNvPr id="351" name="PlaceHolder 2"/>
          <p:cNvSpPr>
            <a:spLocks noGrp="1"/>
          </p:cNvSpPr>
          <p:nvPr>
            <p:ph/>
          </p:nvPr>
        </p:nvSpPr>
        <p:spPr>
          <a:xfrm>
            <a:off x="230040" y="1125000"/>
            <a:ext cx="8683920" cy="5078520"/>
          </a:xfrm>
          <a:prstGeom prst="rect">
            <a:avLst/>
          </a:prstGeom>
          <a:noFill/>
          <a:ln w="0">
            <a:noFill/>
          </a:ln>
        </p:spPr>
        <p:txBody>
          <a:bodyPr lIns="90000" rIns="90000" tIns="46800" bIns="46800" anchor="t">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توقع الفشل واستفد منه</a:t>
            </a:r>
            <a:r>
              <a:rPr b="0" lang="ar-SA" sz="2400" spc="-1" strike="noStrike">
                <a:solidFill>
                  <a:srgbClr val="000000"/>
                </a:solidFill>
                <a:latin typeface="Arial"/>
              </a:rPr>
              <a:t>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فشل جزء من التغيير .فعندما تجرب شيئاً جديداً وعلى الخص سلوكاً جديداً من غير المحتمل أن تنجح في التعامل معه في المرة الأولى ، ولكن ما يحدث هو انك تفشل في التعامل معه وذلك قبل أن تنجح في ذلك . كن واقعياً ومرنا عندما تفشل ، وإذا تنجح في البداية فحاول بجهد أكبر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ذكر أن النجاح لا يأتي أبداً إلا بعد العمل والاجتهاد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اسمع ببعض الزل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ضغط على كرة مطاطية ، فأنت تصنع انبعاجاً بها ، ولكن عندما تتوقف عن الضغط ، تعود الكرة الى شكلها الأصلي . والسلوك الإنساني يشبه هذه الكرة تماماً ، فهو سيعود الى حالته الأولى القديمة والمريحة . ولذلك توقع بعض الزلل ، ولكن لا تستسلم ل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صائح عامة</a:t>
            </a:r>
            <a:endParaRPr b="0" lang="en-US" sz="3200" spc="-1" strike="noStrike">
              <a:solidFill>
                <a:srgbClr val="000000"/>
              </a:solidFill>
              <a:latin typeface="Arial"/>
            </a:endParaRPr>
          </a:p>
        </p:txBody>
      </p:sp>
      <p:sp>
        <p:nvSpPr>
          <p:cNvPr id="353" name="PlaceHolder 2"/>
          <p:cNvSpPr>
            <a:spLocks noGrp="1"/>
          </p:cNvSpPr>
          <p:nvPr>
            <p:ph/>
          </p:nvPr>
        </p:nvSpPr>
        <p:spPr>
          <a:xfrm>
            <a:off x="79200" y="1125360"/>
            <a:ext cx="8985600" cy="5732640"/>
          </a:xfrm>
          <a:prstGeom prst="rect">
            <a:avLst/>
          </a:prstGeom>
          <a:noFill/>
          <a:ln w="0">
            <a:noFill/>
          </a:ln>
        </p:spPr>
        <p:txBody>
          <a:bodyPr lIns="90000" rIns="90000" tIns="46800" bIns="46800" anchor="t">
            <a:normAutofit fontScale="89000"/>
          </a:bodyPr>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أمر يتطلب وقتاً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سلوك يتغير ببطء . كما أن النظم الغذائية والتمرينات الصارمة التي يقصد منها الفقدان السريع للوزن لا تحقق النجاح ، فكذلك التغييرات السريعة في السلوك. فكر فقط في مهارة بسيطة مثل تعلم قيادة السيارة ، بكل ما تتطلبه من ساعات من التعليمات والممارسة . ولكي تصبح حاسماً ، فهذا أمر يقتضي نفس هذا القدر من الوقت والجهد ، وربما أكثر من ذلك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ذكر أن </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أفكار</a:t>
            </a:r>
            <a:r>
              <a:rPr b="0" lang="ar-SA" sz="2400" spc="-1" strike="noStrike">
                <a:solidFill>
                  <a:srgbClr val="000000"/>
                </a:solidFill>
                <a:latin typeface="Arial"/>
              </a:rPr>
              <a:t>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فعال</a:t>
            </a:r>
            <a:r>
              <a:rPr b="0" lang="ar-SA" sz="2400" spc="-1" strike="noStrike">
                <a:solidFill>
                  <a:srgbClr val="000000"/>
                </a:solidFill>
                <a:latin typeface="Arial"/>
              </a:rPr>
              <a:t> التي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عادات </a:t>
            </a:r>
            <a:r>
              <a:rPr b="0" lang="ar-SA" sz="2400" spc="-1" strike="noStrike">
                <a:solidFill>
                  <a:srgbClr val="000000"/>
                </a:solidFill>
                <a:latin typeface="Arial"/>
              </a:rPr>
              <a:t>التي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سمات</a:t>
            </a:r>
            <a:r>
              <a:rPr b="0" lang="ar-SA" sz="2400" spc="-1" strike="noStrike">
                <a:solidFill>
                  <a:srgbClr val="000000"/>
                </a:solidFill>
                <a:latin typeface="Arial"/>
              </a:rPr>
              <a:t> التي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شخصية</a:t>
            </a:r>
            <a:r>
              <a:rPr b="0" lang="ar-SA" sz="2400" spc="-1" strike="noStrike">
                <a:solidFill>
                  <a:srgbClr val="000000"/>
                </a:solidFill>
                <a:latin typeface="Arial"/>
              </a:rPr>
              <a:t> التي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ذاتك الجديدة</a:t>
            </a:r>
            <a:r>
              <a:rPr b="0" lang="ar-SA" sz="2400" spc="-1" strike="noStrike">
                <a:solidFill>
                  <a:srgbClr val="000000"/>
                </a:solidFill>
                <a:latin typeface="Arial"/>
              </a:rPr>
              <a:t> التي تؤدي الى</a:t>
            </a:r>
            <a:endParaRPr b="0" lang="en-US" sz="2400" spc="-1" strike="noStrike">
              <a:solidFill>
                <a:srgbClr val="000000"/>
              </a:solidFill>
              <a:latin typeface="Arial"/>
            </a:endParaRPr>
          </a:p>
          <a:p>
            <a:pPr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ما أن الجسم يقاوم الإقلاع هن النيكوتين في حالة الأشخاص المدخنين ، فإن توجهك العقلي الحالي سوف يقاوم ما تقوم به من تغييرات ، ولذلك سوف يتطلب منك الأمر وقتاً لكي تصل الى حالة من الاستقرار مع شخصيتك الحاسمة الجدي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صائح عامة</a:t>
            </a:r>
            <a:endParaRPr b="0" lang="en-US" sz="3200" spc="-1" strike="noStrike">
              <a:solidFill>
                <a:srgbClr val="000000"/>
              </a:solidFill>
              <a:latin typeface="Arial"/>
            </a:endParaRPr>
          </a:p>
        </p:txBody>
      </p:sp>
      <p:sp>
        <p:nvSpPr>
          <p:cNvPr id="355" name="PlaceHolder 2"/>
          <p:cNvSpPr>
            <a:spLocks noGrp="1"/>
          </p:cNvSpPr>
          <p:nvPr>
            <p:ph/>
          </p:nvPr>
        </p:nvSpPr>
        <p:spPr>
          <a:xfrm>
            <a:off x="181080" y="674280"/>
            <a:ext cx="8781840" cy="5978520"/>
          </a:xfrm>
          <a:prstGeom prst="rect">
            <a:avLst/>
          </a:prstGeom>
          <a:noFill/>
          <a:ln w="0">
            <a:noFill/>
          </a:ln>
        </p:spPr>
        <p:txBody>
          <a:bodyPr lIns="90000" rIns="90000" tIns="46800" bIns="46800" anchor="t">
            <a:normAutofit fontScale="87000"/>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6</a:t>
            </a:r>
            <a:r>
              <a:rPr b="1" lang="ar-SA" sz="2200" spc="-1" strike="noStrike">
                <a:solidFill>
                  <a:srgbClr val="000000"/>
                </a:solidFill>
                <a:latin typeface="Arial"/>
              </a:rPr>
              <a:t>. ضع أهدافاً ذكية   - محددة                   - حدد ما تريده تماماً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يمكن قياسها            - حدد معايير النجاح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مناسبة                  - تأكد من أنها مناسبة لك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واقعية                  - يجب أن تكون معقولة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 محددة بزمن           - حدد موعد تحقيقها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أهداف هي أحلام سوف تجعلها حقيقة واقعية . هي ليست معجزات ، فأنت لن تكون أول إنسان يحاول الطيران برفرفة ذراعيه . وإذا كنت في الخامسة والخمسين من عمرك ، فمن غير المحتمل أن تكون سباحاً اوليمبياً . ولكن يمكنك بسهولة أن تكون حاسماً وذلك بأن :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عرض ما تريده   • تحصل على ما تدفع    • تقدم خطبة أو عرضاً تقديمياً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عيين حدودك      • تطلب الاحترام</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قول ”لا“          • تغير طريقة تفكيرك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معظم الأشخاص يجدون أن من المفيد تسجيل أهدافهم كتابة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تلميح : احتفظ بسجل أو دفتر يوميات تسجل فيه افكارك وغاياتك وأهدافك والأشياء التي تتعلمها . فهذا نظام جيد سيساعدك على ترتيب وتنظيم أفكارك وعلى أن تكون أكثر دقة وتركيزاً . ومن الأشياء المحفزة للغاية أيضاً أن تنظر الى الوراء وترى ما قمت بتحقيقه .</a:t>
            </a:r>
            <a:br>
              <a:rPr sz="2200"/>
            </a:br>
            <a:r>
              <a:rPr b="1" lang="ar-S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قاط أساسية للحسم</a:t>
            </a:r>
            <a:endParaRPr b="0" lang="en-US" sz="3200" spc="-1" strike="noStrike">
              <a:solidFill>
                <a:srgbClr val="000000"/>
              </a:solidFill>
              <a:latin typeface="Arial"/>
            </a:endParaRPr>
          </a:p>
        </p:txBody>
      </p:sp>
      <p:sp>
        <p:nvSpPr>
          <p:cNvPr id="357" name="PlaceHolder 2"/>
          <p:cNvSpPr>
            <a:spLocks noGrp="1"/>
          </p:cNvSpPr>
          <p:nvPr>
            <p:ph/>
          </p:nvPr>
        </p:nvSpPr>
        <p:spPr>
          <a:xfrm>
            <a:off x="137880" y="934560"/>
            <a:ext cx="8754840" cy="5923080"/>
          </a:xfrm>
          <a:prstGeom prst="rect">
            <a:avLst/>
          </a:prstGeom>
          <a:noFill/>
          <a:ln w="0">
            <a:noFill/>
          </a:ln>
        </p:spPr>
        <p:txBody>
          <a:bodyPr lIns="90000" rIns="90000" tIns="46800" bIns="46800" anchor="t">
            <a:normAutofit fontScale="88000"/>
          </a:bodyPr>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a:t>
            </a:r>
            <a:r>
              <a:rPr b="1" lang="ar-SA" sz="2200" spc="-1" strike="noStrike">
                <a:solidFill>
                  <a:srgbClr val="000000"/>
                </a:solidFill>
                <a:latin typeface="Arial"/>
              </a:rPr>
              <a:t>الوراثة ليست شيئاً عادلاً ، وسواء على المستوى الجسدي أو الفكري يمكنك فقط أن تتقبل ما حصلت عليه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2</a:t>
            </a:r>
            <a:r>
              <a:rPr b="1" lang="ar-SA" sz="2200" spc="-1" strike="noStrike">
                <a:solidFill>
                  <a:srgbClr val="000000"/>
                </a:solidFill>
                <a:latin typeface="Arial"/>
              </a:rPr>
              <a:t>. لا أحد يستطيع تحقيق النجاح لك وعليك انت أن تحققه لنفسك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3</a:t>
            </a:r>
            <a:r>
              <a:rPr b="1" lang="ar-SA" sz="2200" spc="-1" strike="noStrike">
                <a:solidFill>
                  <a:srgbClr val="000000"/>
                </a:solidFill>
                <a:latin typeface="Arial"/>
              </a:rPr>
              <a:t>. إذا لم تتخذ قرارات حياتك بنفسك ، فسوف يتخذها شخص آخر نيابة عنك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4</a:t>
            </a:r>
            <a:r>
              <a:rPr b="1" lang="ar-SA" sz="2200" spc="-1" strike="noStrike">
                <a:solidFill>
                  <a:srgbClr val="000000"/>
                </a:solidFill>
                <a:latin typeface="Arial"/>
              </a:rPr>
              <a:t>. هذه هي الحقيقة ، ليس هناك فرصة ثانية سيتاح لك فيها مثل هذا الوقت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5</a:t>
            </a:r>
            <a:r>
              <a:rPr b="1" lang="ar-SA" sz="2200" spc="-1" strike="noStrike">
                <a:solidFill>
                  <a:srgbClr val="000000"/>
                </a:solidFill>
                <a:latin typeface="Arial"/>
              </a:rPr>
              <a:t>. كلما أهملت استخدام قدراتك وطاقاتك مدة اطول فقدتها بسرعة أكبر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6</a:t>
            </a:r>
            <a:r>
              <a:rPr b="1" lang="ar-SA" sz="2200" spc="-1" strike="noStrike">
                <a:solidFill>
                  <a:srgbClr val="000000"/>
                </a:solidFill>
                <a:latin typeface="Arial"/>
              </a:rPr>
              <a:t>. الحياة خبرة تكتسب عن طريق التعلم ، ولا يمكن أن تفشل في هذه الحياة ولكن يمكنك فقط أن تختار الفشل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7</a:t>
            </a:r>
            <a:r>
              <a:rPr b="1" lang="ar-SA" sz="2200" spc="-1" strike="noStrike">
                <a:solidFill>
                  <a:srgbClr val="000000"/>
                </a:solidFill>
                <a:latin typeface="Arial"/>
              </a:rPr>
              <a:t>. أهم شيء يمكنك فعله هو ان تختار وأسوا شيء يمكنك فعله هو الا تسعى لتحقيق ما اخترته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8</a:t>
            </a:r>
            <a:r>
              <a:rPr b="1" lang="ar-SA" sz="2200" spc="-1" strike="noStrike">
                <a:solidFill>
                  <a:srgbClr val="000000"/>
                </a:solidFill>
                <a:latin typeface="Arial"/>
              </a:rPr>
              <a:t>. لا يمكن الحصول على أي شيء في هذه الحياة بلا مقابل ، فالأشياء الطيبة تستغرق وقتاً ، وتأتي خطوة خطوة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9</a:t>
            </a:r>
            <a:r>
              <a:rPr b="1" lang="ar-SA" sz="2200" spc="-1" strike="noStrike">
                <a:solidFill>
                  <a:srgbClr val="000000"/>
                </a:solidFill>
                <a:latin typeface="Arial"/>
              </a:rPr>
              <a:t>. أنت أكبر مصدر لقوتك ، وأفضل مصدر متاح لك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10</a:t>
            </a:r>
            <a:r>
              <a:rPr b="1" lang="ar-SA" sz="2200" spc="-1" strike="noStrike">
                <a:solidFill>
                  <a:srgbClr val="000000"/>
                </a:solidFill>
                <a:latin typeface="Arial"/>
              </a:rPr>
              <a:t>. تعرف كل ما تحتاج الى معرفته لتفعل ما يتعين عليك فعله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200" spc="-1" strike="noStrike">
                <a:solidFill>
                  <a:srgbClr val="008000"/>
                </a:solidFill>
                <a:latin typeface="Arial"/>
              </a:rPr>
              <a:t>كلما فعلت المزيد مما داومت على فعله ، حصلت على المزيد </a:t>
            </a:r>
            <a:endParaRPr b="0" lang="en-US" sz="2200" spc="-1" strike="noStrike">
              <a:solidFill>
                <a:srgbClr val="000000"/>
              </a:solidFill>
              <a:latin typeface="Arial"/>
            </a:endParaRPr>
          </a:p>
          <a:p>
            <a:pPr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8000"/>
                </a:solidFill>
                <a:latin typeface="Arial"/>
              </a:rPr>
              <a:t>                      مما داومت على الحصول عليه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1</a:t>
            </a:r>
            <a:endParaRPr b="0" lang="en-US" sz="3200" spc="-1" strike="noStrike">
              <a:solidFill>
                <a:srgbClr val="000000"/>
              </a:solidFill>
              <a:latin typeface="Arial"/>
            </a:endParaRPr>
          </a:p>
        </p:txBody>
      </p:sp>
      <p:sp>
        <p:nvSpPr>
          <p:cNvPr id="359" name="PlaceHolder 2"/>
          <p:cNvSpPr>
            <a:spLocks noGrp="1"/>
          </p:cNvSpPr>
          <p:nvPr>
            <p:ph/>
          </p:nvPr>
        </p:nvSpPr>
        <p:spPr>
          <a:xfrm>
            <a:off x="457200" y="1125000"/>
            <a:ext cx="8229600" cy="5078520"/>
          </a:xfrm>
          <a:prstGeom prst="rect">
            <a:avLst/>
          </a:prstGeom>
          <a:noFill/>
          <a:ln w="0">
            <a:noFill/>
          </a:ln>
        </p:spPr>
        <p:txBody>
          <a:bodyPr lIns="90000" rIns="90000" tIns="46800" bIns="46800"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سجل شخص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م بعمل سجل شخصي ودون بداخله :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اقتباسات التي تشجعك وتحفزك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قوقك الأساسية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ئمة بأهدافك وطموحاتك الشخصية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ئمة بأمنياتك وأحلامك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عبارات التأكيدية التي تستخدمها </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ئمة بإنجازاتك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الشخصية               - على مستوى الأسرة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 في العمل               - في المجتمع</a:t>
            </a:r>
            <a:endParaRPr b="0" lang="en-US" sz="2400" spc="-1" strike="noStrike">
              <a:solidFill>
                <a:srgbClr val="000000"/>
              </a:solidFill>
              <a:latin typeface="Arial"/>
            </a:endParaRPr>
          </a:p>
          <a:p>
            <a:pPr indent="180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ائمة بالأشياء التي تفضلها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قرأ هذا السجل باستمرار وقم بتحديثه بصفة منتظمة .</a:t>
            </a:r>
            <a:endParaRPr b="0" lang="en-US" sz="2400" spc="-1" strike="noStrike">
              <a:solidFill>
                <a:srgbClr val="000000"/>
              </a:solidFill>
              <a:latin typeface="Arial"/>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2</a:t>
            </a:r>
            <a:endParaRPr b="0" lang="en-US" sz="3200" spc="-1" strike="noStrike">
              <a:solidFill>
                <a:srgbClr val="000000"/>
              </a:solidFill>
              <a:latin typeface="Arial"/>
            </a:endParaRPr>
          </a:p>
        </p:txBody>
      </p:sp>
      <p:sp>
        <p:nvSpPr>
          <p:cNvPr id="361" name="PlaceHolder 2"/>
          <p:cNvSpPr>
            <a:spLocks noGrp="1"/>
          </p:cNvSpPr>
          <p:nvPr>
            <p:ph/>
          </p:nvPr>
        </p:nvSpPr>
        <p:spPr>
          <a:xfrm>
            <a:off x="457200" y="1125000"/>
            <a:ext cx="8229600" cy="5078520"/>
          </a:xfrm>
          <a:prstGeom prst="rect">
            <a:avLst/>
          </a:prstGeom>
          <a:noFill/>
          <a:ln w="0">
            <a:noFill/>
          </a:ln>
        </p:spPr>
        <p:txBody>
          <a:bodyPr lIns="90000" rIns="90000" tIns="46800" bIns="46800" anchor="t">
            <a:normAutofit fontScale="89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بطال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قرأ السر الذاتية للأشخاص الذين يثيرون إعجابك ؛ أي من تعتبرهم أبطالا وبطلات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أي طريقة تشبههم فيما يتعلق بـ :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الخلفية ؟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شخصية ؟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مواقف ؟ </a:t>
            </a:r>
            <a:endParaRPr b="0" lang="en-US" sz="2400" spc="-1" strike="noStrike">
              <a:solidFill>
                <a:srgbClr val="000000"/>
              </a:solidFill>
              <a:latin typeface="Arial"/>
            </a:endParaRPr>
          </a:p>
          <a:p>
            <a:pPr indent="16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قيم</a:t>
            </a:r>
            <a:r>
              <a:rPr b="0" lang="ar-SA" sz="2400" spc="-1" strike="noStrike">
                <a:solidFill>
                  <a:srgbClr val="000000"/>
                </a:solidFill>
                <a:latin typeface="Arial"/>
              </a:rPr>
              <a:t>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م بعمل قائمة بقيمهم كما عرفتها من خلال القراءة ، وانظر أياً منها يمكن أن تصبح قيمة لك أنت .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يف كانت عبارتهم التأكيدية في اعتقادك ؟ قم بعمل بها وانظر أيها يمكنك أن تجعلها عبارة تأكيدية لك انت . عندما يواجهك موقف صعب ، فكر كان بطلك أو بطلتك ستتعامل مع المسألة ، وتصرف على هذا الأساس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3</a:t>
            </a:r>
            <a:endParaRPr b="0" lang="en-US" sz="3200" spc="-1" strike="noStrike">
              <a:solidFill>
                <a:srgbClr val="000000"/>
              </a:solidFill>
              <a:latin typeface="Arial"/>
            </a:endParaRPr>
          </a:p>
        </p:txBody>
      </p:sp>
      <p:sp>
        <p:nvSpPr>
          <p:cNvPr id="363" name="PlaceHolder 2"/>
          <p:cNvSpPr>
            <a:spLocks noGrp="1"/>
          </p:cNvSpPr>
          <p:nvPr>
            <p:ph/>
          </p:nvPr>
        </p:nvSpPr>
        <p:spPr>
          <a:xfrm>
            <a:off x="250920" y="907920"/>
            <a:ext cx="8686800" cy="5732640"/>
          </a:xfrm>
          <a:prstGeom prst="rect">
            <a:avLst/>
          </a:prstGeom>
          <a:noFill/>
          <a:ln w="0">
            <a:noFill/>
          </a:ln>
        </p:spPr>
        <p:txBody>
          <a:bodyPr lIns="90000" rIns="90000" tIns="46800" bIns="46800"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سيناريوهات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ندما تشاهد فيلماً أو مسرحيا جيدة تذكر أن وراء كل مشهد كان هناك الكثير من البروفات والتدريبات . وفي بعض الأحيان يأخذ المشهد الذي يستغرق عرضه دقيقتين في الفيلم أياماً لكي يتم تصويره بالشكل الصحيح . طبق نفس هذا الأسلوب على نفسك في دورك الحاسم الجديد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كر ما الذي تريده في موقف محدد على وشك أن تواجهه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كتب نص ما ستقوله في هذا الموقف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حفظ هذا النص عن ظهر قلب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درب عليه شفوياً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درب عليه مع استخدام لغة الجسد المناسبة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رر أفضل وقت ومكان وشخص تستخدم معه هذا السلوك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فذ ذلك </a:t>
            </a:r>
            <a:endParaRPr b="0" lang="en-US" sz="2400" spc="-1" strike="noStrike">
              <a:solidFill>
                <a:srgbClr val="000000"/>
              </a:solidFill>
              <a:latin typeface="Arial"/>
            </a:endParaRPr>
          </a:p>
          <a:p>
            <a:pPr indent="18000" algn="r" rtl="1">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قم بمكافأة نفسك على المحاولة ،وتعلم من هذه التجربة لعمل تحسينات في المرة القاد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66ff"/>
                </a:solidFill>
                <a:latin typeface="Arial"/>
                <a:cs typeface="Mudir MT"/>
              </a:rPr>
              <a:t>أنشطة حاسمة </a:t>
            </a:r>
            <a:br>
              <a:rPr sz="2400"/>
            </a:br>
            <a:r>
              <a:rPr b="0" lang="en-US" sz="2400" spc="-1" strike="noStrike">
                <a:solidFill>
                  <a:srgbClr val="0066ff"/>
                </a:solidFill>
                <a:latin typeface="Arial"/>
                <a:ea typeface="Mudir MT"/>
              </a:rPr>
              <a:t> </a:t>
            </a:r>
            <a:r>
              <a:rPr b="0" lang="hi-IN" sz="3200" spc="-1" strike="noStrike">
                <a:solidFill>
                  <a:srgbClr val="cc0000"/>
                </a:solidFill>
                <a:latin typeface="Arial"/>
                <a:cs typeface="PT Bold Heading"/>
              </a:rPr>
              <a:t>نشاط رقم </a:t>
            </a:r>
            <a:r>
              <a:rPr b="0" lang="en-US" sz="3200" spc="-1" strike="noStrike">
                <a:solidFill>
                  <a:srgbClr val="cc0000"/>
                </a:solidFill>
                <a:latin typeface="Arial"/>
                <a:ea typeface="PT Bold Heading"/>
              </a:rPr>
              <a:t>4</a:t>
            </a:r>
            <a:endParaRPr b="0" lang="en-US" sz="3200" spc="-1" strike="noStrike">
              <a:solidFill>
                <a:srgbClr val="000000"/>
              </a:solidFill>
              <a:latin typeface="Arial"/>
            </a:endParaRPr>
          </a:p>
        </p:txBody>
      </p:sp>
      <p:sp>
        <p:nvSpPr>
          <p:cNvPr id="365" name="PlaceHolder 2"/>
          <p:cNvSpPr>
            <a:spLocks noGrp="1"/>
          </p:cNvSpPr>
          <p:nvPr>
            <p:ph/>
          </p:nvPr>
        </p:nvSpPr>
        <p:spPr>
          <a:xfrm>
            <a:off x="93600" y="969840"/>
            <a:ext cx="8956800" cy="5578560"/>
          </a:xfrm>
          <a:prstGeom prst="rect">
            <a:avLst/>
          </a:prstGeom>
          <a:noFill/>
          <a:ln w="0">
            <a:noFill/>
          </a:ln>
        </p:spPr>
        <p:txBody>
          <a:bodyPr lIns="90000" rIns="90000" tIns="46800" bIns="46800" anchor="t">
            <a:normAutofit fontScale="84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حدث الى الوسادة</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هذا يشبه رقم </a:t>
            </a:r>
            <a:r>
              <a:rPr b="0" lang="ar-SA" sz="2400" spc="-1" strike="noStrike">
                <a:solidFill>
                  <a:srgbClr val="000000"/>
                </a:solidFill>
                <a:latin typeface="Arial"/>
              </a:rPr>
              <a:t>3</a:t>
            </a:r>
            <a:r>
              <a:rPr b="0" lang="ar-SA" sz="2400" spc="-1" strike="noStrike">
                <a:solidFill>
                  <a:srgbClr val="000000"/>
                </a:solidFill>
                <a:latin typeface="Arial"/>
              </a:rPr>
              <a:t> وسوف يساعدك على التدريب .فمن المفيد لك ايضاً أن ”تنهي“ الحوارات التي كان لها مضمون عاطفي مهم بالنسبة لك .أعد خلق المشهد الأصلي في ذهنك مستخدماً الوسادة لتحل الطرف الآخر في المحادثة ، وقم باستدعاء نفس المشاعر التي شعرت بها في ذلك الوقت ، وعندما تكون مستعداً تحدث الى الوسادة . سوف يكون هذا مفيداً للتنفيس عن مشاعرك ، وبالتالي في هذه المرة القادمة يمكنك أن تتحدث الى هذا الشخص باستخدام العقل والمنطق مع تجنب الغضب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مكنك أيضاً أن تجرب تنويهات من الكلمات والأفكار والأساليب التي يمكن أن تستخدمها في الموقف القادم الذي قررت فيه أن تكون حاسماً . يمكنك أن تسأل نفسك أسئلة تبدأ بعبارة ” ماذا لو“ ، وبالتالي تكون مستعداً بشكل أفضل لأي شيء يحدث في الموقف الحقيقي .</a:t>
            </a:r>
            <a:endParaRPr b="0" lang="en-US" sz="2400" spc="-1" strike="noStrike">
              <a:solidFill>
                <a:srgbClr val="000000"/>
              </a:solidFill>
              <a:latin typeface="Arial"/>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ذكر أنه مهما كان قدر تربك ، ففي المواقف الحقيقية سيكون هناك دائماً تنويعات غير متوقعة ، ولكن جلسات تدريبك سوف تجعلك مستعداً بشكل أفضل . إن لاعبي الملاكمة يتمرنون على الوثب والجري لمسافات طويلة مرتدين أحذية ثقيلة ، ونحن لا نرى أيا من هذه الأنشطة عندما يتقاتلون في حلبة الملاكمة ، ولكن مثل هذه التمرينات تجعلهم أفضل استعداداً للنزال . كذلك فإن كتابة ما تريد قوله والتدريب عليه سوف يساعدانك على ان تكون حاسماً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13:46:36Z</dcterms:created>
  <dc:creator>adnanabm</dc:creator>
  <dc:description/>
  <dc:language>en-US</dc:language>
  <cp:lastModifiedBy>khalida</cp:lastModifiedBy>
  <dcterms:modified xsi:type="dcterms:W3CDTF">2007-05-15T07:09:03Z</dcterms:modified>
  <cp:revision>225</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