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wmf" ContentType="image/x-wmf"/>
  <Override PartName="/ppt/media/whoosh.wav" ContentType="audio/x-wav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media/image24.wmf" ContentType="image/x-wmf"/>
  <Override PartName="/ppt/media/image1.wmf" ContentType="image/x-wmf"/>
  <Override PartName="/ppt/media/CAMERA.WAV" ContentType="audio/x-wav"/>
  <Override PartName="/ppt/media/image4.wmf" ContentType="image/x-wmf"/>
  <Override PartName="/ppt/media/image10.png" ContentType="image/png"/>
  <Override PartName="/ppt/media/image47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35.png" ContentType="image/png"/>
  <Override PartName="/ppt/media/image36.png" ContentType="image/png"/>
  <Override PartName="/ppt/media/TYPE.WAV" ContentType="audio/x-wav"/>
  <Override PartName="/ppt/media/image37.png" ContentType="image/png"/>
  <Override PartName="/ppt/media/image38.png" ContentType="image/png"/>
  <Override PartName="/ppt/media/image39.png" ContentType="image/png"/>
  <Override PartName="/ppt/media/image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27.wmf" ContentType="image/x-wmf"/>
  <Override PartName="/ppt/media/image45.png" ContentType="image/png"/>
  <Override PartName="/ppt/media/image34.png" ContentType="image/png"/>
  <Override PartName="/ppt/media/image17.wmf" ContentType="image/x-wmf"/>
  <Override PartName="/ppt/media/image46.png" ContentType="image/png"/>
  <Override PartName="/ppt/media/image6.wmf" ContentType="image/x-wmf"/>
  <Override PartName="/ppt/media/image29.wmf" ContentType="image/x-wmf"/>
  <Override PartName="/ppt/media/image31.png" ContentType="image/png"/>
  <Override PartName="/ppt/media/image28.wmf" ContentType="image/x-wmf"/>
  <Override PartName="/ppt/media/image30.png" ContentType="image/png"/>
  <Override PartName="/ppt/media/image13.png" ContentType="image/png"/>
  <Override PartName="/ppt/media/image40.png" ContentType="image/png"/>
  <Override PartName="/ppt/media/STICKS1.WAV" ContentType="audio/x-wav"/>
  <Override PartName="/ppt/media/image8.wmf" ContentType="image/x-wmf"/>
  <Override PartName="/ppt/media/image7.wmf" ContentType="image/x-wmf"/>
  <Override PartName="/ppt/media/image12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CFA-1816-4664-9252-105630BE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BDB-9C99-47B9-8D4B-DE188F17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6EA-DC77-439C-B430-3D267292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63B-716B-4018-8F52-CE67F450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CC8-C0CD-4542-ACC6-29E6B122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2C6-D11B-454B-817E-34ABB1B9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31A-1403-49BC-B197-3937AD61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60F-0FDC-4B82-8D32-28DBF996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748-8406-47DC-A2C9-097369FA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A896-535A-4038-9CB4-6689C6E8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5EA-4C23-4385-A693-8444CF57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48A-7EE1-4C42-B9AD-BE84222F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CD33-2DB7-4A12-BB89-620D2492C6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9D79-880A-4059-83FB-0BC6FD566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0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image" Target="../media/image5.jpeg"/><Relationship Id="rId6" Type="http://schemas.openxmlformats.org/officeDocument/2006/relationships/hyperlink" Target="file:///tmp/home/.config/libreoffice/4/user/gallery/PROJCTOR.WAV" TargetMode="External"/><Relationship Id="rId7" Type="http://schemas.openxmlformats.org/officeDocument/2006/relationships/image" Target="../media/image5.jpeg"/><Relationship Id="rId8" Type="http://schemas.openxmlformats.org/officeDocument/2006/relationships/slide" Target=""/><Relationship Id="rId9" Type="http://schemas.openxmlformats.org/officeDocument/2006/relationships/image" Target="../media/image5.jpeg"/><Relationship Id="rId10" Type="http://schemas.openxmlformats.org/officeDocument/2006/relationships/hyperlink" Target="file:///tmp/home/.config/libreoffice/4/user/gallery/PROJCTOR.WAV" TargetMode="External"/><Relationship Id="rId11" Type="http://schemas.openxmlformats.org/officeDocument/2006/relationships/image" Target="../media/image5.jpeg"/><Relationship Id="rId12" Type="http://schemas.openxmlformats.org/officeDocument/2006/relationships/hyperlink" Target="file:///tmp/home/.config/libreoffice/4/user/gallery/PROJCTOR.WAV" TargetMode="External"/><Relationship Id="rId13" Type="http://schemas.openxmlformats.org/officeDocument/2006/relationships/image" Target="../media/image5.jpeg"/><Relationship Id="rId14" Type="http://schemas.openxmlformats.org/officeDocument/2006/relationships/audio" Target="../media/STICKS1.WAV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5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image" Target="../media/image5.jpeg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image" Target="../media/image5.jpeg"/><Relationship Id="rId6" Type="http://schemas.openxmlformats.org/officeDocument/2006/relationships/hyperlink" Target="file:///tmp/home/.config/libreoffice/4/user/gallery/PROJCTOR.WAV" TargetMode="External"/><Relationship Id="rId7" Type="http://schemas.openxmlformats.org/officeDocument/2006/relationships/image" Target="../media/image5.jpeg"/><Relationship Id="rId8" Type="http://schemas.openxmlformats.org/officeDocument/2006/relationships/hyperlink" Target="file:///tmp/home/.config/libreoffice/4/user/gallery/PROJCTOR.WAV" TargetMode="External"/><Relationship Id="rId9" Type="http://schemas.openxmlformats.org/officeDocument/2006/relationships/image" Target="../media/image5.jpeg"/><Relationship Id="rId10" Type="http://schemas.openxmlformats.org/officeDocument/2006/relationships/hyperlink" Target="file:///tmp/home/.config/libreoffice/4/user/gallery/PROJCTOR.WAV" TargetMode="External"/><Relationship Id="rId11" Type="http://schemas.openxmlformats.org/officeDocument/2006/relationships/image" Target="../media/image5.jpeg"/><Relationship Id="rId12" Type="http://schemas.openxmlformats.org/officeDocument/2006/relationships/hyperlink" Target="file:///tmp/home/.config/libreoffice/4/user/gallery/PROJCTOR.WAV" TargetMode="External"/><Relationship Id="rId13" Type="http://schemas.openxmlformats.org/officeDocument/2006/relationships/image" Target="../media/image5.jpeg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jpeg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image" Target="../media/image5.jpeg"/><Relationship Id="rId9" Type="http://schemas.openxmlformats.org/officeDocument/2006/relationships/image" Target="../media/image4.wmf"/><Relationship Id="rId10" Type="http://schemas.openxmlformats.org/officeDocument/2006/relationships/hyperlink" Target="file:///tmp/home/.config/libreoffice/4/user/gallery/PROJCTOR.WAV" TargetMode="External"/><Relationship Id="rId11" Type="http://schemas.openxmlformats.org/officeDocument/2006/relationships/image" Target="../media/image5.jpeg"/><Relationship Id="rId12" Type="http://schemas.openxmlformats.org/officeDocument/2006/relationships/hyperlink" Target="file:///tmp/home/.config/libreoffice/4/user/gallery/PROJCTOR.WAV" TargetMode="External"/><Relationship Id="rId13" Type="http://schemas.openxmlformats.org/officeDocument/2006/relationships/image" Target="../media/image5.jpeg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7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9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9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7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7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29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7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7.wmf"/><Relationship Id="rId4" Type="http://schemas.openxmlformats.org/officeDocument/2006/relationships/slide" Target="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29.wmf"/><Relationship Id="rId4" Type="http://schemas.openxmlformats.org/officeDocument/2006/relationships/slide" Target="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712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32280" y="5095800"/>
            <a:ext cx="3396960" cy="140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71880" y="824040"/>
          <a:ext cx="3382920" cy="423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824040"/>
                    <a:ext cx="3382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42880" y="1333440"/>
            <a:ext cx="78091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  <a:cs typeface="MCS Jeddah S_U normal."/>
              </a:rPr>
              <a:t>برنام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00320" y="2685960"/>
            <a:ext cx="65433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3399"/>
                </a:solidFill>
                <a:effectLst>
                  <a:outerShdw dist="91658" dir="18217660" blurRad="0" rotWithShape="0">
                    <a:srgbClr val="ff0000"/>
                  </a:outerShdw>
                </a:effectLst>
                <a:latin typeface="MCS Jeddah S_U normal."/>
              </a:rPr>
              <a:t>مهارات ومستلزمات إدارة الاجتماعات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003399"/>
              </a:solidFill>
              <a:effectLst>
                <a:outerShdw dist="91658" dir="18217660" blurRad="0" rotWithShape="0">
                  <a:srgbClr val="ff0000"/>
                </a:outerShdw>
              </a:effectLst>
              <a:latin typeface="MCS Jeddah S_U normal."/>
              <a:ea typeface="MCS Jeddah S_U normal."/>
            </a:endParaRPr>
          </a:p>
        </p:txBody>
      </p:sp>
      <p:sp>
        <p:nvSpPr>
          <p:cNvPr id="47" name=""/>
          <p:cNvSpPr/>
          <p:nvPr/>
        </p:nvSpPr>
        <p:spPr>
          <a:xfrm>
            <a:off x="579600" y="1386000"/>
            <a:ext cx="7808760" cy="36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Times New Roman"/>
                <a:cs typeface="MCS Jeddah S_U normal."/>
              </a:rPr>
              <a:t>إعداد</a:t>
            </a:r>
            <a:r>
              <a:rPr b="0" lang="ar-SA" sz="2800" spc="-1" strike="noStrike">
                <a:solidFill>
                  <a:srgbClr val="000099"/>
                </a:solidFill>
                <a:latin typeface="Times New Roman"/>
                <a:ea typeface="MCS Jeddah S_U normal."/>
              </a:rPr>
              <a:t> وتدري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Times New Roman"/>
                <a:cs typeface="MCS Jeddah S_U normal."/>
              </a:rPr>
              <a:t>د.محمد أكرم العدل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658-B7E1-4503-8E39-2421ED1CC094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D5055-FE0D-4A37-BF3C-1C7D2A54AD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2340000" y="192240"/>
            <a:ext cx="4419720" cy="6476760"/>
            <a:chOff x="2340000" y="192240"/>
            <a:chExt cx="4419720" cy="64767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2340000" y="192240"/>
              <a:ext cx="4419720" cy="64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094280" y="1110960"/>
              <a:ext cx="914400" cy="914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استراح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4D7-487C-4827-9DE8-E06486F30A9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8FF4C-E5B1-487E-B715-08A9BCF46F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81040" y="1968480"/>
            <a:ext cx="609768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CS Jeddah S_U normal."/>
              </a:rPr>
              <a:t>مستلزمات مرحلة ما قبل الاجتماع</a:t>
            </a:r>
            <a:endParaRPr b="0" lang="en-US" sz="72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CS Jeddah S_U normal."/>
              <a:ea typeface="MCS Jeddah S_U normal.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5920" y="3319560"/>
            <a:ext cx="2419200" cy="3557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85040" y="4416480"/>
            <a:ext cx="2658960" cy="2435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040" y="4308480"/>
            <a:ext cx="1854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29080" y="3462480"/>
            <a:ext cx="3886200" cy="3041640"/>
            <a:chOff x="2629080" y="3462480"/>
            <a:chExt cx="3886200" cy="304164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2629080" y="3462480"/>
              <a:ext cx="3886200" cy="30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827600" y="4372200"/>
              <a:ext cx="55260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F9D-13FA-4FE8-93C9-1044973D7F2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E9CAD-982A-48BA-B2D1-1B2E8E31F266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الدعوة للاجتما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28800" y="1447920"/>
            <a:ext cx="6068880" cy="477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95800" y="2133720"/>
            <a:ext cx="312264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تحديد الزما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تحديد المكا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تحديد الهد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تذكير بالمه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جدول الأعما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دة الاجتما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FBB-E2A6-447A-93C9-6CFFE4B73BA0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34B55-9AC4-4149-9D2D-52C54269BE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5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جدول الأعمال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76400" y="1503360"/>
            <a:ext cx="6827760" cy="5168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22200" y="1414440"/>
            <a:ext cx="618192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تدوين المعلومات الإدارية الأساسية عن الاجتما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تحديد بنود الاجتماع حسب نوعها وأهميت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تحديد المتحدث في كل بن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تحديد الزمن الأقصى لكل بند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(استخدم نظرية الذروة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توفير الأوراق أو الوثائق اللازمة لكل بن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ما يستجد من أعما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212-6BDE-42D5-8E0D-6C9D74CA0CB9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A9907-B865-459F-87F4-5FF330D730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مكان الاجتما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flipH="1" rot="10800000">
            <a:off x="531720" y="1990800"/>
            <a:ext cx="2317680" cy="3682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6760" y="2787480"/>
            <a:ext cx="238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قاعة الاجتما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35360" y="1824120"/>
            <a:ext cx="68022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أمن المكان وسلام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سعة المكان وحرية الحركة في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لإضاءة والتهوية مناسبة ويسهل التحكم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لهدوء والبعد عن الضوضاء والمقاطع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لطاولات والكراسي مناسبة ومريح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لتوصيلات الكهربائ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جود قرطاسيات وملف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جود مستلزمات مكتب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خزانة إسعافات أولية للطوار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نظافة المكان ومرافقه ورائحته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FB3-90B5-4907-9F4D-90DAA91F0ACB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0D691-78F0-435E-BE61-F4227222F9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وثائق الاجتما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0640" y="1738440"/>
            <a:ext cx="5621400" cy="4257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57600" y="2146320"/>
            <a:ext cx="3122640" cy="34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جدول الأعما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أوراق العم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تقارير الإنجا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علومات مفيد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لاحق ذات صل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حضر وقرارات سابق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952000">
            <a:off x="2503440" y="2647800"/>
            <a:ext cx="198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0A3-A282-4B4A-BA0D-610826D09F1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F885B-3CAC-4092-BD36-074486AD88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50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81040" y="1968480"/>
            <a:ext cx="609768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CS Jeddah S_U normal."/>
              </a:rPr>
              <a:t>مستلزمات مرحلة في أثناء الاجتماع</a:t>
            </a:r>
            <a:endParaRPr b="0" lang="en-US" sz="72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CS Jeddah S_U normal."/>
              <a:ea typeface="MCS Jeddah S_U normal.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5920" y="3319560"/>
            <a:ext cx="2419200" cy="3557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85040" y="4416480"/>
            <a:ext cx="2658960" cy="243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040" y="4308480"/>
            <a:ext cx="1854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629080" y="3462480"/>
            <a:ext cx="3886200" cy="3041640"/>
            <a:chOff x="2629080" y="3462480"/>
            <a:chExt cx="3886200" cy="3041640"/>
          </a:xfrm>
        </p:grpSpPr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2629080" y="3462480"/>
              <a:ext cx="3886200" cy="30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4827600" y="4372200"/>
              <a:ext cx="55260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FBC-2F4C-4DE2-A124-649A26AFFAF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23F7A-992F-4CC5-89B1-54D2C8859251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89040" y="746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تنظيم جلوس المشاركين في الاجتما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89400" y="2120760"/>
            <a:ext cx="50641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0000"/>
              </a:lnSpc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ثنان يتشاكس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غير متقابل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شخص كثير الكلا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بجانب الرئي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ذوو الآراء المتقارب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بعيد عن بعضهم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شخص قليل الكلا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مقابل الرئي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أمين الس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قرب الرئي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غلب عليه النعاس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في مكان بار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60" y="3035160"/>
            <a:ext cx="3886200" cy="3041640"/>
            <a:chOff x="11160" y="3035160"/>
            <a:chExt cx="3886200" cy="304164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11160" y="3035160"/>
              <a:ext cx="3886200" cy="30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2209680" y="3944880"/>
              <a:ext cx="55260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928-568A-44C6-910F-E038819156FC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8ABD5-7E69-4803-924B-6E39164595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5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9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قواعد الاجتما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7440" y="1698480"/>
            <a:ext cx="76312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حسن الافتتاح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(البسملة، واستذكار بعض المعاني الإيمانية .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سلوب الإدارة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(التوقيت، التصويت، المتحدثون، .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لتزام بجدول الأعما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لتزام بموضوع النقا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دم الانتقال لموضوع آخر قبل اتخاذ القرا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جنب التصويت قدر الإمك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راعاة العدل في توزيع النقا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دم دخول الرئيس في جدل مع أي عضو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بدأ الاجتماع رسمياً والأعضاء ما زالوا يتحدثو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ا تبدأ برأيك أو آراء الأعضاء المهمين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6200" y="2084400"/>
            <a:ext cx="2021040" cy="361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BDF-58AB-4AE0-84B6-4C2F422BB559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6B9D6-DD86-40CE-B5F6-F724311E04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35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إدارة الحوار والنقا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90880" y="1698480"/>
            <a:ext cx="6657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حرص على حسن الاستما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جّه الاجتماع حتى لا يصل النقاش لطريق مسدو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سمح بسيطرة أح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راقب عدم الانتبا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حرج أحداً أو تحطّ من قدر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تصدر الحديث في كل بن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بّل النق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جّع غير المشارك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وقف النقاش إذا تكر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حرص على جميع الآرا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31640" y="2217600"/>
            <a:ext cx="3049920" cy="349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2B2-B712-4A7A-A659-F47C1B4F54BC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B1304-0F64-4B48-8E1C-268130BC46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500"/>
                            </p:stCondLst>
                            <p:childTnLst>
                              <p:par>
                                <p:cTn id="5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8500"/>
                            </p:stCondLst>
                            <p:childTnLst>
                              <p:par>
                                <p:cTn id="5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5320" y="257040"/>
            <a:ext cx="7950240" cy="131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79520" y="727200"/>
            <a:ext cx="47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MCS Jeddah S_U normal."/>
              </a:rPr>
              <a:t>محتويات الدو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62040" y="1795320"/>
            <a:ext cx="6114960" cy="47498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2530440" y="1712160"/>
            <a:ext cx="4145040" cy="947880"/>
          </a:xfrm>
          <a:custGeom>
            <a:avLst/>
            <a:gdLst>
              <a:gd name="textAreaLeft" fmla="*/ 61200 w 4145040"/>
              <a:gd name="textAreaRight" fmla="*/ 4083840 w 4145040"/>
              <a:gd name="textAreaTop" fmla="*/ 61200 h 947880"/>
              <a:gd name="textAreaBottom" fmla="*/ 886680 h 947880"/>
            </a:gdLst>
            <a:ahLst/>
            <a:rect l="textAreaLeft" t="textAreaTop" r="textAreaRight" b="textAreaBottom"/>
            <a:pathLst>
              <a:path w="94428" h="21600">
                <a:moveTo>
                  <a:pt x="0" y="0"/>
                </a:moveTo>
                <a:lnTo>
                  <a:pt x="94428" y="0"/>
                </a:lnTo>
                <a:lnTo>
                  <a:pt x="94428" y="21600"/>
                </a:lnTo>
                <a:lnTo>
                  <a:pt x="0" y="21600"/>
                </a:lnTo>
                <a:close/>
              </a:path>
              <a:path fill="lightenLess" w="94428" h="21600">
                <a:moveTo>
                  <a:pt x="0" y="0"/>
                </a:moveTo>
                <a:lnTo>
                  <a:pt x="94428" y="0"/>
                </a:lnTo>
                <a:lnTo>
                  <a:pt x="93028" y="1400"/>
                </a:lnTo>
                <a:lnTo>
                  <a:pt x="1400" y="1400"/>
                </a:lnTo>
                <a:close/>
              </a:path>
              <a:path fill="darken" w="94428" h="21600">
                <a:moveTo>
                  <a:pt x="94428" y="0"/>
                </a:moveTo>
                <a:lnTo>
                  <a:pt x="94428" y="21600"/>
                </a:lnTo>
                <a:lnTo>
                  <a:pt x="93028" y="20200"/>
                </a:lnTo>
                <a:lnTo>
                  <a:pt x="93028" y="1400"/>
                </a:lnTo>
                <a:close/>
              </a:path>
              <a:path fill="darkenLess" w="94428" h="21600">
                <a:moveTo>
                  <a:pt x="94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028" y="20200"/>
                </a:lnTo>
                <a:close/>
              </a:path>
              <a:path fill="lighten" w="94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أسئلة بين يدي إدارة الاجتماع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/>
          </p:cNvPr>
          <p:cNvSpPr/>
          <p:nvPr/>
        </p:nvSpPr>
        <p:spPr>
          <a:xfrm>
            <a:off x="2541600" y="3245760"/>
            <a:ext cx="4138560" cy="947880"/>
          </a:xfrm>
          <a:custGeom>
            <a:avLst/>
            <a:gdLst>
              <a:gd name="textAreaLeft" fmla="*/ 61200 w 4138560"/>
              <a:gd name="textAreaRight" fmla="*/ 4077360 w 4138560"/>
              <a:gd name="textAreaTop" fmla="*/ 61200 h 947880"/>
              <a:gd name="textAreaBottom" fmla="*/ 886680 h 947880"/>
            </a:gdLst>
            <a:ahLst/>
            <a:rect l="textAreaLeft" t="textAreaTop" r="textAreaRight" b="textAreaBottom"/>
            <a:pathLst>
              <a:path w="94281" h="21600">
                <a:moveTo>
                  <a:pt x="0" y="0"/>
                </a:moveTo>
                <a:lnTo>
                  <a:pt x="94281" y="0"/>
                </a:lnTo>
                <a:lnTo>
                  <a:pt x="94281" y="21600"/>
                </a:lnTo>
                <a:lnTo>
                  <a:pt x="0" y="21600"/>
                </a:lnTo>
                <a:close/>
              </a:path>
              <a:path fill="lightenLess" w="94281" h="21600">
                <a:moveTo>
                  <a:pt x="0" y="0"/>
                </a:moveTo>
                <a:lnTo>
                  <a:pt x="94281" y="0"/>
                </a:lnTo>
                <a:lnTo>
                  <a:pt x="92881" y="1400"/>
                </a:lnTo>
                <a:lnTo>
                  <a:pt x="1400" y="1400"/>
                </a:lnTo>
                <a:close/>
              </a:path>
              <a:path fill="darken" w="94281" h="21600">
                <a:moveTo>
                  <a:pt x="94281" y="0"/>
                </a:moveTo>
                <a:lnTo>
                  <a:pt x="94281" y="21600"/>
                </a:lnTo>
                <a:lnTo>
                  <a:pt x="92881" y="20200"/>
                </a:lnTo>
                <a:lnTo>
                  <a:pt x="92881" y="1400"/>
                </a:lnTo>
                <a:close/>
              </a:path>
              <a:path fill="darkenLess" w="94281" h="21600">
                <a:moveTo>
                  <a:pt x="94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881" y="20200"/>
                </a:lnTo>
                <a:close/>
              </a:path>
              <a:path fill="lighten" w="94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مستلزمات مرحلة أثناء الاجتما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6"/>
          </p:cNvPr>
          <p:cNvSpPr/>
          <p:nvPr/>
        </p:nvSpPr>
        <p:spPr>
          <a:xfrm>
            <a:off x="2567160" y="4020480"/>
            <a:ext cx="4141440" cy="947880"/>
          </a:xfrm>
          <a:custGeom>
            <a:avLst/>
            <a:gdLst>
              <a:gd name="textAreaLeft" fmla="*/ 61200 w 4141440"/>
              <a:gd name="textAreaRight" fmla="*/ 4080240 w 4141440"/>
              <a:gd name="textAreaTop" fmla="*/ 61200 h 947880"/>
              <a:gd name="textAreaBottom" fmla="*/ 886680 h 947880"/>
            </a:gdLst>
            <a:ahLst/>
            <a:rect l="textAreaLeft" t="textAreaTop" r="textAreaRight" b="textAreaBottom"/>
            <a:pathLst>
              <a:path w="94346" h="21600">
                <a:moveTo>
                  <a:pt x="0" y="0"/>
                </a:moveTo>
                <a:lnTo>
                  <a:pt x="94346" y="0"/>
                </a:lnTo>
                <a:lnTo>
                  <a:pt x="94346" y="21600"/>
                </a:lnTo>
                <a:lnTo>
                  <a:pt x="0" y="21600"/>
                </a:lnTo>
                <a:close/>
              </a:path>
              <a:path fill="lightenLess" w="94346" h="21600">
                <a:moveTo>
                  <a:pt x="0" y="0"/>
                </a:moveTo>
                <a:lnTo>
                  <a:pt x="94346" y="0"/>
                </a:lnTo>
                <a:lnTo>
                  <a:pt x="92946" y="1400"/>
                </a:lnTo>
                <a:lnTo>
                  <a:pt x="1400" y="1400"/>
                </a:lnTo>
                <a:close/>
              </a:path>
              <a:path fill="darken" w="94346" h="21600">
                <a:moveTo>
                  <a:pt x="94346" y="0"/>
                </a:moveTo>
                <a:lnTo>
                  <a:pt x="94346" y="21600"/>
                </a:lnTo>
                <a:lnTo>
                  <a:pt x="92946" y="20200"/>
                </a:lnTo>
                <a:lnTo>
                  <a:pt x="92946" y="1400"/>
                </a:lnTo>
                <a:close/>
              </a:path>
              <a:path fill="darkenLess" w="94346" h="21600">
                <a:moveTo>
                  <a:pt x="9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946" y="20200"/>
                </a:lnTo>
                <a:close/>
              </a:path>
              <a:path fill="lighten" w="9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مستلزمات مرحلة ما بعد الاجتما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8" action="ppaction://hlinksldjump"/>
          </p:cNvPr>
          <p:cNvSpPr/>
          <p:nvPr/>
        </p:nvSpPr>
        <p:spPr>
          <a:xfrm>
            <a:off x="2595600" y="4772880"/>
            <a:ext cx="4141800" cy="947880"/>
          </a:xfrm>
          <a:custGeom>
            <a:avLst/>
            <a:gdLst>
              <a:gd name="textAreaLeft" fmla="*/ 61200 w 4141800"/>
              <a:gd name="textAreaRight" fmla="*/ 4080600 w 4141800"/>
              <a:gd name="textAreaTop" fmla="*/ 61200 h 947880"/>
              <a:gd name="textAreaBottom" fmla="*/ 886680 h 947880"/>
            </a:gdLst>
            <a:ahLst/>
            <a:rect l="textAreaLeft" t="textAreaTop" r="textAreaRight" b="textAreaBottom"/>
            <a:pathLst>
              <a:path w="94354" h="21600">
                <a:moveTo>
                  <a:pt x="0" y="0"/>
                </a:moveTo>
                <a:lnTo>
                  <a:pt x="94354" y="0"/>
                </a:lnTo>
                <a:lnTo>
                  <a:pt x="94354" y="21600"/>
                </a:lnTo>
                <a:lnTo>
                  <a:pt x="0" y="21600"/>
                </a:lnTo>
                <a:close/>
              </a:path>
              <a:path fill="lightenLess" w="94354" h="21600">
                <a:moveTo>
                  <a:pt x="0" y="0"/>
                </a:moveTo>
                <a:lnTo>
                  <a:pt x="94354" y="0"/>
                </a:lnTo>
                <a:lnTo>
                  <a:pt x="92955" y="1400"/>
                </a:lnTo>
                <a:lnTo>
                  <a:pt x="1400" y="1400"/>
                </a:lnTo>
                <a:close/>
              </a:path>
              <a:path fill="darken" w="94354" h="21600">
                <a:moveTo>
                  <a:pt x="94354" y="0"/>
                </a:moveTo>
                <a:lnTo>
                  <a:pt x="94354" y="21600"/>
                </a:lnTo>
                <a:lnTo>
                  <a:pt x="92955" y="20200"/>
                </a:lnTo>
                <a:lnTo>
                  <a:pt x="92955" y="1400"/>
                </a:lnTo>
                <a:close/>
              </a:path>
              <a:path fill="darkenLess" w="94354" h="21600">
                <a:moveTo>
                  <a:pt x="94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955" y="20200"/>
                </a:lnTo>
                <a:close/>
              </a:path>
              <a:path fill="lighten" w="94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مهارات أساسية لإدارة الاجتماع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/>
          </p:cNvPr>
          <p:cNvSpPr/>
          <p:nvPr/>
        </p:nvSpPr>
        <p:spPr>
          <a:xfrm>
            <a:off x="2584440" y="5506200"/>
            <a:ext cx="4138560" cy="947880"/>
          </a:xfrm>
          <a:custGeom>
            <a:avLst/>
            <a:gdLst>
              <a:gd name="textAreaLeft" fmla="*/ 61200 w 4138560"/>
              <a:gd name="textAreaRight" fmla="*/ 4077360 w 4138560"/>
              <a:gd name="textAreaTop" fmla="*/ 61200 h 947880"/>
              <a:gd name="textAreaBottom" fmla="*/ 886680 h 947880"/>
            </a:gdLst>
            <a:ahLst/>
            <a:rect l="textAreaLeft" t="textAreaTop" r="textAreaRight" b="textAreaBottom"/>
            <a:pathLst>
              <a:path w="94281" h="21600">
                <a:moveTo>
                  <a:pt x="0" y="0"/>
                </a:moveTo>
                <a:lnTo>
                  <a:pt x="94281" y="0"/>
                </a:lnTo>
                <a:lnTo>
                  <a:pt x="94281" y="21600"/>
                </a:lnTo>
                <a:lnTo>
                  <a:pt x="0" y="21600"/>
                </a:lnTo>
                <a:close/>
              </a:path>
              <a:path fill="lightenLess" w="94281" h="21600">
                <a:moveTo>
                  <a:pt x="0" y="0"/>
                </a:moveTo>
                <a:lnTo>
                  <a:pt x="94281" y="0"/>
                </a:lnTo>
                <a:lnTo>
                  <a:pt x="92881" y="1400"/>
                </a:lnTo>
                <a:lnTo>
                  <a:pt x="1400" y="1400"/>
                </a:lnTo>
                <a:close/>
              </a:path>
              <a:path fill="darken" w="94281" h="21600">
                <a:moveTo>
                  <a:pt x="94281" y="0"/>
                </a:moveTo>
                <a:lnTo>
                  <a:pt x="94281" y="21600"/>
                </a:lnTo>
                <a:lnTo>
                  <a:pt x="92881" y="20200"/>
                </a:lnTo>
                <a:lnTo>
                  <a:pt x="92881" y="1400"/>
                </a:lnTo>
                <a:close/>
              </a:path>
              <a:path fill="darkenLess" w="94281" h="21600">
                <a:moveTo>
                  <a:pt x="94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881" y="20200"/>
                </a:lnTo>
                <a:close/>
              </a:path>
              <a:path fill="lighten" w="94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نماذج لرفع كفاءة الاجتماع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/>
          </p:cNvPr>
          <p:cNvSpPr/>
          <p:nvPr/>
        </p:nvSpPr>
        <p:spPr>
          <a:xfrm>
            <a:off x="2560680" y="2485440"/>
            <a:ext cx="4138560" cy="947880"/>
          </a:xfrm>
          <a:custGeom>
            <a:avLst/>
            <a:gdLst>
              <a:gd name="textAreaLeft" fmla="*/ 61200 w 4138560"/>
              <a:gd name="textAreaRight" fmla="*/ 4077360 w 4138560"/>
              <a:gd name="textAreaTop" fmla="*/ 61200 h 947880"/>
              <a:gd name="textAreaBottom" fmla="*/ 886680 h 947880"/>
            </a:gdLst>
            <a:ahLst/>
            <a:rect l="textAreaLeft" t="textAreaTop" r="textAreaRight" b="textAreaBottom"/>
            <a:pathLst>
              <a:path w="94281" h="21600">
                <a:moveTo>
                  <a:pt x="0" y="0"/>
                </a:moveTo>
                <a:lnTo>
                  <a:pt x="94281" y="0"/>
                </a:lnTo>
                <a:lnTo>
                  <a:pt x="94281" y="21600"/>
                </a:lnTo>
                <a:lnTo>
                  <a:pt x="0" y="21600"/>
                </a:lnTo>
                <a:close/>
              </a:path>
              <a:path fill="lightenLess" w="94281" h="21600">
                <a:moveTo>
                  <a:pt x="0" y="0"/>
                </a:moveTo>
                <a:lnTo>
                  <a:pt x="94281" y="0"/>
                </a:lnTo>
                <a:lnTo>
                  <a:pt x="92881" y="1400"/>
                </a:lnTo>
                <a:lnTo>
                  <a:pt x="1400" y="1400"/>
                </a:lnTo>
                <a:close/>
              </a:path>
              <a:path fill="darken" w="94281" h="21600">
                <a:moveTo>
                  <a:pt x="94281" y="0"/>
                </a:moveTo>
                <a:lnTo>
                  <a:pt x="94281" y="21600"/>
                </a:lnTo>
                <a:lnTo>
                  <a:pt x="92881" y="20200"/>
                </a:lnTo>
                <a:lnTo>
                  <a:pt x="92881" y="1400"/>
                </a:lnTo>
                <a:close/>
              </a:path>
              <a:path fill="darkenLess" w="94281" h="21600">
                <a:moveTo>
                  <a:pt x="94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881" y="20200"/>
                </a:lnTo>
                <a:close/>
              </a:path>
              <a:path fill="lighten" w="94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مستلزمات مرحلة ما قبل الاجتما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D25-3651-43C2-9957-D17A653BA83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09977-12C1-4B9E-B9CB-A10C213CE1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TICK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معالجة الاختلافات في وجهات النظ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5560" y="1698480"/>
            <a:ext cx="7823160" cy="66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لخّص الاقتراحات الرئيسة وألغ ِغير المهم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حدد نقاط الاتفاق وأبرزها وافرز نقاط الاختلاف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إفحص المعلومات التي أدت للاقتراحات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قارن بين الاقتراحات من حيث إيجابياتها وسلبياتها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إدمج الأفكار وشكّل منها اقتراحاً يتناسب مع الجميع إن إمكن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جزّىء الاقتراحات وحاول تقليل أجزاء الخلاف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أعط فترة راحة للمداولات الجانبية إن استمر الخلاف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أجّل الموضوع الى وقت آخر قريب في حال استمرار التباين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611360"/>
            <a:ext cx="2967120" cy="4203720"/>
            <a:chOff x="0" y="1611360"/>
            <a:chExt cx="2967120" cy="42037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0" y="1611360"/>
              <a:ext cx="2967120" cy="42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428480" y="217332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لليمي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634800">
              <a:off x="794160" y="186228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لليسا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335400">
              <a:off x="1249560" y="318564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للأسف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740400">
              <a:off x="356760" y="254772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للأعل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26720" y="347832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ل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1121200">
              <a:off x="485640" y="370800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أدر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7D7-3343-4896-B74B-C5A309E85232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A7871-77E2-40E3-A011-A6496FF478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500"/>
                            </p:stCondLst>
                            <p:childTnLst>
                              <p:par>
                                <p:cTn id="6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000"/>
                            </p:stCondLst>
                            <p:childTnLst>
                              <p:par>
                                <p:cTn id="64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850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تدوين محضر الاجتما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5560" y="1698480"/>
            <a:ext cx="7823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دوّن المعلومات الإدارية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(الجهة، الرقم، التاريخ، المكان، الحضور،..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نص القرارات في كل بند من بنود الاجتما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الحيثيات الرئيسة لكل بند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الاشخاص المكلفين بكل قرار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الموعد النهائي لتنفيذ القرارات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موعد ومكان الاجتماع القاد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وقيع الرئيس وأمين السر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ts val="4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2324160"/>
            <a:ext cx="3076560" cy="31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1EE-A44C-4AE4-829F-D0362A9121F6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9F26C-40BD-43AB-AF61-C766E4E66D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9500"/>
                            </p:stCondLst>
                            <p:childTnLst>
                              <p:par>
                                <p:cTn id="7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إنهاء الاجتما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97240" y="1698480"/>
            <a:ext cx="635148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1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أكد من دقة المحضر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1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أكد من جودة القرارات ومدى مطابقتها للأهداف.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1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لخّص ما حققه الاجتما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1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قّدم الشكر للحضور على تفاعلهم.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1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حدد موعد ومكان وهدف الاجتماع القادم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1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حدد موعد توزيع المحضر وملحقاته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1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أكد من معرفة كل شخص ما كُلف به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1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أكد من عدم ترك أوراق خلفك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1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أصلح ما قد افسده الاجتماع من علاقات وغيرها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8520" y="2085840"/>
            <a:ext cx="2367000" cy="36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466-F18E-4BDE-A88E-A84ADC6E61CE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C89B5-44C6-49BD-98CF-0F77A94B3C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7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500"/>
                            </p:stCondLst>
                            <p:childTnLst>
                              <p:par>
                                <p:cTn id="73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85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4760" y="402588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حاسبوا أنفسكم قبل أن تحاسبو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زنوا أعمالكم قبل أن توزن عليك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0" y="190440"/>
            <a:ext cx="4419720" cy="6477120"/>
            <a:chOff x="4572000" y="190440"/>
            <a:chExt cx="4419720" cy="64771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4572000" y="190440"/>
              <a:ext cx="441972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326280" y="1109520"/>
              <a:ext cx="914400" cy="914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استراح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59A-20F3-413B-87D3-AB01CA6F80CC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5DB2F-5BAC-4FF5-9D0C-FF84A4EA96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481040" y="1968480"/>
            <a:ext cx="609768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CS Jeddah S_U normal."/>
              </a:rPr>
              <a:t>مستلزمات مرحلة ما بعد الاجتماع</a:t>
            </a:r>
            <a:endParaRPr b="0" lang="en-US" sz="72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CS Jeddah S_U normal."/>
              <a:ea typeface="MCS Jeddah S_U normal.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5920" y="3319560"/>
            <a:ext cx="2419200" cy="3557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485040" y="4416480"/>
            <a:ext cx="2658960" cy="2435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6040" y="4308480"/>
            <a:ext cx="1854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629080" y="3462480"/>
            <a:ext cx="3886200" cy="3041640"/>
            <a:chOff x="2629080" y="3462480"/>
            <a:chExt cx="3886200" cy="3041640"/>
          </a:xfrm>
        </p:grpSpPr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2629080" y="3462480"/>
              <a:ext cx="3886200" cy="30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4827600" y="4372200"/>
              <a:ext cx="55260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FBA-C633-443D-84A1-F6EFB66900D6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10CAC-762F-4FD6-9997-5B0F6336F40F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CS Jeddah S_U normal."/>
              </a:rPr>
              <a:t>مستلزمات ما بعد الاجتما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1792440" y="1712160"/>
            <a:ext cx="5616360" cy="947880"/>
          </a:xfrm>
          <a:custGeom>
            <a:avLst/>
            <a:gdLst>
              <a:gd name="textAreaLeft" fmla="*/ 61200 w 5616360"/>
              <a:gd name="textAreaRight" fmla="*/ 5555160 w 5616360"/>
              <a:gd name="textAreaTop" fmla="*/ 61200 h 947880"/>
              <a:gd name="textAreaBottom" fmla="*/ 886680 h 947880"/>
            </a:gdLst>
            <a:ahLst/>
            <a:rect l="textAreaLeft" t="textAreaTop" r="textAreaRight" b="textAreaBottom"/>
            <a:pathLst>
              <a:path w="127944" h="21600">
                <a:moveTo>
                  <a:pt x="0" y="0"/>
                </a:moveTo>
                <a:lnTo>
                  <a:pt x="127944" y="0"/>
                </a:lnTo>
                <a:lnTo>
                  <a:pt x="127944" y="21600"/>
                </a:lnTo>
                <a:lnTo>
                  <a:pt x="0" y="21600"/>
                </a:lnTo>
                <a:close/>
              </a:path>
              <a:path fill="lightenLess" w="127944" h="21600">
                <a:moveTo>
                  <a:pt x="0" y="0"/>
                </a:moveTo>
                <a:lnTo>
                  <a:pt x="127944" y="0"/>
                </a:lnTo>
                <a:lnTo>
                  <a:pt x="126544" y="1400"/>
                </a:lnTo>
                <a:lnTo>
                  <a:pt x="1400" y="1400"/>
                </a:lnTo>
                <a:close/>
              </a:path>
              <a:path fill="darken" w="127944" h="21600">
                <a:moveTo>
                  <a:pt x="127944" y="0"/>
                </a:moveTo>
                <a:lnTo>
                  <a:pt x="127944" y="21600"/>
                </a:lnTo>
                <a:lnTo>
                  <a:pt x="126544" y="20200"/>
                </a:lnTo>
                <a:lnTo>
                  <a:pt x="126544" y="1400"/>
                </a:lnTo>
                <a:close/>
              </a:path>
              <a:path fill="darkenLess" w="127944" h="21600">
                <a:moveTo>
                  <a:pt x="127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544" y="20200"/>
                </a:lnTo>
                <a:close/>
              </a:path>
              <a:path fill="lighten" w="127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صياغة المحضر وتوصيله. (نموذج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/>
          </p:cNvPr>
          <p:cNvSpPr/>
          <p:nvPr/>
        </p:nvSpPr>
        <p:spPr>
          <a:xfrm>
            <a:off x="1851120" y="3456000"/>
            <a:ext cx="5562360" cy="528120"/>
          </a:xfrm>
          <a:custGeom>
            <a:avLst/>
            <a:gdLst>
              <a:gd name="textAreaLeft" fmla="*/ 34200 w 5562360"/>
              <a:gd name="textAreaRight" fmla="*/ 5528160 w 55623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7359" h="21600">
                <a:moveTo>
                  <a:pt x="0" y="0"/>
                </a:moveTo>
                <a:lnTo>
                  <a:pt x="227359" y="0"/>
                </a:lnTo>
                <a:lnTo>
                  <a:pt x="227359" y="21600"/>
                </a:lnTo>
                <a:lnTo>
                  <a:pt x="0" y="21600"/>
                </a:lnTo>
                <a:close/>
              </a:path>
              <a:path fill="lightenLess" w="227359" h="21600">
                <a:moveTo>
                  <a:pt x="0" y="0"/>
                </a:moveTo>
                <a:lnTo>
                  <a:pt x="227359" y="0"/>
                </a:lnTo>
                <a:lnTo>
                  <a:pt x="225959" y="1400"/>
                </a:lnTo>
                <a:lnTo>
                  <a:pt x="1400" y="1400"/>
                </a:lnTo>
                <a:close/>
              </a:path>
              <a:path fill="darken" w="227359" h="21600">
                <a:moveTo>
                  <a:pt x="227359" y="0"/>
                </a:moveTo>
                <a:lnTo>
                  <a:pt x="227359" y="21600"/>
                </a:lnTo>
                <a:lnTo>
                  <a:pt x="225959" y="20200"/>
                </a:lnTo>
                <a:lnTo>
                  <a:pt x="225959" y="1400"/>
                </a:lnTo>
                <a:close/>
              </a:path>
              <a:path fill="darkenLess" w="227359" h="21600">
                <a:moveTo>
                  <a:pt x="227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59" y="20200"/>
                </a:lnTo>
                <a:close/>
              </a:path>
              <a:path fill="lighten" w="227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أرشفة الوثائق بشكل آمن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/>
          </p:cNvPr>
          <p:cNvSpPr/>
          <p:nvPr/>
        </p:nvSpPr>
        <p:spPr>
          <a:xfrm>
            <a:off x="1863720" y="4020480"/>
            <a:ext cx="5578560" cy="947880"/>
          </a:xfrm>
          <a:custGeom>
            <a:avLst/>
            <a:gdLst>
              <a:gd name="textAreaLeft" fmla="*/ 61200 w 5578560"/>
              <a:gd name="textAreaRight" fmla="*/ 5517360 w 5578560"/>
              <a:gd name="textAreaTop" fmla="*/ 61200 h 947880"/>
              <a:gd name="textAreaBottom" fmla="*/ 886680 h 947880"/>
            </a:gdLst>
            <a:ahLst/>
            <a:rect l="textAreaLeft" t="textAreaTop" r="textAreaRight" b="textAreaBottom"/>
            <a:pathLst>
              <a:path w="127082" h="21600">
                <a:moveTo>
                  <a:pt x="0" y="0"/>
                </a:moveTo>
                <a:lnTo>
                  <a:pt x="127082" y="0"/>
                </a:lnTo>
                <a:lnTo>
                  <a:pt x="127082" y="21600"/>
                </a:lnTo>
                <a:lnTo>
                  <a:pt x="0" y="21600"/>
                </a:lnTo>
                <a:close/>
              </a:path>
              <a:path fill="lightenLess" w="127082" h="21600">
                <a:moveTo>
                  <a:pt x="0" y="0"/>
                </a:moveTo>
                <a:lnTo>
                  <a:pt x="127082" y="0"/>
                </a:lnTo>
                <a:lnTo>
                  <a:pt x="125683" y="1400"/>
                </a:lnTo>
                <a:lnTo>
                  <a:pt x="1400" y="1400"/>
                </a:lnTo>
                <a:close/>
              </a:path>
              <a:path fill="darken" w="127082" h="21600">
                <a:moveTo>
                  <a:pt x="127082" y="0"/>
                </a:moveTo>
                <a:lnTo>
                  <a:pt x="127082" y="21600"/>
                </a:lnTo>
                <a:lnTo>
                  <a:pt x="125683" y="20200"/>
                </a:lnTo>
                <a:lnTo>
                  <a:pt x="125683" y="1400"/>
                </a:lnTo>
                <a:close/>
              </a:path>
              <a:path fill="darkenLess" w="127082" h="21600">
                <a:moveTo>
                  <a:pt x="127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683" y="20200"/>
                </a:lnTo>
                <a:close/>
              </a:path>
              <a:path fill="lighten" w="127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كتابة التقارير وتحلي النتائج. (نموذج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8"/>
          </p:cNvPr>
          <p:cNvSpPr/>
          <p:nvPr/>
        </p:nvSpPr>
        <p:spPr>
          <a:xfrm>
            <a:off x="1881360" y="4983120"/>
            <a:ext cx="5589360" cy="528120"/>
          </a:xfrm>
          <a:custGeom>
            <a:avLst/>
            <a:gdLst>
              <a:gd name="textAreaLeft" fmla="*/ 34200 w 5589360"/>
              <a:gd name="textAreaRight" fmla="*/ 5555160 w 55893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8463" h="21600">
                <a:moveTo>
                  <a:pt x="0" y="0"/>
                </a:moveTo>
                <a:lnTo>
                  <a:pt x="228463" y="0"/>
                </a:lnTo>
                <a:lnTo>
                  <a:pt x="228463" y="21600"/>
                </a:lnTo>
                <a:lnTo>
                  <a:pt x="0" y="21600"/>
                </a:lnTo>
                <a:close/>
              </a:path>
              <a:path fill="lightenLess" w="228463" h="21600">
                <a:moveTo>
                  <a:pt x="0" y="0"/>
                </a:moveTo>
                <a:lnTo>
                  <a:pt x="228463" y="0"/>
                </a:lnTo>
                <a:lnTo>
                  <a:pt x="227063" y="1400"/>
                </a:lnTo>
                <a:lnTo>
                  <a:pt x="1400" y="1400"/>
                </a:lnTo>
                <a:close/>
              </a:path>
              <a:path fill="darken" w="228463" h="21600">
                <a:moveTo>
                  <a:pt x="228463" y="0"/>
                </a:moveTo>
                <a:lnTo>
                  <a:pt x="228463" y="21600"/>
                </a:lnTo>
                <a:lnTo>
                  <a:pt x="227063" y="20200"/>
                </a:lnTo>
                <a:lnTo>
                  <a:pt x="227063" y="1400"/>
                </a:lnTo>
                <a:close/>
              </a:path>
              <a:path fill="darkenLess" w="228463" h="21600">
                <a:moveTo>
                  <a:pt x="228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63" y="20200"/>
                </a:lnTo>
                <a:close/>
              </a:path>
              <a:path fill="lighten" w="228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أمن تداول الوثائق والمعلوم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0"/>
          </p:cNvPr>
          <p:cNvSpPr/>
          <p:nvPr/>
        </p:nvSpPr>
        <p:spPr>
          <a:xfrm>
            <a:off x="1905120" y="5540760"/>
            <a:ext cx="5575320" cy="878400"/>
          </a:xfrm>
          <a:custGeom>
            <a:avLst/>
            <a:gdLst>
              <a:gd name="textAreaLeft" fmla="*/ 56880 w 5575320"/>
              <a:gd name="textAreaRight" fmla="*/ 5518440 w 5575320"/>
              <a:gd name="textAreaTop" fmla="*/ 56880 h 878400"/>
              <a:gd name="textAreaBottom" fmla="*/ 821520 h 878400"/>
            </a:gdLst>
            <a:ahLst/>
            <a:rect l="textAreaLeft" t="textAreaTop" r="textAreaRight" b="textAreaBottom"/>
            <a:pathLst>
              <a:path w="137051" h="21600">
                <a:moveTo>
                  <a:pt x="0" y="0"/>
                </a:moveTo>
                <a:lnTo>
                  <a:pt x="137051" y="0"/>
                </a:lnTo>
                <a:lnTo>
                  <a:pt x="137051" y="21600"/>
                </a:lnTo>
                <a:lnTo>
                  <a:pt x="0" y="21600"/>
                </a:lnTo>
                <a:close/>
              </a:path>
              <a:path fill="lightenLess" w="137051" h="21600">
                <a:moveTo>
                  <a:pt x="0" y="0"/>
                </a:moveTo>
                <a:lnTo>
                  <a:pt x="137051" y="0"/>
                </a:lnTo>
                <a:lnTo>
                  <a:pt x="135651" y="1400"/>
                </a:lnTo>
                <a:lnTo>
                  <a:pt x="1400" y="1400"/>
                </a:lnTo>
                <a:close/>
              </a:path>
              <a:path fill="darken" w="137051" h="21600">
                <a:moveTo>
                  <a:pt x="137051" y="0"/>
                </a:moveTo>
                <a:lnTo>
                  <a:pt x="137051" y="21600"/>
                </a:lnTo>
                <a:lnTo>
                  <a:pt x="135651" y="20200"/>
                </a:lnTo>
                <a:lnTo>
                  <a:pt x="135651" y="1400"/>
                </a:lnTo>
                <a:close/>
              </a:path>
              <a:path fill="darkenLess" w="137051" h="21600">
                <a:moveTo>
                  <a:pt x="137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651" y="20200"/>
                </a:lnTo>
                <a:close/>
              </a:path>
              <a:path fill="lighten" w="137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النمذجة وتوحيد استخدامها.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</a:rPr>
              <a:t>(أنظر النماذج المرفق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12"/>
          </p:cNvPr>
          <p:cNvSpPr/>
          <p:nvPr/>
        </p:nvSpPr>
        <p:spPr>
          <a:xfrm>
            <a:off x="1809720" y="2695680"/>
            <a:ext cx="5622840" cy="528120"/>
          </a:xfrm>
          <a:custGeom>
            <a:avLst/>
            <a:gdLst>
              <a:gd name="textAreaLeft" fmla="*/ 34200 w 5622840"/>
              <a:gd name="textAreaRight" fmla="*/ 5588640 w 562284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9831" h="21600">
                <a:moveTo>
                  <a:pt x="0" y="0"/>
                </a:moveTo>
                <a:lnTo>
                  <a:pt x="229831" y="0"/>
                </a:lnTo>
                <a:lnTo>
                  <a:pt x="229831" y="21600"/>
                </a:lnTo>
                <a:lnTo>
                  <a:pt x="0" y="21600"/>
                </a:lnTo>
                <a:close/>
              </a:path>
              <a:path fill="lightenLess" w="229831" h="21600">
                <a:moveTo>
                  <a:pt x="0" y="0"/>
                </a:moveTo>
                <a:lnTo>
                  <a:pt x="229831" y="0"/>
                </a:lnTo>
                <a:lnTo>
                  <a:pt x="228431" y="1400"/>
                </a:lnTo>
                <a:lnTo>
                  <a:pt x="1400" y="1400"/>
                </a:lnTo>
                <a:close/>
              </a:path>
              <a:path fill="darken" w="229831" h="21600">
                <a:moveTo>
                  <a:pt x="229831" y="0"/>
                </a:moveTo>
                <a:lnTo>
                  <a:pt x="229831" y="21600"/>
                </a:lnTo>
                <a:lnTo>
                  <a:pt x="228431" y="20200"/>
                </a:lnTo>
                <a:lnTo>
                  <a:pt x="228431" y="1400"/>
                </a:lnTo>
                <a:close/>
              </a:path>
              <a:path fill="darkenLess" w="229831" h="21600">
                <a:moveTo>
                  <a:pt x="2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431" y="20200"/>
                </a:lnTo>
                <a:close/>
              </a:path>
              <a:path fill="lighten" w="2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متابعة تنفيذ القرارات وآلية ذل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3A0-7D5F-44A3-8D6A-8F9008BF867C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D8F77-FE2F-49AB-AB96-311480803A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500"/>
                            </p:stCondLst>
                            <p:childTnLst>
                              <p:par>
                                <p:cTn id="8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0"/>
                            </p:stCondLst>
                            <p:childTnLst>
                              <p:par>
                                <p:cTn id="8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481040" y="1968480"/>
            <a:ext cx="6097680" cy="16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CS Jeddah S_U normal."/>
              </a:rPr>
              <a:t>مهارات أساسية في إدارة الاجتماعات</a:t>
            </a:r>
            <a:endParaRPr b="0" lang="en-US" sz="72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CS Jeddah S_U normal."/>
              <a:ea typeface="MCS Jeddah S_U normal.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5920" y="3319560"/>
            <a:ext cx="2419200" cy="3557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485040" y="4416480"/>
            <a:ext cx="2658960" cy="2435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6040" y="4308480"/>
            <a:ext cx="1854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629080" y="3462480"/>
            <a:ext cx="3886200" cy="3041640"/>
            <a:chOff x="2629080" y="3462480"/>
            <a:chExt cx="3886200" cy="304164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2629080" y="3462480"/>
              <a:ext cx="3886200" cy="30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4827600" y="4372200"/>
              <a:ext cx="55260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A2E-46E7-43AC-ABB9-1FDA609C70D2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25F1F-A082-4583-A931-29EDDDB39D68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1703520"/>
            <a:ext cx="8076960" cy="45399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7160" y="1805400"/>
            <a:ext cx="6743880" cy="947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1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يف تتعامل مع سلوك الأفراد في الاجتماعات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715160" y="2041560"/>
            <a:ext cx="704880" cy="457200"/>
          </a:xfrm>
          <a:custGeom>
            <a:avLst/>
            <a:gdLst>
              <a:gd name="textAreaLeft" fmla="*/ 29520 w 704880"/>
              <a:gd name="textAreaRight" fmla="*/ 675360 w 704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3292" h="21600">
                <a:moveTo>
                  <a:pt x="0" y="0"/>
                </a:moveTo>
                <a:lnTo>
                  <a:pt x="33292" y="0"/>
                </a:lnTo>
                <a:lnTo>
                  <a:pt x="33292" y="21600"/>
                </a:lnTo>
                <a:lnTo>
                  <a:pt x="0" y="21600"/>
                </a:lnTo>
                <a:close/>
              </a:path>
              <a:path fill="lightenLess" w="33292" h="21600">
                <a:moveTo>
                  <a:pt x="0" y="0"/>
                </a:moveTo>
                <a:lnTo>
                  <a:pt x="33292" y="0"/>
                </a:lnTo>
                <a:lnTo>
                  <a:pt x="31892" y="1400"/>
                </a:lnTo>
                <a:lnTo>
                  <a:pt x="1400" y="1400"/>
                </a:lnTo>
                <a:close/>
              </a:path>
              <a:path fill="darken" w="33292" h="21600">
                <a:moveTo>
                  <a:pt x="33292" y="0"/>
                </a:moveTo>
                <a:lnTo>
                  <a:pt x="33292" y="21600"/>
                </a:lnTo>
                <a:lnTo>
                  <a:pt x="31892" y="20200"/>
                </a:lnTo>
                <a:lnTo>
                  <a:pt x="31892" y="1400"/>
                </a:lnTo>
                <a:close/>
              </a:path>
              <a:path fill="darkenLess" w="33292" h="21600">
                <a:moveTo>
                  <a:pt x="33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92" y="20200"/>
                </a:lnTo>
                <a:close/>
              </a:path>
              <a:path fill="lighten" w="33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92" h="21600">
                <a:moveTo>
                  <a:pt x="9640" y="10800"/>
                </a:moveTo>
                <a:lnTo>
                  <a:pt x="23653" y="3794"/>
                </a:lnTo>
                <a:lnTo>
                  <a:pt x="23653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7715160" y="2716200"/>
            <a:ext cx="704880" cy="457200"/>
          </a:xfrm>
          <a:custGeom>
            <a:avLst/>
            <a:gdLst>
              <a:gd name="textAreaLeft" fmla="*/ 29520 w 704880"/>
              <a:gd name="textAreaRight" fmla="*/ 675360 w 704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3292" h="21600">
                <a:moveTo>
                  <a:pt x="0" y="0"/>
                </a:moveTo>
                <a:lnTo>
                  <a:pt x="33292" y="0"/>
                </a:lnTo>
                <a:lnTo>
                  <a:pt x="33292" y="21600"/>
                </a:lnTo>
                <a:lnTo>
                  <a:pt x="0" y="21600"/>
                </a:lnTo>
                <a:close/>
              </a:path>
              <a:path fill="lightenLess" w="33292" h="21600">
                <a:moveTo>
                  <a:pt x="0" y="0"/>
                </a:moveTo>
                <a:lnTo>
                  <a:pt x="33292" y="0"/>
                </a:lnTo>
                <a:lnTo>
                  <a:pt x="31892" y="1400"/>
                </a:lnTo>
                <a:lnTo>
                  <a:pt x="1400" y="1400"/>
                </a:lnTo>
                <a:close/>
              </a:path>
              <a:path fill="darken" w="33292" h="21600">
                <a:moveTo>
                  <a:pt x="33292" y="0"/>
                </a:moveTo>
                <a:lnTo>
                  <a:pt x="33292" y="21600"/>
                </a:lnTo>
                <a:lnTo>
                  <a:pt x="31892" y="20200"/>
                </a:lnTo>
                <a:lnTo>
                  <a:pt x="31892" y="1400"/>
                </a:lnTo>
                <a:close/>
              </a:path>
              <a:path fill="darkenLess" w="33292" h="21600">
                <a:moveTo>
                  <a:pt x="33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92" y="20200"/>
                </a:lnTo>
                <a:close/>
              </a:path>
              <a:path fill="lighten" w="33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92" h="21600">
                <a:moveTo>
                  <a:pt x="9640" y="10800"/>
                </a:moveTo>
                <a:lnTo>
                  <a:pt x="23653" y="3794"/>
                </a:lnTo>
                <a:lnTo>
                  <a:pt x="2365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7160" y="3154680"/>
            <a:ext cx="6743880" cy="947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يف تتعامل مع نفسيات الناس في الاجتماعات ؟      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5" action="ppaction://hlinksldjump"/>
          </p:cNvPr>
          <p:cNvSpPr/>
          <p:nvPr/>
        </p:nvSpPr>
        <p:spPr>
          <a:xfrm>
            <a:off x="7715160" y="3390840"/>
            <a:ext cx="704880" cy="457200"/>
          </a:xfrm>
          <a:custGeom>
            <a:avLst/>
            <a:gdLst>
              <a:gd name="textAreaLeft" fmla="*/ 29520 w 704880"/>
              <a:gd name="textAreaRight" fmla="*/ 675360 w 704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3292" h="21600">
                <a:moveTo>
                  <a:pt x="0" y="0"/>
                </a:moveTo>
                <a:lnTo>
                  <a:pt x="33292" y="0"/>
                </a:lnTo>
                <a:lnTo>
                  <a:pt x="33292" y="21600"/>
                </a:lnTo>
                <a:lnTo>
                  <a:pt x="0" y="21600"/>
                </a:lnTo>
                <a:close/>
              </a:path>
              <a:path fill="lightenLess" w="33292" h="21600">
                <a:moveTo>
                  <a:pt x="0" y="0"/>
                </a:moveTo>
                <a:lnTo>
                  <a:pt x="33292" y="0"/>
                </a:lnTo>
                <a:lnTo>
                  <a:pt x="31892" y="1400"/>
                </a:lnTo>
                <a:lnTo>
                  <a:pt x="1400" y="1400"/>
                </a:lnTo>
                <a:close/>
              </a:path>
              <a:path fill="darken" w="33292" h="21600">
                <a:moveTo>
                  <a:pt x="33292" y="0"/>
                </a:moveTo>
                <a:lnTo>
                  <a:pt x="33292" y="21600"/>
                </a:lnTo>
                <a:lnTo>
                  <a:pt x="31892" y="20200"/>
                </a:lnTo>
                <a:lnTo>
                  <a:pt x="31892" y="1400"/>
                </a:lnTo>
                <a:close/>
              </a:path>
              <a:path fill="darkenLess" w="33292" h="21600">
                <a:moveTo>
                  <a:pt x="33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92" y="20200"/>
                </a:lnTo>
                <a:close/>
              </a:path>
              <a:path fill="lighten" w="33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92" h="21600">
                <a:moveTo>
                  <a:pt x="9640" y="10800"/>
                </a:moveTo>
                <a:lnTo>
                  <a:pt x="23653" y="3794"/>
                </a:lnTo>
                <a:lnTo>
                  <a:pt x="23653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7160" y="2480040"/>
            <a:ext cx="6743880" cy="947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يف تتعرف على نمطك كرئيس للاجتماع ؟            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7160" y="3840480"/>
            <a:ext cx="6743880" cy="947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يف تتعامل مع المشكلات في الاجتماعات ؟           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7" action="ppaction://hlinksldjump"/>
          </p:cNvPr>
          <p:cNvSpPr/>
          <p:nvPr/>
        </p:nvSpPr>
        <p:spPr>
          <a:xfrm>
            <a:off x="7715160" y="4076640"/>
            <a:ext cx="704880" cy="457200"/>
          </a:xfrm>
          <a:custGeom>
            <a:avLst/>
            <a:gdLst>
              <a:gd name="textAreaLeft" fmla="*/ 29520 w 704880"/>
              <a:gd name="textAreaRight" fmla="*/ 675360 w 704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3292" h="21600">
                <a:moveTo>
                  <a:pt x="0" y="0"/>
                </a:moveTo>
                <a:lnTo>
                  <a:pt x="33292" y="0"/>
                </a:lnTo>
                <a:lnTo>
                  <a:pt x="33292" y="21600"/>
                </a:lnTo>
                <a:lnTo>
                  <a:pt x="0" y="21600"/>
                </a:lnTo>
                <a:close/>
              </a:path>
              <a:path fill="lightenLess" w="33292" h="21600">
                <a:moveTo>
                  <a:pt x="0" y="0"/>
                </a:moveTo>
                <a:lnTo>
                  <a:pt x="33292" y="0"/>
                </a:lnTo>
                <a:lnTo>
                  <a:pt x="31892" y="1400"/>
                </a:lnTo>
                <a:lnTo>
                  <a:pt x="1400" y="1400"/>
                </a:lnTo>
                <a:close/>
              </a:path>
              <a:path fill="darken" w="33292" h="21600">
                <a:moveTo>
                  <a:pt x="33292" y="0"/>
                </a:moveTo>
                <a:lnTo>
                  <a:pt x="33292" y="21600"/>
                </a:lnTo>
                <a:lnTo>
                  <a:pt x="31892" y="20200"/>
                </a:lnTo>
                <a:lnTo>
                  <a:pt x="31892" y="1400"/>
                </a:lnTo>
                <a:close/>
              </a:path>
              <a:path fill="darkenLess" w="33292" h="21600">
                <a:moveTo>
                  <a:pt x="33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92" y="20200"/>
                </a:lnTo>
                <a:close/>
              </a:path>
              <a:path fill="lighten" w="33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92" h="21600">
                <a:moveTo>
                  <a:pt x="9640" y="10800"/>
                </a:moveTo>
                <a:lnTo>
                  <a:pt x="23653" y="3794"/>
                </a:lnTo>
                <a:lnTo>
                  <a:pt x="23653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CS Jeddah S_U normal."/>
              </a:rPr>
              <a:t>أهم مهارات إدارة الاجتماع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3920" y="4504320"/>
            <a:ext cx="6743880" cy="947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يف تقيّم مدى نجاح الاجتماع ؟                         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0"/>
          </p:cNvPr>
          <p:cNvSpPr/>
          <p:nvPr/>
        </p:nvSpPr>
        <p:spPr>
          <a:xfrm>
            <a:off x="7711920" y="4740120"/>
            <a:ext cx="704880" cy="457200"/>
          </a:xfrm>
          <a:custGeom>
            <a:avLst/>
            <a:gdLst>
              <a:gd name="textAreaLeft" fmla="*/ 29520 w 704880"/>
              <a:gd name="textAreaRight" fmla="*/ 675360 w 704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3292" h="21600">
                <a:moveTo>
                  <a:pt x="0" y="0"/>
                </a:moveTo>
                <a:lnTo>
                  <a:pt x="33292" y="0"/>
                </a:lnTo>
                <a:lnTo>
                  <a:pt x="33292" y="21600"/>
                </a:lnTo>
                <a:lnTo>
                  <a:pt x="0" y="21600"/>
                </a:lnTo>
                <a:close/>
              </a:path>
              <a:path fill="lightenLess" w="33292" h="21600">
                <a:moveTo>
                  <a:pt x="0" y="0"/>
                </a:moveTo>
                <a:lnTo>
                  <a:pt x="33292" y="0"/>
                </a:lnTo>
                <a:lnTo>
                  <a:pt x="31892" y="1400"/>
                </a:lnTo>
                <a:lnTo>
                  <a:pt x="1400" y="1400"/>
                </a:lnTo>
                <a:close/>
              </a:path>
              <a:path fill="darken" w="33292" h="21600">
                <a:moveTo>
                  <a:pt x="33292" y="0"/>
                </a:moveTo>
                <a:lnTo>
                  <a:pt x="33292" y="21600"/>
                </a:lnTo>
                <a:lnTo>
                  <a:pt x="31892" y="20200"/>
                </a:lnTo>
                <a:lnTo>
                  <a:pt x="31892" y="1400"/>
                </a:lnTo>
                <a:close/>
              </a:path>
              <a:path fill="darkenLess" w="33292" h="21600">
                <a:moveTo>
                  <a:pt x="33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92" y="20200"/>
                </a:lnTo>
                <a:close/>
              </a:path>
              <a:path fill="lighten" w="33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92" h="21600">
                <a:moveTo>
                  <a:pt x="9640" y="10800"/>
                </a:moveTo>
                <a:lnTo>
                  <a:pt x="23653" y="3794"/>
                </a:lnTo>
                <a:lnTo>
                  <a:pt x="23653" y="17806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1040" y="5156640"/>
            <a:ext cx="6743520" cy="947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كيف تتعامل مع أنماط التفكير أثناء الاجتماعات.     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2"/>
          </p:cNvPr>
          <p:cNvSpPr/>
          <p:nvPr/>
        </p:nvSpPr>
        <p:spPr>
          <a:xfrm>
            <a:off x="7709040" y="5392800"/>
            <a:ext cx="704880" cy="457200"/>
          </a:xfrm>
          <a:custGeom>
            <a:avLst/>
            <a:gdLst>
              <a:gd name="textAreaLeft" fmla="*/ 29520 w 704880"/>
              <a:gd name="textAreaRight" fmla="*/ 675360 w 704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3292" h="21600">
                <a:moveTo>
                  <a:pt x="0" y="0"/>
                </a:moveTo>
                <a:lnTo>
                  <a:pt x="33292" y="0"/>
                </a:lnTo>
                <a:lnTo>
                  <a:pt x="33292" y="21600"/>
                </a:lnTo>
                <a:lnTo>
                  <a:pt x="0" y="21600"/>
                </a:lnTo>
                <a:close/>
              </a:path>
              <a:path fill="lightenLess" w="33292" h="21600">
                <a:moveTo>
                  <a:pt x="0" y="0"/>
                </a:moveTo>
                <a:lnTo>
                  <a:pt x="33292" y="0"/>
                </a:lnTo>
                <a:lnTo>
                  <a:pt x="31892" y="1400"/>
                </a:lnTo>
                <a:lnTo>
                  <a:pt x="1400" y="1400"/>
                </a:lnTo>
                <a:close/>
              </a:path>
              <a:path fill="darken" w="33292" h="21600">
                <a:moveTo>
                  <a:pt x="33292" y="0"/>
                </a:moveTo>
                <a:lnTo>
                  <a:pt x="33292" y="21600"/>
                </a:lnTo>
                <a:lnTo>
                  <a:pt x="31892" y="20200"/>
                </a:lnTo>
                <a:lnTo>
                  <a:pt x="31892" y="1400"/>
                </a:lnTo>
                <a:close/>
              </a:path>
              <a:path fill="darkenLess" w="33292" h="21600">
                <a:moveTo>
                  <a:pt x="33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92" y="20200"/>
                </a:lnTo>
                <a:close/>
              </a:path>
              <a:path fill="lighten" w="33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92" h="21600">
                <a:moveTo>
                  <a:pt x="9640" y="10800"/>
                </a:moveTo>
                <a:lnTo>
                  <a:pt x="23653" y="3794"/>
                </a:lnTo>
                <a:lnTo>
                  <a:pt x="23653" y="17806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069-0DE9-4C18-84D2-FDD35A4B8225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B29C1-90BF-4644-9EF7-98158926C7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3500"/>
                            </p:stCondLst>
                            <p:childTnLst>
                              <p:par>
                                <p:cTn id="8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40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500"/>
                            </p:stCondLst>
                            <p:childTnLst>
                              <p:par>
                                <p:cTn id="8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0"/>
                            </p:stCondLst>
                            <p:childTnLst>
                              <p:par>
                                <p:cTn id="8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6500"/>
                            </p:stCondLst>
                            <p:childTnLst>
                              <p:par>
                                <p:cTn id="8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7000"/>
                            </p:stCondLst>
                            <p:childTnLst>
                              <p:par>
                                <p:cTn id="8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70120" y="4002120"/>
            <a:ext cx="3238200" cy="1847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0440" y="525600"/>
            <a:ext cx="8258040" cy="5779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405160" y="2459160"/>
            <a:ext cx="3876480" cy="19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توقع موقف جليسك م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طريقة جلسته أو حركات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11880" y="196992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3840" y="20224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000840" y="3979800"/>
            <a:ext cx="3143160" cy="2878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680" y="0"/>
            <a:ext cx="2532240" cy="358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438-2584-4951-A7F6-D5FC85626231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38378-A07B-479E-877B-D7C439988A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211880" y="196992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513400" y="270000"/>
            <a:ext cx="3343320" cy="3211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7040" y="3914640"/>
            <a:ext cx="6437520" cy="2633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8960" y="1866960"/>
            <a:ext cx="53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ترقب والاستعداد للهج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09920" y="4695840"/>
            <a:ext cx="343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لشعور بالانتص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والاستخفاف بقد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لمعارض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32240" cy="358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F2C-AC62-4C62-A5C5-FDFEBF49CC94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F1E00-4114-413D-8777-9CA90E6EF4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3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8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81040" y="1968480"/>
            <a:ext cx="609768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CS Jeddah S_U normal."/>
              </a:rPr>
              <a:t>أسئلة بين يدي إدارة الاجتماعات</a:t>
            </a:r>
            <a:endParaRPr b="0" lang="en-US" sz="72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CS Jeddah S_U normal."/>
              <a:ea typeface="MCS Jeddah S_U normal.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5920" y="3319560"/>
            <a:ext cx="2419200" cy="3557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85040" y="4416480"/>
            <a:ext cx="2658960" cy="2435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040" y="4308480"/>
            <a:ext cx="1854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29080" y="3462480"/>
            <a:ext cx="3886200" cy="3041640"/>
            <a:chOff x="2629080" y="3462480"/>
            <a:chExt cx="3886200" cy="304164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2629080" y="3462480"/>
              <a:ext cx="3886200" cy="30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4827600" y="4372200"/>
              <a:ext cx="55260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DEB-72CF-47EE-BE9C-7EE1687FACD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DD79A-1294-4441-9321-3B667C89B875}" type="datetime1">
              <a:rPr lang="en-US"/>
              <a:t>07/31/26</a:t>
            </a:fld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211880" y="196992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637240" y="303120"/>
            <a:ext cx="3343320" cy="2859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81160" y="3816360"/>
            <a:ext cx="3190680" cy="2790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98800" y="1600200"/>
            <a:ext cx="38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سيطرة أو الغرو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06520" y="5105520"/>
            <a:ext cx="812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تأمل والتقييم والدراسة استعدادا لطر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رأي جد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32240" cy="358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60D-F361-492E-A8E5-EEB54F067734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F45D2-9C6C-4025-82DB-80116D28A9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5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0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211880" y="196992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149800" y="309600"/>
            <a:ext cx="3706920" cy="3316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77920" y="2892600"/>
            <a:ext cx="3316320" cy="3706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0480" y="1333440"/>
            <a:ext cx="54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حيرة بين الآراء المطروح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63440" y="537228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شر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000840" y="3979800"/>
            <a:ext cx="3143160" cy="28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F0A-C00C-46D6-A47E-161D55D7AC23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D8614-3E4E-442D-9A1A-3BFBA65D44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7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2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211880" y="196992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270400" y="282600"/>
            <a:ext cx="3586320" cy="3301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46240" y="2357280"/>
            <a:ext cx="3706560" cy="4249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292120" y="933480"/>
            <a:ext cx="353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استعداد للهج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37880" y="5029200"/>
            <a:ext cx="304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كتساب الوق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لوزن الأمو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000840" y="3979800"/>
            <a:ext cx="3143160" cy="28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EDC-0495-4F8F-A36E-E83EDAB1727D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975C0-5C07-47D2-BE32-9AC0FBF526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9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211880" y="196992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75360" y="262080"/>
            <a:ext cx="3719520" cy="3485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70000" y="2957400"/>
            <a:ext cx="3902040" cy="3657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79240" y="156204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استعداد للدف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47960" y="5124600"/>
            <a:ext cx="565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ملل والضجر وانتظار انته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الموضوع أو الاجتم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32240" cy="358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AF0-04BA-40FD-9EFF-A721BFDBFF56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FA4DC-0510-4C60-A298-291E207006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1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6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211880" y="196992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072040" y="257040"/>
            <a:ext cx="3781440" cy="3356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57040" y="3005280"/>
            <a:ext cx="3316320" cy="3560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-637200" y="1082520"/>
            <a:ext cx="684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تقييم والتفكير لتأييد رأي أو طر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رأي جد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27760" y="5067360"/>
            <a:ext cx="42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محاولة اثبات النزاه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والحياد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000840" y="3979800"/>
            <a:ext cx="3143160" cy="28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00B-BB7E-4979-A141-C18F2C52F3CA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6171F-EDBC-4B7A-9100-2495161B89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3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8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211880" y="196992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930920" y="282600"/>
            <a:ext cx="3902040" cy="3170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7040" y="2540160"/>
            <a:ext cx="3316320" cy="40478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247040" y="144792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مكاشفة والمصارح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55720" y="5448240"/>
            <a:ext cx="353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استعداد للهج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000840" y="3979800"/>
            <a:ext cx="3143160" cy="28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220-F810-45A8-8060-609D49DA86A6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0C268-CDA7-403C-84C5-299CEB0679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5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0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211880" y="196992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930920" y="290520"/>
            <a:ext cx="3897000" cy="31543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64960" y="2208240"/>
            <a:ext cx="3706920" cy="4346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-207000" y="552600"/>
            <a:ext cx="622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تأمل والتقييم استعدادا لطر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رأي جد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42920" y="5124600"/>
            <a:ext cx="33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ملل أو الاحبا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000840" y="3979800"/>
            <a:ext cx="3143160" cy="287820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rId4" action="ppaction://hlinksldjump"/>
          </p:cNvPr>
          <p:cNvSpPr/>
          <p:nvPr/>
        </p:nvSpPr>
        <p:spPr>
          <a:xfrm>
            <a:off x="57240" y="6229440"/>
            <a:ext cx="623880" cy="433440"/>
          </a:xfrm>
          <a:custGeom>
            <a:avLst/>
            <a:gdLst>
              <a:gd name="textAreaLeft" fmla="*/ 28080 w 623880"/>
              <a:gd name="textAreaRight" fmla="*/ 595800 w 6238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1082" h="21600">
                <a:moveTo>
                  <a:pt x="0" y="0"/>
                </a:moveTo>
                <a:lnTo>
                  <a:pt x="31082" y="0"/>
                </a:lnTo>
                <a:lnTo>
                  <a:pt x="31082" y="21600"/>
                </a:lnTo>
                <a:lnTo>
                  <a:pt x="0" y="21600"/>
                </a:lnTo>
                <a:close/>
              </a:path>
              <a:path fill="lightenLess" w="31082" h="21600">
                <a:moveTo>
                  <a:pt x="0" y="0"/>
                </a:moveTo>
                <a:lnTo>
                  <a:pt x="31082" y="0"/>
                </a:lnTo>
                <a:lnTo>
                  <a:pt x="29682" y="1400"/>
                </a:lnTo>
                <a:lnTo>
                  <a:pt x="1400" y="1400"/>
                </a:lnTo>
                <a:close/>
              </a:path>
              <a:path fill="darken" w="31082" h="21600">
                <a:moveTo>
                  <a:pt x="31082" y="0"/>
                </a:moveTo>
                <a:lnTo>
                  <a:pt x="31082" y="21600"/>
                </a:lnTo>
                <a:lnTo>
                  <a:pt x="29682" y="20200"/>
                </a:lnTo>
                <a:lnTo>
                  <a:pt x="29682" y="1400"/>
                </a:lnTo>
                <a:close/>
              </a:path>
              <a:path fill="darkenLess" w="31082" h="21600">
                <a:moveTo>
                  <a:pt x="31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82" y="20200"/>
                </a:lnTo>
                <a:close/>
              </a:path>
              <a:path fill="lighten" w="31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82" h="21600">
                <a:moveTo>
                  <a:pt x="8535" y="3794"/>
                </a:moveTo>
                <a:lnTo>
                  <a:pt x="22548" y="10800"/>
                </a:lnTo>
                <a:lnTo>
                  <a:pt x="8535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CDC-FF07-4FB3-A964-0FF2FD1AD8A7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F2608-A2E4-4074-BB80-72169784D9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7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2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211880" y="196992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256360" y="274680"/>
            <a:ext cx="3617640" cy="3894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70000" y="2670120"/>
            <a:ext cx="3860640" cy="39085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964520" y="685800"/>
            <a:ext cx="38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سيطرة أو الثرث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520" y="5657760"/>
            <a:ext cx="44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محاولة الاقناع والتود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32240" cy="35830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4" action="ppaction://hlinksldjump"/>
          </p:cNvPr>
          <p:cNvSpPr/>
          <p:nvPr/>
        </p:nvSpPr>
        <p:spPr>
          <a:xfrm>
            <a:off x="57240" y="6229440"/>
            <a:ext cx="623880" cy="433440"/>
          </a:xfrm>
          <a:custGeom>
            <a:avLst/>
            <a:gdLst>
              <a:gd name="textAreaLeft" fmla="*/ 28080 w 623880"/>
              <a:gd name="textAreaRight" fmla="*/ 595800 w 6238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1082" h="21600">
                <a:moveTo>
                  <a:pt x="0" y="0"/>
                </a:moveTo>
                <a:lnTo>
                  <a:pt x="31082" y="0"/>
                </a:lnTo>
                <a:lnTo>
                  <a:pt x="31082" y="21600"/>
                </a:lnTo>
                <a:lnTo>
                  <a:pt x="0" y="21600"/>
                </a:lnTo>
                <a:close/>
              </a:path>
              <a:path fill="lightenLess" w="31082" h="21600">
                <a:moveTo>
                  <a:pt x="0" y="0"/>
                </a:moveTo>
                <a:lnTo>
                  <a:pt x="31082" y="0"/>
                </a:lnTo>
                <a:lnTo>
                  <a:pt x="29682" y="1400"/>
                </a:lnTo>
                <a:lnTo>
                  <a:pt x="1400" y="1400"/>
                </a:lnTo>
                <a:close/>
              </a:path>
              <a:path fill="darken" w="31082" h="21600">
                <a:moveTo>
                  <a:pt x="31082" y="0"/>
                </a:moveTo>
                <a:lnTo>
                  <a:pt x="31082" y="21600"/>
                </a:lnTo>
                <a:lnTo>
                  <a:pt x="29682" y="20200"/>
                </a:lnTo>
                <a:lnTo>
                  <a:pt x="29682" y="1400"/>
                </a:lnTo>
                <a:close/>
              </a:path>
              <a:path fill="darkenLess" w="31082" h="21600">
                <a:moveTo>
                  <a:pt x="31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82" y="20200"/>
                </a:lnTo>
                <a:close/>
              </a:path>
              <a:path fill="lighten" w="31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82" h="21600">
                <a:moveTo>
                  <a:pt x="8535" y="3794"/>
                </a:moveTo>
                <a:lnTo>
                  <a:pt x="22548" y="10800"/>
                </a:lnTo>
                <a:lnTo>
                  <a:pt x="8535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C00-70F0-45EC-B9A9-9A5369AD4C53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55BA6-1E7A-4699-A89F-0F47B7F165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9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4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4760" y="402588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حاسبوا أنفسكم قبل أن تحاسبو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زنوا أعمالكم قبل أن توزن عليك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572000" y="190440"/>
            <a:ext cx="4419720" cy="6477120"/>
            <a:chOff x="4572000" y="190440"/>
            <a:chExt cx="4419720" cy="64771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4572000" y="190440"/>
              <a:ext cx="441972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326280" y="1109520"/>
              <a:ext cx="914400" cy="914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استراح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BE5-6DCE-47CB-92EF-264457164DDD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293C1-576D-4B4D-B2B5-442A527150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4440" y="1716120"/>
            <a:ext cx="2205000" cy="380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 flipH="1" rot="10800000">
            <a:off x="1978200" y="4102200"/>
            <a:ext cx="1260360" cy="1387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21596400">
            <a:off x="1957320" y="1907640"/>
            <a:ext cx="6939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(القـدرة علـى الاستفــادة مـ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امكانـات البشريـة والماد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تاحـة لتوجيــه الاجتمــ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قيـــادة المشاركين فيـــــــ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أقصى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كفاء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أقــل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تكلفـــ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أقل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وقــت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تحقيق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أهداف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رسومة له بأجود المعاير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54120" y="241200"/>
            <a:ext cx="8148600" cy="131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82720" y="757080"/>
            <a:ext cx="402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مفهوم إدارة الاجتم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680080"/>
            <a:ext cx="8610480" cy="5205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إدارة = الفاعلية + الكفاءة + الجو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96B-B9E3-4186-BBB7-6C7B8A47646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37EA4-AE27-44BB-9549-BA6725D862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51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62040" y="1809720"/>
            <a:ext cx="7630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سيلة جيدة للمتابعة والرقابة والتأكد من إنجاز القرار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جود مشكلة أو قضية تحتاج إلى رأي جماع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أكيد على مؤسسية القيادة وممارسة الشورى والشراك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جود قضايا ومتغيرات تتطلب متابعة وتقويم مستم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رغبة في تغيير قناعات واتجاهات الأعضاء حول موقف م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روز ما يدعو لتغيير الوضع القائم وتطوير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نسيق المهام والجهود و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سيلة لزيادة معلومات الأعضاء وتبادلها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42880" y="21924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71840" y="735120"/>
            <a:ext cx="402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لماذا نعقد الاجتماعات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4EE-CEF7-4D8F-80C4-C056C666FEB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DDDE8-EBDA-4C60-A485-8585F3EA85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506760" y="2496960"/>
            <a:ext cx="2129040" cy="315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89040" y="72396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كم معدل عدد ساعات اجتماعاتنا 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45D-D805-4256-8A9F-73A9F7D92C2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58E31-7860-4D3F-AF1D-D765314262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7760" y="2828880"/>
            <a:ext cx="3143160" cy="3094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89040" y="746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ما هي الأخطاء الشائعة في اجتماعاتنا 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7440" y="2087640"/>
            <a:ext cx="76312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قد بعض الاجتماعات غير الضرو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ضعف الإعداد الإداري للاجتما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سلوب الخاطي في اتخاذ القرار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خروج عن أهداف الاجتماعات التي تعق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صعوبة تحقيق الانسجام والتواف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دم تخصيص الوقت الكافي لبنود الاجتما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دم توفر أوراق العمل أو التقارير أو ملاحق المعلومات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3BF-33C2-43AF-9030-28A06BB6E8F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447E5-193A-4711-B372-427B9BE6FB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780000"/>
            <a:ext cx="2970360" cy="2116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65080" y="1938240"/>
            <a:ext cx="7583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00"/>
                </a:solidFill>
                <a:latin typeface="Times New Roman"/>
              </a:rPr>
              <a:t>   سئل 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635</a:t>
            </a:r>
            <a:r>
              <a:rPr b="1" lang="ar-SA" sz="2500" spc="-1" strike="noStrike">
                <a:solidFill>
                  <a:srgbClr val="ffff00"/>
                </a:solidFill>
                <a:latin typeface="Times New Roman"/>
              </a:rPr>
              <a:t> مديرا عن الأمور التي تزعجهم في الاجتماعات فأجابوا 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53040" y="2762280"/>
            <a:ext cx="5667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خروج عن الموضو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83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إعداد السيئ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77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جتماع غير منت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74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استماع السيئ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68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ا مبالاة الأعضاء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62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طول الاجتما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6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ضعف المشارك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51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89040" y="746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ما أبرز المشكلات التي تواجه اجتماعاتنا 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65F-AE3C-48C9-A36F-18E25EB7153C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3014F-368B-4193-8432-BB22E6B905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00"/>
                            </p:stCondLst>
                            <p:childTnLst>
                              <p:par>
                                <p:cTn id="205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9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1720" y="208080"/>
            <a:ext cx="8148600" cy="131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89040" y="74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) ما أنواع الاجتماعات التي نعقدها 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8720" y="2087640"/>
            <a:ext cx="55054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جتماعات لتبادل المعلوم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جتماعات لحل مشكلات أو خلاف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جتماعات لإدارة طوارئ أو أزم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جتماعات للتطوير وإدارة المشروع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جتماعات لتغيير الاتجاهات والقناع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3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جتماعات لمتابعة إنجاز القرارات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8360" y="1854360"/>
            <a:ext cx="2320920" cy="40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8E8-FA20-4A86-927E-56845118A4F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491C7-23E2-4A4B-976B-35592E422D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3T08:10:00Z</dcterms:created>
  <dc:creator>NEDAL AL_NAYFEH</dc:creator>
  <dc:description/>
  <dc:language>en-US</dc:language>
  <cp:lastModifiedBy>Dr Adlouni</cp:lastModifiedBy>
  <cp:lastPrinted>1997-11-04T05:51:56Z</cp:lastPrinted>
  <dcterms:modified xsi:type="dcterms:W3CDTF">2008-08-11T19:31:04Z</dcterms:modified>
  <cp:revision>401</cp:revision>
  <dc:subject/>
  <dc:title>وزارة الأوقاف والشؤون الإسلامية</dc:title>
</cp:coreProperties>
</file>