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1691-15A0-4881-B9E2-70B1BC19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8341-F8B0-4089-B7D2-138A1FE5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38CB-01D7-4267-B607-0472E513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7475-C8B5-4684-9962-A522E473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6716-8D8D-4DAA-97F3-8F287223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E606-DC15-4FFD-8C38-53516E13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EB71-36FA-49C9-B0F9-01C495AA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99EB-6169-4A56-AB8F-CBA6A74C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E13C-4917-45AB-B215-4D8A7890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2169-CF30-4940-A01B-9BCA92B4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17AA-A056-4AE1-B633-200A2293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4300-059C-4728-AEBB-40130203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0C5E-BC64-4C09-99FF-1BE77434711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محاضرة الثان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هارات الاتصا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كيفية استقبال التغذية الخلف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نف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سماع بحر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طرح اسئ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عتراف بالتغذية الخلف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عتراف بالنقاط الصحيح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تابعة الوقت لترتيب ما تم سما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دليل للانصات الفع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ستعداد للاستما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رخى و التناغم مع الكل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نتباه الكامل للمتحد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ستماع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للفهم أفض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حكم فى العاطف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دود الاستماع الفع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حد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فتراضا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عاطف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قييم السري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فكير السري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تعاملات الاستماع الناف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وقف عن التحد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أخذ الدور فى التحد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طرح الاسئ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دم المقاطع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إظهار الج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ركيز فيما يق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حكم فى العاط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استماع للذى لم يقا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رشادات الاتصال الفعال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ركيز على المعرفة الشخص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إحياء مثال التعاو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ستماع للآخرين للفه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حكم فى المرغوب للوصول الى الحك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سؤال المستمعين للتأكد  من الفه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حماية ذات الآخر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دود الاتصال الفع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وجي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خو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وع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نصح دون الاسئ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دري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دود الاتصال الفع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حك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طراء الخاطئ والموافق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وعود بالمكافئ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ذهو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lnSpc>
                <a:spcPct val="1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بعاد الانطوائية والاجتماع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ين يفضل ان تركز اهتماماتك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762120" cy="533160"/>
          </a:xfrm>
          <a:prstGeom prst="rightArrow">
            <a:avLst>
              <a:gd name="adj1" fmla="val 50000"/>
              <a:gd name="adj2" fmla="val 35736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3048120"/>
            <a:ext cx="762120" cy="533160"/>
          </a:xfrm>
          <a:prstGeom prst="rightArrow">
            <a:avLst>
              <a:gd name="adj1" fmla="val 50000"/>
              <a:gd name="adj2" fmla="val 35736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3048120"/>
            <a:ext cx="685800" cy="533160"/>
          </a:xfrm>
          <a:prstGeom prst="leftArrow">
            <a:avLst>
              <a:gd name="adj1" fmla="val 50000"/>
              <a:gd name="adj2" fmla="val 3215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3048120"/>
            <a:ext cx="685800" cy="533160"/>
          </a:xfrm>
          <a:prstGeom prst="leftArrow">
            <a:avLst>
              <a:gd name="adj1" fmla="val 50000"/>
              <a:gd name="adj2" fmla="val 3215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2666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جتماع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2666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نطوائ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3813120"/>
            <a:ext cx="3657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يفضل التركيز على العلم الخارجى والافك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لكلمات الاساسي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نشيط، اجتماعى، اشخاص، كثير، معب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3844800"/>
            <a:ext cx="3657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يفضل العلم الداخلى فى التفكير والانطبا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لكلمات الاساسي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نعكاس، داخلى، متحفظ، خاص، قليل، هادئ، عمي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صفات الاجتماعى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يتفاعل مع ما يحدث فى العالم الخارج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يفضل الاتصال شفهيا عن كتابت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يحتاج الى خبرة فى العال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يحب التغير والاحدا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يعنى تعلم الأفضل عن طريق الفعل أولا ثم القراء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صفات الأنطوائى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حب الهدوء للتركي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راغب فى الأفكار وراء العم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رتاح فى التفكير فى صم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ريد فهم الحياة قبل الخب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فكر دائما قبل الأدا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فضل التعلم عن طريق القراءة عن التحدث أو الخب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5030280" y="3257640"/>
            <a:ext cx="1370520" cy="1065960"/>
            <a:chOff x="5030280" y="3257640"/>
            <a:chExt cx="1370520" cy="1065960"/>
          </a:xfrm>
        </p:grpSpPr>
        <p:grpSp>
          <p:nvGrpSpPr>
            <p:cNvPr id="44" name=""/>
            <p:cNvGrpSpPr/>
            <p:nvPr/>
          </p:nvGrpSpPr>
          <p:grpSpPr>
            <a:xfrm>
              <a:off x="5805360" y="3257640"/>
              <a:ext cx="595440" cy="241920"/>
              <a:chOff x="5805360" y="3257640"/>
              <a:chExt cx="595440" cy="241920"/>
            </a:xfrm>
          </p:grpSpPr>
          <p:sp>
            <p:nvSpPr>
              <p:cNvPr id="45" name=""/>
              <p:cNvSpPr/>
              <p:nvPr/>
            </p:nvSpPr>
            <p:spPr>
              <a:xfrm>
                <a:off x="6103440" y="3257640"/>
                <a:ext cx="297360" cy="24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>
                <a:off x="5805360" y="3499560"/>
                <a:ext cx="59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5508000" y="3499920"/>
              <a:ext cx="595440" cy="241920"/>
              <a:chOff x="5508000" y="3499920"/>
              <a:chExt cx="595440" cy="241920"/>
            </a:xfrm>
          </p:grpSpPr>
          <p:sp>
            <p:nvSpPr>
              <p:cNvPr id="48" name=""/>
              <p:cNvSpPr/>
              <p:nvPr/>
            </p:nvSpPr>
            <p:spPr>
              <a:xfrm>
                <a:off x="5806080" y="3499920"/>
                <a:ext cx="297360" cy="24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>
                <a:off x="5508000" y="3741840"/>
                <a:ext cx="59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5268600" y="3791520"/>
              <a:ext cx="595440" cy="241920"/>
              <a:chOff x="5268600" y="3791520"/>
              <a:chExt cx="595440" cy="241920"/>
            </a:xfrm>
          </p:grpSpPr>
          <p:sp>
            <p:nvSpPr>
              <p:cNvPr id="51" name=""/>
              <p:cNvSpPr/>
              <p:nvPr/>
            </p:nvSpPr>
            <p:spPr>
              <a:xfrm>
                <a:off x="5566680" y="3791520"/>
                <a:ext cx="297360" cy="24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>
                <a:off x="5268600" y="4033440"/>
                <a:ext cx="59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5030280" y="4081680"/>
              <a:ext cx="595440" cy="241920"/>
              <a:chOff x="5030280" y="4081680"/>
              <a:chExt cx="595440" cy="241920"/>
            </a:xfrm>
          </p:grpSpPr>
          <p:sp>
            <p:nvSpPr>
              <p:cNvPr id="54" name=""/>
              <p:cNvSpPr/>
              <p:nvPr/>
            </p:nvSpPr>
            <p:spPr>
              <a:xfrm>
                <a:off x="5328360" y="4081680"/>
                <a:ext cx="297360" cy="24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5030280" y="4323600"/>
                <a:ext cx="59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ربع عوامل اساسية للاتصال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828800" y="54100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04920" y="2743200"/>
            <a:ext cx="2971800" cy="431640"/>
            <a:chOff x="304920" y="2743200"/>
            <a:chExt cx="2971800" cy="431640"/>
          </a:xfrm>
        </p:grpSpPr>
        <p:sp>
          <p:nvSpPr>
            <p:cNvPr id="59" name=""/>
            <p:cNvSpPr/>
            <p:nvPr/>
          </p:nvSpPr>
          <p:spPr>
            <a:xfrm>
              <a:off x="304920" y="2743200"/>
              <a:ext cx="2971800" cy="429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Maiandra GD"/>
                  <a:cs typeface="Mudir MT"/>
                </a:rPr>
                <a:t>معنى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00200" y="27432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95600" y="297180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600360" y="2743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لرسا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638680" y="2743200"/>
            <a:ext cx="3353040" cy="825480"/>
            <a:chOff x="5638680" y="2743200"/>
            <a:chExt cx="3353040" cy="825480"/>
          </a:xfrm>
        </p:grpSpPr>
        <p:sp>
          <p:nvSpPr>
            <p:cNvPr id="64" name=""/>
            <p:cNvSpPr/>
            <p:nvPr/>
          </p:nvSpPr>
          <p:spPr>
            <a:xfrm>
              <a:off x="5638680" y="2743200"/>
              <a:ext cx="335304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Maiandra GD"/>
                  <a:ea typeface="Mudir MT"/>
                </a:rPr>
                <a:t>      معنى                 فك الشفر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01000" y="2743200"/>
              <a:ext cx="0" cy="4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529400" y="2743200"/>
              <a:ext cx="0" cy="4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186680" y="2967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038480" y="4100400"/>
            <a:ext cx="10670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لازعا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5172120"/>
            <a:ext cx="2057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تغذية خل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971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08560" y="299736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3238560"/>
            <a:ext cx="0" cy="2173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322596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2286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لراس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5880" y="2286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لمستقب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72080" y="2286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قنا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590560" y="3219480"/>
            <a:ext cx="1446120" cy="1142280"/>
            <a:chOff x="2590560" y="3219480"/>
            <a:chExt cx="1446120" cy="1142280"/>
          </a:xfrm>
        </p:grpSpPr>
        <p:grpSp>
          <p:nvGrpSpPr>
            <p:cNvPr id="78" name=""/>
            <p:cNvGrpSpPr/>
            <p:nvPr/>
          </p:nvGrpSpPr>
          <p:grpSpPr>
            <a:xfrm>
              <a:off x="2590560" y="3219480"/>
              <a:ext cx="628200" cy="259560"/>
              <a:chOff x="2590560" y="3219480"/>
              <a:chExt cx="628200" cy="259560"/>
            </a:xfrm>
          </p:grpSpPr>
          <p:sp>
            <p:nvSpPr>
              <p:cNvPr id="79" name=""/>
              <p:cNvSpPr/>
              <p:nvPr/>
            </p:nvSpPr>
            <p:spPr>
              <a:xfrm flipH="1">
                <a:off x="2590560" y="3219480"/>
                <a:ext cx="313560" cy="25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590920" y="3479040"/>
                <a:ext cx="62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904480" y="3479400"/>
              <a:ext cx="628200" cy="259560"/>
              <a:chOff x="2904480" y="3479400"/>
              <a:chExt cx="628200" cy="259560"/>
            </a:xfrm>
          </p:grpSpPr>
          <p:sp>
            <p:nvSpPr>
              <p:cNvPr id="82" name=""/>
              <p:cNvSpPr/>
              <p:nvPr/>
            </p:nvSpPr>
            <p:spPr>
              <a:xfrm flipH="1">
                <a:off x="2904480" y="3479400"/>
                <a:ext cx="313560" cy="25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904840" y="3738960"/>
                <a:ext cx="62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3156840" y="3791520"/>
              <a:ext cx="628200" cy="259560"/>
              <a:chOff x="3156840" y="3791520"/>
              <a:chExt cx="628200" cy="259560"/>
            </a:xfrm>
          </p:grpSpPr>
          <p:sp>
            <p:nvSpPr>
              <p:cNvPr id="85" name=""/>
              <p:cNvSpPr/>
              <p:nvPr/>
            </p:nvSpPr>
            <p:spPr>
              <a:xfrm flipH="1">
                <a:off x="3156840" y="3791520"/>
                <a:ext cx="313560" cy="25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157200" y="4051080"/>
                <a:ext cx="62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3408480" y="4102200"/>
              <a:ext cx="628200" cy="259560"/>
              <a:chOff x="3408480" y="4102200"/>
              <a:chExt cx="628200" cy="259560"/>
            </a:xfrm>
          </p:grpSpPr>
          <p:sp>
            <p:nvSpPr>
              <p:cNvPr id="88" name=""/>
              <p:cNvSpPr/>
              <p:nvPr/>
            </p:nvSpPr>
            <p:spPr>
              <a:xfrm flipH="1">
                <a:off x="3408480" y="4102200"/>
                <a:ext cx="313560" cy="25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408840" y="4361760"/>
                <a:ext cx="62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" name=""/>
          <p:cNvSpPr/>
          <p:nvPr/>
        </p:nvSpPr>
        <p:spPr>
          <a:xfrm>
            <a:off x="2019240" y="27432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لتشف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بعاد الاحساس / حدس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كيفية احراز المعلو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حساس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حدس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124080"/>
            <a:ext cx="304776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يركز على الحاض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وعلى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تفاصيل ؛ حاضر؛ داخلى؛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عدم الاحسا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عملى؛ حقائق؛ تتابع ؛ اتجاه؛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عا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3276720"/>
            <a:ext cx="304812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يركز على المستقبل بنظرة عل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أمثلة والامكان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أمثلة ؛ مستقبل؛ تخيل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مبتكر ؛ عشوائ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يندفع الى الأمام؛ مختلف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حدسى؛  متغ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صفات الاحساس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ستخدم عينه وأذن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فضل واقع الأمو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عنى تقبل وعمل ما يعط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جيد فى تذكر وعمل مع الواق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عنى أن يكون واقعى وعمل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صفات الحدس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عنى النظر الى الصور الكبي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حاول التمسك بالأمثلة الأساس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وسع خبرته عن طريق النظر الى امكانيات جدي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خيلات قيمة والالها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بعاد الاحساس والتفكي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كيف تأخذ القر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فكير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حسا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3581280"/>
            <a:ext cx="28195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أساس الأفكار  على المنط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و التحليلات المستهدفة       رأس؛ أهداف؛برودة؛ عادل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مجهول؛ نقدى؛ محلل؛       دقيق؛ أساسي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3581280"/>
            <a:ext cx="28191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أساس تقيم القرارات وتقيم موضوعى للأشخاص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قلب؛ موضوعى؛ ايقاع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حذر؛ مقدر؛ قي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بعاد التفكير والاحسا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505320" cy="41148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727272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 u="sng">
                <a:solidFill>
                  <a:srgbClr val="000000"/>
                </a:solidFill>
                <a:uFillTx/>
                <a:latin typeface="Times New Roman"/>
              </a:rPr>
              <a:t>التفكي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قرر بالاهداف والمنط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قرر بالتحليل وموازنة الاحدا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حب المعاملة مع الاشخا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عنى الافضل بتحليل الصواب والخط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1905120"/>
            <a:ext cx="3505320" cy="41148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 u="sng">
                <a:solidFill>
                  <a:srgbClr val="000000"/>
                </a:solidFill>
                <a:uFillTx/>
                <a:latin typeface="Times New Roman"/>
                <a:cs typeface="Mudir MT"/>
              </a:rPr>
              <a:t>الاحسا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Mudir MT"/>
              </a:rPr>
              <a:t>اساس قراراته على اهميتها او الاشخاص الآخري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Mudir MT"/>
              </a:rPr>
              <a:t>يقرر على اساس قيم النا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Mudir MT"/>
              </a:rPr>
              <a:t>يعنى ان يكون متجانس مقدر ولب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بعاد الحكم والادرا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0" y="1981080"/>
            <a:ext cx="3276720" cy="41148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727272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 u="sng">
                <a:solidFill>
                  <a:srgbClr val="000000"/>
                </a:solidFill>
                <a:uFillTx/>
                <a:latin typeface="Times New Roman"/>
              </a:rPr>
              <a:t>الادراك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فضل الين و عفو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الميل الى الحي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لين , سريع , له خبره , فضولى , تلقائى , مكتشف , متفت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1981080"/>
            <a:ext cx="3429000" cy="41148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 u="sng">
                <a:solidFill>
                  <a:srgbClr val="000000"/>
                </a:solidFill>
                <a:uFillTx/>
                <a:latin typeface="Times New Roman"/>
                <a:cs typeface="Mudir MT"/>
              </a:rPr>
              <a:t>الحك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Mudir MT"/>
              </a:rPr>
              <a:t>يفضل الخطط المنظمة لوضع الاشيا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Mudir MT"/>
              </a:rPr>
              <a:t>مرتب , تركيبى , متحكم , مدروس , مخطط , إنتاجى , منغل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بعاد الحكم والادرا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3581280" cy="41148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  <a:effectLst>
            <a:outerShdw dist="153753" dir="2700000" blurRad="0" rotWithShape="0">
              <a:srgbClr val="727272"/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 u="sng">
                <a:solidFill>
                  <a:srgbClr val="000000"/>
                </a:solidFill>
                <a:uFillTx/>
                <a:latin typeface="Times New Roman"/>
              </a:rPr>
              <a:t>الادراك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حب العيش بتلقائ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صر على اخذ القرار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فهم الموقف والتحكم في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فضل اخذ القرار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905120"/>
            <a:ext cx="3581280" cy="41148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  <a:effectLst>
            <a:outerShdw dist="153753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 u="sng">
                <a:solidFill>
                  <a:srgbClr val="000000"/>
                </a:solidFill>
                <a:uFillTx/>
                <a:latin typeface="Times New Roman"/>
                <a:cs typeface="Mudir MT"/>
              </a:rPr>
              <a:t>الحك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Mudir MT"/>
              </a:rPr>
              <a:t>يحب تنظيم الحياة ومراقبت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Mudir MT"/>
              </a:rPr>
              <a:t>انهاء اتخاذ القرار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Mudir MT"/>
              </a:rPr>
              <a:t>فهم الموقف والتحكم في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Mudir MT"/>
              </a:rPr>
              <a:t>ان يكون بناءاً و مستق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التفكير الحدسى: مهندس معمارى وخيا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يرى الأبعاد والامكان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كمالى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يجب توضيح الامكان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يمكن ان يكون متعرف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يمكن ان حذر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دس مع إحسا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1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يرغب فى المعلوم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1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يأخذ كل شىء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1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يجب توصيل الافكار والمتعرف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1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خلق الاعتماد على النفس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lnSpc>
                <a:spcPct val="11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احساس مع الحكم: التقالي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صريح , متكامل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جيد فى إدارة الاحداث اليو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اقعى مع الاخطار والقصير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داخل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فعل الاشياء بنفس الطريق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راسل والمستقب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عوامل التى تؤثر على كيفية إجادة فهم الراسل والمستقبل للرسالة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كلمات المستخدمة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 rtl="1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معانى المختل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 rtl="1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سياق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إشارات بدء غير فع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احساس مع الادراك الحسى: حل العق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عيش للافعال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حب الرد على النبض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عمل جيداً فى النق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شعر بالملل سريع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راسل والمستقب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خب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صرف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قدرا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درا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حليل الكلام الذى نسمع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سماع واعطاء تفسير لصدى الصو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فسير تعبيرات الوج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اشارات الغير فعلي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رسال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فاعلية الرسالة هى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حدد من خلال دقة المعلومات التى تحاول الحصول علي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فسيرات ذو علاقة بعمليات حساس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تغذية الخلف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تصال بالاشخاص (بالفريق) ذو التأثير على الاشخاص الآخرين بتصرفاته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تغذية خلفية بناء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حسين الفاع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ساعد الفريق على تحقيق تقد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ناء الثقة بين اعضاء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رقية مناخ داع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منع تجاهل بعض البنود من جدول الاعمال ونشر الاشاع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عدم إعطاء تغذية خلفية عند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عدم معرفة المزيد عن سياف الكلام والتصرف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غذية الخلفية عن شئ لا يمكن للشخص ان يغير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ظهر بعض الاشخاص ضعفاء فى التقدير الشخص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هدف ليس بغرض التحس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ظروف المحيطة غير دقيق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كيفية إعطاء تغذية خلف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كوين وصف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دم استخدام شعار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دم المبالغ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حدث عن نفس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فى البداية تحدث عن نفسك وليس عن شخص آخ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صياغة الاسلوب وليس السؤ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قيد التغذية الخلفية لأشياء معين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ساعدة الاشخاص فى تقبل النقد عند إعطاء تغذية خلفية ايجا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1T08:01:48Z</dcterms:created>
  <dc:creator>Noha Gamiel</dc:creator>
  <dc:description/>
  <dc:language>en-US</dc:language>
  <cp:lastModifiedBy>fcc</cp:lastModifiedBy>
  <dcterms:modified xsi:type="dcterms:W3CDTF">2004-11-09T23:37:05Z</dcterms:modified>
  <cp:revision>65</cp:revision>
  <dc:subject/>
  <dc:title>المحاضرة الخامسة</dc:title>
</cp:coreProperties>
</file>