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679-553C-4807-89A2-15DD3C3D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E1B-D0FE-4EA0-AA5D-96B79C7C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A0A-D6EA-440D-A55B-57F5B964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C70-F2F3-497E-86B6-7874A711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F83-2B33-4229-AD09-4F700F35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214-788A-44ED-8570-9D63F092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A15-89E3-4A69-BB74-B430B23B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1B2-B839-4119-A55B-44609BBA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591-90B9-4C46-ACCA-27885633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339-8357-4A9E-99E7-FBE14BC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933-70E4-4511-8666-045C89CF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4A5-CCA4-409E-8B25-ABAFB38E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2B8E-26A1-4C70-9C3E-7B497651D2D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حاضر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ymusic"/>
              </a:rPr>
              <a:t>العمل سويا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ستشاري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اقد قائد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قد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جب أن يقيم استشاري الجودة معرفة ومهارات قائد الفر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هناك اربعة مناطق للمعرفة والمهارة والتي يجب أن تتوفر لدى قائد الفر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خبرة السابقة لقائد الفريق هي القياس المقارن بالنسبة لاستشارى الجو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عقد هو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تفاق عمل يحدد توقعات استشاري الجودة وقائد الفريق وكيفية عملهم سوي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هدف العقد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أكيد الالتز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زيز الاختي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مداد تأسيس نفس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عناصر العقد الجي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هداف الفر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دوار ومسئوليات كل جه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هداف الع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كيفية تعامل استشاري الجودة وقائد الفريق مع المشاك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ي قواعد اضافية متعلقة بالفري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بنود العق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شكل الع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شاركة المتساو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وقعات الموزون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وضوعات العقد المتعلقة باستشاري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مشارك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نفو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التز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ح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خصوص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قواعد الاساسية للتعاق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50/5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قاع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حرية الانضم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كل الرغبات شر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نتائج التي تم التفاوض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ضروري مقابل المرغو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قواعد الاساسية للتعاق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2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ركيز على السل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وقعات حقي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وصيل الوعو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عادة التفاو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تفاوضات العق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اذا يريد قائد الفريق من استشاري الجودة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ا هي القيود المناسبة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 يتم قياس النجاح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عريف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جموعة من الاشخاص تجتمع لسبب معين وفترة زمنية محد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تفاوضات العق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2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هل يوجد تحفظات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ا هي الاسئلة التي يجب طرحها لتقديم الاداء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جتماع الفعل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بدء في الوقت المحد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نظ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راجعة جدول 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جتماع الفعل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راجعة التوقع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ديد الهدف والعر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سعي الى المشارك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شر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حفاظ على التركي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خلص وانهاء الاجتما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ا بعد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 تم الاجتماع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اذا تم من جدول الاعمال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ا الذي نحتاجه قبل الاجتماع التالي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 يمكن التحسين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قواعد الاساس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حضو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حز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كان وتوقيت الاجتما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شارك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د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قواعد الاساس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ه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قائد ومسجل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عضاء المناو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وث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تخاذ ال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وافقة الجماع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قرار متفق علية من المجموعة ولكنة ليس اجتماعي ولا ثم الوصول اليه عن طريق التصوي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قوم الاعضاء بتدعيم القرار حتى بدون الموافقة الجماع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للوصل الى الموافقة الجماع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ل عضو تعطى له فرصة ابداء رأ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آراء المتعارضة يتم مناقشته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تم تجميع النقاط  المتفق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ل عضو يبدي رأيه حتى يتم التوصل الى قرار متفق علي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إرشادات للوصول الى الموافقة الجماع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جنب الجدال على الافكار الشخص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دم افتراض نجاح أو خسارة أي شخ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دم تغير الرأي لتفادي الخلاف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لاحظة اختلاف الآرا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فوائد الموافقة الجماع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زيادة المشارك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سين السل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سين جودة القرار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ساواة القو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عم تماسك الفري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نواع الاجتماعات (رسمي أو غير رسمي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علوم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ع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زي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ستراتيجيات المستبعدة في تفكير الفري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كوين مناخ مفتو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ا تعزل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ديد التعليمات القياد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سلوك الممز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جو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ضو الصام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تحد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عارض، المجاد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ا قبل الاجتما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خطيط الاجتما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تابة ومراجعة الاجن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ير عقد مرشد الجودة وقائد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ا قبل الاجتما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شرح الاستراتيجيات لمشاركة المتوازن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ناقشة الحلو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خطيط ل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2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غر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جدو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خطيط ل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عض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تخاذ ال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وث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 rtl="1">
              <a:lnSpc>
                <a:spcPct val="2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جدول الاعم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دفق تفصيلي للمواضيع وخطوات العملي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خطة منطقية ومتتا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ستراتيجية الاجتما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عناصر جدول الاعم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ين/حتى/الم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مواض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مقدم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ليل الوق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نواع المواض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07:03:15Z</dcterms:created>
  <dc:creator>Nermine</dc:creator>
  <dc:description/>
  <dc:language>en-US</dc:language>
  <cp:lastModifiedBy>fcc</cp:lastModifiedBy>
  <dcterms:modified xsi:type="dcterms:W3CDTF">2004-11-09T23:39:18Z</dcterms:modified>
  <cp:revision>79</cp:revision>
  <dc:subject/>
  <dc:title>المحاضرة الخامسة</dc:title>
</cp:coreProperties>
</file>