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BD0F-CC81-48A0-8DE1-F0F163381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9272-ED49-41A9-B815-50BC2483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F541-DC6F-4D9C-AA0C-E4F49B55B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9C40-39D1-4BAE-B07C-17977D498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EE1F-64CF-4A75-8954-C8D56C34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B4D9-6A3D-400C-BBFE-92D172C7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7F8B-5A35-454E-A3CD-C29026DF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CE16-7AA8-4C59-A80F-0A8DD2F4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059F-F3A4-4CEA-B278-9ED3F8F6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6C1E-F5AE-4B52-AE3F-0C94AB93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474B-BFF3-47A3-8EE6-BC1ED3C8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904C-A20B-4CFB-A1B5-CBABE0EE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199F-EC60-45C5-87BC-1C5354BDF10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محاضرة الحادية عش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فريق الجود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جزء الثان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تحول الى مفهوم دوائر التحكم فى الجود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دوائر التحكم فى الجودة بديات فى اليابان فى بداية الستينات كجزء من الجودة و الحاجة الى الاقتصاد للتغلب على سمعة المنتج الرخيص وقليلة الجود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فلسفة و الفكرة الاساسية لدوائر التحكم فى الجود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 rtl="1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دوائر التحكم فى الجودة عادة تظهر مجموعة من الانشطة و التى تغطى كل موظف مسئولية الجود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اسهام فى التحكم الجود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تطوير معرفة العمال و المهارات و جودة رغبة فى العمل عن طريق فرصة للتخطي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 و اتخاذ القرا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ساسيات انشطة التحكم فى الجود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تطوير الذات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مشاركة التطوعية من كل فر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نشطة المجموع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تطبيق العملى فى تقنيات الجودة التحك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نشطة التحكم فى الجودة تاخذ مكان فى ورشة العمل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تطوير المشتر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ابتك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جودة و المشكلة و التطوير المستمر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غرض من التحكم فى الجود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Times New Roman"/>
              </a:rPr>
              <a:t>لتشجيع التطوير عن طريق التطوير الذاتى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Times New Roman"/>
              </a:rPr>
              <a:t>زيادة مستوى الحالة النفسية للعاملين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هداف دوائر التحكم الجود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تطوير الذات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توتر المشتر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جود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اتصال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قليل الهال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رضاء وظيف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قليل التكل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تطوير فى الإنتا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تطوير فى الأما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هداف دوائر التحكم فى الجود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فرص حل المشاك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ناء الفري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رابط بين كل المستويات فى الشرك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و الإدارة لتحقيق النجاح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نجذاب الأفراد الذين لهم الرغبة فى العم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طوير المشارك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قليل الغيا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هيكل دوائر التحكم فى الجود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الأعضا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القاد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المنظم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هيكل دوائر التحكم فى الجود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14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Times New Roman"/>
              </a:rPr>
              <a:t>الأعضاء يتعلمون حلول المشاكل الأساسية وتقنيات التحكم فى الجودة و القدرة على حل المشاكل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هيكل الدوائر التحكم فى الجودة - القاد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القادة هم عادة المشرف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خطة الفري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Times New Roman"/>
              </a:rPr>
              <a:t>هيكل الدوائر التحكم فى الجودة – مسئولية القادة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شجيع المساهمة فى دوائر الجود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عمل ترتيبات و تحضير جدول عمل للمقابلات المستقب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ساعدة المنظمين لتدريب دوائر الجود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شاركة دوائر الجود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وثائق تتعلق بالمقابلات و الأنشط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هيكل دوائر التحكم فى الجودة - المنظم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13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13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Times New Roman"/>
              </a:rPr>
              <a:t>المنظمين هو مدرس صناعى قادر على الاتصال مع كل مستويات و كل الأقسام فى المنظمة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هيكل دوائر التحكم فى الجودة – نسب المنظمي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اتصالات الجيد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ثقة و الاحترام الإدارة و العامل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علومات المنظم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معرفة التقنية للعمالي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مهارات الإدارية للإدا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نافع دوائر الحكم فى الجود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خلق حاسة الرغبة فى العم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زيد الجود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زيد الإنتا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قليل نسبة الغياب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راس الما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طوير خدمة العملا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زايد القدرة على تعين قدرة الموظف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ساوى دوائر التحكم فى الجود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قسم بأكمله غير متور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موظفين الغير اعضاء فى دوائر التحكم فى الجودة ممكن ان يتقبلوا اقتراحات دوائر التحكم فى الجود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تنفيذ برنامج دوائر التحكم فى الجود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ستكشاف ضرورة دوائر التحكم فى الجود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شجيع العاملي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قييم استعداد القطاع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قرار تنفيذ الدوائ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وضع مقاييس عملية و اهداف الدوائ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ختيار تدريب المنظ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ختيار تدريب القائ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تنفيذ برنامج دوائر التحكم فى الجود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دريب الإدارة الوسط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مقابلة الأسبوعية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دريب الأعضا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حديد و حل المشاك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قتراح التحسين الجنة التوجيهية تراجع الأهدا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عمل تقديم ادار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شجيع الأنشط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مشترك بين الفر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مهم فى هيكل الفريق هو الخصائص الخاصة الإدارة هى المسئولة للتحقيق و تحليل كل الاقتراحات للتطوير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فرق بين الفر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عندما تستخدم شركة اكثر من نوع من انشطة الفرق تستطيع الشركة ان تتعرف بوضوح على الصفات و العماليات التى تقوم بهياكل نوع من الفر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تعري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 rtl="1">
              <a:lnSpc>
                <a:spcPct val="1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اسناد الترافقى التى تخلق عن طريق و تعريف و حل المشاكل الادا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غاية و اهدا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للوضع فى الاعتبار التى تحل المشاكل تواجه المنظمة كما هو معرف بالادارة العلي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اعض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قد يتكون الفريق من قادة و مشرفين و مهندس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زاي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ن الافضل ان يفهم المديرين عملية حل المشكل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ن يكونوا اكثر حساسية للمشاكل التى تواجه انواع الفرق الاخر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دوائر التحكم فى الجود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تعري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دائرة الحكم فى الجودة هى مجموعة صغيرة م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)عاملين فى نفس ورشة العم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جموعة دوائر التحكم فى الجود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تم المقابلة بانتظام و تطوع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حت قيادة المشرف المسئول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فى اوقات العمل الرسم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لقيام بانشطة التحكم فى الجود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يتم التدريب على تقنيات التحكم فى الجودة و استخدام فى تعريف و التحليل حل المشاكل العمل المشترك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قتراح الحلول للادارة و تطبيق الحلول عند الضرور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1T02:02:56Z</dcterms:created>
  <dc:creator>lajkf</dc:creator>
  <dc:description/>
  <dc:language>en-US</dc:language>
  <cp:lastModifiedBy>fcc</cp:lastModifiedBy>
  <dcterms:modified xsi:type="dcterms:W3CDTF">2004-11-09T23:44:49Z</dcterms:modified>
  <cp:revision>46</cp:revision>
  <dc:subject/>
  <dc:title>PowerPoint Presentation</dc:title>
</cp:coreProperties>
</file>