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40C-2623-43D7-A32A-A74A87CA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638-C0CA-43B0-A356-EA94956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497-EDD8-43FC-AFAB-7C77ABF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A1D-4020-4FDF-97BA-0C166A63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060-4136-4C04-93D2-E92C586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F1A-254A-4F37-BCBB-994435D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36A-1CF6-42F5-B546-2F7D39D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0B6-8CEC-46C6-92CC-6ED3C7BE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B59-988B-43CD-9171-3628D35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7BF-9D78-496B-B08E-85C10A3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E77-8B54-4586-82F0-B44908B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A3E-1DBE-4D53-ADE7-AD7A82D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3DC-7ADB-43DE-864A-20A34C92E6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س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خلا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عامل مع الخلافات السلب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طريقة المباشرة: تركز على 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قايضة: هى طريقة جيدة عند تعدد الحلول لدى الاط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وية قواع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عامل مع الخلافات السلب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سحاب: لا تستخدم هذه الطريقة الا عندما تكون المشكلة غير حقيق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التوكيد: هذا النوع من انواع المقايضة ويتم فيها الشديد على مناطق الاتفا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دارة الخلافات الانتاج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ود ال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طاق واسع لفهم المشاكل وتعبير صحى عن الموضوعات وبدائل المشاركة الايجاب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نواع الخلاف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لافات داخل الشخ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لافات بين الا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لافات بين الاشخاص و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لافات بين الاحز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سلوك الخلاف (منافسة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ازم وغير م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مارسة الاهتمامات الشخصية على حساب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جيه الطاقة: محاولة الفو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سلوك الخلاف (تجنب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غير حازم وغير م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 توجيه الخلا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سح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سلوك الخلاف (التكييف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غير حازم وغير م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ضاد للتنا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خلى عن الرأى الشخصى لارضاء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سلوك الخلاف (المشاركة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ازم وم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جتماع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حاولة لوجود حلول بالاج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سلوك الخلاف (التوفي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 حازم والمشا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يجاد حل متبادل الرضاء جميع الاط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قييم الخلاف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ية تعريف أعضاء الفريق للموضوعات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ية تحقيق الاعضاء للاهداف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دى ادراك الشخص بتأثير سلوكه على الآخر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ون تدخل، ما الذى يحدث لاداء الفريق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 هى النتائج الناجح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ا المقصود بالخلافات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ركة أو  قتال أو شج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لاف هو خصومة أو عداء بين الا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ارض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ناصر حل ا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نط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أثير الغير قهر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ب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رتي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فاوض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كثر الطرق فعالية فى حل الخل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اوض يقدم مرونة للاستجابة مثل المواجهة ونقص الانتش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فاو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هارات الاربعة التى يحتاجها قائد الفري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نص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ل المشاك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فاو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اس عملية التفاوض هو عرض الافتراضات المختلفة باقصى سرعة ممك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كون الحل مستحيل عندما يميل الخلاف للاضطراب ثم يتحول الى صر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مس خطوات لحل الخلاف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وجود الخل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كتساب قاعدة مشتركة لوضع الخلاف ضمن اهداف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عى وراء فهم كل زوايا الخلاف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هاجمة الموضوعات وليس الا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خطة فعلية تصف مهمة كل شخص لح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تنتا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ند ظهور الخلاف، لا يجب تجاهل الخلاف بل محاولة ايجاد طريقة لحل الخلاف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تعلم كيفية التسامح وقبول وكيفية إداراته ليكون مصدر للتغيير والابدا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شاكل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قد الانتاج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شكاو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لاف بين الا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فتقاد الاهداف الواض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شويش على المه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فتقاد الابداع والتعرض للمخاط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شاكل الفري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جتماعات غير فع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فتقاد روح المباد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 الضعي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فتقاد الث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تقدير 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تخاذ قرارات غير  مفهومة من 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طوات حل المشاكل فى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الاهدا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رفة المشكلة وسبب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العقبات التى تمنع الفريق من تحقيق أهداف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ضع خطة فعلية ك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غيير العقبات المذكورة فى الخطوة الثال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فيذ. و تعتبر أهم خط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باب ا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لاف فى القيم والاهداف والطر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ليف المهام يبدو مستحيل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وضوعات التحكم ف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شكلات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باب ا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تماء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ميزات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الوضع اكثر من التركيز عل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حباط الناتج عن نقص الحل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عراض الخلاف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ضاء غير صبو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هاجمة الافكار قبل مناقش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حياز الاعضا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ليقات انفع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غضب والكراهية واض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نتائج الايجاب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زيادة الطاقة والابدا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ضيح الا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زيادة ا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قواعد الا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نتائج السلبية ل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ناقص الا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قص ال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فعالات سلبية ب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جز على 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لل الوظيف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ضعف تحس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اثلة ا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لاف الايجاب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تخاذ الفريق للقرار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ناخ متعا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خلافات تعتبر مشكلة عاد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لتزام لأهداف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نصات الاعض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خلافات على الموضوعات فق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اثلة الخل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لاف السلب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فريق فى ورط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ناخ تنافس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زام الاشخا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8:01:48Z</dcterms:created>
  <dc:creator>Noha Gamiel</dc:creator>
  <dc:description/>
  <dc:language>en-US</dc:language>
  <cp:lastModifiedBy>fcc</cp:lastModifiedBy>
  <dcterms:modified xsi:type="dcterms:W3CDTF">2004-11-09T23:42:16Z</dcterms:modified>
  <cp:revision>70</cp:revision>
  <dc:subject/>
  <dc:title>المحاضرة الخامسة</dc:title>
</cp:coreProperties>
</file>