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334-7E71-45C7-8A4E-ABD139B2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6BD-600D-4692-89D3-76F6074A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258-9E1F-41FF-9AAF-6CD38B5E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E60-092A-4EB9-8272-73DFEF1F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8B35-F76D-4266-9230-8D8B1B4D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6AFB-35CA-49B9-912F-39B5150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9EE-BB79-406E-B65D-09E5616E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F0CB-E77E-4FA5-AEA7-032C36A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5D72-D232-46C3-81B8-7DFB43C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9D3C-08D2-460F-81E5-502ACB0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DB37-7FEB-49C6-BADA-A6721344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011-C6E2-430B-B59C-25885A3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75C-FB66-4BCB-88C5-C03640C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B78A-D122-4618-BD6A-F409DBEC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BEB-F84B-45B7-9338-87BB814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CBFC-E48C-442D-B1DA-FBF7C4EF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C410-AE99-4D0B-8E55-9BF561B5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8C4-9595-488A-8583-D56D656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A5A-015B-4100-A1CA-31B301B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839-041C-479E-B717-37988868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2D9-115A-453F-BD01-19D02C8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98B-C3F9-409D-9DC7-712AE470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E4E-AB84-423B-BF73-11E7DFF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CC6-58FF-43B6-B28B-B6E8CE6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7E9E-80EC-411D-A391-F56DA272CE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D86-0B3B-4B4E-B436-AE6D4D8D0A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ثام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بار الاستنتا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هذه الخطوة خطيرة لأنك لا تريد التعرف على استنتاجات خاط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ذا حدث ذلك فانك تفقد المصداقية مع المجموعة وانك تجعلهم يتعثر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ساعدة المجموعة كيفية تغير التصر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ختبار التدخل فى المجموعة لابد اختيار التصرف الج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تى 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صرف له تأثير غير مرغوب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رار التصرف الغير مرغوب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تظار التدخل الغير فع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جموعة لها القدرة على التصرف مع التدخ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ك القدرة على الت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تصرف له تأثير غير مرغ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ابد من التدخل اذا لم يتصرف أحد فى الموق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كرار التصرف الغير مرغوب في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ذا كانت فكرة عضو غير مشجعة لابد من التصر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قبل تطوير المثال والأعضاء يفقدوا الرغ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ى الاشتر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نتظار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ند وجود كارثة للأعضاء أو احتياجهم لتغذيه خلفية للتعلم فانه الوقت للت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قدرة المجموعة على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ند اقرار التدخل يجب أن تكون المجموعة على مستوى المسئو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عندك القدرة على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ستطيع التعامل مع أى شئ يواجه المجموعة وتستطيع الدخول فى الموق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تكش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ؤال عن محد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خيص الد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طاء تغذية خل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تخدام أسال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طاء مقترحات على موض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ريب وقت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خلات غير مسج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ريف التنظي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سن حل المشاكل واتخاذ القرارات يزيد كفاءة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ميز التفك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تياجات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ساسيات خلاف تسهيلات تطوير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ميز التفك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ستوى الت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ين توجه الت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ق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واهب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سماع فع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لاحظة تقدم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تصال فع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رات التنظ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درة على تعديل 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ضارب الا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سباب الاستنتاج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رات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كم ج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هارات فرد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كم نفس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رات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يو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وح دعا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ساعدة تحسين المجمو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ريس الأد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ريس مهارات تعديل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سهيل التقييم الشخصى ل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زويد الف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نظيم هو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شخص مقبول؛ طبيعى ؛ لا يأخذ القرارات وتدخلة يساعد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تصال التنظ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ساس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تطو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895480"/>
            <a:ext cx="1067040" cy="5335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دائرة التحليل - التدخ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1905120"/>
            <a:ext cx="6704280" cy="3504960"/>
            <a:chOff x="1066680" y="1905120"/>
            <a:chExt cx="6704280" cy="3504960"/>
          </a:xfrm>
        </p:grpSpPr>
        <p:sp>
          <p:nvSpPr>
            <p:cNvPr id="93" name=""/>
            <p:cNvSpPr/>
            <p:nvPr/>
          </p:nvSpPr>
          <p:spPr>
            <a:xfrm>
              <a:off x="5562720" y="1905120"/>
              <a:ext cx="2122200" cy="71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Mudir MT"/>
                </a:rPr>
                <a:t>1-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يلاحظ التصر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46600" y="3100320"/>
              <a:ext cx="203832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Mudir MT"/>
                </a:rPr>
                <a:t>2-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التدخ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32640" y="4613400"/>
              <a:ext cx="2038320" cy="71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يقرر اذا تدخ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4692600"/>
              <a:ext cx="2378160" cy="71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Mudir MT"/>
                </a:rPr>
                <a:t>4-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يشرح الملاحظ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52360" y="3179880"/>
              <a:ext cx="2292480" cy="71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Mudir MT"/>
                </a:rPr>
                <a:t>5-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اختيار التدخ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52360" y="1905120"/>
              <a:ext cx="2292480" cy="87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Mudir MT"/>
                </a:rPr>
                <a:t>6-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يساعد المجموع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ea typeface="Mudir MT"/>
                </a:rPr>
                <a:t>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Mudir MT"/>
                </a:rPr>
                <a:t>كيفية تغير الأسلو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لاحظة التصر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ول خطوة فى التدخل هو جمع البيان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خمين المعن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سباب الاستنتاجات من الاحدا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قرار التدخ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سؤال نفسك بعض الأسئلة قبل الت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وصف الملاحظ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ند اقرار التدخل أولا يجب اختبار ملاحظتك مع أعضاء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7:16:10Z</dcterms:created>
  <dc:creator>Heba</dc:creator>
  <dc:description/>
  <dc:language>en-US</dc:language>
  <cp:lastModifiedBy>fcc</cp:lastModifiedBy>
  <dcterms:modified xsi:type="dcterms:W3CDTF">2004-11-09T23:42:52Z</dcterms:modified>
  <cp:revision>67</cp:revision>
  <dc:subject/>
  <dc:title>المحاضرة الأولى</dc:title>
</cp:coreProperties>
</file>