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9A3-5107-4323-A615-A79EB872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C23-45F7-4BCF-96F3-DF940D1F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A24-EAEF-4852-AAD1-F52DE1C7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1EC-EC07-4E9C-9F96-6949C610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171-E098-463B-8325-E005FACF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E55-20E0-487D-8220-F8852541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FDD-BF9D-4591-AB1B-96D00EBA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1CC-7A76-4C1F-ADF6-F74AC449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FEB-3705-422B-8B66-1099B7BD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4C7-869E-4AFF-BB58-3F399A14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304-DF46-44D2-8E82-19334BB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0F8-E3B6-40E5-9F50-033928C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2966-08F7-4485-8367-29E589DF060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محاضرة الثالث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دوار الفريق وعلاقات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لجنة إدارة الجود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تكون من المديرين الاوسطي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ر خطة لتحسين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دأ تحليل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ريق فعل العملي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تكون من العاملين ب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القي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جميع البيان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وازالة المشاك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نفيذ النصائح التابعة للجنة إدارة الجودة لتحسين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وثيق تحليل و تنفيذ العم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لجنة إدارة الجود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دأ التحسين المستمر للعم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نصح بتغيرات العملية طبقاً للجنة التنفيذ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تركيب فريق تحسين الجود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981080"/>
            <a:ext cx="4038480" cy="99072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اللجنة التنفيذ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200400"/>
            <a:ext cx="4038840" cy="99072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لجنة إدارة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47800" y="4648320"/>
            <a:ext cx="4038840" cy="99036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فريق تنفيذ  العم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28600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9360 h 1523880"/>
              <a:gd name="textAreaBottom" fmla="*/ 10922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20" stAng="-5400000" swAng="-5400000"/>
                <a:lnTo>
                  <a:pt x="0" y="11520"/>
                </a:lnTo>
                <a:arcTo wR="21600" hR="7920" stAng="10800000" swAng="-2762585"/>
                <a:lnTo>
                  <a:pt x="14400" y="21147"/>
                </a:lnTo>
                <a:lnTo>
                  <a:pt x="21600" y="17640"/>
                </a:lnTo>
                <a:lnTo>
                  <a:pt x="14400" y="13227"/>
                </a:lnTo>
                <a:lnTo>
                  <a:pt x="14400" y="15387"/>
                </a:lnTo>
                <a:arcTo wR="21600" hR="7920" stAng="8037415" swAng="2469123"/>
                <a:lnTo>
                  <a:pt x="565" y="9720"/>
                </a:lnTo>
                <a:arcTo wR="21600" hR="7920" stAng="-10506538" swAng="5106538"/>
                <a:close/>
              </a:path>
              <a:path fill="darkenLess" w="21600" h="21600">
                <a:moveTo>
                  <a:pt x="21600" y="0"/>
                </a:moveTo>
                <a:arcTo wR="21600" hR="7920" stAng="-5400000" swAng="-5400000"/>
                <a:lnTo>
                  <a:pt x="0" y="7920"/>
                </a:lnTo>
                <a:arcTo wR="21600" hR="7920" stAng="10800000" swAng="-293462"/>
                <a:lnTo>
                  <a:pt x="565" y="9720"/>
                </a:lnTo>
                <a:arcTo wR="21600" hR="7920" stAng="-10506538" swAng="5106538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09720" y="3809880"/>
            <a:ext cx="685800" cy="1524240"/>
          </a:xfrm>
          <a:custGeom>
            <a:avLst/>
            <a:gdLst>
              <a:gd name="textAreaLeft" fmla="*/ 91800 w 685800"/>
              <a:gd name="textAreaRight" fmla="*/ 594000 w 685800"/>
              <a:gd name="textAreaTop" fmla="*/ 279360 h 1524240"/>
              <a:gd name="textAreaBottom" fmla="*/ 109260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20" stAng="-5400000" swAng="-5400000"/>
                <a:lnTo>
                  <a:pt x="0" y="11520"/>
                </a:lnTo>
                <a:arcTo wR="21600" hR="7920" stAng="10800000" swAng="-2762585"/>
                <a:lnTo>
                  <a:pt x="14400" y="21147"/>
                </a:lnTo>
                <a:lnTo>
                  <a:pt x="21600" y="17640"/>
                </a:lnTo>
                <a:lnTo>
                  <a:pt x="14400" y="13227"/>
                </a:lnTo>
                <a:lnTo>
                  <a:pt x="14400" y="15387"/>
                </a:lnTo>
                <a:arcTo wR="21600" hR="7920" stAng="8037415" swAng="2469123"/>
                <a:lnTo>
                  <a:pt x="565" y="9720"/>
                </a:lnTo>
                <a:arcTo wR="21600" hR="7920" stAng="-10506538" swAng="5106538"/>
                <a:close/>
              </a:path>
              <a:path fill="darkenLess" w="21600" h="21600">
                <a:moveTo>
                  <a:pt x="21600" y="0"/>
                </a:moveTo>
                <a:arcTo wR="21600" hR="7920" stAng="-5400000" swAng="-5400000"/>
                <a:lnTo>
                  <a:pt x="0" y="7920"/>
                </a:lnTo>
                <a:arcTo wR="21600" hR="7920" stAng="10800000" swAng="-293462"/>
                <a:lnTo>
                  <a:pt x="565" y="9720"/>
                </a:lnTo>
                <a:arcTo wR="21600" hR="7920" stAng="-10506538" swAng="5106538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6705360" y="2228760"/>
            <a:ext cx="685800" cy="1524240"/>
          </a:xfrm>
          <a:custGeom>
            <a:avLst/>
            <a:gdLst>
              <a:gd name="textAreaLeft" fmla="*/ 91800 w 685800"/>
              <a:gd name="textAreaRight" fmla="*/ 594000 w 685800"/>
              <a:gd name="textAreaTop" fmla="*/ 279360 h 1524240"/>
              <a:gd name="textAreaBottom" fmla="*/ 109260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20" stAng="-5400000" swAng="-5400000"/>
                <a:lnTo>
                  <a:pt x="0" y="11520"/>
                </a:lnTo>
                <a:arcTo wR="21600" hR="7920" stAng="10800000" swAng="-2762585"/>
                <a:lnTo>
                  <a:pt x="14400" y="21147"/>
                </a:lnTo>
                <a:lnTo>
                  <a:pt x="21600" y="17640"/>
                </a:lnTo>
                <a:lnTo>
                  <a:pt x="14400" y="13227"/>
                </a:lnTo>
                <a:lnTo>
                  <a:pt x="14400" y="15387"/>
                </a:lnTo>
                <a:arcTo wR="21600" hR="7920" stAng="8037415" swAng="2469123"/>
                <a:lnTo>
                  <a:pt x="565" y="9720"/>
                </a:lnTo>
                <a:arcTo wR="21600" hR="7920" stAng="-10506538" swAng="5106538"/>
                <a:close/>
              </a:path>
              <a:path fill="darkenLess" w="21600" h="21600">
                <a:moveTo>
                  <a:pt x="21600" y="0"/>
                </a:moveTo>
                <a:arcTo wR="21600" hR="7920" stAng="-5400000" swAng="-5400000"/>
                <a:lnTo>
                  <a:pt x="0" y="7920"/>
                </a:lnTo>
                <a:arcTo wR="21600" hR="7920" stAng="10800000" swAng="-293462"/>
                <a:lnTo>
                  <a:pt x="565" y="9720"/>
                </a:lnTo>
                <a:arcTo wR="21600" hR="7920" stAng="-10506538" swAng="5106538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6781320" y="375264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9360 h 1523880"/>
              <a:gd name="textAreaBottom" fmla="*/ 10922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20" stAng="-5400000" swAng="-5400000"/>
                <a:lnTo>
                  <a:pt x="0" y="11520"/>
                </a:lnTo>
                <a:arcTo wR="21600" hR="7920" stAng="10800000" swAng="-2762585"/>
                <a:lnTo>
                  <a:pt x="14400" y="21147"/>
                </a:lnTo>
                <a:lnTo>
                  <a:pt x="21600" y="17640"/>
                </a:lnTo>
                <a:lnTo>
                  <a:pt x="14400" y="13227"/>
                </a:lnTo>
                <a:lnTo>
                  <a:pt x="14400" y="15387"/>
                </a:lnTo>
                <a:arcTo wR="21600" hR="7920" stAng="8037415" swAng="2469123"/>
                <a:lnTo>
                  <a:pt x="565" y="9720"/>
                </a:lnTo>
                <a:arcTo wR="21600" hR="7920" stAng="-10506538" swAng="5106538"/>
                <a:close/>
              </a:path>
              <a:path fill="darkenLess" w="21600" h="21600">
                <a:moveTo>
                  <a:pt x="21600" y="0"/>
                </a:moveTo>
                <a:arcTo wR="21600" hR="7920" stAng="-5400000" swAng="-5400000"/>
                <a:lnTo>
                  <a:pt x="0" y="7920"/>
                </a:lnTo>
                <a:arcTo wR="21600" hR="7920" stAng="10800000" swAng="-293462"/>
                <a:lnTo>
                  <a:pt x="565" y="9720"/>
                </a:lnTo>
                <a:arcTo wR="21600" hR="7920" stAng="-10506538" swAng="5106538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دور الفريق فى المنظم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ريق تحسين العملية يساند في تحويل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جهود لا تحتاج دائماً الى 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أدوار يجب ان تكون واضحة ومعتمد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قادة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رشد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سج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أعضاء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مسئوليات ودور قائد الفريق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خطيط وتنظيم نشاطات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ستمرارية التركيز على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شاركين/العقود مع مرشد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شجيع عمل الفري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إنشاء قنوات اتص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حذر وتكوين الثق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مسئوليات ودور قائد الفري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مل كمستشار خارجى ل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ركيز على عملية العمل الجماع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رشاد وقيادة الفري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عملية الفريق و المهارات الإدا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شاركة او  التعاقد مع قائد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ستمرارية المشاركة بين قائد الفريق ومرشد الجود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362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udir MT"/>
              </a:rPr>
              <a:t>بداية المشرو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udir MT"/>
              </a:rPr>
              <a:t>بعد عدة لقاء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udir MT"/>
              </a:rPr>
              <a:t>نهاية المشرو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5867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udir MT"/>
              </a:rPr>
              <a:t>كمية النشاط القيادى بواسطة قائد الفر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16765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udir MT"/>
              </a:rPr>
              <a:t>كمية النشاط القيادى بواسطة مرشد الجو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595600" y="2379240"/>
            <a:ext cx="4592520" cy="493920"/>
            <a:chOff x="2595600" y="2379240"/>
            <a:chExt cx="4592520" cy="493920"/>
          </a:xfrm>
        </p:grpSpPr>
        <p:sp>
          <p:nvSpPr>
            <p:cNvPr id="86" name=""/>
            <p:cNvSpPr/>
            <p:nvPr/>
          </p:nvSpPr>
          <p:spPr>
            <a:xfrm>
              <a:off x="2595600" y="2379600"/>
              <a:ext cx="4592520" cy="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5600" y="2379600"/>
              <a:ext cx="0" cy="49356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95600" y="2873160"/>
              <a:ext cx="3911400" cy="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507000" y="2379240"/>
              <a:ext cx="681120" cy="49356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595600" y="3533760"/>
            <a:ext cx="2611440" cy="493200"/>
            <a:chOff x="2595600" y="3533760"/>
            <a:chExt cx="2611440" cy="493200"/>
          </a:xfrm>
        </p:grpSpPr>
        <p:sp>
          <p:nvSpPr>
            <p:cNvPr id="91" name=""/>
            <p:cNvSpPr/>
            <p:nvPr/>
          </p:nvSpPr>
          <p:spPr>
            <a:xfrm>
              <a:off x="2595600" y="3533760"/>
              <a:ext cx="0" cy="49320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5600" y="3533760"/>
              <a:ext cx="2609640" cy="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95600" y="4026960"/>
              <a:ext cx="1946160" cy="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525920" y="3533760"/>
              <a:ext cx="681120" cy="49320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595600" y="4676760"/>
            <a:ext cx="1644480" cy="493200"/>
            <a:chOff x="2595600" y="4676760"/>
            <a:chExt cx="1644480" cy="493200"/>
          </a:xfrm>
        </p:grpSpPr>
        <p:sp>
          <p:nvSpPr>
            <p:cNvPr id="96" name=""/>
            <p:cNvSpPr/>
            <p:nvPr/>
          </p:nvSpPr>
          <p:spPr>
            <a:xfrm>
              <a:off x="2606760" y="4676760"/>
              <a:ext cx="1633320" cy="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600" y="4676760"/>
              <a:ext cx="0" cy="49320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95600" y="5169960"/>
              <a:ext cx="992160" cy="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556080" y="4676760"/>
              <a:ext cx="680760" cy="49320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V="1" rot="10800000">
            <a:off x="3731760" y="4648320"/>
            <a:ext cx="776520" cy="5205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 rot="10800000">
            <a:off x="4711320" y="3504240"/>
            <a:ext cx="787320" cy="5238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 rot="10800000">
            <a:off x="6692400" y="2362320"/>
            <a:ext cx="762120" cy="5220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54880" y="2390760"/>
            <a:ext cx="914400" cy="493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3800" y="3495600"/>
            <a:ext cx="2908080" cy="52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3080" y="4676760"/>
            <a:ext cx="3886200" cy="493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دوار ومسئوليات المسجل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حفاظ على السجلات محدث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نظيم الاعمال الإدا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ساعد قائد الفريق على التركيز على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دوار ومسئوليات المسجل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م اختيارهم طبقاً لمعرفتهم ب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شاركة بالمعلومات و الخب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امهم بالتقار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هم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عل عمل الفريق جزء من الوظي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ضور جميع الاجتما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دوار الفريق وعلاقاته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عند اتمام هذه الوحدة , سوف تكون قادر على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تعريف مستوى جودة الفري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تعريف أدوار الفري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تدريب الفري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خطة التدري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ى ذات الوق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تطلبات التدري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ديناميكية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أدوات  تطوير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تدريب الفري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نشاطات التدري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نسقين مستوى جودة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رشدين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عضاء قطاع التدري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كتبة  مستوى جودة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عقد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هو وثيقة مكتوبة , تصف الحدود والنتائج المتوقعة والمصادر المستخدمة بواسطة فريق تحسين الج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مواصفات العقد الفعال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ريف النظم والعملي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ضع الحد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صف النتائج المتوق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المصاد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حدود السل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أعضاء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لوحة مشروع التحسين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وثيق المشاريع من خلال صور توضيح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رسومات بيانية منجز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فى نص بسي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لوحة مشروع التحسين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828800"/>
          <a:ext cx="7696440" cy="4354560"/>
        </p:xfrm>
        <a:graphic>
          <a:graphicData uri="http://schemas.openxmlformats.org/drawingml/2006/table">
            <a:tbl>
              <a:tblPr/>
              <a:tblGrid>
                <a:gridCol w="2886120"/>
                <a:gridCol w="2062080"/>
                <a:gridCol w="274824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لوحة مشروع التحس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لوضع الحال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سباب التحس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معلومات ا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تجميع وتحليل البيان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8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لخطط المستقب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تقييم النتائ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لتحسين والتطبيق المقد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فائدة من لوحة مشروع التحسي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ركيز على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الاتصال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نح مميزات ل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شرائح لوحة مشروع التحسين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752480"/>
          <a:ext cx="8153640" cy="4354560"/>
        </p:xfrm>
        <a:graphic>
          <a:graphicData uri="http://schemas.openxmlformats.org/drawingml/2006/table">
            <a:tbl>
              <a:tblPr/>
              <a:tblGrid>
                <a:gridCol w="3057480"/>
                <a:gridCol w="1019520"/>
                <a:gridCol w="1164960"/>
                <a:gridCol w="29116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لوحة مشروع التحس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لوضع الحال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سباب التحس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معلومات ا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خطوات العمل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لقياسات الاساس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لعق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منطوق المرجع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أسم الفري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أعضاء الفري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محاضر الاجتماع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تجميع وتحليل البيان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lvl="1" marL="369720" indent="-72720" algn="r" rtl="1">
                        <a:lnSpc>
                          <a:spcPct val="7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لخطط المستقب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تقييم النتائ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لتحسين والتطبيق المقد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توصي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طرق المتاب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بيانات المتاب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udir MT"/>
                        </a:rPr>
                        <a:t> خرائط المراقبة الاحصائ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توصي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Mudir MT"/>
                        </a:rPr>
                        <a:t>استراتيجيات التطبي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دوار الفريق وعلاقاته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تقييم العقد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إدارة عملية مراقبة الفري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خلق حوار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نواع مستوى جودة الفري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لجنة التنفيذية (أصحاب النظا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جنة إدارة الجودة (أصحاب العملي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ملية دعوى الفريق (العاملين بالعملي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لجنة التنفيذي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تكون من القا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ود جهود إدارة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شاركة فى نشاطات تحسين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ود الفريق لتحسين 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لجنة التنفيذي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و امداد الموار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قود الى التح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دأ الادارة الاستراتيج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ختيار العملية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العمليات المعن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يار  العمليات المرتبطة بإنجاز الرؤ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يار العمليات المهمة للعمي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ستخدام النظم لاختيار العملي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ختيار العملية للتحسين المبدئ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ملية تكون مهمة بالنسبة للهدف الأساسى للمنظ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دم فرصة عظمى للتحس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حسين يكون واضح  فى مدى قص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ملية لا تجتاز التحول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تبر بسيطة ولها نقاط بداية ونهاية محدد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حدود العملي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ين تبدأ العمل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هى مدخلات العمل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ن أين تأتى مدخلات العمل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هى الخطوات الكبرى للعمل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هى المنطقة الوظيفية المستخدم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ين تنتهى العمل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هى المخرجات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ن الذى يستلم المخرجات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7:56:10Z</dcterms:created>
  <dc:creator>sahar</dc:creator>
  <dc:description/>
  <dc:language>en-US</dc:language>
  <cp:lastModifiedBy>fcc</cp:lastModifiedBy>
  <dcterms:modified xsi:type="dcterms:W3CDTF">2004-11-09T23:38:41Z</dcterms:modified>
  <cp:revision>62</cp:revision>
  <dc:subject/>
  <dc:title>المحاضرة الثالثة</dc:title>
</cp:coreProperties>
</file>