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DCD-ABCD-4D34-B7C1-C9D2310D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405-7FC9-44ED-8EF6-E589E28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1AA-4485-4866-828A-E79B62D1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D9B-B87B-46F9-8F71-1230D9CD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82C-59D1-44C8-A1E8-4C84B8B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DDE-3A49-438E-8723-B263A20E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E5E-F9D7-48D5-BFA2-7B7F30CD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C59-1A7E-4167-A359-291C4A4A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3B2-F8A1-4E17-96CF-796C7B69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3CB-335A-430B-8615-C308C02F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B20-368C-4947-84E5-76DE8D00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727-BE51-4B57-9276-00E85EA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CF79-E6E9-4975-AE7D-CBDBA0236E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حاضرة العاش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ymusic"/>
              </a:rPr>
              <a:t>فريق الج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يزات فرق المه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شخاص ذو مهارات عالية لحل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هناك تفاني كامل من الا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حل المشكلة بسر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اون بدرجة ع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يوب فرق المه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مل في بيئة مجه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ل النهائي عادة لا يتم تطبيقه عن طريق لجنة فرق المه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ا تعتبر إدارة مفيدة في عملية التح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حتياج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سيع التعريف التقليدي للعملية ليشمل الانتاج الكامل والنظام العم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هداف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زالة الفاقد والقيمة الغير مضافة للنشا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ا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نشاطات فريق تحسين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ضيح العملية بخريطة تدف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صدار نقط قياس ودائرة تغذ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أهيل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خطط تحسين وتنفي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رير الجودة، الانتاجية، وخالة التغي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وتنفيذ نظام التخزين بواسطة طريقة  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T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عضاء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شخاص ذوي خبرة ومعرفة مناسبة لحل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أن تتضمن العضوية أشخاص مناسبة من الفريق خارج المناطق التقنية والعم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دور اعضاء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جهيز انفسهم جيداً للاجتماع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شاركة الافكار والآر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وجهات نظر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للبدائل الا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ساعدة الفريق لتحديد الحلول المناس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خار الحكم حتى يتم الاستماع الى كل المناقش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مل المسئولة الشخص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قائد فريق تحسين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تعيين القائد عن طريق الادارة ويتم امداده بملخص يتعلق بالاهداف وجدول التوقيت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سئوليات قائد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أعداد جدول الأعم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داد جدول لوقت واماكن الاجتماع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لم عامل لوحة المفاتيح وقت الاجتماع ومكانة والمشتركين ب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تفظ بالفريق والمناقشة على المضم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جيع كل الاشخاص على المشا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عضاء مجلس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تصر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متصرف يعرف المشكلة مع فائد الفريق ويقرر الفريق مع قائد الفري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دور المتصر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شد فائد الفريق عن الحاج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مراقبة تقدم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مساندة قائ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تقديم الخبرات الخارجية عند الحاج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قديم التقارير لقائد الفريق عن تقدم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إدارة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وضع أهداف واضحة للفريق عن طريق القائ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داد جدول للأعمال عن طريق القائ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تحديد أوقات الاجتماعات عن طريق سكر تارة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إدارة تحسين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غرض والهدف من إدارة تحسين الفري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هدف من إدارة تحسين الجودة هي ارشاد الفريق وتستخدم كوسيلة للمشاركة في الاحداث التي تهدف لتحسين مستوي الجودة والانتاجية للإد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نشاطات إدارة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هود الفريق تكون إما مركزة على نشاطات القسم نفسه أو لها تأثير مباشر على نشاطات القس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نشاطات إدارة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عية والتع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ل المشاكل و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نشاطات إدارة فريق تحسين الجودة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توعية والتعل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هم اهداف الش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هم تحسي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عيار الاداء الخالية من الاخط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جميع البيانات وطرق تعريف وتحليل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وثيق التح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قياس النتائ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التحكم في الرسومات البيانية والعين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نشاطات إدارة فريق تحسين الجودة الفه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2514600"/>
            <a:ext cx="35812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Maiandra GD"/>
                <a:cs typeface="Mudir MT"/>
              </a:rPr>
              <a:t>النشاط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  <a:ea typeface="Mudir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قيمة الم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منع الاخط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كشف الاخط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زالة الاخط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0040" y="3200400"/>
            <a:ext cx="1828800" cy="1828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مخرج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200400"/>
            <a:ext cx="1828800" cy="1828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مدخ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6920" y="2101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6806"/>
                </a:solidFill>
                <a:latin typeface="Maiandra GD"/>
                <a:cs typeface="Mudir MT"/>
              </a:rPr>
              <a:t>الإ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28280" y="21780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6806"/>
                </a:solidFill>
                <a:latin typeface="Maiandra GD"/>
                <a:cs typeface="Mudir MT"/>
              </a:rPr>
              <a:t>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0200" y="2178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6806"/>
                </a:solidFill>
                <a:latin typeface="Maiandra GD"/>
                <a:cs typeface="Mudir MT"/>
              </a:rPr>
              <a:t>المور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3400" y="58356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علاقة المورد بالزب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نشاطات إدارة فريق تحسين الجودة الفه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شاطات الاس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دارة بحوث الس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داد تقارير التكالي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قابلة ا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الافتراضات التنبئ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تياج لاعضاء مجلس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جلس الجودة هو عنصر اساسي في البنية الاساسية للشركة لإدارة الجودة. يتم ممارسة مراقبة شاملة بالنسبة لاصدار وصيانة الجودة الشا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نشاطات إدارة فريق تحسين الجود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حل المشاكل واتخاذ القر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56360" y="1828800"/>
            <a:ext cx="6039720" cy="4583520"/>
            <a:chOff x="1656360" y="1828800"/>
            <a:chExt cx="6039720" cy="4583520"/>
          </a:xfrm>
        </p:grpSpPr>
        <p:sp>
          <p:nvSpPr>
            <p:cNvPr id="104" name=""/>
            <p:cNvSpPr/>
            <p:nvPr/>
          </p:nvSpPr>
          <p:spPr>
            <a:xfrm>
              <a:off x="1727280" y="1828800"/>
              <a:ext cx="5968800" cy="435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79840" y="2543040"/>
              <a:ext cx="4000320" cy="2927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86400" y="2109960"/>
              <a:ext cx="181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تنفيذ الخط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7280" y="4041720"/>
              <a:ext cx="95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0160" y="4041720"/>
              <a:ext cx="1013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632040" y="5327640"/>
              <a:ext cx="25416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999200">
              <a:off x="5600880" y="4541400"/>
              <a:ext cx="634680" cy="18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630400">
              <a:off x="1385640" y="4844520"/>
              <a:ext cx="297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تطوير تحسين العملية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94240" y="5603760"/>
              <a:ext cx="2318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وضع هدف جدي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477000">
              <a:off x="5804640" y="4584600"/>
              <a:ext cx="199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مكافأة النجا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80880" y="6019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حلقة الجودة</a:t>
            </a:r>
            <a:r>
              <a:rPr b="1" lang="ar-SA" sz="2400" spc="-1" strike="noStrike">
                <a:solidFill>
                  <a:srgbClr val="000000"/>
                </a:solidFill>
                <a:latin typeface="Maiandra GD"/>
                <a:ea typeface="Mudi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واعد الاساسية لإدارة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داد وتوزيع جدول الا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دأ الاجتماع في الوقت المحد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مشاركة المدير في الاجتماع للتشج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واعد الاساسية لإدارة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جنب المدير أن يقوم الفريق بالتصويت علي موضوع مع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دول أعمال الاجتماع والمشاكل تناقش وتحص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يزات إدارة فريق تحسين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ل العاملين مشتركين في تحسين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جب مكافأة العاملين الناجحين من المد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مميزات القوا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طرق ومهارات حل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قوم قائد الإدارة بدور قائد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طوير العاملين لأنفس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يزات إدارة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مداد النظام بمعيار ارضاء العمي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م مساعدة العاملين في تنظيم اهدافهم طبقاً لاهداف الإدارة والش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ور الصعود الفعالة تستخدم لحل المشاك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علاقة المديرين بالعام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يوب إدارة فريق تحسين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يب المبدئي هو طلب توقف لكل الادوات عن تأدية واجب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سئوليات مجلس الجو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ريف ودمج العناصر الاساسية لاستراتيجيات إدارة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أكيد من ان الاحتياجات المرتبطة بالبنية الاساسية قد تم انجاز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ميزات مجلس الجود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مل ملفات لادارة الجودة التي توضح تأثير إدارة الجودة على النشاطات العم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شر موضوعات إدارة الجودة في جميع النشاطات اليو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جود موضوعات وجدول أعمال لإدارة الجو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فرق المه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حاجة الى فرق 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شكل بواسطة الادارة العليا عند ظهور مشاكل كبرى يجب حلها فور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فرق 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شاط فرق المهام محدد لمشكلة واحدة تم حلها فور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عضاء فرق المه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عضاء فرق المهام لديهم مهارات محترفة، يتم اختيارهم لحل مشاكل معين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7:03:15Z</dcterms:created>
  <dc:creator>Nermine</dc:creator>
  <dc:description/>
  <dc:language>en-US</dc:language>
  <cp:lastModifiedBy>fcc</cp:lastModifiedBy>
  <dcterms:modified xsi:type="dcterms:W3CDTF">2004-11-09T23:44:07Z</dcterms:modified>
  <cp:revision>41</cp:revision>
  <dc:subject/>
  <dc:title>المحاضرة الخامسة</dc:title>
</cp:coreProperties>
</file>