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9BA7-4DC4-4C9A-8B71-5C6F7FBC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764-530F-4255-A04E-42E4EDD9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0EB-D007-46BC-8D81-0D10C26C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919-50E6-4F1B-BC88-8AE91CE4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9D5-6095-410D-9F17-DD8E7BE8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0FD-F550-44E8-9B89-2A29CFC3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2B3C-A296-423E-934A-1F255C42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EA5-913B-40C6-AD9D-D06A5776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93BD-9968-4E18-B0F4-374E5D25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1F0-A2B9-4C44-A395-00CB364C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CD5-CD28-4D06-A9C8-9C098165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1CC-7300-4786-81F4-FDE02B4E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E5C4-1C8F-408E-86D6-39F964001C9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حاضرة الثانية عش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قاييس المجمو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قاييس النتائ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رك اكثر من المشاريع المنتهية نتائج القرارات يجب تلخيصه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قاييس الأداء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قاييس الملموسة للنتائج له تأثير بغير فى هذه المقاييس مقاييس الإنتاج لابد م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ضعة فى الاعتبار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قاييس مستقل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نشاء ادوات تقيم لأعضاء الفريق و غير اعضاء الفري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نشاء تقيم مطو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فائدة المكتسبة مع المستقبلية لابد من توضيحها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قاييس مستقل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دارة التقييم لجميع اعضاء العم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وضيح ما اذا كان اندماج حقيقى الفريق و العوامل المستقب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قاييس مستقلة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عضاء الفريق اكثر ايجابية على جميع العوامل عن غير الأعض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ابد من دمج بين الأعضاء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 المشاركة الإيجابية و العوامل التحسين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قاييس ارضاء العاملين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قاييس ارضاء العميل من قاعدة بيانات المنظم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عاملين الغير سعداء يبذلوا قصار جهدهم حتى لا يفقدوا و وظيفته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وظف هو العميل الأول  الى تسعى المنظمة على إرضائ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قاييس ارضاء العامل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قاييس ارضاء العاملين يدمج العديد من الفهارس الصلبة المؤثرات لمقاييس ارضاء العاملين لابد ان تاتى المقدر المجموعة و التقنيات الأخر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قاييس ارضاء العاملين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قاييس الصلبة لمقاييس ارضاء العامل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انقل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طلب التغي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شكو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غائ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قياس فى الكمبيوتر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ابد من وجودها فى المجموع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ث اعضاء الفري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قود الفريق الى مشاريع و اصدارات جديد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قديم تقرير نتائج القياس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نتائج يجب ان تصل الى كل الأجزاء الشركة على كل المستوي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صحف الأعلام مجلة التى يمكن تكون مفيدة لمشاركة فى النتائج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العميل يجب ان يكون متفائل لسلوك الشركة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قد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ختيار المقاييس و الأهداف هو اكبر طالب لكفاءة المنظمة كنظ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ساعدة تقدم الفري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ساعدة يمكن ان تصح سلوك الأعضاء يمكن ان تساعد عند سقوط بعض الأعضا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تساعد عندما يكون هناك حريق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ساعدة تقدم الفريق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ساعدة الفريق يجب ان تاخذ مكان عند نهاية كل الاجتماع الى مشكلة تعرف عن طريق الفريق مراجعة الفري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رد الفعل و التعلم الاستراتيجى </a:t>
            </a: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رد الفعل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دعم بالمعلومات  والتى توضح تعديل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وار صريح بين الفريق و الإدار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رد الفعل و التعلم الاستراتيجى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رد الفعل عندما يكون سريع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كون افض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والون المديرين برد الفعل السري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رد الفعل يجب ان يكون محل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رد الفعل و التعلم الاستراتيجى </a:t>
            </a: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رد الفعل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جب ان يكون محد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جب ان يكون مكثف و مفهو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جب ان يكون محدث على فترات منتظم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جب ان يكون مفهوم عندما يكت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بيانات المستهدفة و الفعالة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بيانات القياسية تحتاط تغذية خلفى للمجموع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بيانات المستهدفة و الفعالة تجبر الشركات فى تقييم جودة المجموع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رامج قياسات الجودة تطبق على عمل المجموع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بيانات المستهدفة و الفعال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نتائج الملموسة تنظر من الواجهة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بيانات المستهدفة و الفعالة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سجلات نشاط الفريق تحتاج الى دراس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ستخدم كاساس لقرارات الفريق للمستوى الإرشادى فى الشرك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بيانات المستهدفة و الفعالة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نتاج الغير ملموسة لأعمال الموظفين يحسن ادارة الموظف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تصالات تعتبر هدف و لكن الرجوع يعتبر اكبر من الأشياء  الملمو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قاييس التقدم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افظ على السجلات فى وقت العملية ليساعد على تحديد صحة العم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سجل عدد من المشاريع من البداية حتى النهاية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ساب معدل المشاركة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طرق حساب معدل المشارك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ساب عدد المشتركين فى الفريق بعد تدريبهم لتنسيق من عدد المتدربي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نظر الى عدد المتدرب كنسب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عدد كام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النظر الى عدد الموظفين الذين يكونوا بعد تدريبهم كنسبة من العدد الكلى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قاييس النتائ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شاريع اضافية كل المشاكل تاريخ بدء المشروع يجب تسجيله متوسط المشروع ما بين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الى ستة اشهر قائمة المشاريع لتوزيع على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10:43:39Z</dcterms:created>
  <dc:creator>heba</dc:creator>
  <dc:description/>
  <dc:language>en-US</dc:language>
  <cp:lastModifiedBy>fcc</cp:lastModifiedBy>
  <dcterms:modified xsi:type="dcterms:W3CDTF">2004-11-09T23:45:28Z</dcterms:modified>
  <cp:revision>28</cp:revision>
  <dc:subject/>
  <dc:title>PowerPoint Presentation</dc:title>
</cp:coreProperties>
</file>