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D51-51DF-4FBE-AE2A-805DDDC1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305-883D-4DF2-B747-87AE5D1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25B-3598-4DFD-AB27-03ECF9B7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1FB-F562-4614-9022-0FB72C5F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EEE0-C633-40B5-BB2A-DB57B264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C38F-230B-4625-9691-08E5CE4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ADA-0C6E-4FDD-82CC-3177326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BCC-F8A8-49CA-BF4E-D113A362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F65E-D954-46F0-ABA6-08C432A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4AD-4244-4F7B-AB29-4F2473D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1B06-A1EF-4872-8772-C3422DF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A55-46E2-4F70-977C-5881A98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64A-EA74-4D94-9D40-16FF91C3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EF6E-6327-4EFD-A0D1-E979C487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5D7-973E-40F5-9FCE-6605B32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702D-5C28-43E2-A7F9-78B1C87C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313E-205C-47BE-A791-7789DE97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B94-090F-4796-9EC5-C2C082F5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F07-566F-4E5A-A93B-FBA7A7D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7CA-570D-4DC2-B52D-805C2CA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64F-5813-440A-A812-5FB79AD2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0A3-2E2B-42A9-890D-952C810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528-6507-41D9-B8D5-27D259B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0B0-5B0D-4E60-BD1F-AB1A6BA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8DA2-F4A5-453D-B6F8-A70018A2112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B04-0D42-42D1-B572-604D583517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سادس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وات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جزء الثان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يتم عمل باريتو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د المشكلة التى تريد ان تعرف عن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ار الأسبا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د وحدة القي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د الفترة الزمنية للدراس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جمع البيانات اللاز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يتم عمل باريتو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ارن بين سرعات التر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جمع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ختي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صر النتائ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3880" y="1905120"/>
            <a:ext cx="6172200" cy="4343400"/>
          </a:xfrm>
          <a:prstGeom prst="rect">
            <a:avLst/>
          </a:prstGeom>
          <a:solidFill>
            <a:srgbClr val="cecec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809880"/>
            <a:ext cx="1067040" cy="24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105520"/>
            <a:ext cx="10666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659560"/>
            <a:ext cx="990720" cy="58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827680"/>
            <a:ext cx="1066680" cy="420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5996160"/>
            <a:ext cx="990720" cy="2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080040"/>
            <a:ext cx="990360" cy="168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96252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1972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87692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2578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66100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68520" y="243828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8520" y="281952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8520" y="320040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358128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9051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9051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9051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240" y="1981080"/>
            <a:ext cx="3962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2819520"/>
            <a:ext cx="106668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922920" y="1675080"/>
            <a:ext cx="659520" cy="993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جزاء من خريطة باريتو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 البيان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لومات خاصة للتحليل وتستخدم  كقاع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لاتخاذ القر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نواع البيان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شخص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وضوع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نس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تغ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H="1">
            <a:off x="6868800" y="3505320"/>
            <a:ext cx="82692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219280" y="3429000"/>
            <a:ext cx="7239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619440" y="3429000"/>
            <a:ext cx="8272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33360" y="3429000"/>
            <a:ext cx="7239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ملية تجميع البيان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743200"/>
            <a:ext cx="16542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2749680"/>
            <a:ext cx="1447920" cy="14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8800" y="2717640"/>
            <a:ext cx="13446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عداد خط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جمع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717640"/>
            <a:ext cx="13446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17640"/>
            <a:ext cx="144792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195720"/>
            <a:ext cx="1138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296856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وضيح  اهداف جمع البي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965320"/>
            <a:ext cx="124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ستحداث تعريفات العم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3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بدء فى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736720"/>
            <a:ext cx="1447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لأستمرارفى تمش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نظام القيا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صويت المتعد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لية تكرارية تستخدم  الفرق لاختيار اهم و اشهر نقاط من قائمة الفر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صويت المتعدد يمكن ان يتبع العصف الذهنى لتعريف البنود التى تحتاج لغيابه فو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صويت المتعد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 لعمل التصويت يمكن ان تكون عن طريق العصف الذهنى و عدد من النقا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 كل فريق يختار مجموعة من الاختيارات على الأقل ثلث من مجموع القائ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 تجميع اختيارات الفريق بواسطة التصويت بالايدى او الاورا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لوب التفكير الجماعى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لوب ترتيب الأوزان و النقاط لتكوين اولويات لعدد كبير من النقا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276720"/>
            <a:ext cx="6172200" cy="2895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581280"/>
            <a:ext cx="106668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029200"/>
            <a:ext cx="106704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6386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791320"/>
            <a:ext cx="106704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5943600"/>
            <a:ext cx="9903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019920"/>
            <a:ext cx="99072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73392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26708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8006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63868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076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لوب التفكير الجماعى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ا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المه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بتكار الا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رد جميع الا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افع اسلوب التفكير الجماعى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وافقة جماع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ليل النزاع الغير منت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ساعد على اختيار البدائ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لوب التفكير الجماع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د حرف او رق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تب الأفكار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تب الأ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د الأولو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ادة كتابة القائمة حسب الأولو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 خرائط باريت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ريطة اعمدة راسية تبين الفصائل بترتيب تنازلى من اليسار الى الي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حليل باريت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بادى باريتو يمكن ان تكون اداة للادارة للترك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على المشاكل و الحلول التى يمكن ان تعود بالفائ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1T22:04:27Z</dcterms:created>
  <dc:creator>lajkf</dc:creator>
  <dc:description/>
  <dc:language>en-US</dc:language>
  <cp:lastModifiedBy>fcc</cp:lastModifiedBy>
  <dcterms:modified xsi:type="dcterms:W3CDTF">2004-11-09T23:40:42Z</dcterms:modified>
  <cp:revision>27</cp:revision>
  <dc:subject/>
  <dc:title>PowerPoint Presentation</dc:title>
</cp:coreProperties>
</file>