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642-851A-4A91-AE47-BFC78265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82F-16D7-45AB-8296-B3EEB654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39F-BB52-47B6-8870-2BB89D10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A70-0B37-411C-908A-943B1C2A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E66-24AF-486B-8FAB-8D8FFAFA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94C-187A-449B-BD33-E2251E91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595-8503-4721-AFDA-2B083BF3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0CE-48AE-46F4-82AB-85F5F7F9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FA9-D598-4FEB-9A7A-59C6E28A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DFD-C36E-4733-8EA7-C061F66B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C8F-6C95-4554-B9DF-3B8239D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2F1-B102-4F27-9F14-945A0ADC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A535-8629-4CA1-93DC-AF44842699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ymusic"/>
              </a:rPr>
              <a:t>أدوات الفر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ymusic"/>
              </a:rPr>
              <a:t>الجزء الأ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لماذا يستخدم العصف الفكرى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ديد المشاكل لحل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يجاد اسباب المشكل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يجاد حلول للمشاك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يجاد طرق لتطبيق الحل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وفير البيانات والافكار المتاح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نواع العصف الفكر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رك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 أعضاء الفريق يشاركون بتسلس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غير مرك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سلسل العصف الفكر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راجعة العناوين الرئيسية وتعريف المادة بوضو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ؤال عن أفك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تابة الافك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ا الذي يقوم به العصف الفكرى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جيع التفكير المتفت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شاركة جميع ا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ماح لجميع الاعضاء للتعاون بإبداع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ماح بظهور جميع الافكار مع التعبير عن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قواعد العصف الفكر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وين افكار كل عضو مع اخذها في الاعتب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دون مناقش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دون نق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م فعلها بسر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خريطة السبب والتأث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وضح العلاقة بين السبب والتأث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الاسباب المحتملة وتأثيرات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9680" y="3059280"/>
            <a:ext cx="1703520" cy="56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00"/>
                </a:solidFill>
                <a:latin typeface="Times New Roman"/>
              </a:rPr>
              <a:t>البيئة المحي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343320"/>
            <a:ext cx="5692680" cy="1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3116160"/>
            <a:ext cx="914400" cy="5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00"/>
                </a:solidFill>
                <a:latin typeface="Times New Roman"/>
              </a:rPr>
              <a:t>التأث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752480"/>
            <a:ext cx="1158840" cy="5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00"/>
                </a:solidFill>
                <a:latin typeface="Times New Roman"/>
              </a:rPr>
              <a:t>الطر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1752480"/>
            <a:ext cx="1158840" cy="51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00"/>
                </a:solidFill>
                <a:latin typeface="Times New Roman"/>
              </a:rPr>
              <a:t>الموا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365720"/>
            <a:ext cx="1463760" cy="43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00"/>
                </a:solidFill>
                <a:latin typeface="Times New Roman"/>
              </a:rPr>
              <a:t>القوة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365720"/>
            <a:ext cx="1158840" cy="43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00"/>
                </a:solidFill>
                <a:latin typeface="Times New Roman"/>
              </a:rPr>
              <a:t>الآلات</a:t>
            </a:r>
            <a:r>
              <a:rPr b="0" lang="ar-SA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320920"/>
            <a:ext cx="792000" cy="1022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324120" y="3343320"/>
            <a:ext cx="669960" cy="1022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2320920"/>
            <a:ext cx="731880" cy="1022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71640" y="3343320"/>
            <a:ext cx="669960" cy="1022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604960"/>
            <a:ext cx="609480" cy="738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42840" y="3343320"/>
            <a:ext cx="609480" cy="7952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34520" y="2206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4520" y="40813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32160" y="2717640"/>
            <a:ext cx="549360" cy="18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35480" y="3059280"/>
            <a:ext cx="669960" cy="1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1800" y="3570120"/>
            <a:ext cx="669960" cy="18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35480" y="3911760"/>
            <a:ext cx="549360" cy="1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08680" y="2717640"/>
            <a:ext cx="549360" cy="18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60960" y="3059280"/>
            <a:ext cx="669960" cy="1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64280" y="3570120"/>
            <a:ext cx="669960" cy="18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60960" y="3911760"/>
            <a:ext cx="549360" cy="1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3920" y="2500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1200" y="28386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77520" y="33400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5160" y="36781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92200" y="25146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9480" y="285264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5800" y="33544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080" y="36925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سب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لماذا تستخدم خريطة السبب والتأثير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ماح للفريق للتعريف والتوضيح البياني لكل التفاصيل والاسباب المتعلقة با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نظم المعلومات الناتجة عن العصف الفك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جيع مشاركة الجم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ماح لجميع المشتركين للتعل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تنفيذ خريطة السبب والتأثير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الاولى: تحديد المشكلة أو التأث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الثانية: تعريف وتحديد الأسباب الرئيسية ل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الثالثة: اشتراك جميع الاعضاء في جلسة العصف الفك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تنفيذ خريطة السبب والتأث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الرابعة: منح الوقت للتأمل في الاسباب قبل تقييم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الخامسة: تحديد الاسباب المتشابه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طوة السادسة: التحقيق من السب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دوات أعمال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ن الممكن استخدامها عن طريق الاشخاص في جميع الانواع واحجام المنظم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شروط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نتج منتجات وخدمات أفض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دوات الفريق الاساس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ريطة تدف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صف الذه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ريطة السبب والتأثي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لوب تعدد الآرا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رائط باريت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ملية خطة التدف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سم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743200"/>
            <a:ext cx="1447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80988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3768840"/>
            <a:ext cx="1904760" cy="761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380988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835520"/>
            <a:ext cx="14475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9" idx="4"/>
            <a:endCxn id="50" idx="0"/>
          </p:cNvCxnSpPr>
          <p:nvPr/>
        </p:nvCxnSpPr>
        <p:spPr>
          <a:xfrm>
            <a:off x="2095200" y="3580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3"/>
            <a:endCxn id="51" idx="1"/>
          </p:cNvCxnSpPr>
          <p:nvPr/>
        </p:nvCxnSpPr>
        <p:spPr>
          <a:xfrm flipV="1">
            <a:off x="3048120" y="4149000"/>
            <a:ext cx="4579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1" idx="3"/>
            <a:endCxn id="52" idx="1"/>
          </p:cNvCxnSpPr>
          <p:nvPr/>
        </p:nvCxnSpPr>
        <p:spPr>
          <a:xfrm>
            <a:off x="5409720" y="4149360"/>
            <a:ext cx="229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2"/>
            <a:endCxn id="53" idx="0"/>
          </p:cNvCxnSpPr>
          <p:nvPr/>
        </p:nvCxnSpPr>
        <p:spPr>
          <a:xfrm>
            <a:off x="4457520" y="45302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لماذا تستخدم خطة التدفق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مح للفريق بالتعرف على التدفق الحقيقي أو التسلسلي للأحداث في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عمل خطة التدفق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دد إطار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خطوات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سلسل الخطو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عمل خطة التدف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سم خطة التدفق مستخدماً الرمو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حص أو اختبار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هاء خطة التدف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ميزات خطة التدف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رض تعقيد العملية وأماكن المشا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قارنة والترك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ضيح خطوات العملية ل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الواق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تخدم كتدريب على فهم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عصف الفكر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كنيكية استخراج الافكار المستخدمة عن طريق الفريق لاستخراج افكار في فترة زمنية قصي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م اجتذاب الافكار من ا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7:03:15Z</dcterms:created>
  <dc:creator>Nermine</dc:creator>
  <dc:description/>
  <dc:language>en-US</dc:language>
  <cp:lastModifiedBy>fcc</cp:lastModifiedBy>
  <dcterms:modified xsi:type="dcterms:W3CDTF">2004-11-09T23:39:54Z</dcterms:modified>
  <cp:revision>17</cp:revision>
  <dc:subject/>
  <dc:title>المحاضرة الخامسة</dc:title>
</cp:coreProperties>
</file>