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F4A-2B98-4E8A-A1C0-958EDEB1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67D-46DB-42F5-A2DD-5C5EA14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9EC-D805-4CFE-8E1F-2864A5DF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C16-BA2F-4586-BF43-0185DD86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514-2F41-4C4C-B9ED-37CF5C6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BB3-3ADB-4408-87DA-30A7EB7C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B1B-9BD0-4815-8812-0969914B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F24-4E18-45BB-890D-06D1E4C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985-5FC0-409D-8A4F-986B44B8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E7D-53C8-4173-AC14-A9C1623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E57-1D16-4944-9A97-8060279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C72-D644-4088-9017-E589A2C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DE83-6FF0-4F39-A0D6-BAD8C9BC8E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تاس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ymusic"/>
              </a:rPr>
              <a:t>تدريبات فريق الع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حليل والتفس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لتحقين يتعلمن المهارات التي تساعدهم على استخراج المعلومات المستخدمة من بياناتهم اثناء تطبيق بعض الادوات الاساسية من ادارة الجودة الشا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جميع وعر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تائج التحليل والتفسير يتم مراجع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رض عبارة عن مبيعات يمكن طرح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دريب يشمل ممارسة العرض أما عن طريق رسم الخرائط أو استخدام الشفا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حتويات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حتويات الاساسية لبرنامج  التدريب 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هارات حل المشاك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هارات العر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هارات الاتص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هارات ديناميكية الف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هارات قائد الف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خطوات المتتالية لحل المشك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المشك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لي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الحلول الممك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احسن الحل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فتاح مهارات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عديد من مفاتيح مهارات الاتصال مطلوبة لعرض ادارة الفري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ليل المستمعين والح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نظمة المعلومات والمعاونة المر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عرض والطل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يطرة علي اسئلة المستمعين و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غالاة النتائج ورد الفع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قواعد في عروض الادار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تطويق سلسلة المطال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 مفاج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ناصر الاتص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عض عناصر الاتصالات في تدريبات خاصة تشم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ل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ستما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ليل كت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لغ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لق جو من العمل الفعال، على الرغم من أن   اللغة السلبية أو التقديرية يمكن أن تحدث تضا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اس يسمعون عندما يشعرون بوجود فائدة مباشرة أو عائد ل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افز اعضاء الفريق يمكن أن يحدد عاداتهم في الاس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تباع طريقة واقعية في التفكير لا تقفز من فكرة الى ا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بعض الاساليب الشفوية لربط الافك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حاق الافكار بالامثال، خاصة هذه التي يستطيع الاعضاء التع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عادة النقاط المه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در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دريب اساسي في أي التزام لفريق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لعمل كفريق يوجد موظفين يحتاجون الى بعض التدريبات والتوجيه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دث ببطىء  مع مراعاة تغير نبرة الصو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دث بفاعلية وحما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مفاتيح الكلام بصوت معب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غمغمة أو النظر لاسفل اثناء الحدي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حليل الكتا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عناصر الكتابية يمكن أن تشمل الات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حركة الجسد، تعبير الو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صفات الصوتية والمطلو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ديد ال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رض واستخدام الاشياء من صنع الانس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هارات الديناميكية للمجمو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ائد والمنظم  يجب عليهم فهم ديناميكية الفريق ويضعوا في الاعتبار الاحتياجات الفردية بالاضافة الى تطوير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هارات قائد الفري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ائد الفريق في فريق العمل يمنح التركيب والمساندة ويساعد الافراد على التطور والعلو كفرد وكعضو في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واد الفريق يتم تصنيفهم بناء على كيفية السيطرة على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قييم ومتابعة التدر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ض المنظمات تعطي امتحان نهائي بصورة رسمية وتعطي شهادات للاعضاء الناجحين في التدر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ض المنظمات تعطي شهادات فقط للقواد والمنظمين من كل عمليات التدري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بع مستويات لتقييم العمل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دريب الجيد يتطلب اربع مستويات لتقييم العم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د فع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ع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سل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تائج التدريب والنقاط الاساس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تائج التدريب يجب ان تكون قي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تائج الملموسة من التدريب ممدودة من اعضاء هيئة الشركة كرد فع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أكد من أن استثمار التدريب تم دف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برامج التدريبية الفعا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ساعد الفريق للوصول الى الاهداف مثل زيادة العمل الجماع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طوير الاتصال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فكير المبتك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لوك خدمات الجو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وزيادة العلاقات الفعالة بين المدير والموظ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حديات في عملية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ربط التدريب مباشرة باهداف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طابقة التدريب للخبرات واحتياجات التطوير ل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عرف على المنظور الفريد للمتعلم الشا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حتواء العديد من الشكل العم والفرص للتفاعل بين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برنامج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رنامج التدريب يتكون من سبع موديول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طوير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هم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عصف الفك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طوير بيانات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برنامج التدر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ليل البيان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ليل النظ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جودة تدريب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ودة تدريب الفريق تتكون من خمس اجزاء اساسي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قدمة ونظرة ع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علومات مجم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ليل وتفس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جميع و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لاح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دمة ونظرة عا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لتحقين يدرسون المهارات الاساسية التي تساعدهم على العمل الجماعي بأكثر فا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علومات مجم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لتحقين يتعلموا استخدام رموز خطة التدفق لفرص العصف الفكري للمعلومات التي سوف تساعدهم على قياس الاداء للعملية وتعريف الاهداف الرقمية لتطوير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03:15Z</dcterms:created>
  <dc:creator>Nermine</dc:creator>
  <dc:description/>
  <dc:language>en-US</dc:language>
  <cp:lastModifiedBy>fcc</cp:lastModifiedBy>
  <dcterms:modified xsi:type="dcterms:W3CDTF">2004-11-09T23:43:33Z</dcterms:modified>
  <cp:revision>52</cp:revision>
  <dc:subject/>
  <dc:title>المحاضرة الخامسة</dc:title>
</cp:coreProperties>
</file>