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A739-442A-45DF-B7ED-3D4DD0166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3323-1A6E-41AB-9090-FBEBC1FE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F62C-0D4B-4339-B93D-AD3771557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396A-10DA-4911-B645-D2BBED1AA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7DD305-540C-466A-BE1D-B26B62E22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2BDDA5-2934-4AC1-BB80-D8CD881E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AF884-C451-4D1C-85D4-E1B84515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FE299F-48B2-4D75-ACC1-C2FB3B73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42E9E-5B3F-46EE-B0EB-E5D227F4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7B9842-EB29-4269-851E-651454BA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50C2FF-26B3-4562-84EC-F949125F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2F03-ECC2-4CF8-803E-8A412350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5D722F-DC0F-4678-88AE-BDD8284E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FCCE69-24D1-4C63-92C3-B65EF09E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9F3417-E0C2-40A1-BA5B-2ECD339B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5A786A-7731-438A-9419-7F056EF3F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083D51-6060-4765-8480-0B3F91DF7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BE76-2D17-490C-94C5-6515C8D7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3A6E-1F69-4A85-9697-D9557703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3864-1660-4038-973E-4796E39A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F842-2D6B-47EC-B27F-F1293C9F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21B6-E425-4FA8-9BF7-5EE6EC40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8765-B23F-472E-BB5C-8FF7DFF4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070B-CDFD-4F44-8A25-C9DDFE5E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cs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3353-FC1F-4CAF-AF47-FDA2F2AB7D49}" type="datetime">
              <a:rPr b="0" lang="ar-SA" sz="1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١٤٤٨/٠٢/١٥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Font typeface="Wingdings 2" charset="2"/>
              <a:buChar char="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330099"/>
              </a:buClr>
              <a:buSzPct val="95000"/>
              <a:buFont typeface="Wingdings 2" charset="2"/>
              <a:buChar char="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F0ED-C324-4570-ADF4-540AFF9B16F5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ldNum" idx="4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DAB1-D8CC-409A-89B2-257D17089F59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cs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180C-7AC3-45F5-98FF-264852348AA4}" type="datetime">
              <a:rPr b="0" lang="ar-SA" sz="1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١٤٤٨/٠٢/١٥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algn="ctr">
              <a:spcBef>
                <a:spcPts val="451"/>
              </a:spcBef>
              <a:buClr>
                <a:srgbClr val="99ccff"/>
              </a:buClr>
              <a:buFont typeface="Wingdings 2" charset="2"/>
              <a:buChar char="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algn="ctr">
              <a:spcBef>
                <a:spcPts val="400"/>
              </a:spcBef>
              <a:buClr>
                <a:srgbClr val="99ccff"/>
              </a:buClr>
              <a:buSzPct val="95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algn="ctr">
              <a:spcBef>
                <a:spcPts val="400"/>
              </a:spcBef>
              <a:buClr>
                <a:srgbClr val="330099"/>
              </a:buClr>
              <a:buSzPct val="95000"/>
              <a:buFont typeface="Wingdings 2" charset="2"/>
              <a:buChar char="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>
              <a:spcBef>
                <a:spcPts val="400"/>
              </a:spcBef>
              <a:buClr>
                <a:srgbClr val="000000"/>
              </a:buClr>
              <a:buSzPct val="95000"/>
              <a:buFont typeface="Wingdings 2" charset="2"/>
              <a:buChar char="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>
              <a:spcBef>
                <a:spcPts val="400"/>
              </a:spcBef>
              <a:buClr>
                <a:srgbClr val="000000"/>
              </a:buClr>
              <a:buSzPct val="95000"/>
              <a:buFont typeface="Wingdings 2" charset="2"/>
              <a:buChar char="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23880" y="1219320"/>
            <a:ext cx="6477120" cy="28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</a:rPr>
              <a:t>”برنامج“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</a:rPr>
              <a:t>القائد الخاد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09600" y="4648320"/>
            <a:ext cx="68677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تقديم د. ياسر بن عبد العزيز قار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534600"/>
            <a:ext cx="6858000" cy="106524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Monotype Koufi"/>
              </a:rPr>
              <a:t>5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Monotype Koufi"/>
              </a:rPr>
              <a:t> - البناء على نقاط القوة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677556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81280" y="2409840"/>
            <a:ext cx="358164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buClr>
                <a:srgbClr val="ff33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رأس المال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buClr>
                <a:srgbClr val="ff33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الرضا بالضع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buClr>
                <a:srgbClr val="ff33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العيون الجديدة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19320" y="2971800"/>
            <a:ext cx="16113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5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0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14600" y="534600"/>
            <a:ext cx="5410080" cy="106524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Monotype Koufi"/>
              </a:rPr>
              <a:t>1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Monotype Koufi"/>
              </a:rPr>
              <a:t> - الغاية العظمى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677556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486160"/>
            <a:ext cx="396252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buClr>
                <a:srgbClr val="ff33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خطوة الأول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buClr>
                <a:srgbClr val="ff33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الجانب الروح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buClr>
                <a:srgbClr val="ff33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الدافع الرئيس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295280" y="2819520"/>
            <a:ext cx="1617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61960" y="534600"/>
            <a:ext cx="4343400" cy="106524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Monotype Koufi"/>
              </a:rPr>
              <a:t>الخطوة التالية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677556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00400" y="2409840"/>
            <a:ext cx="47242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ادعاء والتصن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اللوم والإعراض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التسامح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15937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506600" y="2790720"/>
            <a:ext cx="6113520" cy="12621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133720" y="2209680"/>
            <a:ext cx="61722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buClr>
                <a:srgbClr val="fffff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 </a:t>
            </a:r>
            <a:r>
              <a:rPr b="1" lang="ar-SA" sz="4400" spc="-1" strike="noStrike">
                <a:solidFill>
                  <a:srgbClr val="ffff00"/>
                </a:solidFill>
                <a:latin typeface="Arabic Transparent"/>
                <a:cs typeface="Arabic Transparent"/>
              </a:rPr>
              <a:t>الاعتقادات </a:t>
            </a: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cs typeface="Arabic Transparent"/>
              </a:rPr>
              <a:t>تغيّر </a:t>
            </a:r>
            <a:r>
              <a:rPr b="1" lang="ar-SA" sz="4400" spc="-1" strike="noStrike">
                <a:solidFill>
                  <a:srgbClr val="ffff00"/>
                </a:solidFill>
                <a:latin typeface="Arabic Transparent"/>
                <a:cs typeface="Arabic Transparent"/>
              </a:rPr>
              <a:t>التوقعات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buClr>
                <a:srgbClr val="fffff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 </a:t>
            </a:r>
            <a:r>
              <a:rPr b="1" lang="ar-SA" sz="4400" spc="-1" strike="noStrike">
                <a:solidFill>
                  <a:srgbClr val="ffff00"/>
                </a:solidFill>
                <a:latin typeface="Arabic Transparent"/>
                <a:cs typeface="Arabic Transparent"/>
              </a:rPr>
              <a:t>التوقعات</a:t>
            </a: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 تغيّر </a:t>
            </a:r>
            <a:r>
              <a:rPr b="1" lang="ar-SA" sz="4400" spc="-1" strike="noStrike">
                <a:solidFill>
                  <a:srgbClr val="ffff00"/>
                </a:solidFill>
                <a:latin typeface="Arabic Transparent"/>
                <a:cs typeface="Arabic Transparent"/>
              </a:rPr>
              <a:t>القناع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buClr>
                <a:srgbClr val="fffff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 </a:t>
            </a:r>
            <a:r>
              <a:rPr b="1" lang="ar-SA" sz="4400" spc="-1" strike="noStrike">
                <a:solidFill>
                  <a:srgbClr val="ffff00"/>
                </a:solidFill>
                <a:latin typeface="Arabic Transparent"/>
                <a:cs typeface="Arabic Transparent"/>
              </a:rPr>
              <a:t>القناعات</a:t>
            </a: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 تغيّر </a:t>
            </a:r>
            <a:r>
              <a:rPr b="1" lang="ar-SA" sz="4400" spc="-1" strike="noStrike">
                <a:solidFill>
                  <a:srgbClr val="ffff00"/>
                </a:solidFill>
                <a:latin typeface="Arabic Transparent"/>
                <a:cs typeface="Arabic Transparent"/>
              </a:rPr>
              <a:t>السلوك</a:t>
            </a: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buClr>
                <a:srgbClr val="fffff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 </a:t>
            </a:r>
            <a:r>
              <a:rPr b="1" lang="ar-SA" sz="4400" spc="-1" strike="noStrike">
                <a:solidFill>
                  <a:srgbClr val="ffff00"/>
                </a:solidFill>
                <a:latin typeface="Arabic Transparent"/>
                <a:cs typeface="Arabic Transparent"/>
              </a:rPr>
              <a:t>السلوك</a:t>
            </a: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 يغيّر </a:t>
            </a:r>
            <a:r>
              <a:rPr b="1" lang="ar-SA" sz="4400" spc="-1" strike="noStrike">
                <a:solidFill>
                  <a:srgbClr val="ffff00"/>
                </a:solidFill>
                <a:latin typeface="Arabic Transparent"/>
                <a:cs typeface="Arabic Transparent"/>
              </a:rPr>
              <a:t>الأداء</a:t>
            </a: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buClr>
                <a:srgbClr val="fffff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 </a:t>
            </a:r>
            <a:r>
              <a:rPr b="1" lang="ar-SA" sz="4400" spc="-1" strike="noStrike">
                <a:solidFill>
                  <a:srgbClr val="ffff00"/>
                </a:solidFill>
                <a:latin typeface="Arabic Transparent"/>
                <a:cs typeface="Arabic Transparent"/>
              </a:rPr>
              <a:t>الأداء</a:t>
            </a: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 يغيّر </a:t>
            </a:r>
            <a:r>
              <a:rPr b="1" lang="ar-SA" sz="4400" spc="-1" strike="noStrike">
                <a:solidFill>
                  <a:srgbClr val="ffff00"/>
                </a:solidFill>
                <a:latin typeface="Arabic Transparent"/>
                <a:cs typeface="Arabic Transparent"/>
              </a:rPr>
              <a:t>نوعية الحياة</a:t>
            </a: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611280"/>
            <a:ext cx="3962520" cy="106524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Monotype Koufi"/>
              </a:rPr>
              <a:t>الكلمة الأخير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62120" y="2666880"/>
            <a:ext cx="167796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62120" y="1447920"/>
            <a:ext cx="8229600" cy="47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8f8f8"/>
                </a:solidFill>
                <a:latin typeface="Times New Roman"/>
                <a:cs typeface="Times New Roman"/>
              </a:rPr>
              <a:t>شكرا لكم مع خالص التقدير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8f8f8"/>
                </a:solidFill>
                <a:latin typeface="Times New Roman"/>
              </a:rPr>
              <a:t>050550614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8f8f8"/>
                </a:solidFill>
                <a:latin typeface="Times New Roman"/>
              </a:rPr>
              <a:t>yasergari@hotmail.co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90920" y="761760"/>
            <a:ext cx="4641840" cy="99036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Arial"/>
                <a:cs typeface="Monotype Koufi"/>
              </a:rPr>
              <a:t>المحاور الأساسية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8280" y="2361960"/>
            <a:ext cx="525168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 algn="r" rtl="1">
              <a:spcBef>
                <a:spcPts val="1001"/>
              </a:spcBef>
              <a:buClr>
                <a:srgbClr val="ff3300"/>
              </a:buClr>
              <a:buFont typeface="Web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ا هي القيادة 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r" rtl="1">
              <a:spcBef>
                <a:spcPts val="1001"/>
              </a:spcBef>
              <a:buClr>
                <a:srgbClr val="ff3300"/>
              </a:buClr>
              <a:buFont typeface="Web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ا هي الخدمة 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r" rtl="1">
              <a:spcBef>
                <a:spcPts val="1001"/>
              </a:spcBef>
              <a:buClr>
                <a:srgbClr val="ff3300"/>
              </a:buClr>
              <a:buFont typeface="Web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ن هو القائد الخادم ؟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85920" y="2438280"/>
            <a:ext cx="21286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3200" y="685440"/>
            <a:ext cx="4260960" cy="106524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Arial"/>
                <a:cs typeface="Monotype Koufi"/>
              </a:rPr>
              <a:t>ما هي القيادة ؟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94920" y="2231640"/>
            <a:ext cx="6851880" cy="340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 algn="r" rtl="1">
              <a:spcBef>
                <a:spcPts val="1001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التأثير على الآخرين وإقناعه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 algn="r" rtl="1">
              <a:spcBef>
                <a:spcPts val="1001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شيء نفعله مع . . . وليس . . 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 algn="r" rtl="1">
              <a:spcBef>
                <a:spcPts val="1001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نقيض السيطرة والتحك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 algn="r" rtl="1">
              <a:spcBef>
                <a:spcPts val="1001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أخذ الآخرين إلى رحاب أوس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686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686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3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686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" dur="1" fill="hold"/>
                                  <p:tgtEl>
                                    <p:spTgt spid="10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686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6520" y="609120"/>
            <a:ext cx="4565880" cy="106524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Arial"/>
                <a:cs typeface="Monotype Koufi"/>
              </a:rPr>
              <a:t>ما هي الخدمة ؟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52320" y="198108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 algn="r" rtl="1">
              <a:spcBef>
                <a:spcPts val="1001"/>
              </a:spcBef>
              <a:buClr>
                <a:srgbClr val="ff33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سلوكيات أول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1001"/>
              </a:spcBef>
              <a:buClr>
                <a:srgbClr val="ff33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إجراءات ثاني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1001"/>
              </a:spcBef>
              <a:buClr>
                <a:srgbClr val="ff33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ثمن مدفو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1001"/>
              </a:spcBef>
              <a:buClr>
                <a:srgbClr val="ff33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حقيقة مجسد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1001"/>
              </a:spcBef>
              <a:buClr>
                <a:srgbClr val="ff33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انطباع نهائ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23880" y="2895480"/>
            <a:ext cx="152424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43200" y="457200"/>
            <a:ext cx="4260960" cy="83664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Arial"/>
                <a:ea typeface="Monotype Koufi"/>
              </a:rPr>
              <a:t> خصائص الخدمة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130200" y="1752120"/>
            <a:ext cx="35751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 algn="r" rtl="1">
              <a:spcBef>
                <a:spcPts val="1001"/>
              </a:spcBef>
              <a:buClr>
                <a:srgbClr val="ff33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تستهلك فور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 algn="r" rtl="1">
              <a:spcBef>
                <a:spcPts val="1001"/>
              </a:spcBef>
              <a:buClr>
                <a:srgbClr val="ff33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لا يمكن تجربته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 algn="r" rtl="1">
              <a:spcBef>
                <a:spcPts val="1001"/>
              </a:spcBef>
              <a:buClr>
                <a:srgbClr val="ff33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لا يمكن إعادته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 algn="r" rtl="1">
              <a:spcBef>
                <a:spcPts val="1001"/>
              </a:spcBef>
              <a:buClr>
                <a:srgbClr val="ff33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تقيّم بإستمرا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 algn="r" rtl="1">
              <a:spcBef>
                <a:spcPts val="1001"/>
              </a:spcBef>
              <a:buClr>
                <a:srgbClr val="ff33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تحتاج إلى شري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43000" y="2514600"/>
            <a:ext cx="168768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33720" y="306000"/>
            <a:ext cx="5419440" cy="106524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ial"/>
                <a:ea typeface="Monotype Koufi"/>
              </a:rPr>
              <a:t> منهج القائد</a:t>
            </a:r>
            <a:r>
              <a:rPr b="1" lang="ar-SA" sz="5400" spc="-1" strike="noStrike">
                <a:solidFill>
                  <a:srgbClr val="ffffff"/>
                </a:solidFill>
                <a:latin typeface="Arial"/>
                <a:ea typeface="Monotype Koufi"/>
              </a:rPr>
              <a:t> الخادم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677556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371600" y="1599840"/>
            <a:ext cx="6934320" cy="5105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cap="sq" w="7632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0099"/>
                </a:solidFill>
                <a:latin typeface="Times New Roman"/>
                <a:ea typeface="Arabic Transparent"/>
              </a:rPr>
              <a:t>5</a:t>
            </a:r>
            <a:r>
              <a:rPr b="1" lang="ar-SA" sz="3600" spc="-1" strike="noStrike">
                <a:solidFill>
                  <a:srgbClr val="330099"/>
                </a:solidFill>
                <a:latin typeface="Times New Roman"/>
                <a:ea typeface="Arabic Transparent"/>
              </a:rPr>
              <a:t> - البناء على نقاط القو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0099"/>
                </a:solidFill>
                <a:latin typeface="Times New Roman"/>
                <a:ea typeface="Arabic Transparent"/>
              </a:rPr>
              <a:t>4</a:t>
            </a:r>
            <a:r>
              <a:rPr b="1" lang="ar-SA" sz="3600" spc="-1" strike="noStrike">
                <a:solidFill>
                  <a:srgbClr val="330099"/>
                </a:solidFill>
                <a:latin typeface="Times New Roman"/>
                <a:ea typeface="Arabic Transparent"/>
              </a:rPr>
              <a:t>- إزالة العوائ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0099"/>
                </a:solidFill>
                <a:latin typeface="Times New Roman"/>
                <a:ea typeface="Arabic Transparent"/>
              </a:rPr>
              <a:t>3</a:t>
            </a:r>
            <a:r>
              <a:rPr b="1" lang="ar-SA" sz="3600" spc="-1" strike="noStrike">
                <a:solidFill>
                  <a:srgbClr val="330099"/>
                </a:solidFill>
                <a:latin typeface="Times New Roman"/>
                <a:ea typeface="Arabic Transparent"/>
              </a:rPr>
              <a:t>- رفع مستوى التوقع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0099"/>
                </a:solidFill>
                <a:latin typeface="Times New Roman"/>
                <a:ea typeface="Arabic Transparent"/>
              </a:rPr>
              <a:t>2</a:t>
            </a:r>
            <a:r>
              <a:rPr b="1" lang="ar-SA" sz="3600" spc="-1" strike="noStrike">
                <a:solidFill>
                  <a:srgbClr val="330099"/>
                </a:solidFill>
                <a:latin typeface="Times New Roman"/>
                <a:ea typeface="Arabic Transparent"/>
              </a:rPr>
              <a:t>- التفكير المقلو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0099"/>
                </a:solidFill>
                <a:latin typeface="Times New Roman"/>
                <a:ea typeface="Arabic Transparent"/>
              </a:rPr>
              <a:t>1</a:t>
            </a:r>
            <a:r>
              <a:rPr b="1" lang="ar-SA" sz="3600" spc="-1" strike="noStrike">
                <a:solidFill>
                  <a:srgbClr val="330099"/>
                </a:solidFill>
                <a:latin typeface="Times New Roman"/>
                <a:ea typeface="Arabic Transparent"/>
              </a:rPr>
              <a:t>- الغاية العظم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05120" y="610920"/>
            <a:ext cx="5486400" cy="106524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Monotype Koufi"/>
              </a:rPr>
              <a:t>2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Monotype Koufi"/>
              </a:rPr>
              <a:t> – التفكير المقلوب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677556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2166840"/>
            <a:ext cx="525780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الموقع الطبيعي للقائد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إكتشاف الطاقات الكامن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لمن تجيّر النتائج 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إنكار الذا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752480" y="2894760"/>
            <a:ext cx="1143000" cy="1752840"/>
          </a:xfrm>
          <a:prstGeom prst="smileyFace">
            <a:avLst>
              <a:gd name="adj" fmla="val -4652"/>
            </a:avLst>
          </a:prstGeom>
          <a:solidFill>
            <a:srgbClr val="ffcc99"/>
          </a:solidFill>
          <a:ln cap="sq" w="1260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560" y="534600"/>
            <a:ext cx="6933960" cy="106524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Monotype Koufi"/>
              </a:rPr>
              <a:t>3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Monotype Koufi"/>
              </a:rPr>
              <a:t>- رفع مستوى التوقعات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677556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2562120"/>
            <a:ext cx="464796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التركيز على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نخبة معين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أفضل الطرق وأقصره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إنقاذ البسطاء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2157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90560" y="458280"/>
            <a:ext cx="4800600" cy="106524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Monotype Koufi"/>
              </a:rPr>
              <a:t>4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Monotype Koufi"/>
              </a:rPr>
              <a:t> - إزالة العوائ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677556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2090880"/>
            <a:ext cx="670572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buClr>
                <a:srgbClr val="ff3300"/>
              </a:buClr>
              <a:buSzPct val="140000"/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اذا يتعلم الآخرون من القائد 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buClr>
                <a:srgbClr val="ff3300"/>
              </a:buClr>
              <a:buSzPct val="140000"/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مطلوب هو الاستغناء التام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buClr>
                <a:srgbClr val="ff3300"/>
              </a:buClr>
              <a:buSzPct val="140000"/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وفير البيئة الصح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buClr>
                <a:srgbClr val="ff3300"/>
              </a:buClr>
              <a:buSzPct val="140000"/>
              <a:buFont typeface="Webding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يفية تغيير حياة الإنسان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 flipH="1">
            <a:off x="506160" y="2286000"/>
            <a:ext cx="13222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3T04:52:50Z</dcterms:created>
  <dc:creator>*** ياسر عبدالعزيز قارىء ***</dc:creator>
  <dc:description/>
  <dc:language>en-US</dc:language>
  <cp:lastModifiedBy>ali</cp:lastModifiedBy>
  <cp:lastPrinted>2004-03-25T00:03:37Z</cp:lastPrinted>
  <dcterms:modified xsi:type="dcterms:W3CDTF">2006-07-19T17:55:02Z</dcterms:modified>
  <cp:revision>124</cp:revision>
  <dc:subject/>
  <dc:title> مرحبا بكم في : </dc:title>
</cp:coreProperties>
</file>