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867-5324-4E77-A51D-657D9437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CFF-1AC0-4415-8D91-18743820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171-ACB6-4FB1-8F68-246013BB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B86-1F91-4C99-90EF-34C751E6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50762-9962-4EBF-80CD-71E3813E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9F16D-85E7-4B0A-8979-605FFF33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1DB88-448C-406E-8496-40CA1A34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FBEA2-DA38-4879-92F5-88AFA506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64DC4-DECB-490E-8B42-ABCF21A6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46202-CFBC-4821-A7D3-427E90F7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EEBE6-8E25-4986-82ED-BB0E0F67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768-E507-40DD-94A3-C3D2FA89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C5243-E404-42C1-8759-1B8E6844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FD70C-069C-4CC3-AD3D-2AA393A0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382BA-28BF-4374-AD84-1EEFAAAD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30BDE-99D7-49B5-8D2B-42788319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48650-C00B-4CD2-9168-AB84B926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8A4-BAB0-40ED-9FA9-B38327E3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394-24C8-4187-9562-8D1C9D0E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2F0-B60D-455B-AF92-2485C708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8C0-5413-4E35-B138-841FEA38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FFE-51D3-45CB-AAA7-0020AF7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695-211A-42AD-9523-C71FA8A9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1F6-0FE5-45E0-9BAD-AB86996E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DE80-1915-4063-8A41-6C6A3A570C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B56D-C92A-427D-9EFA-D55ECA3D4E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0" y="404640"/>
            <a:ext cx="432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ld Antic Outline Shaded"/>
              </a:rPr>
              <a:t>فن كسب العملاء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Old Antic Outline Shaded"/>
              <a:ea typeface="Old Antic Outline Sha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الانطباع الأو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ستمع لعميل جيد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سأله في ماذا يريد منك مساعدته فيه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سأله ما هي المعلومات المتوفرة لديه عن السلعه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تفهم ما يريد العمي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الجلسة الأولى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جرب معه الألف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ن صادقا وناصح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لا تعد بما لا تستطيع تنفيذه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تفهم ما يريد العميل منك لا ما تريد انت منه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اثناء التعام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دع التحدي مع العمي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ا تسخر من العميل وإن لم يعجبك كلامه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وفاء بالوعو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اخلاق العالية مهما كنت الظروف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التزام بالصدق والنصح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حرص على ان تكسبه كصديق لا كزبو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كسب العميل بالهات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تعارف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ختيار الوقت المناس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عدم الاطال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استما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شكر العميل على قبوله لمحادثت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شكر العميل على أعطائك وقته الثم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3ff"/>
                </a:solidFill>
                <a:latin typeface="Arial"/>
                <a:cs typeface="PT Bold Heading"/>
              </a:rPr>
              <a:t>الهــدي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يحبها العمي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لها اثر إيجابي عند العميل وانطباعه عن الش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3ff"/>
                </a:solidFill>
                <a:latin typeface="Arial"/>
                <a:cs typeface="PT Bold Heading"/>
              </a:rPr>
              <a:t>خدمات ما بعد البي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حرص على ان تعرف العميل على الخدمات التي تقدمونها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عد البيع وان لم يسأ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مصداقية في تنفيذ هذه الخدمات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ذكير العميل بمواعيد الصيانة يدل على الاهتما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سهيل والنصح اثناء الصيان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3ff"/>
                </a:solidFill>
                <a:latin typeface="Arial"/>
                <a:cs typeface="PT Bold Heading"/>
              </a:rPr>
              <a:t>اسرار العميل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لا تفشي سرا للعملاء فذالك يزعجهم ويفقدهم الثقة في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لا تفشي الاسرار  للعمل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لا للموظف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دع الفضول والبحث وراء اسرار عملائ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ما هو أهم شي يريده منك العميل 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1349"/>
              </a:spcBef>
              <a:buClr>
                <a:srgbClr val="33cccc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3cccc"/>
                </a:solidFill>
                <a:latin typeface="Arial"/>
                <a:ea typeface="PT Bold Heading"/>
              </a:rPr>
              <a:t> ماذا استفيد 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انواع العملاء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واثق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خائف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شكا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مستطلع او المستكشف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متفلسف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متفه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فاهم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تصنيف العملاء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ميل عاد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ميل مه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ميل مهم جدا .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.I.P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ميل خطي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ميل مزع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لماذا نكسب العملاء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لأنه هو المصدر الرئيسي لبقاء المؤسس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ولأنه السبب في رزقك بعد فضل الله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العميل العادي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شخص يعتبر من العملاء العاديين وليس له تأثير كبير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ن ناحية المادة أو من ناحية المنص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العميل المهم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هم عميل يعتبر افضل من الأول في درجة الأهمي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قد تكون أهمية من ناحية المادة او المنصب المتوسط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T Bold Heading"/>
              </a:rPr>
              <a:t> </a:t>
            </a:r>
            <a:r>
              <a:rPr b="0" lang="hi-IN" sz="3200" spc="-1" strike="noStrike">
                <a:solidFill>
                  <a:srgbClr val="33cccc"/>
                </a:solidFill>
                <a:latin typeface="Arial"/>
                <a:cs typeface="PT Bold Heading"/>
              </a:rPr>
              <a:t>كيف اتعامل مع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T Bold Heading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احترام والتقدي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عطائه حقوقه كعميل مع احترام زائد في التعام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عرض الخدمات الموجودة عليه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حاولة ترقية الى عميل مهم جد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العميل المهم جدا (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.I.P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و عميل هام وله تأثير قوي في العمل من ناحيتين :-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الناحية المال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الناحية الوجاه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  <a:cs typeface="PT Bold Heading"/>
              </a:rPr>
              <a:t>العميل المزعج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  <a:cs typeface="PT Bold Heading"/>
              </a:rPr>
              <a:t>العميل الخطير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419640" y="1916280"/>
            <a:ext cx="2447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من هو العميل 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مشتر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بائ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سائ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ولكن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هل لدينا الاستعداد الحقيقي لكسب العملاء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أسئلة تدل على الاستعداد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هل تحب عملك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هل انت راضي عن منصبك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هل انت راضي عن مؤسستك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هل تعاني من مشاكل اسرية قوي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هل لديك شكك في الآخرين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هل تعاني من ازمة مالي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هل انت سيء الأخلاق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والآن كيف نكسب العملاء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  <a:ea typeface="PT Bold Heading"/>
              </a:rPr>
              <a:t> سؤال ها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و انك غدا سوف تقابل عميل مهم ماذا سوف تفعل ؟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قبل المقابل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حاول ان تعرف بعض المعلومات عن العمي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حاول ان تعرف بعض طباعه الخاصة في التعام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ذا استطعت ان ترسل برشور او نشرة تعريفية عن الشرك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و المنتج فذلك شيء رائ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في المقابلة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مظه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حركات الجسد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مكان الذي تقابله فيه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05:33:50Z</dcterms:created>
  <dc:creator>محمد الجحدري</dc:creator>
  <dc:description/>
  <dc:language>en-US</dc:language>
  <cp:lastModifiedBy>محمد الجحدري</cp:lastModifiedBy>
  <dcterms:modified xsi:type="dcterms:W3CDTF">2006-07-29T14:18:46Z</dcterms:modified>
  <cp:revision>36</cp:revision>
  <dc:subject/>
  <dc:title>فن كسب العملاء</dc:title>
</cp:coreProperties>
</file>