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10.wmf" ContentType="image/x-wmf"/>
  <Override PartName="/ppt/media/image11.wmf" ContentType="image/x-wm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B1F0-B5D1-4F87-B517-058DF768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106E-D9B4-4536-8B20-2E9FE1F4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8CBF62-3676-4BC7-A57B-600EBBC7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195327-3DB5-469B-A450-90265CFD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2EA0AB-89F2-4AF7-BC3E-83191FFF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B2DD4B-8188-48D2-B259-D209031E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B70115-2D04-4D73-B46A-C0CA5634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40C14A-C724-468F-8E2B-3DF0DC4A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42A482-C1DC-47D9-8170-897CF2C8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123537-6395-4F87-9E25-6E146657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801815-56AA-419D-ABFC-D1DEAA81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E2571-0D58-453F-9581-935AA196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3E1E-A639-45FE-847B-6BE20921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96CAA-5299-4F1E-B8FE-2F4895A3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C5176-22C4-4123-831D-54CE5BCF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7B170-0E14-4FD8-9436-B5E7C283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E6820-2A19-466B-BE3C-3DF2618D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A7717-EFC4-44B7-A896-64C5EC09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D8C56-93D0-41AB-830D-F9CC7104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CB5A7-C357-4350-887F-3D67C80E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CB5B1-93F2-4457-B9F4-18C11599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95B5E-6F79-4365-AB2A-958B3075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F9DC2-C03E-435D-90AB-2A640314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AE85-063C-4BA8-9EBF-9C951D15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4E132-794A-4675-A30B-3BA52286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13AF8-5845-49EA-82CE-ECA84B8C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D47B4-B926-47C2-B1DE-2510D52A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D7E33-A4F7-4669-ACD3-56E1409F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FF727-BF1C-4419-A704-45B8DABD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FBBC4-8849-4462-98FA-CC4BDD6E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E7AF5-480A-4124-B018-B96CD9F2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75F51-FCE0-40BB-877F-CC10070B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69DFC-11BD-425E-80B3-D618078E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0AAB2-5D1F-47E3-89E5-1F502EA8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09EF-72ED-40EC-9FF3-CB01AADC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2E2B1-9C1B-4AA6-BE97-E0CA477C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7D2D3-8460-4318-A1CB-9EF3327E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36888-3960-452A-AFC5-842E6C87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93710-5272-42E3-A263-3D4DED71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04F0B-DE23-4C20-90DC-5F0BC6FD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9608F-F6A2-45C7-BD57-47FB38FB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0FC34-9870-4A97-A380-5E12F37C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04BA7-AF9D-44EE-9067-B05B2304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88C02-3A00-4634-ABBC-266CD55F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43507-A3AA-4E24-89DB-52FC0652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BD03-D226-4B4D-99BB-BB557320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BF3B0-BE19-45D2-86DD-708A063A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D15F5-4FE9-4042-83D7-3760E155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431B2-7A8D-4590-9EF6-9DFA8861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41435-A350-4607-A06C-E0A499C5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10AFA-FDBC-4FA7-8873-C7F8E327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0E9415-C249-499E-B262-893977BA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38C3C-CDAA-4806-B0D0-D12310B3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43A37-C967-4000-8E2D-3BC1627A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1682D5-D549-435F-9B07-ADD75E25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6F387-6AB4-40D6-A4DB-0E7630EA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D50D-33B2-4536-823B-4AB442B8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3EE10D-1E9F-4D78-81A7-D2A71510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6FC99C-08F3-400B-8364-BA7D3064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CD4378-1E24-4488-8EFD-E31A0505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A3689-A36A-4A44-B60C-C32EC136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4F153B-A834-4346-9D7A-4E13E36D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6FDA93-6F64-4E2B-B9F0-864BDE5C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55E13-EEFE-4F76-8892-2557BF2C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86DB2-87FF-4132-B234-07DC908E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753DF-844B-4018-950A-D03FBCBC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22DDC-645A-42AF-835A-F3F6EEEC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72A6-4EE8-41F7-BF40-B1E7BE85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779AA4-6FCD-4856-94B4-F4FC79F7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4886E7-67BD-4616-A4DC-1333D2EF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B6949-7044-4CE2-91F8-0153BEC4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632014-30AB-4FD2-A3CB-F005B22C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707FE9-B97B-4552-B206-637B2276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5F7C02-20F6-4281-B33B-5B3AAF4E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9537BF-9D92-4787-BFE2-89711CF5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3FE43B-9622-49B2-8485-4DE13167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4F742A-0411-47F2-BB14-1C6E89C3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192A63-BEBF-4C8C-A5BB-1531FE62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4BE7-3C80-41AF-8092-E661C30B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DA9EB9-2D58-47A8-8749-1349E656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BAA410-8494-402F-BF51-01879690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667D92-1287-419F-8A79-D4263C6C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E05172-1F48-428E-A302-5A8AD913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8B4B72-2341-46B2-91C9-08169356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21EB31-ACEF-44C5-9A90-744B1AFD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822EB6-C70F-48E7-BA30-CD40C9DD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356ACF-689C-4094-B7E9-4D8FCCF5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D74220-9396-49AA-B5E9-36AE7BB2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D81C1A-AEF4-4F3F-8913-AA98BE2C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308D-8710-4234-B1B1-AAD51A03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11B823-0998-4B6F-9B1E-F76666A3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461DA6-5685-4E68-9F8C-AE2DAA11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0AB4A5-84F5-4E87-B40A-0C07DECC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DB56F8-050B-42D7-87E5-56454C4D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0D7A6F-F32C-4F12-A29F-AB881487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7983E9-495E-4BB7-8D4E-CEB304E1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E7A0E3-8995-4527-B1D6-8D6B881C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BF150E-F1E7-40BD-9FB3-9911D2B7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6BAC53-052F-4483-994B-89DD7126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6C3CF7-1F95-46EF-BBB0-4EED8392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A8AC-9551-487B-BC49-64C8F25C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B17787-1FE3-41E6-ABB3-EEA1D6B4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C901F4-C8EA-4856-9DF1-370503FB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48A690-1CB2-4F82-A305-FF1ABAF4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11252C9-1EDB-4B3F-9276-5130E63C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A753768-D1C5-4BB1-A724-64CF3900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858A426-B2BE-4FB9-AD6B-0EFEBFE1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42D00F2-4198-42F7-B489-43CE99F1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553B126-3569-4972-82FB-E02A3B4D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EA0924A-00F6-481A-81E0-F439AB61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8AB5B10-986E-4514-85EA-2541A464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D58-6340-499E-80CA-F7DE596D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8690-6136-4058-AB70-09895F08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AE54D4C-283B-47EE-B801-82F97515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88BD6EC-7F8C-4BF4-81C1-CF99E427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1E2721E-0817-479B-B83E-650D635C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0ABC591-1DAF-44A7-98E0-8E0D16BD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FD0EB64-7D20-43AB-A403-FBC9B78E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410F-9DC4-4A9D-AFF4-E781F234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AB28-4F61-4F91-8FDF-6CB60637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61E7-EF4A-47C6-AAD5-1DAE2649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B14C-DD80-4268-B2E9-AEEE7A1D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42BED-D823-45E8-AE4A-70B1EB3C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BB321-0B0B-456A-85CE-60BDD291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EB02A-3A7A-4FCC-BDF0-7DE6DEA4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25FEB-F559-4F23-ADD7-BFA76950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252DF-28D3-4632-8E2A-5383D86C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5D4-54CE-4152-871B-82A6C5A1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618A0-F3B7-4526-818C-3227DC44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71DD2-59E7-44DC-B38A-35457250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3D559-5D6A-437A-98D0-DB95CD30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62230-E858-4069-97AC-ABE46CD5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ED709-7EF0-4948-AB01-0F7E9609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44ACB-B61A-4FCB-B43E-5E49ADB3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4B61E-E711-4140-985E-6289D432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25BBE-785D-4210-B33F-F7EBC553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34960-72A7-45B8-833D-A3EFE8CB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B683F-89BE-4F53-A27E-3E7160F6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ECE-301D-4452-A62B-58861649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A05E6-E6AC-4F82-92B5-4C7CF61D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2A564-48FB-4151-A2A6-A1391936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3E545-EEF0-4DD2-BEE8-5EB7E335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EDC36-01A9-45A8-991B-1107B8F9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82475-8081-4D06-AAA7-F59AAA2B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9935B-6997-4F99-89BD-C8CBC676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878F9-2884-495D-B9C5-1A91D65A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58F79-D638-463A-B29B-790C8FBB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51F24-F9A7-4C73-BB09-B9885716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F1D20-8037-41FF-8741-9F3121A7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D061-D70A-462E-8FDE-67AFBF3F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5A4A3-E693-43D4-B7F9-6A416F7E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5E312-9855-43BB-A5E3-35B09DA3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56868-5A2B-42CC-87A7-9B578357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D9E4C-2B3F-4A25-9A3A-FCD1FFD8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62ACE-FC59-48C6-B18B-EB456640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19A06-7CB6-4B63-8799-1B5D9E18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F0362-AFFE-4351-8A5A-ED69E755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AE192-2BFE-4919-9587-8246F460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39896-790B-4757-A702-6A0542FE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0BA89-E87D-4D1E-ABA9-42E02B31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2AD-AEE6-4A4E-9DAE-B6636FFF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591EF-E35F-4562-95B5-724FC58B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81B0C-9313-4FBA-A7A3-063A6EB6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AB4EB-096C-44FC-BD59-BAF41D1E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16660-4E48-4D3C-8645-2E8D0266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47072-A9F1-4C56-8D09-D19EE760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91572-4ED8-4A97-B67C-CB3728FF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15CFB-74E5-46A3-BDFC-F6F22C04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588A1-64E4-4C2A-81EE-A45A9472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3F00C-8ECB-4C9C-B323-FBD531F5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7B090-CF09-43FD-B5B1-DE5F5E0F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B54-9063-4508-A226-6A3F7112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04B4F-3294-4B4D-B756-DD57B1E1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7B0E5-152E-4880-B338-4B8D5829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42620-43BE-476D-BEF3-7A9F5941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872E5-8429-44A1-B3DE-2D4C3929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A2D78-5025-4943-A541-88178767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357AC-41BE-42CC-BAD1-79F7B076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3ACEC-2691-42FA-9B09-8D92F03F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0BAAD-71DF-4AC9-BC2A-57DB09B9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62753-19C9-4DA5-A184-A32190E0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9BA5B-DC3F-4988-A97F-D3CBC271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D77-56B1-487C-8905-75B6F890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91E7B-1F27-453B-90CE-F7596FC6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8E015-A7BB-4520-AD60-A6BAD18A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66FDA-4F4B-4361-A523-D6754970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C637D-A3F3-4CD8-A5ED-B17306AB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241BD-A3D3-4FA1-ACDA-B956D4A2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8B9C1-CF09-438E-84BC-CE8D2F13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27E44-3629-4E48-980C-C2148989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DDE92-A5DD-4CE0-8638-E776C575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CD0BD-74D2-4826-BDA7-7FF7BCF1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95F25-9C97-442D-9BBD-ECF3616A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E71-2961-42E1-ADA3-462907FC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6982B-7EBE-4CCC-AB93-164BA9EE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67953-C1DF-4FD3-8194-5B85336C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23936-A4AE-45CC-B22A-10E4EEAC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97FF8-6086-4A74-AB21-40FEABE0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B82E4-FE19-4360-A76A-6BC0F587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B2A74-C39E-4C40-99E9-153387BF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06130-FD69-4B24-A5B6-ECEE6F06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0D6BE0-E9E4-473E-9BF5-FD53C881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75FFBF-529B-4D71-8C3F-10AC2B52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8A91DB-6708-45A8-92D4-7843640D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8A3A-CF0A-4666-BCAE-0C386C1CBF0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FCB9-8C4D-4481-BEC0-99F001D85F7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0F1D-86D2-4A14-B43F-81648A8C0BB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674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675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81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83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684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85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686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7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8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9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0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1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2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3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4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5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6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7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8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9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0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1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2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3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4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5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6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7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8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9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0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1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2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3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4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5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6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7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8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9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0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1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722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723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4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5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6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7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8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9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0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1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2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3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4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35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6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7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8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9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0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1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2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3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4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5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6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7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8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9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0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1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2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3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4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5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6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7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8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9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0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1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2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3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4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5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6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7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8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9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0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771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772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4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775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84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785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792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7" name="PlaceHolder 1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316D-6285-420E-A68F-6CC64BB468A7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839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840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2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843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6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48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849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50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851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2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3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4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5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6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7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8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9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0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1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2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3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4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5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6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7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8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9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0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1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3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4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5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6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7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8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9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0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1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2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3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4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5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6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887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888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9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0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1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2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3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4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5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6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7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8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9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00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1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2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3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4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5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6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7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8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9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0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1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2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3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4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5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6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7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8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9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0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1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2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3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4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5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6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7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8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9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0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1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2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3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4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5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36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937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9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940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49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950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6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957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185D-B4B4-4DD4-BB4C-A5C9590D4D3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0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C77B-A666-46EE-881C-C39B17D135AF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6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470A-DE76-461F-8098-7F8F8910C5B6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F4E2-25E3-41A7-BA6D-456ED50A1EA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C1F2-0A67-4B1F-852D-5F172CBE768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1A3F-A640-4092-89D8-0629B9483D18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2CED-EF50-4BAE-89E3-E664001B741A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94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7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E17E-D079-4476-A9AE-D360C98600B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74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87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B2AA-3785-47C9-90E6-0412796C781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5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08F3-4F49-4FBB-B530-C4398124241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1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47DA-46DE-4D29-BEF2-F5F4971490A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7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7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8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12AD-8EA2-4022-B97C-B9C690897A04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3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3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3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4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B23A-EB1A-4F0C-8087-7C2AA7681A7C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video" Target="file:///tmp/home/.config/libreoffice/4/user/gallery/&#1576;&#1581;&#1579;" TargetMode="External"/><Relationship Id="rId4" Type="http://schemas.microsoft.com/office/2007/relationships/media" Target="file:///tmp/home/.config/libreoffice/4/user/gallery/&#1576;&#1581;&#1579;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 txBox="1"/>
          <p:nvPr/>
        </p:nvSpPr>
        <p:spPr>
          <a:xfrm>
            <a:off x="1187280" y="213372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3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Koufi"/>
              </a:rPr>
              <a:t>ثمان مبادئ في القيادة الناجحة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Koufi"/>
              <a:ea typeface="Monotype Koufi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361960" cy="1447920"/>
          </a:xfrm>
          <a:prstGeom prst="rect">
            <a:avLst/>
          </a:prstGeom>
          <a:ln w="0">
            <a:noFill/>
          </a:ln>
        </p:spPr>
      </p:pic>
      <p:pic>
        <p:nvPicPr>
          <p:cNvPr id="1199" name="" descr=""/>
          <p:cNvPicPr/>
          <p:nvPr/>
        </p:nvPicPr>
        <p:blipFill>
          <a:blip r:embed="rId2"/>
          <a:stretch/>
        </p:blipFill>
        <p:spPr>
          <a:xfrm>
            <a:off x="7308720" y="4797360"/>
            <a:ext cx="1455840" cy="1800360"/>
          </a:xfrm>
          <a:prstGeom prst="rect">
            <a:avLst/>
          </a:prstGeom>
          <a:ln w="0">
            <a:noFill/>
          </a:ln>
        </p:spPr>
      </p:pic>
      <p:pic>
        <p:nvPicPr>
          <p:cNvPr id="1200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61128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01" name=""/>
          <p:cNvSpPr/>
          <p:nvPr/>
        </p:nvSpPr>
        <p:spPr>
          <a:xfrm>
            <a:off x="755640" y="5300640"/>
            <a:ext cx="36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Arial"/>
              </a:rPr>
              <a:t>اعداد موقع الاداري المتمي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9905" fill="hold"/>
                                        <p:tgtEl>
                                          <p:spTgt spid="1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468360" y="3213000"/>
            <a:ext cx="81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تزم بمبدأ  الاستقامة التامة في كل ما تعم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148360" y="1268280"/>
            <a:ext cx="30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مبدأ الاول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950920" cy="24861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1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52" dur="1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53" dur="1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684360" y="3933720"/>
            <a:ext cx="799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كافح في أن تكون خبيرا في مجال عمل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148360" y="1268280"/>
            <a:ext cx="30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مبدأ الثاني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2001600" cy="2881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/>
          <p:nvPr/>
        </p:nvSpPr>
        <p:spPr>
          <a:xfrm>
            <a:off x="5148360" y="1268280"/>
            <a:ext cx="30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مبدأ الثالث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900000" y="3357720"/>
            <a:ext cx="712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000000"/>
                </a:solidFill>
                <a:latin typeface="Arial"/>
              </a:rPr>
              <a:t>قل للآخرين ما تتوقعه ، استعمل لغة قوية للتأثير في نفوس الآخرين وفي توضيح الأهدا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0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376360" cy="2044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"/>
          <p:cNvSpPr/>
          <p:nvPr/>
        </p:nvSpPr>
        <p:spPr>
          <a:xfrm>
            <a:off x="5148360" y="1268280"/>
            <a:ext cx="30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مبدأ الرابع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403280" y="234936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كن ملتزما وصادقا في التزام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24000" y="422100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قبل المخاطر في سبيل الاصرار والالتزام بمواقفك وحتى في أوقات العس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3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/>
          <p:nvPr/>
        </p:nvSpPr>
        <p:spPr>
          <a:xfrm>
            <a:off x="5148360" y="1268280"/>
            <a:ext cx="30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مبدأ الخامس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268360" y="2276640"/>
            <a:ext cx="51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توقع الأفضل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95280" y="414972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تفكير الايجابي له قوة دافعة بشرط التزود بوقود من الحما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/>
          <p:nvPr/>
        </p:nvSpPr>
        <p:spPr>
          <a:xfrm>
            <a:off x="5148360" y="1268280"/>
            <a:ext cx="30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مبدأ السادس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835280" y="2349360"/>
            <a:ext cx="590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اهتم بشؤون من تقود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68360" y="42210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حاجة من تقود في أعلى قائمة اسبقيات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50920" y="551664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إذا اختلت الأمور تحمل شيئين المسؤولية والملام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2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/>
          <p:nvPr/>
        </p:nvSpPr>
        <p:spPr>
          <a:xfrm>
            <a:off x="5148360" y="1268280"/>
            <a:ext cx="30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مبدأ السابع 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908000" y="2924280"/>
            <a:ext cx="554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ضع الآخرين في المقام الأو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95280" y="479736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كّر في مجموعتك قبل أن تفكر في نفس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/>
          <p:nvPr/>
        </p:nvSpPr>
        <p:spPr>
          <a:xfrm>
            <a:off x="5148360" y="1268280"/>
            <a:ext cx="30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مبدأ الثامن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403280" y="2349360"/>
            <a:ext cx="64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فعل ما تعنيه كلمة القيادة – 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أي كن في المقدم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95280" y="4581360"/>
            <a:ext cx="835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قائد الناجح يتألق نجمه في ميدان العمل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ما القائد العاجز فيختبئ في مكتبه ويصدر الأوام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14:36:04Z</dcterms:created>
  <dc:creator>winme</dc:creator>
  <dc:description/>
  <dc:language>en-US</dc:language>
  <cp:lastModifiedBy>a</cp:lastModifiedBy>
  <dcterms:modified xsi:type="dcterms:W3CDTF">2004-08-26T10:04:24Z</dcterms:modified>
  <cp:revision>11</cp:revision>
  <dc:subject/>
  <dc:title>ثمان مبادئ في القيادة الناجحة</dc:title>
</cp:coreProperties>
</file>