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10.wmf" ContentType="image/x-wmf"/>
  <Override PartName="/ppt/media/image2.png" ContentType="image/png"/>
  <Override PartName="/ppt/media/image33.wmf" ContentType="image/x-wmf"/>
  <Override PartName="/ppt/media/image35.wmf" ContentType="image/x-wmf"/>
  <Override PartName="/ppt/media/image9.wmf" ContentType="image/x-wmf"/>
  <Override PartName="/ppt/media/image30.wmf" ContentType="image/x-wmf"/>
  <Override PartName="/ppt/media/image39.png" ContentType="image/png"/>
  <Override PartName="/ppt/media/image42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1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13.wmf" ContentType="image/x-wmf"/>
  <Override PartName="/ppt/media/image5.png" ContentType="image/png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0CD-469C-442A-9D46-E17B1B67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C27-8998-4CAC-8EEC-7DA7C5F9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166-0D36-4037-8766-DA712FEE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9EA8-2304-49AE-B36A-0FC302D4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15E0-2EEF-4166-A6A0-F29BCD4D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78C-861A-4D3D-A026-5425D8FD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52C-62BC-4D13-9025-80B81E32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BC24-4E1F-4613-A6C7-D1F1ED3B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8AF-587E-4E1A-837C-BCC407B6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AFF-10B8-470A-A0EB-C90A3A9E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B5F7-1A69-438F-B919-D42E814E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6AA-09CC-4C59-B98F-C311D2CB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5A21-4F92-4E74-8B06-00B0C35EB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5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9.png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0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1.wmf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2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3.wmf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5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9.png"/><Relationship Id="rId3" Type="http://schemas.openxmlformats.org/officeDocument/2006/relationships/image" Target="../media/image5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40.wmf"/><Relationship Id="rId3" Type="http://schemas.openxmlformats.org/officeDocument/2006/relationships/image" Target="../media/image5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41.wmf"/><Relationship Id="rId3" Type="http://schemas.openxmlformats.org/officeDocument/2006/relationships/image" Target="../media/image5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42.wmf"/><Relationship Id="rId3" Type="http://schemas.openxmlformats.org/officeDocument/2006/relationships/image" Target="../media/image5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43.wmf"/><Relationship Id="rId3" Type="http://schemas.openxmlformats.org/officeDocument/2006/relationships/image" Target="../media/image5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44.wmf"/><Relationship Id="rId3" Type="http://schemas.openxmlformats.org/officeDocument/2006/relationships/image" Target="../media/image5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3809880"/>
            <a:ext cx="72388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SKR HEAD1 Outlined"/>
              </a:rPr>
              <a:t>كيف تعدّ درساً ناجحاً</a:t>
            </a:r>
            <a:endParaRPr b="0" lang="en-US" sz="24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SKR HEAD1 Outlined"/>
              <a:ea typeface="SKR HEAD1 Outlined"/>
            </a:endParaRPr>
          </a:p>
        </p:txBody>
      </p:sp>
      <p:sp>
        <p:nvSpPr>
          <p:cNvPr id="42" name=""/>
          <p:cNvSpPr/>
          <p:nvPr/>
        </p:nvSpPr>
        <p:spPr>
          <a:xfrm>
            <a:off x="6172200" y="200160"/>
            <a:ext cx="30481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3300"/>
                </a:solidFill>
                <a:latin typeface="Times New Roman"/>
                <a:cs typeface="DecoType Thuluth"/>
              </a:rPr>
              <a:t>المملكة العربية السعو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3300"/>
                </a:solidFill>
                <a:latin typeface="Times New Roman"/>
                <a:cs typeface="DecoType Thuluth"/>
              </a:rPr>
              <a:t>وزارة المعا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3300"/>
                </a:solidFill>
                <a:latin typeface="Times New Roman"/>
                <a:cs typeface="DecoType Thuluth"/>
              </a:rPr>
              <a:t>إدارة تعليم العاصمة المقد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228600"/>
            <a:ext cx="3200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3300"/>
                </a:solidFill>
                <a:latin typeface="Times New Roman"/>
                <a:cs typeface="Andalus"/>
              </a:rPr>
              <a:t>برنامج تدريبى لمعلمي العلوم في التعليم الع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3300"/>
                </a:solidFill>
                <a:latin typeface="Times New Roman"/>
                <a:cs typeface="Andalus"/>
              </a:rPr>
              <a:t>الابتدائي - المتوسط - الثانو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62520" y="152280"/>
            <a:ext cx="1209600" cy="1447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5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52280" y="1143000"/>
            <a:ext cx="2690640" cy="3246480"/>
            <a:chOff x="152280" y="1143000"/>
            <a:chExt cx="2690640" cy="324648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066680" y="1143000"/>
              <a:ext cx="1600200" cy="1752480"/>
            </a:xfrm>
            <a:prstGeom prst="irregularSeal1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1828800"/>
              <a:ext cx="762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قف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ما قبل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المعـلم ومهـنة التعـلي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743200"/>
            <a:ext cx="5029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28954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معرفة أهداف التدريس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00400" y="3733920"/>
            <a:ext cx="2955960" cy="2955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001000" y="2895480"/>
            <a:ext cx="53172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5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52280" y="1143000"/>
            <a:ext cx="2690640" cy="3246480"/>
            <a:chOff x="152280" y="1143000"/>
            <a:chExt cx="2690640" cy="324648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066680" y="1143000"/>
              <a:ext cx="1600200" cy="1752480"/>
            </a:xfrm>
            <a:prstGeom prst="irregularSeal1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2280" y="1828800"/>
              <a:ext cx="762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قف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ما قبل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167652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المعـلم ومهـنة التعـلي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2666880"/>
            <a:ext cx="56386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28195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كن مبدعاً ، وابتعد عن الروتين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040280" y="3813120"/>
            <a:ext cx="1827000" cy="2968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8155080" y="2819520"/>
            <a:ext cx="53172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5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228600" y="1143000"/>
            <a:ext cx="2690640" cy="3246480"/>
            <a:chOff x="228600" y="1143000"/>
            <a:chExt cx="2690640" cy="324648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114300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143000" y="1143000"/>
              <a:ext cx="1600200" cy="1752480"/>
            </a:xfrm>
            <a:prstGeom prst="irregularSeal1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" y="1828800"/>
              <a:ext cx="762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قف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ما قبل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167652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المعـلم ومهـنة التعـلي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27432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أعد دروسك جيداً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2590920"/>
            <a:ext cx="4267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505320" y="3657600"/>
            <a:ext cx="3581280" cy="3106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8002440" y="2666880"/>
            <a:ext cx="532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5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152280" y="1143000"/>
            <a:ext cx="2690640" cy="3246480"/>
            <a:chOff x="152280" y="1143000"/>
            <a:chExt cx="2690640" cy="32464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066680" y="1143000"/>
              <a:ext cx="1600200" cy="1752480"/>
            </a:xfrm>
            <a:prstGeom prst="irregularSeal1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280" y="1828800"/>
              <a:ext cx="762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قف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ما قبل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167652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المعـلم ومهـنة التعـلي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5909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ff"/>
                </a:solidFill>
                <a:latin typeface="AGA Arabesque"/>
                <a:ea typeface="AGA Arabesque"/>
              </a:rPr>
              <a:t></a:t>
            </a:r>
            <a:r>
              <a:rPr b="0" lang="ar-SA" sz="2800" spc="-1" strike="noStrike">
                <a:solidFill>
                  <a:srgbClr val="3366ff"/>
                </a:solidFill>
                <a:latin typeface="Lucida Sans Unicode"/>
                <a:ea typeface="Tahoma (Arabic)"/>
              </a:rPr>
              <a:t> خطوات الاعداد الجيد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351240"/>
            <a:ext cx="502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1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قراءة المادة العلمية لموضوع الدرس قراءة  جيدة ، من كتاب الطالب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499752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2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تحديد النقاط العامة ( الحقائق،النظريات،المفاهيم، التعاريف…. ) ثم تحديد النقاط التفصيلية لها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5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52280" y="1143000"/>
            <a:ext cx="2690640" cy="3246480"/>
            <a:chOff x="152280" y="1143000"/>
            <a:chExt cx="2690640" cy="324648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066680" y="1143000"/>
              <a:ext cx="1600200" cy="1752480"/>
            </a:xfrm>
            <a:prstGeom prst="irregularSeal1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2280" y="1828800"/>
              <a:ext cx="762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قف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ما قبل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167652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المعـلم ومهـنة التعـلي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266688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3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الرجوع إلى بعض المراجع المتصلة بالموضوع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58128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4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حدد الاهداف السلوكية على ضوء النقاط التي حددتها مسبقاً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4648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5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بلور خطة الدرس في ذهنك جيداً .ثم اختر الطريقة المناسبة له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6386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6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- حاول ربط الدرس بحياة الطالب ، كل ما كان ذلك ممكناً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5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52280" y="1143000"/>
            <a:ext cx="2690640" cy="3246480"/>
            <a:chOff x="152280" y="1143000"/>
            <a:chExt cx="2690640" cy="324648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066680" y="1143000"/>
              <a:ext cx="1600200" cy="1752480"/>
            </a:xfrm>
            <a:prstGeom prst="irregularSeal1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2280" y="1828800"/>
              <a:ext cx="762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قف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ما قبل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167652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المعـلم ومهـنة التعـلي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2666880"/>
            <a:ext cx="563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7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أعد متطلبات الدرس من وسائل تعليمية أو أجهزة علمية ، ثم تأكد من وجودها ومناسبتها للعرض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42670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8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ابدأ في كتابة عناصر الدرس في دفتر التحضير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0436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9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حاول التنبؤ بصعوبات التعلم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5791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10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دون ملاحظاتك بعد أدائك للدرس ، لما تراه مناسباً      في تعديل خطة الدرس مستقبلاً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أثناء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1776240" cy="3170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71600" y="2286000"/>
            <a:ext cx="1371600" cy="152388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59092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ndale Mono"/>
                <a:cs typeface="SKR HEAD1"/>
              </a:rPr>
              <a:t>استع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3048120"/>
            <a:ext cx="632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كيف تدير فصلك بنجاح طوال 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45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 دقيقة 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أثناء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-76320" y="1219320"/>
            <a:ext cx="2919240" cy="3170160"/>
            <a:chOff x="-76320" y="1219320"/>
            <a:chExt cx="2919240" cy="317016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295280" y="2286000"/>
              <a:ext cx="1371600" cy="1523880"/>
            </a:xfrm>
            <a:prstGeom prst="irregularSeal1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-76320" y="259092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استعد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666880" y="16002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كيف تدير فصلك بنجاح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45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 دقيقة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2590920"/>
            <a:ext cx="41148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27432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قدِّم لدرسك جيداً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657600" y="3693960"/>
            <a:ext cx="3352680" cy="2935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924680" y="2666880"/>
            <a:ext cx="532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أثناء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-76320" y="1219320"/>
            <a:ext cx="2919240" cy="3170160"/>
            <a:chOff x="-76320" y="1219320"/>
            <a:chExt cx="2919240" cy="317016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295280" y="2286000"/>
              <a:ext cx="1371600" cy="1523880"/>
            </a:xfrm>
            <a:prstGeom prst="irregularSeal1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-76320" y="259092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استعد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666880" y="16002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كيف تدير فصلك بنجاح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45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 دقيقة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2743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ff"/>
                </a:solidFill>
                <a:latin typeface="AGA Arabesque"/>
                <a:ea typeface="AGA Arabesque"/>
              </a:rPr>
              <a:t></a:t>
            </a:r>
            <a:r>
              <a:rPr b="0" lang="ar-SA" sz="2800" spc="-1" strike="noStrike">
                <a:solidFill>
                  <a:srgbClr val="3366ff"/>
                </a:solidFill>
                <a:latin typeface="Lucida Sans Unicode"/>
                <a:ea typeface="Tahoma (Arabic)"/>
              </a:rPr>
              <a:t> خطوات التقديم الجيد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50532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1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قدم عنصر التشويق لموضوع الدرس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4738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2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أربط الجزء بالكل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5638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3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توصل إلى موضوع الدرس من خلال الطلاب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أثناء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-76320" y="1219320"/>
            <a:ext cx="2919240" cy="3170160"/>
            <a:chOff x="-76320" y="1219320"/>
            <a:chExt cx="2919240" cy="317016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295280" y="2286000"/>
              <a:ext cx="1371600" cy="1523880"/>
            </a:xfrm>
            <a:prstGeom prst="irregularSeal1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-76320" y="259092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استعد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666880" y="16002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كيف تدير فصلك بنجاح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45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 دقيقة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2666880"/>
            <a:ext cx="4114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28195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استثر دافعية الطلاب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809880" y="3784680"/>
            <a:ext cx="3926160" cy="2616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8001000" y="2819520"/>
            <a:ext cx="53172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35080" y="2057400"/>
          <a:ext cx="250812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5080" y="2057400"/>
                    <a:ext cx="25081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4419720" y="533520"/>
            <a:ext cx="41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أخي معلم العلوم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1828800"/>
            <a:ext cx="617220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  <a:ea typeface="Andalus"/>
              </a:rPr>
              <a:t>	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  <a:cs typeface="Andalus"/>
              </a:rPr>
              <a:t>دائما يحاول الإنسان الطموح أن يسـلك أفضـل الطرق لمبتغاة .. سعياً لتحقيق أهـداف سامية يعلوهـا رضى المولى عز وجل .. فيشحذ لها همته ، ويجمع لهـا قواه.لاسيما حينما يدرك أن الجانب الآخر لهذا الطريق هو مستقبل فلذة أكبادنا ، ثروة الأمة والأمل المنشود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  <a:ea typeface="Andalus"/>
              </a:rPr>
              <a:t>	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  <a:cs typeface="Andalus"/>
              </a:rPr>
              <a:t>فهلاّ شاركتني هذا الأمل 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757840"/>
            <a:ext cx="5486400" cy="12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3300"/>
                </a:solidFill>
                <a:latin typeface="Times New Roman"/>
              </a:rPr>
              <a:t>أخو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663300"/>
                </a:solidFill>
                <a:latin typeface="Times New Roman"/>
              </a:rPr>
              <a:t>المح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ar-SA" sz="2800" spc="-1" strike="noStrike">
                <a:solidFill>
                  <a:srgbClr val="663300"/>
                </a:solidFill>
                <a:latin typeface="Times New Roman"/>
                <a:cs typeface="Andalus"/>
              </a:rPr>
              <a:t>عبد العزيز بن محسن المضواح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3300"/>
                </a:solidFill>
                <a:latin typeface="Times New Roman"/>
                <a:cs typeface="Andalus"/>
              </a:rPr>
              <a:t>مشرف العلوم (فيزياء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3000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أثناء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-76320" y="1219320"/>
            <a:ext cx="2919240" cy="3170160"/>
            <a:chOff x="-76320" y="1219320"/>
            <a:chExt cx="2919240" cy="317016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295280" y="2286000"/>
              <a:ext cx="1371600" cy="1523880"/>
            </a:xfrm>
            <a:prstGeom prst="irregularSeal1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-76320" y="259092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استعد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666880" y="16002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كيف تدير فصلك بنجاح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45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 دقيقة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2514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ff"/>
                </a:solidFill>
                <a:latin typeface="AGA Arabesque"/>
                <a:ea typeface="AGA Arabesque"/>
              </a:rPr>
              <a:t></a:t>
            </a:r>
            <a:r>
              <a:rPr b="0" lang="ar-SA" sz="2800" spc="-1" strike="noStrike">
                <a:solidFill>
                  <a:srgbClr val="3366ff"/>
                </a:solidFill>
                <a:latin typeface="Lucida Sans Unicode"/>
                <a:ea typeface="Tahoma (Arabic)"/>
              </a:rPr>
              <a:t> وذلك من خلال ما يل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3244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1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أربط الطلاب بالمعاني السامية والأهداف العليا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45100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2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استخدم أسلوب الثناء والتشجيع باستمرار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5334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3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اشعل التنافس الشريف بين الطلاب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61102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4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كافئ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أثناء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-76320" y="1219320"/>
            <a:ext cx="2919240" cy="3170160"/>
            <a:chOff x="-76320" y="1219320"/>
            <a:chExt cx="2919240" cy="317016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295280" y="2286000"/>
              <a:ext cx="1371600" cy="1523880"/>
            </a:xfrm>
            <a:prstGeom prst="irregularSeal1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-76320" y="259092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استعد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666880" y="16002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كيف تدير فصلك بنجاح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45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 دقيقة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2666880"/>
            <a:ext cx="59436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57400" y="2819520"/>
            <a:ext cx="60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استخدم وسائلك التعليمية بفاع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809880" y="3657600"/>
            <a:ext cx="2765520" cy="2919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8078760" y="2743200"/>
            <a:ext cx="53172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أثناء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-76320" y="1219320"/>
            <a:ext cx="2919240" cy="3170160"/>
            <a:chOff x="-76320" y="1219320"/>
            <a:chExt cx="2919240" cy="317016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295280" y="2286000"/>
              <a:ext cx="1371600" cy="1523880"/>
            </a:xfrm>
            <a:prstGeom prst="irregularSeal1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-76320" y="259092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استعد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666880" y="16002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كيف تدير فصلك بنجاح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45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 دقيقة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2590920"/>
            <a:ext cx="55627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2711520"/>
            <a:ext cx="551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لا تتكلف الاجابة على كل سؤال، وقل:( لا أعلم )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886200" y="3809880"/>
            <a:ext cx="2392200" cy="2949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8078760" y="2743200"/>
            <a:ext cx="53172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أثناء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-76320" y="1219320"/>
            <a:ext cx="2919240" cy="3170160"/>
            <a:chOff x="-76320" y="1219320"/>
            <a:chExt cx="2919240" cy="317016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1295280" y="2286000"/>
              <a:ext cx="1371600" cy="1523880"/>
            </a:xfrm>
            <a:prstGeom prst="irregularSeal1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-76320" y="259092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استعد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666880" y="16002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كيف تدير فصلك بنجاح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45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 دقيقة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2514600"/>
            <a:ext cx="5562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2666880"/>
            <a:ext cx="60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كن حليماً .. بشوشاً .. جاداً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553080" y="3581280"/>
            <a:ext cx="1646280" cy="29419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876920" y="3352680"/>
            <a:ext cx="1147680" cy="31705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3097080" y="3352680"/>
            <a:ext cx="1094040" cy="3124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8155080" y="2590920"/>
            <a:ext cx="53172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أثناء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16002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كيف تدير فصلك بنجاح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45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 دقيقة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62320" y="24382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99"/>
                </a:solidFill>
                <a:latin typeface="Lucida Sans Unicode"/>
                <a:cs typeface="Tahoma (Arabic)"/>
              </a:rPr>
              <a:t>حليماً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: فلا تغضب .. لاتغضب .. لاتغضب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038480" y="3429000"/>
            <a:ext cx="22860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-76320" y="1219320"/>
            <a:ext cx="2919240" cy="3170160"/>
            <a:chOff x="-76320" y="1219320"/>
            <a:chExt cx="2919240" cy="317016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295280" y="2286000"/>
              <a:ext cx="1371600" cy="1523880"/>
            </a:xfrm>
            <a:prstGeom prst="irregularSeal1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-76320" y="259092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استعد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أثناء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-76320" y="1219320"/>
            <a:ext cx="2919240" cy="3170160"/>
            <a:chOff x="-76320" y="1219320"/>
            <a:chExt cx="2919240" cy="3170160"/>
          </a:xfrm>
        </p:grpSpPr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1295280" y="2286000"/>
              <a:ext cx="1371600" cy="1523880"/>
            </a:xfrm>
            <a:prstGeom prst="irregularSeal1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-76320" y="259092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استعد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666880" y="16002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كيف تدير فصلك بنجاح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45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 دقيقة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2514600"/>
            <a:ext cx="6172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99"/>
                </a:solidFill>
                <a:latin typeface="Lucida Sans Unicode"/>
                <a:cs typeface="Tahoma (Arabic)"/>
              </a:rPr>
              <a:t>بشوشاً 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: يحبك الطلاب ، فَيُصغوا إليك بسمعهم وأفئدتهم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352680" y="3276720"/>
            <a:ext cx="20862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أثناء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-76320" y="1219320"/>
            <a:ext cx="2919240" cy="3170160"/>
            <a:chOff x="-76320" y="1219320"/>
            <a:chExt cx="2919240" cy="3170160"/>
          </a:xfrm>
        </p:grpSpPr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295280" y="2286000"/>
              <a:ext cx="1371600" cy="1523880"/>
            </a:xfrm>
            <a:prstGeom prst="irregularSeal1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-76320" y="259092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استعد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16002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كيف تدير فصلك بنجاح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45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 دقيقة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1523880" cy="30607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590920" y="2819520"/>
            <a:ext cx="655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99"/>
                </a:solidFill>
                <a:latin typeface="Lucida Sans Unicode"/>
                <a:cs typeface="Tahoma (Arabic)"/>
              </a:rPr>
              <a:t>جاداً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: فَيُقْبل الطلاب على الدرس باهتمام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أثناء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-76320" y="1219320"/>
            <a:ext cx="2919240" cy="3170160"/>
            <a:chOff x="-76320" y="1219320"/>
            <a:chExt cx="2919240" cy="317016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295280" y="2286000"/>
              <a:ext cx="1371600" cy="1523880"/>
            </a:xfrm>
            <a:prstGeom prst="irregularSeal1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-76320" y="259092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استعد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666880" y="16002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كيف تدير فصلك بنجاح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45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 دقيقة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87640" y="2590920"/>
            <a:ext cx="57754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60840" y="2743200"/>
            <a:ext cx="52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وزع نقاشك بشكل جيد وعادل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352680" y="3668760"/>
            <a:ext cx="3353040" cy="29606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8078760" y="2743200"/>
            <a:ext cx="53172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أثناء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-76320" y="1219320"/>
            <a:ext cx="2919240" cy="3170160"/>
            <a:chOff x="-76320" y="1219320"/>
            <a:chExt cx="2919240" cy="3170160"/>
          </a:xfrm>
        </p:grpSpPr>
        <p:pic>
          <p:nvPicPr>
            <p:cNvPr id="283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295280" y="2286000"/>
              <a:ext cx="1371600" cy="1523880"/>
            </a:xfrm>
            <a:prstGeom prst="irregularSeal1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-76320" y="259092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استعد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2666880" y="16002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كيف تدير فصلك بنجاح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45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 دقيقة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2666880"/>
            <a:ext cx="4191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66880" y="2819520"/>
            <a:ext cx="52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راع الفروق الفردي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8002440" y="2819520"/>
            <a:ext cx="532080" cy="5331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6172200" y="4981680"/>
            <a:ext cx="2514600" cy="15922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3352680" y="4813200"/>
            <a:ext cx="2590920" cy="14781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914400" y="4473720"/>
            <a:ext cx="2286000" cy="130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أثناء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-76320" y="1219320"/>
            <a:ext cx="2919240" cy="3170160"/>
            <a:chOff x="-76320" y="1219320"/>
            <a:chExt cx="2919240" cy="3170160"/>
          </a:xfrm>
        </p:grpSpPr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1295280" y="2286000"/>
              <a:ext cx="1371600" cy="1523880"/>
            </a:xfrm>
            <a:prstGeom prst="irregularSeal1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-76320" y="259092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استعد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666880" y="16002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كيف تدير فصلك بنجاح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45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 دقيقة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29000" y="2514600"/>
            <a:ext cx="5345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2666880"/>
            <a:ext cx="497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أعد تقويمك بشكل جيد ، أثناء الدرس وبعده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886200" y="3772080"/>
            <a:ext cx="1571760" cy="29336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8155080" y="2666880"/>
            <a:ext cx="53172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19920" y="457200"/>
            <a:ext cx="25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البداي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23880"/>
            <a:ext cx="8077320" cy="51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	</a:t>
            </a:r>
            <a:r>
              <a:rPr b="1" lang="ar-SA" sz="2000" spc="-1" strike="noStrike">
                <a:solidFill>
                  <a:srgbClr val="663300"/>
                </a:solidFill>
                <a:latin typeface="Times New Roman"/>
                <a:cs typeface="Tahoma (Arabic)"/>
              </a:rPr>
              <a:t>إن طريق النجاح دائماً  يبدأ بخطوة ، ومع أنه قد يطول لكنــه يبقى الأفضل . هذا النجاح الذي يحقق لك ذاتك ، ويعزز ثقتك بنفسك، ويمنحك الرضى الوظيفي الذي يفتقده الكثير ممـن لـم يسلكـوا هــذا الطريق … ولهذا دعنا نبدأ هذه الخطو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	</a:t>
            </a:r>
            <a:r>
              <a:rPr b="1" lang="ar-SA" sz="20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 خلال هذا البرنامج يسعدني أن نخطو هذه الخطوة سوياً عبر ثلاثة مراحل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3300"/>
                </a:solidFill>
                <a:latin typeface="Times New Roman"/>
                <a:cs typeface="Tahoma (Arabic)"/>
              </a:rPr>
              <a:t>المرحلة الأولى : مرحلة الإعداد ( ما قبل الدرس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3300"/>
                </a:solidFill>
                <a:latin typeface="Times New Roman"/>
                <a:cs typeface="Tahoma (Arabic)"/>
              </a:rPr>
              <a:t>المرحلة الثانية : مرحلة التنفيذ ( أثناء عرض الدرس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3300"/>
                </a:solidFill>
                <a:latin typeface="Times New Roman"/>
                <a:cs typeface="Tahoma (Arabic)"/>
              </a:rPr>
              <a:t>المرحلة الثالثة : مرحلة التقويم ( ما بعد الدرس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	</a:t>
            </a:r>
            <a:r>
              <a:rPr b="1" lang="ar-SA" sz="2000" spc="-1" strike="noStrike">
                <a:solidFill>
                  <a:srgbClr val="663300"/>
                </a:solidFill>
                <a:latin typeface="Times New Roman"/>
                <a:cs typeface="Tahoma (Arabic)"/>
              </a:rPr>
              <a:t>وقبل أن تخطو الخطوة الثانية يصحبك الله ويرعاك ، كـان لابـد من التنويه عن  بعض  معوقات هذا الطريق ومزالق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	</a:t>
            </a:r>
            <a:r>
              <a:rPr b="1" lang="ar-SA" sz="2000" spc="-1" strike="noStrike">
                <a:solidFill>
                  <a:srgbClr val="663300"/>
                </a:solidFill>
                <a:latin typeface="Times New Roman"/>
                <a:cs typeface="Tahoma (Arabic)"/>
              </a:rPr>
              <a:t>والآن دعنا نقف عند مدخل هذا الطريق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5000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أثناء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-76320" y="1219320"/>
            <a:ext cx="2919240" cy="3170160"/>
            <a:chOff x="-76320" y="1219320"/>
            <a:chExt cx="2919240" cy="3170160"/>
          </a:xfrm>
        </p:grpSpPr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295280" y="2286000"/>
              <a:ext cx="1371600" cy="1523880"/>
            </a:xfrm>
            <a:prstGeom prst="irregularSeal1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-76320" y="259092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استعد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666880" y="16002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كيف تدير فصلك بنجاح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45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 دقيقة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5480" y="2438280"/>
            <a:ext cx="60199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0" y="2590920"/>
            <a:ext cx="58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أعط الواجب بشكل معقول ومقبول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962520" y="3733920"/>
            <a:ext cx="2819160" cy="27018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8231040" y="2590920"/>
            <a:ext cx="53208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أثناء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-76320" y="1219320"/>
            <a:ext cx="2919240" cy="3170160"/>
            <a:chOff x="-76320" y="1219320"/>
            <a:chExt cx="2919240" cy="317016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1295280" y="2286000"/>
              <a:ext cx="1371600" cy="1523880"/>
            </a:xfrm>
            <a:prstGeom prst="irregularSeal1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-76320" y="259092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استعد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666880" y="16002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كيف تدير فصلك بنجاح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45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KR HEAD1 Outlined"/>
              </a:rPr>
              <a:t> دقيقة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11320" y="2666880"/>
            <a:ext cx="57754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84520" y="2819520"/>
            <a:ext cx="52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حافظ على وقت الحصة بالكامل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2667240" cy="29718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8001000" y="2819520"/>
            <a:ext cx="531720" cy="5331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119240" y="1219320"/>
            <a:ext cx="1776240" cy="3170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295280" y="3124080"/>
            <a:ext cx="1371600" cy="1524240"/>
          </a:xfrm>
          <a:prstGeom prst="irregularSeal1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-23760" y="356544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ndale Mono"/>
                <a:cs typeface="SKR HEAD1"/>
              </a:rPr>
              <a:t>انطل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ما بعد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29718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استمرارية النجاح 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-76320" y="1219320"/>
            <a:ext cx="2919240" cy="3659040"/>
            <a:chOff x="-76320" y="1219320"/>
            <a:chExt cx="2919240" cy="3659040"/>
          </a:xfrm>
        </p:grpSpPr>
        <p:pic>
          <p:nvPicPr>
            <p:cNvPr id="330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242720" y="3124080"/>
              <a:ext cx="1371600" cy="1524240"/>
            </a:xfrm>
            <a:prstGeom prst="irregularSeal1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-76320" y="356544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انطل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ما بعد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343400" y="16002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استمرارية النجا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95480" y="2438280"/>
            <a:ext cx="60199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0" y="2590920"/>
            <a:ext cx="58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حافظ على نموك المعرفي والتربوي والمه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962520" y="3809880"/>
            <a:ext cx="2590560" cy="28958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8155080" y="2590920"/>
            <a:ext cx="53172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-76320" y="1219320"/>
            <a:ext cx="2919240" cy="3659040"/>
            <a:chOff x="-76320" y="1219320"/>
            <a:chExt cx="2919240" cy="3659040"/>
          </a:xfrm>
        </p:grpSpPr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1242720" y="3124080"/>
              <a:ext cx="1371600" cy="1524240"/>
            </a:xfrm>
            <a:prstGeom prst="irregularSeal1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-76320" y="356544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انطل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ما بعد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3400" y="16002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استمرارية النجا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2514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ff"/>
                </a:solidFill>
                <a:latin typeface="AGA Arabesque"/>
                <a:ea typeface="AGA Arabesque"/>
              </a:rPr>
              <a:t></a:t>
            </a:r>
            <a:r>
              <a:rPr b="0" lang="ar-SA" sz="2800" spc="-1" strike="noStrike">
                <a:solidFill>
                  <a:srgbClr val="3366ff"/>
                </a:solidFill>
                <a:latin typeface="Lucida Sans Unicode"/>
                <a:ea typeface="Tahoma (Arabic)"/>
              </a:rPr>
              <a:t> وذلك بأمور منها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43200" y="3244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1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القراءة العامة والتخصصي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43200" y="396252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2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القراءات الموجهة من المشرف التربو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81280" y="50436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3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اللقاءات التربوي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66880" y="5805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4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الزيارات المتبادل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-76320" y="1219320"/>
            <a:ext cx="2919240" cy="3659040"/>
            <a:chOff x="-76320" y="1219320"/>
            <a:chExt cx="2919240" cy="3659040"/>
          </a:xfrm>
        </p:grpSpPr>
        <p:pic>
          <p:nvPicPr>
            <p:cNvPr id="351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1242720" y="3124080"/>
              <a:ext cx="1371600" cy="1524240"/>
            </a:xfrm>
            <a:prstGeom prst="irregularSeal1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-76320" y="356544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انطل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ما بعد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16002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استمرارية النجا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95480" y="281952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5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الدورات التدريبي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95480" y="38098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6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المشاغل التربوي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47386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7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نقد المناهج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95480" y="55767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8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الدروس النموذجي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-76320" y="1219320"/>
            <a:ext cx="2919240" cy="3659040"/>
            <a:chOff x="-76320" y="1219320"/>
            <a:chExt cx="2919240" cy="3659040"/>
          </a:xfrm>
        </p:grpSpPr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242720" y="3124080"/>
              <a:ext cx="1371600" cy="1524240"/>
            </a:xfrm>
            <a:prstGeom prst="irregularSeal1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-76320" y="356544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انطل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ما بعد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16002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استمرارية النجا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76720" y="2438280"/>
            <a:ext cx="55623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0" y="2590920"/>
            <a:ext cx="58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اهتم بتقويم عطاءك باستمرار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038480" y="3733920"/>
            <a:ext cx="2784600" cy="29113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8231040" y="2590920"/>
            <a:ext cx="532080" cy="5331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-76320" y="1219320"/>
            <a:ext cx="2919240" cy="3659040"/>
            <a:chOff x="-76320" y="1219320"/>
            <a:chExt cx="2919240" cy="3659040"/>
          </a:xfrm>
        </p:grpSpPr>
        <p:pic>
          <p:nvPicPr>
            <p:cNvPr id="372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1242720" y="3124080"/>
              <a:ext cx="1371600" cy="1524240"/>
            </a:xfrm>
            <a:prstGeom prst="irregularSeal1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-76320" y="356544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انطل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ما بعد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43400" y="16002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استمرارية النجا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2514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ff"/>
                </a:solidFill>
                <a:latin typeface="AGA Arabesque"/>
                <a:ea typeface="AGA Arabesque"/>
              </a:rPr>
              <a:t></a:t>
            </a:r>
            <a:r>
              <a:rPr b="0" lang="ar-SA" sz="2800" spc="-1" strike="noStrike">
                <a:solidFill>
                  <a:srgbClr val="3366ff"/>
                </a:solidFill>
                <a:latin typeface="Lucida Sans Unicode"/>
                <a:ea typeface="Tahoma (Arabic)"/>
              </a:rPr>
              <a:t> الأدوات المساعدة للتقويم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343400" y="3244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1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التقويم الذات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0" y="40528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2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تقويم المشرف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43200" y="48769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3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تقويم الزملاء المعلمين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09680" y="57150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4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تقويم الطلاب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-76320" y="1219320"/>
            <a:ext cx="2919240" cy="3659040"/>
            <a:chOff x="-76320" y="1219320"/>
            <a:chExt cx="2919240" cy="3659040"/>
          </a:xfrm>
        </p:grpSpPr>
        <p:pic>
          <p:nvPicPr>
            <p:cNvPr id="383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1242720" y="3124080"/>
              <a:ext cx="1371600" cy="1524240"/>
            </a:xfrm>
            <a:prstGeom prst="irregularSeal1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-76320" y="356544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انطل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ما بعد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16002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استمرارية النجا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2438280"/>
            <a:ext cx="4495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05320" y="259092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استعن بالله ولا تعجز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3581280" y="3657600"/>
            <a:ext cx="3200400" cy="29145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8231040" y="2590920"/>
            <a:ext cx="53208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114800" y="304812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عوقات النجا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685800" y="2122560"/>
            <a:ext cx="3352680" cy="20685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78487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5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1776240" cy="3170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1143000"/>
            <a:ext cx="1600200" cy="1752480"/>
          </a:xfrm>
          <a:prstGeom prst="irregularSeal1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82880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ndale Mono"/>
                <a:cs typeface="SKR HEAD1"/>
              </a:rPr>
              <a:t>ق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ما قبل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3048120"/>
            <a:ext cx="609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المعـلم ومهـنة التعـليم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038480" y="45720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عوقات النجا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2365560" cy="23652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685800" y="2122560"/>
            <a:ext cx="3352680" cy="20685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029200" y="2362320"/>
            <a:ext cx="3886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5320" y="259092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معوقات شخص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8231040" y="2590920"/>
            <a:ext cx="532080" cy="5331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81532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4038480" y="45720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عوقات النجا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85800" y="2122560"/>
            <a:ext cx="3352680" cy="20685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3352680" y="27576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ff"/>
                </a:solidFill>
                <a:latin typeface="AGA Arabesque"/>
                <a:ea typeface="AGA Arabesque"/>
              </a:rPr>
              <a:t></a:t>
            </a:r>
            <a:r>
              <a:rPr b="0" lang="ar-SA" sz="2800" spc="-1" strike="noStrike">
                <a:solidFill>
                  <a:srgbClr val="3366ff"/>
                </a:solidFill>
                <a:latin typeface="Lucida Sans Unicode"/>
                <a:ea typeface="Tahoma (Arabic)"/>
              </a:rPr>
              <a:t> الفهم الخاطئ لقوة الشخص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3429000" y="3763800"/>
            <a:ext cx="3124080" cy="25894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81532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038480" y="45720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عوقات النجا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85800" y="2122560"/>
            <a:ext cx="3352680" cy="20685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733920" y="2514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ff"/>
                </a:solidFill>
                <a:latin typeface="AGA Arabesque"/>
                <a:ea typeface="AGA Arabesque"/>
              </a:rPr>
              <a:t></a:t>
            </a:r>
            <a:r>
              <a:rPr b="0" lang="ar-SA" sz="2800" spc="-1" strike="noStrike">
                <a:solidFill>
                  <a:srgbClr val="3366ff"/>
                </a:solidFill>
                <a:latin typeface="Lucida Sans Unicode"/>
                <a:ea typeface="Tahoma (Arabic)"/>
              </a:rPr>
              <a:t> الفهم القاصر لدور المعلم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3733920" y="3051000"/>
            <a:ext cx="2619360" cy="37306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81532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038480" y="45720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عوقات النجا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685800" y="2122560"/>
            <a:ext cx="3352680" cy="20685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3733920" y="27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ff"/>
                </a:solidFill>
                <a:latin typeface="AGA Arabesque"/>
                <a:ea typeface="AGA Arabesque"/>
              </a:rPr>
              <a:t></a:t>
            </a:r>
            <a:r>
              <a:rPr b="0" lang="ar-SA" sz="2800" spc="-1" strike="noStrike">
                <a:solidFill>
                  <a:srgbClr val="3366ff"/>
                </a:solidFill>
                <a:latin typeface="Lucida Sans Unicode"/>
                <a:ea typeface="Tahoma (Arabic)"/>
              </a:rPr>
              <a:t> النظرة المتشائم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352680" y="3657600"/>
            <a:ext cx="3078360" cy="27748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81532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4038480" y="45720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عوقات النجا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685800" y="2122560"/>
            <a:ext cx="3352680" cy="20685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267080" y="26812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ff"/>
                </a:solidFill>
                <a:latin typeface="AGA Arabesque"/>
                <a:ea typeface="AGA Arabesque"/>
              </a:rPr>
              <a:t></a:t>
            </a:r>
            <a:r>
              <a:rPr b="0" lang="ar-SA" sz="2800" spc="-1" strike="noStrike">
                <a:solidFill>
                  <a:srgbClr val="3366ff"/>
                </a:solidFill>
                <a:latin typeface="Lucida Sans Unicode"/>
                <a:ea typeface="Tahoma (Arabic)"/>
              </a:rPr>
              <a:t> التركيز على النقد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2789280" cy="29973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81532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4038480" y="45720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عوقات النجا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685800" y="2122560"/>
            <a:ext cx="3352680" cy="20685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3505320" y="3429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81532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5029200" y="2362320"/>
            <a:ext cx="3886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59092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كثرة التكاليف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4"/>
          <a:stretch/>
        </p:blipFill>
        <p:spPr>
          <a:xfrm>
            <a:off x="8231040" y="2590920"/>
            <a:ext cx="53208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4038480" y="45720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عوقات النجا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685800" y="2122560"/>
            <a:ext cx="3352680" cy="20685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733920" y="3429000"/>
            <a:ext cx="3638520" cy="30402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81532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4724280" y="2362320"/>
            <a:ext cx="41911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259092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الشعور بعدم التقدير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8231040" y="2590920"/>
            <a:ext cx="53208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4038480" y="45720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عوقات النجا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685800" y="2122560"/>
            <a:ext cx="3352680" cy="20685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2971800" y="3436920"/>
            <a:ext cx="1757520" cy="34210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81532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5029200" y="2362320"/>
            <a:ext cx="3886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05320" y="259092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ضعف الإمكانات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8231040" y="2590920"/>
            <a:ext cx="53208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4038480" y="45720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عوقات النجا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685800" y="2122560"/>
            <a:ext cx="3352680" cy="20685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3809880" y="3429000"/>
            <a:ext cx="1371600" cy="33526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81532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581280" y="2362320"/>
            <a:ext cx="53341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505320" y="259092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الفجوة بين النظرية والتطبيق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4"/>
          <a:stretch/>
        </p:blipFill>
        <p:spPr>
          <a:xfrm>
            <a:off x="8231040" y="2590920"/>
            <a:ext cx="53208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4038480" y="45720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عوقات النجا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685800" y="2122560"/>
            <a:ext cx="3352680" cy="20685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3200400" y="3532320"/>
            <a:ext cx="3048120" cy="30286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81532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4191120" y="2362320"/>
            <a:ext cx="47242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05320" y="259092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التربية الأسرية الخاطئ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4"/>
          <a:stretch/>
        </p:blipFill>
        <p:spPr>
          <a:xfrm>
            <a:off x="8231040" y="2590920"/>
            <a:ext cx="53208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5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28600" y="1143000"/>
            <a:ext cx="2690640" cy="3246480"/>
            <a:chOff x="228600" y="1143000"/>
            <a:chExt cx="2690640" cy="324648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14300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143000" y="1143000"/>
              <a:ext cx="1600200" cy="1752480"/>
            </a:xfrm>
            <a:prstGeom prst="irregularSeal1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1828800"/>
              <a:ext cx="762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قف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ما قبل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167652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المعـلم ومهـنة التعـلي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2590920"/>
            <a:ext cx="579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إنها أمانة فاحملها كاملة و أد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ea typeface="Tahoma (Arabic)"/>
              </a:rPr>
              <a:t> كامل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514600"/>
            <a:ext cx="53337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971800" y="3886200"/>
            <a:ext cx="373392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001000" y="2590920"/>
            <a:ext cx="53172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4038480" y="45720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عوقات النجا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85800" y="2122560"/>
            <a:ext cx="3352680" cy="20685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889440" y="3581280"/>
            <a:ext cx="2979720" cy="30481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81532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5029200" y="2362320"/>
            <a:ext cx="3886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505320" y="259092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وسائل الإعلام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4"/>
          <a:stretch/>
        </p:blipFill>
        <p:spPr>
          <a:xfrm>
            <a:off x="8231040" y="2590920"/>
            <a:ext cx="53208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6019920" y="457200"/>
            <a:ext cx="25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النهاي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8600" y="1654200"/>
            <a:ext cx="87631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	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  <a:cs typeface="Tahoma (Arabic)"/>
              </a:rPr>
              <a:t>والآن هانحن أخي الحبيب ، نصـل إلـى نهـاية الخـطـوة الأولى في طريق النجاح .. أرجو منك أن تفـكر جديـاً بالخطـوة الثانية  .. تحرسك عين المولى سبحانه ، وتكلؤك عنايته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	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  <a:cs typeface="Tahoma (Arabic)"/>
              </a:rPr>
              <a:t>ولا تنسى أن فلذات أكبادنا بانتظارك في الطرف الآخر من هذا الطريق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	</a:t>
            </a:r>
            <a:r>
              <a:rPr b="1" lang="ar-SA" sz="2400" spc="-1" strike="noStrike">
                <a:solidFill>
                  <a:srgbClr val="663300"/>
                </a:solidFill>
                <a:latin typeface="AGA Arabesque"/>
                <a:ea typeface="AGA Arabesque"/>
              </a:rPr>
              <a:t>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 وقل اعملوا فسيرى الله عملكم ورسوله والمؤمنون </a:t>
            </a:r>
            <a:r>
              <a:rPr b="1" lang="ar-SA" sz="2400" spc="-1" strike="noStrike">
                <a:solidFill>
                  <a:srgbClr val="663300"/>
                </a:solidFill>
                <a:latin typeface="AGA Arabesque"/>
                <a:ea typeface="AGA Arabesque"/>
              </a:rPr>
              <a:t>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905120" y="495288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تحيةً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</a:rPr>
              <a:t>طيبةً 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.. والله يحفظك ويرعاك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8600" y="601992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3300"/>
                </a:solidFill>
                <a:latin typeface="Times New Roman"/>
              </a:rPr>
              <a:t>أخوك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663300"/>
                </a:solidFill>
                <a:latin typeface="Times New Roman"/>
              </a:rPr>
              <a:t>المحب </a:t>
            </a:r>
            <a:r>
              <a:rPr b="1" lang="ar-SA" sz="20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: عبد العزيز المضواح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1000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438280" y="15228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اجع تهمك حول هذا العر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52880" y="1143000"/>
            <a:ext cx="4038840" cy="53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3300"/>
                </a:solidFill>
                <a:latin typeface="Times New Roman"/>
                <a:ea typeface="SKR HEAD1"/>
              </a:rPr>
              <a:t>- المدخل في تدريس العلوم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   د . أحمد النجدي وآخرون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- </a:t>
            </a:r>
            <a:r>
              <a:rPr b="0" lang="ar-SA" sz="2400" spc="-1" strike="noStrike">
                <a:solidFill>
                  <a:srgbClr val="663300"/>
                </a:solidFill>
                <a:latin typeface="Times New Roman"/>
                <a:cs typeface="SKR HEAD1"/>
              </a:rPr>
              <a:t>التدريس الفعال للعلوم الطبيع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   د . هالة بخش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3300"/>
                </a:solidFill>
                <a:latin typeface="Times New Roman"/>
                <a:ea typeface="SKR HEAD1"/>
              </a:rPr>
              <a:t>- </a:t>
            </a:r>
            <a:r>
              <a:rPr b="0" lang="ar-SA" sz="2400" spc="-1" strike="noStrike">
                <a:solidFill>
                  <a:srgbClr val="663300"/>
                </a:solidFill>
                <a:latin typeface="Times New Roman"/>
              </a:rPr>
              <a:t>قياس وتقويم التحصيل الدراسي</a:t>
            </a:r>
            <a:r>
              <a:rPr b="1" lang="ar-SA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   د. رجاء أبو علا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3300"/>
                </a:solidFill>
                <a:latin typeface="Times New Roman"/>
                <a:ea typeface="SKR HEAD1"/>
              </a:rPr>
              <a:t>-دليل المعلم إلى تحقيق الأهداف التعليمية السلو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   أ. محمد السيد محمد مرزوق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8600" y="990720"/>
            <a:ext cx="4572000" cy="58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3300"/>
                </a:solidFill>
                <a:latin typeface="Times New Roman"/>
                <a:ea typeface="SKR HEAD1"/>
              </a:rPr>
              <a:t>- المدرس ومهارات التوجيه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   أ. محمد بن عبد الله الدويش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- </a:t>
            </a:r>
            <a:r>
              <a:rPr b="0" lang="ar-SA" sz="2400" spc="-1" strike="noStrike">
                <a:solidFill>
                  <a:srgbClr val="663300"/>
                </a:solidFill>
                <a:latin typeface="Times New Roman"/>
                <a:ea typeface="SKR HEAD1"/>
              </a:rPr>
              <a:t>33</a:t>
            </a:r>
            <a:r>
              <a:rPr b="0" lang="ar-SA" sz="2400" spc="-1" strike="noStrike">
                <a:solidFill>
                  <a:srgbClr val="663300"/>
                </a:solidFill>
                <a:latin typeface="Times New Roman"/>
                <a:ea typeface="SKR HEAD1"/>
              </a:rPr>
              <a:t> خطوة لتدريس ناجح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   أ. راشد حسين العبد الكري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- </a:t>
            </a:r>
            <a:r>
              <a:rPr b="0" lang="ar-SA" sz="2400" spc="-1" strike="noStrike">
                <a:solidFill>
                  <a:srgbClr val="663300"/>
                </a:solidFill>
                <a:latin typeface="Times New Roman"/>
                <a:cs typeface="SKR HEAD1"/>
              </a:rPr>
              <a:t>دليل المعلم في بناء الاختبارا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   د. علي بن عبد الخالق القرني وآخرو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3300"/>
                </a:solidFill>
                <a:latin typeface="Times New Roman"/>
                <a:ea typeface="SKR HEAD1"/>
              </a:rPr>
              <a:t>- دليل المعلم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   وزارة المعارف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3300"/>
                </a:solidFill>
                <a:latin typeface="Times New Roman"/>
                <a:ea typeface="SKR HEAD1"/>
              </a:rPr>
              <a:t>- كتاب المعلم لمقرر فيزياء الصف الثالث ثانو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3300"/>
                </a:solidFill>
                <a:latin typeface="Times New Roman"/>
                <a:ea typeface="Tahoma (Arabic)"/>
              </a:rPr>
              <a:t>   وزارة المعارف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4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5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28600" y="1143000"/>
            <a:ext cx="2690640" cy="3246480"/>
            <a:chOff x="228600" y="1143000"/>
            <a:chExt cx="2690640" cy="324648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14300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143000" y="1143000"/>
              <a:ext cx="1600200" cy="1752480"/>
            </a:xfrm>
            <a:prstGeom prst="irregularSeal1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600" y="1828800"/>
              <a:ext cx="762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قف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ما قبل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المعـلم ومهـنة التعـلي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25909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44840" y="2666880"/>
            <a:ext cx="4886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الإخلاص لوجه الله تعالى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مفتاح النجاح وديمومة المراقب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581280" y="4327560"/>
            <a:ext cx="4191120" cy="1498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1880" y="2666880"/>
            <a:ext cx="532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5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228600" y="1143000"/>
            <a:ext cx="2690640" cy="3246480"/>
            <a:chOff x="228600" y="1143000"/>
            <a:chExt cx="2690640" cy="324648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114300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1143000" y="1143000"/>
              <a:ext cx="1600200" cy="1752480"/>
            </a:xfrm>
            <a:prstGeom prst="irregularSeal1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8600" y="1828800"/>
              <a:ext cx="762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قف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ما قبل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167652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المعـلم ومهـنة التعـلي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2666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cs typeface="Tahoma (Arabic)"/>
              </a:rPr>
              <a:t>الرغبة في التعليم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2438280"/>
            <a:ext cx="43434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9880" y="3619440"/>
            <a:ext cx="1694160" cy="3162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77320" y="2590920"/>
            <a:ext cx="53172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5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1219320"/>
            <a:ext cx="2462040" cy="3246480"/>
            <a:chOff x="0" y="1219320"/>
            <a:chExt cx="2462040" cy="32464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685800" y="1295280"/>
              <a:ext cx="1776240" cy="31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85800" y="1219320"/>
              <a:ext cx="1600200" cy="1752480"/>
            </a:xfrm>
            <a:prstGeom prst="irregularSeal1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1828800"/>
              <a:ext cx="762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قف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ما قبل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167652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المعـلم ومهـنة التعـلي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4267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3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اجعل عملك مجال تحد لك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49212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4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تذكر أن عظماء التاريخ خرجوا من تحت أيدي المعلمين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8356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5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تذكر ما سيؤول إليه طلابك في المستقبل ، وما هي نظرتهم إليك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3004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ff"/>
                </a:solidFill>
                <a:latin typeface="AGA Arabesque"/>
                <a:ea typeface="AGA Arabesque"/>
              </a:rPr>
              <a:t></a:t>
            </a:r>
            <a:r>
              <a:rPr b="0" lang="ar-SA" sz="2800" spc="-1" strike="noStrike">
                <a:solidFill>
                  <a:srgbClr val="3366ff"/>
                </a:solidFill>
                <a:latin typeface="Lucida Sans Unicode"/>
                <a:ea typeface="Tahoma (Arabic)"/>
              </a:rPr>
              <a:t> أمور تساعدك على زيادة الرغبة في التعلي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28954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1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استشعر الأجر العظيم من جراء التعليم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35812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2</a:t>
            </a:r>
            <a:r>
              <a:rPr b="0" lang="ar-SA" sz="2800" spc="-1" strike="noStrike">
                <a:solidFill>
                  <a:srgbClr val="cc3399"/>
                </a:solidFill>
                <a:latin typeface="Lucida Sans Unicode"/>
                <a:ea typeface="Tahoma (Arabic)"/>
              </a:rPr>
              <a:t> - الطلاب أمانة بين يديك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5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52560" y="1143000"/>
            <a:ext cx="2690640" cy="3246480"/>
            <a:chOff x="52560" y="1143000"/>
            <a:chExt cx="2690640" cy="3246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966960" y="1219320"/>
              <a:ext cx="17762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66960" y="1143000"/>
              <a:ext cx="1600200" cy="1752480"/>
            </a:xfrm>
            <a:prstGeom prst="irregularSeal1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560" y="1828800"/>
              <a:ext cx="762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ndale Mono"/>
                  <a:cs typeface="SKR HEAD1"/>
                </a:rPr>
                <a:t>قف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124080" y="4572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Times New Roman"/>
                <a:cs typeface="Andalus"/>
              </a:rPr>
              <a:t>مرحلة ما قبل الدر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167652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SKR HEAD1 Outlined"/>
              </a:rPr>
              <a:t>المعـلم ومهـنة التعـلي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2666880"/>
            <a:ext cx="60199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2895480"/>
            <a:ext cx="580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Lucida Sans Unicode"/>
                <a:ea typeface="Tahoma (Arabic)"/>
              </a:rPr>
              <a:t> معرفة الخصائص العمرية والاجتماعية للمرحلة الدراسي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505320" y="3959280"/>
            <a:ext cx="2617560" cy="2746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231040" y="2819520"/>
            <a:ext cx="532080" cy="533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09:14:04Z</dcterms:created>
  <dc:creator>عبد العزيز المضواحي</dc:creator>
  <dc:description/>
  <dc:language>en-US</dc:language>
  <cp:lastModifiedBy>عبدالعزيز المضواحي</cp:lastModifiedBy>
  <dcterms:modified xsi:type="dcterms:W3CDTF">2001-09-23T07:24:30Z</dcterms:modified>
  <cp:revision>34</cp:revision>
  <dc:subject/>
  <dc:title>لا يوجد عنوان للشريحة</dc:title>
</cp:coreProperties>
</file>