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gif" ContentType="image/gif"/>
  <Override PartName="/ppt/media/image13.wmf" ContentType="image/x-wmf"/>
  <Override PartName="/ppt/media/image9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4.wmf" ContentType="image/x-wmf"/>
  <Override PartName="/ppt/media/image4.wmf" ContentType="image/x-wmf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2.png" ContentType="image/png"/>
  <Override PartName="/ppt/media/image3.png" ContentType="image/png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CBF-CC8A-4400-A43F-A4D10728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74C-DDB7-46C4-900A-B5EBC3A1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E8D09-4B4B-4763-9F12-9EFCB0ED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E4238-27D3-4CF1-B4B5-47CD85CD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BAC7C-9ECB-44CB-BD10-5EACC881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23984-56CA-44A1-843D-028868CB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1CF1C-4537-43FD-BAD2-851A9AEC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1E50E-6B6A-41AB-9462-F3F89542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6F232-5E18-4817-AEA9-923E36C2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E1BD7-1423-42EB-A8A5-63183214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CC245-4AF9-4807-9AF1-54AD6419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2C978-3577-4E97-87C2-1CD873D8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39A-4320-4C27-ABA3-5B3E3BA8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66C94-B9BE-41EB-B275-F387DBFD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F4A61-CBD7-497F-BDA3-DB5F617E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EFE5C-3F79-47B5-93AE-93C14E78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99641-FF4C-45B7-9C27-202637D7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ADF25-66FB-4443-B218-1380ECDE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BD076-B7A4-4635-9AB3-BB0B7F5D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E674E-C8DA-466A-ADEC-DD45037B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B8674-3CE9-4F16-B222-C4ABD8FC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FF4DB-3DB7-4455-A762-90F67E83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6CA74-390C-49EE-AC42-FDD295A1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402-0606-4165-AC76-896519F8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AA770-3695-491C-8D2E-F6A88FDD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E3BA4-C259-4403-A181-894E5897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E99FA-AF11-44C8-B15B-5A603194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F7234-98C5-4424-B54B-B0C6F9A1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97E1B-CB82-4201-A36B-A1945F65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46118-13CD-4058-B9DE-0196B9BF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0C06E-5768-4E9A-95D0-4EAF227F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209AF-F431-4D81-8825-CB00A00B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25CDC-7051-410E-8EBF-E7AC6D89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032DD-72F8-44B3-9726-E37E710D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788A-4C5B-48F0-B20F-92D3B0B3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0702C-8235-4FC3-940A-BDA51839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BA890-DED6-4A67-BE96-61176823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F6EC9-D721-42C5-8F7C-1DAD7311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831AA-C799-448A-B9DC-19D8D345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FFC38-23B6-4A7E-8151-D4810541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7CD15-E39F-40A1-9E64-DCD3AB37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648CC-C0CD-4BB0-A9B1-B9148D39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602A6-AAE7-40EC-9E6E-B92E84A9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3352C-C8DD-4367-BFFB-1DE2A611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B7976-2D93-4641-8C69-9DA7A07F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CB5D-C09C-48E1-8454-96A8BE97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1524E-5439-40FB-9519-1C898ECD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A848F-D11C-4EB7-9F1F-4D2BC26B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2B104-8FE2-4A82-8CA4-5F03650E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7BF14-EFEC-4B5E-BB07-E9C5FE40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0DC2E-D571-4556-B477-DD5755E5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0DEFD-214F-4047-A259-FA5ED8F0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1F0F4-480D-4815-9D41-D3C7F739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F9A9B-0C04-4CA1-9B9A-C8466073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BB97A-4585-401D-8AB1-9DD7EEEF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B8B47-14A5-490B-86E9-B446F1DF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5E6E-23E6-40F5-9AED-9709762D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2508F-7E6C-46A8-A023-2D377F85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39539-1D23-45F9-8B1F-4836E054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1B2E2-5AC2-4322-84BB-3655380C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317F9-F0A0-4539-9E13-11338F60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A372E-84DB-46EA-B336-2629C11C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B1E3F-C92A-4315-8EA3-F6BBF551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D9F35-A431-47C1-AD40-C320A6EA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DDCAF-685D-4CC7-90C6-FBA822E0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E2DC7-4692-48FB-BF52-C11534E8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E662B-16F2-4170-AC22-ACA13D0D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CB1F-5B09-4875-90C9-F8B4478D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37A86-3E9C-43C5-AFF6-895D000D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5C8AD-2610-4A48-8C5F-F79C0F51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FBE68-4846-41BC-A7F5-7E444905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A4F1F-EF65-4C80-AD6C-0E5FCD29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E65CA-B127-45F7-A2E1-3BD0BD6A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3F27D-6687-4D88-BF6D-79EF7CEA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42AD1-F955-4C65-895B-73F62562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A0388-2079-4B79-9D73-000C2AC6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C1E5C-2AE7-47D0-99CE-FA407711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5D3F6C-F3C1-4A86-966D-CB934DAA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1B02-7CF0-485D-9B44-411563D0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612A38-85D2-4CA4-8091-29247EA5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55CA08-1A34-489B-B41B-41C0116E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BE9F15-B394-4D51-BFFD-CDD1F181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01B34-035F-4426-A663-626EA684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7ED339-B7A6-43D6-A9ED-0F465469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BBEBF-4B03-4B61-9333-CCC85952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ACC0A-850B-46C0-BFCE-6EDD123E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9BC42E-0B80-4224-A9DA-90301124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3181C-6932-437B-810E-D77A7DA3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EF83A-2FED-4CCE-AC51-C340B469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7327-A364-4576-A46D-8218AEAB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DCF91-B275-4655-8050-6C1740D4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F9C5-3E18-4F74-A6CD-4D19C6C7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24C-0471-43AA-8234-759487A1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BDE5-8E67-40A7-AAC3-9967ADCA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5974-EB5B-4A3C-829C-D2F73757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A49A-E387-446A-A18C-6AA56FB5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2B93-1EB5-4F16-826C-2A3BFBC4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43FB-B076-4D30-8396-215CE24C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B084-51E7-46F8-9539-0C64F36F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DEDC0-81BB-4553-A769-A32FAF0E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198D2-0824-4CE0-95AD-2016488B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79097-CB33-4AA1-A07C-125FE93C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3F95F-87EC-473E-ABB2-67FCB9F8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34F-C9F9-4C0B-862F-1884EAFC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D7AD4-E342-400A-8391-BEF5A7C4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612F3-F0D1-4572-B794-66DCE40B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08735-2926-4242-B80F-BDE82A53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5925D-8617-4B23-85A4-0CE393C2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562F9-175D-453F-991F-FC75BC6B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4420-0285-4E94-B98C-535D476A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BA0CF-846D-4946-A6AC-531A0E4A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91C50-646E-4AC3-9871-2BE223ED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3F4EF-FB55-4B1D-B857-00C9D530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36933-21A9-4C3A-994B-D816CA7D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AA21-A928-4D2F-AEC2-84B7C637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F4DB5-7B5D-4E09-99CC-11706469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E4995-F189-460B-987D-F45DC367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8972D-D911-4392-B201-03F0FD4C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8AF14-36A7-4873-8FA1-FB1BB3AB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7044-2429-40FA-B442-8C895DE6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59141-4C5C-41BA-A6DE-0E0A194D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3C612-8B0C-42DB-8B2B-8597122E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91A0E-3D5D-4A79-9C36-9CC85CC0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278CC-41CA-40EC-8467-A79A51E7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57259-1B33-42E1-B338-A2578E0C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1B85-F081-4755-9377-61950F65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4517C-72B4-4F12-A80A-B4578FA9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B1EB2-801D-4142-B84A-C233BF47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21E77-CCF2-4F77-8CD0-A8772B69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27C44-492E-4E66-B796-950213EE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29285-368D-4040-B787-AAE0E9E1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CA8A4-54BD-4FC6-B2AA-27DD60E2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292B4-E27A-44D8-A3EF-711E86A8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E6824-DA8F-43BC-A617-1FEEE2DB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4B4B7-6972-4E28-844D-8F25268C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386BA-5C27-4857-A695-4C363250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39E-0881-4425-B954-3BA5CFF4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21718-8738-4D2A-B659-2DD803FA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0F5FA-B92E-432C-98A1-86E06E61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240AD-736A-4C47-9F2D-EEFD5B7A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995A1-D7B0-48B9-A4CD-CA645435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1505A-025C-4AB1-AFB2-66B89358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6BC9B-CE4F-4F9E-A3E1-EA71AE17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559C6-1A20-44DA-831C-A4260D02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14BBD-995F-47FF-9DCE-1C258652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F8B99-9EA4-45C9-9F3E-27967965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B4C0A-26F5-4FB7-85DF-A8B5E2EF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F00-562C-445A-B0C0-2B7C9719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50B0A-55C4-4A2D-9EC2-B5C94840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32DF3-6402-4AD8-BAC1-D472E047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38CFA-6A80-48D6-831F-2A711F6E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D19B3-B553-4097-95AE-1C88F426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1445A-24CE-4B27-9DFF-A704CD6B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424C4-C8EC-4485-AC4B-F5B763DA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6E060-FCAC-487A-8BD0-000A4A84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1FB57-3069-4B8C-B5A9-C3971866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7DB41-E25F-4806-8D53-FD0BBD38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06F5B-3B3F-49F8-A4BE-22531834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D93-050E-4E56-B960-1019F6BB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14505-9A69-4D1B-8D84-D73F220B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11A5E-1715-423A-AA2B-155BCD8F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74424-2614-46AF-9902-FD96B6A7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02559-4C54-412F-8424-03A6E1C9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CA8C2-AF9E-4320-9CE9-7634D695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F76C7-A61B-432D-A68F-1A3487C0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CB778-40F9-4BEB-BFE2-8D4B434D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31ACF-FB32-4A4F-99F7-E04471C0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6475C-3510-4FEB-A761-94469865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AC423-9990-4815-9B01-55A81835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218-76AA-4706-BC3A-2353BD66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1D46C-9D7A-4286-AB96-556D5D6C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4369B-121D-44E9-9A33-BE671BBC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1A056-7961-4C3E-BDC4-D3B2ADE1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0987C-434A-48A7-B1CE-6D025FC7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B7651-9902-4EAE-8BDF-289D342B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A4D70-7874-4BAF-A4B0-064F3731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53C94-4DE8-4D03-8B7F-3FFD79D1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A78C7-DE86-4A0E-84E7-E3756C84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40C1C-3390-4751-B497-C9A109CE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A6584-BF84-4FD1-B5DD-F0EA4B25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A5E1-620C-4FA7-8C3F-2930D561E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05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06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09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12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19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2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4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7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908A-3389-40C2-87A6-1AE4752597F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81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82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86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91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3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88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89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7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8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99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E66E-4D37-429B-B766-522E2A66954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 rtl="1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55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59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84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CC0F-807F-4200-92E0-9A1DDD7C23A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3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3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8959-C022-4191-A635-B95394EC2D6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1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A641-AB2B-4BD5-B5C6-225F69170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7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822A-C3D8-49EB-BF2D-529CD9462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9047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40384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625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66C9-0179-457B-A173-6271F926B27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20120" y="6027840"/>
            <a:ext cx="1279080" cy="677880"/>
            <a:chOff x="7620120" y="6027840"/>
            <a:chExt cx="1279080" cy="677880"/>
          </a:xfrm>
        </p:grpSpPr>
        <p:graphicFrame>
          <p:nvGraphicFramePr>
            <p:cNvPr id="47" name=""/>
            <p:cNvGraphicFramePr/>
            <p:nvPr/>
          </p:nvGraphicFramePr>
          <p:xfrm>
            <a:off x="8299080" y="6027840"/>
            <a:ext cx="600120" cy="677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99080" y="6027840"/>
                      <a:ext cx="600120" cy="67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" name=""/>
            <p:cNvGraphicFramePr/>
            <p:nvPr/>
          </p:nvGraphicFramePr>
          <p:xfrm>
            <a:off x="7620120" y="6027840"/>
            <a:ext cx="601200" cy="677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20120" y="6027840"/>
                      <a:ext cx="601200" cy="67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" name=""/>
          <p:cNvGrpSpPr/>
          <p:nvPr/>
        </p:nvGrpSpPr>
        <p:grpSpPr>
          <a:xfrm>
            <a:off x="189000" y="6172200"/>
            <a:ext cx="1369800" cy="687600"/>
            <a:chOff x="189000" y="6172200"/>
            <a:chExt cx="1369800" cy="687600"/>
          </a:xfrm>
        </p:grpSpPr>
        <p:grpSp>
          <p:nvGrpSpPr>
            <p:cNvPr id="54" name=""/>
            <p:cNvGrpSpPr/>
            <p:nvPr/>
          </p:nvGrpSpPr>
          <p:grpSpPr>
            <a:xfrm>
              <a:off x="189000" y="6172200"/>
              <a:ext cx="1305000" cy="581400"/>
              <a:chOff x="189000" y="6172200"/>
              <a:chExt cx="1305000" cy="581400"/>
            </a:xfrm>
          </p:grpSpPr>
          <p:sp>
            <p:nvSpPr>
              <p:cNvPr id="55" name=""/>
              <p:cNvSpPr/>
              <p:nvPr/>
            </p:nvSpPr>
            <p:spPr>
              <a:xfrm>
                <a:off x="189000" y="6172200"/>
                <a:ext cx="5731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a0bab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Black"/>
                    <a:ea typeface="Simple Bold Jut Out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23720" y="6172200"/>
                <a:ext cx="6271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a0bab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Black"/>
                    <a:ea typeface="Simple Bold Jut Out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04880" y="6172200"/>
                <a:ext cx="5731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a0bab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Black"/>
                    <a:ea typeface="Simple Bold Jut Out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966960" y="6172200"/>
                <a:ext cx="52704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a0bab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Black"/>
                    <a:ea typeface="Simple Bold Jut Out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28600" y="6613560"/>
              <a:ext cx="1330200" cy="246240"/>
              <a:chOff x="228600" y="6613560"/>
              <a:chExt cx="1330200" cy="246240"/>
            </a:xfrm>
          </p:grpSpPr>
          <p:sp>
            <p:nvSpPr>
              <p:cNvPr id="60" name=""/>
              <p:cNvSpPr/>
              <p:nvPr/>
            </p:nvSpPr>
            <p:spPr>
              <a:xfrm>
                <a:off x="228600" y="6613560"/>
                <a:ext cx="1330200" cy="246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a0bab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Black"/>
                  </a:rPr>
                  <a:t>SAMIR BANT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4520" y="6629400"/>
                <a:ext cx="1042920" cy="0"/>
              </a:xfrm>
              <a:prstGeom prst="line">
                <a:avLst/>
              </a:prstGeom>
              <a:ln cap="sq" w="22320">
                <a:solidFill>
                  <a:srgbClr val="8ba2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85840" y="4038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82FC-1620-42AE-BFBD-6EE467C65C8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477120" y="295200"/>
            <a:ext cx="2361600" cy="1255320"/>
            <a:chOff x="6477120" y="295200"/>
            <a:chExt cx="2361600" cy="1255320"/>
          </a:xfrm>
        </p:grpSpPr>
        <p:graphicFrame>
          <p:nvGraphicFramePr>
            <p:cNvPr id="105" name=""/>
            <p:cNvGraphicFramePr/>
            <p:nvPr/>
          </p:nvGraphicFramePr>
          <p:xfrm>
            <a:off x="7730640" y="295200"/>
            <a:ext cx="1108080" cy="125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30640" y="295200"/>
                      <a:ext cx="1108080" cy="12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6477120" y="295200"/>
            <a:ext cx="1109880" cy="1255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77120" y="295200"/>
                      <a:ext cx="1109880" cy="12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9" name=""/>
          <p:cNvGrpSpPr/>
          <p:nvPr/>
        </p:nvGrpSpPr>
        <p:grpSpPr>
          <a:xfrm>
            <a:off x="189000" y="6172200"/>
            <a:ext cx="1369800" cy="687600"/>
            <a:chOff x="189000" y="6172200"/>
            <a:chExt cx="1369800" cy="687600"/>
          </a:xfrm>
        </p:grpSpPr>
        <p:grpSp>
          <p:nvGrpSpPr>
            <p:cNvPr id="110" name=""/>
            <p:cNvGrpSpPr/>
            <p:nvPr/>
          </p:nvGrpSpPr>
          <p:grpSpPr>
            <a:xfrm>
              <a:off x="189000" y="6172200"/>
              <a:ext cx="1305000" cy="581400"/>
              <a:chOff x="189000" y="6172200"/>
              <a:chExt cx="1305000" cy="581400"/>
            </a:xfrm>
          </p:grpSpPr>
          <p:sp>
            <p:nvSpPr>
              <p:cNvPr id="111" name=""/>
              <p:cNvSpPr/>
              <p:nvPr/>
            </p:nvSpPr>
            <p:spPr>
              <a:xfrm>
                <a:off x="189000" y="6172200"/>
                <a:ext cx="5731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a0bab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Black"/>
                    <a:ea typeface="Simple Bold Jut Out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23720" y="6172200"/>
                <a:ext cx="6271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a0bab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Black"/>
                    <a:ea typeface="Simple Bold Jut Out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04880" y="6172200"/>
                <a:ext cx="5731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a0bab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Black"/>
                    <a:ea typeface="Simple Bold Jut Out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66960" y="6172200"/>
                <a:ext cx="52704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a0bab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Black"/>
                    <a:ea typeface="Simple Bold Jut Out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28600" y="6613560"/>
              <a:ext cx="1330200" cy="246240"/>
              <a:chOff x="228600" y="6613560"/>
              <a:chExt cx="1330200" cy="246240"/>
            </a:xfrm>
          </p:grpSpPr>
          <p:sp>
            <p:nvSpPr>
              <p:cNvPr id="116" name=""/>
              <p:cNvSpPr/>
              <p:nvPr/>
            </p:nvSpPr>
            <p:spPr>
              <a:xfrm>
                <a:off x="228600" y="6613560"/>
                <a:ext cx="1330200" cy="246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a0bab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Black"/>
                  </a:rPr>
                  <a:t>SAMIR BANT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44520" y="6629400"/>
                <a:ext cx="1042920" cy="0"/>
              </a:xfrm>
              <a:prstGeom prst="line">
                <a:avLst/>
              </a:prstGeom>
              <a:ln cap="sq" w="22320">
                <a:solidFill>
                  <a:srgbClr val="8ba2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5363-9C47-4C9D-B13A-B188D633B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96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9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E0B8-301C-4F46-8D67-4AEC620D2F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250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51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57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8A71-D3EB-4909-93BC-5E03B8685E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04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17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EFB4-BE9A-433F-B581-1BA1625D4F8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84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C80C-EDD7-47C1-AEDA-3156602774F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62CA-6783-490D-8C1F-0E25DF1E8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9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703440" y="1981080"/>
            <a:ext cx="773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66560" y="333360"/>
            <a:ext cx="8282160" cy="1008000"/>
          </a:xfrm>
          <a:prstGeom prst="rect">
            <a:avLst/>
          </a:prstGeom>
          <a:solidFill>
            <a:srgbClr val="ccecff"/>
          </a:solidFill>
          <a:ln w="76320">
            <a:solidFill>
              <a:srgbClr val="0066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PT Bold Heading"/>
              </a:rPr>
              <a:t>معلم يضرب و طالب يزداد سلوكه سوءا 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68000" y="1690560"/>
            <a:ext cx="8209080" cy="476280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 rtl="1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ول أحد المعلمين ممن اعتاد على معاقبة طالب بالضرب لتعديل سلوكه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ctr" rtl="1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cc"/>
                </a:solidFill>
                <a:latin typeface="Times New Roman"/>
                <a:cs typeface="PT Bold Heading"/>
              </a:rPr>
              <a:t>نعم كنت أضربه باستمرار ويغدو أسوأ مما كان  ويعود إلى السلوك نفسه نهاية الأسبوع 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Arial"/>
                <a:cs typeface="PT Bold Heading"/>
              </a:rPr>
              <a:t>ضرب التلميذ يولد الكراهية لديه تجاه </a:t>
            </a: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PT Bold Heading"/>
              </a:rPr>
              <a:t>المعلم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PT Bold Heading"/>
              </a:rPr>
              <a:t>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Arial"/>
                <a:cs typeface="PT Bold Heading"/>
              </a:rPr>
              <a:t>يجعل العلاقة بين التلميذ و </a:t>
            </a: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PT Bold Heading"/>
              </a:rPr>
              <a:t>المعلم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PT Bold Heading"/>
              </a:rPr>
              <a:t> علاقة خو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333399"/>
                </a:solidFill>
                <a:latin typeface="Arial"/>
                <a:cs typeface="PT Bold Heading"/>
              </a:rPr>
              <a:t>يضعف شخصية التلميذ ويجعله انهزامي طاعته عمي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333399"/>
                </a:solidFill>
                <a:latin typeface="Arial"/>
                <a:cs typeface="PT Bold Heading"/>
              </a:rPr>
              <a:t>يزيد من حدة العناد والعدوانية لدى التلامي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333399"/>
                </a:solidFill>
                <a:latin typeface="Arial"/>
                <a:cs typeface="PT Bold Heading"/>
              </a:rPr>
              <a:t>يضعف الطفل وجعله انطوائيا , خجولا , غير قادر على التأقلم مع الحياة الاجتماعية 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755640" y="476280"/>
            <a:ext cx="7849080" cy="79236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30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3000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3000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3000"/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3000"/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r" rtl="1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cc"/>
                </a:solidFill>
                <a:latin typeface="Arial"/>
                <a:cs typeface="PT Bold Heading"/>
              </a:rPr>
              <a:t>ضرب يقضي على التربية المعيارية القائمة على الاقتناع و بناء المعايير لفهم الأمور والتمييز بين الصواب والخطأ والحق والباطل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PT Bold Heading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0066"/>
                </a:solidFill>
                <a:latin typeface="Arial"/>
                <a:cs typeface="PT Bold Heading"/>
              </a:rPr>
              <a:t>إنه يلغي الحوار والمناقشة بين الكبار والصغار ويضيع فرص التفاهم ومعرفة دوافع سلوك الأطفال وحاجاتهم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يعطي أنموذجا سيئا للأطفال ويحرمهم من عملية الاقتداء 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cc"/>
                </a:solidFill>
                <a:latin typeface="Arial"/>
                <a:cs typeface="PT Bold Heading"/>
              </a:rPr>
              <a:t>يحرم الطفل من حاجاته النفسية للقبول والطمأنينة والمحبة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755640" y="476280"/>
            <a:ext cx="7849080" cy="79236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3000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30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3000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30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748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cc"/>
                </a:solidFill>
                <a:latin typeface="Arial"/>
                <a:cs typeface="PT Bold Heading"/>
              </a:rPr>
              <a:t>الضرب يبعد الطفل عن تعلم المهارات الحياتي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PT Bold Heading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(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PT Bold Heading"/>
              </a:rPr>
              <a:t>  </a:t>
            </a:r>
            <a:r>
              <a:rPr b="0" lang="hi-IN" sz="2400" spc="-1" strike="noStrike">
                <a:solidFill>
                  <a:srgbClr val="009900"/>
                </a:solidFill>
                <a:latin typeface="Arial"/>
                <a:cs typeface="PT Bold Heading"/>
              </a:rPr>
              <a:t>فهم الذات –  الثقة  – الطموح - النجاح ....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PT Bold Heading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PT Bold Heading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0066"/>
                </a:solidFill>
                <a:latin typeface="Arial"/>
                <a:cs typeface="PT Bold Heading"/>
              </a:rPr>
              <a:t>أنه أدنى المهارات التربوية وأقلها جدوى ونجاح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cc"/>
                </a:solidFill>
                <a:latin typeface="Arial"/>
                <a:cs typeface="PT Bold Heading"/>
              </a:rPr>
              <a:t>يعالج ظاهر السلوك ويغفل أصله كما أن نتائج الضرب مؤقتة لا تدو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9900"/>
                </a:solidFill>
                <a:latin typeface="Arial"/>
                <a:cs typeface="PT Bold Heading"/>
              </a:rPr>
              <a:t>الضرب لا يصحح الأفكار ولا يجعل السلوك مستقيم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يقوي دوافع السلوك الخارجية على حساب الدافع الداخليى الذي يعتبر الأهم نفسيا ودينيا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ضرب يدفع الطفل إلى الجرأة على المربي والتصريح بمخالفته والإصرار على الخطأ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539640" y="333360"/>
            <a:ext cx="7849080" cy="79236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3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3000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3000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3000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3000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3000"/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3000"/>
                                        <p:tgtEl>
                                          <p:spTgt spid="1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6193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r" rtl="1">
              <a:lnSpc>
                <a:spcPct val="190000"/>
              </a:lnSpc>
              <a:spcBef>
                <a:spcPts val="9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اجة  إلى التأدي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190000"/>
              </a:lnSpc>
              <a:spcBef>
                <a:spcPts val="9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(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  <a:ea typeface="PT Bold Heading"/>
              </a:rPr>
              <a:t>1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) مهارة للتأدي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190000"/>
              </a:lnSpc>
              <a:spcBef>
                <a:spcPts val="9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(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  <a:ea typeface="PT Bold Heading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) قاعدة للتأديب الإيجابي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835280" y="620640"/>
            <a:ext cx="51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Koufi"/>
              </a:rPr>
              <a:t>البدائل التربوية للعقاب</a:t>
            </a:r>
            <a:endParaRPr b="1" lang="en-US" sz="4400" spc="1" strike="noStrike">
              <a:ln w="19080">
                <a:solidFill>
                  <a:srgbClr val="ff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Koufi"/>
              <a:ea typeface="Monotype Kouf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30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30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30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60360" y="404280"/>
            <a:ext cx="6840720" cy="1008360"/>
          </a:xfrm>
          <a:prstGeom prst="rect">
            <a:avLst/>
          </a:prstGeom>
          <a:solidFill>
            <a:srgbClr val="cc0066"/>
          </a:solidFill>
          <a:ln w="7632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ahoma"/>
                <a:cs typeface="PT Bold Heading"/>
              </a:rPr>
              <a:t>حاجة التلميذ إلى التأديب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395280" y="2563560"/>
            <a:ext cx="8424720" cy="3529080"/>
          </a:xfrm>
          <a:prstGeom prst="rect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479880" indent="0" algn="ct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PT Bold Heading"/>
              </a:rPr>
              <a:t> إن التلميذ بقدر حاجته إلى المحبة والاحترام والمدح والقبول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Monotype Koufi"/>
              </a:rPr>
              <a:t>                                </a:t>
            </a:r>
            <a:r>
              <a:rPr b="0" lang="hi-IN" sz="4000" spc="-1" strike="noStrike">
                <a:solidFill>
                  <a:srgbClr val="000099"/>
                </a:solidFill>
                <a:latin typeface="Tahoma"/>
                <a:cs typeface="Monotype Koufi"/>
              </a:rPr>
              <a:t>بحاجة إلى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  <a:ea typeface="Monotype Koufi"/>
              </a:rPr>
              <a:t> </a:t>
            </a:r>
            <a:r>
              <a:rPr b="0" lang="hi-IN" sz="4400" spc="-1" strike="noStrike">
                <a:solidFill>
                  <a:srgbClr val="ff0000"/>
                </a:solidFill>
                <a:latin typeface="Tahoma"/>
                <a:cs typeface="Monotype Koufi"/>
              </a:rPr>
              <a:t>التأديب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PT Bold Head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9880" indent="0" algn="ct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99"/>
                </a:solidFill>
                <a:latin typeface="Tahoma"/>
                <a:cs typeface="PT Bold Heading"/>
              </a:rPr>
              <a:t>و وضع الضوابط والقواعد السلوكية في الصف وداخل المدرس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9880" indent="0" algn="ct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PT Bold Head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6624720" cy="4032000"/>
          </a:xfrm>
          <a:prstGeom prst="rect">
            <a:avLst/>
          </a:prstGeom>
          <a:solidFill>
            <a:srgbClr val="ffff66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ctr" rtl="1">
              <a:lnSpc>
                <a:spcPct val="150000"/>
              </a:lnSpc>
              <a:spcBef>
                <a:spcPts val="1100"/>
              </a:spcBef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9900"/>
                </a:solidFill>
                <a:latin typeface="Arial"/>
                <a:cs typeface="PT Bold Heading"/>
              </a:rPr>
              <a:t>التنظيم .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150000"/>
              </a:lnSpc>
              <a:spcBef>
                <a:spcPts val="1100"/>
              </a:spcBef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تقليد والقدو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PT Bold Heading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150000"/>
              </a:lnSpc>
              <a:spcBef>
                <a:spcPts val="1100"/>
              </a:spcBef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cc"/>
                </a:solidFill>
                <a:latin typeface="Arial"/>
                <a:cs typeface="PT Bold Heading"/>
              </a:rPr>
              <a:t>البرمجة و الإيحاء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2123640" y="402840"/>
            <a:ext cx="5543640" cy="86544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1000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1000"/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1000"/>
                                        <p:tgtEl>
                                          <p:spTgt spid="1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07280" cy="280836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مـهارة لممارسة </a:t>
            </a:r>
            <a:br>
              <a:rPr sz="4800"/>
            </a:br>
            <a:r>
              <a:rPr b="0" lang="hi-IN" sz="6000" spc="-1" strike="noStrike">
                <a:solidFill>
                  <a:srgbClr val="ff0000"/>
                </a:solidFill>
                <a:latin typeface="Arial"/>
                <a:cs typeface="PT Bold Heading"/>
              </a:rPr>
              <a:t>التأديب الصفي الفعا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14520" y="838080"/>
            <a:ext cx="7918200" cy="1727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66"/>
                </a:solidFill>
                <a:latin typeface="Arial"/>
                <a:cs typeface="PT Bold Heading"/>
              </a:rPr>
              <a:t>كيف نؤدب </a:t>
            </a:r>
            <a:r>
              <a:rPr b="0" lang="hi-IN" sz="12900" spc="-1" strike="noStrike">
                <a:solidFill>
                  <a:srgbClr val="ff0000"/>
                </a:solidFill>
                <a:latin typeface="Arial"/>
                <a:cs typeface="PT Bold Heading"/>
              </a:rPr>
              <a:t>؟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032360"/>
          </a:xfrm>
          <a:prstGeom prst="rect">
            <a:avLst/>
          </a:prstGeom>
          <a:solidFill>
            <a:srgbClr val="ffff99"/>
          </a:soli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ctr" rtl="1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9900"/>
                </a:solidFill>
                <a:latin typeface="Arial"/>
                <a:cs typeface="PT Bold Heading"/>
              </a:rPr>
              <a:t>استعمل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PT Bold Heading"/>
              </a:rPr>
              <a:t>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PT Bold Heading"/>
              </a:rPr>
              <a:t>التوجيه الإيجابي المرتبط بما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PT Bold Heading"/>
              </a:rPr>
              <a:t> تريد من </a:t>
            </a: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PT Bold Heading"/>
              </a:rPr>
              <a:t>التلميذ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PT Bold Heading"/>
              </a:rPr>
              <a:t> 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Arial"/>
                <a:cs typeface="PT Bold Heading"/>
              </a:rPr>
              <a:t>لأن الفعل الإيجابي يحدث أثرا إيجابيا أكثر من الفعل السلبي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3276720" y="331560"/>
            <a:ext cx="5256360" cy="93672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24000" y="1052640"/>
            <a:ext cx="2663640" cy="1942920"/>
          </a:xfrm>
          <a:prstGeom prst="wedgeEllipseCallout">
            <a:avLst>
              <a:gd name="adj1" fmla="val -55185"/>
              <a:gd name="adj2" fmla="val 53837"/>
            </a:avLst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هات مثالا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10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1000"/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1000"/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3743280"/>
          </a:xfrm>
          <a:prstGeom prst="rect">
            <a:avLst/>
          </a:prstGeom>
          <a:gradFill rotWithShape="0">
            <a:gsLst>
              <a:gs pos="0">
                <a:srgbClr val="69c7e9"/>
              </a:gs>
              <a:gs pos="50000">
                <a:srgbClr val="ffffff"/>
              </a:gs>
              <a:gs pos="100000">
                <a:srgbClr val="69c7e9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  <a:ea typeface="PT Bold Heading"/>
              </a:rPr>
              <a:t> – أشــبع حاجات التلمي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PT Bold Heading"/>
              </a:rPr>
              <a:t>للمديح والقبول والمحبة و الطمأني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Arial"/>
                <a:cs typeface="PT Bold Heading"/>
              </a:rPr>
              <a:t>لأنها أفضل وسائل التأدي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3276720" y="331560"/>
            <a:ext cx="5256360" cy="93672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755640" y="4654440"/>
            <a:ext cx="3384720" cy="1943280"/>
          </a:xfrm>
          <a:prstGeom prst="wedgeEllipseCallout">
            <a:avLst>
              <a:gd name="adj1" fmla="val -54078"/>
              <a:gd name="adj2" fmla="val 53837"/>
            </a:avLst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قل ذلك الآن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!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1000"/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1000"/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1000"/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514836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95280" y="2924280"/>
            <a:ext cx="8497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Monotype Koufi"/>
              </a:rPr>
              <a:t>البدائل التربوية للعقا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987640" y="4221000"/>
            <a:ext cx="32799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PT Bold Heading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00"/>
                </a:solidFill>
                <a:latin typeface="Arial"/>
              </a:rPr>
              <a:t>إعداد وتنفي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حمد بن قاسم الرداد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064720" cy="21762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sp>
        <p:nvSpPr>
          <p:cNvPr id="1135" name=""/>
          <p:cNvSpPr/>
          <p:nvPr/>
        </p:nvSpPr>
        <p:spPr>
          <a:xfrm>
            <a:off x="2916360" y="2276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cc0000"/>
                </a:solidFill>
                <a:latin typeface="Arial"/>
                <a:cs typeface="PT Bold Heading"/>
              </a:rPr>
              <a:t>برنام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3743280"/>
          </a:xfrm>
          <a:prstGeom prst="rect">
            <a:avLst/>
          </a:prstGeom>
          <a:gradFill rotWithShape="0">
            <a:gsLst>
              <a:gs pos="0">
                <a:srgbClr val="69c7e9"/>
              </a:gs>
              <a:gs pos="50000">
                <a:srgbClr val="ffffff"/>
              </a:gs>
              <a:gs pos="100000">
                <a:srgbClr val="69c7e9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  <a:ea typeface="PT Bold Heading"/>
              </a:rPr>
              <a:t> – </a:t>
            </a:r>
            <a:r>
              <a:rPr b="0" lang="hi-IN" sz="4400" spc="-1" strike="noStrike">
                <a:solidFill>
                  <a:srgbClr val="009900"/>
                </a:solidFill>
                <a:latin typeface="Arial"/>
                <a:cs typeface="PT Bold Heading"/>
              </a:rPr>
              <a:t>هيئ  نفس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للتوقعات وكن مستعدا للتعامل مع المشاكل والسلوكي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Arial"/>
                <a:cs typeface="PT Bold Heading"/>
              </a:rPr>
              <a:t>وحاول وقاية و إحاطة التلميذ منها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3276720" y="331560"/>
            <a:ext cx="5256360" cy="93672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8360" y="4508640"/>
            <a:ext cx="5832360" cy="1800000"/>
          </a:xfrm>
          <a:prstGeom prst="wedgeEllipseCallout">
            <a:avLst>
              <a:gd name="adj1" fmla="val -47143"/>
              <a:gd name="adj2" fmla="val 70018"/>
            </a:avLst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كيف تؤدي ذلك</a:t>
            </a:r>
            <a:r>
              <a:rPr b="0" lang="hi-IN" sz="8800" spc="-1" strike="noStrike">
                <a:solidFill>
                  <a:srgbClr val="ff0000"/>
                </a:solidFill>
                <a:latin typeface="Arial"/>
                <a:cs typeface="PT Bold Heading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1000"/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1000"/>
                                        <p:tgtEl>
                                          <p:spTgt spid="1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1000"/>
                                        <p:tgtEl>
                                          <p:spTgt spid="1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500"/>
                            </p:stCondLst>
                            <p:childTnLst>
                              <p:par>
                                <p:cTn id="5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374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9c7e9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 algn="ctr" rtl="1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  <a:ea typeface="PT Bold Heading"/>
              </a:rPr>
              <a:t> – </a:t>
            </a:r>
            <a:r>
              <a:rPr b="0" lang="hi-IN" sz="4800" spc="-1" strike="noStrike">
                <a:solidFill>
                  <a:srgbClr val="009900"/>
                </a:solidFill>
                <a:latin typeface="Arial"/>
                <a:cs typeface="PT Bold Heading"/>
              </a:rPr>
              <a:t>كن مبتسمـ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PT Bold Heading"/>
              </a:rPr>
              <a:t>مشـجعا و ملاحظا للإيجابي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و ابتعد عن الاستياء و التذمر والنقد المستمر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PT Bold Heading"/>
              </a:rPr>
              <a:t>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3276720" y="331560"/>
            <a:ext cx="5256360" cy="93672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55640" y="4941720"/>
            <a:ext cx="3384720" cy="1656000"/>
          </a:xfrm>
          <a:prstGeom prst="wedgeEllipseCallout">
            <a:avLst>
              <a:gd name="adj1" fmla="val -54078"/>
              <a:gd name="adj2" fmla="val 54504"/>
            </a:avLst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cc"/>
                </a:solidFill>
                <a:latin typeface="Arial"/>
                <a:cs typeface="PT Bold Heading"/>
              </a:rPr>
              <a:t>فضلا ابتسم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!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500"/>
                            </p:stCondLst>
                            <p:childTnLst>
                              <p:par>
                                <p:cTn id="5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1000"/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1000"/>
                                        <p:tgtEl>
                                          <p:spTgt spid="1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500"/>
                            </p:stCondLst>
                            <p:childTnLst>
                              <p:par>
                                <p:cTn id="5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1000"/>
                                        <p:tgtEl>
                                          <p:spTgt spid="1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032360"/>
          </a:xfrm>
          <a:prstGeom prst="rect">
            <a:avLst/>
          </a:prstGeom>
          <a:solidFill>
            <a:srgbClr val="ffff99"/>
          </a:soli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ctr" rtl="1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SzPct val="12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9900"/>
                </a:solidFill>
                <a:latin typeface="Arial"/>
                <a:cs typeface="PT Bold Heading"/>
              </a:rPr>
              <a:t>لا تعط تفسيرات سطحية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PT Bold Heading"/>
              </a:rPr>
              <a:t>جاهزة لسلوك التلميذ 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Arial"/>
                <a:cs typeface="PT Bold Heading"/>
              </a:rPr>
              <a:t>وحاول فهم دوافع السلوك والرسالة الخفية منه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276720" y="331560"/>
            <a:ext cx="5256360" cy="93672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55640" y="4508640"/>
            <a:ext cx="4248000" cy="2089080"/>
          </a:xfrm>
          <a:prstGeom prst="wedgeEllipseCallout">
            <a:avLst>
              <a:gd name="adj1" fmla="val -53250"/>
              <a:gd name="adj2" fmla="val 53569"/>
            </a:avLst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اسأ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لماذا يتصرف التلميذ على هذا النحو  </a:t>
            </a: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Times New Roman"/>
              </a:rPr>
              <a:t>؟!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PT Bold Heading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10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10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10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374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9c7e9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  <a:ea typeface="PT Bold Heading"/>
              </a:rPr>
              <a:t> – </a:t>
            </a:r>
            <a:r>
              <a:rPr b="0" lang="hi-IN" sz="4800" spc="-1" strike="noStrike">
                <a:solidFill>
                  <a:srgbClr val="ff3300"/>
                </a:solidFill>
                <a:latin typeface="Arial"/>
                <a:cs typeface="PT Bold Heading"/>
              </a:rPr>
              <a:t>كن حازما</a:t>
            </a:r>
            <a:r>
              <a:rPr b="0" lang="en-US" sz="4800" spc="-1" strike="noStrike">
                <a:solidFill>
                  <a:srgbClr val="00990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دون عنف ولطيفا من غير تساهل 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276720" y="331560"/>
            <a:ext cx="5256360" cy="93672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55640" y="4292640"/>
            <a:ext cx="4248000" cy="1728720"/>
          </a:xfrm>
          <a:prstGeom prst="wedgeEllipseCallout">
            <a:avLst>
              <a:gd name="adj1" fmla="val -53250"/>
              <a:gd name="adj2" fmla="val 87648"/>
            </a:avLst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cc"/>
                </a:solidFill>
                <a:latin typeface="Arial"/>
                <a:cs typeface="PT Bold Heading"/>
              </a:rPr>
              <a:t>أتق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فن الاتصال ( لغة الجسم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1000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1000"/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500"/>
                            </p:stCondLst>
                            <p:childTnLst>
                              <p:par>
                                <p:cTn id="67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032360"/>
          </a:xfrm>
          <a:prstGeom prst="rect">
            <a:avLst/>
          </a:prstGeom>
          <a:solidFill>
            <a:srgbClr val="ffff99"/>
          </a:soli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ctr" rtl="1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SzPct val="12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3300"/>
                </a:solidFill>
                <a:latin typeface="Arial"/>
                <a:cs typeface="PT Bold Heading"/>
              </a:rPr>
              <a:t>لا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تصرخ و </a:t>
            </a:r>
            <a:r>
              <a:rPr b="0" lang="hi-IN" sz="4400" spc="-1" strike="noStrike">
                <a:solidFill>
                  <a:srgbClr val="ff3300"/>
                </a:solidFill>
                <a:latin typeface="Arial"/>
                <a:cs typeface="PT Bold Heading"/>
              </a:rPr>
              <a:t>لا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تسخر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  <a:ea typeface="PT Bold Heading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PT Bold Heading"/>
              </a:rPr>
              <a:t>من أيّ تلمي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Arial"/>
                <a:cs typeface="PT Bold Heading"/>
              </a:rPr>
              <a:t>لأنها من الأساليب المدمرة لشخصية التلميذ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3276720" y="331560"/>
            <a:ext cx="5256360" cy="93672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116000" y="4508640"/>
            <a:ext cx="4751280" cy="1728720"/>
          </a:xfrm>
          <a:prstGeom prst="wedgeEllipseCallout">
            <a:avLst>
              <a:gd name="adj1" fmla="val -52907"/>
              <a:gd name="adj2" fmla="val 87648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أتق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فن الاتصال ( لغة الجسم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2" dur="1000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1000"/>
                                        <p:tgtEl>
                                          <p:spTgt spid="1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1000"/>
                                        <p:tgtEl>
                                          <p:spTgt spid="1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374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9c7e9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8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  <a:ea typeface="PT Bold Heading"/>
              </a:rPr>
              <a:t> – </a:t>
            </a:r>
            <a:r>
              <a:rPr b="0" lang="hi-IN" sz="4400" spc="-1" strike="noStrike">
                <a:solidFill>
                  <a:srgbClr val="ff3300"/>
                </a:solidFill>
                <a:latin typeface="Arial"/>
                <a:cs typeface="PT Bold Heading"/>
              </a:rPr>
              <a:t>لا تكن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PT Bold Heading"/>
              </a:rPr>
              <a:t> آلة </a:t>
            </a:r>
            <a:r>
              <a:rPr b="0" lang="hi-IN" sz="3600" spc="-1" strike="noStrike">
                <a:solidFill>
                  <a:srgbClr val="009900"/>
                </a:solidFill>
                <a:latin typeface="Arial"/>
                <a:cs typeface="PT Bold Heading"/>
              </a:rPr>
              <a:t>لإصدار الأوامر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3300"/>
                </a:solidFill>
                <a:latin typeface="Arial"/>
                <a:cs typeface="PT Bold Heading"/>
              </a:rPr>
              <a:t>واستعمل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PT Bold Heading"/>
              </a:rPr>
              <a:t> </a:t>
            </a: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لغة الإقناع والحوار مع التلميذ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3276720" y="331560"/>
            <a:ext cx="5256360" cy="93672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55640" y="4292640"/>
            <a:ext cx="5040360" cy="1728720"/>
          </a:xfrm>
          <a:prstGeom prst="wedgeEllipseCallout">
            <a:avLst>
              <a:gd name="adj1" fmla="val -52740"/>
              <a:gd name="adj2" fmla="val 87648"/>
            </a:avLst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cc"/>
                </a:solidFill>
                <a:latin typeface="Arial"/>
                <a:cs typeface="PT Bold Heading"/>
              </a:rPr>
              <a:t>راقب نفس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هل أنا محاور مقنع لطلابي </a:t>
            </a: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PT Bold Heading"/>
              </a:rPr>
              <a:t>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1" dur="1000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5" dur="1000"/>
                                        <p:tgtEl>
                                          <p:spTgt spid="1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500"/>
                            </p:stCondLst>
                            <p:childTnLst>
                              <p:par>
                                <p:cTn id="7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032360"/>
          </a:xfrm>
          <a:prstGeom prst="rect">
            <a:avLst/>
          </a:prstGeom>
          <a:solidFill>
            <a:srgbClr val="ffff99"/>
          </a:soli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ctr" rtl="1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SzPct val="12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3300"/>
                </a:solidFill>
                <a:latin typeface="Arial"/>
                <a:cs typeface="PT Bold Heading"/>
              </a:rPr>
              <a:t>توقع </a:t>
            </a: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ستجابة الفعلي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والطاعة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cc"/>
                </a:solidFill>
                <a:latin typeface="Arial"/>
                <a:cs typeface="PT Bold Heading"/>
              </a:rPr>
              <a:t>لأن الاستجابة السلوكية تحتاج لوقت وبرمجة متكررة حتى تصبح سلوك التلميذ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3276720" y="331560"/>
            <a:ext cx="5256360" cy="93672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826920" y="4437000"/>
            <a:ext cx="5040360" cy="1728720"/>
          </a:xfrm>
          <a:prstGeom prst="wedgeEllipseCallout">
            <a:avLst>
              <a:gd name="adj1" fmla="val -52740"/>
              <a:gd name="adj2" fmla="val 87648"/>
            </a:avLst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cc"/>
                </a:solidFill>
                <a:latin typeface="Arial"/>
                <a:cs typeface="PT Bold Heading"/>
              </a:rPr>
              <a:t>راقب نفس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PT Bold Heading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هل أنا محاور مقنع لطلابي </a:t>
            </a: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PT Bold Heading"/>
              </a:rPr>
              <a:t>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1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6" dur="1000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1000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374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9c7e9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10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  <a:ea typeface="PT Bold Heading"/>
              </a:rPr>
              <a:t>– </a:t>
            </a:r>
            <a:r>
              <a:rPr b="0" lang="hi-IN" sz="4000" spc="-1" strike="noStrike">
                <a:solidFill>
                  <a:srgbClr val="ff3300"/>
                </a:solidFill>
                <a:latin typeface="Arial"/>
                <a:cs typeface="PT Bold Heading"/>
              </a:rPr>
              <a:t>لا تتخذ قرارات سريعة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PT Bold Heading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بل تمعن وكن هادئا وأنت تفكر في الحلول والبدائل المناسبة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2916360" y="188640"/>
            <a:ext cx="5256360" cy="93672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539640" y="4437000"/>
            <a:ext cx="6048360" cy="1728720"/>
          </a:xfrm>
          <a:prstGeom prst="wedgeEllipseCallout">
            <a:avLst>
              <a:gd name="adj1" fmla="val -43935"/>
              <a:gd name="adj2" fmla="val 87648"/>
            </a:avLst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راقب نفس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cc"/>
                </a:solidFill>
                <a:latin typeface="Arial"/>
                <a:cs typeface="PT Bold Heading"/>
              </a:rPr>
              <a:t>هل أنت متسرع في الحكم عليه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PT Bold Heading"/>
              </a:rPr>
              <a:t>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6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0" dur="1000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000"/>
                            </p:stCondLst>
                            <p:childTnLst>
                              <p:par>
                                <p:cTn id="8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4" dur="1000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4000"/>
                            </p:stCondLst>
                            <p:childTnLst>
                              <p:par>
                                <p:cTn id="8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374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9c7e9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11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  <a:ea typeface="PT Bold Heading"/>
              </a:rPr>
              <a:t>– </a:t>
            </a:r>
            <a:r>
              <a:rPr b="0" lang="hi-IN" sz="4800" spc="-1" strike="noStrike">
                <a:solidFill>
                  <a:srgbClr val="ff3300"/>
                </a:solidFill>
                <a:latin typeface="Arial"/>
                <a:cs typeface="PT Bold Heading"/>
              </a:rPr>
              <a:t>لا </a:t>
            </a:r>
            <a:r>
              <a:rPr b="0" lang="hi-IN" sz="4000" spc="-1" strike="noStrike">
                <a:solidFill>
                  <a:srgbClr val="ff3300"/>
                </a:solidFill>
                <a:latin typeface="Arial"/>
                <a:cs typeface="PT Bold Heading"/>
              </a:rPr>
              <a:t>تمارس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PT Bold Heading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PT Bold Heading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لأساليب نفسها مع جميع التلاميذ ؛ فلكل تلميذ طبيع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و ظروفه الخاصة ب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9900"/>
                </a:solidFill>
                <a:latin typeface="Arial"/>
                <a:cs typeface="PT Bold Heading"/>
              </a:rPr>
              <a:t>فكر فيما بين التلاميذ من فروق فرد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3276720" y="331560"/>
            <a:ext cx="5256360" cy="93672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79280" y="836640"/>
            <a:ext cx="3888000" cy="1728720"/>
          </a:xfrm>
          <a:prstGeom prst="wedgeEllipseCallout">
            <a:avLst>
              <a:gd name="adj1" fmla="val -83199"/>
              <a:gd name="adj2" fmla="val 87648"/>
            </a:avLst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cc"/>
                </a:solidFill>
                <a:latin typeface="Arial"/>
                <a:cs typeface="PT Bold Heading"/>
              </a:rPr>
              <a:t>راقب نفسك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PT Bold Heading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هل تطبق ذلك معهم </a:t>
            </a: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PT Bold Heading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9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3" dur="10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7" dur="10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4000"/>
                            </p:stCondLst>
                            <p:childTnLst>
                              <p:par>
                                <p:cTn id="8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1000"/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6" dur="10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85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374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9c7e9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12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  <a:ea typeface="PT Bold Heading"/>
              </a:rPr>
              <a:t>– </a:t>
            </a:r>
            <a:r>
              <a:rPr b="0" lang="hi-IN" sz="4000" spc="-1" strike="noStrike">
                <a:solidFill>
                  <a:srgbClr val="ff3300"/>
                </a:solidFill>
                <a:latin typeface="Arial"/>
                <a:cs typeface="PT Bold Heading"/>
              </a:rPr>
              <a:t>ضع قوانين وإجراءات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PT Bold Heading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للسلوك الصفي واعمل على تنفيذها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3276720" y="331560"/>
            <a:ext cx="5256360" cy="93672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835280" y="4221000"/>
            <a:ext cx="5113080" cy="1729080"/>
          </a:xfrm>
          <a:prstGeom prst="wedgeEllipseCallout">
            <a:avLst>
              <a:gd name="adj1" fmla="val -75240"/>
              <a:gd name="adj2" fmla="val 87648"/>
            </a:avLst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cc"/>
                </a:solidFill>
                <a:latin typeface="Arial"/>
                <a:cs typeface="PT Bold Heading"/>
              </a:rPr>
              <a:t>هل كتبتها ونفذتها معهم</a:t>
            </a:r>
            <a:r>
              <a:rPr b="0" lang="hi-IN" sz="4800" spc="-1" strike="noStrike">
                <a:solidFill>
                  <a:srgbClr val="0000cc"/>
                </a:solidFill>
                <a:latin typeface="Arial"/>
                <a:cs typeface="PT Bold Heading"/>
              </a:rPr>
              <a:t>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1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5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4000"/>
                            </p:stCondLst>
                            <p:childTnLst>
                              <p:par>
                                <p:cTn id="89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1476360" y="2637000"/>
            <a:ext cx="6120000" cy="15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8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Koufi"/>
              </a:rPr>
              <a:t>البدائل التربوية للعقاب</a:t>
            </a:r>
            <a:endParaRPr b="1" lang="en-US" sz="4400" spc="1" strike="noStrike">
              <a:ln w="19080">
                <a:solidFill>
                  <a:srgbClr val="ffff00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Koufi"/>
              <a:ea typeface="Monotype Koufi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2"/>
          <a:stretch/>
        </p:blipFill>
        <p:spPr>
          <a:xfrm>
            <a:off x="1619280" y="765000"/>
            <a:ext cx="2592360" cy="216864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/>
          <p:cNvPicPr/>
          <p:nvPr/>
        </p:nvPicPr>
        <p:blipFill>
          <a:blip r:embed="rId3"/>
          <a:stretch/>
        </p:blipFill>
        <p:spPr>
          <a:xfrm flipH="1">
            <a:off x="5793840" y="692280"/>
            <a:ext cx="2449800" cy="216828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2124000" y="5145120"/>
            <a:ext cx="5616720" cy="15958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برنامج تدريب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Monotype Koufi"/>
              </a:rPr>
              <a:t>إعداد وتنفي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 : محمد بن قاسم الرداد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374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9c7e9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13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  <a:ea typeface="PT Bold Heading"/>
              </a:rPr>
              <a:t>– </a:t>
            </a:r>
            <a:r>
              <a:rPr b="0" lang="hi-IN" sz="4000" spc="-1" strike="noStrike">
                <a:solidFill>
                  <a:srgbClr val="ff3300"/>
                </a:solidFill>
                <a:latin typeface="Arial"/>
                <a:cs typeface="PT Bold Heading"/>
              </a:rPr>
              <a:t>تذكر أنه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PT Bold Heading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بإمكانك تعديل الكثير من مشكلات السلوك الصفية بالتدخل الهادئ والحوار البناء والملاحظات التذكرية لسلوك التلمي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3276720" y="331560"/>
            <a:ext cx="5256360" cy="93672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906560" y="4437000"/>
            <a:ext cx="5113440" cy="1368360"/>
          </a:xfrm>
          <a:prstGeom prst="wedgeEllipseCallout">
            <a:avLst>
              <a:gd name="adj1" fmla="val -75240"/>
              <a:gd name="adj2" fmla="val 123898"/>
            </a:avLst>
          </a:prstGeom>
          <a:solidFill>
            <a:srgbClr val="33cc33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PT Bold Heading"/>
              </a:rPr>
              <a:t>دعوة للتـفاؤ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000"/>
                            </p:stCondLst>
                            <p:childTnLst>
                              <p:par>
                                <p:cTn id="9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8" dur="10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3000"/>
                            </p:stCondLst>
                            <p:childTnLst>
                              <p:par>
                                <p:cTn id="9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2" dur="1000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4000"/>
                            </p:stCondLst>
                            <p:childTnLst>
                              <p:par>
                                <p:cTn id="92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07280" cy="374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9c7e9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14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  <a:ea typeface="PT Bold Heading"/>
              </a:rPr>
              <a:t>– </a:t>
            </a:r>
            <a:r>
              <a:rPr b="0" lang="hi-IN" sz="4000" spc="-1" strike="noStrike">
                <a:solidFill>
                  <a:srgbClr val="ff3300"/>
                </a:solidFill>
                <a:latin typeface="Arial"/>
                <a:cs typeface="PT Bold Heading"/>
              </a:rPr>
              <a:t>لا تؤدب أمام مجموعة الصف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لأن الآثار السلبية على شخصية التلميذ كبيرة وردود  الأفعال السلبية من التلاميذ أكثر سلبي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3059280" y="115920"/>
            <a:ext cx="5256360" cy="93708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547640" y="4221000"/>
            <a:ext cx="5185080" cy="1729080"/>
          </a:xfrm>
          <a:prstGeom prst="wedgeEllipseCallout">
            <a:avLst>
              <a:gd name="adj1" fmla="val -65157"/>
              <a:gd name="adj2" fmla="val 87648"/>
            </a:avLst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cc"/>
                </a:solidFill>
                <a:latin typeface="Arial"/>
                <a:cs typeface="PT Bold Heading"/>
              </a:rPr>
              <a:t>راقب نفس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PT Bold Heading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هل مازلت مصرا على رأيك </a:t>
            </a: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PT Bold Heading"/>
              </a:rPr>
              <a:t>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7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1" dur="10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5" dur="1000"/>
                                        <p:tgtEl>
                                          <p:spTgt spid="1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4000"/>
                            </p:stCondLst>
                            <p:childTnLst>
                              <p:par>
                                <p:cTn id="95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07280" cy="374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9c7e9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15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  <a:ea typeface="PT Bold Heading"/>
              </a:rPr>
              <a:t>– </a:t>
            </a:r>
            <a:r>
              <a:rPr b="0" lang="hi-IN" sz="4000" spc="-1" strike="noStrike">
                <a:solidFill>
                  <a:srgbClr val="ff3300"/>
                </a:solidFill>
                <a:latin typeface="Arial"/>
                <a:cs typeface="PT Bold Heading"/>
              </a:rPr>
              <a:t>لا تؤدب أبدا وأنت غاضب متوتر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PT Bold Heading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تدخل فقط وأنت هادئ ؛ فالتدخل العصبي غالبا ما يعقبه ندم و ردود أفعال غير صحيح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2050920" y="189000"/>
            <a:ext cx="5905800" cy="792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9333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11" name=""/>
          <p:cNvSpPr/>
          <p:nvPr/>
        </p:nvSpPr>
        <p:spPr>
          <a:xfrm>
            <a:off x="1403280" y="4148280"/>
            <a:ext cx="6337440" cy="1728720"/>
          </a:xfrm>
          <a:prstGeom prst="wedgeEllipseCallout">
            <a:avLst>
              <a:gd name="adj1" fmla="val -57842"/>
              <a:gd name="adj2" fmla="val 87648"/>
            </a:avLst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cc"/>
                </a:solidFill>
                <a:latin typeface="Arial"/>
                <a:cs typeface="PT Bold Heading"/>
              </a:rPr>
              <a:t>راقب نفس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PT Bold Heading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وتعلم كيف تحافظ على هدوء أعصابك </a:t>
            </a: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PT Bold Heading"/>
              </a:rPr>
              <a:t>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0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4" dur="100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3000"/>
                            </p:stCondLst>
                            <p:childTnLst>
                              <p:par>
                                <p:cTn id="9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8" dur="1000"/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9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/>
          </p:nvPr>
        </p:nvSpPr>
        <p:spPr>
          <a:xfrm>
            <a:off x="541440" y="1125000"/>
            <a:ext cx="8207280" cy="374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9c7e9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16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  <a:ea typeface="PT Bold Heading"/>
              </a:rPr>
              <a:t>– </a:t>
            </a:r>
            <a:r>
              <a:rPr b="0" lang="hi-IN" sz="4000" spc="-1" strike="noStrike">
                <a:solidFill>
                  <a:srgbClr val="ff3300"/>
                </a:solidFill>
                <a:latin typeface="Arial"/>
                <a:cs typeface="PT Bold Heading"/>
              </a:rPr>
              <a:t>لا تؤدب بالإرغام والقسر 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PT Bold Heading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لى فعل أمور إيجابية : قراءة آية أو حديث؛ حتى لا نربطه سلبا بالأشياء المحبوبة فيتخذ منها موقفا سلبي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2627280" y="43920"/>
            <a:ext cx="5905800" cy="79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00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547640" y="4221000"/>
            <a:ext cx="5185080" cy="1729080"/>
          </a:xfrm>
          <a:prstGeom prst="wedgeEllipseCallout">
            <a:avLst>
              <a:gd name="adj1" fmla="val -65157"/>
              <a:gd name="adj2" fmla="val 87648"/>
            </a:avLst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cc"/>
                </a:solidFill>
                <a:latin typeface="Arial"/>
                <a:cs typeface="PT Bold Heading"/>
              </a:rPr>
              <a:t>راقب نفس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PT Bold Heading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هل مازلت مصرا على رأيك </a:t>
            </a: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PT Bold Heading"/>
              </a:rPr>
              <a:t>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7" dur="10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1" dur="1000"/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/>
          </p:nvPr>
        </p:nvSpPr>
        <p:spPr>
          <a:xfrm>
            <a:off x="360000" y="1915920"/>
            <a:ext cx="8172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90000"/>
              </a:lnSpc>
              <a:spcBef>
                <a:spcPts val="11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( </a:t>
            </a:r>
            <a:r>
              <a:rPr b="0" lang="en-US" sz="5400" spc="-1" strike="noStrike">
                <a:solidFill>
                  <a:srgbClr val="0000cc"/>
                </a:solidFill>
                <a:latin typeface="Arial"/>
                <a:ea typeface="PT Bold Heading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) قاعدة للتأديب الإيجابي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1547640" y="765000"/>
            <a:ext cx="5472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Koufi"/>
              </a:rPr>
              <a:t>البدائل التربوية للعقاب</a:t>
            </a:r>
            <a:endParaRPr b="1" lang="en-US" sz="4400" spc="1" strike="noStrike">
              <a:ln w="19080">
                <a:solidFill>
                  <a:srgbClr val="ff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Koufi"/>
              <a:ea typeface="Monotype Kouf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4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9" dur="30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187280" y="401400"/>
            <a:ext cx="633744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Thaghr 4 Hor."/>
              </a:rPr>
              <a:t>(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haghr 4 Hor."/>
              </a:rPr>
              <a:t>13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Thaghr 4 Hor."/>
              </a:rPr>
              <a:t>) قاعدة للتأديب الإيجاب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777080" cy="4751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الوسطية في الترب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إشراك الطفل في إبداء الرأي وحل المشكلات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التهذيب تدريب على حسن التصرف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قلل من الوعظ والإرشاد و قدم مواقف عملية بديلة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تنمية الاحترام والتقدير تجاه المعل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الضبط الإيجابي على التلامي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لا للتطرف في السيطرة أو التسي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6" dur="2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1" dur="1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6" dur="1000"/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1" dur="1000"/>
                                        <p:tgtEl>
                                          <p:spTgt spid="1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6" dur="1000"/>
                                        <p:tgtEl>
                                          <p:spTgt spid="1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1" dur="1000"/>
                                        <p:tgtEl>
                                          <p:spTgt spid="1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6" dur="1000"/>
                                        <p:tgtEl>
                                          <p:spTgt spid="1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1" dur="1000"/>
                                        <p:tgtEl>
                                          <p:spTgt spid="1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6" dur="1000"/>
                                        <p:tgtEl>
                                          <p:spTgt spid="1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187280" y="401400"/>
            <a:ext cx="633744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Thaghr 4 Hor."/>
              </a:rPr>
              <a:t>(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haghr 4 Hor."/>
              </a:rPr>
              <a:t>12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Thaghr 4 Hor."/>
              </a:rPr>
              <a:t>) قاعدة للتأديب الإيجاب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09080" cy="47624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r" rtl="1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SzPct val="12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Monotype Koufi"/>
              </a:rPr>
              <a:t>تجنب المبالغة في استخدام المكافآت الماد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SzPct val="12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Monotype Koufi"/>
              </a:rPr>
              <a:t>تعليل التوجيهات والنصائح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SzPct val="12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Monotype Koufi"/>
              </a:rPr>
              <a:t>بناء المعايير والقي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SzPct val="12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Monotype Koufi"/>
              </a:rPr>
              <a:t>توجيهات واضحة محدد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SzPct val="12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Monotype Koufi"/>
              </a:rPr>
              <a:t>لا تجعل العقاب نهاية المطاف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3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8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3" dur="10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8" dur="1000"/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3" dur="1000"/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8" dur="1000"/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43" dur="1000"/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777080" cy="4751280"/>
          </a:xfrm>
          <a:prstGeom prst="rect">
            <a:avLst/>
          </a:prstGeom>
          <a:solidFill>
            <a:srgbClr val="ccff99"/>
          </a:solidFill>
          <a:ln w="57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إزالة الظروف غير المرغوبة في البيئة الصف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تغيير منبهات السلوك  ( المثير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التعميم من موقف سلوكي لآخ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الغرامة الكلية المؤقتة (عدم التعزيز الإيجابي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الغرامة المتدرجة (تكلفة الاستجابة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الربح المتدرج ( تعزيز السلوك الإيجابي 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التشكيل والتسلسل السلوكي (تعليمه كيف يؤدي السلوك ... 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124000" y="476280"/>
            <a:ext cx="5400720" cy="720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Thaghr 4 Hor."/>
              </a:rPr>
              <a:t>* أساليب تربويّة بدي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0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5" dur="1000"/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0" dur="1000"/>
                                        <p:tgtEl>
                                          <p:spTgt spid="1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5" dur="1000"/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0" dur="1000"/>
                                        <p:tgtEl>
                                          <p:spTgt spid="1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5" dur="1000"/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0" dur="1000"/>
                                        <p:tgtEl>
                                          <p:spTgt spid="1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5" dur="1000"/>
                                        <p:tgtEl>
                                          <p:spTgt spid="1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9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195640" y="404640"/>
            <a:ext cx="5400720" cy="720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Thaghr 4 Hor."/>
              </a:rPr>
              <a:t>* أساليب تربويّة بدي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77080" cy="4751280"/>
          </a:xfrm>
          <a:prstGeom prst="rect">
            <a:avLst/>
          </a:prstGeom>
          <a:solidFill>
            <a:srgbClr val="ccff99"/>
          </a:solidFill>
          <a:ln w="57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SzPct val="14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Monotype Koufi"/>
              </a:rPr>
              <a:t>التصحيح الزائد ( تصحيح الوضع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SzPct val="14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Monotype Koufi"/>
              </a:rPr>
              <a:t>الممارسة السلبي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SzPct val="14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Monotype Koufi"/>
              </a:rPr>
              <a:t>الإشــبا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SzPct val="14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Monotype Koufi"/>
              </a:rPr>
              <a:t>الإطـفـاء ( التجاهل المنظم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SzPct val="14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Monotype Koufi"/>
              </a:rPr>
              <a:t>الضبط الذاتي (قوة الإرادة والتحكم في النفس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SzPct val="14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Monotype Koufi"/>
              </a:rPr>
              <a:t>الاقتداء والنمـذجـة  ( القدوة الحسـنـة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0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6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1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6" dur="100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1" dur="1000"/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6" dur="1000"/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21" dur="1000"/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26" dur="1000"/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1" dur="1000"/>
                                        <p:tgtEl>
                                          <p:spTgt spid="1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Cloud"/>
          <p:cNvSpPr/>
          <p:nvPr/>
        </p:nvSpPr>
        <p:spPr>
          <a:xfrm>
            <a:off x="395280" y="511200"/>
            <a:ext cx="8424720" cy="5654520"/>
          </a:xfrm>
          <a:prstGeom prst="pi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Tahoma"/>
                <a:cs typeface="Monotype Koufi"/>
              </a:rPr>
              <a:t>استراتيجية علا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Tahoma"/>
                <a:cs typeface="Monotype Koufi"/>
              </a:rPr>
              <a:t>المشكلات الصف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Tahoma"/>
                <a:cs typeface="Monotype Koufi"/>
              </a:rPr>
              <a:t>الاستراتيجية التي تحافظ على النظام أو تعيده فورا إلى غرفة الصف وتمنع تكرار المشكلة ولاتؤدي إلى آثار جانبية سلبية ولاتؤثر على على سير النشاط التعليمي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8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6193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أساليب العقابية في الميزا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اجة  إلى التأدي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(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PT Bold Heading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 مـهارة للتأدي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(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PT Bold Heading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 قاعدة للتأديب الإيجابي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قوة التغيير والبحث عن البدائ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1835280" y="620640"/>
            <a:ext cx="51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Koufi"/>
              </a:rPr>
              <a:t>البدائل التربوية للعقاب</a:t>
            </a:r>
            <a:endParaRPr b="1" lang="en-US" sz="4400" spc="1" strike="noStrike">
              <a:ln w="19080">
                <a:solidFill>
                  <a:srgbClr val="ff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Koufi"/>
              <a:ea typeface="Monotype Kouf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30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30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30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3000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3000"/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720720" y="274320"/>
            <a:ext cx="7416720" cy="5922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عمليات الضبط الفاعل للص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62800" cy="5184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3300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PT Bold Heading"/>
              </a:rPr>
              <a:t>     دع الطلاب يعرفون ما تحتاج إليه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PT Bold Heading"/>
              </a:rPr>
              <a:t>قدِّم  معلومات تناسب قدرة الطلاب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PT Bold Heading"/>
              </a:rPr>
              <a:t>أصغ لما يشعر ويفكر به الطلاب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PT Bold Heading"/>
              </a:rPr>
              <a:t>استخدم الفكاهة وروح المرح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PT Bold Heading"/>
              </a:rPr>
              <a:t>نوِّع في أسلوب تقديمك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PT Bold Heading"/>
              </a:rPr>
              <a:t>وفِّر أبدالاً للطلاب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5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2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2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2000" fill="hold"/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2000" fill="hold"/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2000" fill="hold"/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2000" fill="hold"/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2000" fill="hold"/>
                                        <p:tgtEl>
                                          <p:spTgt spid="1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2000" fill="hold"/>
                                        <p:tgtEl>
                                          <p:spTgt spid="1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2000" fill="hold"/>
                                        <p:tgtEl>
                                          <p:spTgt spid="1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2000" fill="hold"/>
                                        <p:tgtEl>
                                          <p:spTgt spid="1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2000" fill="hold"/>
                                        <p:tgtEl>
                                          <p:spTgt spid="1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2000" fill="hold"/>
                                        <p:tgtEl>
                                          <p:spTgt spid="1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2000" fill="hold"/>
                                        <p:tgtEl>
                                          <p:spTgt spid="1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1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720720" y="274320"/>
            <a:ext cx="7416720" cy="592200"/>
          </a:xfrm>
          <a:prstGeom prst="rect">
            <a:avLst/>
          </a:prstGeom>
          <a:solidFill>
            <a:srgbClr val="0bd528"/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عمليات الضبط الفاعل للص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48720" cy="53290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529920" indent="-529920" algn="r" rtl="1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130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PT Bold Heading"/>
              </a:rPr>
              <a:t> ارفض قبول الأعذار عند تطبيق العواقب المحددة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9920" indent="-529920" algn="r" rtl="1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130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PT Bold Heading"/>
              </a:rPr>
              <a:t>أجز المخالفات التي لا تستطيع أن توقفها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9920" indent="-529920" algn="r" rtl="1">
              <a:lnSpc>
                <a:spcPct val="170000"/>
              </a:lnSpc>
              <a:spcBef>
                <a:spcPts val="601"/>
              </a:spcBef>
              <a:buClr>
                <a:srgbClr val="cc0000"/>
              </a:buClr>
              <a:buSzPct val="130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Verdana"/>
                <a:cs typeface="PT Bold Heading"/>
              </a:rPr>
              <a:t>استخدم التربيت على الكتف أو المصافحة عند التواصل مع الطلاب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-529920" algn="r" rtl="1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130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PT Bold Heading"/>
              </a:rPr>
              <a:t>تحمل المسؤولية واسمح للطلاب بتحمل مسؤولية أنفسهم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9920" indent="-529920" algn="r" rtl="1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130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PT Bold Heading"/>
              </a:rPr>
              <a:t>أدرك وتقبل أنك لن تنجح مع كل طالب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9920" indent="-529920" algn="r" rtl="1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130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PT Bold Heading"/>
              </a:rPr>
              <a:t>ابدأ بداية جديدة كل يوم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4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2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2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2000" fill="hold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2000" fill="hold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2000" fill="hold"/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2000" fill="hold"/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2000" fill="hold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2000" fill="hold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2000" fill="hold"/>
                                        <p:tgtEl>
                                          <p:spTgt spid="1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2000" fill="hold"/>
                                        <p:tgtEl>
                                          <p:spTgt spid="1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2000" fill="hold"/>
                                        <p:tgtEl>
                                          <p:spTgt spid="1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2000" fill="hold"/>
                                        <p:tgtEl>
                                          <p:spTgt spid="1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2000" fill="hold"/>
                                        <p:tgtEl>
                                          <p:spTgt spid="1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2000" fill="hold"/>
                                        <p:tgtEl>
                                          <p:spTgt spid="1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50000">
              <a:srgbClr val="66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561440" cy="302400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ff"/>
                </a:solidFill>
                <a:latin typeface="Arial"/>
                <a:cs typeface="PT Bold Heading"/>
              </a:rPr>
              <a:t>عدّد أوجه الاختلاف بين العواقب والعقوبات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3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720720" y="274320"/>
            <a:ext cx="7416720" cy="592200"/>
          </a:xfrm>
          <a:prstGeom prst="rect">
            <a:avLst/>
          </a:prstGeom>
          <a:solidFill>
            <a:srgbClr val="ffff00"/>
          </a:solidFill>
          <a:ln w="76320">
            <a:solidFill>
              <a:srgbClr val="ffcc6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أوجه الاختلاف بين العواقب والعقوبات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62800" cy="5184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Verdana"/>
                <a:cs typeface="PT Bold Heading"/>
              </a:rPr>
              <a:t>تتميز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  <a:cs typeface="MCS Jeddah S_I normal."/>
              </a:rPr>
              <a:t>العواق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PT Bold Heading"/>
              </a:rPr>
              <a:t> </a:t>
            </a:r>
            <a:r>
              <a:rPr b="1" lang="hi-IN" sz="3600" spc="-1" strike="noStrike">
                <a:solidFill>
                  <a:srgbClr val="ffff00"/>
                </a:solidFill>
                <a:latin typeface="Verdana"/>
                <a:cs typeface="PT Bold Heading"/>
              </a:rPr>
              <a:t>بأنها 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PT Bold Heading"/>
              </a:rPr>
              <a:t>تحافظ على كرامة الطالب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PT Bold Heading"/>
              </a:rPr>
              <a:t>تزيد من مصدر الضبط الداخلي للطالب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PT Bold Heading"/>
              </a:rPr>
              <a:t>تزيد الدافعية لدى الطالب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PT Bold Heading"/>
              </a:rPr>
              <a:t>بسيطة ومباشرة ومنطقية  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PT Bold Heading"/>
              </a:rPr>
              <a:t>ذات صلة بالقانو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0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20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20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20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20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20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20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20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20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2000" fill="hold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2000" fill="hold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2000" fill="hold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2000" fill="hold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/>
          <p:nvPr/>
        </p:nvSpPr>
        <p:spPr>
          <a:xfrm>
            <a:off x="2340000" y="374760"/>
            <a:ext cx="52513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Arial"/>
                <a:cs typeface="PT Bold Heading"/>
              </a:rPr>
              <a:t>العواقب الفاعلة تكون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132000" y="1620720"/>
            <a:ext cx="4464360" cy="70344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Tahoma"/>
              </a:rPr>
              <a:t>واضحة ومحدد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195640" y="2722680"/>
            <a:ext cx="5398920" cy="13129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Tahoma"/>
              </a:rPr>
              <a:t>تشمل مدى واسعا من الأبدال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187280" y="3803760"/>
            <a:ext cx="6480360" cy="13129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Tahoma"/>
              </a:rPr>
              <a:t>مرتبطة بالقانون على نحو مباش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564000" y="4883040"/>
            <a:ext cx="4103640" cy="70344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Tahoma"/>
              </a:rPr>
              <a:t>تعلّم ولا تعاقب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9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4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9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4" dur="10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33"/>
            </a:gs>
            <a:gs pos="100000">
              <a:srgbClr val="175e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120000" cy="719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أربع عواقب عامــة 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62800" cy="5184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PT Bold Heading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72760" indent="-572760" algn="r" rtl="1">
              <a:spcBef>
                <a:spcPts val="1001"/>
              </a:spcBef>
              <a:buClr>
                <a:srgbClr val="ff0000"/>
              </a:buClr>
              <a:buSzPct val="13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Verdana"/>
                <a:cs typeface="PT Bold Heading"/>
              </a:rPr>
              <a:t>التذكير بالقانون 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72760" indent="-572760" algn="r" rtl="1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Verdana"/>
                <a:cs typeface="PT Bold Heading"/>
              </a:rPr>
              <a:t>التحذير 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72760" indent="-572760" algn="r" rtl="1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Verdana"/>
                <a:cs typeface="PT Bold Heading"/>
              </a:rPr>
              <a:t>وضع خطة عمل لتحسين السلوك 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72760" indent="-572760" algn="r" rtl="1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Verdana"/>
                <a:cs typeface="PT Bold Heading"/>
              </a:rPr>
              <a:t>التدّرب على السلوك 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33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2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2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20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20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2000" fill="hold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2000" fill="hold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20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20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20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20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20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20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832720" cy="10792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imes New Roman"/>
                <a:cs typeface="MCS Jeddah S_I normal."/>
              </a:rPr>
              <a:t>العقـــد الاجتماعي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559640" cy="4751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458640"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imes New Roman"/>
                <a:cs typeface="MCS Jeddah S_I normal."/>
              </a:rPr>
              <a:t>اتفاق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بين المعلم والطالب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0000"/>
                </a:solidFill>
                <a:latin typeface="Times New Roman"/>
              </a:rPr>
              <a:t>بشأن </a:t>
            </a:r>
            <a:r>
              <a:rPr b="1" lang="hi-IN" sz="5400" spc="-1" strike="noStrike">
                <a:solidFill>
                  <a:srgbClr val="0000ff"/>
                </a:solidFill>
                <a:latin typeface="Times New Roman"/>
                <a:cs typeface="PT Bold Heading"/>
              </a:rPr>
              <a:t>القوانين والعواقب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الخاصة بالسلوك الصف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ctr" rtl="1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ctr" rtl="1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ctr" rtl="1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6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1000" fill="hold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1000" fill="hold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1000" fill="hold"/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1000" fill="hold"/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4360" y="419040"/>
            <a:ext cx="7632720" cy="12096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ضبط ذو الأبعاد الثلاثة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90080" cy="4105080"/>
          </a:xfrm>
          <a:prstGeom prst="rect">
            <a:avLst/>
          </a:prstGeom>
          <a:noFill/>
          <a:ln w="57240">
            <a:solidFill>
              <a:srgbClr val="00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30000"/>
              </a:lnSpc>
              <a:spcBef>
                <a:spcPts val="1199"/>
              </a:spcBef>
              <a:buClr>
                <a:srgbClr val="660033"/>
              </a:buClr>
              <a:buSzPct val="10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PT Bold Heading"/>
              </a:rPr>
              <a:t> </a:t>
            </a:r>
            <a:r>
              <a:rPr b="1" lang="hi-IN" sz="4800" spc="-1" strike="noStrike">
                <a:solidFill>
                  <a:srgbClr val="ff0000"/>
                </a:solidFill>
                <a:latin typeface="Verdana"/>
                <a:cs typeface="PT Bold Heading"/>
              </a:rPr>
              <a:t>البُعد الوقائي 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30000"/>
              </a:lnSpc>
              <a:spcBef>
                <a:spcPts val="1199"/>
              </a:spcBef>
              <a:buClr>
                <a:srgbClr val="660033"/>
              </a:buClr>
              <a:buSzPct val="10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  <a:ea typeface="PT Bold Heading"/>
              </a:rPr>
              <a:t> البُعد الإجرائي 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30000"/>
              </a:lnSpc>
              <a:spcBef>
                <a:spcPts val="1199"/>
              </a:spcBef>
              <a:buClr>
                <a:srgbClr val="660033"/>
              </a:buClr>
              <a:buSzPct val="10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  <a:ea typeface="PT Bold Heading"/>
              </a:rPr>
              <a:t> بُعد القرار 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 rtl="1">
              <a:lnSpc>
                <a:spcPct val="15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01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2000" fill="hold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2000" fill="hold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2000" fill="hold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2000" fill="hold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2000" fill="hold"/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2000" fill="hold"/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Cloud"/>
          <p:cNvSpPr/>
          <p:nvPr/>
        </p:nvSpPr>
        <p:spPr>
          <a:xfrm>
            <a:off x="395280" y="511200"/>
            <a:ext cx="8424720" cy="5654520"/>
          </a:xfrm>
          <a:prstGeom prst="pi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  <a:ea typeface="Monotype Koufi"/>
              </a:rPr>
              <a:t>(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PT Bold Heading"/>
              </a:rPr>
              <a:t>1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  <a:ea typeface="Monotype Koufi"/>
              </a:rPr>
              <a:t> )</a:t>
            </a:r>
            <a:r>
              <a:rPr b="1" lang="en-US" sz="4800" spc="-1" strike="noStrike">
                <a:solidFill>
                  <a:srgbClr val="000099"/>
                </a:solidFill>
                <a:latin typeface="Tahoma"/>
                <a:ea typeface="Monotype Koufi"/>
              </a:rPr>
              <a:t> البعد </a:t>
            </a:r>
            <a:r>
              <a:rPr b="1" lang="hi-IN" sz="4800" spc="-1" strike="noStrike">
                <a:solidFill>
                  <a:srgbClr val="000000"/>
                </a:solidFill>
                <a:latin typeface="Tahoma"/>
                <a:cs typeface="MCS Jeddah S_I normal."/>
              </a:rPr>
              <a:t>الوقائ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ahoma"/>
                <a:cs typeface="Monotype Koufi"/>
              </a:rPr>
              <a:t>ما يمكن  أن يعمله  المعلم  لمنع المشاكل السلوكــية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Monotype Kouf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2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2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33"/>
            </a:gs>
            <a:gs pos="100000">
              <a:srgbClr val="175e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5653080" cy="706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أولاً :</a:t>
            </a:r>
            <a:r>
              <a:rPr b="1" lang="en-US" sz="40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hi-IN" sz="4800" spc="-1" strike="noStrike">
                <a:solidFill>
                  <a:srgbClr val="003b76"/>
                </a:solidFill>
                <a:latin typeface="Arial"/>
              </a:rPr>
              <a:t>البــعد الوقائي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62800" cy="5184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PT Bold Heading"/>
              </a:rPr>
              <a:t>اعرف ذاتك ( المعلِّم 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PT Bold Heading"/>
              </a:rPr>
              <a:t>اعرف الطلاب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PT Bold Heading"/>
              </a:rPr>
              <a:t>عبّر عن مشاعرك الإيجابية نحو طلابك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PT Bold Heading"/>
              </a:rPr>
              <a:t> كن على معرفة جيدة بالبدائل المناسبة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PT Bold Heading"/>
              </a:rPr>
              <a:t>حفِّز طلابك على التعلُُّم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PT Bold Heading"/>
              </a:rPr>
              <a:t>رسخ فكرة العقد الاجتماعي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PT Bold Heading"/>
              </a:rPr>
              <a:t> قلّل مــن التوتر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40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2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2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2000" fill="hold"/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2000" fill="hold"/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2000" fill="hold"/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2000" fill="hold"/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2000" fill="hold"/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2000" fill="hold"/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2000" fill="hold"/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2000" fill="hold"/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2000" fill="hold"/>
                                        <p:tgtEl>
                                          <p:spTgt spid="1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2000" fill="hold"/>
                                        <p:tgtEl>
                                          <p:spTgt spid="1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2000" fill="hold"/>
                                        <p:tgtEl>
                                          <p:spTgt spid="1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2000" fill="hold"/>
                                        <p:tgtEl>
                                          <p:spTgt spid="1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2000" fill="hold"/>
                                        <p:tgtEl>
                                          <p:spTgt spid="1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2000" fill="hold"/>
                                        <p:tgtEl>
                                          <p:spTgt spid="1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-181080" y="1700280"/>
            <a:ext cx="8569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34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أساليب العقابية في الميزان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1835280" y="620640"/>
            <a:ext cx="51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Koufi"/>
              </a:rPr>
              <a:t>البدائل التربوية للعقاب</a:t>
            </a:r>
            <a:endParaRPr b="1" lang="en-US" sz="4400" spc="1" strike="noStrike">
              <a:ln w="19080">
                <a:solidFill>
                  <a:srgbClr val="ff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Koufi"/>
              <a:ea typeface="Monotype Kouf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3000"/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Cloud"/>
          <p:cNvSpPr/>
          <p:nvPr/>
        </p:nvSpPr>
        <p:spPr>
          <a:xfrm>
            <a:off x="395280" y="511200"/>
            <a:ext cx="8424720" cy="5654520"/>
          </a:xfrm>
          <a:prstGeom prst="pi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  <a:ea typeface="Monotype Koufi"/>
              </a:rPr>
              <a:t>(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PT Bold Heading"/>
              </a:rPr>
              <a:t>2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  <a:ea typeface="Monotype Koufi"/>
              </a:rPr>
              <a:t> )</a:t>
            </a:r>
            <a:r>
              <a:rPr b="1" lang="en-US" sz="4800" spc="-1" strike="noStrike">
                <a:solidFill>
                  <a:srgbClr val="000099"/>
                </a:solidFill>
                <a:latin typeface="Tahoma"/>
                <a:ea typeface="Monotype Koufi"/>
              </a:rPr>
              <a:t> البعد </a:t>
            </a:r>
            <a:r>
              <a:rPr b="1" lang="hi-IN" sz="4800" spc="-1" strike="noStrike">
                <a:solidFill>
                  <a:srgbClr val="000000"/>
                </a:solidFill>
                <a:latin typeface="Tahoma"/>
                <a:cs typeface="MCS Jeddah S_I normal."/>
              </a:rPr>
              <a:t>الإجرائ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ahoma"/>
                <a:cs typeface="Monotype Koufi"/>
              </a:rPr>
              <a:t>ما يعمله  المعلم  عندما تحدث المشكلة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Monotype Kouf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2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2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5653080" cy="706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ثانياً :</a:t>
            </a:r>
            <a:r>
              <a:rPr b="1" lang="en-US" sz="40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hi-IN" sz="4800" spc="-1" strike="noStrike">
                <a:solidFill>
                  <a:srgbClr val="003b76"/>
                </a:solidFill>
                <a:latin typeface="Arial"/>
              </a:rPr>
              <a:t>البــعد الإجرائي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62800" cy="5184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Verdana"/>
                <a:cs typeface="PT Bold Heading"/>
              </a:rPr>
              <a:t>اختر أفضل العواقب البديلة 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Verdana"/>
                <a:cs typeface="PT Bold Heading"/>
              </a:rPr>
              <a:t>نفــِّذ العواقب 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Verdana"/>
                <a:cs typeface="PT Bold Heading"/>
              </a:rPr>
              <a:t>اجمع المعلومات 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PT Bold Heading"/>
              </a:rPr>
              <a:t> تجنب صراع القوة مع الطالب 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3" dur="2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8" dur="2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3" dur="2000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8" dur="2000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3" dur="2000"/>
                                        <p:tgtEl>
                                          <p:spTgt spid="1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8" dur="2000"/>
                                        <p:tgtEl>
                                          <p:spTgt spid="1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Cloud"/>
          <p:cNvSpPr/>
          <p:nvPr/>
        </p:nvSpPr>
        <p:spPr>
          <a:xfrm>
            <a:off x="395280" y="511200"/>
            <a:ext cx="8353440" cy="5654520"/>
          </a:xfrm>
          <a:prstGeom prst="pi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Tahoma"/>
                <a:ea typeface="Monotype Koufi"/>
              </a:rPr>
              <a:t>(</a:t>
            </a:r>
            <a:r>
              <a:rPr b="1" lang="en-US" sz="5400" spc="-1" strike="noStrike">
                <a:solidFill>
                  <a:srgbClr val="ffff00"/>
                </a:solidFill>
                <a:latin typeface="Tahoma"/>
                <a:ea typeface="Monotype Koufi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  <a:ea typeface="PT Bold Heading"/>
              </a:rPr>
              <a:t>3</a:t>
            </a:r>
            <a:r>
              <a:rPr b="1" lang="en-US" sz="5400" spc="-1" strike="noStrike">
                <a:solidFill>
                  <a:srgbClr val="ffff00"/>
                </a:solidFill>
                <a:latin typeface="Tahoma"/>
                <a:ea typeface="Monotype Koufi"/>
              </a:rPr>
              <a:t> </a:t>
            </a:r>
            <a:r>
              <a:rPr b="1" lang="en-US" sz="5400" spc="-1" strike="noStrike">
                <a:solidFill>
                  <a:srgbClr val="660033"/>
                </a:solidFill>
                <a:latin typeface="Tahoma"/>
                <a:ea typeface="Monotype Koufi"/>
              </a:rPr>
              <a:t>)</a:t>
            </a:r>
            <a:r>
              <a:rPr b="1" lang="en-US" sz="5400" spc="-1" strike="noStrike">
                <a:solidFill>
                  <a:srgbClr val="000099"/>
                </a:solidFill>
                <a:latin typeface="Tahoma"/>
                <a:ea typeface="Monotype Koufi"/>
              </a:rPr>
              <a:t> بعد </a:t>
            </a:r>
            <a:r>
              <a:rPr b="1" lang="hi-IN" sz="5400" spc="-1" strike="noStrike">
                <a:solidFill>
                  <a:srgbClr val="000000"/>
                </a:solidFill>
                <a:latin typeface="Tahoma"/>
                <a:cs typeface="MCS Jeddah S_I normal."/>
              </a:rPr>
              <a:t>الـقرا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0000"/>
                </a:solidFill>
                <a:latin typeface="Tahoma"/>
                <a:cs typeface="Monotype Koufi"/>
              </a:rPr>
              <a:t>إعادة مناقشة العقود مع الطالب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Monotype Kouf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2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2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5653080" cy="706320"/>
          </a:xfrm>
          <a:prstGeom prst="rect">
            <a:avLst/>
          </a:prstGeom>
          <a:solidFill>
            <a:srgbClr val="ccecff"/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  <a:cs typeface="PT Bold Heading"/>
              </a:rPr>
              <a:t>ثانياً :</a:t>
            </a:r>
            <a:r>
              <a:rPr b="1" lang="en-US" sz="4000" spc="-1" strike="noStrike">
                <a:solidFill>
                  <a:srgbClr val="003b76"/>
                </a:solidFill>
                <a:latin typeface="Arial"/>
                <a:ea typeface="PT Bold Heading"/>
              </a:rPr>
              <a:t> </a:t>
            </a:r>
            <a:r>
              <a:rPr b="1" lang="hi-IN" sz="4800" spc="-1" strike="noStrike">
                <a:solidFill>
                  <a:srgbClr val="003b76"/>
                </a:solidFill>
                <a:latin typeface="Arial"/>
                <a:cs typeface="PT Bold Heading"/>
              </a:rPr>
              <a:t>بُعـد الـقرار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62800" cy="518508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51804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8040" indent="-518040" algn="r" rtl="1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0033"/>
                </a:solidFill>
                <a:latin typeface="Verdana"/>
                <a:cs typeface="PT Bold Heading"/>
              </a:rPr>
              <a:t>جد ما يلزم لمنع حدوث مشكلة أخرى 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18040" indent="-518040" algn="r" rtl="1">
              <a:lnSpc>
                <a:spcPct val="150000"/>
              </a:lnSpc>
              <a:spcBef>
                <a:spcPts val="901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0033"/>
                </a:solidFill>
                <a:latin typeface="Verdana"/>
                <a:cs typeface="PT Bold Heading"/>
              </a:rPr>
              <a:t>طوِّر خطة مشتركة تحظى بموافقتكما معا 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8040" indent="-518040" algn="r" rtl="1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0033"/>
                </a:solidFill>
                <a:latin typeface="Verdana"/>
                <a:cs typeface="PT Bold Heading"/>
              </a:rPr>
              <a:t>نفذ الخــطة ( راقب / عدّل ) 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18040" indent="-518040" algn="r" rtl="1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Verdana"/>
                <a:ea typeface="PT Bold Heading"/>
              </a:rPr>
              <a:t> استخدم حلولا إبداعية  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43" dur="2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8" dur="2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3" dur="2000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8" dur="2000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3" dur="2000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8" dur="2000"/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33"/>
            </a:gs>
            <a:gs pos="100000">
              <a:srgbClr val="175e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720720" y="274320"/>
            <a:ext cx="7416720" cy="59220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أولاً :</a:t>
            </a:r>
            <a:r>
              <a:rPr b="1" lang="en-US" sz="4000" spc="-1" strike="noStrike">
                <a:solidFill>
                  <a:srgbClr val="003b76"/>
                </a:solidFill>
                <a:latin typeface="Arial"/>
              </a:rPr>
              <a:t> استراتيجيات التدخلات البسيطة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62800" cy="5184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PT Bold Heading"/>
              </a:rPr>
              <a:t>التلميحات ( الإشارات غير اللفظية 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PT Bold Heading"/>
              </a:rPr>
              <a:t>الاقتراب من الطالب المشاغ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PT Bold Heading"/>
              </a:rPr>
              <a:t>استخدام إجراء لفت انتباه الطلا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PT Bold Heading"/>
              </a:rPr>
              <a:t>إعادة توجيه السلوك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PT Bold Heading"/>
              </a:rPr>
              <a:t>تقديم المساعدة اللازمة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PT Bold Heading"/>
              </a:rPr>
              <a:t>توضيح أثر المشكلة للطالب المخال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75" dur="2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2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2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2000" fill="hold"/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2000" fill="hold"/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2000" fill="hold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2000" fill="hold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2000" fill="hold"/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2000" fill="hold"/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2000" fill="hold"/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2000" fill="hold"/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2000" fill="hold"/>
                                        <p:tgtEl>
                                          <p:spTgt spid="1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2000" fill="hold"/>
                                        <p:tgtEl>
                                          <p:spTgt spid="1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2000" fill="hold"/>
                                        <p:tgtEl>
                                          <p:spTgt spid="1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2000" fill="hold"/>
                                        <p:tgtEl>
                                          <p:spTgt spid="1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720720" y="274320"/>
            <a:ext cx="7416720" cy="59220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ثانياً :</a:t>
            </a:r>
            <a:r>
              <a:rPr b="1" lang="en-US" sz="4000" spc="-1" strike="noStrike">
                <a:solidFill>
                  <a:srgbClr val="003b76"/>
                </a:solidFill>
                <a:latin typeface="Arial"/>
              </a:rPr>
              <a:t> استراتيجيات التدخل المعتدل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62800" cy="5184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SzPct val="1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PT Bold Heading"/>
              </a:rPr>
              <a:t> إيقاف بعض الامتيازات المرغوبة للطال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SzPct val="1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PT Bold Heading"/>
              </a:rPr>
              <a:t> إبعاد الطالب أو نقله عن  مكان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SzPct val="1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PT Bold Heading"/>
              </a:rPr>
              <a:t> استخدام الغرامة أو الجزا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SzPct val="1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PT Bold Heading"/>
              </a:rPr>
              <a:t>استخدام عواقب وضعتها المدرس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4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2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2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2000" fill="hold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2000" fill="hold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2000" fill="hold"/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2000" fill="hold"/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2000" fill="hold"/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2000" fill="hold"/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2000" fill="hold"/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2000" fill="hold"/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720720" y="274320"/>
            <a:ext cx="7416720" cy="59220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ثالثاُ :</a:t>
            </a:r>
            <a:r>
              <a:rPr b="1" lang="en-US" sz="4000" spc="-1" strike="noStrike">
                <a:solidFill>
                  <a:srgbClr val="003b76"/>
                </a:solidFill>
                <a:latin typeface="Arial"/>
              </a:rPr>
              <a:t> استراتيجيات التدخل الأوس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62800" cy="51847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80000"/>
              </a:lnSpc>
              <a:spcBef>
                <a:spcPts val="799"/>
              </a:spcBef>
              <a:buClr>
                <a:srgbClr val="ff0000"/>
              </a:buClr>
              <a:buSzPct val="1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ea typeface="PT Bold Heading"/>
              </a:rPr>
              <a:t> </a:t>
            </a:r>
            <a:r>
              <a:rPr b="1" lang="ar-SA" sz="3200" spc="-1" strike="noStrike">
                <a:solidFill>
                  <a:srgbClr val="006600"/>
                </a:solidFill>
                <a:latin typeface="Verdana"/>
                <a:cs typeface="PT Bold Heading"/>
              </a:rPr>
              <a:t>العقد الفردي مع الطال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SzPct val="1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Verdana"/>
                <a:ea typeface="PT Bold Heading"/>
              </a:rPr>
              <a:t> الاجتماع مع ولي أمر الطال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Verdana"/>
                <a:ea typeface="PT Bold Heading"/>
              </a:rPr>
              <a:t> استخدام نظام وضع إشارة 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  <a:ea typeface="PT Bold Heading"/>
              </a:rPr>
              <a:t>(</a:t>
            </a:r>
            <a:r>
              <a:rPr b="1" lang="en-US" sz="4000" spc="-1" strike="noStrike">
                <a:solidFill>
                  <a:srgbClr val="006600"/>
                </a:solidFill>
                <a:latin typeface="Verdana"/>
                <a:ea typeface="PT Bold Heading"/>
              </a:rPr>
              <a:t>×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  <a:ea typeface="PT Bold Heading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Verdana"/>
                <a:cs typeface="PT Bold Heading"/>
              </a:rPr>
              <a:t>استخدام أسلوب حل المـشـكلات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Verdana"/>
                <a:cs typeface="PT Bold Heading"/>
              </a:rPr>
              <a:t>استخدام أستراتيجية المعالجة الواقع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61" dur="2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2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2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20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20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20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20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20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20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2000" fill="hold"/>
                                        <p:tgtEl>
                                          <p:spTgt spid="1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2000" fill="hold"/>
                                        <p:tgtEl>
                                          <p:spTgt spid="1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2000" fill="hold"/>
                                        <p:tgtEl>
                                          <p:spTgt spid="1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2000" fill="hold"/>
                                        <p:tgtEl>
                                          <p:spTgt spid="1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720720" y="274320"/>
            <a:ext cx="7416720" cy="592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9933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استراتيجية حل المشكلات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85920" y="1341360"/>
            <a:ext cx="8362800" cy="4896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518040" indent="0" algn="r" rtl="1">
              <a:lnSpc>
                <a:spcPct val="1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518040" indent="-518040" algn="r" rtl="1">
              <a:lnSpc>
                <a:spcPct val="1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99"/>
                </a:solidFill>
                <a:latin typeface="Verdana"/>
                <a:cs typeface="PT Bold Heading"/>
              </a:rPr>
              <a:t>استخدام التلميحات والإشارات غير اللفظي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8040" indent="-518040" algn="r" rtl="1">
              <a:lnSpc>
                <a:spcPct val="1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99"/>
                </a:solidFill>
                <a:latin typeface="Verdana"/>
                <a:cs typeface="PT Bold Heading"/>
              </a:rPr>
              <a:t>اتباع القاعدة الصفية التي تم الاتفاق عليها 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8040" indent="-518040" algn="r" rtl="1">
              <a:lnSpc>
                <a:spcPct val="1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99"/>
                </a:solidFill>
                <a:latin typeface="Verdana"/>
                <a:cs typeface="PT Bold Heading"/>
              </a:rPr>
              <a:t>وضع خطة علاجية للطالب المخالف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8040" indent="-518040" algn="r" rtl="1">
              <a:lnSpc>
                <a:spcPct val="1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99"/>
                </a:solidFill>
                <a:latin typeface="Verdana"/>
                <a:cs typeface="PT Bold Heading"/>
              </a:rPr>
              <a:t>إرساله إلى مكتب المدير لوضع خطة علاجي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8040"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8" dur="indefinite" restart="never" nodeType="tmRoot">
          <p:childTnLst>
            <p:seq>
              <p:cTn id="1799" dur="indefinite" nodeType="mainSeq">
                <p:childTnLst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04" dur="2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2000" fill="hold"/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2000" fill="hold"/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2000" fill="hold"/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2000" fill="hold"/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2000" fill="hold"/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2000" fill="hold"/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720720" y="274320"/>
            <a:ext cx="7416720" cy="592200"/>
          </a:xfrm>
          <a:prstGeom prst="rect">
            <a:avLst/>
          </a:prstGeom>
          <a:solidFill>
            <a:srgbClr val="000099"/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استراتيجية المعالجة الواقعية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07160" cy="518472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511920" indent="-511920" algn="r" rtl="1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Verdana"/>
                <a:cs typeface="Monotype Koufi"/>
              </a:rPr>
              <a:t>إقامة العلافة الطيبة مع الطلاب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1920" indent="-511920" algn="r" rtl="1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Verdana"/>
                <a:cs typeface="Monotype Koufi"/>
              </a:rPr>
              <a:t>تحديد ماهية المشكلة عند حدوثها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1920" indent="-511920" algn="r" rtl="1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Verdana"/>
                <a:cs typeface="Monotype Koufi"/>
              </a:rPr>
              <a:t>إقرار الطالب بالمشكلة ومسؤوليته إزاء السلوك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1920" indent="-511920" algn="r" rtl="1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99"/>
                </a:solidFill>
                <a:latin typeface="Verdana"/>
                <a:cs typeface="Monotype Koufi"/>
              </a:rPr>
              <a:t>توضيح العواقب السلبية والإيجابية لتوقف السلوك  أو استمراره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1920" indent="-511920" algn="r" rtl="1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Verdana"/>
                <a:cs typeface="Monotype Koufi"/>
              </a:rPr>
              <a:t>وضع خطة علاجية على شكل عقد واتفاق مع الطالب المخالف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1920" indent="-511920" algn="r" rtl="1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Verdana"/>
                <a:cs typeface="Monotype Koufi"/>
              </a:rPr>
              <a:t>متابعة الخطة وإنجازها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1920" indent="0" algn="r" rtl="1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5" dur="indefinite" restart="never" nodeType="tmRoot">
          <p:childTnLst>
            <p:seq>
              <p:cTn id="1836" dur="indefinite" nodeType="mainSeq">
                <p:childTnLst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1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2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2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2000" fill="hold"/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2000" fill="hold"/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2000" fill="hold"/>
                                        <p:tgtEl>
                                          <p:spTgt spid="1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2000" fill="hold"/>
                                        <p:tgtEl>
                                          <p:spTgt spid="1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2000" fill="hold"/>
                                        <p:tgtEl>
                                          <p:spTgt spid="1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2000" fill="hold"/>
                                        <p:tgtEl>
                                          <p:spTgt spid="1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2000" fill="hold"/>
                                        <p:tgtEl>
                                          <p:spTgt spid="1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2000" fill="hold"/>
                                        <p:tgtEl>
                                          <p:spTgt spid="1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2000" fill="hold"/>
                                        <p:tgtEl>
                                          <p:spTgt spid="1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2000" fill="hold"/>
                                        <p:tgtEl>
                                          <p:spTgt spid="1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2000" fill="hold"/>
                                        <p:tgtEl>
                                          <p:spTgt spid="1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2000" fill="hold"/>
                                        <p:tgtEl>
                                          <p:spTgt spid="1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720720" y="274320"/>
            <a:ext cx="7416720" cy="592200"/>
          </a:xfrm>
          <a:prstGeom prst="rect">
            <a:avLst/>
          </a:prstGeom>
          <a:solidFill>
            <a:srgbClr val="000099"/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من المشكلات السلوكية الحادة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07160" cy="5184720"/>
          </a:xfrm>
          <a:prstGeom prst="rect">
            <a:avLst/>
          </a:prstGeom>
          <a:noFill/>
          <a:ln w="76320">
            <a:solidFill>
              <a:srgbClr val="00ccff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lvl="2" marL="1330200" indent="-443160" algn="r" rtl="1">
              <a:lnSpc>
                <a:spcPct val="17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Monotype Koufi"/>
              </a:rPr>
              <a:t>  التصرف بوقاحة مع المعلم  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2" marL="1330200" indent="0" algn="r" rtl="1">
              <a:lnSpc>
                <a:spcPct val="1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 algn="r" rtl="1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SzPct val="1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PT Bold Heading"/>
              </a:rPr>
              <a:t>الحديث الوقح من وراء ظهر المعل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 algn="r" rtl="1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SzPct val="1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PT Bold Heading"/>
              </a:rPr>
              <a:t>الملاحظات غير المهذب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 algn="r" rtl="1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SzPct val="1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PT Bold Heading"/>
              </a:rPr>
              <a:t>رفع الصوت والصراخ في وجه المعل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 algn="r" rtl="1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SzPct val="1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PT Bold Heading"/>
              </a:rPr>
              <a:t>الإيماء بحركات غير لائق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0" dur="2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2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2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2000" fill="hold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2000" fill="hold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2000" fill="hold"/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2000" fill="hold"/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2000" fill="hold"/>
                                        <p:tgtEl>
                                          <p:spTgt spid="1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2000" fill="hold"/>
                                        <p:tgtEl>
                                          <p:spTgt spid="1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2000" fill="hold"/>
                                        <p:tgtEl>
                                          <p:spTgt spid="1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2000" fill="hold"/>
                                        <p:tgtEl>
                                          <p:spTgt spid="1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2000" fill="hold"/>
                                        <p:tgtEl>
                                          <p:spTgt spid="1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2000" fill="hold"/>
                                        <p:tgtEl>
                                          <p:spTgt spid="1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826920" y="333360"/>
            <a:ext cx="7705800" cy="3527280"/>
          </a:xfrm>
          <a:prstGeom prst="flowChartMultidocument">
            <a:avLst/>
          </a:prstGeom>
          <a:solidFill>
            <a:srgbClr val="ffff00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شاط تدريبي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hurooq 09"/>
              </a:rPr>
              <a:t> </a:t>
            </a:r>
            <a:r>
              <a:rPr b="1" lang="en-US" sz="5400" spc="-1" strike="noStrike">
                <a:solidFill>
                  <a:srgbClr val="0000cc"/>
                </a:solidFill>
                <a:latin typeface="Times New Roman"/>
                <a:ea typeface="Shurooq 09"/>
              </a:rPr>
              <a:t>(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Shurooq 09"/>
              </a:rPr>
              <a:t>1</a:t>
            </a:r>
            <a:r>
              <a:rPr b="1" lang="en-US" sz="5400" spc="-1" strike="noStrike">
                <a:solidFill>
                  <a:srgbClr val="0000cc"/>
                </a:solidFill>
                <a:latin typeface="Times New Roman"/>
                <a:ea typeface="Shurooq 09"/>
              </a:rPr>
              <a:t> 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1"/>
          <a:stretch/>
        </p:blipFill>
        <p:spPr>
          <a:xfrm>
            <a:off x="1555920" y="2565360"/>
            <a:ext cx="52480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720720" y="274320"/>
            <a:ext cx="7416720" cy="592200"/>
          </a:xfrm>
          <a:prstGeom prst="rect">
            <a:avLst/>
          </a:prstGeom>
          <a:solidFill>
            <a:srgbClr val="000099"/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من المشكلات السلوكية الحادة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07160" cy="5184720"/>
          </a:xfrm>
          <a:prstGeom prst="rect">
            <a:avLst/>
          </a:prstGeom>
          <a:noFill/>
          <a:ln w="76320">
            <a:solidFill>
              <a:srgbClr val="00ccff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lvl="2" marL="1261800" indent="0" algn="r" rtl="1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Verdana"/>
                <a:cs typeface="Monotype Koufi"/>
              </a:rPr>
              <a:t>التصرف بوقاحة مع المعلم</a:t>
            </a:r>
            <a:r>
              <a:rPr b="1" lang="ar-SA" sz="2800" spc="-1" strike="noStrike">
                <a:solidFill>
                  <a:srgbClr val="ffff00"/>
                </a:solidFill>
                <a:latin typeface="Verdana"/>
                <a:ea typeface="Monotype Koufi"/>
              </a:rPr>
              <a:t> 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261800" indent="0" algn="r" rtl="1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Verdana"/>
                <a:cs typeface="Monotype Koufi"/>
              </a:rPr>
              <a:t>العلاج :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261800" indent="0" algn="r" rtl="1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Verdana"/>
                <a:ea typeface="Monotype Koufi"/>
              </a:rPr>
              <a:t>   ينبغي على المعل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261800" indent="-420480" algn="r" rtl="1">
              <a:spcBef>
                <a:spcPts val="799"/>
              </a:spcBef>
              <a:buClr>
                <a:srgbClr val="ff3300"/>
              </a:buClr>
              <a:buSzPct val="11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Monotype Koufi"/>
              </a:rPr>
              <a:t>الحذر من الرد بعنف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261800" indent="-420480" algn="r" rtl="1">
              <a:spcBef>
                <a:spcPts val="799"/>
              </a:spcBef>
              <a:buClr>
                <a:srgbClr val="ff3300"/>
              </a:buClr>
              <a:buSzPct val="11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Monotype Koufi"/>
              </a:rPr>
              <a:t>لاتجادل الطالب ولاتدخل في صراع القوة معه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261800" indent="-420480" algn="r" rtl="1">
              <a:spcBef>
                <a:spcPts val="799"/>
              </a:spcBef>
              <a:buClr>
                <a:srgbClr val="ff3300"/>
              </a:buClr>
              <a:buSzPct val="11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Monotype Koufi"/>
              </a:rPr>
              <a:t>إخباره أن سلوكه غير مقبو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261800" indent="-420480" algn="r" rtl="1">
              <a:spcBef>
                <a:spcPts val="799"/>
              </a:spcBef>
              <a:buClr>
                <a:srgbClr val="ff3300"/>
              </a:buClr>
              <a:buSzPct val="11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Monotype Koufi"/>
              </a:rPr>
              <a:t>تذكيره بالقاعدة الصفية المتفق عليها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261800" indent="-420480" algn="r" rtl="1">
              <a:spcBef>
                <a:spcPts val="799"/>
              </a:spcBef>
              <a:buClr>
                <a:srgbClr val="ff3300"/>
              </a:buClr>
              <a:buSzPct val="11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Monotype Koufi"/>
              </a:rPr>
              <a:t>إرساله إلى مكتب الوكيل أو المدير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261800" indent="0" algn="r" rtl="1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1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3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3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30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30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30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30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30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30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3000" fill="hold"/>
                                        <p:tgtEl>
                                          <p:spTgt spid="1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3000" fill="hold"/>
                                        <p:tgtEl>
                                          <p:spTgt spid="1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3000" fill="hold"/>
                                        <p:tgtEl>
                                          <p:spTgt spid="1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3000" fill="hold"/>
                                        <p:tgtEl>
                                          <p:spTgt spid="1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3000" fill="hold"/>
                                        <p:tgtEl>
                                          <p:spTgt spid="1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3000" fill="hold"/>
                                        <p:tgtEl>
                                          <p:spTgt spid="1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3000" fill="hold"/>
                                        <p:tgtEl>
                                          <p:spTgt spid="1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3000" fill="hold"/>
                                        <p:tgtEl>
                                          <p:spTgt spid="1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3000" fill="hold"/>
                                        <p:tgtEl>
                                          <p:spTgt spid="1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3000" fill="hold"/>
                                        <p:tgtEl>
                                          <p:spTgt spid="1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/>
          </p:nvPr>
        </p:nvSpPr>
        <p:spPr>
          <a:xfrm>
            <a:off x="34920" y="1773000"/>
            <a:ext cx="8137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1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قوة التغيير والبحث عن البدائل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1692360" y="549360"/>
            <a:ext cx="51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Koufi"/>
              </a:rPr>
              <a:t>البدائل التربوية للعقاب</a:t>
            </a:r>
            <a:endParaRPr b="1" lang="en-US" sz="4400" spc="1" strike="noStrike">
              <a:ln w="19080">
                <a:solidFill>
                  <a:srgbClr val="ff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Koufi"/>
              <a:ea typeface="Monotype Kouf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fill="hold">
                      <p:stCondLst>
                        <p:cond delay="0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0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1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6" dur="3000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2268360" y="1125360"/>
            <a:ext cx="39801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0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l-Mujahed Classic"/>
              </a:rPr>
              <a:t>لكي ننجح </a:t>
            </a:r>
            <a:endParaRPr b="1" lang="en-US" sz="4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l-Mujahed Classic"/>
              <a:ea typeface="Al-Mujahed Classic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l-Mujahed Classic"/>
              </a:rPr>
              <a:t>يجب علينا </a:t>
            </a:r>
            <a:endParaRPr b="1" lang="en-US" sz="4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l-Mujahed Classic"/>
              <a:ea typeface="Al-Mujahed Classic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l-Mujahed Classic"/>
              </a:rPr>
              <a:t>أولاً أن نؤمن </a:t>
            </a:r>
            <a:endParaRPr b="1" lang="en-US" sz="4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l-Mujahed Classic"/>
              <a:ea typeface="Al-Mujahed Classic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l-Mujahed Classic"/>
              </a:rPr>
              <a:t>أنه بمقدورنا </a:t>
            </a:r>
            <a:endParaRPr b="1" lang="en-US" sz="4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l-Mujahed Classic"/>
              <a:ea typeface="Al-Mujahed Classic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l-Mujahed Classic"/>
              </a:rPr>
              <a:t>تحقيق النجاح. </a:t>
            </a:r>
            <a:endParaRPr b="1" lang="en-US" sz="4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l-Mujahed Classic"/>
              <a:ea typeface="Al-Mujahed Clas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7" dur="indefinite" restart="never" nodeType="tmRoot">
          <p:childTnLst>
            <p:seq>
              <p:cTn id="2018" dur="indefinite" nodeType="mainSeq">
                <p:childTnLst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899640" y="1844640"/>
            <a:ext cx="7272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cc"/>
                </a:solidFill>
                <a:latin typeface="Arial"/>
              </a:rPr>
              <a:t>ما الممارسات والاتجاهات </a:t>
            </a:r>
            <a:br>
              <a:rPr sz="4800"/>
            </a:br>
            <a:r>
              <a:rPr b="1" lang="hi-IN" sz="4800" spc="-1" strike="noStrike">
                <a:solidFill>
                  <a:srgbClr val="0000cc"/>
                </a:solidFill>
                <a:latin typeface="Arial"/>
              </a:rPr>
              <a:t>التي تحتاج إلى تغيير ؟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692360" y="404640"/>
            <a:ext cx="7056360" cy="703440"/>
          </a:xfrm>
          <a:prstGeom prst="rect">
            <a:avLst/>
          </a:prstGeom>
          <a:gradFill rotWithShape="0">
            <a:gsLst>
              <a:gs pos="0">
                <a:srgbClr val="69c7e9"/>
              </a:gs>
              <a:gs pos="50000">
                <a:srgbClr val="ffffff"/>
              </a:gs>
              <a:gs pos="100000">
                <a:srgbClr val="69c7e9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علم وحاجته إلى التغيير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24000" y="4005360"/>
            <a:ext cx="777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 rtl="1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ما دواعي التغيير ومبرراته 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5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2484360" y="387360"/>
            <a:ext cx="4176720" cy="825120"/>
          </a:xfrm>
          <a:prstGeom prst="rect">
            <a:avLst/>
          </a:prstGeom>
          <a:solidFill>
            <a:srgbClr val="000000"/>
          </a:solidFill>
          <a:ln w="76320">
            <a:solidFill>
              <a:srgbClr val="69c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مفهوم التغيير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395280" y="1944720"/>
            <a:ext cx="8064360" cy="106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9c7e9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عملية تحليل الماضي لاستنباط التصرفات الحالية المطلوبة للمـسـتقب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68360" y="3457440"/>
            <a:ext cx="8064360" cy="1556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Monotype Koufi"/>
              </a:rPr>
              <a:t>فكرة معيّنة أو شيئا ماديا أو ممارسة عملية  يؤديها الفرد أو الأفراد لإحداث التحسين وتحقيق الأهداف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68360" y="4968720"/>
            <a:ext cx="8064360" cy="106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غيير وسيلة للتحسين والتطوير ومجاراة المتغيّرات المعاصرة ؛وليس هدفا بحد ذات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6" dur="indefinite" restart="never" nodeType="tmRoot">
          <p:childTnLst>
            <p:seq>
              <p:cTn id="2047" dur="indefinite" nodeType="mainSeq">
                <p:childTnLst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2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3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8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9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4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5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654984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cc"/>
                </a:solidFill>
                <a:latin typeface="Arial Black"/>
                <a:cs typeface="Thaghr 4 Hor."/>
              </a:rPr>
              <a:t>التغيير في حياتك ينتج عن</a:t>
            </a:r>
            <a:r>
              <a:rPr b="1" lang="en-US" sz="4800" spc="-1" strike="noStrike">
                <a:solidFill>
                  <a:srgbClr val="0000cc"/>
                </a:solidFill>
                <a:latin typeface="Arial Black"/>
                <a:ea typeface="Thaghr 4 Hor."/>
              </a:rPr>
              <a:t> :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0" name=""/>
          <p:cNvSpPr/>
          <p:nvPr/>
        </p:nvSpPr>
        <p:spPr>
          <a:xfrm>
            <a:off x="1692360" y="4581360"/>
            <a:ext cx="4303800" cy="11912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50000">
                <a:srgbClr val="ffffff"/>
              </a:gs>
              <a:gs pos="100000">
                <a:srgbClr val="fe1f08"/>
              </a:gs>
            </a:gsLst>
            <a:lin ang="5400000"/>
          </a:gradFill>
          <a:ln w="5724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) الاستمرار والمثاب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556000" y="3645000"/>
            <a:ext cx="3902040" cy="119124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) الممارسة الجا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132000" y="2708280"/>
            <a:ext cx="4113360" cy="1252080"/>
          </a:xfrm>
          <a:prstGeom prst="rect">
            <a:avLst/>
          </a:prstGeom>
          <a:gradFill rotWithShape="0">
            <a:gsLst>
              <a:gs pos="0">
                <a:srgbClr val="69c7e9"/>
              </a:gs>
              <a:gs pos="50000">
                <a:srgbClr val="ffffff"/>
              </a:gs>
              <a:gs pos="100000">
                <a:srgbClr val="69c7e9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notype Koufi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notype Kouf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notype Koufi"/>
              </a:rPr>
              <a:t>)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Monotype Koufi"/>
              </a:rPr>
              <a:t>المعرفة الوا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807000" y="1700280"/>
            <a:ext cx="4221000" cy="13129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5400000"/>
          </a:gra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notype Koufi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notype Koufi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notype Koufi"/>
              </a:rPr>
              <a:t>) الرغبة الصاد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84360" y="5533920"/>
            <a:ext cx="6624360" cy="91692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1f08"/>
                </a:solidFill>
                <a:latin typeface="Arial"/>
                <a:ea typeface="Monotype Koufi"/>
              </a:rPr>
              <a:t>(</a:t>
            </a:r>
            <a:r>
              <a:rPr b="1" lang="en-US" sz="5400" spc="-1" strike="noStrike">
                <a:solidFill>
                  <a:srgbClr val="69c7e9"/>
                </a:solidFill>
                <a:latin typeface="Arial"/>
                <a:ea typeface="Monotype Koufi"/>
              </a:rPr>
              <a:t>    </a:t>
            </a:r>
            <a:r>
              <a:rPr b="1" lang="hi-IN" sz="5400" spc="-1" strike="noStrike">
                <a:solidFill>
                  <a:srgbClr val="000000"/>
                </a:solidFill>
                <a:latin typeface="Arial"/>
                <a:cs typeface="Monotype Koufi"/>
              </a:rPr>
              <a:t>تحول وتغيير   </a:t>
            </a:r>
            <a:r>
              <a:rPr b="1" lang="en-US" sz="5400" spc="-1" strike="noStrike">
                <a:solidFill>
                  <a:srgbClr val="fe1f08"/>
                </a:solidFill>
                <a:latin typeface="Arial"/>
                <a:ea typeface="Monotype Koufi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0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6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3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-612720" y="1483920"/>
            <a:ext cx="94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20000"/>
              </a:lnSpc>
              <a:buClr>
                <a:srgbClr val="0000cc"/>
              </a:buClr>
              <a:buSzPct val="12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cc"/>
                </a:solidFill>
                <a:latin typeface="Arial"/>
              </a:rPr>
              <a:t>انشر قصة التغيير الناجحة في عملك (المدرسة)</a:t>
            </a:r>
            <a:br>
              <a:rPr sz="3600"/>
            </a:br>
            <a:r>
              <a:rPr b="1" lang="hi-IN" sz="3600" spc="-1" strike="noStrike">
                <a:solidFill>
                  <a:srgbClr val="0000cc"/>
                </a:solidFill>
                <a:latin typeface="Arial"/>
              </a:rPr>
              <a:t>واتخذ منها بداية للتغيير في أماكن أخرى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116000" y="488880"/>
            <a:ext cx="6551640" cy="642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خلطة التغيير بمذاق التطوي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403280" y="3357720"/>
            <a:ext cx="756144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 rtl="1">
              <a:buClr>
                <a:srgbClr val="000000"/>
              </a:buClr>
              <a:buSzPct val="12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Arial"/>
              </a:rPr>
              <a:t>فكّر مرة أخرى في الوضع الحالي </a:t>
            </a:r>
            <a:br>
              <a:rPr sz="3600"/>
            </a:br>
            <a:r>
              <a:rPr b="1" lang="hi-IN" sz="3600" spc="-1" strike="noStrike">
                <a:solidFill>
                  <a:srgbClr val="ff3300"/>
                </a:solidFill>
                <a:latin typeface="Arial"/>
              </a:rPr>
              <a:t>بهدف التطوير وانشر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042920" y="4797360"/>
            <a:ext cx="7777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 rtl="1">
              <a:buClr>
                <a:srgbClr val="ff3300"/>
              </a:buClr>
              <a:buSzPct val="12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بدّد أيّ خوف أو تهديد يلحق العاملين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ن جراء التغيير   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8" dur="indefinite" restart="never" nodeType="tmRoot">
          <p:childTnLst>
            <p:seq>
              <p:cTn id="2129" dur="indefinite" nodeType="mainSeq">
                <p:childTnLst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-181440" y="1628640"/>
            <a:ext cx="9433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20000"/>
              </a:lnSpc>
              <a:buClr>
                <a:srgbClr val="0000cc"/>
              </a:buClr>
              <a:buSzPct val="12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cc"/>
                </a:solidFill>
                <a:latin typeface="Arial"/>
              </a:rPr>
              <a:t>وضح الأمور برؤية جديدة وحدد خطوات التكيف </a:t>
            </a:r>
            <a:br>
              <a:rPr sz="3600"/>
            </a:br>
            <a:r>
              <a:rPr b="1" lang="hi-IN" sz="3600" spc="-1" strike="noStrike">
                <a:solidFill>
                  <a:srgbClr val="0000cc"/>
                </a:solidFill>
                <a:latin typeface="Arial"/>
              </a:rPr>
              <a:t>مع الوضع الجديد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116000" y="488880"/>
            <a:ext cx="6551640" cy="642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خلطة التغيير بمذاق التطوي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335772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 rtl="1">
              <a:buClr>
                <a:srgbClr val="000000"/>
              </a:buClr>
              <a:buSzPct val="12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Arial"/>
              </a:rPr>
              <a:t>فرّق بين الأفراد الإيجابيين والسلبيين المثبطين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وتعامل مع كل منهم بحكم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50920" y="4869000"/>
            <a:ext cx="856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 rtl="1">
              <a:buClr>
                <a:srgbClr val="000000"/>
              </a:buClr>
              <a:buSzPct val="12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بدأ بتغيير الأفراد وليس المؤسسة ؛ فالمنظمات </a:t>
            </a:r>
            <a:br>
              <a:rPr sz="3600"/>
            </a:b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لا تتغير إلا عندما يتغير عدد كبير من أفرادها  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4" dur="indefinite" restart="never" nodeType="tmRoot">
          <p:childTnLst>
            <p:seq>
              <p:cTn id="2155" dur="indefinite" nodeType="mainSeq">
                <p:childTnLst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 txBox="1"/>
          <p:nvPr/>
        </p:nvSpPr>
        <p:spPr>
          <a:xfrm>
            <a:off x="250920" y="1270080"/>
            <a:ext cx="871524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raditional Arabic"/>
              </a:rPr>
              <a:t>(( </a:t>
            </a:r>
            <a:r>
              <a:rPr b="0" lang="hi-IN" sz="4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raditional Arabic"/>
              </a:rPr>
              <a:t>إن الله لا يغير ما بقوم حتى يغيروا ما بأنفسهم</a:t>
            </a:r>
            <a:r>
              <a:rPr b="1" lang="en-US" sz="4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raditional Arabic"/>
              </a:rPr>
              <a:t> </a:t>
            </a:r>
            <a:r>
              <a:rPr b="1" lang="en-US" sz="4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raditional Arabic"/>
              </a:rPr>
              <a:t>))</a:t>
            </a:r>
            <a:endParaRPr b="1" lang="en-US" sz="4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raditional Arabic"/>
              <a:ea typeface="Traditional Arabic"/>
            </a:endParaRPr>
          </a:p>
        </p:txBody>
      </p:sp>
      <p:graphicFrame>
        <p:nvGraphicFramePr>
          <p:cNvPr id="1294" name=""/>
          <p:cNvGraphicFramePr/>
          <p:nvPr/>
        </p:nvGraphicFramePr>
        <p:xfrm>
          <a:off x="1447920" y="3068640"/>
          <a:ext cx="6248160" cy="37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068640"/>
                    <a:ext cx="62481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2180" dur="indefinite" restart="never" nodeType="tmRoot">
          <p:childTnLst>
            <p:seq>
              <p:cTn id="2181" dur="indefinite" nodeType="mainSeq">
                <p:childTnLst>
                  <p:par>
                    <p:cTn id="2182" fill="hold">
                      <p:stCondLst>
                        <p:cond delay="0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1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79280" y="2027160"/>
            <a:ext cx="828036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33cc"/>
                </a:solidFill>
                <a:latin typeface="Arial"/>
                <a:cs typeface="PT Bold Heading"/>
              </a:rPr>
              <a:t>معاً نحو تغيير أفضل .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2" dur="indefinite" restart="never" nodeType="tmRoot">
          <p:childTnLst>
            <p:seq>
              <p:cTn id="2193" dur="indefinite" nodeType="mainSeq">
                <p:childTnLst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11280" y="2421000"/>
            <a:ext cx="7850160" cy="2952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76320">
            <a:solidFill>
              <a:srgbClr val="cc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إيجابيات وسلبيات</a:t>
            </a:r>
            <a:br>
              <a:rPr sz="4400"/>
            </a:br>
            <a:r>
              <a:rPr b="1" lang="hi-IN" sz="4400" spc="-1" strike="noStrike">
                <a:solidFill>
                  <a:srgbClr val="0000cc"/>
                </a:solidFill>
                <a:latin typeface="Arial"/>
              </a:rPr>
              <a:t>عملية </a:t>
            </a: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عقاب 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: المعنوي والبدني </a:t>
            </a:r>
            <a:br>
              <a:rPr sz="4400"/>
            </a:br>
            <a:r>
              <a:rPr b="1" lang="hi-IN" sz="4400" spc="-1" strike="noStrike">
                <a:solidFill>
                  <a:srgbClr val="0000cc"/>
                </a:solidFill>
                <a:latin typeface="Arial"/>
              </a:rPr>
              <a:t>في التربية والتعليم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11280" y="404640"/>
            <a:ext cx="7705800" cy="1477080"/>
          </a:xfrm>
          <a:prstGeom prst="rect">
            <a:avLst/>
          </a:prstGeom>
          <a:solidFill>
            <a:srgbClr val="0000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PT Bold Heading"/>
              </a:rPr>
              <a:t>من خلال خبرتك وبالتعاون مع زملائ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PT Bold Heading"/>
              </a:rPr>
              <a:t>في المجموعة ناقش التالي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-109440" y="43920"/>
            <a:ext cx="9866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5400"/>
            </a:br>
            <a:r>
              <a:rPr b="1" lang="hi-IN" sz="5400" spc="-1" strike="noStrike">
                <a:solidFill>
                  <a:srgbClr val="fe1f08"/>
                </a:solidFill>
                <a:latin typeface="Arial Black"/>
                <a:cs typeface="Thaghr 4 Hor."/>
              </a:rPr>
              <a:t>قال النبي صلى الله عليه وسلم :</a:t>
            </a:r>
            <a:br>
              <a:rPr sz="5400"/>
            </a:br>
            <a:r>
              <a:rPr b="1" lang="en-US" sz="5400" spc="-1" strike="noStrike">
                <a:solidFill>
                  <a:srgbClr val="fe1f08"/>
                </a:solidFill>
                <a:latin typeface="Arial Black"/>
                <a:ea typeface="Thaghr 4 Hor."/>
              </a:rPr>
              <a:t> </a:t>
            </a:r>
            <a:r>
              <a:rPr b="1" lang="hi-IN" sz="6600" spc="-1" strike="noStrike">
                <a:solidFill>
                  <a:srgbClr val="ffff00"/>
                </a:solidFill>
                <a:latin typeface="Arial Black"/>
                <a:cs typeface="Thaghr 4 Hor."/>
              </a:rPr>
              <a:t>ما كان الرفق في شيء إلا زانه</a:t>
            </a:r>
            <a:r>
              <a:rPr b="1" lang="en-US" sz="4800" spc="-1" strike="noStrike">
                <a:solidFill>
                  <a:srgbClr val="0000cc"/>
                </a:solidFill>
                <a:latin typeface="Arial Black"/>
                <a:ea typeface="Thaghr 4 Hor."/>
              </a:rPr>
              <a:t> </a:t>
            </a:r>
            <a:r>
              <a:rPr b="1" lang="en-US" sz="5400" spc="-1" strike="noStrike">
                <a:solidFill>
                  <a:srgbClr val="00ff00"/>
                </a:solidFill>
                <a:latin typeface="Arial Black"/>
                <a:ea typeface="Thaghr 4 Hor.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260360" y="404280"/>
            <a:ext cx="6840720" cy="1008360"/>
          </a:xfrm>
          <a:prstGeom prst="rect">
            <a:avLst/>
          </a:prstGeom>
          <a:solidFill>
            <a:srgbClr val="cc0066"/>
          </a:solidFill>
          <a:ln w="7632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PT Bold Heading"/>
              </a:rPr>
              <a:t>الأساليب العقابية في الميزان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95280" y="2563560"/>
            <a:ext cx="8424720" cy="3529080"/>
          </a:xfrm>
          <a:prstGeom prst="rect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447840" indent="-447840" algn="r" rtl="1">
              <a:lnSpc>
                <a:spcPct val="2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Tahoma"/>
                <a:cs typeface="PT Bold Heading"/>
              </a:rPr>
              <a:t>معلم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PT Bold Heading"/>
              </a:rPr>
              <a:t> يضرب و </a:t>
            </a:r>
            <a:r>
              <a:rPr b="0" lang="hi-IN" sz="4000" spc="-1" strike="noStrike">
                <a:solidFill>
                  <a:srgbClr val="009900"/>
                </a:solidFill>
                <a:latin typeface="Tahoma"/>
                <a:cs typeface="PT Bold Heading"/>
              </a:rPr>
              <a:t>تلمي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PT Bold Heading"/>
              </a:rPr>
              <a:t> يزداد سلوكه سوء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PT Bold Heading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r" rtl="1">
              <a:lnSpc>
                <a:spcPct val="2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ahoma"/>
                <a:cs typeface="PT Bold Heading"/>
              </a:rPr>
              <a:t>من أضرار الضرب (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PT Bold Heading"/>
              </a:rPr>
              <a:t>15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PT Bold Heading"/>
              </a:rPr>
              <a:t> ) نتيجة سلبية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04:39:07Z</dcterms:created>
  <dc:creator>محمد الردادي </dc:creator>
  <dc:description/>
  <dc:language>en-US</dc:language>
  <cp:lastModifiedBy>PC Land</cp:lastModifiedBy>
  <dcterms:modified xsi:type="dcterms:W3CDTF">2005-05-08T14:50:09Z</dcterms:modified>
  <cp:revision>187</cp:revision>
  <dc:subject/>
  <dc:title>الشريحة 1</dc:title>
</cp:coreProperties>
</file>