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E05-6897-40AA-9D3B-B2218331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392-5D63-49BB-965C-B3CE0C0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2D6-3239-42D3-821E-0BF54712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7E1-300B-4D4C-80C7-FD2F55DE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05C-1FB4-434F-923D-8AAABFC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563-C827-4371-ABD1-4A4B164F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7FD-7F04-44E0-92E2-C13D82F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A90-0545-4040-9A3E-064E9B88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BA1-0A35-4A85-B717-AE0814B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710-03BE-4C6C-A661-3BC38E9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3C8-FB73-4734-8921-CA0D20D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670-01C9-41A8-9805-8F5B625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76A-5B8C-4226-8D35-D37A56D101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060640"/>
            <a:ext cx="5976720" cy="2305080"/>
          </a:xfrm>
          <a:prstGeom prst="downArrowCallout">
            <a:avLst>
              <a:gd name="adj1" fmla="val 67492"/>
              <a:gd name="adj2" fmla="val 33743"/>
              <a:gd name="adj3" fmla="val 24167"/>
              <a:gd name="adj4" fmla="val 6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a50021"/>
                </a:solidFill>
                <a:latin typeface="Times New Roman"/>
                <a:cs typeface="Al-Kharashi 3"/>
              </a:rPr>
              <a:t>أنماط المتدربين والتعامل مع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a50021"/>
                </a:solidFill>
                <a:latin typeface="Times New Roman"/>
                <a:cs typeface="Al-Kharashi 3"/>
              </a:rPr>
              <a:t>صلاح صالح معم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341360"/>
            <a:ext cx="295272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12536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صديق الإيجا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0828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ثرث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565360"/>
            <a:ext cx="295272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غامض العد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149720"/>
            <a:ext cx="313236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بليد الكس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933720"/>
            <a:ext cx="313236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صامت الملتز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5486400"/>
            <a:ext cx="313236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اجتماعي الم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5486400"/>
            <a:ext cx="313236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متصيد بأسئل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0"/>
            <a:ext cx="5977080" cy="1131840"/>
          </a:xfrm>
          <a:prstGeom prst="downArrowCallout">
            <a:avLst>
              <a:gd name="adj1" fmla="val 137462"/>
              <a:gd name="adj2" fmla="val 68724"/>
              <a:gd name="adj3" fmla="val 24167"/>
              <a:gd name="adj4" fmla="val 6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l-Kharashi 3"/>
              </a:rPr>
              <a:t>أنماط المتدربين والتعامل مع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3640" y="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صديق الإيجا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413000"/>
            <a:ext cx="8642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قترب من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رحب بمشاركات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دعم لديه الاحساس بالصدا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تعرف منه على ردود أفعال المتدرب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ستثمر اندفاعه و احترامه لك في دعم الانشطة التدريبية الصع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أطلب مساعد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إعهد إليه بقيادة مجمو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7530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8920" y="1413000"/>
            <a:ext cx="612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-171360"/>
            <a:ext cx="295272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غامض العد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1844640"/>
          <a:ext cx="7705800" cy="4778280"/>
        </p:xfrm>
        <a:graphic>
          <a:graphicData uri="http://schemas.openxmlformats.org/drawingml/2006/table">
            <a:tbl>
              <a:tblPr/>
              <a:tblGrid>
                <a:gridCol w="3960720"/>
                <a:gridCol w="374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 تنظر إلي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بادل معه النظرات الح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جاهله حتى  لا يشعرك بالإحبا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جه إليه أسئلة محددة واطلب منه الإجابة علي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ول الأسئلة التي يطرحها ويشعر أن بها تحدي إلى المجموعة للإجابة عليها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عرف على خبراته السابقة ودلالتها بالنسبة لموضوع التدري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اجهه بالنتائج الضعيفة التي حصل عليها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تعرف على نتائج أعماله في التدريبات الفردية و الجماعية وإذا لم يستجب لك انتقل إلى المرحلة الثان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0920" y="189000"/>
          <a:ext cx="187308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18730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1700280"/>
            <a:ext cx="61214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يجب ألا تندفع في الإجابة على أسئلته  ويمكن أن تحولها إلى مناقشة عامة تشترك فيها المجموعة طالما تفيد في موضوع المناقش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اترك المجموعة أن تتعامل معه إذا بالغ في استخدام اسلوبه هذ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8900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متصيد بأسئل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1700280"/>
            <a:ext cx="7272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أسئله أسئلة مباشرة عن عمله وخبرت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اجذبه إلى المشاركة في الحديث عن طريق دعوته للمساهمة في موضوع المناقشة أو اطلب منه الحديث في تخصصه أو طبيعة عم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شعره أنك تقدر آراءه حتى تنجح في اجتذابه إلى صفوف المجمو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26028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بليد الكس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610000"/>
            <a:ext cx="341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413000"/>
            <a:ext cx="864216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يجب أن يحتفظ المدرب بهدوئه تجاه هذا النمط من المشاركين منذ البداية . حاول أن تكتشف مسببات سلوكه وكسب تعا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دع المجموعة تتعامل مع نظرياته وأفكار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اتعهد إليه بقيادة مجمو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لل من اسئلتك المباشرة ل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لا تجعله يشعر بأنك قد اتخذت موقفاً ضد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لا تدخل في جدال مباشر مع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عندما يتمادى المشارك المشاغب في سلوكه يتركه المتدرب حتى يصل إلى موقف أحمق ثم يتركه إلى المشاركين الآخرين كي يتعاملوا مع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0"/>
            <a:ext cx="295272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مشاغ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844640"/>
          <a:ext cx="273708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273708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700280"/>
            <a:ext cx="85694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 قاطعه بلباقة بحيث لا تسبب له حرجاً واضحاً أمام الآخر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 حدد له الزمن الذي يسمح له فيه بالتحدث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 وجه سؤالاً لأحد أفراد المجموعة لتنقل فيه دفة الحديث لشخص آخ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 إذا كان ذا معلومات جيده فيمكن لك محاولة الاستفادة بها في المناقش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لاتركز عينك ع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انظر إلى ساعتك عند حديثه إذا اضطررت لذل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اسمح لأعضاء المجموعة بمقاطع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18900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ثرث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19280" y="1413000"/>
            <a:ext cx="720072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ستثمر قدرته على المرح في تنشيط المجمو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فوض إليه بعض الأنشطة الجماعية الصعبة التي تحتاج إلى جهود تنظ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اشترك معه في بعض الأنشطة الاجتماعية التي يقترح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 حدد له إطارا عاما للمرح بما لا يخرجه عن الاتزان اللازم لرسميات العمل التدريب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لاتظهر استياءك وغضبك منه أمام المجمو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0"/>
            <a:ext cx="3132000" cy="1371600"/>
          </a:xfrm>
          <a:prstGeom prst="horizontalScroll">
            <a:avLst>
              <a:gd name="adj" fmla="val 1863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Kharashi 3"/>
              </a:rPr>
              <a:t>الاجتماعي الم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7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23:59:10Z</dcterms:created>
  <dc:creator>memar</dc:creator>
  <dc:description/>
  <dc:language>en-US</dc:language>
  <cp:lastModifiedBy>Vaio</cp:lastModifiedBy>
  <dcterms:modified xsi:type="dcterms:W3CDTF">2006-06-08T22:20:58Z</dcterms:modified>
  <cp:revision>2</cp:revision>
  <dc:subject/>
  <dc:title>الشريحة 1</dc:title>
</cp:coreProperties>
</file>