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0A018-ABF2-4CCD-8A51-2844B9CE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01010-1989-40B3-BC80-4D60503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7FF84-70FD-4EBD-9172-2277606A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1512E-C257-4F97-8FC8-E6B11E04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62B4A-3DAD-4D07-8A2F-07656B16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A3E64-1AE8-4588-81F6-F4542C92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66CC7-2FCB-478E-BFF4-87458F7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FDC84-796C-4FDA-B6C9-2208F307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B0B3B-911F-459B-B79F-287AD15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AD7BE-97B5-497A-BB65-994272A8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81BB7-B52B-4E22-98D5-B27C26EC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493AB-C0AC-42F5-9D96-5B4C10BB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gradFill rotWithShape="0">
            <a:gsLst>
              <a:gs pos="0">
                <a:srgbClr val="294867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7120" y="6553080"/>
            <a:ext cx="2666880" cy="76320"/>
          </a:xfrm>
          <a:prstGeom prst="rect">
            <a:avLst/>
          </a:prstGeom>
          <a:gradFill rotWithShape="0">
            <a:gsLst>
              <a:gs pos="0">
                <a:srgbClr val="294867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0"/>
            <a:ext cx="685800" cy="1752480"/>
          </a:xfrm>
          <a:prstGeom prst="rect">
            <a:avLst/>
          </a:prstGeom>
          <a:gradFill rotWithShape="0">
            <a:gsLst>
              <a:gs pos="0">
                <a:srgbClr val="b2b2e6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166240" y="6248520"/>
            <a:ext cx="685800" cy="571320"/>
          </a:xfrm>
          <a:prstGeom prst="rect">
            <a:avLst/>
          </a:prstGeom>
          <a:gradFill rotWithShape="0">
            <a:gsLst>
              <a:gs pos="0">
                <a:srgbClr val="b2b2e6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gradFill rotWithShape="0">
            <a:gsLst>
              <a:gs pos="0">
                <a:srgbClr val="262d4c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gradFill rotWithShape="0">
            <a:gsLst>
              <a:gs pos="0">
                <a:srgbClr val="262d4c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E332-0F6D-4C27-ADE3-98B525AA9ECF}" type="slidenum">
              <a:rPr b="0" lang="ar-SA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hyperlink" Target="http://www.dawahmem.com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16000" y="2133720"/>
            <a:ext cx="64008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ذاكرة و التعلم</a:t>
            </a:r>
            <a:r>
              <a:rPr b="0" lang="ar-SA" sz="4000" spc="-1" strike="noStrike">
                <a:solidFill>
                  <a:srgbClr val="00264c"/>
                </a:solidFill>
                <a:latin typeface="Times New Roman"/>
                <a:ea typeface="Andalus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645000" y="4114800"/>
            <a:ext cx="1689120" cy="1573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6021360"/>
            <a:ext cx="799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مفكرة الدعوية</a:t>
            </a:r>
            <a:r>
              <a:rPr b="0" lang="ar-SA" sz="3200" spc="-1" strike="noStrike">
                <a:solidFill>
                  <a:srgbClr val="00264c"/>
                </a:solidFill>
                <a:latin typeface="Times New Roman"/>
                <a:ea typeface="Andalus"/>
              </a:rPr>
              <a:t> </a:t>
            </a:r>
            <a:r>
              <a:rPr b="0" lang="en-US" sz="3200" spc="-1" strike="noStrike" u="sng">
                <a:solidFill>
                  <a:srgbClr val="598bbd"/>
                </a:solidFill>
                <a:uFillTx/>
                <a:latin typeface="Times New Roman"/>
                <a:ea typeface="Andalus"/>
                <a:hlinkClick r:id="rId3"/>
              </a:rPr>
              <a:t>www.dawahmem.co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64c"/>
                </a:solidFill>
                <a:latin typeface="Times New Roman"/>
                <a:ea typeface="Andalus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72080" y="685800"/>
            <a:ext cx="453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02e72"/>
                </a:solidFill>
                <a:latin typeface="Times New Roman"/>
                <a:cs typeface="Mudir MT"/>
              </a:rPr>
              <a:t>الحدث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80200" y="191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202e72"/>
                </a:solidFill>
                <a:latin typeface="Times New Roman"/>
                <a:cs typeface="Andalus"/>
              </a:rPr>
              <a:t>عدم مطابقة الشرط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73360" y="1914480"/>
            <a:ext cx="14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202e72"/>
                </a:solidFill>
                <a:latin typeface="Times New Roman"/>
                <a:cs typeface="Andalus"/>
              </a:rPr>
              <a:t>تطبيق الشرط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2209680"/>
            <a:ext cx="3181320" cy="1508400"/>
          </a:xfrm>
          <a:prstGeom prst="rect">
            <a:avLst/>
          </a:prstGeom>
          <a:gradFill rotWithShape="0">
            <a:gsLst>
              <a:gs pos="0">
                <a:srgbClr val="ebd7ff"/>
              </a:gs>
              <a:gs pos="100000">
                <a:srgbClr val="9b8da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امداد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تأثير :ازالة الاحداث الايجابية لضعف الاستجابة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202e72"/>
                </a:solidFill>
                <a:latin typeface="Times New Roman"/>
                <a:cs typeface="Andalus"/>
              </a:rPr>
              <a:t>عملية التعلم: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مستهلك الذى يتعلم الاستجابة لا يصدر مخرجات ايجابية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770360"/>
            <a:ext cx="3424320" cy="1401840"/>
          </a:xfrm>
          <a:prstGeom prst="rect">
            <a:avLst/>
          </a:prstGeom>
          <a:gradFill rotWithShape="0">
            <a:gsLst>
              <a:gs pos="0">
                <a:srgbClr val="ebd7ff"/>
              </a:gs>
              <a:gs pos="100000">
                <a:srgbClr val="9b8da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عقاب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تأثير: الأحداث السلبية تضعف الاستجابة عن طريق</a:t>
            </a:r>
            <a:r>
              <a:rPr b="0" lang="ar-SA" sz="1200" spc="-1" strike="noStrike">
                <a:solidFill>
                  <a:srgbClr val="00264c"/>
                </a:solidFill>
                <a:latin typeface="Times New Roman"/>
                <a:ea typeface="Andalus"/>
              </a:rPr>
              <a:t>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عملية التعليمية</a:t>
            </a:r>
            <a:r>
              <a:rPr b="1" lang="ar-SA" sz="1200" spc="-1" strike="noStrike">
                <a:solidFill>
                  <a:srgbClr val="00264c"/>
                </a:solidFill>
                <a:latin typeface="Times New Roman"/>
                <a:ea typeface="Andalus"/>
              </a:rPr>
              <a:t>: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264c"/>
                </a:solidFill>
                <a:latin typeface="Times New Roman"/>
                <a:cs typeface="Andalus"/>
              </a:rPr>
              <a:t>يتعلم المستهلك الاستجابة للاحداث التى لا تؤدى الى العقاب</a:t>
            </a:r>
            <a:r>
              <a:rPr b="0" lang="ar-SA" sz="1200" spc="-1" strike="noStrike">
                <a:solidFill>
                  <a:srgbClr val="00264c"/>
                </a:solidFill>
                <a:latin typeface="Times New Roman"/>
                <a:ea typeface="Andalus"/>
              </a:rPr>
              <a:t>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57600" y="4770360"/>
            <a:ext cx="3909960" cy="1347840"/>
          </a:xfrm>
          <a:prstGeom prst="rect">
            <a:avLst/>
          </a:prstGeom>
          <a:gradFill rotWithShape="0">
            <a:gsLst>
              <a:gs pos="0">
                <a:srgbClr val="ebd7ff"/>
              </a:gs>
              <a:gs pos="100000">
                <a:srgbClr val="9b8da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قوى السلبية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تأثير :العمل على ازالة الأحداث السلبية التى توضح تجاهل المخرجات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202e72"/>
                </a:solidFill>
                <a:latin typeface="Times New Roman"/>
                <a:cs typeface="Andalus"/>
              </a:rPr>
              <a:t>عملية التعلم</a:t>
            </a:r>
            <a:r>
              <a:rPr b="0" lang="ar-SA" sz="1200" spc="-1" strike="noStrike">
                <a:solidFill>
                  <a:srgbClr val="202e72"/>
                </a:solidFill>
                <a:latin typeface="Times New Roman"/>
                <a:ea typeface="Andalus"/>
              </a:rPr>
              <a:t>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02e72"/>
                </a:solidFill>
                <a:latin typeface="Times New Roman"/>
                <a:cs typeface="Andalus"/>
              </a:rPr>
              <a:t>يتعلم المستهلك ان تجاهل المخرجات السلبية</a:t>
            </a:r>
            <a:r>
              <a:rPr b="0" lang="ar-SA" sz="1200" spc="-1" strike="noStrike">
                <a:solidFill>
                  <a:srgbClr val="202e72"/>
                </a:solidFill>
                <a:latin typeface="Times New Roman"/>
                <a:ea typeface="Andalus"/>
              </a:rPr>
              <a:t> 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75600" y="4016520"/>
            <a:ext cx="1258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اتصال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ضعيف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508120"/>
            <a:ext cx="10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سلوك الايجابى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99420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سلوك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2578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سلوك السلبى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73360" y="2238480"/>
            <a:ext cx="2982960" cy="1508040"/>
          </a:xfrm>
          <a:prstGeom prst="rect">
            <a:avLst/>
          </a:prstGeom>
          <a:gradFill rotWithShape="0">
            <a:gsLst>
              <a:gs pos="0">
                <a:srgbClr val="ebd7ff"/>
              </a:gs>
              <a:gs pos="100000">
                <a:srgbClr val="9b8da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قوى الإيجابية</a:t>
            </a:r>
            <a:r>
              <a:rPr b="0" lang="ar-SA" sz="1200" spc="-1" strike="noStrike">
                <a:solidFill>
                  <a:srgbClr val="202e72"/>
                </a:solidFill>
                <a:latin typeface="Times New Roman"/>
                <a:ea typeface="Andalus"/>
              </a:rPr>
              <a:t>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تأثير: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أحداث الإيجابية تقوى الأحداث التالية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202e72"/>
                </a:solidFill>
                <a:latin typeface="Times New Roman"/>
                <a:cs typeface="Andalus"/>
              </a:rPr>
              <a:t>عملية التعلم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202e72"/>
                </a:solidFill>
                <a:latin typeface="Times New Roman"/>
                <a:cs typeface="Andalus"/>
              </a:rPr>
              <a:t>يتعلم المستهلك ان يستجيب الى المخرجات الايجابية  </a:t>
            </a:r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3800520"/>
            <a:ext cx="4840200" cy="91584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766960" y="3746520"/>
            <a:ext cx="4971960" cy="102384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39800" y="4016520"/>
            <a:ext cx="11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202e72"/>
                </a:solidFill>
                <a:latin typeface="Times New Roman"/>
                <a:cs typeface="Andalus"/>
              </a:rPr>
              <a:t>الاتصال القوى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نظرية تعلم المعرفة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تعلم المعرفة يحدث نتيجة عملية عقلية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نظرية التعلم توضح اهمية العملية  العقلية الداخلية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تنظر النظرية الى للأفراد كواجدى حلول للمشكلات باستخدامهم للمعلومات المخيطة بهم لملائمة البيئة المخيطة بهم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2436840"/>
            <a:ext cx="1904760" cy="1523880"/>
          </a:xfrm>
          <a:prstGeom prst="rect">
            <a:avLst/>
          </a:prstGeom>
          <a:solidFill>
            <a:srgbClr val="ebd7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cs typeface="Andalus"/>
              </a:rPr>
              <a:t>التحفز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cs typeface="Andalus"/>
              </a:rPr>
              <a:t>موقف يظهر عندما يكون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cs typeface="Andalus"/>
              </a:rPr>
              <a:t>السلوك مفيد للمستهلك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2436840"/>
            <a:ext cx="1676160" cy="1447920"/>
          </a:xfrm>
          <a:prstGeom prst="rect">
            <a:avLst/>
          </a:prstGeom>
          <a:solidFill>
            <a:srgbClr val="ebd7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cs typeface="Andalus"/>
              </a:rPr>
              <a:t>عملية الانتاج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cs typeface="Andalus"/>
              </a:rPr>
              <a:t>للمستهلك القدرة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cs typeface="Andalus"/>
              </a:rPr>
              <a:t>على خلق سلوك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436840"/>
            <a:ext cx="1676520" cy="1523880"/>
          </a:xfrm>
          <a:prstGeom prst="rect">
            <a:avLst/>
          </a:prstGeom>
          <a:solidFill>
            <a:srgbClr val="ebd7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cs typeface="Andalus"/>
              </a:rPr>
              <a:t>الاحتفاظ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cs typeface="Andalus"/>
              </a:rPr>
              <a:t>يخزن فى الذاكرة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436840"/>
            <a:ext cx="1981080" cy="1523880"/>
          </a:xfrm>
          <a:prstGeom prst="rect">
            <a:avLst/>
          </a:prstGeom>
          <a:solidFill>
            <a:srgbClr val="ebd7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cs typeface="Andalus"/>
              </a:rPr>
              <a:t>الانتباه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cs typeface="Andalus"/>
              </a:rPr>
              <a:t>يركز المستخدم على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ea typeface="Andalus"/>
              </a:rPr>
              <a:t> نموذج المستهلك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4341960"/>
            <a:ext cx="3352680" cy="1218960"/>
          </a:xfrm>
          <a:prstGeom prst="rect">
            <a:avLst/>
          </a:prstGeom>
          <a:solidFill>
            <a:srgbClr val="ebd7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cs typeface="Andalus"/>
              </a:rPr>
              <a:t>التعلم عن طريق الملاحظة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cs typeface="Andalus"/>
              </a:rPr>
              <a:t>يتطلب من المستهلك ان يؤدى سلوك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02e72"/>
                </a:solidFill>
                <a:latin typeface="Comic Sans MS"/>
                <a:cs typeface="Andalus"/>
              </a:rPr>
              <a:t>مدعم بنموذج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3122640"/>
            <a:ext cx="3049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3122640"/>
            <a:ext cx="3808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122640"/>
            <a:ext cx="3808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10480" y="3198960"/>
            <a:ext cx="457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067680" y="3198960"/>
            <a:ext cx="0" cy="1600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095520" y="4799160"/>
            <a:ext cx="29718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71600" y="71604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264c"/>
                </a:solidFill>
                <a:latin typeface="Comic Sans MS"/>
                <a:cs typeface="Mudir MT"/>
              </a:rPr>
              <a:t>نظرية الملاحظة و مكوناتها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تطبيق التعلم السلوكى</a:t>
            </a:r>
            <a:r>
              <a:rPr b="1" lang="ar-SA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كيف يستفيد المسوقين من التعلم الكلاسيكى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مبدأ المشروط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124080" y="3821040"/>
            <a:ext cx="25574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</a:rPr>
              <a:t>تطبيق على المؤثر العام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</a:rPr>
              <a:t>الإستراتيجيات المؤثر على المؤثر العام تتضمن الأتى 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</a:rPr>
              <a:t> العائلة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</a:rPr>
              <a:t>امداد خط المنتج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</a:rPr>
              <a:t>الرخصة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</a:rPr>
              <a:t>المسوقين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</a:rPr>
              <a:t>الأغلفة المشابهة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914400" y="3429000"/>
            <a:ext cx="33624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تطبيق على تفرقة المؤثر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تشديد على الاتصال بمنتجات مضادة للمنافسة هى نقطة هامة كمؤثر لوضع المنتج و الذى يعلم المستهلك كيف يفرق بين الخالى والمنافس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2057400"/>
            <a:ext cx="2667240" cy="1828800"/>
          </a:xfrm>
          <a:prstGeom prst="rect">
            <a:avLst/>
          </a:prstGeom>
          <a:solidFill>
            <a:srgbClr val="ebd7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حساسية الذاكرة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تخزين مؤقت للمعلومات الحساسة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السعة :عالية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المدة :اقل من </a:t>
            </a:r>
            <a:r>
              <a:rPr b="0" lang="ar-SA" sz="1400" spc="-1" strike="noStrike">
                <a:solidFill>
                  <a:srgbClr val="202e72"/>
                </a:solidFill>
                <a:latin typeface="Comic Sans MS"/>
                <a:ea typeface="Andalus"/>
              </a:rPr>
              <a:t>1</a:t>
            </a:r>
            <a:r>
              <a:rPr b="0" lang="ar-SA" sz="1400" spc="-1" strike="noStrike">
                <a:solidFill>
                  <a:srgbClr val="202e72"/>
                </a:solidFill>
                <a:latin typeface="Comic Sans MS"/>
                <a:ea typeface="Andalus"/>
              </a:rPr>
              <a:t> ثانية (رؤية)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او القليل من الثوانى (سمع)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057400"/>
            <a:ext cx="2666880" cy="1828800"/>
          </a:xfrm>
          <a:prstGeom prst="rect">
            <a:avLst/>
          </a:prstGeom>
          <a:solidFill>
            <a:srgbClr val="ebd7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الذاكر ة ذات المدى القصير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تخزين معلومات مختصرة عادة تستخدم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السعة:محددة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المدة :اقل من </a:t>
            </a:r>
            <a:r>
              <a:rPr b="0" lang="ar-SA" sz="1400" spc="-1" strike="noStrike">
                <a:solidFill>
                  <a:srgbClr val="202e72"/>
                </a:solidFill>
                <a:latin typeface="Comic Sans MS"/>
                <a:ea typeface="Andalus"/>
              </a:rPr>
              <a:t>20</a:t>
            </a:r>
            <a:r>
              <a:rPr b="0" lang="ar-SA" sz="1400" spc="-1" strike="noStrike">
                <a:solidFill>
                  <a:srgbClr val="202e72"/>
                </a:solidFill>
                <a:latin typeface="Comic Sans MS"/>
                <a:ea typeface="Andalus"/>
              </a:rPr>
              <a:t> ثانية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2057400"/>
            <a:ext cx="2667240" cy="1828800"/>
          </a:xfrm>
          <a:prstGeom prst="rect">
            <a:avLst/>
          </a:prstGeom>
          <a:solidFill>
            <a:srgbClr val="ebd7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الكرة ذات المدى الطويل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دائما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تخزين المعلومات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السعة :غير محددة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المدة::طويلة او دائمة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800600"/>
            <a:ext cx="2666880" cy="1295280"/>
          </a:xfrm>
          <a:prstGeom prst="rect">
            <a:avLst/>
          </a:prstGeom>
          <a:solidFill>
            <a:srgbClr val="ebd7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الانتباه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المعلومات التى تمر على الانتباه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هى محولة لذاكرة ذات المدى القصير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4572000"/>
            <a:ext cx="2743200" cy="1523880"/>
          </a:xfrm>
          <a:prstGeom prst="rect">
            <a:avLst/>
          </a:prstGeom>
          <a:solidFill>
            <a:srgbClr val="ebd7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02e72"/>
                </a:solidFill>
                <a:latin typeface="Comic Sans MS"/>
                <a:cs typeface="Andalus"/>
              </a:rPr>
              <a:t>المعلومات 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572000" y="3962160"/>
            <a:ext cx="0" cy="1600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962520"/>
            <a:ext cx="0" cy="16761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638680"/>
            <a:ext cx="7621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5562720"/>
            <a:ext cx="3808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3962520"/>
            <a:ext cx="0" cy="1600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5562720"/>
            <a:ext cx="6094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5486400"/>
            <a:ext cx="3045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839080" y="3962160"/>
            <a:ext cx="0" cy="1523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3680" y="284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تطبيق على تفرقة المؤثر 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264c"/>
                </a:solidFill>
                <a:latin typeface="Times New Roman"/>
                <a:cs typeface="Mudir MT"/>
              </a:rPr>
              <a:t>التحويل الى رموز لإعادة الاسترجاع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طريقة التى يتحول بها البرنامج الى رموز يمكن ان يساعد فى تقديمها الى الذاكرة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مثال , الأسماء المعروفة التى تكون سهلة للرؤية ( مثال : المنظفات او العربات و التى تكون محفوظة فى الذاكرة اكثر من الأسماء 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2608200"/>
            <a:ext cx="1749240" cy="1735200"/>
          </a:xfrm>
          <a:prstGeom prst="ellipse">
            <a:avLst/>
          </a:prstGeom>
          <a:solidFill>
            <a:srgbClr val="ebd7ff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02e72"/>
                </a:solidFill>
                <a:latin typeface="Comic Sans MS"/>
                <a:cs typeface="Andalus"/>
              </a:rPr>
              <a:t>المدخلات الخارجية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33520" y="3571920"/>
            <a:ext cx="559080" cy="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2600" y="2286000"/>
            <a:ext cx="1539720" cy="2057400"/>
          </a:xfrm>
          <a:prstGeom prst="rect">
            <a:avLst/>
          </a:prstGeom>
          <a:solidFill>
            <a:srgbClr val="ebd7ff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02e72"/>
                </a:solidFill>
                <a:latin typeface="Comic Sans MS"/>
                <a:cs typeface="Andalus"/>
              </a:rPr>
              <a:t>التخويل  الى رمز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02e72"/>
                </a:solidFill>
                <a:latin typeface="Comic Sans MS"/>
                <a:cs typeface="Andalus"/>
              </a:rPr>
              <a:t>المعلومات توضع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02e72"/>
                </a:solidFill>
                <a:latin typeface="Comic Sans MS"/>
                <a:ea typeface="Andalus"/>
              </a:rPr>
              <a:t> فى الذاكرة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60880" y="2286000"/>
            <a:ext cx="1540080" cy="2057400"/>
          </a:xfrm>
          <a:prstGeom prst="rect">
            <a:avLst/>
          </a:prstGeom>
          <a:solidFill>
            <a:srgbClr val="ebd7ff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02e72"/>
                </a:solidFill>
                <a:latin typeface="Comic Sans MS"/>
                <a:cs typeface="Andalus"/>
              </a:rPr>
              <a:t>تخزين المعلومات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02e72"/>
                </a:solidFill>
                <a:latin typeface="Comic Sans MS"/>
                <a:ea typeface="Andalus"/>
              </a:rPr>
              <a:t> فى الذاكرة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29520" y="2286000"/>
            <a:ext cx="1609560" cy="2057400"/>
          </a:xfrm>
          <a:prstGeom prst="rect">
            <a:avLst/>
          </a:prstGeom>
          <a:solidFill>
            <a:srgbClr val="ebd7ff"/>
          </a:solidFill>
          <a:ln w="9360">
            <a:solidFill>
              <a:srgbClr val="4d4d4d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02e72"/>
                </a:solidFill>
                <a:latin typeface="Comic Sans MS"/>
                <a:cs typeface="Andalus"/>
              </a:rPr>
              <a:t>المعلومات المخزنة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02e72"/>
                </a:solidFill>
                <a:latin typeface="Comic Sans MS"/>
                <a:ea typeface="Andalus"/>
              </a:rPr>
              <a:t> فى الذاكرة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02e72"/>
                </a:solidFill>
                <a:latin typeface="Comic Sans MS"/>
                <a:ea typeface="Andalus"/>
              </a:rPr>
              <a:t> يتم استرجاعها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02e72"/>
                </a:solidFill>
                <a:latin typeface="Comic Sans MS"/>
                <a:cs typeface="Andalus"/>
              </a:rPr>
              <a:t>عند الحاجة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02160" y="3571920"/>
            <a:ext cx="558720" cy="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70800" y="3571920"/>
            <a:ext cx="558720" cy="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تخزين المعلومات فى الذاكرة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مستويات المختلفة التى تنشط بعض المؤثرات فى الذاكرة اكثر من الآخرين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هذه الطرق تسمى النشاط لنموذج الذاكرة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كلما كان المجهود المبذول لتنفيذ المعلومات اكبر كلما تم احلال المعلومات فى الذاكرة ذات المدى  الطويل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عملية التعلم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تعلم يشير الى تغيير دائم فى السلوك الذى يسبب الخبرة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من الممكن ان يكون لهذه الخبرة تأثير مباشر على المتعلم, و يمكن التعلم عن طريق الأحداث البديلة التى تأثر على الآخرين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666880" y="4495680"/>
            <a:ext cx="1940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مستويات المعرفة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معرفة تكون مكودة فى مختلف المستويات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يمكن ضمها فى وحدة كبيرة تسمى مقترح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و المقترح يربط نقطة لقاء ليكون معنى معقد , و التى تؤدى الى مقدار وافر من المعلومات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85800" y="4419720"/>
            <a:ext cx="20098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العوامل المؤثرة على الاسترجاع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حالة الأقسام المسترجعة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تالف و اعادة الاستدعاء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هدوء و اعادة الاسترجاع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شارة شخصية عكس اشارة صورية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33520" y="3429000"/>
            <a:ext cx="19666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العوامل المؤثرة على النسيان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مسئولين عن التسويق يتمنون ان لا ينسى المستهلك لا منتجاتهم . النسيان هى مشكلة المسوقين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457440" y="4038480"/>
            <a:ext cx="2227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المنتج كعلامة للذاكرة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منتجات تكون هامة كالعلامات عندما يهددنا الماضى و عندما يكون المستهلك الحالى منافس ابعض التغيرات فى الأدوار مثل التخلى عن المنتج و الحركة و التخرج و المنتجات التى تخدم كنموذج للذاكرة الخارجية للمستهلكين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قوة الحنين الى الوطن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حنين الى الوطن يوصف كعاطفة حلوة و مرة , حيث ان الماضى ينظر كلا من السعادة و البقاء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الذاكرة و تفضيل الحنين الى الوطن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بعض البحوث تأكد ان اذواق للأفراد مثال المنتجات و الأفلام و الملابس يختلف باختلاف الفترة من العمر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273480" y="4343400"/>
            <a:ext cx="28224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قياس الذاكرة للإعلان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تمييز عكس اعادة الاسترجاع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مؤشر واحد للإعلان الجيد هو الانطباع للمستهلك . و لكن كيف يكون ذلك معرف و مقاس فهناك عاملان للقياس هما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ea typeface="Andalus"/>
              </a:rPr>
              <a:t> التمييز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ea typeface="Andalus"/>
              </a:rPr>
              <a:t> و اعادة الاسترجاع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r" rtl="1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اختبار القوة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هذا الاختبار يقدم نتائج ارقام متوقعة للمستهلك تضم بعض المستويات مثل الملاحظات و الروابط و هى ايضا تسجل نتائج المخرجات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191120" y="3429000"/>
            <a:ext cx="13968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نتائج الامتحان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نتائج القياس للاجهزة ليست بالضرورة تابعة لما تم قياسه ولكن مسندة الى شى ادوات اخرى. 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33520" y="5029200"/>
            <a:ext cx="1085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نسيان الذاكرة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أفراد ميالين الى النسيان الغير مقصود . فالمشاكل تتضمن حذف ووضع المعدلات القابلة لجعل الاشياء طبيعية وعدم تقدير الحالات القصوى والتداخل (التذكر الغير صحيح بالنسبة للوقت او الزمن)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733920" y="4800600"/>
            <a:ext cx="16063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نظريات التعلم السلوكى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نظرية التعلم السلوكى يفترض ان التعليم يتم كنتيجة الاستجابة للأحداث الخارجية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علماء النفس يعتبروا العقل كعلبة سوداء , و  يؤكدوا على هيئة السلوك الملحوظ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" y="4572000"/>
            <a:ext cx="7848360" cy="1828800"/>
            <a:chOff x="685800" y="4572000"/>
            <a:chExt cx="7848360" cy="1828800"/>
          </a:xfrm>
        </p:grpSpPr>
        <p:sp>
          <p:nvSpPr>
            <p:cNvPr id="100" name=""/>
            <p:cNvSpPr/>
            <p:nvPr/>
          </p:nvSpPr>
          <p:spPr>
            <a:xfrm>
              <a:off x="3524400" y="4572000"/>
              <a:ext cx="2171160" cy="1828800"/>
            </a:xfrm>
            <a:prstGeom prst="rect">
              <a:avLst/>
            </a:prstGeom>
            <a:solidFill>
              <a:srgbClr val="8db0d7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fffe9"/>
                  </a:solidFill>
                  <a:latin typeface="Comic Sans MS"/>
                  <a:cs typeface="Andalus"/>
                </a:rPr>
                <a:t>المستهلك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95560" y="5562720"/>
              <a:ext cx="83448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605680" y="5562720"/>
              <a:ext cx="834840" cy="0"/>
            </a:xfrm>
            <a:prstGeom prst="line">
              <a:avLst/>
            </a:prstGeom>
            <a:ln w="38160">
              <a:solidFill>
                <a:srgbClr val="00264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5181840"/>
              <a:ext cx="2003760" cy="68580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264c"/>
                  </a:solidFill>
                  <a:latin typeface="Comic Sans MS"/>
                  <a:cs typeface="Andalus"/>
                </a:rPr>
                <a:t>الاستجابة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30400" y="5181840"/>
              <a:ext cx="2003760" cy="68580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  <a:effectLst>
              <a:outerShdw dist="107932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264c"/>
                  </a:solidFill>
                  <a:latin typeface="Comic Sans MS"/>
                  <a:cs typeface="Andalus"/>
                </a:rPr>
                <a:t>المؤثر</a:t>
              </a: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ذاكرة الاحداث عكس ذاكرة المشاعر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بعض الانتقادات دارت حول المقاييس الغير كافية عن تأثير الدعاية التى تهدف الى الوصول الى المشاعر حيث الاهداف تكون الاشارة القوية للعواطف اكثر منها اثبات الفوائد المادية للمنتج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286000" y="3998880"/>
            <a:ext cx="220968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التكيف الكلاسيكى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يحدث التكييف الكلاسيكى عندما يكون المؤثر مستنبط للاستجابة المزدوجة مع مؤثر اخر لا يستنبط  الاستجابة من نفسه مبدئيا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62120" y="3828960"/>
            <a:ext cx="1763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التكيف الكلاسيكي</a:t>
            </a:r>
            <a:r>
              <a:rPr b="1" lang="ar-SA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64c"/>
                </a:solidFill>
                <a:uFillTx/>
                <a:latin typeface="Times New Roman"/>
                <a:cs typeface="Andalus"/>
              </a:rPr>
              <a:t>التكيف الكلاسيكى ينقسم الى 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تعميم المؤثر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تفرقة المؤثر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3429000" y="2492280"/>
            <a:ext cx="106668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تعميم المؤثر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7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يشير الى قابلية  المؤثر المشابه للتكيف الكلاسيكى ليثير استجابة مشابهة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938320" y="4038480"/>
            <a:ext cx="32655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تفرقة المؤثر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تحدث تفرقة المؤثر عندما لايتبع  مشابهة لتكيف الكلاسيكى لايتبع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Andalus"/>
              </a:rPr>
              <a:t>CS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Andalus"/>
              </a:rPr>
              <a:t> </a:t>
            </a: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مؤثر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Andalus"/>
              </a:rPr>
              <a:t>uc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124080" y="3200400"/>
            <a:ext cx="30290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التكيف الفعال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تكيف الفاعل يحدث عندما يتعلم الفرد كيف يكون السلوك الذى ينتج مخرجات ايجابية ويتجنب المخرجات السلبية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124080" y="4267080"/>
            <a:ext cx="2330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33"/>
                </a:solidFill>
                <a:latin typeface="Times New Roman"/>
                <a:cs typeface="Mudir MT"/>
              </a:rPr>
              <a:t>التكيف الفعال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ينقسم التكيف الفعال الى ثلاث نقاط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قوى الإيجابية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قوى السلبية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64c"/>
                </a:solidFill>
                <a:latin typeface="Times New Roman"/>
                <a:cs typeface="Andalus"/>
              </a:rPr>
              <a:t>العقاب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720720" y="2971800"/>
            <a:ext cx="18702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8T09:28:29Z</dcterms:created>
  <dc:creator>marmar</dc:creator>
  <dc:description/>
  <dc:language>en-US</dc:language>
  <cp:lastModifiedBy>dell</cp:lastModifiedBy>
  <dcterms:modified xsi:type="dcterms:W3CDTF">2006-08-01T10:01:57Z</dcterms:modified>
  <cp:revision>92</cp:revision>
  <dc:subject/>
  <dc:title>PowerPoint Presentation</dc:title>
</cp:coreProperties>
</file>