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jpeg" ContentType="image/jpeg"/>
  <Override PartName="/ppt/media/image8.gif" ContentType="image/gif"/>
  <Override PartName="/ppt/media/image19.wmf" ContentType="image/x-wmf"/>
  <Override PartName="/ppt/media/image12.gif" ContentType="image/gif"/>
  <Override PartName="/ppt/media/image3.jpeg" ContentType="image/jpeg"/>
  <Override PartName="/ppt/media/image7.gif" ContentType="image/gif"/>
  <Override PartName="/ppt/media/image18.wmf" ContentType="image/x-wmf"/>
  <Override PartName="/ppt/media/image20.png" ContentType="image/pn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B66-33D4-4345-BFDC-2D8F1E31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16C-93FA-4783-9504-9E751172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0A4-D341-4107-8866-65FDEE4D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E92-4ACF-4BE2-97C4-97799E30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952-6604-4A4D-811D-198E6CDE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49B-0827-49A2-BAE3-3755B886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C22-568A-48BC-88BA-FF00557C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7BE-288F-4135-96B8-34D5707D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BBA-7FE1-4493-A6CE-13C3202B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041-5130-4A45-A07F-926A7E78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C62-DA73-464F-9A79-700D116B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1BC-E6B5-4CB8-BB7A-3F50D65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D6F7-1B08-4CA6-A504-E875F376D4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hyperlink" Target="file:///Main.pp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60199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11640" y="5013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3421080"/>
            <a:ext cx="6624720" cy="764280"/>
          </a:xfrm>
          <a:prstGeom prst="rect">
            <a:avLst/>
          </a:prstGeom>
          <a:solidFill>
            <a:srgbClr val="9966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Hesham Gornata"/>
              </a:rPr>
              <a:t>مهارات الاتصال ( الحوار 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4956120"/>
            <a:ext cx="3922920" cy="2297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شعبة البرامج العامة و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16360" y="1511280"/>
            <a:ext cx="5322600" cy="1082520"/>
            <a:chOff x="2916360" y="1511280"/>
            <a:chExt cx="5322600" cy="1082520"/>
          </a:xfrm>
        </p:grpSpPr>
        <p:sp>
          <p:nvSpPr>
            <p:cNvPr id="108" name=""/>
            <p:cNvSpPr/>
            <p:nvPr/>
          </p:nvSpPr>
          <p:spPr>
            <a:xfrm>
              <a:off x="2916360" y="1511280"/>
              <a:ext cx="5322600" cy="108252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57080" y="1684080"/>
              <a:ext cx="192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تجاه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16360" y="2732040"/>
            <a:ext cx="5322600" cy="1082880"/>
            <a:chOff x="2916360" y="2732040"/>
            <a:chExt cx="5322600" cy="1082880"/>
          </a:xfrm>
        </p:grpSpPr>
        <p:sp>
          <p:nvSpPr>
            <p:cNvPr id="111" name=""/>
            <p:cNvSpPr/>
            <p:nvPr/>
          </p:nvSpPr>
          <p:spPr>
            <a:xfrm>
              <a:off x="2916360" y="2732040"/>
              <a:ext cx="5322600" cy="108288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5960" y="2905200"/>
              <a:ext cx="40122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2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تظاهر بالاستماع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916360" y="3959280"/>
            <a:ext cx="5322600" cy="1082520"/>
            <a:chOff x="2916360" y="3959280"/>
            <a:chExt cx="5322600" cy="1082520"/>
          </a:xfrm>
        </p:grpSpPr>
        <p:sp>
          <p:nvSpPr>
            <p:cNvPr id="114" name=""/>
            <p:cNvSpPr/>
            <p:nvPr/>
          </p:nvSpPr>
          <p:spPr>
            <a:xfrm>
              <a:off x="2916360" y="3959280"/>
              <a:ext cx="5322600" cy="108252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1000" y="4097520"/>
              <a:ext cx="36615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1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استماع الجزئي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16360" y="5181480"/>
            <a:ext cx="5322600" cy="1082880"/>
            <a:chOff x="2916360" y="5181480"/>
            <a:chExt cx="5322600" cy="1082880"/>
          </a:xfrm>
        </p:grpSpPr>
        <p:sp>
          <p:nvSpPr>
            <p:cNvPr id="117" name=""/>
            <p:cNvSpPr/>
            <p:nvPr/>
          </p:nvSpPr>
          <p:spPr>
            <a:xfrm>
              <a:off x="2916360" y="5181480"/>
              <a:ext cx="5322600" cy="108288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4160" y="5327640"/>
              <a:ext cx="358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استماع بانتبا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388360" y="165564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288936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410364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8360" y="534672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920" y="1328760"/>
            <a:ext cx="4498920" cy="5224320"/>
            <a:chOff x="34920" y="1328760"/>
            <a:chExt cx="4498920" cy="5224320"/>
          </a:xfrm>
        </p:grpSpPr>
        <p:grpSp>
          <p:nvGrpSpPr>
            <p:cNvPr id="124" name=""/>
            <p:cNvGrpSpPr/>
            <p:nvPr/>
          </p:nvGrpSpPr>
          <p:grpSpPr>
            <a:xfrm>
              <a:off x="34920" y="1328760"/>
              <a:ext cx="4498920" cy="5224320"/>
              <a:chOff x="34920" y="1328760"/>
              <a:chExt cx="4498920" cy="5224320"/>
            </a:xfrm>
          </p:grpSpPr>
          <p:sp>
            <p:nvSpPr>
              <p:cNvPr id="125" name=""/>
              <p:cNvSpPr/>
              <p:nvPr/>
            </p:nvSpPr>
            <p:spPr>
              <a:xfrm>
                <a:off x="34920" y="1328760"/>
                <a:ext cx="4498920" cy="522432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52156"/>
                    </a:srgbClr>
                  </a:gs>
                  <a:gs pos="100000">
                    <a:srgbClr val="274e63">
                      <a:alpha val="27058"/>
                    </a:srgbClr>
                  </a:gs>
                </a:gsLst>
                <a:path path="rect">
                  <a:fillToRect l="50000" t="50000" r="50000" b="50000"/>
                </a:path>
              </a:gra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2680" y="1437480"/>
                <a:ext cx="4340520" cy="500760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52156"/>
                    </a:srgbClr>
                  </a:gs>
                  <a:gs pos="100000">
                    <a:srgbClr val="274e63">
                      <a:alpha val="27058"/>
                    </a:srgbClr>
                  </a:gs>
                </a:gsLst>
                <a:path path="rect">
                  <a:fillToRect l="50000" t="50000" r="50000" b="50000"/>
                </a:path>
              </a:gra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573120" y="1800360"/>
              <a:ext cx="3240000" cy="42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990720" y="1371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L-Mateen"/>
              </a:rPr>
              <a:t>  درجات الاستما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833560"/>
            <a:ext cx="365760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Times New Roman"/>
                <a:ea typeface="AL-Mateen"/>
              </a:rPr>
              <a:t> تمرين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6280" y="1371600"/>
            <a:ext cx="297180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L-Mateen"/>
              </a:rPr>
              <a:t> أنواع حو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533680"/>
            <a:ext cx="4267080" cy="28634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عدمي التعجيز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حوار المناورة (الكر والف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سلطوي (اسمع واستجب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سطحي (لا تقترب من الأعماق فتغر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حوار الطريق المسدود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(لا داعي للحوار فلنتف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2533680"/>
            <a:ext cx="4267080" cy="316836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الحوار الإلغائي أو التسفيهي (كل ما عداي خطأ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حوار البرج العاج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الحوار الموافق (معك على طول الخ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الحوار المعاكس (عكسك دائما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حوار العدوان السلبي (صمت العناد والتجاه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380200">
            <a:off x="1047240" y="5200560"/>
            <a:ext cx="1409760" cy="1219320"/>
          </a:xfrm>
          <a:custGeom>
            <a:avLst/>
            <a:gdLst>
              <a:gd name="textAreaLeft" fmla="*/ 469800 w 1409760"/>
              <a:gd name="textAreaRight" fmla="*/ 1207440 w 1409760"/>
              <a:gd name="textAreaTop" fmla="*/ 828360 h 1219320"/>
              <a:gd name="textAreaBottom" fmla="*/ 1044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7771"/>
                </a:moveTo>
                <a:lnTo>
                  <a:pt x="14671" y="17771"/>
                </a:lnTo>
                <a:lnTo>
                  <a:pt x="14671" y="7200"/>
                </a:lnTo>
                <a:lnTo>
                  <a:pt x="11571" y="7200"/>
                </a:lnTo>
                <a:lnTo>
                  <a:pt x="1658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rot="16180800">
            <a:off x="6532920" y="4971960"/>
            <a:ext cx="1409760" cy="1676520"/>
          </a:xfrm>
          <a:custGeom>
            <a:avLst/>
            <a:gdLst>
              <a:gd name="textAreaLeft" fmla="*/ 470160 w 1409760"/>
              <a:gd name="textAreaRight" fmla="*/ 1207800 w 1409760"/>
              <a:gd name="textAreaTop" fmla="*/ 1138680 h 1676520"/>
              <a:gd name="textAreaBottom" fmla="*/ 14360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7771"/>
                </a:moveTo>
                <a:lnTo>
                  <a:pt x="14671" y="17771"/>
                </a:lnTo>
                <a:lnTo>
                  <a:pt x="14671" y="7200"/>
                </a:lnTo>
                <a:lnTo>
                  <a:pt x="11571" y="7200"/>
                </a:lnTo>
                <a:lnTo>
                  <a:pt x="1658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410080"/>
            <a:ext cx="3809880" cy="10670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5562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 حوارات س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295280"/>
            <a:ext cx="8839080" cy="9471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  <a:cs typeface="AL-Mateen"/>
              </a:rPr>
              <a:t>إذاً فما هي يا ترى مواصف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  <a:cs typeface="AL-Mateen"/>
              </a:rPr>
              <a:t>الحوار الإيجا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  <a:cs typeface="AL-Mateen"/>
              </a:rPr>
              <a:t>الذي نسعى لترسيخه بيننا ؟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989000"/>
            <a:ext cx="86868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حوار الإيجابي الصحي هو الحوار الموضوعي الذي يرى الحسنات والسلبيات في ذات الوق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يرى العقبات ويرى أيضا إمكانيات التغلب عليها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متفائل (في غير مبالغة ساذج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صادق عميق وواضح الكلمات ومدلولات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الحوار المتكافئ الذي يعطى لكلا الطرفين فرصة التعبير ، ويحترم الرأي الآخر ويعرف حتمية الخلاف في الرأي بين البشر وآداب الخلاف وتقبله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واقعي يتصل إيجابيا بالحياة اليومية الواقعية واتصاله هذا ليس اتصال قبول ورضوخ للأمر الواقع بل اتصال تفهم وتغيير وإصلاح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موافقة حين تكون الموافقة هي الصواب ومخالفة حين تكون المخالفة هي الصواب فالهدف النهائي له هو إثبات الحقيقة حيث هي لا حيث نراها بأهوائنا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حوار تسوده المحبة والمسؤولية والرعاية وإنكار الذات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يسمح للآخر يقول رأيه مهما كان الفرق بين الطرف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4987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2590920"/>
            <a:ext cx="49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نتمنى من الله العزيز القدير أن نك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قد وفقنا في هذا الجان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411012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L-Mateen"/>
              </a:rPr>
              <a:t> أخو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181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reetag@hotmail.com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"/>
          </p:cNvPr>
          <p:cNvSpPr/>
          <p:nvPr/>
        </p:nvSpPr>
        <p:spPr>
          <a:xfrm>
            <a:off x="838080" y="5410080"/>
            <a:ext cx="160020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4000" y="2946240"/>
            <a:ext cx="777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524720" y="1413000"/>
            <a:ext cx="1295280" cy="194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50864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العملية التي يتم بها نقل المعلومات والمعاني والأفكار من شخص إلى آخر أو آخرين بصورة تحقق الأهداف المنشودة في المنشأة أو في أي جماعة من الناس ذات نشاط اجتماع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2399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L-Mateen"/>
              </a:rPr>
              <a:t> ما هو الاتصال ؟؟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429000"/>
            <a:ext cx="8381880" cy="762120"/>
          </a:xfrm>
          <a:custGeom>
            <a:avLst/>
            <a:gdLst>
              <a:gd name="textAreaLeft" fmla="*/ 1635120 w 8381880"/>
              <a:gd name="textAreaRight" fmla="*/ 5908680 w 8381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28" hR="21600" stAng="10800000" swAng="-5400000"/>
                <a:lnTo>
                  <a:pt x="11013" y="21600"/>
                </a:lnTo>
                <a:arcTo wR="8428" hR="21600" stAng="5400000" swAng="-1806140"/>
                <a:lnTo>
                  <a:pt x="20164" y="12060"/>
                </a:lnTo>
                <a:lnTo>
                  <a:pt x="18148" y="0"/>
                </a:lnTo>
                <a:lnTo>
                  <a:pt x="13259" y="12060"/>
                </a:lnTo>
                <a:lnTo>
                  <a:pt x="15419" y="12060"/>
                </a:lnTo>
                <a:arcTo wR="8428" hR="21600" stAng="3593860" swAng="1598224"/>
                <a:lnTo>
                  <a:pt x="9720" y="21344"/>
                </a:lnTo>
                <a:arcTo wR="8428" hR="21600" stAng="5607917" swAng="5192083"/>
                <a:close/>
              </a:path>
              <a:path fill="darkenLess" w="21600" h="21600">
                <a:moveTo>
                  <a:pt x="0" y="0"/>
                </a:moveTo>
                <a:arcTo wR="8428" hR="21600" stAng="10800000" swAng="-5400000"/>
                <a:lnTo>
                  <a:pt x="11013" y="21600"/>
                </a:lnTo>
                <a:arcTo wR="8428" hR="21600" stAng="5400000" swAng="207917"/>
                <a:lnTo>
                  <a:pt x="9720" y="21344"/>
                </a:lnTo>
                <a:arcTo wR="8428" hR="21600" stAng="5607917" swAng="5192083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295280"/>
            <a:ext cx="883944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72280" y="1944720"/>
            <a:ext cx="316224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" y="1996920"/>
            <a:ext cx="3048120" cy="2862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1371600"/>
            <a:ext cx="914400" cy="4724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2920" y="3357720"/>
            <a:ext cx="1152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معن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4000" y="2946240"/>
            <a:ext cx="777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5020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821120"/>
            <a:ext cx="143964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إزع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5734080"/>
            <a:ext cx="41752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تغذية راج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278136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781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مست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2924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قن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357720"/>
            <a:ext cx="187164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تشف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755600">
            <a:off x="285480" y="4425840"/>
            <a:ext cx="242892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303200">
            <a:off x="6843240" y="3781440"/>
            <a:ext cx="1276560" cy="2575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380360" y="335772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508720" y="3357720"/>
            <a:ext cx="187164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فك التشف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3640" y="3357720"/>
            <a:ext cx="1152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معن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050920" y="3357720"/>
            <a:ext cx="43200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 rot="4530000">
            <a:off x="2416680" y="3999600"/>
            <a:ext cx="1584360" cy="874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 rot="9986400">
            <a:off x="5073120" y="3921120"/>
            <a:ext cx="1508400" cy="1092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564000" y="3429000"/>
            <a:ext cx="36036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5224320" y="342900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108000" y="112536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7524720" y="1413000"/>
            <a:ext cx="1295280" cy="19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5480" y="1447920"/>
            <a:ext cx="33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0000"/>
                </a:solidFill>
                <a:latin typeface="Arial"/>
                <a:cs typeface="AL-Mateen"/>
              </a:rPr>
              <a:t>الاتصا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4920" y="2232000"/>
          <a:ext cx="5689440" cy="432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2232000"/>
                    <a:ext cx="56894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22200" y="124920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كتشف العالم الفرنسي البرت مهارابيان 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Albert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Meharabia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من جامعة هارفارد أن ( </a:t>
            </a: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AL-Mateen"/>
              </a:rPr>
              <a:t>9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% من عملية الاتصالات تكون غير ملفوظ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570880" y="28098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88000" y="2665440"/>
            <a:ext cx="3782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ateen"/>
              </a:rPr>
              <a:t>تعبيرات الجسم </a:t>
            </a:r>
            <a:r>
              <a:rPr b="0" lang="en-US" sz="3800" spc="-1" strike="noStrike">
                <a:solidFill>
                  <a:srgbClr val="800000"/>
                </a:solidFill>
                <a:latin typeface="Arial"/>
                <a:ea typeface="AL-Mateen"/>
              </a:rPr>
              <a:t>5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8559720" y="36306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219640" y="3457440"/>
            <a:ext cx="33796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00"/>
                </a:solidFill>
                <a:latin typeface="Arial"/>
                <a:cs typeface="AL-Mateen"/>
              </a:rPr>
              <a:t>نبرة الصوت </a:t>
            </a:r>
            <a:r>
              <a:rPr b="0" lang="en-US" sz="3700" spc="-1" strike="noStrike">
                <a:solidFill>
                  <a:srgbClr val="800000"/>
                </a:solidFill>
                <a:latin typeface="Arial"/>
                <a:ea typeface="AL-Mateen"/>
              </a:rPr>
              <a:t>38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559720" y="44226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2000" y="4246560"/>
            <a:ext cx="258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الكلمات 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  <a:ea typeface="AL-Matee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1905120"/>
            <a:ext cx="75438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AL-Mateen"/>
              </a:rPr>
              <a:t>عناصر عملية الاتص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تكون عملية الاتصال من العناصر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مُرسِل أو المُصدِّ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رجمة وتسجيل الرسالة في شكل مفهو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رسالة موضوع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وسيلة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فهم الرسالة بواسطة الشخص الذي يستقبل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سترجاع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2171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09680"/>
            <a:ext cx="81536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عدم انتباه مستقبل الرسالة إلى محتوي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عدم وجود تفهم دقيق للمقصود من الرسالة سواء بواسطة المرسل إليه أو المص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استخدام كلمات في الرسالة لها دلالات ومعان مختلفة لأشخاص مختلف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ضغط الوقت لكل من المرسل أو المرسل إل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تأثير الحكم الشخصي لمستقبل الرسالة على نجاح عم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           الاتصا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2284560" cy="22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14479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L-Mateen"/>
              </a:rPr>
              <a:t> معوقات الاتصا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686800" cy="62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AL-Mateen"/>
              </a:rPr>
              <a:t>التغلب على معوقات الاتصا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قديم المعلومات بشكل يتفق ورغبات الشخص ،  فالشخص يقبل على المعلومات أو يعرض عنها ،  طبقا لما إذا كانت تتفق مع احتياجاته أم لا ،  وهذا يدعو الإدارة إلى تفهم تلك الحاجات والرغبات وتصميم وسائل الاتصال تبعا ل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قديم المعلومات في وحدات 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إتاحة الفرصة للشخص المرسل إليه المعلومات لأن يشرح وجهة نظره ف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المعلومات ورد الفعل نفسه-وذلك يهيئ لمرسل المعلومات الفرصة لكي يتأكد 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 أن المعني الذي يقصده هو بذاته المعنى الذي فهمه المرسل إلي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2158920" cy="2362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4648320"/>
            <a:ext cx="1371600" cy="16002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480" y="2664000"/>
            <a:ext cx="8915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جلوس فى مكان بعيد عن الضوضاء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نظر باهتمام إلى المتحدث ، وإبداء الرغبة فى مشاركته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تكيف ذهنيا مع سرعة المتحدث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دقة السمعية التى بدونها تتعطل جميع مهارات الاستماع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فسير ، والتمثيل اللذين عن طريقهما يفهم المستمع ما يقال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مييز بين الأصوات المتعددة ، والإيماءات المختلفة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مييز بين الأفكار الرئيسة ، والأفكار الثانوية فى الحديث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احتفاظ بالأفكار الرئيسة حية فى الذهن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6040" y="1523880"/>
            <a:ext cx="3460680" cy="1191240"/>
          </a:xfrm>
          <a:prstGeom prst="rect">
            <a:avLst/>
          </a:prstGeom>
          <a:solidFill>
            <a:srgbClr val="cc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MS Sans Serif"/>
                <a:cs typeface="AL-Mateen"/>
              </a:rPr>
              <a:t>شروط الاستماع ال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638360" cy="2666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8:10:32Z</dcterms:created>
  <dc:creator>111</dc:creator>
  <dc:description/>
  <dc:language>en-US</dc:language>
  <cp:lastModifiedBy>***</cp:lastModifiedBy>
  <dcterms:modified xsi:type="dcterms:W3CDTF">2005-06-20T11:08:29Z</dcterms:modified>
  <cp:revision>104</cp:revision>
  <dc:subject/>
  <dc:title>الشريحة 1</dc:title>
</cp:coreProperties>
</file>