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type.wav" ContentType="audio/x-wav"/>
  <Override PartName="/ppt/media/whoosh.wav" ContentType="audio/x-wav"/>
  <Override PartName="/ppt/media/carbrake.wav" ContentType="audio/x-wav"/>
  <Override PartName="/ppt/media/cashreg.wav" ContentType="audio/x-wav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63EE4-4B8F-4484-852A-099F4F47F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78776-8CBC-4041-956F-20E4F196D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72807-1234-401A-8D2E-5CEEFE11D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36C29-CF4A-4156-BE32-4CFFADA7C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99443-DDC1-46FF-9E2F-811DA8ABF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E54E4-B391-4B01-B9C5-61692F324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10AE4-26F3-44F4-B53B-0109DEE8C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F28A0-CBEA-4921-90DC-90239ED78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349D1-DC12-44F1-B24A-F613F8DBA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BEEB0-A3EE-409C-ABDC-F7F801783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C42FB-FFCD-4872-91C3-811C361A5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B1FEE-1099-4EF0-9B08-12CAE20F4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ececfe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5A8E5-7F1C-419C-8445-CD668E6AD0D6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dawahmemo.com/" TargetMode="External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audio" Target="../media/carbrake.wav"/><Relationship Id="rId2" Type="http://schemas.openxmlformats.org/officeDocument/2006/relationships/audio" Target="../media/carbrake.wav"/><Relationship Id="rId3" Type="http://schemas.openxmlformats.org/officeDocument/2006/relationships/audio" Target="../media/carbrake.wav"/><Relationship Id="rId4" Type="http://schemas.openxmlformats.org/officeDocument/2006/relationships/audio" Target="../media/carbrake.wav"/><Relationship Id="rId5" Type="http://schemas.openxmlformats.org/officeDocument/2006/relationships/audio" Target="../media/carbrake.wav"/><Relationship Id="rId6" Type="http://schemas.openxmlformats.org/officeDocument/2006/relationships/audio" Target="../media/carbrake.wav"/><Relationship Id="rId7" Type="http://schemas.openxmlformats.org/officeDocument/2006/relationships/audio" Target="../media/cashreg.wav"/><Relationship Id="rId8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audio" Target="../media/carbrake.wav"/><Relationship Id="rId2" Type="http://schemas.openxmlformats.org/officeDocument/2006/relationships/audio" Target="../media/carbrake.wav"/><Relationship Id="rId3" Type="http://schemas.openxmlformats.org/officeDocument/2006/relationships/audio" Target="../media/carbrake.wav"/><Relationship Id="rId4" Type="http://schemas.openxmlformats.org/officeDocument/2006/relationships/audio" Target="../media/carbrake.wav"/><Relationship Id="rId5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audio" Target="../media/carbrake.wav"/><Relationship Id="rId2" Type="http://schemas.openxmlformats.org/officeDocument/2006/relationships/audio" Target="../media/carbrake.wav"/><Relationship Id="rId3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audio" Target="../media/carbrake.wav"/><Relationship Id="rId2" Type="http://schemas.openxmlformats.org/officeDocument/2006/relationships/audio" Target="../media/carbrake.wav"/><Relationship Id="rId3" Type="http://schemas.openxmlformats.org/officeDocument/2006/relationships/audio" Target="../media/carbrake.wav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audio" Target="../media/carbrake.wav"/><Relationship Id="rId2" Type="http://schemas.openxmlformats.org/officeDocument/2006/relationships/audio" Target="../media/carbrake.wav"/><Relationship Id="rId3" Type="http://schemas.openxmlformats.org/officeDocument/2006/relationships/audio" Target="../media/carbrake.wav"/><Relationship Id="rId4" Type="http://schemas.openxmlformats.org/officeDocument/2006/relationships/audio" Target="../media/carbrake.wav"/><Relationship Id="rId5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audio" Target="../media/carbrake.wav"/><Relationship Id="rId2" Type="http://schemas.openxmlformats.org/officeDocument/2006/relationships/audio" Target="../media/carbrake.wav"/><Relationship Id="rId3" Type="http://schemas.openxmlformats.org/officeDocument/2006/relationships/audio" Target="../media/carbrake.wav"/><Relationship Id="rId4" Type="http://schemas.openxmlformats.org/officeDocument/2006/relationships/audio" Target="../media/carbrake.wav"/><Relationship Id="rId5" Type="http://schemas.openxmlformats.org/officeDocument/2006/relationships/audio" Target="../media/carbrake.wav"/><Relationship Id="rId6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ececfe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8800" spc="-1" strike="noStrike">
                <a:solidFill>
                  <a:srgbClr val="000000"/>
                </a:solidFill>
                <a:latin typeface="Times New Roman"/>
              </a:rPr>
              <a:t>مهارات الاتصال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مكوناته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مفاهيم عن الاتصال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مجالاته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التعريف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أهميته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العناصر المؤثرة في الاتصا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المعلومات المؤثرة في الاتصا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الاتصال مع الرئيس  - المرؤوس  - الزملا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900000" y="6021360"/>
            <a:ext cx="6840720" cy="4917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www.dawahmemo.com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المفكرة الدعوية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ececfe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أهمية الاتصال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المدراء الذين يجيدون الاتصال يحققون أهدافهم حيثما تكلموا أو كتبوا وأياً كان جمهوره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تجعلهم على صلة مستمرة برؤسائهم ومرؤوسيهم وغيره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يؤثر في الاتصالات النفسية والروح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التأثير في مناخ المنظمة لارتباطها بقضايا الروح المعنوية والحوافزوالعلاقات العام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ececfe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ابع - أهمية الاتصال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تحريك الجماعة نحو الهدف وبث روح المودة والثقة بينه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ستخدامه لتطبيق الوظائف الإدارية الأخرى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ضرورية لانسياب المعلومات في حركة مستمرة بين مستويات التنظيم وتحقيق أهدافها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ececfe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عنق زجاجة الاتصال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يعتمد المدير بصورة قوية على الاتصال لتحقيق أهداف المنظمة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ونظراً لأن المدير يعمل من خلال الآخرين فإن جميع نشاطات الإدارة تعتبر من خلال عنق زجاجة الاتصا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وهذا يتطلب استخدام الاتصال بفعالية حتى يضمن عملية إدارية فعالة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ececfe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ظومة الاتصال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مرسل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ترجمة الأفكار إلى معا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رسالة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تحويل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مستقبل             إفادة رجع الأث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75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75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8" dur="5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3" dur="500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8" dur="500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ececfe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طابق المعنى بين المرسل والمستقبل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0532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ستقب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إدراك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تفسي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صياغ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980720"/>
            <a:ext cx="2895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رس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دف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إدرا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صياغ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75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75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75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75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ececfe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عناصر المؤثرة في عملية الاتصال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مرسل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مستقب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رسال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قناة الاتصا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معوقات الاتصا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محركات والمؤثرات البيئ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ececfe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علومات المؤثرة في طرفي الاتصال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المرسل والمستقب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أهداف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اتجاهات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ذكا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الشخصية 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العمر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التعلي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الدوافع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التجارب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التحيزات والميو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الخبرات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المخاوف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الطموح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الذكريات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ececfe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اتصال بالرئيس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سعي لتوضيح الأهداف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توضيح الأدوار والمسئوليات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تحديد الأمور ( من سيقوم بالعمل ؟ ماذا؟ متى 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سؤال عن رأي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استماع بانتبا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ececfe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اتصال بالمرؤوس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Times New Roman"/>
              </a:rPr>
              <a:t>إيجاد سبل رسمية وغير رسمية لتبادل المعلوم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Times New Roman"/>
              </a:rPr>
              <a:t>التأكد من وضوح  الأهداف و الموضوعات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Times New Roman"/>
              </a:rPr>
              <a:t>إشراكهم في تحديد مهامه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Times New Roman"/>
              </a:rPr>
              <a:t>السماح بالتعبير عن آرائهم المؤثرة في عمله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Times New Roman"/>
              </a:rPr>
              <a:t>الانتباه إلى الصراعات أو سوء الفهم وإزالته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Times New Roman"/>
              </a:rPr>
              <a:t>الاستماع بانتباه والاستجابة بلط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Times New Roman"/>
              </a:rPr>
              <a:t>بيان التقويم المستم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ececfe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اتصال بالزمل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توضيح المسئوليات وتحديد نقاط التعار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تحديد المصادر التي تحتاجها للقيام بعمل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مناقشة بهدوء حين الاختلاف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تقديم المساعدة حين الحاجة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ececfe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Times New Roman"/>
              </a:rPr>
              <a:t>الاتصالات غير الرسمية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400" spc="-1" strike="noStrike">
                <a:solidFill>
                  <a:srgbClr val="000000"/>
                </a:solidFill>
                <a:latin typeface="Times New Roman"/>
              </a:rPr>
              <a:t>وسائل الاتصا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Times New Roman"/>
              </a:rPr>
              <a:t>الاتصالات غير اللفظية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400" spc="-1" strike="noStrike">
                <a:solidFill>
                  <a:srgbClr val="000000"/>
                </a:solidFill>
                <a:latin typeface="Times New Roman"/>
              </a:rPr>
              <a:t>تماري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Times New Roman"/>
              </a:rPr>
              <a:t>الاتصال بالهات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400" spc="-1" strike="noStrike">
                <a:solidFill>
                  <a:srgbClr val="000000"/>
                </a:solidFill>
                <a:latin typeface="Times New Roman"/>
              </a:rPr>
              <a:t>معوقات الاتصا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Times New Roman"/>
              </a:rPr>
              <a:t>مشكلات الاتصا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Times New Roman"/>
              </a:rPr>
              <a:t>وسائل لتحسين التأثير في الآخري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ececfe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هام الاتصال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نشر أهداف المنظمة وقيم فلسفته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إعلام الأفراد بخطط المنظمة وإمكاناتها وتطلعاته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 إبلاغ الأوامر للعاملي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تبادل التوقعات والمشورة ووجهات النظ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 إصدار التوجيهات والإرشادات لأداء العم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9" dur="75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16" dur="1" fill="hold"/>
                                  <p:tgtEl>
                                    <p:spTgt spid="8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ececfe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ابع - مهام الاتصال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تعريف مشكلات العم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تحديد مصادر البيانات اللازم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إبلاغ الأفراد بإنجازاته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نشر الأفكار الجديدة والاقتراحات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ececfe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اتصالات غير الرسمي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هي تلك الشبكة التي توجد بين العاملين ، وتتضمن معلومات عن الأفراد – الزملاء- أعضاء وجماعات العمل ومشكلاتهم ودوافعهم وإنجازاته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تتم خارج القنوات الرسمية المحددة للاتصا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تعتمد أساساً على مدى قوة العلاقات الشخصية التي تربط بين أجزاء التنظيم الإداري وبين أعضائه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ececfe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ابع - الاتصالات غير الرسمي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يلجأ إليها العاملون لتسهيل الأمور التنظيمية وتوفير الوقت في تبادل المعلومات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تقوية الروابط بين التنظيم الرسمي وغير الرسمي وتساعد على تحقيق أهداف العم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ececfe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وسائل الاتصال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اتصال الشخصي أو المباش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اتصال الكتاب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ececfe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أولاً – الاتصال الشخص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مميزاته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معرفة وجهات النظ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مناقشة البدائ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ضمان فهم الرسال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ececfe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أمثلة للاتصال الشخص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مقابلات الشخصية (اجتماعات دورية – مؤتمرات - لجان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شرائط الصوتية المسجل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وسائل الإعلام الصوتية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محادثات الهاتفية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ececfe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ثانياً- الاتصال الكتاب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مميزاته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 التأكيد على المعلومات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إمكانية الرجوع إلي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المتعارف عليه في المنظمات الحكومية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ececfe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أمثلة الاتصال الكتاب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مذكرات والخطابات المتبادل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أوامر المكتوبة والتعليمات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قارير الدور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شكاو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اجراءات التنظي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استبيانات واستقصاء الاتجاهات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ececfe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الاتصالات غيراللفظي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تمنحنا قدرة خاصة على فهم حقيقة ما يشعر به الآخ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قد تفوق المؤشرات غير اللفظية في مضمونها ما توحي به الكلمات المجردة  حيث يصعب تزييفها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ececfe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كونات الاتصال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يشمل ما يلي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الا ستماع 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 المكالمات الهاتف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الكلام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 استقبال الزوا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القراءة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الكتابة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ececfe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الاتصالات غيراللفظي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ويتمثل في اتخاذ الجسم لوضع معين ، والإتيان بحركات خاصة ، أو استخدام تعبيرات الوج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ececfe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أمثلة الاتصالات غير اللفظي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الصوت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الأكسسوارات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المستحضرا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السلو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المحيط(البيئة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المكا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الوقت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عيو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وجه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شع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جس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طريقة الوقو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إيماءات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لاب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3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3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3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3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3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3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3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3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3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3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3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3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3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3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3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3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ececfe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تعبيرات الجس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تعتمد قراءتك لتعبيرات الجسم ومؤشراته صورة أساسية على مهارات خاصة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كقوة الملاحظة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وسرعة البديهة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والقدرة على ربط الحديث بأصحاب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ececfe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مارين عن </a:t>
            </a:r>
            <a:br>
              <a:rPr sz="4400"/>
            </a:b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مواقف في الاتصال الشخص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تأمل هذه المواقف ثم اذكر المشاعر المحركة لها ؟ وماهي الآثار المترتبة عليها 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 - النظر بوضوح لساعة المعص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 – اللعب بساعة المعصم وتحريك اليد فوقه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 – الربت على ظهر الآخر أو على ذراعي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 – حك الذقن بالي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ececfe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ابع - تماري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 – سند الذقن بالي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- احتواء الوجه بإحدى اليدي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- القبضتان متماسكتان بشد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- الجلوس واليدان في وضع القبضتين على الركبتي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- الرجوع بالظهر للخلف على المقعد زتهعانق الساقي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ececfe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ابع - تماري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-الجلوس مع الانحناء للأمام وراحة اليد لأعلى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-الراحة للخلف في المقعد وتعانق الكعبي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-اللعب بالأصابع في أحد الأذني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13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- حك أو ملامسة الأنف بمفصل الأصبع للسباب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14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- حك أو هرش الرقبة براحة الي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ececfe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وسائل غير اللفظي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قد تكون أنجع وأسرع في إيصال الرسالة ولها آثار صادق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ومن الأمثلة ما يلي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العين : وتبين ما إذا كان الإنسان سعيداً أم حزيناً ، متيقظاً نشيطا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الوجه : التقطيب ، العبوس، الابتسام ، الحز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ececfe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الشعر : التسريحة واللون وهو يعبر عن قيم الشخص وعاداته ومركز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شكل الجسم : البدانة والنحافة ، الطول والقص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طريقة الوقوف : الاتكاء أو الوقوف منصبا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الإيحاءات : حركات اليدين أو العينين أو الرأس تستعمل للتأكيد أو النف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الملاب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ececfe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- الزينة والعطو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- ما يحمل في اليد : الحقيبة أو الجريدة أو المجل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-الصوت : نيرته وقوته، وتدفقه، وطريقة النطق والحدي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-اللمس والمصافح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-المكتب : طريقة ترتيبه ، حجمه ، موقعه في المؤسس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13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-القرب والبعد: المسافة الضيقة بين شخصين تدل على المودة غالبا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ececfe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اتصال بالهاتف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المزاي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الاستخدام الأمث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ececfe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فاهيم عن الاتصال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مهارات الاتصال هي مهارات مكتسبة وليست موروث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Times New Roman"/>
              </a:rPr>
              <a:t>افترض أن الرسالة التي سترسلها لن يحسن فهمها ، فيدفعك هذا للتفكير في الأسلوب والطريق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Times New Roman"/>
              </a:rPr>
              <a:t>اهتم بإفهام الآخرين لرسالتك حتى لا يساء فهمه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Times New Roman"/>
              </a:rPr>
              <a:t>معاني الكلمات الموجودة في أذهان الناس قد تختلف عما هو موجود في القواميس والمعاج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ececfe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استخدام الأمثل للهاتف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التأكد من فعالية استخدام الهاتف للموضوع وعد الحاج للمقابلة الشخصية أو الرسالة المكتوب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تحديد الوفت والتاريخ المناسب لإجراء المكالم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الاستحضار الذهني للطرف الآخ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تحديد مواضيع المكالم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استخدام أساليب لطيفة في المحادثة والاستفسار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تسجيل أهم النقاط بعد المكالمة للتنفي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ececfe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مل مع مكثري الكلام في الهاتف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إنهاء السؤال عن الصحة والأحوال الاجتماعية  بأسرع وقت وبالأسلوب المناس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إشعار الطرف الآخر بقصر وقت المحادثة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ألا يسمح للحديث بالخروج عن الموضوع الذي تم الاتصال من أجل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ececfe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عوقات الاتصال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عوقات الشخص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Times New Roman"/>
              </a:rPr>
              <a:t>ويقصد بها مجموعة المؤثرات التي ترجع إلى المرسل والمستقبل في عملية الاتصالات، وتحدث فيها أثراً عكسياً 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ومن أسبابها ما يلي 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الفروق الفردية : التي تجعل الأفراد يختلفون في حكمهم وفي عواطفهم ، وفي مدى فهمهم للاتصال والاستجابة ل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ececfe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تباين الإدراك لدى الأفراد واختلاف فهمهم للأمور ، وعدم تفسيرهم للمواقف تفسيراً سليماً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ضعف الثقة بينهم مما يؤدي إلى عدم تعاونهم، وبالتالي حجب المعلومات عن بعضهم البعض مما يعقد عملية الاتصالات ويحد من فاعليته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ececfe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عوقات التنظيم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Times New Roman"/>
              </a:rPr>
              <a:t>وترجع أساساً إلى عدم وجود هيكل تنظيمي يحدد بوضوح مراكز الاتصال وخطوط السلطة الرسمية في المنظمة ، ومن أسباب هذه المعوق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الاعتماد على الاتصال غير الرسمي الذي لا يتفق أحياناً في  أهدافه مع الأهداف التنظيم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ececfe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التخصص ( وهو أحد أسس التنظيم ) يعوق الاتصال في الحالات التي يشكل فيها الفنيون والمتخصصون جماعات متباينة لكل منها لغتها الخاصة وأهدافها الخاص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Times New Roman"/>
              </a:rPr>
              <a:t>وتكمن الصعوبة من حيث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Times New Roman"/>
              </a:rPr>
              <a:t>أ – اختلاف لغة التفاهم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Times New Roman"/>
              </a:rPr>
              <a:t>ب – ميل الفرد المتخصص إلى التحيز لتخصصه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ececfe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عدم وجود سياسة واضحة لدى العاملين في المنظمة تعبر عن نوايا الإدارة العليا تجاه الاتصال، أو قصور هذه السياس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عدم تحديد الوسائل التي يقوم عليها نظام الاتصا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الاعتماد الزائد على اللجان( في كل صغيرة وكبيرة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عدم وجود وحدة تنظيمية لجمع ونشر البيانات والمعلوم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عدم الاستقرار التنظيم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ececfe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شكلات الاتصال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تؤدي هذه المشكلات إلى  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تقليل فاعلية الاتصا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تعطيل أهداف الفر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تعطيل أهداف الجماعات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3" dur="3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8" dur="3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3" dur="30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8" dur="300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ececfe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أولاً – مشكلات لغوي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وتختص بالرموز والمعاني واستخداماتها والتعرف عليها ومدى فهم الأفراد لها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ececfe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ثانياً – مشكلات ثقافي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وتتعلق بما يلي  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البعد الاجتماعي ، القيم والأعراف والتقالي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في المفاهيم السائدة في المجتمع وفي أجزائه المختلف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المدينة والقر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العائلات والمؤسسات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جماعات الأصدقاء وفرق العم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ececfe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ابع - مفاهي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Times New Roman"/>
              </a:rPr>
              <a:t>المعنى الذي يصل إلى الناس ينتج عن الطريقة التي نتحدث بها أكثر مما ينتج عن الأشياء التي نقولها ( نبرة الصوت ، لغة الحركات ،.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Times New Roman"/>
              </a:rPr>
              <a:t>هناك رسائل ( إيحاءات تصدر من الشخص دون رغبته يفهمها الآخر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7%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من المعلومات المخزونة في عقول الناس تدخل عن طريق عيونه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Times New Roman"/>
              </a:rPr>
              <a:t>الاتصال عملية معقدة ، مستمرة وديناميكية متغيرة ، ولابد من تطويرها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ececfe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ثالثاً – مشكلات سلوكية</a:t>
            </a:r>
            <a:br>
              <a:rPr sz="4400"/>
            </a:br>
            <a:r>
              <a:rPr b="0" lang="hi-IN" sz="2000" spc="-1" strike="noStrike">
                <a:solidFill>
                  <a:srgbClr val="000000"/>
                </a:solidFill>
                <a:latin typeface="Times New Roman"/>
              </a:rPr>
              <a:t>وتتعلق بالجوانب النفسية للفرد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-36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Times New Roman"/>
              </a:rPr>
              <a:t>الحالة المزاجية والعاطفية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400" spc="-1" strike="noStrike">
                <a:solidFill>
                  <a:srgbClr val="000000"/>
                </a:solidFill>
                <a:latin typeface="Times New Roman"/>
              </a:rPr>
              <a:t>قدرة الفرد على التركي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Times New Roman"/>
              </a:rPr>
              <a:t>درجة الذكا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400" spc="-1" strike="noStrike">
                <a:solidFill>
                  <a:srgbClr val="000000"/>
                </a:solidFill>
                <a:latin typeface="Times New Roman"/>
              </a:rPr>
              <a:t>حدة الذاكرة وضعفه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Times New Roman"/>
              </a:rPr>
              <a:t>التحيز والأحكام المسبقة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400" spc="-1" strike="noStrike">
                <a:solidFill>
                  <a:srgbClr val="000000"/>
                </a:solidFill>
                <a:latin typeface="Times New Roman"/>
              </a:rPr>
              <a:t>الإدرا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Times New Roman"/>
              </a:rPr>
              <a:t>التدخل الشخصي لتحريف الرسال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Times New Roman"/>
              </a:rPr>
              <a:t>درجة الموضوعية في تفكير الفر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Times New Roman"/>
              </a:rPr>
              <a:t>دوافع الأفراد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Times New Roman"/>
              </a:rPr>
              <a:t>نوع العلاقة بين الأفرا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Times New Roman"/>
              </a:rPr>
              <a:t>المشاعر والأحاسي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ececfe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رابعاً – مشكلات تنظيمية وإداري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المناخ التنظيمي السائ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درجة المركزية أو اللامركز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اللوائح والإجراءات وقواعد العم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منهجية حل المشكلات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الوسائل المعتمدة للاتصال ( اللجان ، التقارير،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مراكز المعلومات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أسلوب أداء العم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مدى السرعة أو البطء في الأدا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الأساليب الرقابية ودرجة رسميته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ececfe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خامساً – مشكلات فنية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وتتعلق بالجانب التكنولوجي للاتصال كالأدوات والأجهزة المستخدمة في تداول البيانات ونقلها ومعالجتها واسترجاعها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ececfe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سادساً – مشكلات بيئية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ضغوط التي تفرضها البيئة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كالمنافسة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والقوانين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ومشكلات المجتمع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ececfe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لمات تستخدم بحذ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صطلحات الخاص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تو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عبارات الأجنب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لهجة العام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فردات المستعملة في الشرك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كلمات المثير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كلمات الغامضة وغير الدقيق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كلمات المعق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5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4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9" dur="5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4" dur="5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9" dur="50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ececfe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وسائل لتحسين التأثير في الآخري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- اطلب رأي الآخري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 – لاحظ ردود الأفعا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 قم بتسجيل صوت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- سجل نفسك في شريط فدي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 – انظرإلى المرآ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 – استمع وانظر إلى إلقائ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ececfe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ابع - مفاهي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Times New Roman"/>
              </a:rPr>
              <a:t>دلت الدراسات أن المدراء يقضون غالبية وقتهم في إرسال الرسائل واستقبالها ، وتستهلك هذه الأعمال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% من أعمال المدرا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ececfe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جالات الاتصال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مع الأهل والأقارب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الرئيس مع المرؤس والعك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الزملاء في العمل والأقران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الأصدقاء والأصحا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التاجر مع الزبائن والعك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الطالب مع الأستاذ والعك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مع الأغنياء والوجهاء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الفقراء وأصحاب الحاجات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مع جمهور الناس وعامته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ececfe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تتضمن المهارة مايل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ختيار محتوى الحديث ومضمون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ستخدام  الصوت المنا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مراعاة الفروق الفردية بين الأفرا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ختيار الوقت المنا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معرفة الأثر الذي يتركه على الآخري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ececfe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تعريف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عملية مستمرة تتضمن قيام طرف بتحويل أفكار ومعلومات معينة إلى رسائل شفوية أو مكتوبة تنقل من خلال وسيلة اتصال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مهارة تبادل المعلومات والتفاهم مع شخص آخر أو آخري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3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" dur="3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4T13:51:10Z</dcterms:created>
  <dc:creator>الأهدل</dc:creator>
  <dc:description/>
  <dc:language>en-US</dc:language>
  <cp:lastModifiedBy>dell</cp:lastModifiedBy>
  <dcterms:modified xsi:type="dcterms:W3CDTF">2006-08-08T11:01:20Z</dcterms:modified>
  <cp:revision>15</cp:revision>
  <dc:subject/>
  <dc:title>مهارات الاتصال</dc:title>
</cp:coreProperties>
</file>