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gunshot.wav" ContentType="audio/x-wav"/>
  <Override PartName="/ppt/media/image24.wmf" ContentType="image/x-wmf"/>
  <Override PartName="/ppt/media/image23.png" ContentType="image/png"/>
  <Override PartName="/ppt/media/ricochet.wav" ContentType="audio/x-wav"/>
  <Override PartName="/ppt/media/image22.wmf" ContentType="image/x-wmf"/>
  <Override PartName="/ppt/media/image21.png" ContentType="image/png"/>
  <Override PartName="/ppt/media/image20.png" ContentType="image/png"/>
  <Override PartName="/ppt/media/image19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5.gif" ContentType="image/gif"/>
  <Override PartName="/ppt/media/CLICK5.WAV" ContentType="audio/x-wav"/>
  <Override PartName="/ppt/media/EXPLODE.WAV" ContentType="audio/x-wav"/>
  <Override PartName="/ppt/media/image27.wmf" ContentType="image/x-wmf"/>
  <Override PartName="/ppt/media/image10.gif" ContentType="image/gif"/>
  <Override PartName="/ppt/media/cashreg.wav" ContentType="audio/x-wav"/>
  <Override PartName="/ppt/media/image9.wmf" ContentType="image/x-wmf"/>
  <Override PartName="/ppt/media/image28.wmf" ContentType="image/x-wmf"/>
  <Override PartName="/ppt/media/image30.jpeg" ContentType="image/jpeg"/>
  <Override PartName="/ppt/media/image6.png" ContentType="image/png"/>
  <Override PartName="/ppt/media/camera.wav" ContentType="audio/x-wav"/>
  <Override PartName="/ppt/media/image31.gif" ContentType="image/gif"/>
  <Override PartName="/ppt/media/image7.png" ContentType="image/png"/>
  <Override PartName="/ppt/media/image15.wmf" ContentType="image/x-wmf"/>
  <Override PartName="/ppt/media/image29.png" ContentType="image/png"/>
  <Override PartName="/ppt/media/image32.wmf" ContentType="image/x-wmf"/>
  <Override PartName="/ppt/media/chimes.wav" ContentType="audio/x-wav"/>
  <Override PartName="/ppt/media/image13.gif" ContentType="image/gif"/>
  <Override PartName="/ppt/media/image16.png" ContentType="image/png"/>
  <Override PartName="/ppt/media/image8.gif" ContentType="image/gif"/>
  <Override PartName="/ppt/media/image18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12.wmf" ContentType="image/x-wmf"/>
  <Override PartName="/ppt/media/image1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670675" cy="9774238"/>
</p:presentation>
</file>

<file path=ppt/commentAuthors.xml><?xml version="1.0" encoding="utf-8"?>
<p:cmAuthorLst xmlns:p="http://schemas.openxmlformats.org/presentationml/2006/main">
  <p:cmAuthor id="0" name="1" initials="1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<Relationship Id="rId40" Type="http://schemas.openxmlformats.org/officeDocument/2006/relationships/commentAuthors" Target="commentAuthors.xml"/>
</Relationships>
</file>

<file path=ppt/comments/comment18.xml><?xml version="1.0" encoding="utf-8"?>
<p:cmLst xmlns:p="http://schemas.openxmlformats.org/presentationml/2006/main">
  <p:cm authorId="0" dt="2003-08-02T06:30:05.552000000" idx="1">
    <p:pos x="1432" y="3519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6670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1"/>
          </p:nvPr>
        </p:nvSpPr>
        <p:spPr>
          <a:xfrm>
            <a:off x="3779640" y="0"/>
            <a:ext cx="2889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Img"/>
          </p:nvPr>
        </p:nvSpPr>
        <p:spPr>
          <a:xfrm>
            <a:off x="890280" y="733320"/>
            <a:ext cx="48877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body"/>
          </p:nvPr>
        </p:nvSpPr>
        <p:spPr>
          <a:xfrm>
            <a:off x="888480" y="4642920"/>
            <a:ext cx="489132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ftr" idx="2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 type="sldNum" idx="3"/>
          </p:nvPr>
        </p:nvSpPr>
        <p:spPr>
          <a:xfrm>
            <a:off x="3779640" y="9284760"/>
            <a:ext cx="28890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D44C-B253-4460-AB97-CD4A07397F9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779640" y="9284760"/>
            <a:ext cx="28890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091C-FA8A-497F-A96C-F9693C8D16E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779640" y="0"/>
            <a:ext cx="2889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6280" cy="36640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0920" y="6237360"/>
            <a:ext cx="8893080" cy="1983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042920" y="952560"/>
            <a:ext cx="7705800" cy="24444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5364000" y="6453360"/>
            <a:ext cx="25909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Standout"/>
                <a:cs typeface="Monotype Koufi"/>
              </a:rPr>
              <a:t>مهارات الاتصا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6524640"/>
            <a:ext cx="2305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Monotype Koufi"/>
              </a:rPr>
              <a:t>جميع الحقوق محفوظة لمؤسس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44280" y="9399600"/>
            <a:ext cx="1066680" cy="524520"/>
            <a:chOff x="44280" y="9399600"/>
            <a:chExt cx="1066680" cy="524520"/>
          </a:xfrm>
        </p:grpSpPr>
        <p:grpSp>
          <p:nvGrpSpPr>
            <p:cNvPr id="5" name=""/>
            <p:cNvGrpSpPr/>
            <p:nvPr/>
          </p:nvGrpSpPr>
          <p:grpSpPr>
            <a:xfrm>
              <a:off x="120240" y="9399600"/>
              <a:ext cx="914400" cy="398880"/>
              <a:chOff x="120240" y="9399600"/>
              <a:chExt cx="914400" cy="398880"/>
            </a:xfrm>
          </p:grpSpPr>
          <p:sp>
            <p:nvSpPr>
              <p:cNvPr id="6" name=""/>
              <p:cNvSpPr/>
              <p:nvPr/>
            </p:nvSpPr>
            <p:spPr>
              <a:xfrm>
                <a:off x="120240" y="939960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00"/>
                    </a:solidFill>
                    <a:latin typeface="Arial Black"/>
                    <a:ea typeface="Simple Bold Jut Out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98080" y="939960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00"/>
                    </a:solidFill>
                    <a:latin typeface="Arial Black"/>
                    <a:ea typeface="Simple Bold Jut Out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75920" y="939960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00"/>
                    </a:solidFill>
                    <a:latin typeface="Arial Black"/>
                    <a:ea typeface="Simple Bold Jut Out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53760" y="939960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00"/>
                    </a:solidFill>
                    <a:latin typeface="Arial Black"/>
                    <a:ea typeface="Simple Bold Jut Out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" name=""/>
            <p:cNvSpPr/>
            <p:nvPr/>
          </p:nvSpPr>
          <p:spPr>
            <a:xfrm>
              <a:off x="44280" y="9723600"/>
              <a:ext cx="106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3300"/>
                  </a:solidFill>
                  <a:latin typeface="Arial Black"/>
                </a:rPr>
                <a:t>SAMIR BANTA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20320" y="9747360"/>
              <a:ext cx="712800" cy="0"/>
            </a:xfrm>
            <a:prstGeom prst="line">
              <a:avLst/>
            </a:prstGeom>
            <a:ln cap="sq"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260280" y="9615600"/>
            <a:ext cx="1066680" cy="524160"/>
            <a:chOff x="260280" y="9615600"/>
            <a:chExt cx="1066680" cy="524160"/>
          </a:xfrm>
        </p:grpSpPr>
        <p:grpSp>
          <p:nvGrpSpPr>
            <p:cNvPr id="13" name=""/>
            <p:cNvGrpSpPr/>
            <p:nvPr/>
          </p:nvGrpSpPr>
          <p:grpSpPr>
            <a:xfrm>
              <a:off x="336240" y="9615600"/>
              <a:ext cx="914400" cy="398880"/>
              <a:chOff x="336240" y="9615600"/>
              <a:chExt cx="914400" cy="398880"/>
            </a:xfrm>
          </p:grpSpPr>
          <p:sp>
            <p:nvSpPr>
              <p:cNvPr id="14" name=""/>
              <p:cNvSpPr/>
              <p:nvPr/>
            </p:nvSpPr>
            <p:spPr>
              <a:xfrm>
                <a:off x="336240" y="961560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00"/>
                    </a:solidFill>
                    <a:latin typeface="Arial Black"/>
                    <a:ea typeface="Simple Bold Jut Out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14080" y="961560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00"/>
                    </a:solidFill>
                    <a:latin typeface="Arial Black"/>
                    <a:ea typeface="Simple Bold Jut Out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691920" y="961560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00"/>
                    </a:solidFill>
                    <a:latin typeface="Arial Black"/>
                    <a:ea typeface="Simple Bold Jut Out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69760" y="961560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00"/>
                    </a:solidFill>
                    <a:latin typeface="Arial Black"/>
                    <a:ea typeface="Simple Bold Jut Out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260280" y="9939240"/>
              <a:ext cx="106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3300"/>
                  </a:solidFill>
                  <a:latin typeface="Arial Black"/>
                </a:rPr>
                <a:t>SAMIR BANTA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36320" y="9963000"/>
              <a:ext cx="712800" cy="0"/>
            </a:xfrm>
            <a:prstGeom prst="line">
              <a:avLst/>
            </a:prstGeom>
            <a:ln cap="sq"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" name=""/>
          <p:cNvGrpSpPr/>
          <p:nvPr/>
        </p:nvGrpSpPr>
        <p:grpSpPr>
          <a:xfrm>
            <a:off x="476280" y="9831240"/>
            <a:ext cx="1066680" cy="524520"/>
            <a:chOff x="476280" y="9831240"/>
            <a:chExt cx="1066680" cy="524520"/>
          </a:xfrm>
        </p:grpSpPr>
        <p:grpSp>
          <p:nvGrpSpPr>
            <p:cNvPr id="21" name=""/>
            <p:cNvGrpSpPr/>
            <p:nvPr/>
          </p:nvGrpSpPr>
          <p:grpSpPr>
            <a:xfrm>
              <a:off x="552240" y="9831240"/>
              <a:ext cx="914400" cy="398880"/>
              <a:chOff x="552240" y="9831240"/>
              <a:chExt cx="914400" cy="398880"/>
            </a:xfrm>
          </p:grpSpPr>
          <p:sp>
            <p:nvSpPr>
              <p:cNvPr id="22" name=""/>
              <p:cNvSpPr/>
              <p:nvPr/>
            </p:nvSpPr>
            <p:spPr>
              <a:xfrm>
                <a:off x="552240" y="983124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00"/>
                    </a:solidFill>
                    <a:latin typeface="Arial Black"/>
                    <a:ea typeface="Simple Bold Jut Out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30080" y="983124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00"/>
                    </a:solidFill>
                    <a:latin typeface="Arial Black"/>
                    <a:ea typeface="Simple Bold Jut Out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07920" y="983124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00"/>
                    </a:solidFill>
                    <a:latin typeface="Arial Black"/>
                    <a:ea typeface="Simple Bold Jut Out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085760" y="983124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00"/>
                    </a:solidFill>
                    <a:latin typeface="Arial Black"/>
                    <a:ea typeface="Simple Bold Jut Out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" name=""/>
            <p:cNvSpPr/>
            <p:nvPr/>
          </p:nvSpPr>
          <p:spPr>
            <a:xfrm>
              <a:off x="476280" y="10155240"/>
              <a:ext cx="106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3300"/>
                  </a:solidFill>
                  <a:latin typeface="Arial Black"/>
                </a:rPr>
                <a:t>SAMIR BANTA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652320" y="10179000"/>
              <a:ext cx="712800" cy="0"/>
            </a:xfrm>
            <a:prstGeom prst="line">
              <a:avLst/>
            </a:prstGeom>
            <a:ln cap="sq"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" name=""/>
          <p:cNvGrpSpPr/>
          <p:nvPr/>
        </p:nvGrpSpPr>
        <p:grpSpPr>
          <a:xfrm>
            <a:off x="692280" y="10047240"/>
            <a:ext cx="1066680" cy="524520"/>
            <a:chOff x="692280" y="10047240"/>
            <a:chExt cx="1066680" cy="524520"/>
          </a:xfrm>
        </p:grpSpPr>
        <p:grpSp>
          <p:nvGrpSpPr>
            <p:cNvPr id="29" name=""/>
            <p:cNvGrpSpPr/>
            <p:nvPr/>
          </p:nvGrpSpPr>
          <p:grpSpPr>
            <a:xfrm>
              <a:off x="768240" y="10047240"/>
              <a:ext cx="914400" cy="398880"/>
              <a:chOff x="768240" y="10047240"/>
              <a:chExt cx="914400" cy="398880"/>
            </a:xfrm>
          </p:grpSpPr>
          <p:sp>
            <p:nvSpPr>
              <p:cNvPr id="30" name=""/>
              <p:cNvSpPr/>
              <p:nvPr/>
            </p:nvSpPr>
            <p:spPr>
              <a:xfrm>
                <a:off x="768240" y="1004724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00"/>
                    </a:solidFill>
                    <a:latin typeface="Arial Black"/>
                    <a:ea typeface="Simple Bold Jut Out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46080" y="1004724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00"/>
                    </a:solidFill>
                    <a:latin typeface="Arial Black"/>
                    <a:ea typeface="Simple Bold Jut Out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123920" y="1004724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00"/>
                    </a:solidFill>
                    <a:latin typeface="Arial Black"/>
                    <a:ea typeface="Simple Bold Jut Out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301760" y="1004724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00"/>
                    </a:solidFill>
                    <a:latin typeface="Arial Black"/>
                    <a:ea typeface="Simple Bold Jut Out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" name=""/>
            <p:cNvSpPr/>
            <p:nvPr/>
          </p:nvSpPr>
          <p:spPr>
            <a:xfrm>
              <a:off x="692280" y="10371240"/>
              <a:ext cx="106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3300"/>
                  </a:solidFill>
                  <a:latin typeface="Arial Black"/>
                </a:rPr>
                <a:t>SAMIR BANTA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8320" y="10395000"/>
              <a:ext cx="712800" cy="0"/>
            </a:xfrm>
            <a:prstGeom prst="line">
              <a:avLst/>
            </a:prstGeom>
            <a:ln cap="sq"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" name="" descr=""/>
          <p:cNvPicPr/>
          <p:nvPr/>
        </p:nvPicPr>
        <p:blipFill>
          <a:blip r:embed="rId4"/>
          <a:stretch/>
        </p:blipFill>
        <p:spPr>
          <a:xfrm>
            <a:off x="108000" y="6524640"/>
            <a:ext cx="938160" cy="289080"/>
          </a:xfrm>
          <a:prstGeom prst="rect">
            <a:avLst/>
          </a:prstGeom>
          <a:ln w="0">
            <a:noFill/>
          </a:ln>
        </p:spPr>
      </p:pic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awahmemo.com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LICK5.WAV"/><Relationship Id="rId3" Type="http://schemas.openxmlformats.org/officeDocument/2006/relationships/audio" Target="../media/CLICK5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wm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audio" Target="../media/chimes.wav"/><Relationship Id="rId8" Type="http://schemas.openxmlformats.org/officeDocument/2006/relationships/audio" Target="../media/cashreg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<Relationship Id="rId8" Type="http://schemas.openxmlformats.org/officeDocument/2006/relationships/comments" Target="../comments/comment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EXPLODE.WAV"/><Relationship Id="rId5" Type="http://schemas.openxmlformats.org/officeDocument/2006/relationships/audio" Target="../media/gunshot.wav"/><Relationship Id="rId6" Type="http://schemas.openxmlformats.org/officeDocument/2006/relationships/audio" Target="../media/ricochet.wav"/><Relationship Id="rId7" Type="http://schemas.openxmlformats.org/officeDocument/2006/relationships/audio" Target="../media/chimes.wav"/><Relationship Id="rId8" Type="http://schemas.openxmlformats.org/officeDocument/2006/relationships/audio" Target="../media/EXPLODE.WAV"/><Relationship Id="rId9" Type="http://schemas.openxmlformats.org/officeDocument/2006/relationships/audio" Target="../media/camera.wav"/><Relationship Id="rId10" Type="http://schemas.openxmlformats.org/officeDocument/2006/relationships/audio" Target="../media/EXPLODE.WAV"/><Relationship Id="rId11" Type="http://schemas.openxmlformats.org/officeDocument/2006/relationships/audio" Target="../media/gunshot.wav"/><Relationship Id="rId1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package" Target="../embeddings/oleObject1.xlsx"/><Relationship Id="rId5" Type="http://schemas.openxmlformats.org/officeDocument/2006/relationships/image" Target="../media/image32.wmf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dawahmemo.com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900000" y="2565360"/>
            <a:ext cx="7488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32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985b1e"/>
                  </a:outerShdw>
                </a:effectLst>
                <a:latin typeface="PT Bold Heading"/>
              </a:rPr>
              <a:t>مهارات الإتصال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985b1e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5734080"/>
            <a:ext cx="82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تجد عددا من دورات مهارت الاتصال لدى موقع المفكرة الدعوية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dawahmemo.com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9640" y="1197000"/>
            <a:ext cx="838836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9000"/>
          </a:bodyPr>
          <a:p>
            <a:pPr marL="601920" indent="-601920" algn="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أساس حياتنا اليومية ، حيث نعتمد عليه في نقل الأفكار وتبادل المشاعر واستعراض الأخبار وتناقل وجهات النظر وتوفير المعلومات والرقابة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1920" indent="-601920" algn="r" rtl="1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قدرة على إنجاز الأهداف ، حيث أوضحت بعض الدراسات أن (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85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%) من النجاح الذي يحققه الإنسان في عمله يعتمد فيه على البراعة الاتصالية و(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15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%) فقط تعتمد على المهارات العملية أو المهنية المتخصصة 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00720" y="333360"/>
            <a:ext cx="34542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32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PT Bold Heading"/>
              </a:rPr>
              <a:t>أهمية الاتصال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PT Bold Heading"/>
              <a:ea typeface="PT Bold Heading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 rot="10800000">
            <a:off x="5651280" y="2206800"/>
            <a:ext cx="1150920" cy="596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3635280" y="333360"/>
            <a:ext cx="4321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32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PT Bold Heading"/>
              </a:rPr>
              <a:t>نموذج مبسط لعملية الإتصال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123" name=""/>
          <p:cNvSpPr/>
          <p:nvPr/>
        </p:nvSpPr>
        <p:spPr>
          <a:xfrm>
            <a:off x="6732720" y="1557360"/>
            <a:ext cx="2232000" cy="1800360"/>
          </a:xfrm>
          <a:prstGeom prst="flowChartMultidocumen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المرس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1557360"/>
            <a:ext cx="2232000" cy="1800360"/>
          </a:xfrm>
          <a:prstGeom prst="flowChartMultidocumen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المستل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71640" y="4438800"/>
            <a:ext cx="3673440" cy="1295280"/>
          </a:xfrm>
          <a:prstGeom prst="flowChartMultidocumen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AL-Mohanad Bold"/>
              </a:rPr>
              <a:t>التغذية الراج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 rot="10800000">
            <a:off x="2410920" y="2206800"/>
            <a:ext cx="1150920" cy="59688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684360" y="3432240"/>
            <a:ext cx="596880" cy="1942560"/>
            <a:chOff x="684360" y="3432240"/>
            <a:chExt cx="596880" cy="1942560"/>
          </a:xfrm>
        </p:grpSpPr>
        <p:pic>
          <p:nvPicPr>
            <p:cNvPr id="128" name="" descr=""/>
            <p:cNvPicPr/>
            <p:nvPr/>
          </p:nvPicPr>
          <p:blipFill>
            <a:blip r:embed="rId3"/>
            <a:stretch/>
          </p:blipFill>
          <p:spPr>
            <a:xfrm rot="5400000">
              <a:off x="407160" y="4501080"/>
              <a:ext cx="1150560" cy="59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4"/>
            <a:stretch/>
          </p:blipFill>
          <p:spPr>
            <a:xfrm rot="16200000">
              <a:off x="407520" y="3709080"/>
              <a:ext cx="1150560" cy="596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"/>
          <p:cNvGrpSpPr/>
          <p:nvPr/>
        </p:nvGrpSpPr>
        <p:grpSpPr>
          <a:xfrm>
            <a:off x="7812000" y="3285720"/>
            <a:ext cx="596880" cy="1943640"/>
            <a:chOff x="7812000" y="3285720"/>
            <a:chExt cx="596880" cy="1943640"/>
          </a:xfrm>
        </p:grpSpPr>
        <p:pic>
          <p:nvPicPr>
            <p:cNvPr id="131" name="" descr=""/>
            <p:cNvPicPr/>
            <p:nvPr/>
          </p:nvPicPr>
          <p:blipFill>
            <a:blip r:embed="rId5"/>
            <a:stretch/>
          </p:blipFill>
          <p:spPr>
            <a:xfrm rot="5400000">
              <a:off x="7534800" y="4355280"/>
              <a:ext cx="1150920" cy="59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6"/>
            <a:stretch/>
          </p:blipFill>
          <p:spPr>
            <a:xfrm rot="16200000">
              <a:off x="7534800" y="3562560"/>
              <a:ext cx="1150920" cy="59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3" name="" descr=""/>
          <p:cNvPicPr/>
          <p:nvPr/>
        </p:nvPicPr>
        <p:blipFill>
          <a:blip r:embed="rId7"/>
          <a:stretch/>
        </p:blipFill>
        <p:spPr>
          <a:xfrm rot="10800000">
            <a:off x="1618920" y="4921200"/>
            <a:ext cx="1150920" cy="5968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8"/>
          <a:stretch/>
        </p:blipFill>
        <p:spPr>
          <a:xfrm>
            <a:off x="6443640" y="4849920"/>
            <a:ext cx="1150920" cy="59688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3419640" y="1630440"/>
            <a:ext cx="2232000" cy="1800000"/>
            <a:chOff x="3419640" y="1630440"/>
            <a:chExt cx="2232000" cy="1800000"/>
          </a:xfrm>
        </p:grpSpPr>
        <p:sp>
          <p:nvSpPr>
            <p:cNvPr id="136" name=""/>
            <p:cNvSpPr/>
            <p:nvPr/>
          </p:nvSpPr>
          <p:spPr>
            <a:xfrm>
              <a:off x="3419640" y="1630440"/>
              <a:ext cx="2232000" cy="1800000"/>
            </a:xfrm>
            <a:prstGeom prst="flowChartMultidocumen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000000"/>
                  </a:solidFill>
                  <a:latin typeface="Arial"/>
                  <a:cs typeface="AL-Mohanad Bold"/>
                </a:rPr>
                <a:t>الرسالة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000000"/>
                  </a:solidFill>
                  <a:latin typeface="Arial"/>
                  <a:cs typeface="AL-Mohanad Bold"/>
                </a:rPr>
                <a:t>الوسيلة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3492360" y="2565360"/>
              <a:ext cx="172728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8029440" y="6381720"/>
            <a:ext cx="73044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4D4A-B9FD-4E56-A0D8-9A3808AE1162}" type="slidenum"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12394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00"/>
                </a:solidFill>
                <a:latin typeface="Times New Roman"/>
                <a:ea typeface="Hesham Bold"/>
              </a:rPr>
              <a:t>1</a:t>
            </a:r>
            <a:r>
              <a:rPr b="1" lang="ar-SA" sz="3200" spc="-1" strike="noStrike">
                <a:solidFill>
                  <a:srgbClr val="800000"/>
                </a:solidFill>
                <a:latin typeface="Times New Roman"/>
                <a:ea typeface="Hesham Bold"/>
              </a:rPr>
              <a:t> – المرسل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هو مصدر الرسالة أو النقطة التي تبدأ عندها عملية الاتصال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155680"/>
            <a:ext cx="910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00"/>
                </a:solidFill>
                <a:latin typeface="Times New Roman"/>
                <a:ea typeface="Hesham Bold"/>
              </a:rPr>
              <a:t>2</a:t>
            </a:r>
            <a:r>
              <a:rPr b="1" lang="ar-SA" sz="3200" spc="-1" strike="noStrike">
                <a:solidFill>
                  <a:srgbClr val="800000"/>
                </a:solidFill>
                <a:latin typeface="Times New Roman"/>
                <a:ea typeface="Hesham Bold"/>
              </a:rPr>
              <a:t> - الرسالة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هي الموضوع أو المحتوى (المعاني أو الأفكار) الذي يريد المرسل أن ينقله إلى المستقب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 ويتم عادة التعبير عنها بالرموز اللغوية أو اللفظية أو غير اللفظية أو بهما معا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-3153240" y="4882320"/>
            <a:ext cx="1538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00"/>
                </a:solidFill>
                <a:latin typeface="Times New Roman"/>
                <a:ea typeface="Hesham Bold"/>
              </a:rPr>
              <a:t>3</a:t>
            </a:r>
            <a:r>
              <a:rPr b="1" lang="ar-SA" sz="3200" spc="-1" strike="noStrike">
                <a:solidFill>
                  <a:srgbClr val="800000"/>
                </a:solidFill>
                <a:latin typeface="Times New Roman"/>
                <a:ea typeface="Hesham Bold"/>
              </a:rPr>
              <a:t> - الوسيلة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هي الطريقة أو القناة التي تنتقل بها الرسالة من المرسل إلى المستقبل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219640" y="333360"/>
            <a:ext cx="3240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32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PT Bold Heading"/>
              </a:rPr>
              <a:t>عناصر الإتصال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PT Bold Heading"/>
              <a:ea typeface="PT Bold Heading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50920" y="1427760"/>
            <a:ext cx="8575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00"/>
                </a:solidFill>
                <a:latin typeface="Times New Roman"/>
                <a:ea typeface="Hesham Bold"/>
              </a:rPr>
              <a:t>4</a:t>
            </a:r>
            <a:r>
              <a:rPr b="1" lang="ar-SA" sz="3200" spc="-1" strike="noStrike">
                <a:solidFill>
                  <a:srgbClr val="800000"/>
                </a:solidFill>
                <a:latin typeface="Times New Roman"/>
                <a:ea typeface="Hesham Bold"/>
              </a:rPr>
              <a:t> - المستقبل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هو الجهة أو الشخص الذي توجه له الرسالة ويستقبلها من خلال أحد أو كل حواسه المختلفة (السمع والبصر والشم والذوق واللمس) ثم يقوم بتفسير رموز ويحاول إدراك معانيها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488400"/>
            <a:ext cx="91440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00"/>
                </a:solidFill>
                <a:latin typeface="Times New Roman"/>
                <a:ea typeface="Hesham Bold"/>
              </a:rPr>
              <a:t>5</a:t>
            </a:r>
            <a:r>
              <a:rPr b="1" lang="ar-SA" sz="2800" spc="-1" strike="noStrike">
                <a:solidFill>
                  <a:srgbClr val="800000"/>
                </a:solidFill>
                <a:latin typeface="Times New Roman"/>
                <a:ea typeface="Hesham Bold"/>
              </a:rPr>
              <a:t> - التغذية العكسية ( أو الاستجابة )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هي إعادة إرسال الرسالة من المستقبل إلى المرسل واستلامه لها وتأكده من أنه تم فهمها، والمرسل في هذه الحالة يلاحظ الموافقة أو عدم الموافقة على مضمون الرسالة 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219640" y="333360"/>
            <a:ext cx="3240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32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PT Bold Heading"/>
              </a:rPr>
              <a:t>عناصر الإتصال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PT Bold Heading"/>
              <a:ea typeface="PT Bold Heading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4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4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482920" y="3357720"/>
            <a:ext cx="115236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Maiandra GD"/>
                <a:cs typeface="هشام عادي"/>
              </a:rPr>
              <a:t>معن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64000" y="2946240"/>
            <a:ext cx="77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80000" y="3502080"/>
            <a:ext cx="17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Maiandra GD"/>
                <a:cs typeface="هشام عادي"/>
              </a:rPr>
              <a:t>الرسا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80000" y="4821120"/>
            <a:ext cx="1439640" cy="1068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Maiandra GD"/>
                <a:cs typeface="هشام عادي"/>
              </a:rPr>
              <a:t>الازعا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68360" y="5734080"/>
            <a:ext cx="4175280" cy="5205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98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Maiandra GD"/>
                <a:cs typeface="هشام عادي"/>
              </a:rPr>
              <a:t>تغذية خلف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42920" y="278136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Maiandra GD"/>
                <a:cs typeface="هشام عادي"/>
              </a:rPr>
              <a:t>المرس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2000" y="2781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Maiandra GD"/>
                <a:cs typeface="هشام عادي"/>
              </a:rPr>
              <a:t>المستل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80000" y="29242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Maiandra GD"/>
                <a:cs typeface="هشام عادي"/>
              </a:rPr>
              <a:t>قنا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3357720"/>
            <a:ext cx="187164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Maiandra GD"/>
                <a:cs typeface="هشام عادي"/>
              </a:rPr>
              <a:t>التشفي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211640" y="260280"/>
            <a:ext cx="3673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32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85b1e"/>
                  </a:outerShdw>
                </a:effectLst>
                <a:latin typeface="PT Bold Heading"/>
              </a:rPr>
              <a:t>أربع عوامل أساسية للإتصالات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85b1e"/>
                </a:outerShdw>
              </a:effectLst>
              <a:latin typeface="PT Bold Heading"/>
              <a:ea typeface="PT Bold Heading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 rot="1755600">
            <a:off x="285480" y="4425840"/>
            <a:ext cx="2428920" cy="11890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 rot="1303200">
            <a:off x="6843240" y="3781440"/>
            <a:ext cx="1276560" cy="2575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7380360" y="3357720"/>
            <a:ext cx="504720" cy="504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508720" y="3357720"/>
            <a:ext cx="1871640" cy="947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Maiandra GD"/>
                <a:cs typeface="هشام عادي"/>
              </a:rPr>
              <a:t>فك التشفي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883640" y="3357720"/>
            <a:ext cx="115236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Maiandra GD"/>
                <a:cs typeface="هشام عادي"/>
              </a:rPr>
              <a:t>معن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2050920" y="3357720"/>
            <a:ext cx="432000" cy="504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 rot="4530000">
            <a:off x="2416680" y="3999600"/>
            <a:ext cx="1584360" cy="874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 rot="9986400">
            <a:off x="5073120" y="3921120"/>
            <a:ext cx="1508400" cy="1092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3564000" y="3429000"/>
            <a:ext cx="360360" cy="3808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8"/>
          <a:stretch/>
        </p:blipFill>
        <p:spPr>
          <a:xfrm>
            <a:off x="5224320" y="3429000"/>
            <a:ext cx="355680" cy="360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9"/>
          <a:stretch/>
        </p:blipFill>
        <p:spPr>
          <a:xfrm>
            <a:off x="108000" y="1125360"/>
            <a:ext cx="1655640" cy="2376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0"/>
          <a:stretch/>
        </p:blipFill>
        <p:spPr>
          <a:xfrm>
            <a:off x="7524720" y="1413000"/>
            <a:ext cx="129528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348000" y="3716280"/>
            <a:ext cx="56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PT Bold Heading"/>
              </a:rPr>
              <a:t>الخريطة ليست هي الموقع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635280" y="333360"/>
            <a:ext cx="4249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32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PT Bold Heading"/>
              </a:rPr>
              <a:t>الافتراضات ( مبادئ البرمجة ) ( 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PT Bold Heading"/>
              </a:rPr>
              <a:t>1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PT Bold Heading"/>
              </a:rPr>
              <a:t> )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547640" y="333360"/>
            <a:ext cx="2016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바탕"/>
              </a:rPr>
              <a:t>Presupposition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바탕"/>
              <a:ea typeface="바탕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4920" y="1125360"/>
            <a:ext cx="3889440" cy="2448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14480" y="3002040"/>
            <a:ext cx="3952800" cy="33066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7236000" y="1484280"/>
            <a:ext cx="1180800" cy="15238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3419640" y="1268280"/>
            <a:ext cx="223200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0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468360" y="1413000"/>
            <a:ext cx="3526920" cy="4608360"/>
            <a:chOff x="468360" y="1413000"/>
            <a:chExt cx="3526920" cy="4608360"/>
          </a:xfrm>
        </p:grpSpPr>
        <p:grpSp>
          <p:nvGrpSpPr>
            <p:cNvPr id="176" name=""/>
            <p:cNvGrpSpPr/>
            <p:nvPr/>
          </p:nvGrpSpPr>
          <p:grpSpPr>
            <a:xfrm>
              <a:off x="468360" y="1413000"/>
              <a:ext cx="3526920" cy="4608360"/>
              <a:chOff x="468360" y="1413000"/>
              <a:chExt cx="3526920" cy="4608360"/>
            </a:xfrm>
          </p:grpSpPr>
          <p:pic>
            <p:nvPicPr>
              <p:cNvPr id="17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71600" y="1952640"/>
                <a:ext cx="3523680" cy="35262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178" name=""/>
              <p:cNvSpPr/>
              <p:nvPr/>
            </p:nvSpPr>
            <p:spPr>
              <a:xfrm>
                <a:off x="468360" y="1413000"/>
                <a:ext cx="3513240" cy="5421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71600" y="5479200"/>
                <a:ext cx="3513240" cy="5421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3982680" y="2009520"/>
              <a:ext cx="0" cy="34153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932360" y="1413000"/>
            <a:ext cx="3527280" cy="4608360"/>
            <a:chOff x="4932360" y="1413000"/>
            <a:chExt cx="3527280" cy="4608360"/>
          </a:xfrm>
        </p:grpSpPr>
        <p:pic>
          <p:nvPicPr>
            <p:cNvPr id="182" name="" descr=""/>
            <p:cNvPicPr/>
            <p:nvPr/>
          </p:nvPicPr>
          <p:blipFill>
            <a:blip r:embed="rId4"/>
            <a:stretch/>
          </p:blipFill>
          <p:spPr>
            <a:xfrm>
              <a:off x="4946400" y="1963800"/>
              <a:ext cx="3513240" cy="35542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83" name=""/>
            <p:cNvSpPr/>
            <p:nvPr/>
          </p:nvSpPr>
          <p:spPr>
            <a:xfrm>
              <a:off x="4932360" y="5520600"/>
              <a:ext cx="3502800" cy="5007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46400" y="1413000"/>
              <a:ext cx="3502800" cy="5007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 txBox="1"/>
          <p:nvPr/>
        </p:nvSpPr>
        <p:spPr>
          <a:xfrm>
            <a:off x="3635280" y="333360"/>
            <a:ext cx="4321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32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PT Bold Heading"/>
              </a:rPr>
              <a:t>الخريطة ليست هي المنطقة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PT Bold Heading"/>
              <a:ea typeface="PT Bold Heading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635280" y="333360"/>
            <a:ext cx="4321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32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PT Bold Heading"/>
              </a:rPr>
              <a:t>الخريطة ليست هي المنطقة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187" name=""/>
          <p:cNvSpPr/>
          <p:nvPr/>
        </p:nvSpPr>
        <p:spPr>
          <a:xfrm>
            <a:off x="4533840" y="1268280"/>
            <a:ext cx="1513080" cy="15130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58920" y="1989000"/>
            <a:ext cx="2232000" cy="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0200" y="1268280"/>
            <a:ext cx="1513080" cy="15130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920" y="2655720"/>
            <a:ext cx="23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 Black"/>
                <a:cs typeface="AL-Mohanad Bold"/>
              </a:rPr>
              <a:t>الحد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10200" y="2637000"/>
            <a:ext cx="23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 Black"/>
                <a:cs typeface="AL-Mohanad Bold"/>
              </a:rPr>
              <a:t>إدراك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3251160"/>
            <a:ext cx="8748720" cy="30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800000"/>
                </a:solidFill>
                <a:latin typeface="Arial Black"/>
                <a:cs typeface="AL-Mohanad Bold"/>
              </a:rPr>
              <a:t>للأسباب التالية</a:t>
            </a:r>
            <a:r>
              <a:rPr b="0" lang="ar-SA" sz="4000" spc="-1" strike="noStrike">
                <a:solidFill>
                  <a:srgbClr val="800000"/>
                </a:solidFill>
                <a:latin typeface="Arial Black"/>
                <a:ea typeface="AL-Mohanad Bold"/>
              </a:rPr>
              <a:t> </a:t>
            </a:r>
            <a:r>
              <a:rPr b="0" lang="ar-SA" sz="4000" spc="-1" strike="noStrike">
                <a:solidFill>
                  <a:srgbClr val="800000"/>
                </a:solidFill>
                <a:latin typeface="Arial Black"/>
                <a:ea typeface="AL-Mohanad Bold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Black"/>
                <a:ea typeface="AL-Mohanad Bold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  <a:cs typeface="AL-Mohanad Bold"/>
              </a:rPr>
              <a:t>ـ محدودية الحواس .                     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  <a:ea typeface="AL-Mohanad Bold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  <a:cs typeface="AL-Mohanad Bold"/>
              </a:rPr>
              <a:t>ـ عتبة الإحساس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  <a:ea typeface="AL-Mohanad Bold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  <a:ea typeface="AL-Mohanad Bol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Black"/>
                <a:ea typeface="AL-Mohanad Bold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  <a:cs typeface="AL-Mohanad Bold"/>
              </a:rPr>
              <a:t>ـ خداع الحواس.                            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  <a:ea typeface="AL-Mohanad Bold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  <a:cs typeface="AL-Mohanad Bold"/>
              </a:rPr>
              <a:t>ـ العمليات الثلاث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  <a:ea typeface="AL-Mohanad Bold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  <a:ea typeface="AL-Mohanad Bol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Black"/>
                <a:ea typeface="AL-Mohanad Bold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  <a:cs typeface="AL-Mohanad Bold"/>
              </a:rPr>
              <a:t>ـ المرشحات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  <a:ea typeface="AL-Mohanad Bold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 Black"/>
                <a:ea typeface="AL-Mohanad Bol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588000" y="1563840"/>
            <a:ext cx="2293920" cy="7034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 Black"/>
                <a:cs typeface="AL-Mohanad Bold"/>
              </a:rPr>
              <a:t>حد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 flipH="1">
            <a:off x="263160" y="1260360"/>
            <a:ext cx="3962520" cy="4977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 flipH="1">
            <a:off x="2895120" y="2349360"/>
            <a:ext cx="342900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55640" y="1413000"/>
            <a:ext cx="266688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  <a:ea typeface="Arial"/>
              </a:rPr>
              <a:t>(7+-2Chunks </a:t>
            </a:r>
            <a:br>
              <a:rPr sz="1400"/>
            </a:br>
            <a:r>
              <a:rPr b="0" lang="en-US" sz="1400" spc="-1" strike="noStrike">
                <a:solidFill>
                  <a:srgbClr val="ffcc00"/>
                </a:solidFill>
                <a:latin typeface="Arial Black"/>
                <a:ea typeface="Arial"/>
              </a:rPr>
              <a:t>134 BPS)</a:t>
            </a:r>
            <a:r>
              <a:rPr b="0" lang="en-US" sz="2000" spc="-1" strike="noStrike">
                <a:solidFill>
                  <a:srgbClr val="ffff00"/>
                </a:solidFill>
                <a:latin typeface="Arial Black"/>
                <a:ea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Arial Black"/>
                <a:cs typeface="AL-Mohanad Bold"/>
              </a:rPr>
              <a:t>الحالة الشعور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39960" y="48322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Arial Black"/>
                <a:cs typeface="AL-Mohanad Bold"/>
              </a:rPr>
              <a:t>الحالة الفسيولوج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16720" y="4653000"/>
            <a:ext cx="2340000" cy="7034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 Black"/>
                <a:cs typeface="AL-Mohanad Bold"/>
              </a:rPr>
              <a:t>تصر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95480" y="4384800"/>
            <a:ext cx="3548160" cy="556920"/>
          </a:xfrm>
          <a:prstGeom prst="line">
            <a:avLst/>
          </a:prstGeom>
          <a:ln w="57240">
            <a:solidFill>
              <a:srgbClr val="ffcc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209680" y="3933720"/>
            <a:ext cx="0" cy="990720"/>
          </a:xfrm>
          <a:prstGeom prst="line">
            <a:avLst/>
          </a:prstGeom>
          <a:ln w="57240">
            <a:solidFill>
              <a:srgbClr val="ffcc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20884200">
            <a:off x="4137120" y="2491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2 Million B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56000" y="2994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56000" y="2562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06800" y="32846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71640" y="248904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حذ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16360" y="299736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تشو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29000" y="3281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تعمي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20809800">
            <a:off x="4211640" y="213336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AK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115640" y="2057400"/>
            <a:ext cx="2057760" cy="1371600"/>
            <a:chOff x="1115640" y="2057400"/>
            <a:chExt cx="2057760" cy="1371600"/>
          </a:xfrm>
        </p:grpSpPr>
        <p:sp>
          <p:nvSpPr>
            <p:cNvPr id="210" name=""/>
            <p:cNvSpPr/>
            <p:nvPr/>
          </p:nvSpPr>
          <p:spPr>
            <a:xfrm flipH="1" flipV="1">
              <a:off x="1115640" y="2057400"/>
              <a:ext cx="2057400" cy="1371600"/>
            </a:xfrm>
            <a:prstGeom prst="line">
              <a:avLst/>
            </a:prstGeom>
            <a:ln cap="rnd" w="57240">
              <a:solidFill>
                <a:srgbClr val="ff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3173400" y="2057400"/>
              <a:ext cx="0" cy="533520"/>
            </a:xfrm>
            <a:prstGeom prst="line">
              <a:avLst/>
            </a:prstGeom>
            <a:ln cap="rnd" w="57240">
              <a:solidFill>
                <a:srgbClr val="ff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332000" y="2257560"/>
            <a:ext cx="536400" cy="2611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4246560" y="1165320"/>
            <a:ext cx="379440" cy="5698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4044960" y="1741320"/>
            <a:ext cx="615960" cy="3924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4809960" y="1647720"/>
            <a:ext cx="301680" cy="3891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4886280" y="1347840"/>
            <a:ext cx="517680" cy="307800"/>
          </a:xfrm>
          <a:prstGeom prst="rect">
            <a:avLst/>
          </a:prstGeom>
          <a:ln w="0">
            <a:noFill/>
          </a:ln>
        </p:spPr>
      </p:pic>
      <p:grpSp>
        <p:nvGrpSpPr>
          <p:cNvPr id="217" name=""/>
          <p:cNvGrpSpPr/>
          <p:nvPr/>
        </p:nvGrpSpPr>
        <p:grpSpPr>
          <a:xfrm>
            <a:off x="4522680" y="1152360"/>
            <a:ext cx="569880" cy="917640"/>
            <a:chOff x="4522680" y="1152360"/>
            <a:chExt cx="569880" cy="917640"/>
          </a:xfrm>
        </p:grpSpPr>
        <p:sp>
          <p:nvSpPr>
            <p:cNvPr id="218" name=""/>
            <p:cNvSpPr/>
            <p:nvPr/>
          </p:nvSpPr>
          <p:spPr>
            <a:xfrm>
              <a:off x="4524120" y="1157040"/>
              <a:ext cx="565200" cy="912960"/>
            </a:xfrm>
            <a:custGeom>
              <a:avLst/>
              <a:gdLst/>
              <a:ahLst/>
              <a:rect l="l" t="t" r="r" b="b"/>
              <a:pathLst>
                <a:path w="3202" h="4598">
                  <a:moveTo>
                    <a:pt x="32" y="3635"/>
                  </a:moveTo>
                  <a:lnTo>
                    <a:pt x="35" y="3606"/>
                  </a:lnTo>
                  <a:lnTo>
                    <a:pt x="43" y="3570"/>
                  </a:lnTo>
                  <a:lnTo>
                    <a:pt x="52" y="3533"/>
                  </a:lnTo>
                  <a:lnTo>
                    <a:pt x="63" y="3497"/>
                  </a:lnTo>
                  <a:lnTo>
                    <a:pt x="72" y="3462"/>
                  </a:lnTo>
                  <a:lnTo>
                    <a:pt x="81" y="3435"/>
                  </a:lnTo>
                  <a:lnTo>
                    <a:pt x="86" y="3415"/>
                  </a:lnTo>
                  <a:lnTo>
                    <a:pt x="90" y="3410"/>
                  </a:lnTo>
                  <a:lnTo>
                    <a:pt x="64" y="3316"/>
                  </a:lnTo>
                  <a:lnTo>
                    <a:pt x="45" y="3232"/>
                  </a:lnTo>
                  <a:lnTo>
                    <a:pt x="32" y="3156"/>
                  </a:lnTo>
                  <a:lnTo>
                    <a:pt x="25" y="3089"/>
                  </a:lnTo>
                  <a:lnTo>
                    <a:pt x="22" y="3028"/>
                  </a:lnTo>
                  <a:lnTo>
                    <a:pt x="26" y="2976"/>
                  </a:lnTo>
                  <a:lnTo>
                    <a:pt x="34" y="2930"/>
                  </a:lnTo>
                  <a:lnTo>
                    <a:pt x="49" y="2890"/>
                  </a:lnTo>
                  <a:lnTo>
                    <a:pt x="63" y="2843"/>
                  </a:lnTo>
                  <a:lnTo>
                    <a:pt x="79" y="2783"/>
                  </a:lnTo>
                  <a:lnTo>
                    <a:pt x="94" y="2715"/>
                  </a:lnTo>
                  <a:lnTo>
                    <a:pt x="109" y="2646"/>
                  </a:lnTo>
                  <a:lnTo>
                    <a:pt x="120" y="2577"/>
                  </a:lnTo>
                  <a:lnTo>
                    <a:pt x="130" y="2518"/>
                  </a:lnTo>
                  <a:lnTo>
                    <a:pt x="135" y="2473"/>
                  </a:lnTo>
                  <a:lnTo>
                    <a:pt x="139" y="2447"/>
                  </a:lnTo>
                  <a:lnTo>
                    <a:pt x="140" y="2413"/>
                  </a:lnTo>
                  <a:lnTo>
                    <a:pt x="145" y="2353"/>
                  </a:lnTo>
                  <a:lnTo>
                    <a:pt x="153" y="2275"/>
                  </a:lnTo>
                  <a:lnTo>
                    <a:pt x="163" y="2189"/>
                  </a:lnTo>
                  <a:lnTo>
                    <a:pt x="171" y="2101"/>
                  </a:lnTo>
                  <a:lnTo>
                    <a:pt x="180" y="2026"/>
                  </a:lnTo>
                  <a:lnTo>
                    <a:pt x="185" y="1969"/>
                  </a:lnTo>
                  <a:lnTo>
                    <a:pt x="188" y="1943"/>
                  </a:lnTo>
                  <a:lnTo>
                    <a:pt x="190" y="1922"/>
                  </a:lnTo>
                  <a:lnTo>
                    <a:pt x="198" y="1884"/>
                  </a:lnTo>
                  <a:lnTo>
                    <a:pt x="208" y="1835"/>
                  </a:lnTo>
                  <a:lnTo>
                    <a:pt x="221" y="1782"/>
                  </a:lnTo>
                  <a:lnTo>
                    <a:pt x="232" y="1729"/>
                  </a:lnTo>
                  <a:lnTo>
                    <a:pt x="243" y="1685"/>
                  </a:lnTo>
                  <a:lnTo>
                    <a:pt x="251" y="1653"/>
                  </a:lnTo>
                  <a:lnTo>
                    <a:pt x="254" y="1642"/>
                  </a:lnTo>
                  <a:lnTo>
                    <a:pt x="270" y="1408"/>
                  </a:lnTo>
                  <a:lnTo>
                    <a:pt x="248" y="1302"/>
                  </a:lnTo>
                  <a:lnTo>
                    <a:pt x="233" y="1204"/>
                  </a:lnTo>
                  <a:lnTo>
                    <a:pt x="224" y="1115"/>
                  </a:lnTo>
                  <a:lnTo>
                    <a:pt x="220" y="1036"/>
                  </a:lnTo>
                  <a:lnTo>
                    <a:pt x="218" y="970"/>
                  </a:lnTo>
                  <a:lnTo>
                    <a:pt x="219" y="921"/>
                  </a:lnTo>
                  <a:lnTo>
                    <a:pt x="220" y="889"/>
                  </a:lnTo>
                  <a:lnTo>
                    <a:pt x="221" y="879"/>
                  </a:lnTo>
                  <a:lnTo>
                    <a:pt x="233" y="773"/>
                  </a:lnTo>
                  <a:lnTo>
                    <a:pt x="242" y="688"/>
                  </a:lnTo>
                  <a:lnTo>
                    <a:pt x="249" y="619"/>
                  </a:lnTo>
                  <a:lnTo>
                    <a:pt x="257" y="568"/>
                  </a:lnTo>
                  <a:lnTo>
                    <a:pt x="263" y="529"/>
                  </a:lnTo>
                  <a:lnTo>
                    <a:pt x="274" y="503"/>
                  </a:lnTo>
                  <a:lnTo>
                    <a:pt x="289" y="485"/>
                  </a:lnTo>
                  <a:lnTo>
                    <a:pt x="311" y="477"/>
                  </a:lnTo>
                  <a:lnTo>
                    <a:pt x="337" y="471"/>
                  </a:lnTo>
                  <a:lnTo>
                    <a:pt x="363" y="467"/>
                  </a:lnTo>
                  <a:lnTo>
                    <a:pt x="389" y="466"/>
                  </a:lnTo>
                  <a:lnTo>
                    <a:pt x="416" y="469"/>
                  </a:lnTo>
                  <a:lnTo>
                    <a:pt x="439" y="475"/>
                  </a:lnTo>
                  <a:lnTo>
                    <a:pt x="459" y="485"/>
                  </a:lnTo>
                  <a:lnTo>
                    <a:pt x="474" y="499"/>
                  </a:lnTo>
                  <a:lnTo>
                    <a:pt x="484" y="519"/>
                  </a:lnTo>
                  <a:lnTo>
                    <a:pt x="491" y="548"/>
                  </a:lnTo>
                  <a:lnTo>
                    <a:pt x="501" y="589"/>
                  </a:lnTo>
                  <a:lnTo>
                    <a:pt x="511" y="638"/>
                  </a:lnTo>
                  <a:lnTo>
                    <a:pt x="523" y="691"/>
                  </a:lnTo>
                  <a:lnTo>
                    <a:pt x="532" y="745"/>
                  </a:lnTo>
                  <a:lnTo>
                    <a:pt x="541" y="795"/>
                  </a:lnTo>
                  <a:lnTo>
                    <a:pt x="547" y="838"/>
                  </a:lnTo>
                  <a:lnTo>
                    <a:pt x="550" y="871"/>
                  </a:lnTo>
                  <a:lnTo>
                    <a:pt x="550" y="903"/>
                  </a:lnTo>
                  <a:lnTo>
                    <a:pt x="552" y="949"/>
                  </a:lnTo>
                  <a:lnTo>
                    <a:pt x="555" y="1003"/>
                  </a:lnTo>
                  <a:lnTo>
                    <a:pt x="560" y="1061"/>
                  </a:lnTo>
                  <a:lnTo>
                    <a:pt x="565" y="1117"/>
                  </a:lnTo>
                  <a:lnTo>
                    <a:pt x="570" y="1169"/>
                  </a:lnTo>
                  <a:lnTo>
                    <a:pt x="577" y="1211"/>
                  </a:lnTo>
                  <a:lnTo>
                    <a:pt x="583" y="1240"/>
                  </a:lnTo>
                  <a:lnTo>
                    <a:pt x="589" y="1264"/>
                  </a:lnTo>
                  <a:lnTo>
                    <a:pt x="596" y="1297"/>
                  </a:lnTo>
                  <a:lnTo>
                    <a:pt x="602" y="1335"/>
                  </a:lnTo>
                  <a:lnTo>
                    <a:pt x="609" y="1376"/>
                  </a:lnTo>
                  <a:lnTo>
                    <a:pt x="615" y="1412"/>
                  </a:lnTo>
                  <a:lnTo>
                    <a:pt x="620" y="1444"/>
                  </a:lnTo>
                  <a:lnTo>
                    <a:pt x="622" y="1465"/>
                  </a:lnTo>
                  <a:lnTo>
                    <a:pt x="625" y="1474"/>
                  </a:lnTo>
                  <a:lnTo>
                    <a:pt x="698" y="1533"/>
                  </a:lnTo>
                  <a:lnTo>
                    <a:pt x="728" y="1452"/>
                  </a:lnTo>
                  <a:lnTo>
                    <a:pt x="754" y="1376"/>
                  </a:lnTo>
                  <a:lnTo>
                    <a:pt x="774" y="1306"/>
                  </a:lnTo>
                  <a:lnTo>
                    <a:pt x="789" y="1246"/>
                  </a:lnTo>
                  <a:lnTo>
                    <a:pt x="800" y="1194"/>
                  </a:lnTo>
                  <a:lnTo>
                    <a:pt x="808" y="1155"/>
                  </a:lnTo>
                  <a:lnTo>
                    <a:pt x="811" y="1130"/>
                  </a:lnTo>
                  <a:lnTo>
                    <a:pt x="814" y="1123"/>
                  </a:lnTo>
                  <a:lnTo>
                    <a:pt x="844" y="992"/>
                  </a:lnTo>
                  <a:lnTo>
                    <a:pt x="868" y="890"/>
                  </a:lnTo>
                  <a:lnTo>
                    <a:pt x="888" y="812"/>
                  </a:lnTo>
                  <a:lnTo>
                    <a:pt x="904" y="756"/>
                  </a:lnTo>
                  <a:lnTo>
                    <a:pt x="915" y="716"/>
                  </a:lnTo>
                  <a:lnTo>
                    <a:pt x="923" y="694"/>
                  </a:lnTo>
                  <a:lnTo>
                    <a:pt x="926" y="681"/>
                  </a:lnTo>
                  <a:lnTo>
                    <a:pt x="928" y="679"/>
                  </a:lnTo>
                  <a:lnTo>
                    <a:pt x="929" y="668"/>
                  </a:lnTo>
                  <a:lnTo>
                    <a:pt x="934" y="638"/>
                  </a:lnTo>
                  <a:lnTo>
                    <a:pt x="940" y="597"/>
                  </a:lnTo>
                  <a:lnTo>
                    <a:pt x="949" y="550"/>
                  </a:lnTo>
                  <a:lnTo>
                    <a:pt x="956" y="500"/>
                  </a:lnTo>
                  <a:lnTo>
                    <a:pt x="963" y="456"/>
                  </a:lnTo>
                  <a:lnTo>
                    <a:pt x="968" y="421"/>
                  </a:lnTo>
                  <a:lnTo>
                    <a:pt x="970" y="403"/>
                  </a:lnTo>
                  <a:lnTo>
                    <a:pt x="973" y="389"/>
                  </a:lnTo>
                  <a:lnTo>
                    <a:pt x="978" y="371"/>
                  </a:lnTo>
                  <a:lnTo>
                    <a:pt x="987" y="350"/>
                  </a:lnTo>
                  <a:lnTo>
                    <a:pt x="998" y="329"/>
                  </a:lnTo>
                  <a:lnTo>
                    <a:pt x="1008" y="308"/>
                  </a:lnTo>
                  <a:lnTo>
                    <a:pt x="1017" y="292"/>
                  </a:lnTo>
                  <a:lnTo>
                    <a:pt x="1024" y="279"/>
                  </a:lnTo>
                  <a:lnTo>
                    <a:pt x="1027" y="276"/>
                  </a:lnTo>
                  <a:lnTo>
                    <a:pt x="1046" y="214"/>
                  </a:lnTo>
                  <a:lnTo>
                    <a:pt x="1075" y="166"/>
                  </a:lnTo>
                  <a:lnTo>
                    <a:pt x="1107" y="131"/>
                  </a:lnTo>
                  <a:lnTo>
                    <a:pt x="1142" y="107"/>
                  </a:lnTo>
                  <a:lnTo>
                    <a:pt x="1174" y="94"/>
                  </a:lnTo>
                  <a:lnTo>
                    <a:pt x="1202" y="90"/>
                  </a:lnTo>
                  <a:lnTo>
                    <a:pt x="1222" y="96"/>
                  </a:lnTo>
                  <a:lnTo>
                    <a:pt x="1233" y="108"/>
                  </a:lnTo>
                  <a:lnTo>
                    <a:pt x="1238" y="125"/>
                  </a:lnTo>
                  <a:lnTo>
                    <a:pt x="1247" y="146"/>
                  </a:lnTo>
                  <a:lnTo>
                    <a:pt x="1260" y="168"/>
                  </a:lnTo>
                  <a:lnTo>
                    <a:pt x="1273" y="194"/>
                  </a:lnTo>
                  <a:lnTo>
                    <a:pt x="1285" y="219"/>
                  </a:lnTo>
                  <a:lnTo>
                    <a:pt x="1296" y="245"/>
                  </a:lnTo>
                  <a:lnTo>
                    <a:pt x="1304" y="269"/>
                  </a:lnTo>
                  <a:lnTo>
                    <a:pt x="1307" y="293"/>
                  </a:lnTo>
                  <a:lnTo>
                    <a:pt x="1305" y="318"/>
                  </a:lnTo>
                  <a:lnTo>
                    <a:pt x="1303" y="350"/>
                  </a:lnTo>
                  <a:lnTo>
                    <a:pt x="1298" y="385"/>
                  </a:lnTo>
                  <a:lnTo>
                    <a:pt x="1295" y="420"/>
                  </a:lnTo>
                  <a:lnTo>
                    <a:pt x="1290" y="450"/>
                  </a:lnTo>
                  <a:lnTo>
                    <a:pt x="1286" y="477"/>
                  </a:lnTo>
                  <a:lnTo>
                    <a:pt x="1283" y="494"/>
                  </a:lnTo>
                  <a:lnTo>
                    <a:pt x="1283" y="502"/>
                  </a:lnTo>
                  <a:lnTo>
                    <a:pt x="1266" y="780"/>
                  </a:lnTo>
                  <a:lnTo>
                    <a:pt x="1264" y="826"/>
                  </a:lnTo>
                  <a:lnTo>
                    <a:pt x="1262" y="874"/>
                  </a:lnTo>
                  <a:lnTo>
                    <a:pt x="1257" y="918"/>
                  </a:lnTo>
                  <a:lnTo>
                    <a:pt x="1254" y="960"/>
                  </a:lnTo>
                  <a:lnTo>
                    <a:pt x="1248" y="993"/>
                  </a:lnTo>
                  <a:lnTo>
                    <a:pt x="1245" y="1022"/>
                  </a:lnTo>
                  <a:lnTo>
                    <a:pt x="1242" y="1040"/>
                  </a:lnTo>
                  <a:lnTo>
                    <a:pt x="1242" y="1047"/>
                  </a:lnTo>
                  <a:lnTo>
                    <a:pt x="1208" y="1282"/>
                  </a:lnTo>
                  <a:lnTo>
                    <a:pt x="1233" y="1424"/>
                  </a:lnTo>
                  <a:lnTo>
                    <a:pt x="1274" y="1299"/>
                  </a:lnTo>
                  <a:lnTo>
                    <a:pt x="1332" y="1064"/>
                  </a:lnTo>
                  <a:lnTo>
                    <a:pt x="1390" y="888"/>
                  </a:lnTo>
                  <a:lnTo>
                    <a:pt x="1480" y="612"/>
                  </a:lnTo>
                  <a:lnTo>
                    <a:pt x="1554" y="361"/>
                  </a:lnTo>
                  <a:lnTo>
                    <a:pt x="1644" y="159"/>
                  </a:lnTo>
                  <a:lnTo>
                    <a:pt x="1693" y="106"/>
                  </a:lnTo>
                  <a:lnTo>
                    <a:pt x="1738" y="67"/>
                  </a:lnTo>
                  <a:lnTo>
                    <a:pt x="1776" y="37"/>
                  </a:lnTo>
                  <a:lnTo>
                    <a:pt x="1808" y="19"/>
                  </a:lnTo>
                  <a:lnTo>
                    <a:pt x="1832" y="7"/>
                  </a:lnTo>
                  <a:lnTo>
                    <a:pt x="1851" y="2"/>
                  </a:lnTo>
                  <a:lnTo>
                    <a:pt x="1862" y="0"/>
                  </a:lnTo>
                  <a:lnTo>
                    <a:pt x="1867" y="0"/>
                  </a:lnTo>
                  <a:lnTo>
                    <a:pt x="1903" y="24"/>
                  </a:lnTo>
                  <a:lnTo>
                    <a:pt x="1930" y="48"/>
                  </a:lnTo>
                  <a:lnTo>
                    <a:pt x="1947" y="72"/>
                  </a:lnTo>
                  <a:lnTo>
                    <a:pt x="1958" y="98"/>
                  </a:lnTo>
                  <a:lnTo>
                    <a:pt x="1961" y="127"/>
                  </a:lnTo>
                  <a:lnTo>
                    <a:pt x="1962" y="158"/>
                  </a:lnTo>
                  <a:lnTo>
                    <a:pt x="1960" y="193"/>
                  </a:lnTo>
                  <a:lnTo>
                    <a:pt x="1958" y="235"/>
                  </a:lnTo>
                  <a:lnTo>
                    <a:pt x="1951" y="283"/>
                  </a:lnTo>
                  <a:lnTo>
                    <a:pt x="1940" y="339"/>
                  </a:lnTo>
                  <a:lnTo>
                    <a:pt x="1927" y="399"/>
                  </a:lnTo>
                  <a:lnTo>
                    <a:pt x="1913" y="458"/>
                  </a:lnTo>
                  <a:lnTo>
                    <a:pt x="1898" y="510"/>
                  </a:lnTo>
                  <a:lnTo>
                    <a:pt x="1887" y="554"/>
                  </a:lnTo>
                  <a:lnTo>
                    <a:pt x="1878" y="584"/>
                  </a:lnTo>
                  <a:lnTo>
                    <a:pt x="1876" y="595"/>
                  </a:lnTo>
                  <a:lnTo>
                    <a:pt x="1861" y="666"/>
                  </a:lnTo>
                  <a:lnTo>
                    <a:pt x="1848" y="741"/>
                  </a:lnTo>
                  <a:lnTo>
                    <a:pt x="1833" y="816"/>
                  </a:lnTo>
                  <a:lnTo>
                    <a:pt x="1821" y="886"/>
                  </a:lnTo>
                  <a:lnTo>
                    <a:pt x="1809" y="946"/>
                  </a:lnTo>
                  <a:lnTo>
                    <a:pt x="1801" y="995"/>
                  </a:lnTo>
                  <a:lnTo>
                    <a:pt x="1794" y="1026"/>
                  </a:lnTo>
                  <a:lnTo>
                    <a:pt x="1793" y="1039"/>
                  </a:lnTo>
                  <a:lnTo>
                    <a:pt x="1763" y="1141"/>
                  </a:lnTo>
                  <a:lnTo>
                    <a:pt x="1739" y="1232"/>
                  </a:lnTo>
                  <a:lnTo>
                    <a:pt x="1718" y="1313"/>
                  </a:lnTo>
                  <a:lnTo>
                    <a:pt x="1701" y="1384"/>
                  </a:lnTo>
                  <a:lnTo>
                    <a:pt x="1688" y="1442"/>
                  </a:lnTo>
                  <a:lnTo>
                    <a:pt x="1680" y="1488"/>
                  </a:lnTo>
                  <a:lnTo>
                    <a:pt x="1677" y="1521"/>
                  </a:lnTo>
                  <a:lnTo>
                    <a:pt x="1678" y="1541"/>
                  </a:lnTo>
                  <a:lnTo>
                    <a:pt x="1681" y="1553"/>
                  </a:lnTo>
                  <a:lnTo>
                    <a:pt x="1689" y="1565"/>
                  </a:lnTo>
                  <a:lnTo>
                    <a:pt x="1698" y="1575"/>
                  </a:lnTo>
                  <a:lnTo>
                    <a:pt x="1709" y="1587"/>
                  </a:lnTo>
                  <a:lnTo>
                    <a:pt x="1718" y="1594"/>
                  </a:lnTo>
                  <a:lnTo>
                    <a:pt x="1727" y="1601"/>
                  </a:lnTo>
                  <a:lnTo>
                    <a:pt x="1732" y="1606"/>
                  </a:lnTo>
                  <a:lnTo>
                    <a:pt x="1736" y="1608"/>
                  </a:lnTo>
                  <a:lnTo>
                    <a:pt x="1801" y="1566"/>
                  </a:lnTo>
                  <a:lnTo>
                    <a:pt x="1848" y="1468"/>
                  </a:lnTo>
                  <a:lnTo>
                    <a:pt x="1893" y="1384"/>
                  </a:lnTo>
                  <a:lnTo>
                    <a:pt x="1933" y="1312"/>
                  </a:lnTo>
                  <a:lnTo>
                    <a:pt x="1970" y="1253"/>
                  </a:lnTo>
                  <a:lnTo>
                    <a:pt x="1999" y="1206"/>
                  </a:lnTo>
                  <a:lnTo>
                    <a:pt x="2021" y="1173"/>
                  </a:lnTo>
                  <a:lnTo>
                    <a:pt x="2035" y="1153"/>
                  </a:lnTo>
                  <a:lnTo>
                    <a:pt x="2040" y="1147"/>
                  </a:lnTo>
                  <a:lnTo>
                    <a:pt x="2094" y="1064"/>
                  </a:lnTo>
                  <a:lnTo>
                    <a:pt x="2137" y="987"/>
                  </a:lnTo>
                  <a:lnTo>
                    <a:pt x="2173" y="917"/>
                  </a:lnTo>
                  <a:lnTo>
                    <a:pt x="2201" y="858"/>
                  </a:lnTo>
                  <a:lnTo>
                    <a:pt x="2221" y="807"/>
                  </a:lnTo>
                  <a:lnTo>
                    <a:pt x="2235" y="769"/>
                  </a:lnTo>
                  <a:lnTo>
                    <a:pt x="2243" y="746"/>
                  </a:lnTo>
                  <a:lnTo>
                    <a:pt x="2246" y="738"/>
                  </a:lnTo>
                  <a:lnTo>
                    <a:pt x="2293" y="629"/>
                  </a:lnTo>
                  <a:lnTo>
                    <a:pt x="2337" y="539"/>
                  </a:lnTo>
                  <a:lnTo>
                    <a:pt x="2378" y="465"/>
                  </a:lnTo>
                  <a:lnTo>
                    <a:pt x="2416" y="408"/>
                  </a:lnTo>
                  <a:lnTo>
                    <a:pt x="2449" y="368"/>
                  </a:lnTo>
                  <a:lnTo>
                    <a:pt x="2479" y="344"/>
                  </a:lnTo>
                  <a:lnTo>
                    <a:pt x="2504" y="335"/>
                  </a:lnTo>
                  <a:lnTo>
                    <a:pt x="2526" y="344"/>
                  </a:lnTo>
                  <a:lnTo>
                    <a:pt x="2545" y="356"/>
                  </a:lnTo>
                  <a:lnTo>
                    <a:pt x="2567" y="365"/>
                  </a:lnTo>
                  <a:lnTo>
                    <a:pt x="2590" y="374"/>
                  </a:lnTo>
                  <a:lnTo>
                    <a:pt x="2611" y="388"/>
                  </a:lnTo>
                  <a:lnTo>
                    <a:pt x="2627" y="408"/>
                  </a:lnTo>
                  <a:lnTo>
                    <a:pt x="2640" y="441"/>
                  </a:lnTo>
                  <a:lnTo>
                    <a:pt x="2644" y="488"/>
                  </a:lnTo>
                  <a:lnTo>
                    <a:pt x="2641" y="553"/>
                  </a:lnTo>
                  <a:lnTo>
                    <a:pt x="2628" y="631"/>
                  </a:lnTo>
                  <a:lnTo>
                    <a:pt x="2613" y="716"/>
                  </a:lnTo>
                  <a:lnTo>
                    <a:pt x="2595" y="801"/>
                  </a:lnTo>
                  <a:lnTo>
                    <a:pt x="2577" y="883"/>
                  </a:lnTo>
                  <a:lnTo>
                    <a:pt x="2560" y="954"/>
                  </a:lnTo>
                  <a:lnTo>
                    <a:pt x="2546" y="1012"/>
                  </a:lnTo>
                  <a:lnTo>
                    <a:pt x="2536" y="1049"/>
                  </a:lnTo>
                  <a:lnTo>
                    <a:pt x="2534" y="1064"/>
                  </a:lnTo>
                  <a:lnTo>
                    <a:pt x="2435" y="1357"/>
                  </a:lnTo>
                  <a:lnTo>
                    <a:pt x="2378" y="1467"/>
                  </a:lnTo>
                  <a:lnTo>
                    <a:pt x="2332" y="1559"/>
                  </a:lnTo>
                  <a:lnTo>
                    <a:pt x="2292" y="1634"/>
                  </a:lnTo>
                  <a:lnTo>
                    <a:pt x="2260" y="1694"/>
                  </a:lnTo>
                  <a:lnTo>
                    <a:pt x="2235" y="1738"/>
                  </a:lnTo>
                  <a:lnTo>
                    <a:pt x="2218" y="1769"/>
                  </a:lnTo>
                  <a:lnTo>
                    <a:pt x="2208" y="1786"/>
                  </a:lnTo>
                  <a:lnTo>
                    <a:pt x="2205" y="1792"/>
                  </a:lnTo>
                  <a:lnTo>
                    <a:pt x="2123" y="1918"/>
                  </a:lnTo>
                  <a:lnTo>
                    <a:pt x="2107" y="1996"/>
                  </a:lnTo>
                  <a:lnTo>
                    <a:pt x="2094" y="2064"/>
                  </a:lnTo>
                  <a:lnTo>
                    <a:pt x="2082" y="2120"/>
                  </a:lnTo>
                  <a:lnTo>
                    <a:pt x="2074" y="2166"/>
                  </a:lnTo>
                  <a:lnTo>
                    <a:pt x="2066" y="2200"/>
                  </a:lnTo>
                  <a:lnTo>
                    <a:pt x="2060" y="2225"/>
                  </a:lnTo>
                  <a:lnTo>
                    <a:pt x="2057" y="2240"/>
                  </a:lnTo>
                  <a:lnTo>
                    <a:pt x="2057" y="2245"/>
                  </a:lnTo>
                  <a:lnTo>
                    <a:pt x="2054" y="2341"/>
                  </a:lnTo>
                  <a:lnTo>
                    <a:pt x="2052" y="2431"/>
                  </a:lnTo>
                  <a:lnTo>
                    <a:pt x="2052" y="2511"/>
                  </a:lnTo>
                  <a:lnTo>
                    <a:pt x="2054" y="2582"/>
                  </a:lnTo>
                  <a:lnTo>
                    <a:pt x="2054" y="2641"/>
                  </a:lnTo>
                  <a:lnTo>
                    <a:pt x="2055" y="2688"/>
                  </a:lnTo>
                  <a:lnTo>
                    <a:pt x="2056" y="2721"/>
                  </a:lnTo>
                  <a:lnTo>
                    <a:pt x="2057" y="2740"/>
                  </a:lnTo>
                  <a:lnTo>
                    <a:pt x="2056" y="2749"/>
                  </a:lnTo>
                  <a:lnTo>
                    <a:pt x="2056" y="2758"/>
                  </a:lnTo>
                  <a:lnTo>
                    <a:pt x="2056" y="2767"/>
                  </a:lnTo>
                  <a:lnTo>
                    <a:pt x="2058" y="2777"/>
                  </a:lnTo>
                  <a:lnTo>
                    <a:pt x="2061" y="2784"/>
                  </a:lnTo>
                  <a:lnTo>
                    <a:pt x="2069" y="2791"/>
                  </a:lnTo>
                  <a:lnTo>
                    <a:pt x="2080" y="2795"/>
                  </a:lnTo>
                  <a:lnTo>
                    <a:pt x="2098" y="2797"/>
                  </a:lnTo>
                  <a:lnTo>
                    <a:pt x="2117" y="2799"/>
                  </a:lnTo>
                  <a:lnTo>
                    <a:pt x="2138" y="2804"/>
                  </a:lnTo>
                  <a:lnTo>
                    <a:pt x="2160" y="2810"/>
                  </a:lnTo>
                  <a:lnTo>
                    <a:pt x="2185" y="2816"/>
                  </a:lnTo>
                  <a:lnTo>
                    <a:pt x="2208" y="2817"/>
                  </a:lnTo>
                  <a:lnTo>
                    <a:pt x="2233" y="2814"/>
                  </a:lnTo>
                  <a:lnTo>
                    <a:pt x="2255" y="2805"/>
                  </a:lnTo>
                  <a:lnTo>
                    <a:pt x="2278" y="2790"/>
                  </a:lnTo>
                  <a:lnTo>
                    <a:pt x="2304" y="2764"/>
                  </a:lnTo>
                  <a:lnTo>
                    <a:pt x="2339" y="2733"/>
                  </a:lnTo>
                  <a:lnTo>
                    <a:pt x="2380" y="2700"/>
                  </a:lnTo>
                  <a:lnTo>
                    <a:pt x="2425" y="2667"/>
                  </a:lnTo>
                  <a:lnTo>
                    <a:pt x="2469" y="2636"/>
                  </a:lnTo>
                  <a:lnTo>
                    <a:pt x="2515" y="2607"/>
                  </a:lnTo>
                  <a:lnTo>
                    <a:pt x="2556" y="2586"/>
                  </a:lnTo>
                  <a:lnTo>
                    <a:pt x="2592" y="2572"/>
                  </a:lnTo>
                  <a:lnTo>
                    <a:pt x="2626" y="2562"/>
                  </a:lnTo>
                  <a:lnTo>
                    <a:pt x="2670" y="2554"/>
                  </a:lnTo>
                  <a:lnTo>
                    <a:pt x="2717" y="2547"/>
                  </a:lnTo>
                  <a:lnTo>
                    <a:pt x="2769" y="2544"/>
                  </a:lnTo>
                  <a:lnTo>
                    <a:pt x="2816" y="2542"/>
                  </a:lnTo>
                  <a:lnTo>
                    <a:pt x="2862" y="2543"/>
                  </a:lnTo>
                  <a:lnTo>
                    <a:pt x="2900" y="2546"/>
                  </a:lnTo>
                  <a:lnTo>
                    <a:pt x="2929" y="2555"/>
                  </a:lnTo>
                  <a:lnTo>
                    <a:pt x="2954" y="2565"/>
                  </a:lnTo>
                  <a:lnTo>
                    <a:pt x="2988" y="2581"/>
                  </a:lnTo>
                  <a:lnTo>
                    <a:pt x="3023" y="2597"/>
                  </a:lnTo>
                  <a:lnTo>
                    <a:pt x="3061" y="2614"/>
                  </a:lnTo>
                  <a:lnTo>
                    <a:pt x="3096" y="2630"/>
                  </a:lnTo>
                  <a:lnTo>
                    <a:pt x="3124" y="2644"/>
                  </a:lnTo>
                  <a:lnTo>
                    <a:pt x="3143" y="2651"/>
                  </a:lnTo>
                  <a:lnTo>
                    <a:pt x="3151" y="2656"/>
                  </a:lnTo>
                  <a:lnTo>
                    <a:pt x="3154" y="2661"/>
                  </a:lnTo>
                  <a:lnTo>
                    <a:pt x="3166" y="2675"/>
                  </a:lnTo>
                  <a:lnTo>
                    <a:pt x="3179" y="2697"/>
                  </a:lnTo>
                  <a:lnTo>
                    <a:pt x="3192" y="2723"/>
                  </a:lnTo>
                  <a:lnTo>
                    <a:pt x="3200" y="2749"/>
                  </a:lnTo>
                  <a:lnTo>
                    <a:pt x="3202" y="2775"/>
                  </a:lnTo>
                  <a:lnTo>
                    <a:pt x="3192" y="2797"/>
                  </a:lnTo>
                  <a:lnTo>
                    <a:pt x="3168" y="2814"/>
                  </a:lnTo>
                  <a:lnTo>
                    <a:pt x="3132" y="2826"/>
                  </a:lnTo>
                  <a:lnTo>
                    <a:pt x="3099" y="2837"/>
                  </a:lnTo>
                  <a:lnTo>
                    <a:pt x="3064" y="2847"/>
                  </a:lnTo>
                  <a:lnTo>
                    <a:pt x="3032" y="2857"/>
                  </a:lnTo>
                  <a:lnTo>
                    <a:pt x="3000" y="2868"/>
                  </a:lnTo>
                  <a:lnTo>
                    <a:pt x="2971" y="2879"/>
                  </a:lnTo>
                  <a:lnTo>
                    <a:pt x="2944" y="2891"/>
                  </a:lnTo>
                  <a:lnTo>
                    <a:pt x="2921" y="2907"/>
                  </a:lnTo>
                  <a:lnTo>
                    <a:pt x="2895" y="2923"/>
                  </a:lnTo>
                  <a:lnTo>
                    <a:pt x="2865" y="2942"/>
                  </a:lnTo>
                  <a:lnTo>
                    <a:pt x="2832" y="2963"/>
                  </a:lnTo>
                  <a:lnTo>
                    <a:pt x="2800" y="2983"/>
                  </a:lnTo>
                  <a:lnTo>
                    <a:pt x="2767" y="3001"/>
                  </a:lnTo>
                  <a:lnTo>
                    <a:pt x="2739" y="3018"/>
                  </a:lnTo>
                  <a:lnTo>
                    <a:pt x="2714" y="3031"/>
                  </a:lnTo>
                  <a:lnTo>
                    <a:pt x="2699" y="3041"/>
                  </a:lnTo>
                  <a:lnTo>
                    <a:pt x="2679" y="3049"/>
                  </a:lnTo>
                  <a:lnTo>
                    <a:pt x="2648" y="3063"/>
                  </a:lnTo>
                  <a:lnTo>
                    <a:pt x="2611" y="3079"/>
                  </a:lnTo>
                  <a:lnTo>
                    <a:pt x="2571" y="3100"/>
                  </a:lnTo>
                  <a:lnTo>
                    <a:pt x="2530" y="3119"/>
                  </a:lnTo>
                  <a:lnTo>
                    <a:pt x="2492" y="3138"/>
                  </a:lnTo>
                  <a:lnTo>
                    <a:pt x="2461" y="3154"/>
                  </a:lnTo>
                  <a:lnTo>
                    <a:pt x="2443" y="3166"/>
                  </a:lnTo>
                  <a:lnTo>
                    <a:pt x="2422" y="3182"/>
                  </a:lnTo>
                  <a:lnTo>
                    <a:pt x="2389" y="3212"/>
                  </a:lnTo>
                  <a:lnTo>
                    <a:pt x="2349" y="3248"/>
                  </a:lnTo>
                  <a:lnTo>
                    <a:pt x="2307" y="3289"/>
                  </a:lnTo>
                  <a:lnTo>
                    <a:pt x="2265" y="3326"/>
                  </a:lnTo>
                  <a:lnTo>
                    <a:pt x="2229" y="3360"/>
                  </a:lnTo>
                  <a:lnTo>
                    <a:pt x="2205" y="3383"/>
                  </a:lnTo>
                  <a:lnTo>
                    <a:pt x="2196" y="3393"/>
                  </a:lnTo>
                  <a:lnTo>
                    <a:pt x="2024" y="3484"/>
                  </a:lnTo>
                  <a:lnTo>
                    <a:pt x="2018" y="3488"/>
                  </a:lnTo>
                  <a:lnTo>
                    <a:pt x="2002" y="3500"/>
                  </a:lnTo>
                  <a:lnTo>
                    <a:pt x="1980" y="3518"/>
                  </a:lnTo>
                  <a:lnTo>
                    <a:pt x="1955" y="3541"/>
                  </a:lnTo>
                  <a:lnTo>
                    <a:pt x="1926" y="3564"/>
                  </a:lnTo>
                  <a:lnTo>
                    <a:pt x="1897" y="3590"/>
                  </a:lnTo>
                  <a:lnTo>
                    <a:pt x="1871" y="3613"/>
                  </a:lnTo>
                  <a:lnTo>
                    <a:pt x="1850" y="3635"/>
                  </a:lnTo>
                  <a:lnTo>
                    <a:pt x="1828" y="3652"/>
                  </a:lnTo>
                  <a:lnTo>
                    <a:pt x="1803" y="3670"/>
                  </a:lnTo>
                  <a:lnTo>
                    <a:pt x="1773" y="3687"/>
                  </a:lnTo>
                  <a:lnTo>
                    <a:pt x="1742" y="3705"/>
                  </a:lnTo>
                  <a:lnTo>
                    <a:pt x="1708" y="3723"/>
                  </a:lnTo>
                  <a:lnTo>
                    <a:pt x="1673" y="3745"/>
                  </a:lnTo>
                  <a:lnTo>
                    <a:pt x="1638" y="3767"/>
                  </a:lnTo>
                  <a:lnTo>
                    <a:pt x="1604" y="3795"/>
                  </a:lnTo>
                  <a:lnTo>
                    <a:pt x="1571" y="3818"/>
                  </a:lnTo>
                  <a:lnTo>
                    <a:pt x="1541" y="3839"/>
                  </a:lnTo>
                  <a:lnTo>
                    <a:pt x="1513" y="3853"/>
                  </a:lnTo>
                  <a:lnTo>
                    <a:pt x="1488" y="3866"/>
                  </a:lnTo>
                  <a:lnTo>
                    <a:pt x="1463" y="3873"/>
                  </a:lnTo>
                  <a:lnTo>
                    <a:pt x="1441" y="3879"/>
                  </a:lnTo>
                  <a:lnTo>
                    <a:pt x="1419" y="3883"/>
                  </a:lnTo>
                  <a:lnTo>
                    <a:pt x="1399" y="3887"/>
                  </a:lnTo>
                  <a:lnTo>
                    <a:pt x="1373" y="3890"/>
                  </a:lnTo>
                  <a:lnTo>
                    <a:pt x="1345" y="3892"/>
                  </a:lnTo>
                  <a:lnTo>
                    <a:pt x="1315" y="3894"/>
                  </a:lnTo>
                  <a:lnTo>
                    <a:pt x="1286" y="3898"/>
                  </a:lnTo>
                  <a:lnTo>
                    <a:pt x="1258" y="3899"/>
                  </a:lnTo>
                  <a:lnTo>
                    <a:pt x="1236" y="3901"/>
                  </a:lnTo>
                  <a:lnTo>
                    <a:pt x="1222" y="3902"/>
                  </a:lnTo>
                  <a:lnTo>
                    <a:pt x="1217" y="3903"/>
                  </a:lnTo>
                  <a:lnTo>
                    <a:pt x="1218" y="3920"/>
                  </a:lnTo>
                  <a:lnTo>
                    <a:pt x="1222" y="3941"/>
                  </a:lnTo>
                  <a:lnTo>
                    <a:pt x="1225" y="3964"/>
                  </a:lnTo>
                  <a:lnTo>
                    <a:pt x="1228" y="3994"/>
                  </a:lnTo>
                  <a:lnTo>
                    <a:pt x="1226" y="4025"/>
                  </a:lnTo>
                  <a:lnTo>
                    <a:pt x="1220" y="4064"/>
                  </a:lnTo>
                  <a:lnTo>
                    <a:pt x="1205" y="4106"/>
                  </a:lnTo>
                  <a:lnTo>
                    <a:pt x="1184" y="4154"/>
                  </a:lnTo>
                  <a:lnTo>
                    <a:pt x="1156" y="4218"/>
                  </a:lnTo>
                  <a:lnTo>
                    <a:pt x="1131" y="4303"/>
                  </a:lnTo>
                  <a:lnTo>
                    <a:pt x="1103" y="4394"/>
                  </a:lnTo>
                  <a:lnTo>
                    <a:pt x="1073" y="4484"/>
                  </a:lnTo>
                  <a:lnTo>
                    <a:pt x="1036" y="4554"/>
                  </a:lnTo>
                  <a:lnTo>
                    <a:pt x="992" y="4597"/>
                  </a:lnTo>
                  <a:lnTo>
                    <a:pt x="937" y="4598"/>
                  </a:lnTo>
                  <a:lnTo>
                    <a:pt x="871" y="4548"/>
                  </a:lnTo>
                  <a:lnTo>
                    <a:pt x="801" y="4465"/>
                  </a:lnTo>
                  <a:lnTo>
                    <a:pt x="742" y="4382"/>
                  </a:lnTo>
                  <a:lnTo>
                    <a:pt x="688" y="4302"/>
                  </a:lnTo>
                  <a:lnTo>
                    <a:pt x="638" y="4227"/>
                  </a:lnTo>
                  <a:lnTo>
                    <a:pt x="586" y="4159"/>
                  </a:lnTo>
                  <a:lnTo>
                    <a:pt x="530" y="4103"/>
                  </a:lnTo>
                  <a:lnTo>
                    <a:pt x="467" y="4062"/>
                  </a:lnTo>
                  <a:lnTo>
                    <a:pt x="393" y="4038"/>
                  </a:lnTo>
                  <a:lnTo>
                    <a:pt x="315" y="4023"/>
                  </a:lnTo>
                  <a:lnTo>
                    <a:pt x="245" y="4012"/>
                  </a:lnTo>
                  <a:lnTo>
                    <a:pt x="182" y="4001"/>
                  </a:lnTo>
                  <a:lnTo>
                    <a:pt x="129" y="3989"/>
                  </a:lnTo>
                  <a:lnTo>
                    <a:pt x="82" y="3971"/>
                  </a:lnTo>
                  <a:lnTo>
                    <a:pt x="46" y="3950"/>
                  </a:lnTo>
                  <a:lnTo>
                    <a:pt x="21" y="3918"/>
                  </a:lnTo>
                  <a:lnTo>
                    <a:pt x="6" y="3878"/>
                  </a:lnTo>
                  <a:lnTo>
                    <a:pt x="0" y="3831"/>
                  </a:lnTo>
                  <a:lnTo>
                    <a:pt x="0" y="3787"/>
                  </a:lnTo>
                  <a:lnTo>
                    <a:pt x="3" y="3745"/>
                  </a:lnTo>
                  <a:lnTo>
                    <a:pt x="10" y="3709"/>
                  </a:lnTo>
                  <a:lnTo>
                    <a:pt x="16" y="3678"/>
                  </a:lnTo>
                  <a:lnTo>
                    <a:pt x="24" y="3654"/>
                  </a:lnTo>
                  <a:lnTo>
                    <a:pt x="30" y="3639"/>
                  </a:lnTo>
                  <a:lnTo>
                    <a:pt x="32" y="3635"/>
                  </a:lnTo>
                  <a:close/>
                </a:path>
              </a:pathLst>
            </a:custGeom>
            <a:solidFill>
              <a:srgbClr val="ffc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30600" y="1157040"/>
              <a:ext cx="558720" cy="887400"/>
            </a:xfrm>
            <a:custGeom>
              <a:avLst/>
              <a:gdLst/>
              <a:ahLst/>
              <a:rect l="l" t="t" r="r" b="b"/>
              <a:pathLst>
                <a:path w="3169" h="4474">
                  <a:moveTo>
                    <a:pt x="73" y="3570"/>
                  </a:moveTo>
                  <a:lnTo>
                    <a:pt x="77" y="3542"/>
                  </a:lnTo>
                  <a:lnTo>
                    <a:pt x="81" y="3510"/>
                  </a:lnTo>
                  <a:lnTo>
                    <a:pt x="85" y="3477"/>
                  </a:lnTo>
                  <a:lnTo>
                    <a:pt x="90" y="3444"/>
                  </a:lnTo>
                  <a:lnTo>
                    <a:pt x="93" y="3413"/>
                  </a:lnTo>
                  <a:lnTo>
                    <a:pt x="97" y="3391"/>
                  </a:lnTo>
                  <a:lnTo>
                    <a:pt x="99" y="3375"/>
                  </a:lnTo>
                  <a:lnTo>
                    <a:pt x="101" y="3369"/>
                  </a:lnTo>
                  <a:lnTo>
                    <a:pt x="75" y="3276"/>
                  </a:lnTo>
                  <a:lnTo>
                    <a:pt x="56" y="3197"/>
                  </a:lnTo>
                  <a:lnTo>
                    <a:pt x="41" y="3127"/>
                  </a:lnTo>
                  <a:lnTo>
                    <a:pt x="32" y="3067"/>
                  </a:lnTo>
                  <a:lnTo>
                    <a:pt x="28" y="3013"/>
                  </a:lnTo>
                  <a:lnTo>
                    <a:pt x="30" y="2966"/>
                  </a:lnTo>
                  <a:lnTo>
                    <a:pt x="37" y="2924"/>
                  </a:lnTo>
                  <a:lnTo>
                    <a:pt x="51" y="2886"/>
                  </a:lnTo>
                  <a:lnTo>
                    <a:pt x="66" y="2838"/>
                  </a:lnTo>
                  <a:lnTo>
                    <a:pt x="81" y="2779"/>
                  </a:lnTo>
                  <a:lnTo>
                    <a:pt x="95" y="2711"/>
                  </a:lnTo>
                  <a:lnTo>
                    <a:pt x="109" y="2644"/>
                  </a:lnTo>
                  <a:lnTo>
                    <a:pt x="119" y="2576"/>
                  </a:lnTo>
                  <a:lnTo>
                    <a:pt x="129" y="2518"/>
                  </a:lnTo>
                  <a:lnTo>
                    <a:pt x="135" y="2473"/>
                  </a:lnTo>
                  <a:lnTo>
                    <a:pt x="137" y="2447"/>
                  </a:lnTo>
                  <a:lnTo>
                    <a:pt x="138" y="2413"/>
                  </a:lnTo>
                  <a:lnTo>
                    <a:pt x="143" y="2354"/>
                  </a:lnTo>
                  <a:lnTo>
                    <a:pt x="150" y="2276"/>
                  </a:lnTo>
                  <a:lnTo>
                    <a:pt x="159" y="2191"/>
                  </a:lnTo>
                  <a:lnTo>
                    <a:pt x="167" y="2105"/>
                  </a:lnTo>
                  <a:lnTo>
                    <a:pt x="173" y="2030"/>
                  </a:lnTo>
                  <a:lnTo>
                    <a:pt x="179" y="1975"/>
                  </a:lnTo>
                  <a:lnTo>
                    <a:pt x="181" y="1949"/>
                  </a:lnTo>
                  <a:lnTo>
                    <a:pt x="183" y="1927"/>
                  </a:lnTo>
                  <a:lnTo>
                    <a:pt x="189" y="1890"/>
                  </a:lnTo>
                  <a:lnTo>
                    <a:pt x="198" y="1840"/>
                  </a:lnTo>
                  <a:lnTo>
                    <a:pt x="209" y="1787"/>
                  </a:lnTo>
                  <a:lnTo>
                    <a:pt x="218" y="1734"/>
                  </a:lnTo>
                  <a:lnTo>
                    <a:pt x="228" y="1688"/>
                  </a:lnTo>
                  <a:lnTo>
                    <a:pt x="234" y="1657"/>
                  </a:lnTo>
                  <a:lnTo>
                    <a:pt x="237" y="1645"/>
                  </a:lnTo>
                  <a:lnTo>
                    <a:pt x="255" y="1409"/>
                  </a:lnTo>
                  <a:lnTo>
                    <a:pt x="232" y="1304"/>
                  </a:lnTo>
                  <a:lnTo>
                    <a:pt x="218" y="1206"/>
                  </a:lnTo>
                  <a:lnTo>
                    <a:pt x="208" y="1116"/>
                  </a:lnTo>
                  <a:lnTo>
                    <a:pt x="204" y="1039"/>
                  </a:lnTo>
                  <a:lnTo>
                    <a:pt x="201" y="973"/>
                  </a:lnTo>
                  <a:lnTo>
                    <a:pt x="201" y="926"/>
                  </a:lnTo>
                  <a:lnTo>
                    <a:pt x="202" y="894"/>
                  </a:lnTo>
                  <a:lnTo>
                    <a:pt x="204" y="884"/>
                  </a:lnTo>
                  <a:lnTo>
                    <a:pt x="215" y="777"/>
                  </a:lnTo>
                  <a:lnTo>
                    <a:pt x="222" y="691"/>
                  </a:lnTo>
                  <a:lnTo>
                    <a:pt x="227" y="622"/>
                  </a:lnTo>
                  <a:lnTo>
                    <a:pt x="231" y="570"/>
                  </a:lnTo>
                  <a:lnTo>
                    <a:pt x="236" y="531"/>
                  </a:lnTo>
                  <a:lnTo>
                    <a:pt x="244" y="503"/>
                  </a:lnTo>
                  <a:lnTo>
                    <a:pt x="257" y="485"/>
                  </a:lnTo>
                  <a:lnTo>
                    <a:pt x="278" y="477"/>
                  </a:lnTo>
                  <a:lnTo>
                    <a:pt x="304" y="471"/>
                  </a:lnTo>
                  <a:lnTo>
                    <a:pt x="330" y="467"/>
                  </a:lnTo>
                  <a:lnTo>
                    <a:pt x="356" y="466"/>
                  </a:lnTo>
                  <a:lnTo>
                    <a:pt x="383" y="469"/>
                  </a:lnTo>
                  <a:lnTo>
                    <a:pt x="406" y="475"/>
                  </a:lnTo>
                  <a:lnTo>
                    <a:pt x="426" y="485"/>
                  </a:lnTo>
                  <a:lnTo>
                    <a:pt x="441" y="499"/>
                  </a:lnTo>
                  <a:lnTo>
                    <a:pt x="451" y="519"/>
                  </a:lnTo>
                  <a:lnTo>
                    <a:pt x="458" y="548"/>
                  </a:lnTo>
                  <a:lnTo>
                    <a:pt x="468" y="589"/>
                  </a:lnTo>
                  <a:lnTo>
                    <a:pt x="478" y="638"/>
                  </a:lnTo>
                  <a:lnTo>
                    <a:pt x="490" y="691"/>
                  </a:lnTo>
                  <a:lnTo>
                    <a:pt x="499" y="745"/>
                  </a:lnTo>
                  <a:lnTo>
                    <a:pt x="508" y="795"/>
                  </a:lnTo>
                  <a:lnTo>
                    <a:pt x="514" y="838"/>
                  </a:lnTo>
                  <a:lnTo>
                    <a:pt x="517" y="871"/>
                  </a:lnTo>
                  <a:lnTo>
                    <a:pt x="517" y="903"/>
                  </a:lnTo>
                  <a:lnTo>
                    <a:pt x="519" y="949"/>
                  </a:lnTo>
                  <a:lnTo>
                    <a:pt x="522" y="1003"/>
                  </a:lnTo>
                  <a:lnTo>
                    <a:pt x="527" y="1061"/>
                  </a:lnTo>
                  <a:lnTo>
                    <a:pt x="532" y="1117"/>
                  </a:lnTo>
                  <a:lnTo>
                    <a:pt x="537" y="1169"/>
                  </a:lnTo>
                  <a:lnTo>
                    <a:pt x="544" y="1211"/>
                  </a:lnTo>
                  <a:lnTo>
                    <a:pt x="550" y="1240"/>
                  </a:lnTo>
                  <a:lnTo>
                    <a:pt x="556" y="1264"/>
                  </a:lnTo>
                  <a:lnTo>
                    <a:pt x="563" y="1297"/>
                  </a:lnTo>
                  <a:lnTo>
                    <a:pt x="569" y="1335"/>
                  </a:lnTo>
                  <a:lnTo>
                    <a:pt x="576" y="1376"/>
                  </a:lnTo>
                  <a:lnTo>
                    <a:pt x="582" y="1412"/>
                  </a:lnTo>
                  <a:lnTo>
                    <a:pt x="587" y="1444"/>
                  </a:lnTo>
                  <a:lnTo>
                    <a:pt x="589" y="1465"/>
                  </a:lnTo>
                  <a:lnTo>
                    <a:pt x="592" y="1474"/>
                  </a:lnTo>
                  <a:lnTo>
                    <a:pt x="665" y="1533"/>
                  </a:lnTo>
                  <a:lnTo>
                    <a:pt x="696" y="1464"/>
                  </a:lnTo>
                  <a:lnTo>
                    <a:pt x="723" y="1395"/>
                  </a:lnTo>
                  <a:lnTo>
                    <a:pt x="744" y="1327"/>
                  </a:lnTo>
                  <a:lnTo>
                    <a:pt x="761" y="1266"/>
                  </a:lnTo>
                  <a:lnTo>
                    <a:pt x="772" y="1212"/>
                  </a:lnTo>
                  <a:lnTo>
                    <a:pt x="781" y="1170"/>
                  </a:lnTo>
                  <a:lnTo>
                    <a:pt x="785" y="1142"/>
                  </a:lnTo>
                  <a:lnTo>
                    <a:pt x="787" y="1133"/>
                  </a:lnTo>
                  <a:lnTo>
                    <a:pt x="817" y="1003"/>
                  </a:lnTo>
                  <a:lnTo>
                    <a:pt x="843" y="901"/>
                  </a:lnTo>
                  <a:lnTo>
                    <a:pt x="862" y="824"/>
                  </a:lnTo>
                  <a:lnTo>
                    <a:pt x="877" y="768"/>
                  </a:lnTo>
                  <a:lnTo>
                    <a:pt x="887" y="729"/>
                  </a:lnTo>
                  <a:lnTo>
                    <a:pt x="895" y="706"/>
                  </a:lnTo>
                  <a:lnTo>
                    <a:pt x="899" y="695"/>
                  </a:lnTo>
                  <a:lnTo>
                    <a:pt x="901" y="692"/>
                  </a:lnTo>
                  <a:lnTo>
                    <a:pt x="902" y="681"/>
                  </a:lnTo>
                  <a:lnTo>
                    <a:pt x="906" y="652"/>
                  </a:lnTo>
                  <a:lnTo>
                    <a:pt x="913" y="610"/>
                  </a:lnTo>
                  <a:lnTo>
                    <a:pt x="922" y="562"/>
                  </a:lnTo>
                  <a:lnTo>
                    <a:pt x="929" y="511"/>
                  </a:lnTo>
                  <a:lnTo>
                    <a:pt x="935" y="467"/>
                  </a:lnTo>
                  <a:lnTo>
                    <a:pt x="941" y="431"/>
                  </a:lnTo>
                  <a:lnTo>
                    <a:pt x="943" y="413"/>
                  </a:lnTo>
                  <a:lnTo>
                    <a:pt x="945" y="399"/>
                  </a:lnTo>
                  <a:lnTo>
                    <a:pt x="951" y="382"/>
                  </a:lnTo>
                  <a:lnTo>
                    <a:pt x="960" y="361"/>
                  </a:lnTo>
                  <a:lnTo>
                    <a:pt x="971" y="340"/>
                  </a:lnTo>
                  <a:lnTo>
                    <a:pt x="980" y="320"/>
                  </a:lnTo>
                  <a:lnTo>
                    <a:pt x="990" y="304"/>
                  </a:lnTo>
                  <a:lnTo>
                    <a:pt x="995" y="292"/>
                  </a:lnTo>
                  <a:lnTo>
                    <a:pt x="999" y="288"/>
                  </a:lnTo>
                  <a:lnTo>
                    <a:pt x="1018" y="225"/>
                  </a:lnTo>
                  <a:lnTo>
                    <a:pt x="1045" y="175"/>
                  </a:lnTo>
                  <a:lnTo>
                    <a:pt x="1076" y="138"/>
                  </a:lnTo>
                  <a:lnTo>
                    <a:pt x="1111" y="113"/>
                  </a:lnTo>
                  <a:lnTo>
                    <a:pt x="1142" y="97"/>
                  </a:lnTo>
                  <a:lnTo>
                    <a:pt x="1170" y="93"/>
                  </a:lnTo>
                  <a:lnTo>
                    <a:pt x="1190" y="96"/>
                  </a:lnTo>
                  <a:lnTo>
                    <a:pt x="1200" y="108"/>
                  </a:lnTo>
                  <a:lnTo>
                    <a:pt x="1204" y="124"/>
                  </a:lnTo>
                  <a:lnTo>
                    <a:pt x="1212" y="145"/>
                  </a:lnTo>
                  <a:lnTo>
                    <a:pt x="1222" y="166"/>
                  </a:lnTo>
                  <a:lnTo>
                    <a:pt x="1233" y="190"/>
                  </a:lnTo>
                  <a:lnTo>
                    <a:pt x="1242" y="214"/>
                  </a:lnTo>
                  <a:lnTo>
                    <a:pt x="1252" y="239"/>
                  </a:lnTo>
                  <a:lnTo>
                    <a:pt x="1258" y="262"/>
                  </a:lnTo>
                  <a:lnTo>
                    <a:pt x="1261" y="286"/>
                  </a:lnTo>
                  <a:lnTo>
                    <a:pt x="1259" y="311"/>
                  </a:lnTo>
                  <a:lnTo>
                    <a:pt x="1257" y="342"/>
                  </a:lnTo>
                  <a:lnTo>
                    <a:pt x="1253" y="373"/>
                  </a:lnTo>
                  <a:lnTo>
                    <a:pt x="1250" y="407"/>
                  </a:lnTo>
                  <a:lnTo>
                    <a:pt x="1245" y="436"/>
                  </a:lnTo>
                  <a:lnTo>
                    <a:pt x="1242" y="460"/>
                  </a:lnTo>
                  <a:lnTo>
                    <a:pt x="1240" y="477"/>
                  </a:lnTo>
                  <a:lnTo>
                    <a:pt x="1240" y="484"/>
                  </a:lnTo>
                  <a:lnTo>
                    <a:pt x="1217" y="755"/>
                  </a:lnTo>
                  <a:lnTo>
                    <a:pt x="1214" y="801"/>
                  </a:lnTo>
                  <a:lnTo>
                    <a:pt x="1211" y="847"/>
                  </a:lnTo>
                  <a:lnTo>
                    <a:pt x="1207" y="890"/>
                  </a:lnTo>
                  <a:lnTo>
                    <a:pt x="1202" y="931"/>
                  </a:lnTo>
                  <a:lnTo>
                    <a:pt x="1197" y="964"/>
                  </a:lnTo>
                  <a:lnTo>
                    <a:pt x="1192" y="991"/>
                  </a:lnTo>
                  <a:lnTo>
                    <a:pt x="1189" y="1008"/>
                  </a:lnTo>
                  <a:lnTo>
                    <a:pt x="1189" y="1015"/>
                  </a:lnTo>
                  <a:lnTo>
                    <a:pt x="1153" y="1275"/>
                  </a:lnTo>
                  <a:lnTo>
                    <a:pt x="1200" y="1438"/>
                  </a:lnTo>
                  <a:lnTo>
                    <a:pt x="1251" y="1317"/>
                  </a:lnTo>
                  <a:lnTo>
                    <a:pt x="1308" y="1087"/>
                  </a:lnTo>
                  <a:lnTo>
                    <a:pt x="1367" y="907"/>
                  </a:lnTo>
                  <a:lnTo>
                    <a:pt x="1457" y="630"/>
                  </a:lnTo>
                  <a:lnTo>
                    <a:pt x="1531" y="382"/>
                  </a:lnTo>
                  <a:lnTo>
                    <a:pt x="1620" y="175"/>
                  </a:lnTo>
                  <a:lnTo>
                    <a:pt x="1669" y="121"/>
                  </a:lnTo>
                  <a:lnTo>
                    <a:pt x="1713" y="79"/>
                  </a:lnTo>
                  <a:lnTo>
                    <a:pt x="1749" y="47"/>
                  </a:lnTo>
                  <a:lnTo>
                    <a:pt x="1779" y="27"/>
                  </a:lnTo>
                  <a:lnTo>
                    <a:pt x="1803" y="12"/>
                  </a:lnTo>
                  <a:lnTo>
                    <a:pt x="1819" y="4"/>
                  </a:lnTo>
                  <a:lnTo>
                    <a:pt x="1829" y="0"/>
                  </a:lnTo>
                  <a:lnTo>
                    <a:pt x="1834" y="0"/>
                  </a:lnTo>
                  <a:lnTo>
                    <a:pt x="1869" y="24"/>
                  </a:lnTo>
                  <a:lnTo>
                    <a:pt x="1895" y="46"/>
                  </a:lnTo>
                  <a:lnTo>
                    <a:pt x="1910" y="68"/>
                  </a:lnTo>
                  <a:lnTo>
                    <a:pt x="1919" y="93"/>
                  </a:lnTo>
                  <a:lnTo>
                    <a:pt x="1920" y="118"/>
                  </a:lnTo>
                  <a:lnTo>
                    <a:pt x="1918" y="147"/>
                  </a:lnTo>
                  <a:lnTo>
                    <a:pt x="1915" y="181"/>
                  </a:lnTo>
                  <a:lnTo>
                    <a:pt x="1912" y="223"/>
                  </a:lnTo>
                  <a:lnTo>
                    <a:pt x="1905" y="271"/>
                  </a:lnTo>
                  <a:lnTo>
                    <a:pt x="1895" y="327"/>
                  </a:lnTo>
                  <a:lnTo>
                    <a:pt x="1882" y="385"/>
                  </a:lnTo>
                  <a:lnTo>
                    <a:pt x="1867" y="443"/>
                  </a:lnTo>
                  <a:lnTo>
                    <a:pt x="1853" y="494"/>
                  </a:lnTo>
                  <a:lnTo>
                    <a:pt x="1842" y="537"/>
                  </a:lnTo>
                  <a:lnTo>
                    <a:pt x="1833" y="566"/>
                  </a:lnTo>
                  <a:lnTo>
                    <a:pt x="1830" y="577"/>
                  </a:lnTo>
                  <a:lnTo>
                    <a:pt x="1816" y="647"/>
                  </a:lnTo>
                  <a:lnTo>
                    <a:pt x="1803" y="722"/>
                  </a:lnTo>
                  <a:lnTo>
                    <a:pt x="1788" y="794"/>
                  </a:lnTo>
                  <a:lnTo>
                    <a:pt x="1776" y="864"/>
                  </a:lnTo>
                  <a:lnTo>
                    <a:pt x="1764" y="923"/>
                  </a:lnTo>
                  <a:lnTo>
                    <a:pt x="1755" y="972"/>
                  </a:lnTo>
                  <a:lnTo>
                    <a:pt x="1748" y="1003"/>
                  </a:lnTo>
                  <a:lnTo>
                    <a:pt x="1747" y="1015"/>
                  </a:lnTo>
                  <a:lnTo>
                    <a:pt x="1717" y="1118"/>
                  </a:lnTo>
                  <a:lnTo>
                    <a:pt x="1690" y="1214"/>
                  </a:lnTo>
                  <a:lnTo>
                    <a:pt x="1667" y="1301"/>
                  </a:lnTo>
                  <a:lnTo>
                    <a:pt x="1648" y="1378"/>
                  </a:lnTo>
                  <a:lnTo>
                    <a:pt x="1632" y="1443"/>
                  </a:lnTo>
                  <a:lnTo>
                    <a:pt x="1622" y="1495"/>
                  </a:lnTo>
                  <a:lnTo>
                    <a:pt x="1617" y="1531"/>
                  </a:lnTo>
                  <a:lnTo>
                    <a:pt x="1618" y="1554"/>
                  </a:lnTo>
                  <a:lnTo>
                    <a:pt x="1624" y="1565"/>
                  </a:lnTo>
                  <a:lnTo>
                    <a:pt x="1635" y="1576"/>
                  </a:lnTo>
                  <a:lnTo>
                    <a:pt x="1648" y="1585"/>
                  </a:lnTo>
                  <a:lnTo>
                    <a:pt x="1664" y="1593"/>
                  </a:lnTo>
                  <a:lnTo>
                    <a:pt x="1677" y="1599"/>
                  </a:lnTo>
                  <a:lnTo>
                    <a:pt x="1690" y="1603"/>
                  </a:lnTo>
                  <a:lnTo>
                    <a:pt x="1698" y="1606"/>
                  </a:lnTo>
                  <a:lnTo>
                    <a:pt x="1703" y="1608"/>
                  </a:lnTo>
                  <a:lnTo>
                    <a:pt x="1783" y="1593"/>
                  </a:lnTo>
                  <a:lnTo>
                    <a:pt x="1829" y="1496"/>
                  </a:lnTo>
                  <a:lnTo>
                    <a:pt x="1874" y="1413"/>
                  </a:lnTo>
                  <a:lnTo>
                    <a:pt x="1914" y="1343"/>
                  </a:lnTo>
                  <a:lnTo>
                    <a:pt x="1949" y="1288"/>
                  </a:lnTo>
                  <a:lnTo>
                    <a:pt x="1977" y="1244"/>
                  </a:lnTo>
                  <a:lnTo>
                    <a:pt x="1999" y="1213"/>
                  </a:lnTo>
                  <a:lnTo>
                    <a:pt x="2013" y="1195"/>
                  </a:lnTo>
                  <a:lnTo>
                    <a:pt x="2018" y="1189"/>
                  </a:lnTo>
                  <a:lnTo>
                    <a:pt x="2072" y="1106"/>
                  </a:lnTo>
                  <a:lnTo>
                    <a:pt x="2115" y="1026"/>
                  </a:lnTo>
                  <a:lnTo>
                    <a:pt x="2151" y="953"/>
                  </a:lnTo>
                  <a:lnTo>
                    <a:pt x="2178" y="890"/>
                  </a:lnTo>
                  <a:lnTo>
                    <a:pt x="2198" y="836"/>
                  </a:lnTo>
                  <a:lnTo>
                    <a:pt x="2212" y="795"/>
                  </a:lnTo>
                  <a:lnTo>
                    <a:pt x="2220" y="769"/>
                  </a:lnTo>
                  <a:lnTo>
                    <a:pt x="2223" y="761"/>
                  </a:lnTo>
                  <a:lnTo>
                    <a:pt x="2270" y="653"/>
                  </a:lnTo>
                  <a:lnTo>
                    <a:pt x="2313" y="561"/>
                  </a:lnTo>
                  <a:lnTo>
                    <a:pt x="2352" y="485"/>
                  </a:lnTo>
                  <a:lnTo>
                    <a:pt x="2389" y="426"/>
                  </a:lnTo>
                  <a:lnTo>
                    <a:pt x="2420" y="383"/>
                  </a:lnTo>
                  <a:lnTo>
                    <a:pt x="2448" y="359"/>
                  </a:lnTo>
                  <a:lnTo>
                    <a:pt x="2472" y="350"/>
                  </a:lnTo>
                  <a:lnTo>
                    <a:pt x="2493" y="357"/>
                  </a:lnTo>
                  <a:lnTo>
                    <a:pt x="2512" y="369"/>
                  </a:lnTo>
                  <a:lnTo>
                    <a:pt x="2534" y="377"/>
                  </a:lnTo>
                  <a:lnTo>
                    <a:pt x="2557" y="383"/>
                  </a:lnTo>
                  <a:lnTo>
                    <a:pt x="2578" y="395"/>
                  </a:lnTo>
                  <a:lnTo>
                    <a:pt x="2594" y="413"/>
                  </a:lnTo>
                  <a:lnTo>
                    <a:pt x="2607" y="443"/>
                  </a:lnTo>
                  <a:lnTo>
                    <a:pt x="2611" y="488"/>
                  </a:lnTo>
                  <a:lnTo>
                    <a:pt x="2608" y="553"/>
                  </a:lnTo>
                  <a:lnTo>
                    <a:pt x="2595" y="631"/>
                  </a:lnTo>
                  <a:lnTo>
                    <a:pt x="2580" y="716"/>
                  </a:lnTo>
                  <a:lnTo>
                    <a:pt x="2562" y="801"/>
                  </a:lnTo>
                  <a:lnTo>
                    <a:pt x="2544" y="883"/>
                  </a:lnTo>
                  <a:lnTo>
                    <a:pt x="2527" y="954"/>
                  </a:lnTo>
                  <a:lnTo>
                    <a:pt x="2513" y="1012"/>
                  </a:lnTo>
                  <a:lnTo>
                    <a:pt x="2503" y="1049"/>
                  </a:lnTo>
                  <a:lnTo>
                    <a:pt x="2501" y="1064"/>
                  </a:lnTo>
                  <a:lnTo>
                    <a:pt x="2402" y="1357"/>
                  </a:lnTo>
                  <a:lnTo>
                    <a:pt x="2345" y="1467"/>
                  </a:lnTo>
                  <a:lnTo>
                    <a:pt x="2299" y="1559"/>
                  </a:lnTo>
                  <a:lnTo>
                    <a:pt x="2259" y="1634"/>
                  </a:lnTo>
                  <a:lnTo>
                    <a:pt x="2227" y="1694"/>
                  </a:lnTo>
                  <a:lnTo>
                    <a:pt x="2202" y="1738"/>
                  </a:lnTo>
                  <a:lnTo>
                    <a:pt x="2185" y="1769"/>
                  </a:lnTo>
                  <a:lnTo>
                    <a:pt x="2175" y="1786"/>
                  </a:lnTo>
                  <a:lnTo>
                    <a:pt x="2172" y="1792"/>
                  </a:lnTo>
                  <a:lnTo>
                    <a:pt x="2090" y="1918"/>
                  </a:lnTo>
                  <a:lnTo>
                    <a:pt x="2074" y="1996"/>
                  </a:lnTo>
                  <a:lnTo>
                    <a:pt x="2061" y="2064"/>
                  </a:lnTo>
                  <a:lnTo>
                    <a:pt x="2049" y="2120"/>
                  </a:lnTo>
                  <a:lnTo>
                    <a:pt x="2041" y="2166"/>
                  </a:lnTo>
                  <a:lnTo>
                    <a:pt x="2033" y="2200"/>
                  </a:lnTo>
                  <a:lnTo>
                    <a:pt x="2027" y="2225"/>
                  </a:lnTo>
                  <a:lnTo>
                    <a:pt x="2024" y="2240"/>
                  </a:lnTo>
                  <a:lnTo>
                    <a:pt x="2024" y="2245"/>
                  </a:lnTo>
                  <a:lnTo>
                    <a:pt x="2021" y="2341"/>
                  </a:lnTo>
                  <a:lnTo>
                    <a:pt x="2019" y="2431"/>
                  </a:lnTo>
                  <a:lnTo>
                    <a:pt x="2019" y="2511"/>
                  </a:lnTo>
                  <a:lnTo>
                    <a:pt x="2021" y="2582"/>
                  </a:lnTo>
                  <a:lnTo>
                    <a:pt x="2021" y="2641"/>
                  </a:lnTo>
                  <a:lnTo>
                    <a:pt x="2022" y="2688"/>
                  </a:lnTo>
                  <a:lnTo>
                    <a:pt x="2023" y="2721"/>
                  </a:lnTo>
                  <a:lnTo>
                    <a:pt x="2024" y="2740"/>
                  </a:lnTo>
                  <a:lnTo>
                    <a:pt x="2023" y="2749"/>
                  </a:lnTo>
                  <a:lnTo>
                    <a:pt x="2023" y="2758"/>
                  </a:lnTo>
                  <a:lnTo>
                    <a:pt x="2023" y="2767"/>
                  </a:lnTo>
                  <a:lnTo>
                    <a:pt x="2025" y="2777"/>
                  </a:lnTo>
                  <a:lnTo>
                    <a:pt x="2028" y="2784"/>
                  </a:lnTo>
                  <a:lnTo>
                    <a:pt x="2036" y="2791"/>
                  </a:lnTo>
                  <a:lnTo>
                    <a:pt x="2047" y="2795"/>
                  </a:lnTo>
                  <a:lnTo>
                    <a:pt x="2065" y="2797"/>
                  </a:lnTo>
                  <a:lnTo>
                    <a:pt x="2084" y="2799"/>
                  </a:lnTo>
                  <a:lnTo>
                    <a:pt x="2105" y="2804"/>
                  </a:lnTo>
                  <a:lnTo>
                    <a:pt x="2127" y="2810"/>
                  </a:lnTo>
                  <a:lnTo>
                    <a:pt x="2152" y="2816"/>
                  </a:lnTo>
                  <a:lnTo>
                    <a:pt x="2175" y="2817"/>
                  </a:lnTo>
                  <a:lnTo>
                    <a:pt x="2200" y="2814"/>
                  </a:lnTo>
                  <a:lnTo>
                    <a:pt x="2222" y="2805"/>
                  </a:lnTo>
                  <a:lnTo>
                    <a:pt x="2245" y="2790"/>
                  </a:lnTo>
                  <a:lnTo>
                    <a:pt x="2271" y="2764"/>
                  </a:lnTo>
                  <a:lnTo>
                    <a:pt x="2306" y="2733"/>
                  </a:lnTo>
                  <a:lnTo>
                    <a:pt x="2347" y="2700"/>
                  </a:lnTo>
                  <a:lnTo>
                    <a:pt x="2392" y="2667"/>
                  </a:lnTo>
                  <a:lnTo>
                    <a:pt x="2436" y="2636"/>
                  </a:lnTo>
                  <a:lnTo>
                    <a:pt x="2482" y="2607"/>
                  </a:lnTo>
                  <a:lnTo>
                    <a:pt x="2523" y="2586"/>
                  </a:lnTo>
                  <a:lnTo>
                    <a:pt x="2559" y="2572"/>
                  </a:lnTo>
                  <a:lnTo>
                    <a:pt x="2593" y="2562"/>
                  </a:lnTo>
                  <a:lnTo>
                    <a:pt x="2637" y="2554"/>
                  </a:lnTo>
                  <a:lnTo>
                    <a:pt x="2684" y="2547"/>
                  </a:lnTo>
                  <a:lnTo>
                    <a:pt x="2736" y="2544"/>
                  </a:lnTo>
                  <a:lnTo>
                    <a:pt x="2783" y="2542"/>
                  </a:lnTo>
                  <a:lnTo>
                    <a:pt x="2829" y="2543"/>
                  </a:lnTo>
                  <a:lnTo>
                    <a:pt x="2867" y="2546"/>
                  </a:lnTo>
                  <a:lnTo>
                    <a:pt x="2896" y="2555"/>
                  </a:lnTo>
                  <a:lnTo>
                    <a:pt x="2921" y="2565"/>
                  </a:lnTo>
                  <a:lnTo>
                    <a:pt x="2955" y="2581"/>
                  </a:lnTo>
                  <a:lnTo>
                    <a:pt x="2990" y="2597"/>
                  </a:lnTo>
                  <a:lnTo>
                    <a:pt x="3028" y="2614"/>
                  </a:lnTo>
                  <a:lnTo>
                    <a:pt x="3063" y="2630"/>
                  </a:lnTo>
                  <a:lnTo>
                    <a:pt x="3091" y="2644"/>
                  </a:lnTo>
                  <a:lnTo>
                    <a:pt x="3110" y="2651"/>
                  </a:lnTo>
                  <a:lnTo>
                    <a:pt x="3118" y="2656"/>
                  </a:lnTo>
                  <a:lnTo>
                    <a:pt x="3121" y="2661"/>
                  </a:lnTo>
                  <a:lnTo>
                    <a:pt x="3133" y="2675"/>
                  </a:lnTo>
                  <a:lnTo>
                    <a:pt x="3146" y="2697"/>
                  </a:lnTo>
                  <a:lnTo>
                    <a:pt x="3159" y="2723"/>
                  </a:lnTo>
                  <a:lnTo>
                    <a:pt x="3167" y="2749"/>
                  </a:lnTo>
                  <a:lnTo>
                    <a:pt x="3169" y="2775"/>
                  </a:lnTo>
                  <a:lnTo>
                    <a:pt x="3159" y="2797"/>
                  </a:lnTo>
                  <a:lnTo>
                    <a:pt x="3135" y="2814"/>
                  </a:lnTo>
                  <a:lnTo>
                    <a:pt x="3099" y="2825"/>
                  </a:lnTo>
                  <a:lnTo>
                    <a:pt x="3066" y="2833"/>
                  </a:lnTo>
                  <a:lnTo>
                    <a:pt x="3031" y="2838"/>
                  </a:lnTo>
                  <a:lnTo>
                    <a:pt x="2999" y="2844"/>
                  </a:lnTo>
                  <a:lnTo>
                    <a:pt x="2967" y="2848"/>
                  </a:lnTo>
                  <a:lnTo>
                    <a:pt x="2938" y="2855"/>
                  </a:lnTo>
                  <a:lnTo>
                    <a:pt x="2911" y="2863"/>
                  </a:lnTo>
                  <a:lnTo>
                    <a:pt x="2888" y="2874"/>
                  </a:lnTo>
                  <a:lnTo>
                    <a:pt x="2861" y="2888"/>
                  </a:lnTo>
                  <a:lnTo>
                    <a:pt x="2831" y="2905"/>
                  </a:lnTo>
                  <a:lnTo>
                    <a:pt x="2799" y="2923"/>
                  </a:lnTo>
                  <a:lnTo>
                    <a:pt x="2767" y="2942"/>
                  </a:lnTo>
                  <a:lnTo>
                    <a:pt x="2734" y="2959"/>
                  </a:lnTo>
                  <a:lnTo>
                    <a:pt x="2707" y="2976"/>
                  </a:lnTo>
                  <a:lnTo>
                    <a:pt x="2682" y="2989"/>
                  </a:lnTo>
                  <a:lnTo>
                    <a:pt x="2667" y="2999"/>
                  </a:lnTo>
                  <a:lnTo>
                    <a:pt x="2647" y="3007"/>
                  </a:lnTo>
                  <a:lnTo>
                    <a:pt x="2618" y="3022"/>
                  </a:lnTo>
                  <a:lnTo>
                    <a:pt x="2581" y="3037"/>
                  </a:lnTo>
                  <a:lnTo>
                    <a:pt x="2542" y="3058"/>
                  </a:lnTo>
                  <a:lnTo>
                    <a:pt x="2502" y="3076"/>
                  </a:lnTo>
                  <a:lnTo>
                    <a:pt x="2465" y="3095"/>
                  </a:lnTo>
                  <a:lnTo>
                    <a:pt x="2436" y="3111"/>
                  </a:lnTo>
                  <a:lnTo>
                    <a:pt x="2419" y="3123"/>
                  </a:lnTo>
                  <a:lnTo>
                    <a:pt x="2398" y="3139"/>
                  </a:lnTo>
                  <a:lnTo>
                    <a:pt x="2364" y="3169"/>
                  </a:lnTo>
                  <a:lnTo>
                    <a:pt x="2322" y="3205"/>
                  </a:lnTo>
                  <a:lnTo>
                    <a:pt x="2279" y="3246"/>
                  </a:lnTo>
                  <a:lnTo>
                    <a:pt x="2235" y="3283"/>
                  </a:lnTo>
                  <a:lnTo>
                    <a:pt x="2198" y="3317"/>
                  </a:lnTo>
                  <a:lnTo>
                    <a:pt x="2173" y="3340"/>
                  </a:lnTo>
                  <a:lnTo>
                    <a:pt x="2164" y="3350"/>
                  </a:lnTo>
                  <a:lnTo>
                    <a:pt x="1989" y="3455"/>
                  </a:lnTo>
                  <a:lnTo>
                    <a:pt x="1984" y="3458"/>
                  </a:lnTo>
                  <a:lnTo>
                    <a:pt x="1968" y="3470"/>
                  </a:lnTo>
                  <a:lnTo>
                    <a:pt x="1946" y="3487"/>
                  </a:lnTo>
                  <a:lnTo>
                    <a:pt x="1922" y="3509"/>
                  </a:lnTo>
                  <a:lnTo>
                    <a:pt x="1893" y="3532"/>
                  </a:lnTo>
                  <a:lnTo>
                    <a:pt x="1864" y="3557"/>
                  </a:lnTo>
                  <a:lnTo>
                    <a:pt x="1838" y="3580"/>
                  </a:lnTo>
                  <a:lnTo>
                    <a:pt x="1817" y="3601"/>
                  </a:lnTo>
                  <a:lnTo>
                    <a:pt x="1796" y="3618"/>
                  </a:lnTo>
                  <a:lnTo>
                    <a:pt x="1771" y="3636"/>
                  </a:lnTo>
                  <a:lnTo>
                    <a:pt x="1743" y="3653"/>
                  </a:lnTo>
                  <a:lnTo>
                    <a:pt x="1713" y="3672"/>
                  </a:lnTo>
                  <a:lnTo>
                    <a:pt x="1679" y="3690"/>
                  </a:lnTo>
                  <a:lnTo>
                    <a:pt x="1646" y="3713"/>
                  </a:lnTo>
                  <a:lnTo>
                    <a:pt x="1610" y="3737"/>
                  </a:lnTo>
                  <a:lnTo>
                    <a:pt x="1577" y="3764"/>
                  </a:lnTo>
                  <a:lnTo>
                    <a:pt x="1544" y="3788"/>
                  </a:lnTo>
                  <a:lnTo>
                    <a:pt x="1515" y="3807"/>
                  </a:lnTo>
                  <a:lnTo>
                    <a:pt x="1488" y="3821"/>
                  </a:lnTo>
                  <a:lnTo>
                    <a:pt x="1465" y="3832"/>
                  </a:lnTo>
                  <a:lnTo>
                    <a:pt x="1441" y="3839"/>
                  </a:lnTo>
                  <a:lnTo>
                    <a:pt x="1420" y="3843"/>
                  </a:lnTo>
                  <a:lnTo>
                    <a:pt x="1399" y="3847"/>
                  </a:lnTo>
                  <a:lnTo>
                    <a:pt x="1378" y="3851"/>
                  </a:lnTo>
                  <a:lnTo>
                    <a:pt x="1353" y="3852"/>
                  </a:lnTo>
                  <a:lnTo>
                    <a:pt x="1326" y="3855"/>
                  </a:lnTo>
                  <a:lnTo>
                    <a:pt x="1296" y="3857"/>
                  </a:lnTo>
                  <a:lnTo>
                    <a:pt x="1267" y="3859"/>
                  </a:lnTo>
                  <a:lnTo>
                    <a:pt x="1240" y="3859"/>
                  </a:lnTo>
                  <a:lnTo>
                    <a:pt x="1219" y="3860"/>
                  </a:lnTo>
                  <a:lnTo>
                    <a:pt x="1204" y="3860"/>
                  </a:lnTo>
                  <a:lnTo>
                    <a:pt x="1200" y="3861"/>
                  </a:lnTo>
                  <a:lnTo>
                    <a:pt x="1200" y="3875"/>
                  </a:lnTo>
                  <a:lnTo>
                    <a:pt x="1202" y="3890"/>
                  </a:lnTo>
                  <a:lnTo>
                    <a:pt x="1203" y="3905"/>
                  </a:lnTo>
                  <a:lnTo>
                    <a:pt x="1203" y="3925"/>
                  </a:lnTo>
                  <a:lnTo>
                    <a:pt x="1198" y="3946"/>
                  </a:lnTo>
                  <a:lnTo>
                    <a:pt x="1189" y="3976"/>
                  </a:lnTo>
                  <a:lnTo>
                    <a:pt x="1173" y="4012"/>
                  </a:lnTo>
                  <a:lnTo>
                    <a:pt x="1151" y="4058"/>
                  </a:lnTo>
                  <a:lnTo>
                    <a:pt x="1124" y="4120"/>
                  </a:lnTo>
                  <a:lnTo>
                    <a:pt x="1101" y="4201"/>
                  </a:lnTo>
                  <a:lnTo>
                    <a:pt x="1078" y="4288"/>
                  </a:lnTo>
                  <a:lnTo>
                    <a:pt x="1052" y="4371"/>
                  </a:lnTo>
                  <a:lnTo>
                    <a:pt x="1019" y="4435"/>
                  </a:lnTo>
                  <a:lnTo>
                    <a:pt x="979" y="4474"/>
                  </a:lnTo>
                  <a:lnTo>
                    <a:pt x="926" y="4472"/>
                  </a:lnTo>
                  <a:lnTo>
                    <a:pt x="861" y="4420"/>
                  </a:lnTo>
                  <a:lnTo>
                    <a:pt x="792" y="4339"/>
                  </a:lnTo>
                  <a:lnTo>
                    <a:pt x="734" y="4264"/>
                  </a:lnTo>
                  <a:lnTo>
                    <a:pt x="683" y="4195"/>
                  </a:lnTo>
                  <a:lnTo>
                    <a:pt x="635" y="4134"/>
                  </a:lnTo>
                  <a:lnTo>
                    <a:pt x="584" y="4080"/>
                  </a:lnTo>
                  <a:lnTo>
                    <a:pt x="530" y="4036"/>
                  </a:lnTo>
                  <a:lnTo>
                    <a:pt x="468" y="4002"/>
                  </a:lnTo>
                  <a:lnTo>
                    <a:pt x="396" y="3981"/>
                  </a:lnTo>
                  <a:lnTo>
                    <a:pt x="318" y="3967"/>
                  </a:lnTo>
                  <a:lnTo>
                    <a:pt x="248" y="3958"/>
                  </a:lnTo>
                  <a:lnTo>
                    <a:pt x="185" y="3948"/>
                  </a:lnTo>
                  <a:lnTo>
                    <a:pt x="130" y="3941"/>
                  </a:lnTo>
                  <a:lnTo>
                    <a:pt x="83" y="3926"/>
                  </a:lnTo>
                  <a:lnTo>
                    <a:pt x="47" y="3905"/>
                  </a:lnTo>
                  <a:lnTo>
                    <a:pt x="20" y="3876"/>
                  </a:lnTo>
                  <a:lnTo>
                    <a:pt x="6" y="3836"/>
                  </a:lnTo>
                  <a:lnTo>
                    <a:pt x="0" y="3789"/>
                  </a:lnTo>
                  <a:lnTo>
                    <a:pt x="6" y="3741"/>
                  </a:lnTo>
                  <a:lnTo>
                    <a:pt x="16" y="3696"/>
                  </a:lnTo>
                  <a:lnTo>
                    <a:pt x="30" y="3656"/>
                  </a:lnTo>
                  <a:lnTo>
                    <a:pt x="44" y="3620"/>
                  </a:lnTo>
                  <a:lnTo>
                    <a:pt x="59" y="3594"/>
                  </a:lnTo>
                  <a:lnTo>
                    <a:pt x="69" y="3576"/>
                  </a:lnTo>
                  <a:lnTo>
                    <a:pt x="73" y="3570"/>
                  </a:lnTo>
                  <a:close/>
                </a:path>
              </a:pathLst>
            </a:custGeom>
            <a:solidFill>
              <a:srgbClr val="ffc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35280" y="1157040"/>
              <a:ext cx="554040" cy="863640"/>
            </a:xfrm>
            <a:custGeom>
              <a:avLst/>
              <a:gdLst/>
              <a:ahLst/>
              <a:rect l="l" t="t" r="r" b="b"/>
              <a:pathLst>
                <a:path w="3135" h="4350">
                  <a:moveTo>
                    <a:pt x="115" y="3506"/>
                  </a:moveTo>
                  <a:lnTo>
                    <a:pt x="116" y="3478"/>
                  </a:lnTo>
                  <a:lnTo>
                    <a:pt x="117" y="3449"/>
                  </a:lnTo>
                  <a:lnTo>
                    <a:pt x="116" y="3419"/>
                  </a:lnTo>
                  <a:lnTo>
                    <a:pt x="116" y="3392"/>
                  </a:lnTo>
                  <a:lnTo>
                    <a:pt x="114" y="3366"/>
                  </a:lnTo>
                  <a:lnTo>
                    <a:pt x="113" y="3346"/>
                  </a:lnTo>
                  <a:lnTo>
                    <a:pt x="112" y="3333"/>
                  </a:lnTo>
                  <a:lnTo>
                    <a:pt x="112" y="3328"/>
                  </a:lnTo>
                  <a:lnTo>
                    <a:pt x="85" y="3238"/>
                  </a:lnTo>
                  <a:lnTo>
                    <a:pt x="65" y="3162"/>
                  </a:lnTo>
                  <a:lnTo>
                    <a:pt x="48" y="3099"/>
                  </a:lnTo>
                  <a:lnTo>
                    <a:pt x="38" y="3045"/>
                  </a:lnTo>
                  <a:lnTo>
                    <a:pt x="33" y="2998"/>
                  </a:lnTo>
                  <a:lnTo>
                    <a:pt x="34" y="2957"/>
                  </a:lnTo>
                  <a:lnTo>
                    <a:pt x="39" y="2919"/>
                  </a:lnTo>
                  <a:lnTo>
                    <a:pt x="53" y="2882"/>
                  </a:lnTo>
                  <a:lnTo>
                    <a:pt x="67" y="2835"/>
                  </a:lnTo>
                  <a:lnTo>
                    <a:pt x="82" y="2777"/>
                  </a:lnTo>
                  <a:lnTo>
                    <a:pt x="95" y="2710"/>
                  </a:lnTo>
                  <a:lnTo>
                    <a:pt x="108" y="2642"/>
                  </a:lnTo>
                  <a:lnTo>
                    <a:pt x="118" y="2576"/>
                  </a:lnTo>
                  <a:lnTo>
                    <a:pt x="126" y="2518"/>
                  </a:lnTo>
                  <a:lnTo>
                    <a:pt x="132" y="2474"/>
                  </a:lnTo>
                  <a:lnTo>
                    <a:pt x="134" y="2448"/>
                  </a:lnTo>
                  <a:lnTo>
                    <a:pt x="135" y="2415"/>
                  </a:lnTo>
                  <a:lnTo>
                    <a:pt x="139" y="2356"/>
                  </a:lnTo>
                  <a:lnTo>
                    <a:pt x="145" y="2279"/>
                  </a:lnTo>
                  <a:lnTo>
                    <a:pt x="153" y="2194"/>
                  </a:lnTo>
                  <a:lnTo>
                    <a:pt x="160" y="2109"/>
                  </a:lnTo>
                  <a:lnTo>
                    <a:pt x="166" y="2035"/>
                  </a:lnTo>
                  <a:lnTo>
                    <a:pt x="171" y="1980"/>
                  </a:lnTo>
                  <a:lnTo>
                    <a:pt x="173" y="1954"/>
                  </a:lnTo>
                  <a:lnTo>
                    <a:pt x="174" y="1933"/>
                  </a:lnTo>
                  <a:lnTo>
                    <a:pt x="180" y="1895"/>
                  </a:lnTo>
                  <a:lnTo>
                    <a:pt x="186" y="1846"/>
                  </a:lnTo>
                  <a:lnTo>
                    <a:pt x="195" y="1792"/>
                  </a:lnTo>
                  <a:lnTo>
                    <a:pt x="203" y="1738"/>
                  </a:lnTo>
                  <a:lnTo>
                    <a:pt x="211" y="1693"/>
                  </a:lnTo>
                  <a:lnTo>
                    <a:pt x="216" y="1661"/>
                  </a:lnTo>
                  <a:lnTo>
                    <a:pt x="218" y="1650"/>
                  </a:lnTo>
                  <a:lnTo>
                    <a:pt x="237" y="1411"/>
                  </a:lnTo>
                  <a:lnTo>
                    <a:pt x="215" y="1306"/>
                  </a:lnTo>
                  <a:lnTo>
                    <a:pt x="201" y="1209"/>
                  </a:lnTo>
                  <a:lnTo>
                    <a:pt x="191" y="1119"/>
                  </a:lnTo>
                  <a:lnTo>
                    <a:pt x="186" y="1042"/>
                  </a:lnTo>
                  <a:lnTo>
                    <a:pt x="183" y="978"/>
                  </a:lnTo>
                  <a:lnTo>
                    <a:pt x="184" y="929"/>
                  </a:lnTo>
                  <a:lnTo>
                    <a:pt x="184" y="898"/>
                  </a:lnTo>
                  <a:lnTo>
                    <a:pt x="185" y="888"/>
                  </a:lnTo>
                  <a:lnTo>
                    <a:pt x="196" y="781"/>
                  </a:lnTo>
                  <a:lnTo>
                    <a:pt x="202" y="695"/>
                  </a:lnTo>
                  <a:lnTo>
                    <a:pt x="203" y="626"/>
                  </a:lnTo>
                  <a:lnTo>
                    <a:pt x="205" y="572"/>
                  </a:lnTo>
                  <a:lnTo>
                    <a:pt x="206" y="532"/>
                  </a:lnTo>
                  <a:lnTo>
                    <a:pt x="212" y="505"/>
                  </a:lnTo>
                  <a:lnTo>
                    <a:pt x="223" y="485"/>
                  </a:lnTo>
                  <a:lnTo>
                    <a:pt x="244" y="477"/>
                  </a:lnTo>
                  <a:lnTo>
                    <a:pt x="270" y="471"/>
                  </a:lnTo>
                  <a:lnTo>
                    <a:pt x="296" y="467"/>
                  </a:lnTo>
                  <a:lnTo>
                    <a:pt x="322" y="466"/>
                  </a:lnTo>
                  <a:lnTo>
                    <a:pt x="349" y="469"/>
                  </a:lnTo>
                  <a:lnTo>
                    <a:pt x="372" y="475"/>
                  </a:lnTo>
                  <a:lnTo>
                    <a:pt x="392" y="485"/>
                  </a:lnTo>
                  <a:lnTo>
                    <a:pt x="407" y="499"/>
                  </a:lnTo>
                  <a:lnTo>
                    <a:pt x="417" y="519"/>
                  </a:lnTo>
                  <a:lnTo>
                    <a:pt x="424" y="548"/>
                  </a:lnTo>
                  <a:lnTo>
                    <a:pt x="434" y="589"/>
                  </a:lnTo>
                  <a:lnTo>
                    <a:pt x="444" y="638"/>
                  </a:lnTo>
                  <a:lnTo>
                    <a:pt x="456" y="691"/>
                  </a:lnTo>
                  <a:lnTo>
                    <a:pt x="465" y="745"/>
                  </a:lnTo>
                  <a:lnTo>
                    <a:pt x="474" y="795"/>
                  </a:lnTo>
                  <a:lnTo>
                    <a:pt x="480" y="838"/>
                  </a:lnTo>
                  <a:lnTo>
                    <a:pt x="483" y="871"/>
                  </a:lnTo>
                  <a:lnTo>
                    <a:pt x="483" y="903"/>
                  </a:lnTo>
                  <a:lnTo>
                    <a:pt x="485" y="949"/>
                  </a:lnTo>
                  <a:lnTo>
                    <a:pt x="488" y="1003"/>
                  </a:lnTo>
                  <a:lnTo>
                    <a:pt x="493" y="1061"/>
                  </a:lnTo>
                  <a:lnTo>
                    <a:pt x="498" y="1117"/>
                  </a:lnTo>
                  <a:lnTo>
                    <a:pt x="503" y="1169"/>
                  </a:lnTo>
                  <a:lnTo>
                    <a:pt x="510" y="1211"/>
                  </a:lnTo>
                  <a:lnTo>
                    <a:pt x="516" y="1240"/>
                  </a:lnTo>
                  <a:lnTo>
                    <a:pt x="522" y="1264"/>
                  </a:lnTo>
                  <a:lnTo>
                    <a:pt x="529" y="1297"/>
                  </a:lnTo>
                  <a:lnTo>
                    <a:pt x="535" y="1335"/>
                  </a:lnTo>
                  <a:lnTo>
                    <a:pt x="542" y="1376"/>
                  </a:lnTo>
                  <a:lnTo>
                    <a:pt x="548" y="1412"/>
                  </a:lnTo>
                  <a:lnTo>
                    <a:pt x="553" y="1444"/>
                  </a:lnTo>
                  <a:lnTo>
                    <a:pt x="555" y="1465"/>
                  </a:lnTo>
                  <a:lnTo>
                    <a:pt x="558" y="1474"/>
                  </a:lnTo>
                  <a:lnTo>
                    <a:pt x="631" y="1533"/>
                  </a:lnTo>
                  <a:lnTo>
                    <a:pt x="664" y="1476"/>
                  </a:lnTo>
                  <a:lnTo>
                    <a:pt x="692" y="1413"/>
                  </a:lnTo>
                  <a:lnTo>
                    <a:pt x="714" y="1348"/>
                  </a:lnTo>
                  <a:lnTo>
                    <a:pt x="732" y="1285"/>
                  </a:lnTo>
                  <a:lnTo>
                    <a:pt x="744" y="1229"/>
                  </a:lnTo>
                  <a:lnTo>
                    <a:pt x="754" y="1184"/>
                  </a:lnTo>
                  <a:lnTo>
                    <a:pt x="759" y="1153"/>
                  </a:lnTo>
                  <a:lnTo>
                    <a:pt x="761" y="1143"/>
                  </a:lnTo>
                  <a:lnTo>
                    <a:pt x="791" y="1013"/>
                  </a:lnTo>
                  <a:lnTo>
                    <a:pt x="816" y="912"/>
                  </a:lnTo>
                  <a:lnTo>
                    <a:pt x="835" y="834"/>
                  </a:lnTo>
                  <a:lnTo>
                    <a:pt x="849" y="780"/>
                  </a:lnTo>
                  <a:lnTo>
                    <a:pt x="859" y="741"/>
                  </a:lnTo>
                  <a:lnTo>
                    <a:pt x="866" y="720"/>
                  </a:lnTo>
                  <a:lnTo>
                    <a:pt x="869" y="708"/>
                  </a:lnTo>
                  <a:lnTo>
                    <a:pt x="871" y="706"/>
                  </a:lnTo>
                  <a:lnTo>
                    <a:pt x="872" y="694"/>
                  </a:lnTo>
                  <a:lnTo>
                    <a:pt x="878" y="665"/>
                  </a:lnTo>
                  <a:lnTo>
                    <a:pt x="885" y="622"/>
                  </a:lnTo>
                  <a:lnTo>
                    <a:pt x="893" y="574"/>
                  </a:lnTo>
                  <a:lnTo>
                    <a:pt x="901" y="523"/>
                  </a:lnTo>
                  <a:lnTo>
                    <a:pt x="908" y="479"/>
                  </a:lnTo>
                  <a:lnTo>
                    <a:pt x="913" y="442"/>
                  </a:lnTo>
                  <a:lnTo>
                    <a:pt x="916" y="424"/>
                  </a:lnTo>
                  <a:lnTo>
                    <a:pt x="917" y="411"/>
                  </a:lnTo>
                  <a:lnTo>
                    <a:pt x="923" y="394"/>
                  </a:lnTo>
                  <a:lnTo>
                    <a:pt x="931" y="373"/>
                  </a:lnTo>
                  <a:lnTo>
                    <a:pt x="941" y="353"/>
                  </a:lnTo>
                  <a:lnTo>
                    <a:pt x="950" y="333"/>
                  </a:lnTo>
                  <a:lnTo>
                    <a:pt x="959" y="316"/>
                  </a:lnTo>
                  <a:lnTo>
                    <a:pt x="965" y="304"/>
                  </a:lnTo>
                  <a:lnTo>
                    <a:pt x="968" y="301"/>
                  </a:lnTo>
                  <a:lnTo>
                    <a:pt x="987" y="236"/>
                  </a:lnTo>
                  <a:lnTo>
                    <a:pt x="1015" y="187"/>
                  </a:lnTo>
                  <a:lnTo>
                    <a:pt x="1046" y="147"/>
                  </a:lnTo>
                  <a:lnTo>
                    <a:pt x="1079" y="120"/>
                  </a:lnTo>
                  <a:lnTo>
                    <a:pt x="1109" y="102"/>
                  </a:lnTo>
                  <a:lnTo>
                    <a:pt x="1137" y="95"/>
                  </a:lnTo>
                  <a:lnTo>
                    <a:pt x="1156" y="96"/>
                  </a:lnTo>
                  <a:lnTo>
                    <a:pt x="1166" y="108"/>
                  </a:lnTo>
                  <a:lnTo>
                    <a:pt x="1169" y="124"/>
                  </a:lnTo>
                  <a:lnTo>
                    <a:pt x="1176" y="144"/>
                  </a:lnTo>
                  <a:lnTo>
                    <a:pt x="1184" y="164"/>
                  </a:lnTo>
                  <a:lnTo>
                    <a:pt x="1193" y="187"/>
                  </a:lnTo>
                  <a:lnTo>
                    <a:pt x="1199" y="209"/>
                  </a:lnTo>
                  <a:lnTo>
                    <a:pt x="1207" y="233"/>
                  </a:lnTo>
                  <a:lnTo>
                    <a:pt x="1211" y="256"/>
                  </a:lnTo>
                  <a:lnTo>
                    <a:pt x="1214" y="279"/>
                  </a:lnTo>
                  <a:lnTo>
                    <a:pt x="1211" y="303"/>
                  </a:lnTo>
                  <a:lnTo>
                    <a:pt x="1210" y="333"/>
                  </a:lnTo>
                  <a:lnTo>
                    <a:pt x="1207" y="363"/>
                  </a:lnTo>
                  <a:lnTo>
                    <a:pt x="1204" y="395"/>
                  </a:lnTo>
                  <a:lnTo>
                    <a:pt x="1200" y="421"/>
                  </a:lnTo>
                  <a:lnTo>
                    <a:pt x="1197" y="445"/>
                  </a:lnTo>
                  <a:lnTo>
                    <a:pt x="1195" y="459"/>
                  </a:lnTo>
                  <a:lnTo>
                    <a:pt x="1195" y="466"/>
                  </a:lnTo>
                  <a:lnTo>
                    <a:pt x="1166" y="730"/>
                  </a:lnTo>
                  <a:lnTo>
                    <a:pt x="1164" y="775"/>
                  </a:lnTo>
                  <a:lnTo>
                    <a:pt x="1160" y="821"/>
                  </a:lnTo>
                  <a:lnTo>
                    <a:pt x="1155" y="863"/>
                  </a:lnTo>
                  <a:lnTo>
                    <a:pt x="1150" y="903"/>
                  </a:lnTo>
                  <a:lnTo>
                    <a:pt x="1144" y="935"/>
                  </a:lnTo>
                  <a:lnTo>
                    <a:pt x="1139" y="960"/>
                  </a:lnTo>
                  <a:lnTo>
                    <a:pt x="1136" y="975"/>
                  </a:lnTo>
                  <a:lnTo>
                    <a:pt x="1136" y="982"/>
                  </a:lnTo>
                  <a:lnTo>
                    <a:pt x="1096" y="1268"/>
                  </a:lnTo>
                  <a:lnTo>
                    <a:pt x="1165" y="1452"/>
                  </a:lnTo>
                  <a:lnTo>
                    <a:pt x="1226" y="1335"/>
                  </a:lnTo>
                  <a:lnTo>
                    <a:pt x="1283" y="1110"/>
                  </a:lnTo>
                  <a:lnTo>
                    <a:pt x="1343" y="927"/>
                  </a:lnTo>
                  <a:lnTo>
                    <a:pt x="1432" y="649"/>
                  </a:lnTo>
                  <a:lnTo>
                    <a:pt x="1507" y="405"/>
                  </a:lnTo>
                  <a:lnTo>
                    <a:pt x="1595" y="191"/>
                  </a:lnTo>
                  <a:lnTo>
                    <a:pt x="1643" y="136"/>
                  </a:lnTo>
                  <a:lnTo>
                    <a:pt x="1685" y="93"/>
                  </a:lnTo>
                  <a:lnTo>
                    <a:pt x="1721" y="59"/>
                  </a:lnTo>
                  <a:lnTo>
                    <a:pt x="1750" y="35"/>
                  </a:lnTo>
                  <a:lnTo>
                    <a:pt x="1771" y="17"/>
                  </a:lnTo>
                  <a:lnTo>
                    <a:pt x="1786" y="7"/>
                  </a:lnTo>
                  <a:lnTo>
                    <a:pt x="1796" y="1"/>
                  </a:lnTo>
                  <a:lnTo>
                    <a:pt x="1800" y="0"/>
                  </a:lnTo>
                  <a:lnTo>
                    <a:pt x="1835" y="22"/>
                  </a:lnTo>
                  <a:lnTo>
                    <a:pt x="1859" y="44"/>
                  </a:lnTo>
                  <a:lnTo>
                    <a:pt x="1872" y="64"/>
                  </a:lnTo>
                  <a:lnTo>
                    <a:pt x="1879" y="86"/>
                  </a:lnTo>
                  <a:lnTo>
                    <a:pt x="1878" y="110"/>
                  </a:lnTo>
                  <a:lnTo>
                    <a:pt x="1874" y="137"/>
                  </a:lnTo>
                  <a:lnTo>
                    <a:pt x="1869" y="170"/>
                  </a:lnTo>
                  <a:lnTo>
                    <a:pt x="1865" y="210"/>
                  </a:lnTo>
                  <a:lnTo>
                    <a:pt x="1859" y="258"/>
                  </a:lnTo>
                  <a:lnTo>
                    <a:pt x="1849" y="313"/>
                  </a:lnTo>
                  <a:lnTo>
                    <a:pt x="1835" y="371"/>
                  </a:lnTo>
                  <a:lnTo>
                    <a:pt x="1822" y="428"/>
                  </a:lnTo>
                  <a:lnTo>
                    <a:pt x="1808" y="477"/>
                  </a:lnTo>
                  <a:lnTo>
                    <a:pt x="1796" y="519"/>
                  </a:lnTo>
                  <a:lnTo>
                    <a:pt x="1788" y="546"/>
                  </a:lnTo>
                  <a:lnTo>
                    <a:pt x="1785" y="558"/>
                  </a:lnTo>
                  <a:lnTo>
                    <a:pt x="1771" y="628"/>
                  </a:lnTo>
                  <a:lnTo>
                    <a:pt x="1757" y="703"/>
                  </a:lnTo>
                  <a:lnTo>
                    <a:pt x="1743" y="774"/>
                  </a:lnTo>
                  <a:lnTo>
                    <a:pt x="1730" y="843"/>
                  </a:lnTo>
                  <a:lnTo>
                    <a:pt x="1717" y="902"/>
                  </a:lnTo>
                  <a:lnTo>
                    <a:pt x="1709" y="949"/>
                  </a:lnTo>
                  <a:lnTo>
                    <a:pt x="1702" y="980"/>
                  </a:lnTo>
                  <a:lnTo>
                    <a:pt x="1701" y="991"/>
                  </a:lnTo>
                  <a:lnTo>
                    <a:pt x="1670" y="1095"/>
                  </a:lnTo>
                  <a:lnTo>
                    <a:pt x="1642" y="1196"/>
                  </a:lnTo>
                  <a:lnTo>
                    <a:pt x="1616" y="1289"/>
                  </a:lnTo>
                  <a:lnTo>
                    <a:pt x="1595" y="1373"/>
                  </a:lnTo>
                  <a:lnTo>
                    <a:pt x="1576" y="1444"/>
                  </a:lnTo>
                  <a:lnTo>
                    <a:pt x="1564" y="1502"/>
                  </a:lnTo>
                  <a:lnTo>
                    <a:pt x="1557" y="1544"/>
                  </a:lnTo>
                  <a:lnTo>
                    <a:pt x="1557" y="1567"/>
                  </a:lnTo>
                  <a:lnTo>
                    <a:pt x="1564" y="1577"/>
                  </a:lnTo>
                  <a:lnTo>
                    <a:pt x="1578" y="1587"/>
                  </a:lnTo>
                  <a:lnTo>
                    <a:pt x="1595" y="1593"/>
                  </a:lnTo>
                  <a:lnTo>
                    <a:pt x="1616" y="1599"/>
                  </a:lnTo>
                  <a:lnTo>
                    <a:pt x="1635" y="1602"/>
                  </a:lnTo>
                  <a:lnTo>
                    <a:pt x="1652" y="1606"/>
                  </a:lnTo>
                  <a:lnTo>
                    <a:pt x="1663" y="1607"/>
                  </a:lnTo>
                  <a:lnTo>
                    <a:pt x="1669" y="1608"/>
                  </a:lnTo>
                  <a:lnTo>
                    <a:pt x="1763" y="1620"/>
                  </a:lnTo>
                  <a:lnTo>
                    <a:pt x="1810" y="1524"/>
                  </a:lnTo>
                  <a:lnTo>
                    <a:pt x="1854" y="1443"/>
                  </a:lnTo>
                  <a:lnTo>
                    <a:pt x="1893" y="1375"/>
                  </a:lnTo>
                  <a:lnTo>
                    <a:pt x="1928" y="1322"/>
                  </a:lnTo>
                  <a:lnTo>
                    <a:pt x="1954" y="1280"/>
                  </a:lnTo>
                  <a:lnTo>
                    <a:pt x="1975" y="1253"/>
                  </a:lnTo>
                  <a:lnTo>
                    <a:pt x="1989" y="1236"/>
                  </a:lnTo>
                  <a:lnTo>
                    <a:pt x="1994" y="1231"/>
                  </a:lnTo>
                  <a:lnTo>
                    <a:pt x="2048" y="1146"/>
                  </a:lnTo>
                  <a:lnTo>
                    <a:pt x="2091" y="1065"/>
                  </a:lnTo>
                  <a:lnTo>
                    <a:pt x="2127" y="989"/>
                  </a:lnTo>
                  <a:lnTo>
                    <a:pt x="2154" y="923"/>
                  </a:lnTo>
                  <a:lnTo>
                    <a:pt x="2174" y="866"/>
                  </a:lnTo>
                  <a:lnTo>
                    <a:pt x="2188" y="823"/>
                  </a:lnTo>
                  <a:lnTo>
                    <a:pt x="2196" y="794"/>
                  </a:lnTo>
                  <a:lnTo>
                    <a:pt x="2199" y="785"/>
                  </a:lnTo>
                  <a:lnTo>
                    <a:pt x="2245" y="675"/>
                  </a:lnTo>
                  <a:lnTo>
                    <a:pt x="2288" y="583"/>
                  </a:lnTo>
                  <a:lnTo>
                    <a:pt x="2326" y="506"/>
                  </a:lnTo>
                  <a:lnTo>
                    <a:pt x="2360" y="446"/>
                  </a:lnTo>
                  <a:lnTo>
                    <a:pt x="2390" y="402"/>
                  </a:lnTo>
                  <a:lnTo>
                    <a:pt x="2417" y="374"/>
                  </a:lnTo>
                  <a:lnTo>
                    <a:pt x="2440" y="364"/>
                  </a:lnTo>
                  <a:lnTo>
                    <a:pt x="2460" y="372"/>
                  </a:lnTo>
                  <a:lnTo>
                    <a:pt x="2479" y="382"/>
                  </a:lnTo>
                  <a:lnTo>
                    <a:pt x="2501" y="389"/>
                  </a:lnTo>
                  <a:lnTo>
                    <a:pt x="2523" y="394"/>
                  </a:lnTo>
                  <a:lnTo>
                    <a:pt x="2544" y="403"/>
                  </a:lnTo>
                  <a:lnTo>
                    <a:pt x="2560" y="417"/>
                  </a:lnTo>
                  <a:lnTo>
                    <a:pt x="2573" y="446"/>
                  </a:lnTo>
                  <a:lnTo>
                    <a:pt x="2577" y="489"/>
                  </a:lnTo>
                  <a:lnTo>
                    <a:pt x="2574" y="553"/>
                  </a:lnTo>
                  <a:lnTo>
                    <a:pt x="2561" y="631"/>
                  </a:lnTo>
                  <a:lnTo>
                    <a:pt x="2546" y="716"/>
                  </a:lnTo>
                  <a:lnTo>
                    <a:pt x="2528" y="801"/>
                  </a:lnTo>
                  <a:lnTo>
                    <a:pt x="2510" y="883"/>
                  </a:lnTo>
                  <a:lnTo>
                    <a:pt x="2493" y="954"/>
                  </a:lnTo>
                  <a:lnTo>
                    <a:pt x="2479" y="1012"/>
                  </a:lnTo>
                  <a:lnTo>
                    <a:pt x="2469" y="1049"/>
                  </a:lnTo>
                  <a:lnTo>
                    <a:pt x="2467" y="1064"/>
                  </a:lnTo>
                  <a:lnTo>
                    <a:pt x="2368" y="1357"/>
                  </a:lnTo>
                  <a:lnTo>
                    <a:pt x="2311" y="1467"/>
                  </a:lnTo>
                  <a:lnTo>
                    <a:pt x="2265" y="1559"/>
                  </a:lnTo>
                  <a:lnTo>
                    <a:pt x="2225" y="1634"/>
                  </a:lnTo>
                  <a:lnTo>
                    <a:pt x="2193" y="1694"/>
                  </a:lnTo>
                  <a:lnTo>
                    <a:pt x="2168" y="1738"/>
                  </a:lnTo>
                  <a:lnTo>
                    <a:pt x="2151" y="1769"/>
                  </a:lnTo>
                  <a:lnTo>
                    <a:pt x="2141" y="1786"/>
                  </a:lnTo>
                  <a:lnTo>
                    <a:pt x="2138" y="1792"/>
                  </a:lnTo>
                  <a:lnTo>
                    <a:pt x="2056" y="1918"/>
                  </a:lnTo>
                  <a:lnTo>
                    <a:pt x="2040" y="1996"/>
                  </a:lnTo>
                  <a:lnTo>
                    <a:pt x="2027" y="2064"/>
                  </a:lnTo>
                  <a:lnTo>
                    <a:pt x="2015" y="2120"/>
                  </a:lnTo>
                  <a:lnTo>
                    <a:pt x="2007" y="2166"/>
                  </a:lnTo>
                  <a:lnTo>
                    <a:pt x="1999" y="2200"/>
                  </a:lnTo>
                  <a:lnTo>
                    <a:pt x="1993" y="2225"/>
                  </a:lnTo>
                  <a:lnTo>
                    <a:pt x="1990" y="2240"/>
                  </a:lnTo>
                  <a:lnTo>
                    <a:pt x="1990" y="2245"/>
                  </a:lnTo>
                  <a:lnTo>
                    <a:pt x="1987" y="2341"/>
                  </a:lnTo>
                  <a:lnTo>
                    <a:pt x="1985" y="2431"/>
                  </a:lnTo>
                  <a:lnTo>
                    <a:pt x="1985" y="2511"/>
                  </a:lnTo>
                  <a:lnTo>
                    <a:pt x="1987" y="2582"/>
                  </a:lnTo>
                  <a:lnTo>
                    <a:pt x="1987" y="2641"/>
                  </a:lnTo>
                  <a:lnTo>
                    <a:pt x="1988" y="2688"/>
                  </a:lnTo>
                  <a:lnTo>
                    <a:pt x="1989" y="2721"/>
                  </a:lnTo>
                  <a:lnTo>
                    <a:pt x="1990" y="2740"/>
                  </a:lnTo>
                  <a:lnTo>
                    <a:pt x="1989" y="2749"/>
                  </a:lnTo>
                  <a:lnTo>
                    <a:pt x="1989" y="2758"/>
                  </a:lnTo>
                  <a:lnTo>
                    <a:pt x="1989" y="2767"/>
                  </a:lnTo>
                  <a:lnTo>
                    <a:pt x="1991" y="2777"/>
                  </a:lnTo>
                  <a:lnTo>
                    <a:pt x="1994" y="2784"/>
                  </a:lnTo>
                  <a:lnTo>
                    <a:pt x="2002" y="2791"/>
                  </a:lnTo>
                  <a:lnTo>
                    <a:pt x="2013" y="2795"/>
                  </a:lnTo>
                  <a:lnTo>
                    <a:pt x="2031" y="2797"/>
                  </a:lnTo>
                  <a:lnTo>
                    <a:pt x="2050" y="2799"/>
                  </a:lnTo>
                  <a:lnTo>
                    <a:pt x="2071" y="2804"/>
                  </a:lnTo>
                  <a:lnTo>
                    <a:pt x="2093" y="2810"/>
                  </a:lnTo>
                  <a:lnTo>
                    <a:pt x="2118" y="2816"/>
                  </a:lnTo>
                  <a:lnTo>
                    <a:pt x="2141" y="2817"/>
                  </a:lnTo>
                  <a:lnTo>
                    <a:pt x="2166" y="2814"/>
                  </a:lnTo>
                  <a:lnTo>
                    <a:pt x="2188" y="2805"/>
                  </a:lnTo>
                  <a:lnTo>
                    <a:pt x="2211" y="2790"/>
                  </a:lnTo>
                  <a:lnTo>
                    <a:pt x="2237" y="2764"/>
                  </a:lnTo>
                  <a:lnTo>
                    <a:pt x="2272" y="2733"/>
                  </a:lnTo>
                  <a:lnTo>
                    <a:pt x="2313" y="2700"/>
                  </a:lnTo>
                  <a:lnTo>
                    <a:pt x="2358" y="2667"/>
                  </a:lnTo>
                  <a:lnTo>
                    <a:pt x="2402" y="2636"/>
                  </a:lnTo>
                  <a:lnTo>
                    <a:pt x="2448" y="2607"/>
                  </a:lnTo>
                  <a:lnTo>
                    <a:pt x="2489" y="2586"/>
                  </a:lnTo>
                  <a:lnTo>
                    <a:pt x="2525" y="2572"/>
                  </a:lnTo>
                  <a:lnTo>
                    <a:pt x="2559" y="2562"/>
                  </a:lnTo>
                  <a:lnTo>
                    <a:pt x="2603" y="2554"/>
                  </a:lnTo>
                  <a:lnTo>
                    <a:pt x="2650" y="2547"/>
                  </a:lnTo>
                  <a:lnTo>
                    <a:pt x="2702" y="2544"/>
                  </a:lnTo>
                  <a:lnTo>
                    <a:pt x="2749" y="2542"/>
                  </a:lnTo>
                  <a:lnTo>
                    <a:pt x="2795" y="2543"/>
                  </a:lnTo>
                  <a:lnTo>
                    <a:pt x="2833" y="2546"/>
                  </a:lnTo>
                  <a:lnTo>
                    <a:pt x="2862" y="2555"/>
                  </a:lnTo>
                  <a:lnTo>
                    <a:pt x="2887" y="2565"/>
                  </a:lnTo>
                  <a:lnTo>
                    <a:pt x="2921" y="2581"/>
                  </a:lnTo>
                  <a:lnTo>
                    <a:pt x="2956" y="2597"/>
                  </a:lnTo>
                  <a:lnTo>
                    <a:pt x="2994" y="2614"/>
                  </a:lnTo>
                  <a:lnTo>
                    <a:pt x="3029" y="2630"/>
                  </a:lnTo>
                  <a:lnTo>
                    <a:pt x="3057" y="2644"/>
                  </a:lnTo>
                  <a:lnTo>
                    <a:pt x="3076" y="2651"/>
                  </a:lnTo>
                  <a:lnTo>
                    <a:pt x="3084" y="2656"/>
                  </a:lnTo>
                  <a:lnTo>
                    <a:pt x="3087" y="2661"/>
                  </a:lnTo>
                  <a:lnTo>
                    <a:pt x="3099" y="2675"/>
                  </a:lnTo>
                  <a:lnTo>
                    <a:pt x="3112" y="2697"/>
                  </a:lnTo>
                  <a:lnTo>
                    <a:pt x="3125" y="2723"/>
                  </a:lnTo>
                  <a:lnTo>
                    <a:pt x="3133" y="2749"/>
                  </a:lnTo>
                  <a:lnTo>
                    <a:pt x="3135" y="2775"/>
                  </a:lnTo>
                  <a:lnTo>
                    <a:pt x="3125" y="2797"/>
                  </a:lnTo>
                  <a:lnTo>
                    <a:pt x="3101" y="2814"/>
                  </a:lnTo>
                  <a:lnTo>
                    <a:pt x="3065" y="2824"/>
                  </a:lnTo>
                  <a:lnTo>
                    <a:pt x="3032" y="2829"/>
                  </a:lnTo>
                  <a:lnTo>
                    <a:pt x="2997" y="2830"/>
                  </a:lnTo>
                  <a:lnTo>
                    <a:pt x="2965" y="2831"/>
                  </a:lnTo>
                  <a:lnTo>
                    <a:pt x="2933" y="2830"/>
                  </a:lnTo>
                  <a:lnTo>
                    <a:pt x="2904" y="2831"/>
                  </a:lnTo>
                  <a:lnTo>
                    <a:pt x="2877" y="2835"/>
                  </a:lnTo>
                  <a:lnTo>
                    <a:pt x="2854" y="2843"/>
                  </a:lnTo>
                  <a:lnTo>
                    <a:pt x="2826" y="2853"/>
                  </a:lnTo>
                  <a:lnTo>
                    <a:pt x="2796" y="2867"/>
                  </a:lnTo>
                  <a:lnTo>
                    <a:pt x="2764" y="2883"/>
                  </a:lnTo>
                  <a:lnTo>
                    <a:pt x="2732" y="2902"/>
                  </a:lnTo>
                  <a:lnTo>
                    <a:pt x="2700" y="2917"/>
                  </a:lnTo>
                  <a:lnTo>
                    <a:pt x="2673" y="2934"/>
                  </a:lnTo>
                  <a:lnTo>
                    <a:pt x="2650" y="2947"/>
                  </a:lnTo>
                  <a:lnTo>
                    <a:pt x="2635" y="2956"/>
                  </a:lnTo>
                  <a:lnTo>
                    <a:pt x="2615" y="2964"/>
                  </a:lnTo>
                  <a:lnTo>
                    <a:pt x="2587" y="2979"/>
                  </a:lnTo>
                  <a:lnTo>
                    <a:pt x="2550" y="2994"/>
                  </a:lnTo>
                  <a:lnTo>
                    <a:pt x="2513" y="3015"/>
                  </a:lnTo>
                  <a:lnTo>
                    <a:pt x="2474" y="3033"/>
                  </a:lnTo>
                  <a:lnTo>
                    <a:pt x="2438" y="3052"/>
                  </a:lnTo>
                  <a:lnTo>
                    <a:pt x="2410" y="3068"/>
                  </a:lnTo>
                  <a:lnTo>
                    <a:pt x="2392" y="3080"/>
                  </a:lnTo>
                  <a:lnTo>
                    <a:pt x="2371" y="3096"/>
                  </a:lnTo>
                  <a:lnTo>
                    <a:pt x="2337" y="3126"/>
                  </a:lnTo>
                  <a:lnTo>
                    <a:pt x="2295" y="3162"/>
                  </a:lnTo>
                  <a:lnTo>
                    <a:pt x="2249" y="3203"/>
                  </a:lnTo>
                  <a:lnTo>
                    <a:pt x="2205" y="3240"/>
                  </a:lnTo>
                  <a:lnTo>
                    <a:pt x="2167" y="3274"/>
                  </a:lnTo>
                  <a:lnTo>
                    <a:pt x="2140" y="3297"/>
                  </a:lnTo>
                  <a:lnTo>
                    <a:pt x="2131" y="3307"/>
                  </a:lnTo>
                  <a:lnTo>
                    <a:pt x="1955" y="3426"/>
                  </a:lnTo>
                  <a:lnTo>
                    <a:pt x="1950" y="3429"/>
                  </a:lnTo>
                  <a:lnTo>
                    <a:pt x="1934" y="3440"/>
                  </a:lnTo>
                  <a:lnTo>
                    <a:pt x="1912" y="3456"/>
                  </a:lnTo>
                  <a:lnTo>
                    <a:pt x="1888" y="3477"/>
                  </a:lnTo>
                  <a:lnTo>
                    <a:pt x="1859" y="3499"/>
                  </a:lnTo>
                  <a:lnTo>
                    <a:pt x="1830" y="3523"/>
                  </a:lnTo>
                  <a:lnTo>
                    <a:pt x="1804" y="3546"/>
                  </a:lnTo>
                  <a:lnTo>
                    <a:pt x="1783" y="3567"/>
                  </a:lnTo>
                  <a:lnTo>
                    <a:pt x="1762" y="3585"/>
                  </a:lnTo>
                  <a:lnTo>
                    <a:pt x="1737" y="3603"/>
                  </a:lnTo>
                  <a:lnTo>
                    <a:pt x="1710" y="3620"/>
                  </a:lnTo>
                  <a:lnTo>
                    <a:pt x="1681" y="3639"/>
                  </a:lnTo>
                  <a:lnTo>
                    <a:pt x="1649" y="3659"/>
                  </a:lnTo>
                  <a:lnTo>
                    <a:pt x="1616" y="3681"/>
                  </a:lnTo>
                  <a:lnTo>
                    <a:pt x="1583" y="3705"/>
                  </a:lnTo>
                  <a:lnTo>
                    <a:pt x="1550" y="3732"/>
                  </a:lnTo>
                  <a:lnTo>
                    <a:pt x="1516" y="3756"/>
                  </a:lnTo>
                  <a:lnTo>
                    <a:pt x="1488" y="3775"/>
                  </a:lnTo>
                  <a:lnTo>
                    <a:pt x="1463" y="3789"/>
                  </a:lnTo>
                  <a:lnTo>
                    <a:pt x="1441" y="3799"/>
                  </a:lnTo>
                  <a:lnTo>
                    <a:pt x="1418" y="3805"/>
                  </a:lnTo>
                  <a:lnTo>
                    <a:pt x="1398" y="3808"/>
                  </a:lnTo>
                  <a:lnTo>
                    <a:pt x="1377" y="3812"/>
                  </a:lnTo>
                  <a:lnTo>
                    <a:pt x="1357" y="3815"/>
                  </a:lnTo>
                  <a:lnTo>
                    <a:pt x="1333" y="3817"/>
                  </a:lnTo>
                  <a:lnTo>
                    <a:pt x="1305" y="3819"/>
                  </a:lnTo>
                  <a:lnTo>
                    <a:pt x="1276" y="3819"/>
                  </a:lnTo>
                  <a:lnTo>
                    <a:pt x="1248" y="3821"/>
                  </a:lnTo>
                  <a:lnTo>
                    <a:pt x="1221" y="3819"/>
                  </a:lnTo>
                  <a:lnTo>
                    <a:pt x="1201" y="3819"/>
                  </a:lnTo>
                  <a:lnTo>
                    <a:pt x="1187" y="3819"/>
                  </a:lnTo>
                  <a:lnTo>
                    <a:pt x="1183" y="3819"/>
                  </a:lnTo>
                  <a:lnTo>
                    <a:pt x="1183" y="3831"/>
                  </a:lnTo>
                  <a:lnTo>
                    <a:pt x="1183" y="3840"/>
                  </a:lnTo>
                  <a:lnTo>
                    <a:pt x="1180" y="3847"/>
                  </a:lnTo>
                  <a:lnTo>
                    <a:pt x="1177" y="3856"/>
                  </a:lnTo>
                  <a:lnTo>
                    <a:pt x="1169" y="3868"/>
                  </a:lnTo>
                  <a:lnTo>
                    <a:pt x="1158" y="3888"/>
                  </a:lnTo>
                  <a:lnTo>
                    <a:pt x="1140" y="3918"/>
                  </a:lnTo>
                  <a:lnTo>
                    <a:pt x="1117" y="3962"/>
                  </a:lnTo>
                  <a:lnTo>
                    <a:pt x="1091" y="4022"/>
                  </a:lnTo>
                  <a:lnTo>
                    <a:pt x="1070" y="4100"/>
                  </a:lnTo>
                  <a:lnTo>
                    <a:pt x="1050" y="4182"/>
                  </a:lnTo>
                  <a:lnTo>
                    <a:pt x="1029" y="4259"/>
                  </a:lnTo>
                  <a:lnTo>
                    <a:pt x="1000" y="4317"/>
                  </a:lnTo>
                  <a:lnTo>
                    <a:pt x="963" y="4350"/>
                  </a:lnTo>
                  <a:lnTo>
                    <a:pt x="913" y="4345"/>
                  </a:lnTo>
                  <a:lnTo>
                    <a:pt x="850" y="4291"/>
                  </a:lnTo>
                  <a:lnTo>
                    <a:pt x="781" y="4214"/>
                  </a:lnTo>
                  <a:lnTo>
                    <a:pt x="726" y="4148"/>
                  </a:lnTo>
                  <a:lnTo>
                    <a:pt x="675" y="4090"/>
                  </a:lnTo>
                  <a:lnTo>
                    <a:pt x="629" y="4042"/>
                  </a:lnTo>
                  <a:lnTo>
                    <a:pt x="581" y="4002"/>
                  </a:lnTo>
                  <a:lnTo>
                    <a:pt x="530" y="3969"/>
                  </a:lnTo>
                  <a:lnTo>
                    <a:pt x="470" y="3944"/>
                  </a:lnTo>
                  <a:lnTo>
                    <a:pt x="397" y="3926"/>
                  </a:lnTo>
                  <a:lnTo>
                    <a:pt x="319" y="3912"/>
                  </a:lnTo>
                  <a:lnTo>
                    <a:pt x="247" y="3904"/>
                  </a:lnTo>
                  <a:lnTo>
                    <a:pt x="184" y="3898"/>
                  </a:lnTo>
                  <a:lnTo>
                    <a:pt x="128" y="3892"/>
                  </a:lnTo>
                  <a:lnTo>
                    <a:pt x="82" y="3881"/>
                  </a:lnTo>
                  <a:lnTo>
                    <a:pt x="45" y="3862"/>
                  </a:lnTo>
                  <a:lnTo>
                    <a:pt x="18" y="3834"/>
                  </a:lnTo>
                  <a:lnTo>
                    <a:pt x="4" y="3796"/>
                  </a:lnTo>
                  <a:lnTo>
                    <a:pt x="0" y="3746"/>
                  </a:lnTo>
                  <a:lnTo>
                    <a:pt x="10" y="3696"/>
                  </a:lnTo>
                  <a:lnTo>
                    <a:pt x="27" y="3647"/>
                  </a:lnTo>
                  <a:lnTo>
                    <a:pt x="49" y="3603"/>
                  </a:lnTo>
                  <a:lnTo>
                    <a:pt x="72" y="3564"/>
                  </a:lnTo>
                  <a:lnTo>
                    <a:pt x="94" y="3533"/>
                  </a:lnTo>
                  <a:lnTo>
                    <a:pt x="108" y="3513"/>
                  </a:lnTo>
                  <a:lnTo>
                    <a:pt x="115" y="3506"/>
                  </a:lnTo>
                  <a:close/>
                </a:path>
              </a:pathLst>
            </a:custGeom>
            <a:solidFill>
              <a:srgbClr val="ffd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41760" y="1157040"/>
              <a:ext cx="547560" cy="838440"/>
            </a:xfrm>
            <a:custGeom>
              <a:avLst/>
              <a:gdLst/>
              <a:ahLst/>
              <a:rect l="l" t="t" r="r" b="b"/>
              <a:pathLst>
                <a:path w="3100" h="4227">
                  <a:moveTo>
                    <a:pt x="156" y="3441"/>
                  </a:moveTo>
                  <a:lnTo>
                    <a:pt x="156" y="3414"/>
                  </a:lnTo>
                  <a:lnTo>
                    <a:pt x="152" y="3388"/>
                  </a:lnTo>
                  <a:lnTo>
                    <a:pt x="147" y="3361"/>
                  </a:lnTo>
                  <a:lnTo>
                    <a:pt x="141" y="3338"/>
                  </a:lnTo>
                  <a:lnTo>
                    <a:pt x="133" y="3317"/>
                  </a:lnTo>
                  <a:lnTo>
                    <a:pt x="127" y="3301"/>
                  </a:lnTo>
                  <a:lnTo>
                    <a:pt x="122" y="3291"/>
                  </a:lnTo>
                  <a:lnTo>
                    <a:pt x="121" y="3288"/>
                  </a:lnTo>
                  <a:lnTo>
                    <a:pt x="94" y="3198"/>
                  </a:lnTo>
                  <a:lnTo>
                    <a:pt x="72" y="3128"/>
                  </a:lnTo>
                  <a:lnTo>
                    <a:pt x="56" y="3069"/>
                  </a:lnTo>
                  <a:lnTo>
                    <a:pt x="44" y="3023"/>
                  </a:lnTo>
                  <a:lnTo>
                    <a:pt x="37" y="2982"/>
                  </a:lnTo>
                  <a:lnTo>
                    <a:pt x="36" y="2947"/>
                  </a:lnTo>
                  <a:lnTo>
                    <a:pt x="41" y="2913"/>
                  </a:lnTo>
                  <a:lnTo>
                    <a:pt x="54" y="2878"/>
                  </a:lnTo>
                  <a:lnTo>
                    <a:pt x="68" y="2831"/>
                  </a:lnTo>
                  <a:lnTo>
                    <a:pt x="82" y="2774"/>
                  </a:lnTo>
                  <a:lnTo>
                    <a:pt x="94" y="2708"/>
                  </a:lnTo>
                  <a:lnTo>
                    <a:pt x="107" y="2641"/>
                  </a:lnTo>
                  <a:lnTo>
                    <a:pt x="116" y="2576"/>
                  </a:lnTo>
                  <a:lnTo>
                    <a:pt x="123" y="2519"/>
                  </a:lnTo>
                  <a:lnTo>
                    <a:pt x="128" y="2474"/>
                  </a:lnTo>
                  <a:lnTo>
                    <a:pt x="130" y="2449"/>
                  </a:lnTo>
                  <a:lnTo>
                    <a:pt x="130" y="2416"/>
                  </a:lnTo>
                  <a:lnTo>
                    <a:pt x="135" y="2357"/>
                  </a:lnTo>
                  <a:lnTo>
                    <a:pt x="140" y="2281"/>
                  </a:lnTo>
                  <a:lnTo>
                    <a:pt x="147" y="2198"/>
                  </a:lnTo>
                  <a:lnTo>
                    <a:pt x="152" y="2113"/>
                  </a:lnTo>
                  <a:lnTo>
                    <a:pt x="158" y="2040"/>
                  </a:lnTo>
                  <a:lnTo>
                    <a:pt x="161" y="1985"/>
                  </a:lnTo>
                  <a:lnTo>
                    <a:pt x="163" y="1960"/>
                  </a:lnTo>
                  <a:lnTo>
                    <a:pt x="165" y="1938"/>
                  </a:lnTo>
                  <a:lnTo>
                    <a:pt x="169" y="1901"/>
                  </a:lnTo>
                  <a:lnTo>
                    <a:pt x="175" y="1850"/>
                  </a:lnTo>
                  <a:lnTo>
                    <a:pt x="181" y="1797"/>
                  </a:lnTo>
                  <a:lnTo>
                    <a:pt x="187" y="1744"/>
                  </a:lnTo>
                  <a:lnTo>
                    <a:pt x="193" y="1699"/>
                  </a:lnTo>
                  <a:lnTo>
                    <a:pt x="197" y="1666"/>
                  </a:lnTo>
                  <a:lnTo>
                    <a:pt x="199" y="1654"/>
                  </a:lnTo>
                  <a:lnTo>
                    <a:pt x="220" y="1412"/>
                  </a:lnTo>
                  <a:lnTo>
                    <a:pt x="198" y="1307"/>
                  </a:lnTo>
                  <a:lnTo>
                    <a:pt x="183" y="1210"/>
                  </a:lnTo>
                  <a:lnTo>
                    <a:pt x="172" y="1121"/>
                  </a:lnTo>
                  <a:lnTo>
                    <a:pt x="168" y="1044"/>
                  </a:lnTo>
                  <a:lnTo>
                    <a:pt x="165" y="980"/>
                  </a:lnTo>
                  <a:lnTo>
                    <a:pt x="165" y="932"/>
                  </a:lnTo>
                  <a:lnTo>
                    <a:pt x="165" y="902"/>
                  </a:lnTo>
                  <a:lnTo>
                    <a:pt x="166" y="892"/>
                  </a:lnTo>
                  <a:lnTo>
                    <a:pt x="176" y="784"/>
                  </a:lnTo>
                  <a:lnTo>
                    <a:pt x="180" y="698"/>
                  </a:lnTo>
                  <a:lnTo>
                    <a:pt x="179" y="628"/>
                  </a:lnTo>
                  <a:lnTo>
                    <a:pt x="178" y="574"/>
                  </a:lnTo>
                  <a:lnTo>
                    <a:pt x="177" y="533"/>
                  </a:lnTo>
                  <a:lnTo>
                    <a:pt x="180" y="505"/>
                  </a:lnTo>
                  <a:lnTo>
                    <a:pt x="189" y="486"/>
                  </a:lnTo>
                  <a:lnTo>
                    <a:pt x="209" y="477"/>
                  </a:lnTo>
                  <a:lnTo>
                    <a:pt x="235" y="471"/>
                  </a:lnTo>
                  <a:lnTo>
                    <a:pt x="261" y="467"/>
                  </a:lnTo>
                  <a:lnTo>
                    <a:pt x="287" y="466"/>
                  </a:lnTo>
                  <a:lnTo>
                    <a:pt x="314" y="469"/>
                  </a:lnTo>
                  <a:lnTo>
                    <a:pt x="337" y="475"/>
                  </a:lnTo>
                  <a:lnTo>
                    <a:pt x="357" y="485"/>
                  </a:lnTo>
                  <a:lnTo>
                    <a:pt x="372" y="499"/>
                  </a:lnTo>
                  <a:lnTo>
                    <a:pt x="382" y="519"/>
                  </a:lnTo>
                  <a:lnTo>
                    <a:pt x="389" y="548"/>
                  </a:lnTo>
                  <a:lnTo>
                    <a:pt x="399" y="589"/>
                  </a:lnTo>
                  <a:lnTo>
                    <a:pt x="409" y="638"/>
                  </a:lnTo>
                  <a:lnTo>
                    <a:pt x="421" y="691"/>
                  </a:lnTo>
                  <a:lnTo>
                    <a:pt x="430" y="745"/>
                  </a:lnTo>
                  <a:lnTo>
                    <a:pt x="439" y="795"/>
                  </a:lnTo>
                  <a:lnTo>
                    <a:pt x="445" y="838"/>
                  </a:lnTo>
                  <a:lnTo>
                    <a:pt x="448" y="871"/>
                  </a:lnTo>
                  <a:lnTo>
                    <a:pt x="448" y="903"/>
                  </a:lnTo>
                  <a:lnTo>
                    <a:pt x="450" y="949"/>
                  </a:lnTo>
                  <a:lnTo>
                    <a:pt x="453" y="1003"/>
                  </a:lnTo>
                  <a:lnTo>
                    <a:pt x="458" y="1061"/>
                  </a:lnTo>
                  <a:lnTo>
                    <a:pt x="463" y="1117"/>
                  </a:lnTo>
                  <a:lnTo>
                    <a:pt x="468" y="1169"/>
                  </a:lnTo>
                  <a:lnTo>
                    <a:pt x="475" y="1211"/>
                  </a:lnTo>
                  <a:lnTo>
                    <a:pt x="481" y="1240"/>
                  </a:lnTo>
                  <a:lnTo>
                    <a:pt x="487" y="1264"/>
                  </a:lnTo>
                  <a:lnTo>
                    <a:pt x="494" y="1297"/>
                  </a:lnTo>
                  <a:lnTo>
                    <a:pt x="500" y="1335"/>
                  </a:lnTo>
                  <a:lnTo>
                    <a:pt x="507" y="1376"/>
                  </a:lnTo>
                  <a:lnTo>
                    <a:pt x="513" y="1412"/>
                  </a:lnTo>
                  <a:lnTo>
                    <a:pt x="518" y="1444"/>
                  </a:lnTo>
                  <a:lnTo>
                    <a:pt x="520" y="1465"/>
                  </a:lnTo>
                  <a:lnTo>
                    <a:pt x="523" y="1474"/>
                  </a:lnTo>
                  <a:lnTo>
                    <a:pt x="596" y="1533"/>
                  </a:lnTo>
                  <a:lnTo>
                    <a:pt x="630" y="1488"/>
                  </a:lnTo>
                  <a:lnTo>
                    <a:pt x="659" y="1431"/>
                  </a:lnTo>
                  <a:lnTo>
                    <a:pt x="683" y="1368"/>
                  </a:lnTo>
                  <a:lnTo>
                    <a:pt x="703" y="1306"/>
                  </a:lnTo>
                  <a:lnTo>
                    <a:pt x="715" y="1247"/>
                  </a:lnTo>
                  <a:lnTo>
                    <a:pt x="725" y="1199"/>
                  </a:lnTo>
                  <a:lnTo>
                    <a:pt x="731" y="1166"/>
                  </a:lnTo>
                  <a:lnTo>
                    <a:pt x="733" y="1154"/>
                  </a:lnTo>
                  <a:lnTo>
                    <a:pt x="763" y="1023"/>
                  </a:lnTo>
                  <a:lnTo>
                    <a:pt x="786" y="922"/>
                  </a:lnTo>
                  <a:lnTo>
                    <a:pt x="805" y="845"/>
                  </a:lnTo>
                  <a:lnTo>
                    <a:pt x="820" y="792"/>
                  </a:lnTo>
                  <a:lnTo>
                    <a:pt x="830" y="755"/>
                  </a:lnTo>
                  <a:lnTo>
                    <a:pt x="836" y="732"/>
                  </a:lnTo>
                  <a:lnTo>
                    <a:pt x="840" y="722"/>
                  </a:lnTo>
                  <a:lnTo>
                    <a:pt x="841" y="720"/>
                  </a:lnTo>
                  <a:lnTo>
                    <a:pt x="842" y="707"/>
                  </a:lnTo>
                  <a:lnTo>
                    <a:pt x="847" y="678"/>
                  </a:lnTo>
                  <a:lnTo>
                    <a:pt x="854" y="635"/>
                  </a:lnTo>
                  <a:lnTo>
                    <a:pt x="864" y="586"/>
                  </a:lnTo>
                  <a:lnTo>
                    <a:pt x="872" y="535"/>
                  </a:lnTo>
                  <a:lnTo>
                    <a:pt x="880" y="490"/>
                  </a:lnTo>
                  <a:lnTo>
                    <a:pt x="885" y="454"/>
                  </a:lnTo>
                  <a:lnTo>
                    <a:pt x="887" y="436"/>
                  </a:lnTo>
                  <a:lnTo>
                    <a:pt x="888" y="422"/>
                  </a:lnTo>
                  <a:lnTo>
                    <a:pt x="894" y="405"/>
                  </a:lnTo>
                  <a:lnTo>
                    <a:pt x="902" y="385"/>
                  </a:lnTo>
                  <a:lnTo>
                    <a:pt x="912" y="364"/>
                  </a:lnTo>
                  <a:lnTo>
                    <a:pt x="920" y="344"/>
                  </a:lnTo>
                  <a:lnTo>
                    <a:pt x="928" y="327"/>
                  </a:lnTo>
                  <a:lnTo>
                    <a:pt x="934" y="316"/>
                  </a:lnTo>
                  <a:lnTo>
                    <a:pt x="937" y="312"/>
                  </a:lnTo>
                  <a:lnTo>
                    <a:pt x="956" y="248"/>
                  </a:lnTo>
                  <a:lnTo>
                    <a:pt x="983" y="196"/>
                  </a:lnTo>
                  <a:lnTo>
                    <a:pt x="1014" y="155"/>
                  </a:lnTo>
                  <a:lnTo>
                    <a:pt x="1046" y="125"/>
                  </a:lnTo>
                  <a:lnTo>
                    <a:pt x="1076" y="105"/>
                  </a:lnTo>
                  <a:lnTo>
                    <a:pt x="1102" y="96"/>
                  </a:lnTo>
                  <a:lnTo>
                    <a:pt x="1121" y="97"/>
                  </a:lnTo>
                  <a:lnTo>
                    <a:pt x="1131" y="108"/>
                  </a:lnTo>
                  <a:lnTo>
                    <a:pt x="1134" y="124"/>
                  </a:lnTo>
                  <a:lnTo>
                    <a:pt x="1139" y="142"/>
                  </a:lnTo>
                  <a:lnTo>
                    <a:pt x="1144" y="162"/>
                  </a:lnTo>
                  <a:lnTo>
                    <a:pt x="1151" y="183"/>
                  </a:lnTo>
                  <a:lnTo>
                    <a:pt x="1155" y="204"/>
                  </a:lnTo>
                  <a:lnTo>
                    <a:pt x="1161" y="226"/>
                  </a:lnTo>
                  <a:lnTo>
                    <a:pt x="1163" y="249"/>
                  </a:lnTo>
                  <a:lnTo>
                    <a:pt x="1165" y="271"/>
                  </a:lnTo>
                  <a:lnTo>
                    <a:pt x="1164" y="295"/>
                  </a:lnTo>
                  <a:lnTo>
                    <a:pt x="1162" y="323"/>
                  </a:lnTo>
                  <a:lnTo>
                    <a:pt x="1160" y="352"/>
                  </a:lnTo>
                  <a:lnTo>
                    <a:pt x="1158" y="381"/>
                  </a:lnTo>
                  <a:lnTo>
                    <a:pt x="1154" y="406"/>
                  </a:lnTo>
                  <a:lnTo>
                    <a:pt x="1152" y="428"/>
                  </a:lnTo>
                  <a:lnTo>
                    <a:pt x="1150" y="442"/>
                  </a:lnTo>
                  <a:lnTo>
                    <a:pt x="1150" y="448"/>
                  </a:lnTo>
                  <a:lnTo>
                    <a:pt x="1115" y="705"/>
                  </a:lnTo>
                  <a:lnTo>
                    <a:pt x="1113" y="750"/>
                  </a:lnTo>
                  <a:lnTo>
                    <a:pt x="1110" y="795"/>
                  </a:lnTo>
                  <a:lnTo>
                    <a:pt x="1103" y="836"/>
                  </a:lnTo>
                  <a:lnTo>
                    <a:pt x="1098" y="874"/>
                  </a:lnTo>
                  <a:lnTo>
                    <a:pt x="1091" y="904"/>
                  </a:lnTo>
                  <a:lnTo>
                    <a:pt x="1085" y="928"/>
                  </a:lnTo>
                  <a:lnTo>
                    <a:pt x="1081" y="944"/>
                  </a:lnTo>
                  <a:lnTo>
                    <a:pt x="1081" y="949"/>
                  </a:lnTo>
                  <a:lnTo>
                    <a:pt x="1039" y="1263"/>
                  </a:lnTo>
                  <a:lnTo>
                    <a:pt x="1129" y="1465"/>
                  </a:lnTo>
                  <a:lnTo>
                    <a:pt x="1201" y="1353"/>
                  </a:lnTo>
                  <a:lnTo>
                    <a:pt x="1255" y="1134"/>
                  </a:lnTo>
                  <a:lnTo>
                    <a:pt x="1319" y="946"/>
                  </a:lnTo>
                  <a:lnTo>
                    <a:pt x="1407" y="669"/>
                  </a:lnTo>
                  <a:lnTo>
                    <a:pt x="1483" y="428"/>
                  </a:lnTo>
                  <a:lnTo>
                    <a:pt x="1569" y="207"/>
                  </a:lnTo>
                  <a:lnTo>
                    <a:pt x="1617" y="151"/>
                  </a:lnTo>
                  <a:lnTo>
                    <a:pt x="1658" y="107"/>
                  </a:lnTo>
                  <a:lnTo>
                    <a:pt x="1691" y="71"/>
                  </a:lnTo>
                  <a:lnTo>
                    <a:pt x="1719" y="44"/>
                  </a:lnTo>
                  <a:lnTo>
                    <a:pt x="1739" y="22"/>
                  </a:lnTo>
                  <a:lnTo>
                    <a:pt x="1754" y="9"/>
                  </a:lnTo>
                  <a:lnTo>
                    <a:pt x="1761" y="1"/>
                  </a:lnTo>
                  <a:lnTo>
                    <a:pt x="1765" y="0"/>
                  </a:lnTo>
                  <a:lnTo>
                    <a:pt x="1800" y="22"/>
                  </a:lnTo>
                  <a:lnTo>
                    <a:pt x="1823" y="43"/>
                  </a:lnTo>
                  <a:lnTo>
                    <a:pt x="1833" y="61"/>
                  </a:lnTo>
                  <a:lnTo>
                    <a:pt x="1837" y="80"/>
                  </a:lnTo>
                  <a:lnTo>
                    <a:pt x="1834" y="102"/>
                  </a:lnTo>
                  <a:lnTo>
                    <a:pt x="1828" y="128"/>
                  </a:lnTo>
                  <a:lnTo>
                    <a:pt x="1821" y="158"/>
                  </a:lnTo>
                  <a:lnTo>
                    <a:pt x="1818" y="199"/>
                  </a:lnTo>
                  <a:lnTo>
                    <a:pt x="1811" y="247"/>
                  </a:lnTo>
                  <a:lnTo>
                    <a:pt x="1801" y="301"/>
                  </a:lnTo>
                  <a:lnTo>
                    <a:pt x="1788" y="356"/>
                  </a:lnTo>
                  <a:lnTo>
                    <a:pt x="1775" y="413"/>
                  </a:lnTo>
                  <a:lnTo>
                    <a:pt x="1760" y="462"/>
                  </a:lnTo>
                  <a:lnTo>
                    <a:pt x="1749" y="502"/>
                  </a:lnTo>
                  <a:lnTo>
                    <a:pt x="1740" y="529"/>
                  </a:lnTo>
                  <a:lnTo>
                    <a:pt x="1738" y="540"/>
                  </a:lnTo>
                  <a:lnTo>
                    <a:pt x="1724" y="610"/>
                  </a:lnTo>
                  <a:lnTo>
                    <a:pt x="1710" y="683"/>
                  </a:lnTo>
                  <a:lnTo>
                    <a:pt x="1696" y="755"/>
                  </a:lnTo>
                  <a:lnTo>
                    <a:pt x="1682" y="823"/>
                  </a:lnTo>
                  <a:lnTo>
                    <a:pt x="1670" y="880"/>
                  </a:lnTo>
                  <a:lnTo>
                    <a:pt x="1661" y="926"/>
                  </a:lnTo>
                  <a:lnTo>
                    <a:pt x="1655" y="956"/>
                  </a:lnTo>
                  <a:lnTo>
                    <a:pt x="1654" y="967"/>
                  </a:lnTo>
                  <a:lnTo>
                    <a:pt x="1621" y="1073"/>
                  </a:lnTo>
                  <a:lnTo>
                    <a:pt x="1592" y="1177"/>
                  </a:lnTo>
                  <a:lnTo>
                    <a:pt x="1563" y="1276"/>
                  </a:lnTo>
                  <a:lnTo>
                    <a:pt x="1540" y="1367"/>
                  </a:lnTo>
                  <a:lnTo>
                    <a:pt x="1519" y="1445"/>
                  </a:lnTo>
                  <a:lnTo>
                    <a:pt x="1505" y="1508"/>
                  </a:lnTo>
                  <a:lnTo>
                    <a:pt x="1496" y="1554"/>
                  </a:lnTo>
                  <a:lnTo>
                    <a:pt x="1496" y="1580"/>
                  </a:lnTo>
                  <a:lnTo>
                    <a:pt x="1503" y="1590"/>
                  </a:lnTo>
                  <a:lnTo>
                    <a:pt x="1520" y="1598"/>
                  </a:lnTo>
                  <a:lnTo>
                    <a:pt x="1542" y="1602"/>
                  </a:lnTo>
                  <a:lnTo>
                    <a:pt x="1568" y="1606"/>
                  </a:lnTo>
                  <a:lnTo>
                    <a:pt x="1591" y="1607"/>
                  </a:lnTo>
                  <a:lnTo>
                    <a:pt x="1612" y="1608"/>
                  </a:lnTo>
                  <a:lnTo>
                    <a:pt x="1627" y="1608"/>
                  </a:lnTo>
                  <a:lnTo>
                    <a:pt x="1634" y="1608"/>
                  </a:lnTo>
                  <a:lnTo>
                    <a:pt x="1741" y="1648"/>
                  </a:lnTo>
                  <a:lnTo>
                    <a:pt x="1788" y="1551"/>
                  </a:lnTo>
                  <a:lnTo>
                    <a:pt x="1833" y="1472"/>
                  </a:lnTo>
                  <a:lnTo>
                    <a:pt x="1871" y="1407"/>
                  </a:lnTo>
                  <a:lnTo>
                    <a:pt x="1905" y="1356"/>
                  </a:lnTo>
                  <a:lnTo>
                    <a:pt x="1932" y="1317"/>
                  </a:lnTo>
                  <a:lnTo>
                    <a:pt x="1953" y="1291"/>
                  </a:lnTo>
                  <a:lnTo>
                    <a:pt x="1965" y="1276"/>
                  </a:lnTo>
                  <a:lnTo>
                    <a:pt x="1970" y="1272"/>
                  </a:lnTo>
                  <a:lnTo>
                    <a:pt x="2024" y="1186"/>
                  </a:lnTo>
                  <a:lnTo>
                    <a:pt x="2067" y="1103"/>
                  </a:lnTo>
                  <a:lnTo>
                    <a:pt x="2103" y="1025"/>
                  </a:lnTo>
                  <a:lnTo>
                    <a:pt x="2131" y="955"/>
                  </a:lnTo>
                  <a:lnTo>
                    <a:pt x="2150" y="895"/>
                  </a:lnTo>
                  <a:lnTo>
                    <a:pt x="2164" y="849"/>
                  </a:lnTo>
                  <a:lnTo>
                    <a:pt x="2171" y="819"/>
                  </a:lnTo>
                  <a:lnTo>
                    <a:pt x="2174" y="809"/>
                  </a:lnTo>
                  <a:lnTo>
                    <a:pt x="2220" y="699"/>
                  </a:lnTo>
                  <a:lnTo>
                    <a:pt x="2262" y="605"/>
                  </a:lnTo>
                  <a:lnTo>
                    <a:pt x="2297" y="526"/>
                  </a:lnTo>
                  <a:lnTo>
                    <a:pt x="2331" y="465"/>
                  </a:lnTo>
                  <a:lnTo>
                    <a:pt x="2359" y="419"/>
                  </a:lnTo>
                  <a:lnTo>
                    <a:pt x="2383" y="390"/>
                  </a:lnTo>
                  <a:lnTo>
                    <a:pt x="2405" y="379"/>
                  </a:lnTo>
                  <a:lnTo>
                    <a:pt x="2426" y="387"/>
                  </a:lnTo>
                  <a:lnTo>
                    <a:pt x="2445" y="397"/>
                  </a:lnTo>
                  <a:lnTo>
                    <a:pt x="2468" y="402"/>
                  </a:lnTo>
                  <a:lnTo>
                    <a:pt x="2489" y="404"/>
                  </a:lnTo>
                  <a:lnTo>
                    <a:pt x="2510" y="410"/>
                  </a:lnTo>
                  <a:lnTo>
                    <a:pt x="2525" y="422"/>
                  </a:lnTo>
                  <a:lnTo>
                    <a:pt x="2538" y="447"/>
                  </a:lnTo>
                  <a:lnTo>
                    <a:pt x="2542" y="489"/>
                  </a:lnTo>
                  <a:lnTo>
                    <a:pt x="2539" y="553"/>
                  </a:lnTo>
                  <a:lnTo>
                    <a:pt x="2526" y="631"/>
                  </a:lnTo>
                  <a:lnTo>
                    <a:pt x="2511" y="716"/>
                  </a:lnTo>
                  <a:lnTo>
                    <a:pt x="2493" y="801"/>
                  </a:lnTo>
                  <a:lnTo>
                    <a:pt x="2475" y="883"/>
                  </a:lnTo>
                  <a:lnTo>
                    <a:pt x="2458" y="954"/>
                  </a:lnTo>
                  <a:lnTo>
                    <a:pt x="2444" y="1012"/>
                  </a:lnTo>
                  <a:lnTo>
                    <a:pt x="2434" y="1049"/>
                  </a:lnTo>
                  <a:lnTo>
                    <a:pt x="2432" y="1064"/>
                  </a:lnTo>
                  <a:lnTo>
                    <a:pt x="2333" y="1357"/>
                  </a:lnTo>
                  <a:lnTo>
                    <a:pt x="2276" y="1467"/>
                  </a:lnTo>
                  <a:lnTo>
                    <a:pt x="2230" y="1559"/>
                  </a:lnTo>
                  <a:lnTo>
                    <a:pt x="2190" y="1634"/>
                  </a:lnTo>
                  <a:lnTo>
                    <a:pt x="2158" y="1694"/>
                  </a:lnTo>
                  <a:lnTo>
                    <a:pt x="2133" y="1738"/>
                  </a:lnTo>
                  <a:lnTo>
                    <a:pt x="2116" y="1769"/>
                  </a:lnTo>
                  <a:lnTo>
                    <a:pt x="2106" y="1786"/>
                  </a:lnTo>
                  <a:lnTo>
                    <a:pt x="2103" y="1792"/>
                  </a:lnTo>
                  <a:lnTo>
                    <a:pt x="2021" y="1918"/>
                  </a:lnTo>
                  <a:lnTo>
                    <a:pt x="2005" y="1996"/>
                  </a:lnTo>
                  <a:lnTo>
                    <a:pt x="1992" y="2064"/>
                  </a:lnTo>
                  <a:lnTo>
                    <a:pt x="1980" y="2120"/>
                  </a:lnTo>
                  <a:lnTo>
                    <a:pt x="1972" y="2166"/>
                  </a:lnTo>
                  <a:lnTo>
                    <a:pt x="1964" y="2200"/>
                  </a:lnTo>
                  <a:lnTo>
                    <a:pt x="1958" y="2225"/>
                  </a:lnTo>
                  <a:lnTo>
                    <a:pt x="1955" y="2240"/>
                  </a:lnTo>
                  <a:lnTo>
                    <a:pt x="1955" y="2245"/>
                  </a:lnTo>
                  <a:lnTo>
                    <a:pt x="1952" y="2341"/>
                  </a:lnTo>
                  <a:lnTo>
                    <a:pt x="1950" y="2431"/>
                  </a:lnTo>
                  <a:lnTo>
                    <a:pt x="1950" y="2511"/>
                  </a:lnTo>
                  <a:lnTo>
                    <a:pt x="1952" y="2582"/>
                  </a:lnTo>
                  <a:lnTo>
                    <a:pt x="1952" y="2641"/>
                  </a:lnTo>
                  <a:lnTo>
                    <a:pt x="1953" y="2688"/>
                  </a:lnTo>
                  <a:lnTo>
                    <a:pt x="1954" y="2721"/>
                  </a:lnTo>
                  <a:lnTo>
                    <a:pt x="1955" y="2740"/>
                  </a:lnTo>
                  <a:lnTo>
                    <a:pt x="1954" y="2749"/>
                  </a:lnTo>
                  <a:lnTo>
                    <a:pt x="1954" y="2758"/>
                  </a:lnTo>
                  <a:lnTo>
                    <a:pt x="1954" y="2767"/>
                  </a:lnTo>
                  <a:lnTo>
                    <a:pt x="1956" y="2777"/>
                  </a:lnTo>
                  <a:lnTo>
                    <a:pt x="1959" y="2784"/>
                  </a:lnTo>
                  <a:lnTo>
                    <a:pt x="1967" y="2791"/>
                  </a:lnTo>
                  <a:lnTo>
                    <a:pt x="1978" y="2795"/>
                  </a:lnTo>
                  <a:lnTo>
                    <a:pt x="1996" y="2797"/>
                  </a:lnTo>
                  <a:lnTo>
                    <a:pt x="2015" y="2799"/>
                  </a:lnTo>
                  <a:lnTo>
                    <a:pt x="2036" y="2804"/>
                  </a:lnTo>
                  <a:lnTo>
                    <a:pt x="2058" y="2810"/>
                  </a:lnTo>
                  <a:lnTo>
                    <a:pt x="2083" y="2816"/>
                  </a:lnTo>
                  <a:lnTo>
                    <a:pt x="2106" y="2817"/>
                  </a:lnTo>
                  <a:lnTo>
                    <a:pt x="2131" y="2814"/>
                  </a:lnTo>
                  <a:lnTo>
                    <a:pt x="2153" y="2805"/>
                  </a:lnTo>
                  <a:lnTo>
                    <a:pt x="2176" y="2790"/>
                  </a:lnTo>
                  <a:lnTo>
                    <a:pt x="2202" y="2764"/>
                  </a:lnTo>
                  <a:lnTo>
                    <a:pt x="2237" y="2733"/>
                  </a:lnTo>
                  <a:lnTo>
                    <a:pt x="2278" y="2700"/>
                  </a:lnTo>
                  <a:lnTo>
                    <a:pt x="2323" y="2667"/>
                  </a:lnTo>
                  <a:lnTo>
                    <a:pt x="2367" y="2636"/>
                  </a:lnTo>
                  <a:lnTo>
                    <a:pt x="2413" y="2607"/>
                  </a:lnTo>
                  <a:lnTo>
                    <a:pt x="2454" y="2586"/>
                  </a:lnTo>
                  <a:lnTo>
                    <a:pt x="2490" y="2572"/>
                  </a:lnTo>
                  <a:lnTo>
                    <a:pt x="2524" y="2562"/>
                  </a:lnTo>
                  <a:lnTo>
                    <a:pt x="2568" y="2554"/>
                  </a:lnTo>
                  <a:lnTo>
                    <a:pt x="2615" y="2547"/>
                  </a:lnTo>
                  <a:lnTo>
                    <a:pt x="2667" y="2544"/>
                  </a:lnTo>
                  <a:lnTo>
                    <a:pt x="2714" y="2542"/>
                  </a:lnTo>
                  <a:lnTo>
                    <a:pt x="2760" y="2543"/>
                  </a:lnTo>
                  <a:lnTo>
                    <a:pt x="2798" y="2546"/>
                  </a:lnTo>
                  <a:lnTo>
                    <a:pt x="2827" y="2555"/>
                  </a:lnTo>
                  <a:lnTo>
                    <a:pt x="2852" y="2565"/>
                  </a:lnTo>
                  <a:lnTo>
                    <a:pt x="2886" y="2581"/>
                  </a:lnTo>
                  <a:lnTo>
                    <a:pt x="2921" y="2597"/>
                  </a:lnTo>
                  <a:lnTo>
                    <a:pt x="2959" y="2614"/>
                  </a:lnTo>
                  <a:lnTo>
                    <a:pt x="2994" y="2630"/>
                  </a:lnTo>
                  <a:lnTo>
                    <a:pt x="3022" y="2644"/>
                  </a:lnTo>
                  <a:lnTo>
                    <a:pt x="3041" y="2651"/>
                  </a:lnTo>
                  <a:lnTo>
                    <a:pt x="3049" y="2656"/>
                  </a:lnTo>
                  <a:lnTo>
                    <a:pt x="3052" y="2661"/>
                  </a:lnTo>
                  <a:lnTo>
                    <a:pt x="3064" y="2675"/>
                  </a:lnTo>
                  <a:lnTo>
                    <a:pt x="3077" y="2697"/>
                  </a:lnTo>
                  <a:lnTo>
                    <a:pt x="3090" y="2723"/>
                  </a:lnTo>
                  <a:lnTo>
                    <a:pt x="3098" y="2749"/>
                  </a:lnTo>
                  <a:lnTo>
                    <a:pt x="3100" y="2775"/>
                  </a:lnTo>
                  <a:lnTo>
                    <a:pt x="3090" y="2797"/>
                  </a:lnTo>
                  <a:lnTo>
                    <a:pt x="3066" y="2814"/>
                  </a:lnTo>
                  <a:lnTo>
                    <a:pt x="3030" y="2822"/>
                  </a:lnTo>
                  <a:lnTo>
                    <a:pt x="2997" y="2826"/>
                  </a:lnTo>
                  <a:lnTo>
                    <a:pt x="2964" y="2824"/>
                  </a:lnTo>
                  <a:lnTo>
                    <a:pt x="2931" y="2819"/>
                  </a:lnTo>
                  <a:lnTo>
                    <a:pt x="2899" y="2813"/>
                  </a:lnTo>
                  <a:lnTo>
                    <a:pt x="2870" y="2809"/>
                  </a:lnTo>
                  <a:lnTo>
                    <a:pt x="2842" y="2807"/>
                  </a:lnTo>
                  <a:lnTo>
                    <a:pt x="2819" y="2811"/>
                  </a:lnTo>
                  <a:lnTo>
                    <a:pt x="2791" y="2818"/>
                  </a:lnTo>
                  <a:lnTo>
                    <a:pt x="2761" y="2830"/>
                  </a:lnTo>
                  <a:lnTo>
                    <a:pt x="2729" y="2844"/>
                  </a:lnTo>
                  <a:lnTo>
                    <a:pt x="2697" y="2861"/>
                  </a:lnTo>
                  <a:lnTo>
                    <a:pt x="2665" y="2876"/>
                  </a:lnTo>
                  <a:lnTo>
                    <a:pt x="2639" y="2891"/>
                  </a:lnTo>
                  <a:lnTo>
                    <a:pt x="2617" y="2904"/>
                  </a:lnTo>
                  <a:lnTo>
                    <a:pt x="2601" y="2914"/>
                  </a:lnTo>
                  <a:lnTo>
                    <a:pt x="2582" y="2922"/>
                  </a:lnTo>
                  <a:lnTo>
                    <a:pt x="2554" y="2936"/>
                  </a:lnTo>
                  <a:lnTo>
                    <a:pt x="2520" y="2953"/>
                  </a:lnTo>
                  <a:lnTo>
                    <a:pt x="2483" y="2972"/>
                  </a:lnTo>
                  <a:lnTo>
                    <a:pt x="2445" y="2990"/>
                  </a:lnTo>
                  <a:lnTo>
                    <a:pt x="2411" y="3009"/>
                  </a:lnTo>
                  <a:lnTo>
                    <a:pt x="2383" y="3025"/>
                  </a:lnTo>
                  <a:lnTo>
                    <a:pt x="2365" y="3037"/>
                  </a:lnTo>
                  <a:lnTo>
                    <a:pt x="2343" y="3053"/>
                  </a:lnTo>
                  <a:lnTo>
                    <a:pt x="2309" y="3083"/>
                  </a:lnTo>
                  <a:lnTo>
                    <a:pt x="2264" y="3119"/>
                  </a:lnTo>
                  <a:lnTo>
                    <a:pt x="2217" y="3160"/>
                  </a:lnTo>
                  <a:lnTo>
                    <a:pt x="2172" y="3197"/>
                  </a:lnTo>
                  <a:lnTo>
                    <a:pt x="2133" y="3231"/>
                  </a:lnTo>
                  <a:lnTo>
                    <a:pt x="2106" y="3254"/>
                  </a:lnTo>
                  <a:lnTo>
                    <a:pt x="2096" y="3264"/>
                  </a:lnTo>
                  <a:lnTo>
                    <a:pt x="1919" y="3396"/>
                  </a:lnTo>
                  <a:lnTo>
                    <a:pt x="1914" y="3400"/>
                  </a:lnTo>
                  <a:lnTo>
                    <a:pt x="1898" y="3410"/>
                  </a:lnTo>
                  <a:lnTo>
                    <a:pt x="1876" y="3426"/>
                  </a:lnTo>
                  <a:lnTo>
                    <a:pt x="1851" y="3445"/>
                  </a:lnTo>
                  <a:lnTo>
                    <a:pt x="1823" y="3466"/>
                  </a:lnTo>
                  <a:lnTo>
                    <a:pt x="1795" y="3489"/>
                  </a:lnTo>
                  <a:lnTo>
                    <a:pt x="1769" y="3512"/>
                  </a:lnTo>
                  <a:lnTo>
                    <a:pt x="1748" y="3533"/>
                  </a:lnTo>
                  <a:lnTo>
                    <a:pt x="1727" y="3551"/>
                  </a:lnTo>
                  <a:lnTo>
                    <a:pt x="1704" y="3569"/>
                  </a:lnTo>
                  <a:lnTo>
                    <a:pt x="1677" y="3586"/>
                  </a:lnTo>
                  <a:lnTo>
                    <a:pt x="1649" y="3607"/>
                  </a:lnTo>
                  <a:lnTo>
                    <a:pt x="1618" y="3627"/>
                  </a:lnTo>
                  <a:lnTo>
                    <a:pt x="1587" y="3650"/>
                  </a:lnTo>
                  <a:lnTo>
                    <a:pt x="1553" y="3673"/>
                  </a:lnTo>
                  <a:lnTo>
                    <a:pt x="1520" y="3702"/>
                  </a:lnTo>
                  <a:lnTo>
                    <a:pt x="1488" y="3725"/>
                  </a:lnTo>
                  <a:lnTo>
                    <a:pt x="1461" y="3744"/>
                  </a:lnTo>
                  <a:lnTo>
                    <a:pt x="1437" y="3756"/>
                  </a:lnTo>
                  <a:lnTo>
                    <a:pt x="1416" y="3765"/>
                  </a:lnTo>
                  <a:lnTo>
                    <a:pt x="1394" y="3770"/>
                  </a:lnTo>
                  <a:lnTo>
                    <a:pt x="1376" y="3773"/>
                  </a:lnTo>
                  <a:lnTo>
                    <a:pt x="1356" y="3775"/>
                  </a:lnTo>
                  <a:lnTo>
                    <a:pt x="1336" y="3779"/>
                  </a:lnTo>
                  <a:lnTo>
                    <a:pt x="1311" y="3780"/>
                  </a:lnTo>
                  <a:lnTo>
                    <a:pt x="1284" y="3781"/>
                  </a:lnTo>
                  <a:lnTo>
                    <a:pt x="1255" y="3781"/>
                  </a:lnTo>
                  <a:lnTo>
                    <a:pt x="1228" y="3781"/>
                  </a:lnTo>
                  <a:lnTo>
                    <a:pt x="1202" y="3779"/>
                  </a:lnTo>
                  <a:lnTo>
                    <a:pt x="1182" y="3778"/>
                  </a:lnTo>
                  <a:lnTo>
                    <a:pt x="1169" y="3776"/>
                  </a:lnTo>
                  <a:lnTo>
                    <a:pt x="1164" y="3776"/>
                  </a:lnTo>
                  <a:lnTo>
                    <a:pt x="1163" y="3785"/>
                  </a:lnTo>
                  <a:lnTo>
                    <a:pt x="1161" y="3788"/>
                  </a:lnTo>
                  <a:lnTo>
                    <a:pt x="1158" y="3787"/>
                  </a:lnTo>
                  <a:lnTo>
                    <a:pt x="1151" y="3785"/>
                  </a:lnTo>
                  <a:lnTo>
                    <a:pt x="1140" y="3788"/>
                  </a:lnTo>
                  <a:lnTo>
                    <a:pt x="1125" y="3799"/>
                  </a:lnTo>
                  <a:lnTo>
                    <a:pt x="1105" y="3823"/>
                  </a:lnTo>
                  <a:lnTo>
                    <a:pt x="1082" y="3865"/>
                  </a:lnTo>
                  <a:lnTo>
                    <a:pt x="1057" y="3924"/>
                  </a:lnTo>
                  <a:lnTo>
                    <a:pt x="1040" y="3998"/>
                  </a:lnTo>
                  <a:lnTo>
                    <a:pt x="1023" y="4074"/>
                  </a:lnTo>
                  <a:lnTo>
                    <a:pt x="1005" y="4145"/>
                  </a:lnTo>
                  <a:lnTo>
                    <a:pt x="981" y="4199"/>
                  </a:lnTo>
                  <a:lnTo>
                    <a:pt x="947" y="4227"/>
                  </a:lnTo>
                  <a:lnTo>
                    <a:pt x="901" y="4218"/>
                  </a:lnTo>
                  <a:lnTo>
                    <a:pt x="837" y="4163"/>
                  </a:lnTo>
                  <a:lnTo>
                    <a:pt x="769" y="4089"/>
                  </a:lnTo>
                  <a:lnTo>
                    <a:pt x="715" y="4031"/>
                  </a:lnTo>
                  <a:lnTo>
                    <a:pt x="666" y="3985"/>
                  </a:lnTo>
                  <a:lnTo>
                    <a:pt x="623" y="3951"/>
                  </a:lnTo>
                  <a:lnTo>
                    <a:pt x="577" y="3922"/>
                  </a:lnTo>
                  <a:lnTo>
                    <a:pt x="528" y="3902"/>
                  </a:lnTo>
                  <a:lnTo>
                    <a:pt x="469" y="3885"/>
                  </a:lnTo>
                  <a:lnTo>
                    <a:pt x="398" y="3870"/>
                  </a:lnTo>
                  <a:lnTo>
                    <a:pt x="319" y="3857"/>
                  </a:lnTo>
                  <a:lnTo>
                    <a:pt x="248" y="3851"/>
                  </a:lnTo>
                  <a:lnTo>
                    <a:pt x="183" y="3847"/>
                  </a:lnTo>
                  <a:lnTo>
                    <a:pt x="128" y="3843"/>
                  </a:lnTo>
                  <a:lnTo>
                    <a:pt x="80" y="3834"/>
                  </a:lnTo>
                  <a:lnTo>
                    <a:pt x="42" y="3818"/>
                  </a:lnTo>
                  <a:lnTo>
                    <a:pt x="16" y="3792"/>
                  </a:lnTo>
                  <a:lnTo>
                    <a:pt x="1" y="3754"/>
                  </a:lnTo>
                  <a:lnTo>
                    <a:pt x="0" y="3703"/>
                  </a:lnTo>
                  <a:lnTo>
                    <a:pt x="14" y="3651"/>
                  </a:lnTo>
                  <a:lnTo>
                    <a:pt x="38" y="3599"/>
                  </a:lnTo>
                  <a:lnTo>
                    <a:pt x="69" y="3550"/>
                  </a:lnTo>
                  <a:lnTo>
                    <a:pt x="99" y="3506"/>
                  </a:lnTo>
                  <a:lnTo>
                    <a:pt x="127" y="3472"/>
                  </a:lnTo>
                  <a:lnTo>
                    <a:pt x="147" y="3449"/>
                  </a:lnTo>
                  <a:lnTo>
                    <a:pt x="156" y="3441"/>
                  </a:lnTo>
                  <a:close/>
                </a:path>
              </a:pathLst>
            </a:custGeom>
            <a:solidFill>
              <a:srgbClr val="ffd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7880" y="1157040"/>
              <a:ext cx="541440" cy="814680"/>
            </a:xfrm>
            <a:custGeom>
              <a:avLst/>
              <a:gdLst/>
              <a:ahLst/>
              <a:rect l="l" t="t" r="r" b="b"/>
              <a:pathLst>
                <a:path w="3067" h="4103">
                  <a:moveTo>
                    <a:pt x="197" y="3377"/>
                  </a:moveTo>
                  <a:lnTo>
                    <a:pt x="196" y="3351"/>
                  </a:lnTo>
                  <a:lnTo>
                    <a:pt x="190" y="3327"/>
                  </a:lnTo>
                  <a:lnTo>
                    <a:pt x="179" y="3304"/>
                  </a:lnTo>
                  <a:lnTo>
                    <a:pt x="168" y="3286"/>
                  </a:lnTo>
                  <a:lnTo>
                    <a:pt x="155" y="3269"/>
                  </a:lnTo>
                  <a:lnTo>
                    <a:pt x="144" y="3257"/>
                  </a:lnTo>
                  <a:lnTo>
                    <a:pt x="135" y="3249"/>
                  </a:lnTo>
                  <a:lnTo>
                    <a:pt x="133" y="3247"/>
                  </a:lnTo>
                  <a:lnTo>
                    <a:pt x="106" y="3160"/>
                  </a:lnTo>
                  <a:lnTo>
                    <a:pt x="83" y="3093"/>
                  </a:lnTo>
                  <a:lnTo>
                    <a:pt x="64" y="3040"/>
                  </a:lnTo>
                  <a:lnTo>
                    <a:pt x="51" y="3000"/>
                  </a:lnTo>
                  <a:lnTo>
                    <a:pt x="43" y="2967"/>
                  </a:lnTo>
                  <a:lnTo>
                    <a:pt x="40" y="2938"/>
                  </a:lnTo>
                  <a:lnTo>
                    <a:pt x="44" y="2907"/>
                  </a:lnTo>
                  <a:lnTo>
                    <a:pt x="57" y="2874"/>
                  </a:lnTo>
                  <a:lnTo>
                    <a:pt x="70" y="2828"/>
                  </a:lnTo>
                  <a:lnTo>
                    <a:pt x="85" y="2770"/>
                  </a:lnTo>
                  <a:lnTo>
                    <a:pt x="97" y="2705"/>
                  </a:lnTo>
                  <a:lnTo>
                    <a:pt x="108" y="2639"/>
                  </a:lnTo>
                  <a:lnTo>
                    <a:pt x="116" y="2575"/>
                  </a:lnTo>
                  <a:lnTo>
                    <a:pt x="124" y="2518"/>
                  </a:lnTo>
                  <a:lnTo>
                    <a:pt x="127" y="2474"/>
                  </a:lnTo>
                  <a:lnTo>
                    <a:pt x="129" y="2449"/>
                  </a:lnTo>
                  <a:lnTo>
                    <a:pt x="129" y="2416"/>
                  </a:lnTo>
                  <a:lnTo>
                    <a:pt x="133" y="2358"/>
                  </a:lnTo>
                  <a:lnTo>
                    <a:pt x="137" y="2283"/>
                  </a:lnTo>
                  <a:lnTo>
                    <a:pt x="143" y="2200"/>
                  </a:lnTo>
                  <a:lnTo>
                    <a:pt x="147" y="2117"/>
                  </a:lnTo>
                  <a:lnTo>
                    <a:pt x="152" y="2045"/>
                  </a:lnTo>
                  <a:lnTo>
                    <a:pt x="154" y="1991"/>
                  </a:lnTo>
                  <a:lnTo>
                    <a:pt x="156" y="1966"/>
                  </a:lnTo>
                  <a:lnTo>
                    <a:pt x="156" y="1944"/>
                  </a:lnTo>
                  <a:lnTo>
                    <a:pt x="159" y="1907"/>
                  </a:lnTo>
                  <a:lnTo>
                    <a:pt x="163" y="1856"/>
                  </a:lnTo>
                  <a:lnTo>
                    <a:pt x="168" y="1802"/>
                  </a:lnTo>
                  <a:lnTo>
                    <a:pt x="173" y="1747"/>
                  </a:lnTo>
                  <a:lnTo>
                    <a:pt x="177" y="1702"/>
                  </a:lnTo>
                  <a:lnTo>
                    <a:pt x="179" y="1669"/>
                  </a:lnTo>
                  <a:lnTo>
                    <a:pt x="182" y="1658"/>
                  </a:lnTo>
                  <a:lnTo>
                    <a:pt x="204" y="1413"/>
                  </a:lnTo>
                  <a:lnTo>
                    <a:pt x="182" y="1309"/>
                  </a:lnTo>
                  <a:lnTo>
                    <a:pt x="167" y="1212"/>
                  </a:lnTo>
                  <a:lnTo>
                    <a:pt x="156" y="1124"/>
                  </a:lnTo>
                  <a:lnTo>
                    <a:pt x="150" y="1048"/>
                  </a:lnTo>
                  <a:lnTo>
                    <a:pt x="147" y="983"/>
                  </a:lnTo>
                  <a:lnTo>
                    <a:pt x="147" y="936"/>
                  </a:lnTo>
                  <a:lnTo>
                    <a:pt x="147" y="905"/>
                  </a:lnTo>
                  <a:lnTo>
                    <a:pt x="148" y="896"/>
                  </a:lnTo>
                  <a:lnTo>
                    <a:pt x="157" y="789"/>
                  </a:lnTo>
                  <a:lnTo>
                    <a:pt x="160" y="701"/>
                  </a:lnTo>
                  <a:lnTo>
                    <a:pt x="157" y="630"/>
                  </a:lnTo>
                  <a:lnTo>
                    <a:pt x="153" y="576"/>
                  </a:lnTo>
                  <a:lnTo>
                    <a:pt x="148" y="534"/>
                  </a:lnTo>
                  <a:lnTo>
                    <a:pt x="149" y="506"/>
                  </a:lnTo>
                  <a:lnTo>
                    <a:pt x="157" y="486"/>
                  </a:lnTo>
                  <a:lnTo>
                    <a:pt x="176" y="477"/>
                  </a:lnTo>
                  <a:lnTo>
                    <a:pt x="202" y="471"/>
                  </a:lnTo>
                  <a:lnTo>
                    <a:pt x="228" y="467"/>
                  </a:lnTo>
                  <a:lnTo>
                    <a:pt x="254" y="466"/>
                  </a:lnTo>
                  <a:lnTo>
                    <a:pt x="281" y="469"/>
                  </a:lnTo>
                  <a:lnTo>
                    <a:pt x="304" y="475"/>
                  </a:lnTo>
                  <a:lnTo>
                    <a:pt x="324" y="485"/>
                  </a:lnTo>
                  <a:lnTo>
                    <a:pt x="339" y="499"/>
                  </a:lnTo>
                  <a:lnTo>
                    <a:pt x="349" y="519"/>
                  </a:lnTo>
                  <a:lnTo>
                    <a:pt x="356" y="548"/>
                  </a:lnTo>
                  <a:lnTo>
                    <a:pt x="366" y="589"/>
                  </a:lnTo>
                  <a:lnTo>
                    <a:pt x="376" y="638"/>
                  </a:lnTo>
                  <a:lnTo>
                    <a:pt x="388" y="691"/>
                  </a:lnTo>
                  <a:lnTo>
                    <a:pt x="397" y="745"/>
                  </a:lnTo>
                  <a:lnTo>
                    <a:pt x="406" y="795"/>
                  </a:lnTo>
                  <a:lnTo>
                    <a:pt x="412" y="838"/>
                  </a:lnTo>
                  <a:lnTo>
                    <a:pt x="415" y="871"/>
                  </a:lnTo>
                  <a:lnTo>
                    <a:pt x="415" y="903"/>
                  </a:lnTo>
                  <a:lnTo>
                    <a:pt x="417" y="949"/>
                  </a:lnTo>
                  <a:lnTo>
                    <a:pt x="420" y="1003"/>
                  </a:lnTo>
                  <a:lnTo>
                    <a:pt x="425" y="1061"/>
                  </a:lnTo>
                  <a:lnTo>
                    <a:pt x="430" y="1117"/>
                  </a:lnTo>
                  <a:lnTo>
                    <a:pt x="435" y="1169"/>
                  </a:lnTo>
                  <a:lnTo>
                    <a:pt x="442" y="1211"/>
                  </a:lnTo>
                  <a:lnTo>
                    <a:pt x="448" y="1240"/>
                  </a:lnTo>
                  <a:lnTo>
                    <a:pt x="454" y="1264"/>
                  </a:lnTo>
                  <a:lnTo>
                    <a:pt x="461" y="1297"/>
                  </a:lnTo>
                  <a:lnTo>
                    <a:pt x="467" y="1335"/>
                  </a:lnTo>
                  <a:lnTo>
                    <a:pt x="474" y="1376"/>
                  </a:lnTo>
                  <a:lnTo>
                    <a:pt x="480" y="1412"/>
                  </a:lnTo>
                  <a:lnTo>
                    <a:pt x="485" y="1444"/>
                  </a:lnTo>
                  <a:lnTo>
                    <a:pt x="487" y="1465"/>
                  </a:lnTo>
                  <a:lnTo>
                    <a:pt x="490" y="1474"/>
                  </a:lnTo>
                  <a:lnTo>
                    <a:pt x="563" y="1533"/>
                  </a:lnTo>
                  <a:lnTo>
                    <a:pt x="600" y="1499"/>
                  </a:lnTo>
                  <a:lnTo>
                    <a:pt x="630" y="1450"/>
                  </a:lnTo>
                  <a:lnTo>
                    <a:pt x="654" y="1390"/>
                  </a:lnTo>
                  <a:lnTo>
                    <a:pt x="674" y="1326"/>
                  </a:lnTo>
                  <a:lnTo>
                    <a:pt x="688" y="1264"/>
                  </a:lnTo>
                  <a:lnTo>
                    <a:pt x="699" y="1213"/>
                  </a:lnTo>
                  <a:lnTo>
                    <a:pt x="704" y="1177"/>
                  </a:lnTo>
                  <a:lnTo>
                    <a:pt x="706" y="1164"/>
                  </a:lnTo>
                  <a:lnTo>
                    <a:pt x="736" y="1034"/>
                  </a:lnTo>
                  <a:lnTo>
                    <a:pt x="761" y="934"/>
                  </a:lnTo>
                  <a:lnTo>
                    <a:pt x="779" y="857"/>
                  </a:lnTo>
                  <a:lnTo>
                    <a:pt x="793" y="803"/>
                  </a:lnTo>
                  <a:lnTo>
                    <a:pt x="801" y="767"/>
                  </a:lnTo>
                  <a:lnTo>
                    <a:pt x="808" y="746"/>
                  </a:lnTo>
                  <a:lnTo>
                    <a:pt x="811" y="735"/>
                  </a:lnTo>
                  <a:lnTo>
                    <a:pt x="812" y="733"/>
                  </a:lnTo>
                  <a:lnTo>
                    <a:pt x="813" y="721"/>
                  </a:lnTo>
                  <a:lnTo>
                    <a:pt x="819" y="691"/>
                  </a:lnTo>
                  <a:lnTo>
                    <a:pt x="825" y="648"/>
                  </a:lnTo>
                  <a:lnTo>
                    <a:pt x="835" y="599"/>
                  </a:lnTo>
                  <a:lnTo>
                    <a:pt x="843" y="548"/>
                  </a:lnTo>
                  <a:lnTo>
                    <a:pt x="852" y="501"/>
                  </a:lnTo>
                  <a:lnTo>
                    <a:pt x="858" y="465"/>
                  </a:lnTo>
                  <a:lnTo>
                    <a:pt x="860" y="447"/>
                  </a:lnTo>
                  <a:lnTo>
                    <a:pt x="861" y="433"/>
                  </a:lnTo>
                  <a:lnTo>
                    <a:pt x="867" y="416"/>
                  </a:lnTo>
                  <a:lnTo>
                    <a:pt x="873" y="396"/>
                  </a:lnTo>
                  <a:lnTo>
                    <a:pt x="883" y="376"/>
                  </a:lnTo>
                  <a:lnTo>
                    <a:pt x="891" y="355"/>
                  </a:lnTo>
                  <a:lnTo>
                    <a:pt x="900" y="339"/>
                  </a:lnTo>
                  <a:lnTo>
                    <a:pt x="906" y="328"/>
                  </a:lnTo>
                  <a:lnTo>
                    <a:pt x="908" y="325"/>
                  </a:lnTo>
                  <a:lnTo>
                    <a:pt x="927" y="260"/>
                  </a:lnTo>
                  <a:lnTo>
                    <a:pt x="952" y="206"/>
                  </a:lnTo>
                  <a:lnTo>
                    <a:pt x="982" y="163"/>
                  </a:lnTo>
                  <a:lnTo>
                    <a:pt x="1014" y="131"/>
                  </a:lnTo>
                  <a:lnTo>
                    <a:pt x="1043" y="110"/>
                  </a:lnTo>
                  <a:lnTo>
                    <a:pt x="1070" y="98"/>
                  </a:lnTo>
                  <a:lnTo>
                    <a:pt x="1088" y="98"/>
                  </a:lnTo>
                  <a:lnTo>
                    <a:pt x="1098" y="108"/>
                  </a:lnTo>
                  <a:lnTo>
                    <a:pt x="1101" y="124"/>
                  </a:lnTo>
                  <a:lnTo>
                    <a:pt x="1105" y="141"/>
                  </a:lnTo>
                  <a:lnTo>
                    <a:pt x="1108" y="159"/>
                  </a:lnTo>
                  <a:lnTo>
                    <a:pt x="1111" y="180"/>
                  </a:lnTo>
                  <a:lnTo>
                    <a:pt x="1113" y="199"/>
                  </a:lnTo>
                  <a:lnTo>
                    <a:pt x="1117" y="221"/>
                  </a:lnTo>
                  <a:lnTo>
                    <a:pt x="1118" y="242"/>
                  </a:lnTo>
                  <a:lnTo>
                    <a:pt x="1119" y="265"/>
                  </a:lnTo>
                  <a:lnTo>
                    <a:pt x="1118" y="287"/>
                  </a:lnTo>
                  <a:lnTo>
                    <a:pt x="1117" y="314"/>
                  </a:lnTo>
                  <a:lnTo>
                    <a:pt x="1115" y="342"/>
                  </a:lnTo>
                  <a:lnTo>
                    <a:pt x="1112" y="369"/>
                  </a:lnTo>
                  <a:lnTo>
                    <a:pt x="1109" y="391"/>
                  </a:lnTo>
                  <a:lnTo>
                    <a:pt x="1108" y="411"/>
                  </a:lnTo>
                  <a:lnTo>
                    <a:pt x="1107" y="423"/>
                  </a:lnTo>
                  <a:lnTo>
                    <a:pt x="1107" y="429"/>
                  </a:lnTo>
                  <a:lnTo>
                    <a:pt x="1066" y="680"/>
                  </a:lnTo>
                  <a:lnTo>
                    <a:pt x="1063" y="725"/>
                  </a:lnTo>
                  <a:lnTo>
                    <a:pt x="1059" y="769"/>
                  </a:lnTo>
                  <a:lnTo>
                    <a:pt x="1052" y="809"/>
                  </a:lnTo>
                  <a:lnTo>
                    <a:pt x="1047" y="845"/>
                  </a:lnTo>
                  <a:lnTo>
                    <a:pt x="1039" y="874"/>
                  </a:lnTo>
                  <a:lnTo>
                    <a:pt x="1033" y="896"/>
                  </a:lnTo>
                  <a:lnTo>
                    <a:pt x="1029" y="911"/>
                  </a:lnTo>
                  <a:lnTo>
                    <a:pt x="1028" y="917"/>
                  </a:lnTo>
                  <a:lnTo>
                    <a:pt x="982" y="1256"/>
                  </a:lnTo>
                  <a:lnTo>
                    <a:pt x="1096" y="1478"/>
                  </a:lnTo>
                  <a:lnTo>
                    <a:pt x="1177" y="1371"/>
                  </a:lnTo>
                  <a:lnTo>
                    <a:pt x="1231" y="1156"/>
                  </a:lnTo>
                  <a:lnTo>
                    <a:pt x="1296" y="964"/>
                  </a:lnTo>
                  <a:lnTo>
                    <a:pt x="1383" y="688"/>
                  </a:lnTo>
                  <a:lnTo>
                    <a:pt x="1460" y="449"/>
                  </a:lnTo>
                  <a:lnTo>
                    <a:pt x="1545" y="223"/>
                  </a:lnTo>
                  <a:lnTo>
                    <a:pt x="1592" y="167"/>
                  </a:lnTo>
                  <a:lnTo>
                    <a:pt x="1632" y="120"/>
                  </a:lnTo>
                  <a:lnTo>
                    <a:pt x="1664" y="81"/>
                  </a:lnTo>
                  <a:lnTo>
                    <a:pt x="1689" y="52"/>
                  </a:lnTo>
                  <a:lnTo>
                    <a:pt x="1708" y="28"/>
                  </a:lnTo>
                  <a:lnTo>
                    <a:pt x="1722" y="12"/>
                  </a:lnTo>
                  <a:lnTo>
                    <a:pt x="1728" y="2"/>
                  </a:lnTo>
                  <a:lnTo>
                    <a:pt x="1732" y="0"/>
                  </a:lnTo>
                  <a:lnTo>
                    <a:pt x="1766" y="21"/>
                  </a:lnTo>
                  <a:lnTo>
                    <a:pt x="1787" y="41"/>
                  </a:lnTo>
                  <a:lnTo>
                    <a:pt x="1796" y="56"/>
                  </a:lnTo>
                  <a:lnTo>
                    <a:pt x="1798" y="75"/>
                  </a:lnTo>
                  <a:lnTo>
                    <a:pt x="1793" y="93"/>
                  </a:lnTo>
                  <a:lnTo>
                    <a:pt x="1785" y="116"/>
                  </a:lnTo>
                  <a:lnTo>
                    <a:pt x="1777" y="147"/>
                  </a:lnTo>
                  <a:lnTo>
                    <a:pt x="1773" y="187"/>
                  </a:lnTo>
                  <a:lnTo>
                    <a:pt x="1766" y="234"/>
                  </a:lnTo>
                  <a:lnTo>
                    <a:pt x="1756" y="288"/>
                  </a:lnTo>
                  <a:lnTo>
                    <a:pt x="1743" y="343"/>
                  </a:lnTo>
                  <a:lnTo>
                    <a:pt x="1730" y="398"/>
                  </a:lnTo>
                  <a:lnTo>
                    <a:pt x="1715" y="446"/>
                  </a:lnTo>
                  <a:lnTo>
                    <a:pt x="1704" y="485"/>
                  </a:lnTo>
                  <a:lnTo>
                    <a:pt x="1695" y="511"/>
                  </a:lnTo>
                  <a:lnTo>
                    <a:pt x="1693" y="522"/>
                  </a:lnTo>
                  <a:lnTo>
                    <a:pt x="1678" y="592"/>
                  </a:lnTo>
                  <a:lnTo>
                    <a:pt x="1665" y="664"/>
                  </a:lnTo>
                  <a:lnTo>
                    <a:pt x="1651" y="734"/>
                  </a:lnTo>
                  <a:lnTo>
                    <a:pt x="1638" y="801"/>
                  </a:lnTo>
                  <a:lnTo>
                    <a:pt x="1625" y="857"/>
                  </a:lnTo>
                  <a:lnTo>
                    <a:pt x="1616" y="902"/>
                  </a:lnTo>
                  <a:lnTo>
                    <a:pt x="1609" y="931"/>
                  </a:lnTo>
                  <a:lnTo>
                    <a:pt x="1608" y="943"/>
                  </a:lnTo>
                  <a:lnTo>
                    <a:pt x="1576" y="1050"/>
                  </a:lnTo>
                  <a:lnTo>
                    <a:pt x="1545" y="1159"/>
                  </a:lnTo>
                  <a:lnTo>
                    <a:pt x="1515" y="1264"/>
                  </a:lnTo>
                  <a:lnTo>
                    <a:pt x="1488" y="1361"/>
                  </a:lnTo>
                  <a:lnTo>
                    <a:pt x="1464" y="1446"/>
                  </a:lnTo>
                  <a:lnTo>
                    <a:pt x="1447" y="1516"/>
                  </a:lnTo>
                  <a:lnTo>
                    <a:pt x="1437" y="1565"/>
                  </a:lnTo>
                  <a:lnTo>
                    <a:pt x="1436" y="1592"/>
                  </a:lnTo>
                  <a:lnTo>
                    <a:pt x="1445" y="1601"/>
                  </a:lnTo>
                  <a:lnTo>
                    <a:pt x="1465" y="1608"/>
                  </a:lnTo>
                  <a:lnTo>
                    <a:pt x="1492" y="1611"/>
                  </a:lnTo>
                  <a:lnTo>
                    <a:pt x="1522" y="1613"/>
                  </a:lnTo>
                  <a:lnTo>
                    <a:pt x="1550" y="1611"/>
                  </a:lnTo>
                  <a:lnTo>
                    <a:pt x="1576" y="1610"/>
                  </a:lnTo>
                  <a:lnTo>
                    <a:pt x="1593" y="1608"/>
                  </a:lnTo>
                  <a:lnTo>
                    <a:pt x="1601" y="1608"/>
                  </a:lnTo>
                  <a:lnTo>
                    <a:pt x="1723" y="1675"/>
                  </a:lnTo>
                  <a:lnTo>
                    <a:pt x="1770" y="1580"/>
                  </a:lnTo>
                  <a:lnTo>
                    <a:pt x="1813" y="1502"/>
                  </a:lnTo>
                  <a:lnTo>
                    <a:pt x="1851" y="1438"/>
                  </a:lnTo>
                  <a:lnTo>
                    <a:pt x="1884" y="1391"/>
                  </a:lnTo>
                  <a:lnTo>
                    <a:pt x="1911" y="1355"/>
                  </a:lnTo>
                  <a:lnTo>
                    <a:pt x="1931" y="1331"/>
                  </a:lnTo>
                  <a:lnTo>
                    <a:pt x="1943" y="1317"/>
                  </a:lnTo>
                  <a:lnTo>
                    <a:pt x="1949" y="1314"/>
                  </a:lnTo>
                  <a:lnTo>
                    <a:pt x="2002" y="1228"/>
                  </a:lnTo>
                  <a:lnTo>
                    <a:pt x="2045" y="1142"/>
                  </a:lnTo>
                  <a:lnTo>
                    <a:pt x="2081" y="1060"/>
                  </a:lnTo>
                  <a:lnTo>
                    <a:pt x="2109" y="988"/>
                  </a:lnTo>
                  <a:lnTo>
                    <a:pt x="2128" y="924"/>
                  </a:lnTo>
                  <a:lnTo>
                    <a:pt x="2142" y="876"/>
                  </a:lnTo>
                  <a:lnTo>
                    <a:pt x="2149" y="844"/>
                  </a:lnTo>
                  <a:lnTo>
                    <a:pt x="2152" y="833"/>
                  </a:lnTo>
                  <a:lnTo>
                    <a:pt x="2198" y="723"/>
                  </a:lnTo>
                  <a:lnTo>
                    <a:pt x="2238" y="628"/>
                  </a:lnTo>
                  <a:lnTo>
                    <a:pt x="2272" y="548"/>
                  </a:lnTo>
                  <a:lnTo>
                    <a:pt x="2303" y="484"/>
                  </a:lnTo>
                  <a:lnTo>
                    <a:pt x="2329" y="436"/>
                  </a:lnTo>
                  <a:lnTo>
                    <a:pt x="2353" y="406"/>
                  </a:lnTo>
                  <a:lnTo>
                    <a:pt x="2373" y="393"/>
                  </a:lnTo>
                  <a:lnTo>
                    <a:pt x="2393" y="400"/>
                  </a:lnTo>
                  <a:lnTo>
                    <a:pt x="2412" y="411"/>
                  </a:lnTo>
                  <a:lnTo>
                    <a:pt x="2435" y="414"/>
                  </a:lnTo>
                  <a:lnTo>
                    <a:pt x="2456" y="414"/>
                  </a:lnTo>
                  <a:lnTo>
                    <a:pt x="2477" y="417"/>
                  </a:lnTo>
                  <a:lnTo>
                    <a:pt x="2492" y="426"/>
                  </a:lnTo>
                  <a:lnTo>
                    <a:pt x="2505" y="449"/>
                  </a:lnTo>
                  <a:lnTo>
                    <a:pt x="2509" y="490"/>
                  </a:lnTo>
                  <a:lnTo>
                    <a:pt x="2506" y="553"/>
                  </a:lnTo>
                  <a:lnTo>
                    <a:pt x="2493" y="631"/>
                  </a:lnTo>
                  <a:lnTo>
                    <a:pt x="2478" y="716"/>
                  </a:lnTo>
                  <a:lnTo>
                    <a:pt x="2460" y="801"/>
                  </a:lnTo>
                  <a:lnTo>
                    <a:pt x="2442" y="883"/>
                  </a:lnTo>
                  <a:lnTo>
                    <a:pt x="2425" y="954"/>
                  </a:lnTo>
                  <a:lnTo>
                    <a:pt x="2411" y="1012"/>
                  </a:lnTo>
                  <a:lnTo>
                    <a:pt x="2401" y="1049"/>
                  </a:lnTo>
                  <a:lnTo>
                    <a:pt x="2399" y="1064"/>
                  </a:lnTo>
                  <a:lnTo>
                    <a:pt x="2300" y="1357"/>
                  </a:lnTo>
                  <a:lnTo>
                    <a:pt x="2243" y="1467"/>
                  </a:lnTo>
                  <a:lnTo>
                    <a:pt x="2197" y="1559"/>
                  </a:lnTo>
                  <a:lnTo>
                    <a:pt x="2157" y="1634"/>
                  </a:lnTo>
                  <a:lnTo>
                    <a:pt x="2125" y="1694"/>
                  </a:lnTo>
                  <a:lnTo>
                    <a:pt x="2100" y="1738"/>
                  </a:lnTo>
                  <a:lnTo>
                    <a:pt x="2083" y="1769"/>
                  </a:lnTo>
                  <a:lnTo>
                    <a:pt x="2073" y="1786"/>
                  </a:lnTo>
                  <a:lnTo>
                    <a:pt x="2070" y="1792"/>
                  </a:lnTo>
                  <a:lnTo>
                    <a:pt x="1988" y="1918"/>
                  </a:lnTo>
                  <a:lnTo>
                    <a:pt x="1972" y="1996"/>
                  </a:lnTo>
                  <a:lnTo>
                    <a:pt x="1959" y="2064"/>
                  </a:lnTo>
                  <a:lnTo>
                    <a:pt x="1947" y="2120"/>
                  </a:lnTo>
                  <a:lnTo>
                    <a:pt x="1939" y="2166"/>
                  </a:lnTo>
                  <a:lnTo>
                    <a:pt x="1931" y="2200"/>
                  </a:lnTo>
                  <a:lnTo>
                    <a:pt x="1925" y="2225"/>
                  </a:lnTo>
                  <a:lnTo>
                    <a:pt x="1922" y="2240"/>
                  </a:lnTo>
                  <a:lnTo>
                    <a:pt x="1922" y="2245"/>
                  </a:lnTo>
                  <a:lnTo>
                    <a:pt x="1919" y="2341"/>
                  </a:lnTo>
                  <a:lnTo>
                    <a:pt x="1917" y="2431"/>
                  </a:lnTo>
                  <a:lnTo>
                    <a:pt x="1917" y="2511"/>
                  </a:lnTo>
                  <a:lnTo>
                    <a:pt x="1919" y="2582"/>
                  </a:lnTo>
                  <a:lnTo>
                    <a:pt x="1919" y="2641"/>
                  </a:lnTo>
                  <a:lnTo>
                    <a:pt x="1920" y="2688"/>
                  </a:lnTo>
                  <a:lnTo>
                    <a:pt x="1921" y="2721"/>
                  </a:lnTo>
                  <a:lnTo>
                    <a:pt x="1922" y="2740"/>
                  </a:lnTo>
                  <a:lnTo>
                    <a:pt x="1921" y="2749"/>
                  </a:lnTo>
                  <a:lnTo>
                    <a:pt x="1921" y="2758"/>
                  </a:lnTo>
                  <a:lnTo>
                    <a:pt x="1921" y="2767"/>
                  </a:lnTo>
                  <a:lnTo>
                    <a:pt x="1923" y="2777"/>
                  </a:lnTo>
                  <a:lnTo>
                    <a:pt x="1926" y="2784"/>
                  </a:lnTo>
                  <a:lnTo>
                    <a:pt x="1934" y="2791"/>
                  </a:lnTo>
                  <a:lnTo>
                    <a:pt x="1945" y="2795"/>
                  </a:lnTo>
                  <a:lnTo>
                    <a:pt x="1963" y="2797"/>
                  </a:lnTo>
                  <a:lnTo>
                    <a:pt x="1982" y="2799"/>
                  </a:lnTo>
                  <a:lnTo>
                    <a:pt x="2003" y="2804"/>
                  </a:lnTo>
                  <a:lnTo>
                    <a:pt x="2025" y="2810"/>
                  </a:lnTo>
                  <a:lnTo>
                    <a:pt x="2050" y="2816"/>
                  </a:lnTo>
                  <a:lnTo>
                    <a:pt x="2073" y="2817"/>
                  </a:lnTo>
                  <a:lnTo>
                    <a:pt x="2098" y="2814"/>
                  </a:lnTo>
                  <a:lnTo>
                    <a:pt x="2120" y="2805"/>
                  </a:lnTo>
                  <a:lnTo>
                    <a:pt x="2143" y="2790"/>
                  </a:lnTo>
                  <a:lnTo>
                    <a:pt x="2169" y="2764"/>
                  </a:lnTo>
                  <a:lnTo>
                    <a:pt x="2204" y="2733"/>
                  </a:lnTo>
                  <a:lnTo>
                    <a:pt x="2245" y="2700"/>
                  </a:lnTo>
                  <a:lnTo>
                    <a:pt x="2290" y="2667"/>
                  </a:lnTo>
                  <a:lnTo>
                    <a:pt x="2334" y="2636"/>
                  </a:lnTo>
                  <a:lnTo>
                    <a:pt x="2380" y="2607"/>
                  </a:lnTo>
                  <a:lnTo>
                    <a:pt x="2421" y="2586"/>
                  </a:lnTo>
                  <a:lnTo>
                    <a:pt x="2457" y="2572"/>
                  </a:lnTo>
                  <a:lnTo>
                    <a:pt x="2491" y="2562"/>
                  </a:lnTo>
                  <a:lnTo>
                    <a:pt x="2535" y="2554"/>
                  </a:lnTo>
                  <a:lnTo>
                    <a:pt x="2582" y="2547"/>
                  </a:lnTo>
                  <a:lnTo>
                    <a:pt x="2634" y="2544"/>
                  </a:lnTo>
                  <a:lnTo>
                    <a:pt x="2681" y="2542"/>
                  </a:lnTo>
                  <a:lnTo>
                    <a:pt x="2727" y="2543"/>
                  </a:lnTo>
                  <a:lnTo>
                    <a:pt x="2765" y="2546"/>
                  </a:lnTo>
                  <a:lnTo>
                    <a:pt x="2794" y="2555"/>
                  </a:lnTo>
                  <a:lnTo>
                    <a:pt x="2819" y="2565"/>
                  </a:lnTo>
                  <a:lnTo>
                    <a:pt x="2853" y="2581"/>
                  </a:lnTo>
                  <a:lnTo>
                    <a:pt x="2888" y="2597"/>
                  </a:lnTo>
                  <a:lnTo>
                    <a:pt x="2926" y="2614"/>
                  </a:lnTo>
                  <a:lnTo>
                    <a:pt x="2961" y="2630"/>
                  </a:lnTo>
                  <a:lnTo>
                    <a:pt x="2989" y="2644"/>
                  </a:lnTo>
                  <a:lnTo>
                    <a:pt x="3008" y="2651"/>
                  </a:lnTo>
                  <a:lnTo>
                    <a:pt x="3016" y="2656"/>
                  </a:lnTo>
                  <a:lnTo>
                    <a:pt x="3019" y="2661"/>
                  </a:lnTo>
                  <a:lnTo>
                    <a:pt x="3031" y="2675"/>
                  </a:lnTo>
                  <a:lnTo>
                    <a:pt x="3044" y="2697"/>
                  </a:lnTo>
                  <a:lnTo>
                    <a:pt x="3057" y="2723"/>
                  </a:lnTo>
                  <a:lnTo>
                    <a:pt x="3065" y="2749"/>
                  </a:lnTo>
                  <a:lnTo>
                    <a:pt x="3067" y="2775"/>
                  </a:lnTo>
                  <a:lnTo>
                    <a:pt x="3057" y="2797"/>
                  </a:lnTo>
                  <a:lnTo>
                    <a:pt x="3033" y="2814"/>
                  </a:lnTo>
                  <a:lnTo>
                    <a:pt x="2998" y="2821"/>
                  </a:lnTo>
                  <a:lnTo>
                    <a:pt x="2964" y="2822"/>
                  </a:lnTo>
                  <a:lnTo>
                    <a:pt x="2931" y="2816"/>
                  </a:lnTo>
                  <a:lnTo>
                    <a:pt x="2899" y="2807"/>
                  </a:lnTo>
                  <a:lnTo>
                    <a:pt x="2867" y="2795"/>
                  </a:lnTo>
                  <a:lnTo>
                    <a:pt x="2837" y="2786"/>
                  </a:lnTo>
                  <a:lnTo>
                    <a:pt x="2809" y="2779"/>
                  </a:lnTo>
                  <a:lnTo>
                    <a:pt x="2786" y="2779"/>
                  </a:lnTo>
                  <a:lnTo>
                    <a:pt x="2757" y="2783"/>
                  </a:lnTo>
                  <a:lnTo>
                    <a:pt x="2726" y="2792"/>
                  </a:lnTo>
                  <a:lnTo>
                    <a:pt x="2695" y="2804"/>
                  </a:lnTo>
                  <a:lnTo>
                    <a:pt x="2664" y="2820"/>
                  </a:lnTo>
                  <a:lnTo>
                    <a:pt x="2634" y="2835"/>
                  </a:lnTo>
                  <a:lnTo>
                    <a:pt x="2607" y="2850"/>
                  </a:lnTo>
                  <a:lnTo>
                    <a:pt x="2585" y="2862"/>
                  </a:lnTo>
                  <a:lnTo>
                    <a:pt x="2570" y="2872"/>
                  </a:lnTo>
                  <a:lnTo>
                    <a:pt x="2551" y="2880"/>
                  </a:lnTo>
                  <a:lnTo>
                    <a:pt x="2524" y="2894"/>
                  </a:lnTo>
                  <a:lnTo>
                    <a:pt x="2490" y="2910"/>
                  </a:lnTo>
                  <a:lnTo>
                    <a:pt x="2455" y="2930"/>
                  </a:lnTo>
                  <a:lnTo>
                    <a:pt x="2417" y="2948"/>
                  </a:lnTo>
                  <a:lnTo>
                    <a:pt x="2383" y="2966"/>
                  </a:lnTo>
                  <a:lnTo>
                    <a:pt x="2357" y="2982"/>
                  </a:lnTo>
                  <a:lnTo>
                    <a:pt x="2340" y="2994"/>
                  </a:lnTo>
                  <a:lnTo>
                    <a:pt x="2318" y="3010"/>
                  </a:lnTo>
                  <a:lnTo>
                    <a:pt x="2282" y="3040"/>
                  </a:lnTo>
                  <a:lnTo>
                    <a:pt x="2237" y="3076"/>
                  </a:lnTo>
                  <a:lnTo>
                    <a:pt x="2189" y="3117"/>
                  </a:lnTo>
                  <a:lnTo>
                    <a:pt x="2142" y="3154"/>
                  </a:lnTo>
                  <a:lnTo>
                    <a:pt x="2102" y="3188"/>
                  </a:lnTo>
                  <a:lnTo>
                    <a:pt x="2074" y="3211"/>
                  </a:lnTo>
                  <a:lnTo>
                    <a:pt x="2064" y="3221"/>
                  </a:lnTo>
                  <a:lnTo>
                    <a:pt x="1885" y="3367"/>
                  </a:lnTo>
                  <a:lnTo>
                    <a:pt x="1880" y="3369"/>
                  </a:lnTo>
                  <a:lnTo>
                    <a:pt x="1865" y="3379"/>
                  </a:lnTo>
                  <a:lnTo>
                    <a:pt x="1843" y="3394"/>
                  </a:lnTo>
                  <a:lnTo>
                    <a:pt x="1818" y="3413"/>
                  </a:lnTo>
                  <a:lnTo>
                    <a:pt x="1790" y="3434"/>
                  </a:lnTo>
                  <a:lnTo>
                    <a:pt x="1762" y="3456"/>
                  </a:lnTo>
                  <a:lnTo>
                    <a:pt x="1736" y="3478"/>
                  </a:lnTo>
                  <a:lnTo>
                    <a:pt x="1715" y="3498"/>
                  </a:lnTo>
                  <a:lnTo>
                    <a:pt x="1695" y="3516"/>
                  </a:lnTo>
                  <a:lnTo>
                    <a:pt x="1672" y="3535"/>
                  </a:lnTo>
                  <a:lnTo>
                    <a:pt x="1646" y="3555"/>
                  </a:lnTo>
                  <a:lnTo>
                    <a:pt x="1619" y="3575"/>
                  </a:lnTo>
                  <a:lnTo>
                    <a:pt x="1589" y="3595"/>
                  </a:lnTo>
                  <a:lnTo>
                    <a:pt x="1558" y="3618"/>
                  </a:lnTo>
                  <a:lnTo>
                    <a:pt x="1526" y="3642"/>
                  </a:lnTo>
                  <a:lnTo>
                    <a:pt x="1494" y="3670"/>
                  </a:lnTo>
                  <a:lnTo>
                    <a:pt x="1462" y="3694"/>
                  </a:lnTo>
                  <a:lnTo>
                    <a:pt x="1435" y="3711"/>
                  </a:lnTo>
                  <a:lnTo>
                    <a:pt x="1411" y="3722"/>
                  </a:lnTo>
                  <a:lnTo>
                    <a:pt x="1393" y="3731"/>
                  </a:lnTo>
                  <a:lnTo>
                    <a:pt x="1373" y="3735"/>
                  </a:lnTo>
                  <a:lnTo>
                    <a:pt x="1355" y="3738"/>
                  </a:lnTo>
                  <a:lnTo>
                    <a:pt x="1336" y="3740"/>
                  </a:lnTo>
                  <a:lnTo>
                    <a:pt x="1316" y="3744"/>
                  </a:lnTo>
                  <a:lnTo>
                    <a:pt x="1291" y="3744"/>
                  </a:lnTo>
                  <a:lnTo>
                    <a:pt x="1265" y="3745"/>
                  </a:lnTo>
                  <a:lnTo>
                    <a:pt x="1236" y="3742"/>
                  </a:lnTo>
                  <a:lnTo>
                    <a:pt x="1210" y="3741"/>
                  </a:lnTo>
                  <a:lnTo>
                    <a:pt x="1185" y="3738"/>
                  </a:lnTo>
                  <a:lnTo>
                    <a:pt x="1166" y="3736"/>
                  </a:lnTo>
                  <a:lnTo>
                    <a:pt x="1152" y="3735"/>
                  </a:lnTo>
                  <a:lnTo>
                    <a:pt x="1148" y="3735"/>
                  </a:lnTo>
                  <a:lnTo>
                    <a:pt x="1146" y="3741"/>
                  </a:lnTo>
                  <a:lnTo>
                    <a:pt x="1142" y="3738"/>
                  </a:lnTo>
                  <a:lnTo>
                    <a:pt x="1136" y="3727"/>
                  </a:lnTo>
                  <a:lnTo>
                    <a:pt x="1126" y="3716"/>
                  </a:lnTo>
                  <a:lnTo>
                    <a:pt x="1111" y="3709"/>
                  </a:lnTo>
                  <a:lnTo>
                    <a:pt x="1095" y="3712"/>
                  </a:lnTo>
                  <a:lnTo>
                    <a:pt x="1073" y="3730"/>
                  </a:lnTo>
                  <a:lnTo>
                    <a:pt x="1049" y="3769"/>
                  </a:lnTo>
                  <a:lnTo>
                    <a:pt x="1026" y="3826"/>
                  </a:lnTo>
                  <a:lnTo>
                    <a:pt x="1010" y="3896"/>
                  </a:lnTo>
                  <a:lnTo>
                    <a:pt x="997" y="3968"/>
                  </a:lnTo>
                  <a:lnTo>
                    <a:pt x="983" y="4033"/>
                  </a:lnTo>
                  <a:lnTo>
                    <a:pt x="963" y="4081"/>
                  </a:lnTo>
                  <a:lnTo>
                    <a:pt x="933" y="4103"/>
                  </a:lnTo>
                  <a:lnTo>
                    <a:pt x="889" y="4090"/>
                  </a:lnTo>
                  <a:lnTo>
                    <a:pt x="827" y="4034"/>
                  </a:lnTo>
                  <a:lnTo>
                    <a:pt x="760" y="3963"/>
                  </a:lnTo>
                  <a:lnTo>
                    <a:pt x="706" y="3913"/>
                  </a:lnTo>
                  <a:lnTo>
                    <a:pt x="660" y="3879"/>
                  </a:lnTo>
                  <a:lnTo>
                    <a:pt x="620" y="3858"/>
                  </a:lnTo>
                  <a:lnTo>
                    <a:pt x="576" y="3843"/>
                  </a:lnTo>
                  <a:lnTo>
                    <a:pt x="529" y="3834"/>
                  </a:lnTo>
                  <a:lnTo>
                    <a:pt x="471" y="3825"/>
                  </a:lnTo>
                  <a:lnTo>
                    <a:pt x="400" y="3814"/>
                  </a:lnTo>
                  <a:lnTo>
                    <a:pt x="321" y="3801"/>
                  </a:lnTo>
                  <a:lnTo>
                    <a:pt x="249" y="3797"/>
                  </a:lnTo>
                  <a:lnTo>
                    <a:pt x="184" y="3796"/>
                  </a:lnTo>
                  <a:lnTo>
                    <a:pt x="128" y="3795"/>
                  </a:lnTo>
                  <a:lnTo>
                    <a:pt x="79" y="3788"/>
                  </a:lnTo>
                  <a:lnTo>
                    <a:pt x="43" y="3775"/>
                  </a:lnTo>
                  <a:lnTo>
                    <a:pt x="15" y="3750"/>
                  </a:lnTo>
                  <a:lnTo>
                    <a:pt x="0" y="3713"/>
                  </a:lnTo>
                  <a:lnTo>
                    <a:pt x="0" y="3661"/>
                  </a:lnTo>
                  <a:lnTo>
                    <a:pt x="20" y="3607"/>
                  </a:lnTo>
                  <a:lnTo>
                    <a:pt x="50" y="3550"/>
                  </a:lnTo>
                  <a:lnTo>
                    <a:pt x="89" y="3497"/>
                  </a:lnTo>
                  <a:lnTo>
                    <a:pt x="127" y="3448"/>
                  </a:lnTo>
                  <a:lnTo>
                    <a:pt x="163" y="3411"/>
                  </a:lnTo>
                  <a:lnTo>
                    <a:pt x="187" y="3385"/>
                  </a:lnTo>
                  <a:lnTo>
                    <a:pt x="197" y="3377"/>
                  </a:lnTo>
                  <a:close/>
                </a:path>
              </a:pathLst>
            </a:custGeom>
            <a:solidFill>
              <a:srgbClr val="ffd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554360" y="1157040"/>
              <a:ext cx="534960" cy="790560"/>
            </a:xfrm>
            <a:custGeom>
              <a:avLst/>
              <a:gdLst/>
              <a:ahLst/>
              <a:rect l="l" t="t" r="r" b="b"/>
              <a:pathLst>
                <a:path w="3034" h="3979">
                  <a:moveTo>
                    <a:pt x="240" y="3312"/>
                  </a:moveTo>
                  <a:lnTo>
                    <a:pt x="236" y="3288"/>
                  </a:lnTo>
                  <a:lnTo>
                    <a:pt x="228" y="3267"/>
                  </a:lnTo>
                  <a:lnTo>
                    <a:pt x="212" y="3248"/>
                  </a:lnTo>
                  <a:lnTo>
                    <a:pt x="194" y="3233"/>
                  </a:lnTo>
                  <a:lnTo>
                    <a:pt x="175" y="3221"/>
                  </a:lnTo>
                  <a:lnTo>
                    <a:pt x="160" y="3213"/>
                  </a:lnTo>
                  <a:lnTo>
                    <a:pt x="147" y="3207"/>
                  </a:lnTo>
                  <a:lnTo>
                    <a:pt x="144" y="3206"/>
                  </a:lnTo>
                  <a:lnTo>
                    <a:pt x="117" y="3120"/>
                  </a:lnTo>
                  <a:lnTo>
                    <a:pt x="94" y="3058"/>
                  </a:lnTo>
                  <a:lnTo>
                    <a:pt x="74" y="3010"/>
                  </a:lnTo>
                  <a:lnTo>
                    <a:pt x="59" y="2977"/>
                  </a:lnTo>
                  <a:lnTo>
                    <a:pt x="48" y="2950"/>
                  </a:lnTo>
                  <a:lnTo>
                    <a:pt x="45" y="2928"/>
                  </a:lnTo>
                  <a:lnTo>
                    <a:pt x="48" y="2902"/>
                  </a:lnTo>
                  <a:lnTo>
                    <a:pt x="61" y="2870"/>
                  </a:lnTo>
                  <a:lnTo>
                    <a:pt x="74" y="2824"/>
                  </a:lnTo>
                  <a:lnTo>
                    <a:pt x="87" y="2767"/>
                  </a:lnTo>
                  <a:lnTo>
                    <a:pt x="99" y="2702"/>
                  </a:lnTo>
                  <a:lnTo>
                    <a:pt x="109" y="2638"/>
                  </a:lnTo>
                  <a:lnTo>
                    <a:pt x="115" y="2573"/>
                  </a:lnTo>
                  <a:lnTo>
                    <a:pt x="122" y="2518"/>
                  </a:lnTo>
                  <a:lnTo>
                    <a:pt x="125" y="2475"/>
                  </a:lnTo>
                  <a:lnTo>
                    <a:pt x="127" y="2450"/>
                  </a:lnTo>
                  <a:lnTo>
                    <a:pt x="127" y="2417"/>
                  </a:lnTo>
                  <a:lnTo>
                    <a:pt x="131" y="2361"/>
                  </a:lnTo>
                  <a:lnTo>
                    <a:pt x="134" y="2285"/>
                  </a:lnTo>
                  <a:lnTo>
                    <a:pt x="139" y="2203"/>
                  </a:lnTo>
                  <a:lnTo>
                    <a:pt x="142" y="2121"/>
                  </a:lnTo>
                  <a:lnTo>
                    <a:pt x="145" y="2049"/>
                  </a:lnTo>
                  <a:lnTo>
                    <a:pt x="147" y="1996"/>
                  </a:lnTo>
                  <a:lnTo>
                    <a:pt x="150" y="1971"/>
                  </a:lnTo>
                  <a:lnTo>
                    <a:pt x="150" y="1950"/>
                  </a:lnTo>
                  <a:lnTo>
                    <a:pt x="151" y="1911"/>
                  </a:lnTo>
                  <a:lnTo>
                    <a:pt x="153" y="1862"/>
                  </a:lnTo>
                  <a:lnTo>
                    <a:pt x="156" y="1807"/>
                  </a:lnTo>
                  <a:lnTo>
                    <a:pt x="159" y="1753"/>
                  </a:lnTo>
                  <a:lnTo>
                    <a:pt x="161" y="1706"/>
                  </a:lnTo>
                  <a:lnTo>
                    <a:pt x="163" y="1674"/>
                  </a:lnTo>
                  <a:lnTo>
                    <a:pt x="164" y="1662"/>
                  </a:lnTo>
                  <a:lnTo>
                    <a:pt x="189" y="1416"/>
                  </a:lnTo>
                  <a:lnTo>
                    <a:pt x="166" y="1312"/>
                  </a:lnTo>
                  <a:lnTo>
                    <a:pt x="151" y="1214"/>
                  </a:lnTo>
                  <a:lnTo>
                    <a:pt x="140" y="1126"/>
                  </a:lnTo>
                  <a:lnTo>
                    <a:pt x="134" y="1050"/>
                  </a:lnTo>
                  <a:lnTo>
                    <a:pt x="130" y="987"/>
                  </a:lnTo>
                  <a:lnTo>
                    <a:pt x="130" y="939"/>
                  </a:lnTo>
                  <a:lnTo>
                    <a:pt x="130" y="909"/>
                  </a:lnTo>
                  <a:lnTo>
                    <a:pt x="131" y="900"/>
                  </a:lnTo>
                  <a:lnTo>
                    <a:pt x="140" y="792"/>
                  </a:lnTo>
                  <a:lnTo>
                    <a:pt x="140" y="705"/>
                  </a:lnTo>
                  <a:lnTo>
                    <a:pt x="134" y="632"/>
                  </a:lnTo>
                  <a:lnTo>
                    <a:pt x="127" y="578"/>
                  </a:lnTo>
                  <a:lnTo>
                    <a:pt x="120" y="535"/>
                  </a:lnTo>
                  <a:lnTo>
                    <a:pt x="119" y="506"/>
                  </a:lnTo>
                  <a:lnTo>
                    <a:pt x="124" y="486"/>
                  </a:lnTo>
                  <a:lnTo>
                    <a:pt x="143" y="477"/>
                  </a:lnTo>
                  <a:lnTo>
                    <a:pt x="169" y="471"/>
                  </a:lnTo>
                  <a:lnTo>
                    <a:pt x="195" y="467"/>
                  </a:lnTo>
                  <a:lnTo>
                    <a:pt x="221" y="466"/>
                  </a:lnTo>
                  <a:lnTo>
                    <a:pt x="248" y="469"/>
                  </a:lnTo>
                  <a:lnTo>
                    <a:pt x="271" y="475"/>
                  </a:lnTo>
                  <a:lnTo>
                    <a:pt x="291" y="485"/>
                  </a:lnTo>
                  <a:lnTo>
                    <a:pt x="306" y="499"/>
                  </a:lnTo>
                  <a:lnTo>
                    <a:pt x="316" y="519"/>
                  </a:lnTo>
                  <a:lnTo>
                    <a:pt x="323" y="548"/>
                  </a:lnTo>
                  <a:lnTo>
                    <a:pt x="333" y="589"/>
                  </a:lnTo>
                  <a:lnTo>
                    <a:pt x="343" y="638"/>
                  </a:lnTo>
                  <a:lnTo>
                    <a:pt x="355" y="691"/>
                  </a:lnTo>
                  <a:lnTo>
                    <a:pt x="364" y="745"/>
                  </a:lnTo>
                  <a:lnTo>
                    <a:pt x="373" y="795"/>
                  </a:lnTo>
                  <a:lnTo>
                    <a:pt x="379" y="838"/>
                  </a:lnTo>
                  <a:lnTo>
                    <a:pt x="382" y="871"/>
                  </a:lnTo>
                  <a:lnTo>
                    <a:pt x="382" y="903"/>
                  </a:lnTo>
                  <a:lnTo>
                    <a:pt x="384" y="949"/>
                  </a:lnTo>
                  <a:lnTo>
                    <a:pt x="387" y="1003"/>
                  </a:lnTo>
                  <a:lnTo>
                    <a:pt x="392" y="1061"/>
                  </a:lnTo>
                  <a:lnTo>
                    <a:pt x="397" y="1117"/>
                  </a:lnTo>
                  <a:lnTo>
                    <a:pt x="402" y="1169"/>
                  </a:lnTo>
                  <a:lnTo>
                    <a:pt x="409" y="1211"/>
                  </a:lnTo>
                  <a:lnTo>
                    <a:pt x="415" y="1240"/>
                  </a:lnTo>
                  <a:lnTo>
                    <a:pt x="421" y="1264"/>
                  </a:lnTo>
                  <a:lnTo>
                    <a:pt x="428" y="1297"/>
                  </a:lnTo>
                  <a:lnTo>
                    <a:pt x="434" y="1335"/>
                  </a:lnTo>
                  <a:lnTo>
                    <a:pt x="441" y="1376"/>
                  </a:lnTo>
                  <a:lnTo>
                    <a:pt x="447" y="1412"/>
                  </a:lnTo>
                  <a:lnTo>
                    <a:pt x="452" y="1444"/>
                  </a:lnTo>
                  <a:lnTo>
                    <a:pt x="454" y="1465"/>
                  </a:lnTo>
                  <a:lnTo>
                    <a:pt x="457" y="1474"/>
                  </a:lnTo>
                  <a:lnTo>
                    <a:pt x="530" y="1533"/>
                  </a:lnTo>
                  <a:lnTo>
                    <a:pt x="567" y="1512"/>
                  </a:lnTo>
                  <a:lnTo>
                    <a:pt x="599" y="1469"/>
                  </a:lnTo>
                  <a:lnTo>
                    <a:pt x="626" y="1410"/>
                  </a:lnTo>
                  <a:lnTo>
                    <a:pt x="647" y="1347"/>
                  </a:lnTo>
                  <a:lnTo>
                    <a:pt x="661" y="1282"/>
                  </a:lnTo>
                  <a:lnTo>
                    <a:pt x="672" y="1228"/>
                  </a:lnTo>
                  <a:lnTo>
                    <a:pt x="678" y="1188"/>
                  </a:lnTo>
                  <a:lnTo>
                    <a:pt x="681" y="1175"/>
                  </a:lnTo>
                  <a:lnTo>
                    <a:pt x="710" y="1044"/>
                  </a:lnTo>
                  <a:lnTo>
                    <a:pt x="735" y="944"/>
                  </a:lnTo>
                  <a:lnTo>
                    <a:pt x="751" y="869"/>
                  </a:lnTo>
                  <a:lnTo>
                    <a:pt x="766" y="816"/>
                  </a:lnTo>
                  <a:lnTo>
                    <a:pt x="775" y="780"/>
                  </a:lnTo>
                  <a:lnTo>
                    <a:pt x="780" y="759"/>
                  </a:lnTo>
                  <a:lnTo>
                    <a:pt x="784" y="749"/>
                  </a:lnTo>
                  <a:lnTo>
                    <a:pt x="785" y="747"/>
                  </a:lnTo>
                  <a:lnTo>
                    <a:pt x="786" y="734"/>
                  </a:lnTo>
                  <a:lnTo>
                    <a:pt x="791" y="704"/>
                  </a:lnTo>
                  <a:lnTo>
                    <a:pt x="799" y="661"/>
                  </a:lnTo>
                  <a:lnTo>
                    <a:pt x="809" y="611"/>
                  </a:lnTo>
                  <a:lnTo>
                    <a:pt x="817" y="559"/>
                  </a:lnTo>
                  <a:lnTo>
                    <a:pt x="826" y="512"/>
                  </a:lnTo>
                  <a:lnTo>
                    <a:pt x="831" y="476"/>
                  </a:lnTo>
                  <a:lnTo>
                    <a:pt x="834" y="458"/>
                  </a:lnTo>
                  <a:lnTo>
                    <a:pt x="835" y="445"/>
                  </a:lnTo>
                  <a:lnTo>
                    <a:pt x="840" y="428"/>
                  </a:lnTo>
                  <a:lnTo>
                    <a:pt x="847" y="407"/>
                  </a:lnTo>
                  <a:lnTo>
                    <a:pt x="856" y="387"/>
                  </a:lnTo>
                  <a:lnTo>
                    <a:pt x="864" y="367"/>
                  </a:lnTo>
                  <a:lnTo>
                    <a:pt x="871" y="351"/>
                  </a:lnTo>
                  <a:lnTo>
                    <a:pt x="877" y="339"/>
                  </a:lnTo>
                  <a:lnTo>
                    <a:pt x="879" y="336"/>
                  </a:lnTo>
                  <a:lnTo>
                    <a:pt x="898" y="270"/>
                  </a:lnTo>
                  <a:lnTo>
                    <a:pt x="924" y="216"/>
                  </a:lnTo>
                  <a:lnTo>
                    <a:pt x="953" y="172"/>
                  </a:lnTo>
                  <a:lnTo>
                    <a:pt x="984" y="138"/>
                  </a:lnTo>
                  <a:lnTo>
                    <a:pt x="1012" y="113"/>
                  </a:lnTo>
                  <a:lnTo>
                    <a:pt x="1037" y="101"/>
                  </a:lnTo>
                  <a:lnTo>
                    <a:pt x="1056" y="98"/>
                  </a:lnTo>
                  <a:lnTo>
                    <a:pt x="1065" y="108"/>
                  </a:lnTo>
                  <a:lnTo>
                    <a:pt x="1067" y="123"/>
                  </a:lnTo>
                  <a:lnTo>
                    <a:pt x="1069" y="140"/>
                  </a:lnTo>
                  <a:lnTo>
                    <a:pt x="1070" y="157"/>
                  </a:lnTo>
                  <a:lnTo>
                    <a:pt x="1072" y="176"/>
                  </a:lnTo>
                  <a:lnTo>
                    <a:pt x="1072" y="194"/>
                  </a:lnTo>
                  <a:lnTo>
                    <a:pt x="1072" y="215"/>
                  </a:lnTo>
                  <a:lnTo>
                    <a:pt x="1072" y="235"/>
                  </a:lnTo>
                  <a:lnTo>
                    <a:pt x="1073" y="258"/>
                  </a:lnTo>
                  <a:lnTo>
                    <a:pt x="1072" y="279"/>
                  </a:lnTo>
                  <a:lnTo>
                    <a:pt x="1070" y="305"/>
                  </a:lnTo>
                  <a:lnTo>
                    <a:pt x="1069" y="330"/>
                  </a:lnTo>
                  <a:lnTo>
                    <a:pt x="1068" y="355"/>
                  </a:lnTo>
                  <a:lnTo>
                    <a:pt x="1066" y="377"/>
                  </a:lnTo>
                  <a:lnTo>
                    <a:pt x="1065" y="395"/>
                  </a:lnTo>
                  <a:lnTo>
                    <a:pt x="1064" y="406"/>
                  </a:lnTo>
                  <a:lnTo>
                    <a:pt x="1064" y="411"/>
                  </a:lnTo>
                  <a:lnTo>
                    <a:pt x="1016" y="655"/>
                  </a:lnTo>
                  <a:lnTo>
                    <a:pt x="1014" y="700"/>
                  </a:lnTo>
                  <a:lnTo>
                    <a:pt x="1009" y="743"/>
                  </a:lnTo>
                  <a:lnTo>
                    <a:pt x="1003" y="782"/>
                  </a:lnTo>
                  <a:lnTo>
                    <a:pt x="996" y="816"/>
                  </a:lnTo>
                  <a:lnTo>
                    <a:pt x="988" y="843"/>
                  </a:lnTo>
                  <a:lnTo>
                    <a:pt x="981" y="864"/>
                  </a:lnTo>
                  <a:lnTo>
                    <a:pt x="977" y="878"/>
                  </a:lnTo>
                  <a:lnTo>
                    <a:pt x="976" y="884"/>
                  </a:lnTo>
                  <a:lnTo>
                    <a:pt x="927" y="1250"/>
                  </a:lnTo>
                  <a:lnTo>
                    <a:pt x="1062" y="1491"/>
                  </a:lnTo>
                  <a:lnTo>
                    <a:pt x="1154" y="1391"/>
                  </a:lnTo>
                  <a:lnTo>
                    <a:pt x="1207" y="1180"/>
                  </a:lnTo>
                  <a:lnTo>
                    <a:pt x="1273" y="984"/>
                  </a:lnTo>
                  <a:lnTo>
                    <a:pt x="1360" y="707"/>
                  </a:lnTo>
                  <a:lnTo>
                    <a:pt x="1437" y="472"/>
                  </a:lnTo>
                  <a:lnTo>
                    <a:pt x="1520" y="239"/>
                  </a:lnTo>
                  <a:lnTo>
                    <a:pt x="1566" y="182"/>
                  </a:lnTo>
                  <a:lnTo>
                    <a:pt x="1606" y="133"/>
                  </a:lnTo>
                  <a:lnTo>
                    <a:pt x="1636" y="93"/>
                  </a:lnTo>
                  <a:lnTo>
                    <a:pt x="1661" y="60"/>
                  </a:lnTo>
                  <a:lnTo>
                    <a:pt x="1678" y="33"/>
                  </a:lnTo>
                  <a:lnTo>
                    <a:pt x="1690" y="15"/>
                  </a:lnTo>
                  <a:lnTo>
                    <a:pt x="1695" y="3"/>
                  </a:lnTo>
                  <a:lnTo>
                    <a:pt x="1699" y="0"/>
                  </a:lnTo>
                  <a:lnTo>
                    <a:pt x="1733" y="21"/>
                  </a:lnTo>
                  <a:lnTo>
                    <a:pt x="1752" y="38"/>
                  </a:lnTo>
                  <a:lnTo>
                    <a:pt x="1760" y="53"/>
                  </a:lnTo>
                  <a:lnTo>
                    <a:pt x="1759" y="69"/>
                  </a:lnTo>
                  <a:lnTo>
                    <a:pt x="1751" y="85"/>
                  </a:lnTo>
                  <a:lnTo>
                    <a:pt x="1741" y="107"/>
                  </a:lnTo>
                  <a:lnTo>
                    <a:pt x="1732" y="136"/>
                  </a:lnTo>
                  <a:lnTo>
                    <a:pt x="1727" y="175"/>
                  </a:lnTo>
                  <a:lnTo>
                    <a:pt x="1720" y="222"/>
                  </a:lnTo>
                  <a:lnTo>
                    <a:pt x="1710" y="275"/>
                  </a:lnTo>
                  <a:lnTo>
                    <a:pt x="1698" y="329"/>
                  </a:lnTo>
                  <a:lnTo>
                    <a:pt x="1684" y="382"/>
                  </a:lnTo>
                  <a:lnTo>
                    <a:pt x="1670" y="429"/>
                  </a:lnTo>
                  <a:lnTo>
                    <a:pt x="1659" y="468"/>
                  </a:lnTo>
                  <a:lnTo>
                    <a:pt x="1651" y="493"/>
                  </a:lnTo>
                  <a:lnTo>
                    <a:pt x="1649" y="503"/>
                  </a:lnTo>
                  <a:lnTo>
                    <a:pt x="1634" y="572"/>
                  </a:lnTo>
                  <a:lnTo>
                    <a:pt x="1620" y="645"/>
                  </a:lnTo>
                  <a:lnTo>
                    <a:pt x="1605" y="714"/>
                  </a:lnTo>
                  <a:lnTo>
                    <a:pt x="1592" y="780"/>
                  </a:lnTo>
                  <a:lnTo>
                    <a:pt x="1579" y="834"/>
                  </a:lnTo>
                  <a:lnTo>
                    <a:pt x="1570" y="879"/>
                  </a:lnTo>
                  <a:lnTo>
                    <a:pt x="1564" y="907"/>
                  </a:lnTo>
                  <a:lnTo>
                    <a:pt x="1562" y="919"/>
                  </a:lnTo>
                  <a:lnTo>
                    <a:pt x="1529" y="1027"/>
                  </a:lnTo>
                  <a:lnTo>
                    <a:pt x="1496" y="1141"/>
                  </a:lnTo>
                  <a:lnTo>
                    <a:pt x="1464" y="1252"/>
                  </a:lnTo>
                  <a:lnTo>
                    <a:pt x="1435" y="1356"/>
                  </a:lnTo>
                  <a:lnTo>
                    <a:pt x="1409" y="1447"/>
                  </a:lnTo>
                  <a:lnTo>
                    <a:pt x="1390" y="1523"/>
                  </a:lnTo>
                  <a:lnTo>
                    <a:pt x="1377" y="1577"/>
                  </a:lnTo>
                  <a:lnTo>
                    <a:pt x="1376" y="1606"/>
                  </a:lnTo>
                  <a:lnTo>
                    <a:pt x="1386" y="1614"/>
                  </a:lnTo>
                  <a:lnTo>
                    <a:pt x="1410" y="1619"/>
                  </a:lnTo>
                  <a:lnTo>
                    <a:pt x="1440" y="1619"/>
                  </a:lnTo>
                  <a:lnTo>
                    <a:pt x="1475" y="1618"/>
                  </a:lnTo>
                  <a:lnTo>
                    <a:pt x="1509" y="1615"/>
                  </a:lnTo>
                  <a:lnTo>
                    <a:pt x="1539" y="1611"/>
                  </a:lnTo>
                  <a:lnTo>
                    <a:pt x="1559" y="1608"/>
                  </a:lnTo>
                  <a:lnTo>
                    <a:pt x="1568" y="1608"/>
                  </a:lnTo>
                  <a:lnTo>
                    <a:pt x="1704" y="1702"/>
                  </a:lnTo>
                  <a:lnTo>
                    <a:pt x="1751" y="1607"/>
                  </a:lnTo>
                  <a:lnTo>
                    <a:pt x="1794" y="1531"/>
                  </a:lnTo>
                  <a:lnTo>
                    <a:pt x="1831" y="1470"/>
                  </a:lnTo>
                  <a:lnTo>
                    <a:pt x="1864" y="1425"/>
                  </a:lnTo>
                  <a:lnTo>
                    <a:pt x="1890" y="1391"/>
                  </a:lnTo>
                  <a:lnTo>
                    <a:pt x="1910" y="1370"/>
                  </a:lnTo>
                  <a:lnTo>
                    <a:pt x="1921" y="1358"/>
                  </a:lnTo>
                  <a:lnTo>
                    <a:pt x="1927" y="1356"/>
                  </a:lnTo>
                  <a:lnTo>
                    <a:pt x="1980" y="1268"/>
                  </a:lnTo>
                  <a:lnTo>
                    <a:pt x="2023" y="1181"/>
                  </a:lnTo>
                  <a:lnTo>
                    <a:pt x="2058" y="1096"/>
                  </a:lnTo>
                  <a:lnTo>
                    <a:pt x="2086" y="1021"/>
                  </a:lnTo>
                  <a:lnTo>
                    <a:pt x="2105" y="954"/>
                  </a:lnTo>
                  <a:lnTo>
                    <a:pt x="2119" y="902"/>
                  </a:lnTo>
                  <a:lnTo>
                    <a:pt x="2126" y="868"/>
                  </a:lnTo>
                  <a:lnTo>
                    <a:pt x="2129" y="857"/>
                  </a:lnTo>
                  <a:lnTo>
                    <a:pt x="2174" y="746"/>
                  </a:lnTo>
                  <a:lnTo>
                    <a:pt x="2214" y="651"/>
                  </a:lnTo>
                  <a:lnTo>
                    <a:pt x="2246" y="568"/>
                  </a:lnTo>
                  <a:lnTo>
                    <a:pt x="2276" y="503"/>
                  </a:lnTo>
                  <a:lnTo>
                    <a:pt x="2300" y="454"/>
                  </a:lnTo>
                  <a:lnTo>
                    <a:pt x="2323" y="422"/>
                  </a:lnTo>
                  <a:lnTo>
                    <a:pt x="2341" y="408"/>
                  </a:lnTo>
                  <a:lnTo>
                    <a:pt x="2362" y="415"/>
                  </a:lnTo>
                  <a:lnTo>
                    <a:pt x="2380" y="424"/>
                  </a:lnTo>
                  <a:lnTo>
                    <a:pt x="2403" y="425"/>
                  </a:lnTo>
                  <a:lnTo>
                    <a:pt x="2424" y="423"/>
                  </a:lnTo>
                  <a:lnTo>
                    <a:pt x="2444" y="424"/>
                  </a:lnTo>
                  <a:lnTo>
                    <a:pt x="2459" y="431"/>
                  </a:lnTo>
                  <a:lnTo>
                    <a:pt x="2472" y="451"/>
                  </a:lnTo>
                  <a:lnTo>
                    <a:pt x="2476" y="490"/>
                  </a:lnTo>
                  <a:lnTo>
                    <a:pt x="2473" y="553"/>
                  </a:lnTo>
                  <a:lnTo>
                    <a:pt x="2460" y="631"/>
                  </a:lnTo>
                  <a:lnTo>
                    <a:pt x="2445" y="716"/>
                  </a:lnTo>
                  <a:lnTo>
                    <a:pt x="2427" y="801"/>
                  </a:lnTo>
                  <a:lnTo>
                    <a:pt x="2409" y="883"/>
                  </a:lnTo>
                  <a:lnTo>
                    <a:pt x="2392" y="954"/>
                  </a:lnTo>
                  <a:lnTo>
                    <a:pt x="2378" y="1012"/>
                  </a:lnTo>
                  <a:lnTo>
                    <a:pt x="2368" y="1049"/>
                  </a:lnTo>
                  <a:lnTo>
                    <a:pt x="2366" y="1064"/>
                  </a:lnTo>
                  <a:lnTo>
                    <a:pt x="2267" y="1357"/>
                  </a:lnTo>
                  <a:lnTo>
                    <a:pt x="2210" y="1467"/>
                  </a:lnTo>
                  <a:lnTo>
                    <a:pt x="2164" y="1559"/>
                  </a:lnTo>
                  <a:lnTo>
                    <a:pt x="2124" y="1634"/>
                  </a:lnTo>
                  <a:lnTo>
                    <a:pt x="2092" y="1694"/>
                  </a:lnTo>
                  <a:lnTo>
                    <a:pt x="2067" y="1738"/>
                  </a:lnTo>
                  <a:lnTo>
                    <a:pt x="2050" y="1769"/>
                  </a:lnTo>
                  <a:lnTo>
                    <a:pt x="2040" y="1786"/>
                  </a:lnTo>
                  <a:lnTo>
                    <a:pt x="2037" y="1792"/>
                  </a:lnTo>
                  <a:lnTo>
                    <a:pt x="1955" y="1918"/>
                  </a:lnTo>
                  <a:lnTo>
                    <a:pt x="1939" y="1996"/>
                  </a:lnTo>
                  <a:lnTo>
                    <a:pt x="1926" y="2064"/>
                  </a:lnTo>
                  <a:lnTo>
                    <a:pt x="1914" y="2120"/>
                  </a:lnTo>
                  <a:lnTo>
                    <a:pt x="1906" y="2166"/>
                  </a:lnTo>
                  <a:lnTo>
                    <a:pt x="1898" y="2200"/>
                  </a:lnTo>
                  <a:lnTo>
                    <a:pt x="1892" y="2225"/>
                  </a:lnTo>
                  <a:lnTo>
                    <a:pt x="1889" y="2240"/>
                  </a:lnTo>
                  <a:lnTo>
                    <a:pt x="1889" y="2245"/>
                  </a:lnTo>
                  <a:lnTo>
                    <a:pt x="1886" y="2341"/>
                  </a:lnTo>
                  <a:lnTo>
                    <a:pt x="1884" y="2431"/>
                  </a:lnTo>
                  <a:lnTo>
                    <a:pt x="1884" y="2511"/>
                  </a:lnTo>
                  <a:lnTo>
                    <a:pt x="1886" y="2582"/>
                  </a:lnTo>
                  <a:lnTo>
                    <a:pt x="1886" y="2641"/>
                  </a:lnTo>
                  <a:lnTo>
                    <a:pt x="1887" y="2688"/>
                  </a:lnTo>
                  <a:lnTo>
                    <a:pt x="1888" y="2721"/>
                  </a:lnTo>
                  <a:lnTo>
                    <a:pt x="1889" y="2740"/>
                  </a:lnTo>
                  <a:lnTo>
                    <a:pt x="1888" y="2749"/>
                  </a:lnTo>
                  <a:lnTo>
                    <a:pt x="1888" y="2758"/>
                  </a:lnTo>
                  <a:lnTo>
                    <a:pt x="1888" y="2767"/>
                  </a:lnTo>
                  <a:lnTo>
                    <a:pt x="1890" y="2777"/>
                  </a:lnTo>
                  <a:lnTo>
                    <a:pt x="1893" y="2784"/>
                  </a:lnTo>
                  <a:lnTo>
                    <a:pt x="1901" y="2791"/>
                  </a:lnTo>
                  <a:lnTo>
                    <a:pt x="1912" y="2795"/>
                  </a:lnTo>
                  <a:lnTo>
                    <a:pt x="1930" y="2797"/>
                  </a:lnTo>
                  <a:lnTo>
                    <a:pt x="1949" y="2799"/>
                  </a:lnTo>
                  <a:lnTo>
                    <a:pt x="1970" y="2804"/>
                  </a:lnTo>
                  <a:lnTo>
                    <a:pt x="1992" y="2810"/>
                  </a:lnTo>
                  <a:lnTo>
                    <a:pt x="2017" y="2816"/>
                  </a:lnTo>
                  <a:lnTo>
                    <a:pt x="2040" y="2817"/>
                  </a:lnTo>
                  <a:lnTo>
                    <a:pt x="2065" y="2814"/>
                  </a:lnTo>
                  <a:lnTo>
                    <a:pt x="2087" y="2805"/>
                  </a:lnTo>
                  <a:lnTo>
                    <a:pt x="2110" y="2790"/>
                  </a:lnTo>
                  <a:lnTo>
                    <a:pt x="2136" y="2764"/>
                  </a:lnTo>
                  <a:lnTo>
                    <a:pt x="2171" y="2733"/>
                  </a:lnTo>
                  <a:lnTo>
                    <a:pt x="2212" y="2700"/>
                  </a:lnTo>
                  <a:lnTo>
                    <a:pt x="2257" y="2667"/>
                  </a:lnTo>
                  <a:lnTo>
                    <a:pt x="2301" y="2636"/>
                  </a:lnTo>
                  <a:lnTo>
                    <a:pt x="2347" y="2607"/>
                  </a:lnTo>
                  <a:lnTo>
                    <a:pt x="2388" y="2586"/>
                  </a:lnTo>
                  <a:lnTo>
                    <a:pt x="2424" y="2572"/>
                  </a:lnTo>
                  <a:lnTo>
                    <a:pt x="2458" y="2562"/>
                  </a:lnTo>
                  <a:lnTo>
                    <a:pt x="2502" y="2554"/>
                  </a:lnTo>
                  <a:lnTo>
                    <a:pt x="2549" y="2547"/>
                  </a:lnTo>
                  <a:lnTo>
                    <a:pt x="2601" y="2544"/>
                  </a:lnTo>
                  <a:lnTo>
                    <a:pt x="2648" y="2542"/>
                  </a:lnTo>
                  <a:lnTo>
                    <a:pt x="2694" y="2543"/>
                  </a:lnTo>
                  <a:lnTo>
                    <a:pt x="2732" y="2546"/>
                  </a:lnTo>
                  <a:lnTo>
                    <a:pt x="2761" y="2555"/>
                  </a:lnTo>
                  <a:lnTo>
                    <a:pt x="2786" y="2565"/>
                  </a:lnTo>
                  <a:lnTo>
                    <a:pt x="2820" y="2581"/>
                  </a:lnTo>
                  <a:lnTo>
                    <a:pt x="2855" y="2597"/>
                  </a:lnTo>
                  <a:lnTo>
                    <a:pt x="2893" y="2614"/>
                  </a:lnTo>
                  <a:lnTo>
                    <a:pt x="2928" y="2630"/>
                  </a:lnTo>
                  <a:lnTo>
                    <a:pt x="2956" y="2644"/>
                  </a:lnTo>
                  <a:lnTo>
                    <a:pt x="2975" y="2651"/>
                  </a:lnTo>
                  <a:lnTo>
                    <a:pt x="2983" y="2656"/>
                  </a:lnTo>
                  <a:lnTo>
                    <a:pt x="2986" y="2661"/>
                  </a:lnTo>
                  <a:lnTo>
                    <a:pt x="2998" y="2675"/>
                  </a:lnTo>
                  <a:lnTo>
                    <a:pt x="3011" y="2697"/>
                  </a:lnTo>
                  <a:lnTo>
                    <a:pt x="3024" y="2723"/>
                  </a:lnTo>
                  <a:lnTo>
                    <a:pt x="3032" y="2749"/>
                  </a:lnTo>
                  <a:lnTo>
                    <a:pt x="3034" y="2775"/>
                  </a:lnTo>
                  <a:lnTo>
                    <a:pt x="3024" y="2797"/>
                  </a:lnTo>
                  <a:lnTo>
                    <a:pt x="3000" y="2814"/>
                  </a:lnTo>
                  <a:lnTo>
                    <a:pt x="2965" y="2820"/>
                  </a:lnTo>
                  <a:lnTo>
                    <a:pt x="2931" y="2818"/>
                  </a:lnTo>
                  <a:lnTo>
                    <a:pt x="2898" y="2808"/>
                  </a:lnTo>
                  <a:lnTo>
                    <a:pt x="2866" y="2794"/>
                  </a:lnTo>
                  <a:lnTo>
                    <a:pt x="2834" y="2778"/>
                  </a:lnTo>
                  <a:lnTo>
                    <a:pt x="2805" y="2764"/>
                  </a:lnTo>
                  <a:lnTo>
                    <a:pt x="2777" y="2752"/>
                  </a:lnTo>
                  <a:lnTo>
                    <a:pt x="2753" y="2748"/>
                  </a:lnTo>
                  <a:lnTo>
                    <a:pt x="2723" y="2748"/>
                  </a:lnTo>
                  <a:lnTo>
                    <a:pt x="2693" y="2754"/>
                  </a:lnTo>
                  <a:lnTo>
                    <a:pt x="2661" y="2765"/>
                  </a:lnTo>
                  <a:lnTo>
                    <a:pt x="2631" y="2779"/>
                  </a:lnTo>
                  <a:lnTo>
                    <a:pt x="2601" y="2793"/>
                  </a:lnTo>
                  <a:lnTo>
                    <a:pt x="2575" y="2808"/>
                  </a:lnTo>
                  <a:lnTo>
                    <a:pt x="2553" y="2820"/>
                  </a:lnTo>
                  <a:lnTo>
                    <a:pt x="2538" y="2829"/>
                  </a:lnTo>
                  <a:lnTo>
                    <a:pt x="2519" y="2837"/>
                  </a:lnTo>
                  <a:lnTo>
                    <a:pt x="2494" y="2851"/>
                  </a:lnTo>
                  <a:lnTo>
                    <a:pt x="2460" y="2868"/>
                  </a:lnTo>
                  <a:lnTo>
                    <a:pt x="2426" y="2887"/>
                  </a:lnTo>
                  <a:lnTo>
                    <a:pt x="2390" y="2905"/>
                  </a:lnTo>
                  <a:lnTo>
                    <a:pt x="2358" y="2923"/>
                  </a:lnTo>
                  <a:lnTo>
                    <a:pt x="2331" y="2939"/>
                  </a:lnTo>
                  <a:lnTo>
                    <a:pt x="2315" y="2951"/>
                  </a:lnTo>
                  <a:lnTo>
                    <a:pt x="2291" y="2967"/>
                  </a:lnTo>
                  <a:lnTo>
                    <a:pt x="2256" y="2997"/>
                  </a:lnTo>
                  <a:lnTo>
                    <a:pt x="2209" y="3033"/>
                  </a:lnTo>
                  <a:lnTo>
                    <a:pt x="2160" y="3074"/>
                  </a:lnTo>
                  <a:lnTo>
                    <a:pt x="2111" y="3111"/>
                  </a:lnTo>
                  <a:lnTo>
                    <a:pt x="2071" y="3145"/>
                  </a:lnTo>
                  <a:lnTo>
                    <a:pt x="2042" y="3168"/>
                  </a:lnTo>
                  <a:lnTo>
                    <a:pt x="2032" y="3178"/>
                  </a:lnTo>
                  <a:lnTo>
                    <a:pt x="1851" y="3337"/>
                  </a:lnTo>
                  <a:lnTo>
                    <a:pt x="1846" y="3340"/>
                  </a:lnTo>
                  <a:lnTo>
                    <a:pt x="1831" y="3350"/>
                  </a:lnTo>
                  <a:lnTo>
                    <a:pt x="1809" y="3363"/>
                  </a:lnTo>
                  <a:lnTo>
                    <a:pt x="1784" y="3381"/>
                  </a:lnTo>
                  <a:lnTo>
                    <a:pt x="1757" y="3401"/>
                  </a:lnTo>
                  <a:lnTo>
                    <a:pt x="1729" y="3422"/>
                  </a:lnTo>
                  <a:lnTo>
                    <a:pt x="1703" y="3444"/>
                  </a:lnTo>
                  <a:lnTo>
                    <a:pt x="1682" y="3464"/>
                  </a:lnTo>
                  <a:lnTo>
                    <a:pt x="1662" y="3482"/>
                  </a:lnTo>
                  <a:lnTo>
                    <a:pt x="1640" y="3501"/>
                  </a:lnTo>
                  <a:lnTo>
                    <a:pt x="1615" y="3521"/>
                  </a:lnTo>
                  <a:lnTo>
                    <a:pt x="1590" y="3541"/>
                  </a:lnTo>
                  <a:lnTo>
                    <a:pt x="1561" y="3561"/>
                  </a:lnTo>
                  <a:lnTo>
                    <a:pt x="1531" y="3586"/>
                  </a:lnTo>
                  <a:lnTo>
                    <a:pt x="1500" y="3611"/>
                  </a:lnTo>
                  <a:lnTo>
                    <a:pt x="1467" y="3639"/>
                  </a:lnTo>
                  <a:lnTo>
                    <a:pt x="1435" y="3663"/>
                  </a:lnTo>
                  <a:lnTo>
                    <a:pt x="1410" y="3680"/>
                  </a:lnTo>
                  <a:lnTo>
                    <a:pt x="1387" y="3690"/>
                  </a:lnTo>
                  <a:lnTo>
                    <a:pt x="1368" y="3698"/>
                  </a:lnTo>
                  <a:lnTo>
                    <a:pt x="1351" y="3702"/>
                  </a:lnTo>
                  <a:lnTo>
                    <a:pt x="1334" y="3703"/>
                  </a:lnTo>
                  <a:lnTo>
                    <a:pt x="1316" y="3704"/>
                  </a:lnTo>
                  <a:lnTo>
                    <a:pt x="1296" y="3707"/>
                  </a:lnTo>
                  <a:lnTo>
                    <a:pt x="1272" y="3707"/>
                  </a:lnTo>
                  <a:lnTo>
                    <a:pt x="1245" y="3707"/>
                  </a:lnTo>
                  <a:lnTo>
                    <a:pt x="1217" y="3705"/>
                  </a:lnTo>
                  <a:lnTo>
                    <a:pt x="1192" y="3703"/>
                  </a:lnTo>
                  <a:lnTo>
                    <a:pt x="1167" y="3698"/>
                  </a:lnTo>
                  <a:lnTo>
                    <a:pt x="1148" y="3696"/>
                  </a:lnTo>
                  <a:lnTo>
                    <a:pt x="1136" y="3693"/>
                  </a:lnTo>
                  <a:lnTo>
                    <a:pt x="1132" y="3693"/>
                  </a:lnTo>
                  <a:lnTo>
                    <a:pt x="1128" y="3697"/>
                  </a:lnTo>
                  <a:lnTo>
                    <a:pt x="1123" y="3687"/>
                  </a:lnTo>
                  <a:lnTo>
                    <a:pt x="1114" y="3668"/>
                  </a:lnTo>
                  <a:lnTo>
                    <a:pt x="1102" y="3647"/>
                  </a:lnTo>
                  <a:lnTo>
                    <a:pt x="1085" y="3629"/>
                  </a:lnTo>
                  <a:lnTo>
                    <a:pt x="1065" y="3624"/>
                  </a:lnTo>
                  <a:lnTo>
                    <a:pt x="1042" y="3636"/>
                  </a:lnTo>
                  <a:lnTo>
                    <a:pt x="1016" y="3672"/>
                  </a:lnTo>
                  <a:lnTo>
                    <a:pt x="993" y="3729"/>
                  </a:lnTo>
                  <a:lnTo>
                    <a:pt x="980" y="3795"/>
                  </a:lnTo>
                  <a:lnTo>
                    <a:pt x="970" y="3860"/>
                  </a:lnTo>
                  <a:lnTo>
                    <a:pt x="961" y="3920"/>
                  </a:lnTo>
                  <a:lnTo>
                    <a:pt x="945" y="3961"/>
                  </a:lnTo>
                  <a:lnTo>
                    <a:pt x="919" y="3979"/>
                  </a:lnTo>
                  <a:lnTo>
                    <a:pt x="878" y="3963"/>
                  </a:lnTo>
                  <a:lnTo>
                    <a:pt x="817" y="3907"/>
                  </a:lnTo>
                  <a:lnTo>
                    <a:pt x="750" y="3838"/>
                  </a:lnTo>
                  <a:lnTo>
                    <a:pt x="698" y="3797"/>
                  </a:lnTo>
                  <a:lnTo>
                    <a:pt x="653" y="3774"/>
                  </a:lnTo>
                  <a:lnTo>
                    <a:pt x="615" y="3766"/>
                  </a:lnTo>
                  <a:lnTo>
                    <a:pt x="573" y="3765"/>
                  </a:lnTo>
                  <a:lnTo>
                    <a:pt x="528" y="3767"/>
                  </a:lnTo>
                  <a:lnTo>
                    <a:pt x="472" y="3766"/>
                  </a:lnTo>
                  <a:lnTo>
                    <a:pt x="402" y="3758"/>
                  </a:lnTo>
                  <a:lnTo>
                    <a:pt x="323" y="3747"/>
                  </a:lnTo>
                  <a:lnTo>
                    <a:pt x="252" y="3744"/>
                  </a:lnTo>
                  <a:lnTo>
                    <a:pt x="186" y="3745"/>
                  </a:lnTo>
                  <a:lnTo>
                    <a:pt x="130" y="3746"/>
                  </a:lnTo>
                  <a:lnTo>
                    <a:pt x="81" y="3741"/>
                  </a:lnTo>
                  <a:lnTo>
                    <a:pt x="42" y="3731"/>
                  </a:lnTo>
                  <a:lnTo>
                    <a:pt x="14" y="3707"/>
                  </a:lnTo>
                  <a:lnTo>
                    <a:pt x="0" y="3671"/>
                  </a:lnTo>
                  <a:lnTo>
                    <a:pt x="2" y="3619"/>
                  </a:lnTo>
                  <a:lnTo>
                    <a:pt x="26" y="3561"/>
                  </a:lnTo>
                  <a:lnTo>
                    <a:pt x="64" y="3501"/>
                  </a:lnTo>
                  <a:lnTo>
                    <a:pt x="110" y="3444"/>
                  </a:lnTo>
                  <a:lnTo>
                    <a:pt x="155" y="3392"/>
                  </a:lnTo>
                  <a:lnTo>
                    <a:pt x="198" y="3350"/>
                  </a:lnTo>
                  <a:lnTo>
                    <a:pt x="228" y="3321"/>
                  </a:lnTo>
                  <a:lnTo>
                    <a:pt x="240" y="3312"/>
                  </a:lnTo>
                  <a:close/>
                </a:path>
              </a:pathLst>
            </a:custGeom>
            <a:solidFill>
              <a:srgbClr val="ffd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59040" y="1157040"/>
              <a:ext cx="530280" cy="765360"/>
            </a:xfrm>
            <a:custGeom>
              <a:avLst/>
              <a:gdLst/>
              <a:ahLst/>
              <a:rect l="l" t="t" r="r" b="b"/>
              <a:pathLst>
                <a:path w="3002" h="3856">
                  <a:moveTo>
                    <a:pt x="283" y="3248"/>
                  </a:moveTo>
                  <a:lnTo>
                    <a:pt x="279" y="3224"/>
                  </a:lnTo>
                  <a:lnTo>
                    <a:pt x="267" y="3206"/>
                  </a:lnTo>
                  <a:lnTo>
                    <a:pt x="246" y="3191"/>
                  </a:lnTo>
                  <a:lnTo>
                    <a:pt x="223" y="3181"/>
                  </a:lnTo>
                  <a:lnTo>
                    <a:pt x="199" y="3172"/>
                  </a:lnTo>
                  <a:lnTo>
                    <a:pt x="178" y="3168"/>
                  </a:lnTo>
                  <a:lnTo>
                    <a:pt x="162" y="3165"/>
                  </a:lnTo>
                  <a:lnTo>
                    <a:pt x="158" y="3165"/>
                  </a:lnTo>
                  <a:lnTo>
                    <a:pt x="130" y="3080"/>
                  </a:lnTo>
                  <a:lnTo>
                    <a:pt x="105" y="3023"/>
                  </a:lnTo>
                  <a:lnTo>
                    <a:pt x="83" y="2982"/>
                  </a:lnTo>
                  <a:lnTo>
                    <a:pt x="68" y="2956"/>
                  </a:lnTo>
                  <a:lnTo>
                    <a:pt x="55" y="2934"/>
                  </a:lnTo>
                  <a:lnTo>
                    <a:pt x="50" y="2917"/>
                  </a:lnTo>
                  <a:lnTo>
                    <a:pt x="52" y="2897"/>
                  </a:lnTo>
                  <a:lnTo>
                    <a:pt x="64" y="2867"/>
                  </a:lnTo>
                  <a:lnTo>
                    <a:pt x="78" y="2820"/>
                  </a:lnTo>
                  <a:lnTo>
                    <a:pt x="90" y="2765"/>
                  </a:lnTo>
                  <a:lnTo>
                    <a:pt x="100" y="2701"/>
                  </a:lnTo>
                  <a:lnTo>
                    <a:pt x="110" y="2637"/>
                  </a:lnTo>
                  <a:lnTo>
                    <a:pt x="117" y="2573"/>
                  </a:lnTo>
                  <a:lnTo>
                    <a:pt x="122" y="2519"/>
                  </a:lnTo>
                  <a:lnTo>
                    <a:pt x="124" y="2476"/>
                  </a:lnTo>
                  <a:lnTo>
                    <a:pt x="127" y="2451"/>
                  </a:lnTo>
                  <a:lnTo>
                    <a:pt x="127" y="2418"/>
                  </a:lnTo>
                  <a:lnTo>
                    <a:pt x="129" y="2362"/>
                  </a:lnTo>
                  <a:lnTo>
                    <a:pt x="131" y="2288"/>
                  </a:lnTo>
                  <a:lnTo>
                    <a:pt x="134" y="2207"/>
                  </a:lnTo>
                  <a:lnTo>
                    <a:pt x="137" y="2125"/>
                  </a:lnTo>
                  <a:lnTo>
                    <a:pt x="140" y="2055"/>
                  </a:lnTo>
                  <a:lnTo>
                    <a:pt x="142" y="2002"/>
                  </a:lnTo>
                  <a:lnTo>
                    <a:pt x="143" y="1977"/>
                  </a:lnTo>
                  <a:lnTo>
                    <a:pt x="143" y="1955"/>
                  </a:lnTo>
                  <a:lnTo>
                    <a:pt x="143" y="1917"/>
                  </a:lnTo>
                  <a:lnTo>
                    <a:pt x="144" y="1866"/>
                  </a:lnTo>
                  <a:lnTo>
                    <a:pt x="145" y="1812"/>
                  </a:lnTo>
                  <a:lnTo>
                    <a:pt x="145" y="1756"/>
                  </a:lnTo>
                  <a:lnTo>
                    <a:pt x="147" y="1710"/>
                  </a:lnTo>
                  <a:lnTo>
                    <a:pt x="147" y="1677"/>
                  </a:lnTo>
                  <a:lnTo>
                    <a:pt x="148" y="1666"/>
                  </a:lnTo>
                  <a:lnTo>
                    <a:pt x="173" y="1417"/>
                  </a:lnTo>
                  <a:lnTo>
                    <a:pt x="151" y="1313"/>
                  </a:lnTo>
                  <a:lnTo>
                    <a:pt x="135" y="1215"/>
                  </a:lnTo>
                  <a:lnTo>
                    <a:pt x="124" y="1128"/>
                  </a:lnTo>
                  <a:lnTo>
                    <a:pt x="119" y="1053"/>
                  </a:lnTo>
                  <a:lnTo>
                    <a:pt x="114" y="990"/>
                  </a:lnTo>
                  <a:lnTo>
                    <a:pt x="114" y="944"/>
                  </a:lnTo>
                  <a:lnTo>
                    <a:pt x="114" y="913"/>
                  </a:lnTo>
                  <a:lnTo>
                    <a:pt x="115" y="904"/>
                  </a:lnTo>
                  <a:lnTo>
                    <a:pt x="123" y="797"/>
                  </a:lnTo>
                  <a:lnTo>
                    <a:pt x="122" y="708"/>
                  </a:lnTo>
                  <a:lnTo>
                    <a:pt x="113" y="636"/>
                  </a:lnTo>
                  <a:lnTo>
                    <a:pt x="103" y="580"/>
                  </a:lnTo>
                  <a:lnTo>
                    <a:pt x="92" y="537"/>
                  </a:lnTo>
                  <a:lnTo>
                    <a:pt x="89" y="507"/>
                  </a:lnTo>
                  <a:lnTo>
                    <a:pt x="93" y="486"/>
                  </a:lnTo>
                  <a:lnTo>
                    <a:pt x="111" y="477"/>
                  </a:lnTo>
                  <a:lnTo>
                    <a:pt x="137" y="471"/>
                  </a:lnTo>
                  <a:lnTo>
                    <a:pt x="163" y="467"/>
                  </a:lnTo>
                  <a:lnTo>
                    <a:pt x="189" y="466"/>
                  </a:lnTo>
                  <a:lnTo>
                    <a:pt x="216" y="469"/>
                  </a:lnTo>
                  <a:lnTo>
                    <a:pt x="239" y="475"/>
                  </a:lnTo>
                  <a:lnTo>
                    <a:pt x="259" y="485"/>
                  </a:lnTo>
                  <a:lnTo>
                    <a:pt x="274" y="499"/>
                  </a:lnTo>
                  <a:lnTo>
                    <a:pt x="284" y="519"/>
                  </a:lnTo>
                  <a:lnTo>
                    <a:pt x="291" y="548"/>
                  </a:lnTo>
                  <a:lnTo>
                    <a:pt x="301" y="589"/>
                  </a:lnTo>
                  <a:lnTo>
                    <a:pt x="311" y="638"/>
                  </a:lnTo>
                  <a:lnTo>
                    <a:pt x="323" y="691"/>
                  </a:lnTo>
                  <a:lnTo>
                    <a:pt x="332" y="745"/>
                  </a:lnTo>
                  <a:lnTo>
                    <a:pt x="341" y="795"/>
                  </a:lnTo>
                  <a:lnTo>
                    <a:pt x="347" y="838"/>
                  </a:lnTo>
                  <a:lnTo>
                    <a:pt x="350" y="871"/>
                  </a:lnTo>
                  <a:lnTo>
                    <a:pt x="350" y="903"/>
                  </a:lnTo>
                  <a:lnTo>
                    <a:pt x="352" y="949"/>
                  </a:lnTo>
                  <a:lnTo>
                    <a:pt x="355" y="1003"/>
                  </a:lnTo>
                  <a:lnTo>
                    <a:pt x="360" y="1061"/>
                  </a:lnTo>
                  <a:lnTo>
                    <a:pt x="365" y="1117"/>
                  </a:lnTo>
                  <a:lnTo>
                    <a:pt x="370" y="1169"/>
                  </a:lnTo>
                  <a:lnTo>
                    <a:pt x="377" y="1211"/>
                  </a:lnTo>
                  <a:lnTo>
                    <a:pt x="383" y="1240"/>
                  </a:lnTo>
                  <a:lnTo>
                    <a:pt x="389" y="1264"/>
                  </a:lnTo>
                  <a:lnTo>
                    <a:pt x="396" y="1297"/>
                  </a:lnTo>
                  <a:lnTo>
                    <a:pt x="402" y="1335"/>
                  </a:lnTo>
                  <a:lnTo>
                    <a:pt x="409" y="1376"/>
                  </a:lnTo>
                  <a:lnTo>
                    <a:pt x="415" y="1412"/>
                  </a:lnTo>
                  <a:lnTo>
                    <a:pt x="420" y="1444"/>
                  </a:lnTo>
                  <a:lnTo>
                    <a:pt x="422" y="1465"/>
                  </a:lnTo>
                  <a:lnTo>
                    <a:pt x="425" y="1474"/>
                  </a:lnTo>
                  <a:lnTo>
                    <a:pt x="498" y="1533"/>
                  </a:lnTo>
                  <a:lnTo>
                    <a:pt x="537" y="1523"/>
                  </a:lnTo>
                  <a:lnTo>
                    <a:pt x="570" y="1487"/>
                  </a:lnTo>
                  <a:lnTo>
                    <a:pt x="597" y="1431"/>
                  </a:lnTo>
                  <a:lnTo>
                    <a:pt x="619" y="1367"/>
                  </a:lnTo>
                  <a:lnTo>
                    <a:pt x="635" y="1299"/>
                  </a:lnTo>
                  <a:lnTo>
                    <a:pt x="647" y="1241"/>
                  </a:lnTo>
                  <a:lnTo>
                    <a:pt x="653" y="1199"/>
                  </a:lnTo>
                  <a:lnTo>
                    <a:pt x="656" y="1185"/>
                  </a:lnTo>
                  <a:lnTo>
                    <a:pt x="685" y="1056"/>
                  </a:lnTo>
                  <a:lnTo>
                    <a:pt x="709" y="955"/>
                  </a:lnTo>
                  <a:lnTo>
                    <a:pt x="726" y="880"/>
                  </a:lnTo>
                  <a:lnTo>
                    <a:pt x="739" y="828"/>
                  </a:lnTo>
                  <a:lnTo>
                    <a:pt x="747" y="792"/>
                  </a:lnTo>
                  <a:lnTo>
                    <a:pt x="753" y="772"/>
                  </a:lnTo>
                  <a:lnTo>
                    <a:pt x="756" y="763"/>
                  </a:lnTo>
                  <a:lnTo>
                    <a:pt x="757" y="760"/>
                  </a:lnTo>
                  <a:lnTo>
                    <a:pt x="758" y="748"/>
                  </a:lnTo>
                  <a:lnTo>
                    <a:pt x="764" y="717"/>
                  </a:lnTo>
                  <a:lnTo>
                    <a:pt x="772" y="673"/>
                  </a:lnTo>
                  <a:lnTo>
                    <a:pt x="782" y="623"/>
                  </a:lnTo>
                  <a:lnTo>
                    <a:pt x="789" y="571"/>
                  </a:lnTo>
                  <a:lnTo>
                    <a:pt x="798" y="525"/>
                  </a:lnTo>
                  <a:lnTo>
                    <a:pt x="804" y="489"/>
                  </a:lnTo>
                  <a:lnTo>
                    <a:pt x="807" y="469"/>
                  </a:lnTo>
                  <a:lnTo>
                    <a:pt x="808" y="456"/>
                  </a:lnTo>
                  <a:lnTo>
                    <a:pt x="813" y="439"/>
                  </a:lnTo>
                  <a:lnTo>
                    <a:pt x="819" y="419"/>
                  </a:lnTo>
                  <a:lnTo>
                    <a:pt x="828" y="399"/>
                  </a:lnTo>
                  <a:lnTo>
                    <a:pt x="836" y="379"/>
                  </a:lnTo>
                  <a:lnTo>
                    <a:pt x="843" y="363"/>
                  </a:lnTo>
                  <a:lnTo>
                    <a:pt x="848" y="352"/>
                  </a:lnTo>
                  <a:lnTo>
                    <a:pt x="851" y="348"/>
                  </a:lnTo>
                  <a:lnTo>
                    <a:pt x="869" y="283"/>
                  </a:lnTo>
                  <a:lnTo>
                    <a:pt x="895" y="226"/>
                  </a:lnTo>
                  <a:lnTo>
                    <a:pt x="924" y="180"/>
                  </a:lnTo>
                  <a:lnTo>
                    <a:pt x="954" y="144"/>
                  </a:lnTo>
                  <a:lnTo>
                    <a:pt x="982" y="116"/>
                  </a:lnTo>
                  <a:lnTo>
                    <a:pt x="1006" y="102"/>
                  </a:lnTo>
                  <a:lnTo>
                    <a:pt x="1024" y="98"/>
                  </a:lnTo>
                  <a:lnTo>
                    <a:pt x="1033" y="108"/>
                  </a:lnTo>
                  <a:lnTo>
                    <a:pt x="1034" y="123"/>
                  </a:lnTo>
                  <a:lnTo>
                    <a:pt x="1035" y="139"/>
                  </a:lnTo>
                  <a:lnTo>
                    <a:pt x="1034" y="155"/>
                  </a:lnTo>
                  <a:lnTo>
                    <a:pt x="1033" y="172"/>
                  </a:lnTo>
                  <a:lnTo>
                    <a:pt x="1031" y="189"/>
                  </a:lnTo>
                  <a:lnTo>
                    <a:pt x="1028" y="208"/>
                  </a:lnTo>
                  <a:lnTo>
                    <a:pt x="1027" y="228"/>
                  </a:lnTo>
                  <a:lnTo>
                    <a:pt x="1027" y="250"/>
                  </a:lnTo>
                  <a:lnTo>
                    <a:pt x="1026" y="273"/>
                  </a:lnTo>
                  <a:lnTo>
                    <a:pt x="1025" y="296"/>
                  </a:lnTo>
                  <a:lnTo>
                    <a:pt x="1024" y="319"/>
                  </a:lnTo>
                  <a:lnTo>
                    <a:pt x="1024" y="343"/>
                  </a:lnTo>
                  <a:lnTo>
                    <a:pt x="1023" y="362"/>
                  </a:lnTo>
                  <a:lnTo>
                    <a:pt x="1022" y="378"/>
                  </a:lnTo>
                  <a:lnTo>
                    <a:pt x="1022" y="388"/>
                  </a:lnTo>
                  <a:lnTo>
                    <a:pt x="1022" y="393"/>
                  </a:lnTo>
                  <a:lnTo>
                    <a:pt x="967" y="630"/>
                  </a:lnTo>
                  <a:lnTo>
                    <a:pt x="965" y="675"/>
                  </a:lnTo>
                  <a:lnTo>
                    <a:pt x="959" y="717"/>
                  </a:lnTo>
                  <a:lnTo>
                    <a:pt x="953" y="754"/>
                  </a:lnTo>
                  <a:lnTo>
                    <a:pt x="945" y="788"/>
                  </a:lnTo>
                  <a:lnTo>
                    <a:pt x="936" y="814"/>
                  </a:lnTo>
                  <a:lnTo>
                    <a:pt x="929" y="834"/>
                  </a:lnTo>
                  <a:lnTo>
                    <a:pt x="925" y="845"/>
                  </a:lnTo>
                  <a:lnTo>
                    <a:pt x="924" y="851"/>
                  </a:lnTo>
                  <a:lnTo>
                    <a:pt x="873" y="1244"/>
                  </a:lnTo>
                  <a:lnTo>
                    <a:pt x="1028" y="1506"/>
                  </a:lnTo>
                  <a:lnTo>
                    <a:pt x="1131" y="1409"/>
                  </a:lnTo>
                  <a:lnTo>
                    <a:pt x="1184" y="1203"/>
                  </a:lnTo>
                  <a:lnTo>
                    <a:pt x="1251" y="1003"/>
                  </a:lnTo>
                  <a:lnTo>
                    <a:pt x="1336" y="726"/>
                  </a:lnTo>
                  <a:lnTo>
                    <a:pt x="1415" y="494"/>
                  </a:lnTo>
                  <a:lnTo>
                    <a:pt x="1497" y="256"/>
                  </a:lnTo>
                  <a:lnTo>
                    <a:pt x="1543" y="198"/>
                  </a:lnTo>
                  <a:lnTo>
                    <a:pt x="1581" y="148"/>
                  </a:lnTo>
                  <a:lnTo>
                    <a:pt x="1611" y="104"/>
                  </a:lnTo>
                  <a:lnTo>
                    <a:pt x="1633" y="68"/>
                  </a:lnTo>
                  <a:lnTo>
                    <a:pt x="1649" y="37"/>
                  </a:lnTo>
                  <a:lnTo>
                    <a:pt x="1659" y="17"/>
                  </a:lnTo>
                  <a:lnTo>
                    <a:pt x="1665" y="3"/>
                  </a:lnTo>
                  <a:lnTo>
                    <a:pt x="1667" y="0"/>
                  </a:lnTo>
                  <a:lnTo>
                    <a:pt x="1700" y="21"/>
                  </a:lnTo>
                  <a:lnTo>
                    <a:pt x="1719" y="37"/>
                  </a:lnTo>
                  <a:lnTo>
                    <a:pt x="1723" y="50"/>
                  </a:lnTo>
                  <a:lnTo>
                    <a:pt x="1721" y="62"/>
                  </a:lnTo>
                  <a:lnTo>
                    <a:pt x="1710" y="77"/>
                  </a:lnTo>
                  <a:lnTo>
                    <a:pt x="1699" y="97"/>
                  </a:lnTo>
                  <a:lnTo>
                    <a:pt x="1688" y="124"/>
                  </a:lnTo>
                  <a:lnTo>
                    <a:pt x="1682" y="163"/>
                  </a:lnTo>
                  <a:lnTo>
                    <a:pt x="1676" y="209"/>
                  </a:lnTo>
                  <a:lnTo>
                    <a:pt x="1666" y="262"/>
                  </a:lnTo>
                  <a:lnTo>
                    <a:pt x="1653" y="316"/>
                  </a:lnTo>
                  <a:lnTo>
                    <a:pt x="1640" y="368"/>
                  </a:lnTo>
                  <a:lnTo>
                    <a:pt x="1626" y="413"/>
                  </a:lnTo>
                  <a:lnTo>
                    <a:pt x="1614" y="450"/>
                  </a:lnTo>
                  <a:lnTo>
                    <a:pt x="1607" y="475"/>
                  </a:lnTo>
                  <a:lnTo>
                    <a:pt x="1604" y="485"/>
                  </a:lnTo>
                  <a:lnTo>
                    <a:pt x="1590" y="554"/>
                  </a:lnTo>
                  <a:lnTo>
                    <a:pt x="1577" y="626"/>
                  </a:lnTo>
                  <a:lnTo>
                    <a:pt x="1562" y="695"/>
                  </a:lnTo>
                  <a:lnTo>
                    <a:pt x="1549" y="758"/>
                  </a:lnTo>
                  <a:lnTo>
                    <a:pt x="1536" y="812"/>
                  </a:lnTo>
                  <a:lnTo>
                    <a:pt x="1527" y="857"/>
                  </a:lnTo>
                  <a:lnTo>
                    <a:pt x="1520" y="884"/>
                  </a:lnTo>
                  <a:lnTo>
                    <a:pt x="1518" y="895"/>
                  </a:lnTo>
                  <a:lnTo>
                    <a:pt x="1484" y="1006"/>
                  </a:lnTo>
                  <a:lnTo>
                    <a:pt x="1450" y="1123"/>
                  </a:lnTo>
                  <a:lnTo>
                    <a:pt x="1414" y="1239"/>
                  </a:lnTo>
                  <a:lnTo>
                    <a:pt x="1383" y="1350"/>
                  </a:lnTo>
                  <a:lnTo>
                    <a:pt x="1354" y="1448"/>
                  </a:lnTo>
                  <a:lnTo>
                    <a:pt x="1333" y="1530"/>
                  </a:lnTo>
                  <a:lnTo>
                    <a:pt x="1320" y="1588"/>
                  </a:lnTo>
                  <a:lnTo>
                    <a:pt x="1318" y="1618"/>
                  </a:lnTo>
                  <a:lnTo>
                    <a:pt x="1329" y="1626"/>
                  </a:lnTo>
                  <a:lnTo>
                    <a:pt x="1355" y="1630"/>
                  </a:lnTo>
                  <a:lnTo>
                    <a:pt x="1390" y="1628"/>
                  </a:lnTo>
                  <a:lnTo>
                    <a:pt x="1430" y="1625"/>
                  </a:lnTo>
                  <a:lnTo>
                    <a:pt x="1468" y="1619"/>
                  </a:lnTo>
                  <a:lnTo>
                    <a:pt x="1502" y="1614"/>
                  </a:lnTo>
                  <a:lnTo>
                    <a:pt x="1526" y="1609"/>
                  </a:lnTo>
                  <a:lnTo>
                    <a:pt x="1536" y="1608"/>
                  </a:lnTo>
                  <a:lnTo>
                    <a:pt x="1686" y="1729"/>
                  </a:lnTo>
                  <a:lnTo>
                    <a:pt x="1731" y="1635"/>
                  </a:lnTo>
                  <a:lnTo>
                    <a:pt x="1775" y="1559"/>
                  </a:lnTo>
                  <a:lnTo>
                    <a:pt x="1812" y="1501"/>
                  </a:lnTo>
                  <a:lnTo>
                    <a:pt x="1845" y="1459"/>
                  </a:lnTo>
                  <a:lnTo>
                    <a:pt x="1870" y="1427"/>
                  </a:lnTo>
                  <a:lnTo>
                    <a:pt x="1889" y="1409"/>
                  </a:lnTo>
                  <a:lnTo>
                    <a:pt x="1901" y="1399"/>
                  </a:lnTo>
                  <a:lnTo>
                    <a:pt x="1906" y="1396"/>
                  </a:lnTo>
                  <a:lnTo>
                    <a:pt x="1958" y="1308"/>
                  </a:lnTo>
                  <a:lnTo>
                    <a:pt x="2003" y="1220"/>
                  </a:lnTo>
                  <a:lnTo>
                    <a:pt x="2037" y="1133"/>
                  </a:lnTo>
                  <a:lnTo>
                    <a:pt x="2065" y="1053"/>
                  </a:lnTo>
                  <a:lnTo>
                    <a:pt x="2084" y="983"/>
                  </a:lnTo>
                  <a:lnTo>
                    <a:pt x="2097" y="929"/>
                  </a:lnTo>
                  <a:lnTo>
                    <a:pt x="2104" y="893"/>
                  </a:lnTo>
                  <a:lnTo>
                    <a:pt x="2107" y="881"/>
                  </a:lnTo>
                  <a:lnTo>
                    <a:pt x="2152" y="771"/>
                  </a:lnTo>
                  <a:lnTo>
                    <a:pt x="2189" y="673"/>
                  </a:lnTo>
                  <a:lnTo>
                    <a:pt x="2221" y="589"/>
                  </a:lnTo>
                  <a:lnTo>
                    <a:pt x="2248" y="523"/>
                  </a:lnTo>
                  <a:lnTo>
                    <a:pt x="2271" y="471"/>
                  </a:lnTo>
                  <a:lnTo>
                    <a:pt x="2292" y="438"/>
                  </a:lnTo>
                  <a:lnTo>
                    <a:pt x="2311" y="423"/>
                  </a:lnTo>
                  <a:lnTo>
                    <a:pt x="2331" y="430"/>
                  </a:lnTo>
                  <a:lnTo>
                    <a:pt x="2350" y="438"/>
                  </a:lnTo>
                  <a:lnTo>
                    <a:pt x="2372" y="438"/>
                  </a:lnTo>
                  <a:lnTo>
                    <a:pt x="2393" y="433"/>
                  </a:lnTo>
                  <a:lnTo>
                    <a:pt x="2413" y="431"/>
                  </a:lnTo>
                  <a:lnTo>
                    <a:pt x="2428" y="436"/>
                  </a:lnTo>
                  <a:lnTo>
                    <a:pt x="2440" y="455"/>
                  </a:lnTo>
                  <a:lnTo>
                    <a:pt x="2444" y="491"/>
                  </a:lnTo>
                  <a:lnTo>
                    <a:pt x="2441" y="553"/>
                  </a:lnTo>
                  <a:lnTo>
                    <a:pt x="2428" y="631"/>
                  </a:lnTo>
                  <a:lnTo>
                    <a:pt x="2413" y="716"/>
                  </a:lnTo>
                  <a:lnTo>
                    <a:pt x="2395" y="801"/>
                  </a:lnTo>
                  <a:lnTo>
                    <a:pt x="2377" y="883"/>
                  </a:lnTo>
                  <a:lnTo>
                    <a:pt x="2360" y="954"/>
                  </a:lnTo>
                  <a:lnTo>
                    <a:pt x="2346" y="1012"/>
                  </a:lnTo>
                  <a:lnTo>
                    <a:pt x="2336" y="1049"/>
                  </a:lnTo>
                  <a:lnTo>
                    <a:pt x="2334" y="1064"/>
                  </a:lnTo>
                  <a:lnTo>
                    <a:pt x="2235" y="1357"/>
                  </a:lnTo>
                  <a:lnTo>
                    <a:pt x="2178" y="1467"/>
                  </a:lnTo>
                  <a:lnTo>
                    <a:pt x="2132" y="1559"/>
                  </a:lnTo>
                  <a:lnTo>
                    <a:pt x="2092" y="1634"/>
                  </a:lnTo>
                  <a:lnTo>
                    <a:pt x="2060" y="1694"/>
                  </a:lnTo>
                  <a:lnTo>
                    <a:pt x="2035" y="1738"/>
                  </a:lnTo>
                  <a:lnTo>
                    <a:pt x="2018" y="1769"/>
                  </a:lnTo>
                  <a:lnTo>
                    <a:pt x="2008" y="1786"/>
                  </a:lnTo>
                  <a:lnTo>
                    <a:pt x="2005" y="1792"/>
                  </a:lnTo>
                  <a:lnTo>
                    <a:pt x="1923" y="1918"/>
                  </a:lnTo>
                  <a:lnTo>
                    <a:pt x="1907" y="1996"/>
                  </a:lnTo>
                  <a:lnTo>
                    <a:pt x="1894" y="2064"/>
                  </a:lnTo>
                  <a:lnTo>
                    <a:pt x="1882" y="2120"/>
                  </a:lnTo>
                  <a:lnTo>
                    <a:pt x="1874" y="2166"/>
                  </a:lnTo>
                  <a:lnTo>
                    <a:pt x="1866" y="2200"/>
                  </a:lnTo>
                  <a:lnTo>
                    <a:pt x="1860" y="2225"/>
                  </a:lnTo>
                  <a:lnTo>
                    <a:pt x="1857" y="2240"/>
                  </a:lnTo>
                  <a:lnTo>
                    <a:pt x="1857" y="2245"/>
                  </a:lnTo>
                  <a:lnTo>
                    <a:pt x="1854" y="2341"/>
                  </a:lnTo>
                  <a:lnTo>
                    <a:pt x="1852" y="2431"/>
                  </a:lnTo>
                  <a:lnTo>
                    <a:pt x="1852" y="2511"/>
                  </a:lnTo>
                  <a:lnTo>
                    <a:pt x="1854" y="2582"/>
                  </a:lnTo>
                  <a:lnTo>
                    <a:pt x="1854" y="2641"/>
                  </a:lnTo>
                  <a:lnTo>
                    <a:pt x="1855" y="2688"/>
                  </a:lnTo>
                  <a:lnTo>
                    <a:pt x="1856" y="2721"/>
                  </a:lnTo>
                  <a:lnTo>
                    <a:pt x="1857" y="2740"/>
                  </a:lnTo>
                  <a:lnTo>
                    <a:pt x="1856" y="2749"/>
                  </a:lnTo>
                  <a:lnTo>
                    <a:pt x="1856" y="2758"/>
                  </a:lnTo>
                  <a:lnTo>
                    <a:pt x="1856" y="2767"/>
                  </a:lnTo>
                  <a:lnTo>
                    <a:pt x="1858" y="2777"/>
                  </a:lnTo>
                  <a:lnTo>
                    <a:pt x="1861" y="2784"/>
                  </a:lnTo>
                  <a:lnTo>
                    <a:pt x="1869" y="2791"/>
                  </a:lnTo>
                  <a:lnTo>
                    <a:pt x="1880" y="2795"/>
                  </a:lnTo>
                  <a:lnTo>
                    <a:pt x="1898" y="2797"/>
                  </a:lnTo>
                  <a:lnTo>
                    <a:pt x="1917" y="2799"/>
                  </a:lnTo>
                  <a:lnTo>
                    <a:pt x="1938" y="2804"/>
                  </a:lnTo>
                  <a:lnTo>
                    <a:pt x="1960" y="2810"/>
                  </a:lnTo>
                  <a:lnTo>
                    <a:pt x="1985" y="2816"/>
                  </a:lnTo>
                  <a:lnTo>
                    <a:pt x="2008" y="2817"/>
                  </a:lnTo>
                  <a:lnTo>
                    <a:pt x="2033" y="2814"/>
                  </a:lnTo>
                  <a:lnTo>
                    <a:pt x="2055" y="2805"/>
                  </a:lnTo>
                  <a:lnTo>
                    <a:pt x="2078" y="2790"/>
                  </a:lnTo>
                  <a:lnTo>
                    <a:pt x="2104" y="2764"/>
                  </a:lnTo>
                  <a:lnTo>
                    <a:pt x="2139" y="2733"/>
                  </a:lnTo>
                  <a:lnTo>
                    <a:pt x="2180" y="2700"/>
                  </a:lnTo>
                  <a:lnTo>
                    <a:pt x="2225" y="2667"/>
                  </a:lnTo>
                  <a:lnTo>
                    <a:pt x="2269" y="2636"/>
                  </a:lnTo>
                  <a:lnTo>
                    <a:pt x="2315" y="2607"/>
                  </a:lnTo>
                  <a:lnTo>
                    <a:pt x="2356" y="2586"/>
                  </a:lnTo>
                  <a:lnTo>
                    <a:pt x="2392" y="2572"/>
                  </a:lnTo>
                  <a:lnTo>
                    <a:pt x="2426" y="2562"/>
                  </a:lnTo>
                  <a:lnTo>
                    <a:pt x="2470" y="2554"/>
                  </a:lnTo>
                  <a:lnTo>
                    <a:pt x="2517" y="2547"/>
                  </a:lnTo>
                  <a:lnTo>
                    <a:pt x="2569" y="2544"/>
                  </a:lnTo>
                  <a:lnTo>
                    <a:pt x="2616" y="2542"/>
                  </a:lnTo>
                  <a:lnTo>
                    <a:pt x="2662" y="2543"/>
                  </a:lnTo>
                  <a:lnTo>
                    <a:pt x="2700" y="2546"/>
                  </a:lnTo>
                  <a:lnTo>
                    <a:pt x="2729" y="2555"/>
                  </a:lnTo>
                  <a:lnTo>
                    <a:pt x="2754" y="2565"/>
                  </a:lnTo>
                  <a:lnTo>
                    <a:pt x="2788" y="2581"/>
                  </a:lnTo>
                  <a:lnTo>
                    <a:pt x="2823" y="2597"/>
                  </a:lnTo>
                  <a:lnTo>
                    <a:pt x="2861" y="2614"/>
                  </a:lnTo>
                  <a:lnTo>
                    <a:pt x="2896" y="2630"/>
                  </a:lnTo>
                  <a:lnTo>
                    <a:pt x="2924" y="2644"/>
                  </a:lnTo>
                  <a:lnTo>
                    <a:pt x="2943" y="2651"/>
                  </a:lnTo>
                  <a:lnTo>
                    <a:pt x="2951" y="2656"/>
                  </a:lnTo>
                  <a:lnTo>
                    <a:pt x="2954" y="2661"/>
                  </a:lnTo>
                  <a:lnTo>
                    <a:pt x="2966" y="2675"/>
                  </a:lnTo>
                  <a:lnTo>
                    <a:pt x="2979" y="2697"/>
                  </a:lnTo>
                  <a:lnTo>
                    <a:pt x="2992" y="2723"/>
                  </a:lnTo>
                  <a:lnTo>
                    <a:pt x="3000" y="2749"/>
                  </a:lnTo>
                  <a:lnTo>
                    <a:pt x="3002" y="2775"/>
                  </a:lnTo>
                  <a:lnTo>
                    <a:pt x="2992" y="2797"/>
                  </a:lnTo>
                  <a:lnTo>
                    <a:pt x="2968" y="2814"/>
                  </a:lnTo>
                  <a:lnTo>
                    <a:pt x="2933" y="2819"/>
                  </a:lnTo>
                  <a:lnTo>
                    <a:pt x="2899" y="2814"/>
                  </a:lnTo>
                  <a:lnTo>
                    <a:pt x="2866" y="2800"/>
                  </a:lnTo>
                  <a:lnTo>
                    <a:pt x="2834" y="2782"/>
                  </a:lnTo>
                  <a:lnTo>
                    <a:pt x="2802" y="2760"/>
                  </a:lnTo>
                  <a:lnTo>
                    <a:pt x="2773" y="2740"/>
                  </a:lnTo>
                  <a:lnTo>
                    <a:pt x="2745" y="2723"/>
                  </a:lnTo>
                  <a:lnTo>
                    <a:pt x="2721" y="2715"/>
                  </a:lnTo>
                  <a:lnTo>
                    <a:pt x="2690" y="2711"/>
                  </a:lnTo>
                  <a:lnTo>
                    <a:pt x="2659" y="2716"/>
                  </a:lnTo>
                  <a:lnTo>
                    <a:pt x="2628" y="2725"/>
                  </a:lnTo>
                  <a:lnTo>
                    <a:pt x="2598" y="2739"/>
                  </a:lnTo>
                  <a:lnTo>
                    <a:pt x="2569" y="2752"/>
                  </a:lnTo>
                  <a:lnTo>
                    <a:pt x="2543" y="2766"/>
                  </a:lnTo>
                  <a:lnTo>
                    <a:pt x="2522" y="2778"/>
                  </a:lnTo>
                  <a:lnTo>
                    <a:pt x="2507" y="2787"/>
                  </a:lnTo>
                  <a:lnTo>
                    <a:pt x="2489" y="2795"/>
                  </a:lnTo>
                  <a:lnTo>
                    <a:pt x="2464" y="2809"/>
                  </a:lnTo>
                  <a:lnTo>
                    <a:pt x="2432" y="2825"/>
                  </a:lnTo>
                  <a:lnTo>
                    <a:pt x="2398" y="2844"/>
                  </a:lnTo>
                  <a:lnTo>
                    <a:pt x="2364" y="2862"/>
                  </a:lnTo>
                  <a:lnTo>
                    <a:pt x="2333" y="2881"/>
                  </a:lnTo>
                  <a:lnTo>
                    <a:pt x="2307" y="2896"/>
                  </a:lnTo>
                  <a:lnTo>
                    <a:pt x="2291" y="2908"/>
                  </a:lnTo>
                  <a:lnTo>
                    <a:pt x="2267" y="2924"/>
                  </a:lnTo>
                  <a:lnTo>
                    <a:pt x="2231" y="2954"/>
                  </a:lnTo>
                  <a:lnTo>
                    <a:pt x="2183" y="2989"/>
                  </a:lnTo>
                  <a:lnTo>
                    <a:pt x="2133" y="3029"/>
                  </a:lnTo>
                  <a:lnTo>
                    <a:pt x="2083" y="3067"/>
                  </a:lnTo>
                  <a:lnTo>
                    <a:pt x="2041" y="3101"/>
                  </a:lnTo>
                  <a:lnTo>
                    <a:pt x="2011" y="3123"/>
                  </a:lnTo>
                  <a:lnTo>
                    <a:pt x="2001" y="3134"/>
                  </a:lnTo>
                  <a:lnTo>
                    <a:pt x="1819" y="3308"/>
                  </a:lnTo>
                  <a:lnTo>
                    <a:pt x="1814" y="3310"/>
                  </a:lnTo>
                  <a:lnTo>
                    <a:pt x="1799" y="3319"/>
                  </a:lnTo>
                  <a:lnTo>
                    <a:pt x="1777" y="3332"/>
                  </a:lnTo>
                  <a:lnTo>
                    <a:pt x="1752" y="3350"/>
                  </a:lnTo>
                  <a:lnTo>
                    <a:pt x="1725" y="3368"/>
                  </a:lnTo>
                  <a:lnTo>
                    <a:pt x="1697" y="3388"/>
                  </a:lnTo>
                  <a:lnTo>
                    <a:pt x="1671" y="3409"/>
                  </a:lnTo>
                  <a:lnTo>
                    <a:pt x="1650" y="3430"/>
                  </a:lnTo>
                  <a:lnTo>
                    <a:pt x="1630" y="3448"/>
                  </a:lnTo>
                  <a:lnTo>
                    <a:pt x="1609" y="3467"/>
                  </a:lnTo>
                  <a:lnTo>
                    <a:pt x="1586" y="3488"/>
                  </a:lnTo>
                  <a:lnTo>
                    <a:pt x="1561" y="3509"/>
                  </a:lnTo>
                  <a:lnTo>
                    <a:pt x="1533" y="3531"/>
                  </a:lnTo>
                  <a:lnTo>
                    <a:pt x="1504" y="3555"/>
                  </a:lnTo>
                  <a:lnTo>
                    <a:pt x="1473" y="3580"/>
                  </a:lnTo>
                  <a:lnTo>
                    <a:pt x="1441" y="3608"/>
                  </a:lnTo>
                  <a:lnTo>
                    <a:pt x="1409" y="3630"/>
                  </a:lnTo>
                  <a:lnTo>
                    <a:pt x="1384" y="3647"/>
                  </a:lnTo>
                  <a:lnTo>
                    <a:pt x="1363" y="3658"/>
                  </a:lnTo>
                  <a:lnTo>
                    <a:pt x="1346" y="3664"/>
                  </a:lnTo>
                  <a:lnTo>
                    <a:pt x="1330" y="3667"/>
                  </a:lnTo>
                  <a:lnTo>
                    <a:pt x="1314" y="3668"/>
                  </a:lnTo>
                  <a:lnTo>
                    <a:pt x="1296" y="3668"/>
                  </a:lnTo>
                  <a:lnTo>
                    <a:pt x="1278" y="3671"/>
                  </a:lnTo>
                  <a:lnTo>
                    <a:pt x="1253" y="3672"/>
                  </a:lnTo>
                  <a:lnTo>
                    <a:pt x="1227" y="3671"/>
                  </a:lnTo>
                  <a:lnTo>
                    <a:pt x="1200" y="3667"/>
                  </a:lnTo>
                  <a:lnTo>
                    <a:pt x="1174" y="3663"/>
                  </a:lnTo>
                  <a:lnTo>
                    <a:pt x="1150" y="3658"/>
                  </a:lnTo>
                  <a:lnTo>
                    <a:pt x="1132" y="3653"/>
                  </a:lnTo>
                  <a:lnTo>
                    <a:pt x="1119" y="3650"/>
                  </a:lnTo>
                  <a:lnTo>
                    <a:pt x="1115" y="3650"/>
                  </a:lnTo>
                  <a:lnTo>
                    <a:pt x="1112" y="3652"/>
                  </a:lnTo>
                  <a:lnTo>
                    <a:pt x="1104" y="3636"/>
                  </a:lnTo>
                  <a:lnTo>
                    <a:pt x="1092" y="3608"/>
                  </a:lnTo>
                  <a:lnTo>
                    <a:pt x="1077" y="3577"/>
                  </a:lnTo>
                  <a:lnTo>
                    <a:pt x="1057" y="3550"/>
                  </a:lnTo>
                  <a:lnTo>
                    <a:pt x="1035" y="3535"/>
                  </a:lnTo>
                  <a:lnTo>
                    <a:pt x="1010" y="3541"/>
                  </a:lnTo>
                  <a:lnTo>
                    <a:pt x="984" y="3576"/>
                  </a:lnTo>
                  <a:lnTo>
                    <a:pt x="962" y="3632"/>
                  </a:lnTo>
                  <a:lnTo>
                    <a:pt x="952" y="3694"/>
                  </a:lnTo>
                  <a:lnTo>
                    <a:pt x="946" y="3755"/>
                  </a:lnTo>
                  <a:lnTo>
                    <a:pt x="942" y="3808"/>
                  </a:lnTo>
                  <a:lnTo>
                    <a:pt x="929" y="3843"/>
                  </a:lnTo>
                  <a:lnTo>
                    <a:pt x="907" y="3856"/>
                  </a:lnTo>
                  <a:lnTo>
                    <a:pt x="867" y="3836"/>
                  </a:lnTo>
                  <a:lnTo>
                    <a:pt x="807" y="3778"/>
                  </a:lnTo>
                  <a:lnTo>
                    <a:pt x="740" y="3713"/>
                  </a:lnTo>
                  <a:lnTo>
                    <a:pt x="690" y="3679"/>
                  </a:lnTo>
                  <a:lnTo>
                    <a:pt x="649" y="3668"/>
                  </a:lnTo>
                  <a:lnTo>
                    <a:pt x="613" y="3673"/>
                  </a:lnTo>
                  <a:lnTo>
                    <a:pt x="574" y="3686"/>
                  </a:lnTo>
                  <a:lnTo>
                    <a:pt x="530" y="3701"/>
                  </a:lnTo>
                  <a:lnTo>
                    <a:pt x="476" y="3709"/>
                  </a:lnTo>
                  <a:lnTo>
                    <a:pt x="406" y="3703"/>
                  </a:lnTo>
                  <a:lnTo>
                    <a:pt x="327" y="3692"/>
                  </a:lnTo>
                  <a:lnTo>
                    <a:pt x="254" y="3690"/>
                  </a:lnTo>
                  <a:lnTo>
                    <a:pt x="188" y="3694"/>
                  </a:lnTo>
                  <a:lnTo>
                    <a:pt x="131" y="3697"/>
                  </a:lnTo>
                  <a:lnTo>
                    <a:pt x="82" y="3695"/>
                  </a:lnTo>
                  <a:lnTo>
                    <a:pt x="43" y="3687"/>
                  </a:lnTo>
                  <a:lnTo>
                    <a:pt x="14" y="3666"/>
                  </a:lnTo>
                  <a:lnTo>
                    <a:pt x="0" y="3629"/>
                  </a:lnTo>
                  <a:lnTo>
                    <a:pt x="4" y="3576"/>
                  </a:lnTo>
                  <a:lnTo>
                    <a:pt x="33" y="3516"/>
                  </a:lnTo>
                  <a:lnTo>
                    <a:pt x="78" y="3452"/>
                  </a:lnTo>
                  <a:lnTo>
                    <a:pt x="132" y="3391"/>
                  </a:lnTo>
                  <a:lnTo>
                    <a:pt x="187" y="3334"/>
                  </a:lnTo>
                  <a:lnTo>
                    <a:pt x="234" y="3289"/>
                  </a:lnTo>
                  <a:lnTo>
                    <a:pt x="269" y="3258"/>
                  </a:lnTo>
                  <a:lnTo>
                    <a:pt x="283" y="3248"/>
                  </a:lnTo>
                  <a:close/>
                </a:path>
              </a:pathLst>
            </a:custGeom>
            <a:solidFill>
              <a:srgbClr val="ffdd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565520" y="1157040"/>
              <a:ext cx="523800" cy="741600"/>
            </a:xfrm>
            <a:custGeom>
              <a:avLst/>
              <a:gdLst/>
              <a:ahLst/>
              <a:rect l="l" t="t" r="r" b="b"/>
              <a:pathLst>
                <a:path w="2970" h="3733">
                  <a:moveTo>
                    <a:pt x="326" y="3183"/>
                  </a:moveTo>
                  <a:lnTo>
                    <a:pt x="321" y="3161"/>
                  </a:lnTo>
                  <a:lnTo>
                    <a:pt x="305" y="3145"/>
                  </a:lnTo>
                  <a:lnTo>
                    <a:pt x="279" y="3134"/>
                  </a:lnTo>
                  <a:lnTo>
                    <a:pt x="251" y="3128"/>
                  </a:lnTo>
                  <a:lnTo>
                    <a:pt x="221" y="3123"/>
                  </a:lnTo>
                  <a:lnTo>
                    <a:pt x="196" y="3123"/>
                  </a:lnTo>
                  <a:lnTo>
                    <a:pt x="177" y="3123"/>
                  </a:lnTo>
                  <a:lnTo>
                    <a:pt x="170" y="3125"/>
                  </a:lnTo>
                  <a:lnTo>
                    <a:pt x="141" y="3042"/>
                  </a:lnTo>
                  <a:lnTo>
                    <a:pt x="116" y="2988"/>
                  </a:lnTo>
                  <a:lnTo>
                    <a:pt x="93" y="2953"/>
                  </a:lnTo>
                  <a:lnTo>
                    <a:pt x="76" y="2933"/>
                  </a:lnTo>
                  <a:lnTo>
                    <a:pt x="62" y="2920"/>
                  </a:lnTo>
                  <a:lnTo>
                    <a:pt x="56" y="2908"/>
                  </a:lnTo>
                  <a:lnTo>
                    <a:pt x="57" y="2890"/>
                  </a:lnTo>
                  <a:lnTo>
                    <a:pt x="68" y="2862"/>
                  </a:lnTo>
                  <a:lnTo>
                    <a:pt x="81" y="2816"/>
                  </a:lnTo>
                  <a:lnTo>
                    <a:pt x="93" y="2760"/>
                  </a:lnTo>
                  <a:lnTo>
                    <a:pt x="102" y="2698"/>
                  </a:lnTo>
                  <a:lnTo>
                    <a:pt x="111" y="2635"/>
                  </a:lnTo>
                  <a:lnTo>
                    <a:pt x="117" y="2572"/>
                  </a:lnTo>
                  <a:lnTo>
                    <a:pt x="121" y="2519"/>
                  </a:lnTo>
                  <a:lnTo>
                    <a:pt x="125" y="2477"/>
                  </a:lnTo>
                  <a:lnTo>
                    <a:pt x="126" y="2452"/>
                  </a:lnTo>
                  <a:lnTo>
                    <a:pt x="126" y="2419"/>
                  </a:lnTo>
                  <a:lnTo>
                    <a:pt x="127" y="2364"/>
                  </a:lnTo>
                  <a:lnTo>
                    <a:pt x="128" y="2290"/>
                  </a:lnTo>
                  <a:lnTo>
                    <a:pt x="131" y="2210"/>
                  </a:lnTo>
                  <a:lnTo>
                    <a:pt x="132" y="2130"/>
                  </a:lnTo>
                  <a:lnTo>
                    <a:pt x="135" y="2060"/>
                  </a:lnTo>
                  <a:lnTo>
                    <a:pt x="136" y="2008"/>
                  </a:lnTo>
                  <a:lnTo>
                    <a:pt x="137" y="1983"/>
                  </a:lnTo>
                  <a:lnTo>
                    <a:pt x="136" y="1961"/>
                  </a:lnTo>
                  <a:lnTo>
                    <a:pt x="135" y="1923"/>
                  </a:lnTo>
                  <a:lnTo>
                    <a:pt x="134" y="1872"/>
                  </a:lnTo>
                  <a:lnTo>
                    <a:pt x="134" y="1816"/>
                  </a:lnTo>
                  <a:lnTo>
                    <a:pt x="132" y="1761"/>
                  </a:lnTo>
                  <a:lnTo>
                    <a:pt x="131" y="1714"/>
                  </a:lnTo>
                  <a:lnTo>
                    <a:pt x="131" y="1682"/>
                  </a:lnTo>
                  <a:lnTo>
                    <a:pt x="131" y="1670"/>
                  </a:lnTo>
                  <a:lnTo>
                    <a:pt x="159" y="1419"/>
                  </a:lnTo>
                  <a:lnTo>
                    <a:pt x="137" y="1315"/>
                  </a:lnTo>
                  <a:lnTo>
                    <a:pt x="121" y="1219"/>
                  </a:lnTo>
                  <a:lnTo>
                    <a:pt x="110" y="1130"/>
                  </a:lnTo>
                  <a:lnTo>
                    <a:pt x="103" y="1056"/>
                  </a:lnTo>
                  <a:lnTo>
                    <a:pt x="99" y="992"/>
                  </a:lnTo>
                  <a:lnTo>
                    <a:pt x="98" y="947"/>
                  </a:lnTo>
                  <a:lnTo>
                    <a:pt x="98" y="917"/>
                  </a:lnTo>
                  <a:lnTo>
                    <a:pt x="99" y="907"/>
                  </a:lnTo>
                  <a:lnTo>
                    <a:pt x="106" y="800"/>
                  </a:lnTo>
                  <a:lnTo>
                    <a:pt x="103" y="711"/>
                  </a:lnTo>
                  <a:lnTo>
                    <a:pt x="92" y="638"/>
                  </a:lnTo>
                  <a:lnTo>
                    <a:pt x="79" y="582"/>
                  </a:lnTo>
                  <a:lnTo>
                    <a:pt x="66" y="537"/>
                  </a:lnTo>
                  <a:lnTo>
                    <a:pt x="59" y="507"/>
                  </a:lnTo>
                  <a:lnTo>
                    <a:pt x="62" y="486"/>
                  </a:lnTo>
                  <a:lnTo>
                    <a:pt x="79" y="477"/>
                  </a:lnTo>
                  <a:lnTo>
                    <a:pt x="105" y="471"/>
                  </a:lnTo>
                  <a:lnTo>
                    <a:pt x="131" y="467"/>
                  </a:lnTo>
                  <a:lnTo>
                    <a:pt x="157" y="466"/>
                  </a:lnTo>
                  <a:lnTo>
                    <a:pt x="184" y="469"/>
                  </a:lnTo>
                  <a:lnTo>
                    <a:pt x="207" y="475"/>
                  </a:lnTo>
                  <a:lnTo>
                    <a:pt x="227" y="485"/>
                  </a:lnTo>
                  <a:lnTo>
                    <a:pt x="242" y="499"/>
                  </a:lnTo>
                  <a:lnTo>
                    <a:pt x="252" y="519"/>
                  </a:lnTo>
                  <a:lnTo>
                    <a:pt x="259" y="548"/>
                  </a:lnTo>
                  <a:lnTo>
                    <a:pt x="269" y="589"/>
                  </a:lnTo>
                  <a:lnTo>
                    <a:pt x="279" y="638"/>
                  </a:lnTo>
                  <a:lnTo>
                    <a:pt x="291" y="691"/>
                  </a:lnTo>
                  <a:lnTo>
                    <a:pt x="300" y="745"/>
                  </a:lnTo>
                  <a:lnTo>
                    <a:pt x="309" y="795"/>
                  </a:lnTo>
                  <a:lnTo>
                    <a:pt x="315" y="838"/>
                  </a:lnTo>
                  <a:lnTo>
                    <a:pt x="318" y="871"/>
                  </a:lnTo>
                  <a:lnTo>
                    <a:pt x="318" y="903"/>
                  </a:lnTo>
                  <a:lnTo>
                    <a:pt x="320" y="949"/>
                  </a:lnTo>
                  <a:lnTo>
                    <a:pt x="323" y="1003"/>
                  </a:lnTo>
                  <a:lnTo>
                    <a:pt x="328" y="1061"/>
                  </a:lnTo>
                  <a:lnTo>
                    <a:pt x="333" y="1117"/>
                  </a:lnTo>
                  <a:lnTo>
                    <a:pt x="338" y="1169"/>
                  </a:lnTo>
                  <a:lnTo>
                    <a:pt x="345" y="1211"/>
                  </a:lnTo>
                  <a:lnTo>
                    <a:pt x="351" y="1240"/>
                  </a:lnTo>
                  <a:lnTo>
                    <a:pt x="357" y="1264"/>
                  </a:lnTo>
                  <a:lnTo>
                    <a:pt x="364" y="1297"/>
                  </a:lnTo>
                  <a:lnTo>
                    <a:pt x="370" y="1335"/>
                  </a:lnTo>
                  <a:lnTo>
                    <a:pt x="377" y="1376"/>
                  </a:lnTo>
                  <a:lnTo>
                    <a:pt x="383" y="1412"/>
                  </a:lnTo>
                  <a:lnTo>
                    <a:pt x="388" y="1444"/>
                  </a:lnTo>
                  <a:lnTo>
                    <a:pt x="390" y="1465"/>
                  </a:lnTo>
                  <a:lnTo>
                    <a:pt x="393" y="1474"/>
                  </a:lnTo>
                  <a:lnTo>
                    <a:pt x="466" y="1533"/>
                  </a:lnTo>
                  <a:lnTo>
                    <a:pt x="506" y="1536"/>
                  </a:lnTo>
                  <a:lnTo>
                    <a:pt x="541" y="1505"/>
                  </a:lnTo>
                  <a:lnTo>
                    <a:pt x="568" y="1452"/>
                  </a:lnTo>
                  <a:lnTo>
                    <a:pt x="592" y="1386"/>
                  </a:lnTo>
                  <a:lnTo>
                    <a:pt x="608" y="1317"/>
                  </a:lnTo>
                  <a:lnTo>
                    <a:pt x="621" y="1256"/>
                  </a:lnTo>
                  <a:lnTo>
                    <a:pt x="627" y="1212"/>
                  </a:lnTo>
                  <a:lnTo>
                    <a:pt x="631" y="1195"/>
                  </a:lnTo>
                  <a:lnTo>
                    <a:pt x="661" y="1066"/>
                  </a:lnTo>
                  <a:lnTo>
                    <a:pt x="684" y="966"/>
                  </a:lnTo>
                  <a:lnTo>
                    <a:pt x="701" y="892"/>
                  </a:lnTo>
                  <a:lnTo>
                    <a:pt x="714" y="840"/>
                  </a:lnTo>
                  <a:lnTo>
                    <a:pt x="722" y="804"/>
                  </a:lnTo>
                  <a:lnTo>
                    <a:pt x="726" y="785"/>
                  </a:lnTo>
                  <a:lnTo>
                    <a:pt x="728" y="776"/>
                  </a:lnTo>
                  <a:lnTo>
                    <a:pt x="730" y="774"/>
                  </a:lnTo>
                  <a:lnTo>
                    <a:pt x="731" y="761"/>
                  </a:lnTo>
                  <a:lnTo>
                    <a:pt x="737" y="731"/>
                  </a:lnTo>
                  <a:lnTo>
                    <a:pt x="745" y="687"/>
                  </a:lnTo>
                  <a:lnTo>
                    <a:pt x="755" y="636"/>
                  </a:lnTo>
                  <a:lnTo>
                    <a:pt x="764" y="583"/>
                  </a:lnTo>
                  <a:lnTo>
                    <a:pt x="773" y="536"/>
                  </a:lnTo>
                  <a:lnTo>
                    <a:pt x="778" y="500"/>
                  </a:lnTo>
                  <a:lnTo>
                    <a:pt x="782" y="481"/>
                  </a:lnTo>
                  <a:lnTo>
                    <a:pt x="783" y="467"/>
                  </a:lnTo>
                  <a:lnTo>
                    <a:pt x="787" y="450"/>
                  </a:lnTo>
                  <a:lnTo>
                    <a:pt x="794" y="430"/>
                  </a:lnTo>
                  <a:lnTo>
                    <a:pt x="802" y="411"/>
                  </a:lnTo>
                  <a:lnTo>
                    <a:pt x="809" y="391"/>
                  </a:lnTo>
                  <a:lnTo>
                    <a:pt x="815" y="376"/>
                  </a:lnTo>
                  <a:lnTo>
                    <a:pt x="821" y="364"/>
                  </a:lnTo>
                  <a:lnTo>
                    <a:pt x="823" y="361"/>
                  </a:lnTo>
                  <a:lnTo>
                    <a:pt x="841" y="294"/>
                  </a:lnTo>
                  <a:lnTo>
                    <a:pt x="866" y="236"/>
                  </a:lnTo>
                  <a:lnTo>
                    <a:pt x="894" y="188"/>
                  </a:lnTo>
                  <a:lnTo>
                    <a:pt x="924" y="149"/>
                  </a:lnTo>
                  <a:lnTo>
                    <a:pt x="951" y="121"/>
                  </a:lnTo>
                  <a:lnTo>
                    <a:pt x="974" y="104"/>
                  </a:lnTo>
                  <a:lnTo>
                    <a:pt x="992" y="99"/>
                  </a:lnTo>
                  <a:lnTo>
                    <a:pt x="1001" y="108"/>
                  </a:lnTo>
                  <a:lnTo>
                    <a:pt x="1002" y="123"/>
                  </a:lnTo>
                  <a:lnTo>
                    <a:pt x="1001" y="138"/>
                  </a:lnTo>
                  <a:lnTo>
                    <a:pt x="998" y="153"/>
                  </a:lnTo>
                  <a:lnTo>
                    <a:pt x="994" y="168"/>
                  </a:lnTo>
                  <a:lnTo>
                    <a:pt x="989" y="184"/>
                  </a:lnTo>
                  <a:lnTo>
                    <a:pt x="985" y="202"/>
                  </a:lnTo>
                  <a:lnTo>
                    <a:pt x="982" y="222"/>
                  </a:lnTo>
                  <a:lnTo>
                    <a:pt x="982" y="243"/>
                  </a:lnTo>
                  <a:lnTo>
                    <a:pt x="981" y="265"/>
                  </a:lnTo>
                  <a:lnTo>
                    <a:pt x="981" y="288"/>
                  </a:lnTo>
                  <a:lnTo>
                    <a:pt x="981" y="310"/>
                  </a:lnTo>
                  <a:lnTo>
                    <a:pt x="981" y="330"/>
                  </a:lnTo>
                  <a:lnTo>
                    <a:pt x="980" y="347"/>
                  </a:lnTo>
                  <a:lnTo>
                    <a:pt x="980" y="362"/>
                  </a:lnTo>
                  <a:lnTo>
                    <a:pt x="980" y="371"/>
                  </a:lnTo>
                  <a:lnTo>
                    <a:pt x="980" y="374"/>
                  </a:lnTo>
                  <a:lnTo>
                    <a:pt x="919" y="606"/>
                  </a:lnTo>
                  <a:lnTo>
                    <a:pt x="916" y="651"/>
                  </a:lnTo>
                  <a:lnTo>
                    <a:pt x="911" y="691"/>
                  </a:lnTo>
                  <a:lnTo>
                    <a:pt x="903" y="728"/>
                  </a:lnTo>
                  <a:lnTo>
                    <a:pt x="895" y="759"/>
                  </a:lnTo>
                  <a:lnTo>
                    <a:pt x="885" y="783"/>
                  </a:lnTo>
                  <a:lnTo>
                    <a:pt x="879" y="802"/>
                  </a:lnTo>
                  <a:lnTo>
                    <a:pt x="873" y="814"/>
                  </a:lnTo>
                  <a:lnTo>
                    <a:pt x="872" y="818"/>
                  </a:lnTo>
                  <a:lnTo>
                    <a:pt x="817" y="1237"/>
                  </a:lnTo>
                  <a:lnTo>
                    <a:pt x="995" y="1519"/>
                  </a:lnTo>
                  <a:lnTo>
                    <a:pt x="1109" y="1427"/>
                  </a:lnTo>
                  <a:lnTo>
                    <a:pt x="1161" y="1225"/>
                  </a:lnTo>
                  <a:lnTo>
                    <a:pt x="1229" y="1022"/>
                  </a:lnTo>
                  <a:lnTo>
                    <a:pt x="1314" y="746"/>
                  </a:lnTo>
                  <a:lnTo>
                    <a:pt x="1393" y="517"/>
                  </a:lnTo>
                  <a:lnTo>
                    <a:pt x="1473" y="271"/>
                  </a:lnTo>
                  <a:lnTo>
                    <a:pt x="1520" y="213"/>
                  </a:lnTo>
                  <a:lnTo>
                    <a:pt x="1557" y="161"/>
                  </a:lnTo>
                  <a:lnTo>
                    <a:pt x="1585" y="114"/>
                  </a:lnTo>
                  <a:lnTo>
                    <a:pt x="1606" y="76"/>
                  </a:lnTo>
                  <a:lnTo>
                    <a:pt x="1619" y="42"/>
                  </a:lnTo>
                  <a:lnTo>
                    <a:pt x="1628" y="19"/>
                  </a:lnTo>
                  <a:lnTo>
                    <a:pt x="1633" y="4"/>
                  </a:lnTo>
                  <a:lnTo>
                    <a:pt x="1635" y="0"/>
                  </a:lnTo>
                  <a:lnTo>
                    <a:pt x="1668" y="20"/>
                  </a:lnTo>
                  <a:lnTo>
                    <a:pt x="1685" y="35"/>
                  </a:lnTo>
                  <a:lnTo>
                    <a:pt x="1687" y="45"/>
                  </a:lnTo>
                  <a:lnTo>
                    <a:pt x="1683" y="56"/>
                  </a:lnTo>
                  <a:lnTo>
                    <a:pt x="1669" y="68"/>
                  </a:lnTo>
                  <a:lnTo>
                    <a:pt x="1656" y="86"/>
                  </a:lnTo>
                  <a:lnTo>
                    <a:pt x="1644" y="112"/>
                  </a:lnTo>
                  <a:lnTo>
                    <a:pt x="1638" y="150"/>
                  </a:lnTo>
                  <a:lnTo>
                    <a:pt x="1631" y="197"/>
                  </a:lnTo>
                  <a:lnTo>
                    <a:pt x="1621" y="249"/>
                  </a:lnTo>
                  <a:lnTo>
                    <a:pt x="1608" y="301"/>
                  </a:lnTo>
                  <a:lnTo>
                    <a:pt x="1596" y="352"/>
                  </a:lnTo>
                  <a:lnTo>
                    <a:pt x="1582" y="396"/>
                  </a:lnTo>
                  <a:lnTo>
                    <a:pt x="1571" y="432"/>
                  </a:lnTo>
                  <a:lnTo>
                    <a:pt x="1564" y="457"/>
                  </a:lnTo>
                  <a:lnTo>
                    <a:pt x="1561" y="466"/>
                  </a:lnTo>
                  <a:lnTo>
                    <a:pt x="1547" y="535"/>
                  </a:lnTo>
                  <a:lnTo>
                    <a:pt x="1532" y="606"/>
                  </a:lnTo>
                  <a:lnTo>
                    <a:pt x="1518" y="674"/>
                  </a:lnTo>
                  <a:lnTo>
                    <a:pt x="1505" y="738"/>
                  </a:lnTo>
                  <a:lnTo>
                    <a:pt x="1491" y="791"/>
                  </a:lnTo>
                  <a:lnTo>
                    <a:pt x="1482" y="833"/>
                  </a:lnTo>
                  <a:lnTo>
                    <a:pt x="1476" y="860"/>
                  </a:lnTo>
                  <a:lnTo>
                    <a:pt x="1473" y="871"/>
                  </a:lnTo>
                  <a:lnTo>
                    <a:pt x="1439" y="983"/>
                  </a:lnTo>
                  <a:lnTo>
                    <a:pt x="1403" y="1104"/>
                  </a:lnTo>
                  <a:lnTo>
                    <a:pt x="1367" y="1227"/>
                  </a:lnTo>
                  <a:lnTo>
                    <a:pt x="1332" y="1344"/>
                  </a:lnTo>
                  <a:lnTo>
                    <a:pt x="1301" y="1450"/>
                  </a:lnTo>
                  <a:lnTo>
                    <a:pt x="1277" y="1537"/>
                  </a:lnTo>
                  <a:lnTo>
                    <a:pt x="1261" y="1599"/>
                  </a:lnTo>
                  <a:lnTo>
                    <a:pt x="1259" y="1631"/>
                  </a:lnTo>
                  <a:lnTo>
                    <a:pt x="1271" y="1639"/>
                  </a:lnTo>
                  <a:lnTo>
                    <a:pt x="1300" y="1641"/>
                  </a:lnTo>
                  <a:lnTo>
                    <a:pt x="1339" y="1637"/>
                  </a:lnTo>
                  <a:lnTo>
                    <a:pt x="1385" y="1632"/>
                  </a:lnTo>
                  <a:lnTo>
                    <a:pt x="1428" y="1623"/>
                  </a:lnTo>
                  <a:lnTo>
                    <a:pt x="1466" y="1616"/>
                  </a:lnTo>
                  <a:lnTo>
                    <a:pt x="1492" y="1610"/>
                  </a:lnTo>
                  <a:lnTo>
                    <a:pt x="1504" y="1608"/>
                  </a:lnTo>
                  <a:lnTo>
                    <a:pt x="1668" y="1756"/>
                  </a:lnTo>
                  <a:lnTo>
                    <a:pt x="1714" y="1662"/>
                  </a:lnTo>
                  <a:lnTo>
                    <a:pt x="1756" y="1589"/>
                  </a:lnTo>
                  <a:lnTo>
                    <a:pt x="1793" y="1533"/>
                  </a:lnTo>
                  <a:lnTo>
                    <a:pt x="1825" y="1494"/>
                  </a:lnTo>
                  <a:lnTo>
                    <a:pt x="1849" y="1465"/>
                  </a:lnTo>
                  <a:lnTo>
                    <a:pt x="1868" y="1448"/>
                  </a:lnTo>
                  <a:lnTo>
                    <a:pt x="1881" y="1439"/>
                  </a:lnTo>
                  <a:lnTo>
                    <a:pt x="1885" y="1438"/>
                  </a:lnTo>
                  <a:lnTo>
                    <a:pt x="1937" y="1350"/>
                  </a:lnTo>
                  <a:lnTo>
                    <a:pt x="1982" y="1258"/>
                  </a:lnTo>
                  <a:lnTo>
                    <a:pt x="2015" y="1169"/>
                  </a:lnTo>
                  <a:lnTo>
                    <a:pt x="2043" y="1086"/>
                  </a:lnTo>
                  <a:lnTo>
                    <a:pt x="2062" y="1013"/>
                  </a:lnTo>
                  <a:lnTo>
                    <a:pt x="2075" y="956"/>
                  </a:lnTo>
                  <a:lnTo>
                    <a:pt x="2082" y="918"/>
                  </a:lnTo>
                  <a:lnTo>
                    <a:pt x="2085" y="905"/>
                  </a:lnTo>
                  <a:lnTo>
                    <a:pt x="2128" y="793"/>
                  </a:lnTo>
                  <a:lnTo>
                    <a:pt x="2166" y="696"/>
                  </a:lnTo>
                  <a:lnTo>
                    <a:pt x="2196" y="611"/>
                  </a:lnTo>
                  <a:lnTo>
                    <a:pt x="2222" y="542"/>
                  </a:lnTo>
                  <a:lnTo>
                    <a:pt x="2243" y="489"/>
                  </a:lnTo>
                  <a:lnTo>
                    <a:pt x="2262" y="454"/>
                  </a:lnTo>
                  <a:lnTo>
                    <a:pt x="2281" y="439"/>
                  </a:lnTo>
                  <a:lnTo>
                    <a:pt x="2300" y="445"/>
                  </a:lnTo>
                  <a:lnTo>
                    <a:pt x="2319" y="451"/>
                  </a:lnTo>
                  <a:lnTo>
                    <a:pt x="2340" y="449"/>
                  </a:lnTo>
                  <a:lnTo>
                    <a:pt x="2361" y="442"/>
                  </a:lnTo>
                  <a:lnTo>
                    <a:pt x="2381" y="438"/>
                  </a:lnTo>
                  <a:lnTo>
                    <a:pt x="2396" y="440"/>
                  </a:lnTo>
                  <a:lnTo>
                    <a:pt x="2408" y="456"/>
                  </a:lnTo>
                  <a:lnTo>
                    <a:pt x="2412" y="491"/>
                  </a:lnTo>
                  <a:lnTo>
                    <a:pt x="2409" y="553"/>
                  </a:lnTo>
                  <a:lnTo>
                    <a:pt x="2396" y="631"/>
                  </a:lnTo>
                  <a:lnTo>
                    <a:pt x="2381" y="716"/>
                  </a:lnTo>
                  <a:lnTo>
                    <a:pt x="2363" y="801"/>
                  </a:lnTo>
                  <a:lnTo>
                    <a:pt x="2345" y="883"/>
                  </a:lnTo>
                  <a:lnTo>
                    <a:pt x="2328" y="954"/>
                  </a:lnTo>
                  <a:lnTo>
                    <a:pt x="2314" y="1012"/>
                  </a:lnTo>
                  <a:lnTo>
                    <a:pt x="2304" y="1049"/>
                  </a:lnTo>
                  <a:lnTo>
                    <a:pt x="2302" y="1064"/>
                  </a:lnTo>
                  <a:lnTo>
                    <a:pt x="2203" y="1357"/>
                  </a:lnTo>
                  <a:lnTo>
                    <a:pt x="2146" y="1467"/>
                  </a:lnTo>
                  <a:lnTo>
                    <a:pt x="2100" y="1559"/>
                  </a:lnTo>
                  <a:lnTo>
                    <a:pt x="2060" y="1634"/>
                  </a:lnTo>
                  <a:lnTo>
                    <a:pt x="2028" y="1694"/>
                  </a:lnTo>
                  <a:lnTo>
                    <a:pt x="2003" y="1738"/>
                  </a:lnTo>
                  <a:lnTo>
                    <a:pt x="1986" y="1769"/>
                  </a:lnTo>
                  <a:lnTo>
                    <a:pt x="1976" y="1786"/>
                  </a:lnTo>
                  <a:lnTo>
                    <a:pt x="1973" y="1792"/>
                  </a:lnTo>
                  <a:lnTo>
                    <a:pt x="1891" y="1918"/>
                  </a:lnTo>
                  <a:lnTo>
                    <a:pt x="1875" y="1996"/>
                  </a:lnTo>
                  <a:lnTo>
                    <a:pt x="1862" y="2064"/>
                  </a:lnTo>
                  <a:lnTo>
                    <a:pt x="1850" y="2120"/>
                  </a:lnTo>
                  <a:lnTo>
                    <a:pt x="1842" y="2166"/>
                  </a:lnTo>
                  <a:lnTo>
                    <a:pt x="1834" y="2200"/>
                  </a:lnTo>
                  <a:lnTo>
                    <a:pt x="1828" y="2225"/>
                  </a:lnTo>
                  <a:lnTo>
                    <a:pt x="1825" y="2240"/>
                  </a:lnTo>
                  <a:lnTo>
                    <a:pt x="1825" y="2245"/>
                  </a:lnTo>
                  <a:lnTo>
                    <a:pt x="1822" y="2341"/>
                  </a:lnTo>
                  <a:lnTo>
                    <a:pt x="1820" y="2431"/>
                  </a:lnTo>
                  <a:lnTo>
                    <a:pt x="1820" y="2511"/>
                  </a:lnTo>
                  <a:lnTo>
                    <a:pt x="1822" y="2582"/>
                  </a:lnTo>
                  <a:lnTo>
                    <a:pt x="1822" y="2641"/>
                  </a:lnTo>
                  <a:lnTo>
                    <a:pt x="1823" y="2688"/>
                  </a:lnTo>
                  <a:lnTo>
                    <a:pt x="1824" y="2721"/>
                  </a:lnTo>
                  <a:lnTo>
                    <a:pt x="1825" y="2740"/>
                  </a:lnTo>
                  <a:lnTo>
                    <a:pt x="1824" y="2749"/>
                  </a:lnTo>
                  <a:lnTo>
                    <a:pt x="1824" y="2758"/>
                  </a:lnTo>
                  <a:lnTo>
                    <a:pt x="1824" y="2767"/>
                  </a:lnTo>
                  <a:lnTo>
                    <a:pt x="1826" y="2777"/>
                  </a:lnTo>
                  <a:lnTo>
                    <a:pt x="1829" y="2784"/>
                  </a:lnTo>
                  <a:lnTo>
                    <a:pt x="1837" y="2791"/>
                  </a:lnTo>
                  <a:lnTo>
                    <a:pt x="1848" y="2795"/>
                  </a:lnTo>
                  <a:lnTo>
                    <a:pt x="1866" y="2797"/>
                  </a:lnTo>
                  <a:lnTo>
                    <a:pt x="1885" y="2799"/>
                  </a:lnTo>
                  <a:lnTo>
                    <a:pt x="1906" y="2804"/>
                  </a:lnTo>
                  <a:lnTo>
                    <a:pt x="1928" y="2810"/>
                  </a:lnTo>
                  <a:lnTo>
                    <a:pt x="1953" y="2816"/>
                  </a:lnTo>
                  <a:lnTo>
                    <a:pt x="1976" y="2817"/>
                  </a:lnTo>
                  <a:lnTo>
                    <a:pt x="2001" y="2814"/>
                  </a:lnTo>
                  <a:lnTo>
                    <a:pt x="2023" y="2805"/>
                  </a:lnTo>
                  <a:lnTo>
                    <a:pt x="2046" y="2790"/>
                  </a:lnTo>
                  <a:lnTo>
                    <a:pt x="2072" y="2764"/>
                  </a:lnTo>
                  <a:lnTo>
                    <a:pt x="2107" y="2733"/>
                  </a:lnTo>
                  <a:lnTo>
                    <a:pt x="2148" y="2700"/>
                  </a:lnTo>
                  <a:lnTo>
                    <a:pt x="2193" y="2667"/>
                  </a:lnTo>
                  <a:lnTo>
                    <a:pt x="2237" y="2636"/>
                  </a:lnTo>
                  <a:lnTo>
                    <a:pt x="2283" y="2607"/>
                  </a:lnTo>
                  <a:lnTo>
                    <a:pt x="2324" y="2586"/>
                  </a:lnTo>
                  <a:lnTo>
                    <a:pt x="2360" y="2572"/>
                  </a:lnTo>
                  <a:lnTo>
                    <a:pt x="2394" y="2562"/>
                  </a:lnTo>
                  <a:lnTo>
                    <a:pt x="2438" y="2554"/>
                  </a:lnTo>
                  <a:lnTo>
                    <a:pt x="2485" y="2547"/>
                  </a:lnTo>
                  <a:lnTo>
                    <a:pt x="2537" y="2544"/>
                  </a:lnTo>
                  <a:lnTo>
                    <a:pt x="2584" y="2542"/>
                  </a:lnTo>
                  <a:lnTo>
                    <a:pt x="2630" y="2543"/>
                  </a:lnTo>
                  <a:lnTo>
                    <a:pt x="2668" y="2546"/>
                  </a:lnTo>
                  <a:lnTo>
                    <a:pt x="2697" y="2555"/>
                  </a:lnTo>
                  <a:lnTo>
                    <a:pt x="2722" y="2565"/>
                  </a:lnTo>
                  <a:lnTo>
                    <a:pt x="2756" y="2581"/>
                  </a:lnTo>
                  <a:lnTo>
                    <a:pt x="2791" y="2597"/>
                  </a:lnTo>
                  <a:lnTo>
                    <a:pt x="2829" y="2614"/>
                  </a:lnTo>
                  <a:lnTo>
                    <a:pt x="2864" y="2630"/>
                  </a:lnTo>
                  <a:lnTo>
                    <a:pt x="2892" y="2644"/>
                  </a:lnTo>
                  <a:lnTo>
                    <a:pt x="2911" y="2651"/>
                  </a:lnTo>
                  <a:lnTo>
                    <a:pt x="2919" y="2656"/>
                  </a:lnTo>
                  <a:lnTo>
                    <a:pt x="2922" y="2661"/>
                  </a:lnTo>
                  <a:lnTo>
                    <a:pt x="2934" y="2675"/>
                  </a:lnTo>
                  <a:lnTo>
                    <a:pt x="2947" y="2697"/>
                  </a:lnTo>
                  <a:lnTo>
                    <a:pt x="2960" y="2723"/>
                  </a:lnTo>
                  <a:lnTo>
                    <a:pt x="2968" y="2749"/>
                  </a:lnTo>
                  <a:lnTo>
                    <a:pt x="2970" y="2775"/>
                  </a:lnTo>
                  <a:lnTo>
                    <a:pt x="2960" y="2797"/>
                  </a:lnTo>
                  <a:lnTo>
                    <a:pt x="2936" y="2814"/>
                  </a:lnTo>
                  <a:lnTo>
                    <a:pt x="2901" y="2819"/>
                  </a:lnTo>
                  <a:lnTo>
                    <a:pt x="2868" y="2810"/>
                  </a:lnTo>
                  <a:lnTo>
                    <a:pt x="2835" y="2792"/>
                  </a:lnTo>
                  <a:lnTo>
                    <a:pt x="2803" y="2769"/>
                  </a:lnTo>
                  <a:lnTo>
                    <a:pt x="2771" y="2742"/>
                  </a:lnTo>
                  <a:lnTo>
                    <a:pt x="2742" y="2717"/>
                  </a:lnTo>
                  <a:lnTo>
                    <a:pt x="2715" y="2696"/>
                  </a:lnTo>
                  <a:lnTo>
                    <a:pt x="2689" y="2683"/>
                  </a:lnTo>
                  <a:lnTo>
                    <a:pt x="2658" y="2678"/>
                  </a:lnTo>
                  <a:lnTo>
                    <a:pt x="2627" y="2680"/>
                  </a:lnTo>
                  <a:lnTo>
                    <a:pt x="2594" y="2687"/>
                  </a:lnTo>
                  <a:lnTo>
                    <a:pt x="2566" y="2698"/>
                  </a:lnTo>
                  <a:lnTo>
                    <a:pt x="2537" y="2710"/>
                  </a:lnTo>
                  <a:lnTo>
                    <a:pt x="2513" y="2724"/>
                  </a:lnTo>
                  <a:lnTo>
                    <a:pt x="2492" y="2736"/>
                  </a:lnTo>
                  <a:lnTo>
                    <a:pt x="2478" y="2745"/>
                  </a:lnTo>
                  <a:lnTo>
                    <a:pt x="2459" y="2753"/>
                  </a:lnTo>
                  <a:lnTo>
                    <a:pt x="2434" y="2766"/>
                  </a:lnTo>
                  <a:lnTo>
                    <a:pt x="2404" y="2782"/>
                  </a:lnTo>
                  <a:lnTo>
                    <a:pt x="2372" y="2801"/>
                  </a:lnTo>
                  <a:lnTo>
                    <a:pt x="2339" y="2819"/>
                  </a:lnTo>
                  <a:lnTo>
                    <a:pt x="2309" y="2837"/>
                  </a:lnTo>
                  <a:lnTo>
                    <a:pt x="2283" y="2853"/>
                  </a:lnTo>
                  <a:lnTo>
                    <a:pt x="2266" y="2865"/>
                  </a:lnTo>
                  <a:lnTo>
                    <a:pt x="2243" y="2881"/>
                  </a:lnTo>
                  <a:lnTo>
                    <a:pt x="2205" y="2911"/>
                  </a:lnTo>
                  <a:lnTo>
                    <a:pt x="2156" y="2946"/>
                  </a:lnTo>
                  <a:lnTo>
                    <a:pt x="2105" y="2986"/>
                  </a:lnTo>
                  <a:lnTo>
                    <a:pt x="2054" y="3024"/>
                  </a:lnTo>
                  <a:lnTo>
                    <a:pt x="2011" y="3058"/>
                  </a:lnTo>
                  <a:lnTo>
                    <a:pt x="1979" y="3080"/>
                  </a:lnTo>
                  <a:lnTo>
                    <a:pt x="1969" y="3091"/>
                  </a:lnTo>
                  <a:lnTo>
                    <a:pt x="1786" y="3278"/>
                  </a:lnTo>
                  <a:lnTo>
                    <a:pt x="1780" y="3281"/>
                  </a:lnTo>
                  <a:lnTo>
                    <a:pt x="1766" y="3289"/>
                  </a:lnTo>
                  <a:lnTo>
                    <a:pt x="1745" y="3301"/>
                  </a:lnTo>
                  <a:lnTo>
                    <a:pt x="1720" y="3318"/>
                  </a:lnTo>
                  <a:lnTo>
                    <a:pt x="1693" y="3335"/>
                  </a:lnTo>
                  <a:lnTo>
                    <a:pt x="1665" y="3355"/>
                  </a:lnTo>
                  <a:lnTo>
                    <a:pt x="1639" y="3375"/>
                  </a:lnTo>
                  <a:lnTo>
                    <a:pt x="1618" y="3395"/>
                  </a:lnTo>
                  <a:lnTo>
                    <a:pt x="1598" y="3413"/>
                  </a:lnTo>
                  <a:lnTo>
                    <a:pt x="1578" y="3434"/>
                  </a:lnTo>
                  <a:lnTo>
                    <a:pt x="1555" y="3454"/>
                  </a:lnTo>
                  <a:lnTo>
                    <a:pt x="1531" y="3477"/>
                  </a:lnTo>
                  <a:lnTo>
                    <a:pt x="1505" y="3498"/>
                  </a:lnTo>
                  <a:lnTo>
                    <a:pt x="1478" y="3523"/>
                  </a:lnTo>
                  <a:lnTo>
                    <a:pt x="1447" y="3549"/>
                  </a:lnTo>
                  <a:lnTo>
                    <a:pt x="1416" y="3577"/>
                  </a:lnTo>
                  <a:lnTo>
                    <a:pt x="1385" y="3600"/>
                  </a:lnTo>
                  <a:lnTo>
                    <a:pt x="1360" y="3616"/>
                  </a:lnTo>
                  <a:lnTo>
                    <a:pt x="1340" y="3625"/>
                  </a:lnTo>
                  <a:lnTo>
                    <a:pt x="1324" y="3630"/>
                  </a:lnTo>
                  <a:lnTo>
                    <a:pt x="1309" y="3632"/>
                  </a:lnTo>
                  <a:lnTo>
                    <a:pt x="1294" y="3633"/>
                  </a:lnTo>
                  <a:lnTo>
                    <a:pt x="1278" y="3633"/>
                  </a:lnTo>
                  <a:lnTo>
                    <a:pt x="1259" y="3635"/>
                  </a:lnTo>
                  <a:lnTo>
                    <a:pt x="1234" y="3636"/>
                  </a:lnTo>
                  <a:lnTo>
                    <a:pt x="1209" y="3634"/>
                  </a:lnTo>
                  <a:lnTo>
                    <a:pt x="1182" y="3629"/>
                  </a:lnTo>
                  <a:lnTo>
                    <a:pt x="1158" y="3625"/>
                  </a:lnTo>
                  <a:lnTo>
                    <a:pt x="1134" y="3618"/>
                  </a:lnTo>
                  <a:lnTo>
                    <a:pt x="1117" y="3612"/>
                  </a:lnTo>
                  <a:lnTo>
                    <a:pt x="1103" y="3609"/>
                  </a:lnTo>
                  <a:lnTo>
                    <a:pt x="1100" y="3608"/>
                  </a:lnTo>
                  <a:lnTo>
                    <a:pt x="1095" y="3608"/>
                  </a:lnTo>
                  <a:lnTo>
                    <a:pt x="1087" y="3585"/>
                  </a:lnTo>
                  <a:lnTo>
                    <a:pt x="1071" y="3549"/>
                  </a:lnTo>
                  <a:lnTo>
                    <a:pt x="1053" y="3508"/>
                  </a:lnTo>
                  <a:lnTo>
                    <a:pt x="1030" y="3471"/>
                  </a:lnTo>
                  <a:lnTo>
                    <a:pt x="1005" y="3447"/>
                  </a:lnTo>
                  <a:lnTo>
                    <a:pt x="979" y="3447"/>
                  </a:lnTo>
                  <a:lnTo>
                    <a:pt x="952" y="3479"/>
                  </a:lnTo>
                  <a:lnTo>
                    <a:pt x="931" y="3532"/>
                  </a:lnTo>
                  <a:lnTo>
                    <a:pt x="923" y="3592"/>
                  </a:lnTo>
                  <a:lnTo>
                    <a:pt x="922" y="3649"/>
                  </a:lnTo>
                  <a:lnTo>
                    <a:pt x="921" y="3696"/>
                  </a:lnTo>
                  <a:lnTo>
                    <a:pt x="913" y="3725"/>
                  </a:lnTo>
                  <a:lnTo>
                    <a:pt x="894" y="3733"/>
                  </a:lnTo>
                  <a:lnTo>
                    <a:pt x="857" y="3710"/>
                  </a:lnTo>
                  <a:lnTo>
                    <a:pt x="798" y="3650"/>
                  </a:lnTo>
                  <a:lnTo>
                    <a:pt x="733" y="3587"/>
                  </a:lnTo>
                  <a:lnTo>
                    <a:pt x="684" y="3563"/>
                  </a:lnTo>
                  <a:lnTo>
                    <a:pt x="643" y="3563"/>
                  </a:lnTo>
                  <a:lnTo>
                    <a:pt x="609" y="3582"/>
                  </a:lnTo>
                  <a:lnTo>
                    <a:pt x="573" y="3607"/>
                  </a:lnTo>
                  <a:lnTo>
                    <a:pt x="532" y="3633"/>
                  </a:lnTo>
                  <a:lnTo>
                    <a:pt x="478" y="3649"/>
                  </a:lnTo>
                  <a:lnTo>
                    <a:pt x="409" y="3646"/>
                  </a:lnTo>
                  <a:lnTo>
                    <a:pt x="329" y="3636"/>
                  </a:lnTo>
                  <a:lnTo>
                    <a:pt x="257" y="3636"/>
                  </a:lnTo>
                  <a:lnTo>
                    <a:pt x="191" y="3642"/>
                  </a:lnTo>
                  <a:lnTo>
                    <a:pt x="132" y="3649"/>
                  </a:lnTo>
                  <a:lnTo>
                    <a:pt x="82" y="3650"/>
                  </a:lnTo>
                  <a:lnTo>
                    <a:pt x="43" y="3644"/>
                  </a:lnTo>
                  <a:lnTo>
                    <a:pt x="15" y="3625"/>
                  </a:lnTo>
                  <a:lnTo>
                    <a:pt x="0" y="3589"/>
                  </a:lnTo>
                  <a:lnTo>
                    <a:pt x="7" y="3534"/>
                  </a:lnTo>
                  <a:lnTo>
                    <a:pt x="40" y="3472"/>
                  </a:lnTo>
                  <a:lnTo>
                    <a:pt x="91" y="3404"/>
                  </a:lnTo>
                  <a:lnTo>
                    <a:pt x="154" y="3338"/>
                  </a:lnTo>
                  <a:lnTo>
                    <a:pt x="216" y="3277"/>
                  </a:lnTo>
                  <a:lnTo>
                    <a:pt x="271" y="3229"/>
                  </a:lnTo>
                  <a:lnTo>
                    <a:pt x="310" y="3195"/>
                  </a:lnTo>
                  <a:lnTo>
                    <a:pt x="326" y="3183"/>
                  </a:lnTo>
                  <a:close/>
                </a:path>
              </a:pathLst>
            </a:custGeom>
            <a:solidFill>
              <a:srgbClr val="ffe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22680" y="1152360"/>
              <a:ext cx="569880" cy="828720"/>
            </a:xfrm>
            <a:custGeom>
              <a:avLst/>
              <a:gdLst/>
              <a:ahLst/>
              <a:rect l="l" t="t" r="r" b="b"/>
              <a:pathLst>
                <a:path w="3230" h="4176">
                  <a:moveTo>
                    <a:pt x="1969" y="49"/>
                  </a:moveTo>
                  <a:lnTo>
                    <a:pt x="1987" y="96"/>
                  </a:lnTo>
                  <a:lnTo>
                    <a:pt x="1997" y="148"/>
                  </a:lnTo>
                  <a:lnTo>
                    <a:pt x="1999" y="202"/>
                  </a:lnTo>
                  <a:lnTo>
                    <a:pt x="1997" y="256"/>
                  </a:lnTo>
                  <a:lnTo>
                    <a:pt x="1989" y="310"/>
                  </a:lnTo>
                  <a:lnTo>
                    <a:pt x="1980" y="365"/>
                  </a:lnTo>
                  <a:lnTo>
                    <a:pt x="1971" y="418"/>
                  </a:lnTo>
                  <a:lnTo>
                    <a:pt x="1963" y="470"/>
                  </a:lnTo>
                  <a:lnTo>
                    <a:pt x="1952" y="514"/>
                  </a:lnTo>
                  <a:lnTo>
                    <a:pt x="1940" y="558"/>
                  </a:lnTo>
                  <a:lnTo>
                    <a:pt x="1927" y="602"/>
                  </a:lnTo>
                  <a:lnTo>
                    <a:pt x="1913" y="648"/>
                  </a:lnTo>
                  <a:lnTo>
                    <a:pt x="1900" y="692"/>
                  </a:lnTo>
                  <a:lnTo>
                    <a:pt x="1889" y="736"/>
                  </a:lnTo>
                  <a:lnTo>
                    <a:pt x="1879" y="781"/>
                  </a:lnTo>
                  <a:lnTo>
                    <a:pt x="1873" y="827"/>
                  </a:lnTo>
                  <a:lnTo>
                    <a:pt x="1866" y="839"/>
                  </a:lnTo>
                  <a:lnTo>
                    <a:pt x="1860" y="852"/>
                  </a:lnTo>
                  <a:lnTo>
                    <a:pt x="1856" y="867"/>
                  </a:lnTo>
                  <a:lnTo>
                    <a:pt x="1852" y="882"/>
                  </a:lnTo>
                  <a:lnTo>
                    <a:pt x="1849" y="897"/>
                  </a:lnTo>
                  <a:lnTo>
                    <a:pt x="1848" y="912"/>
                  </a:lnTo>
                  <a:lnTo>
                    <a:pt x="1845" y="927"/>
                  </a:lnTo>
                  <a:lnTo>
                    <a:pt x="1845" y="944"/>
                  </a:lnTo>
                  <a:lnTo>
                    <a:pt x="1829" y="1016"/>
                  </a:lnTo>
                  <a:lnTo>
                    <a:pt x="1813" y="1090"/>
                  </a:lnTo>
                  <a:lnTo>
                    <a:pt x="1795" y="1162"/>
                  </a:lnTo>
                  <a:lnTo>
                    <a:pt x="1779" y="1235"/>
                  </a:lnTo>
                  <a:lnTo>
                    <a:pt x="1760" y="1307"/>
                  </a:lnTo>
                  <a:lnTo>
                    <a:pt x="1743" y="1380"/>
                  </a:lnTo>
                  <a:lnTo>
                    <a:pt x="1727" y="1453"/>
                  </a:lnTo>
                  <a:lnTo>
                    <a:pt x="1712" y="1528"/>
                  </a:lnTo>
                  <a:lnTo>
                    <a:pt x="1713" y="1537"/>
                  </a:lnTo>
                  <a:lnTo>
                    <a:pt x="1714" y="1546"/>
                  </a:lnTo>
                  <a:lnTo>
                    <a:pt x="1714" y="1555"/>
                  </a:lnTo>
                  <a:lnTo>
                    <a:pt x="1714" y="1565"/>
                  </a:lnTo>
                  <a:lnTo>
                    <a:pt x="1714" y="1574"/>
                  </a:lnTo>
                  <a:lnTo>
                    <a:pt x="1718" y="1583"/>
                  </a:lnTo>
                  <a:lnTo>
                    <a:pt x="1722" y="1591"/>
                  </a:lnTo>
                  <a:lnTo>
                    <a:pt x="1732" y="1599"/>
                  </a:lnTo>
                  <a:lnTo>
                    <a:pt x="1741" y="1598"/>
                  </a:lnTo>
                  <a:lnTo>
                    <a:pt x="1751" y="1597"/>
                  </a:lnTo>
                  <a:lnTo>
                    <a:pt x="1760" y="1594"/>
                  </a:lnTo>
                  <a:lnTo>
                    <a:pt x="1769" y="1591"/>
                  </a:lnTo>
                  <a:lnTo>
                    <a:pt x="1777" y="1586"/>
                  </a:lnTo>
                  <a:lnTo>
                    <a:pt x="1785" y="1581"/>
                  </a:lnTo>
                  <a:lnTo>
                    <a:pt x="1793" y="1576"/>
                  </a:lnTo>
                  <a:lnTo>
                    <a:pt x="1802" y="1571"/>
                  </a:lnTo>
                  <a:lnTo>
                    <a:pt x="1818" y="1544"/>
                  </a:lnTo>
                  <a:lnTo>
                    <a:pt x="1832" y="1517"/>
                  </a:lnTo>
                  <a:lnTo>
                    <a:pt x="1844" y="1488"/>
                  </a:lnTo>
                  <a:lnTo>
                    <a:pt x="1857" y="1460"/>
                  </a:lnTo>
                  <a:lnTo>
                    <a:pt x="1868" y="1430"/>
                  </a:lnTo>
                  <a:lnTo>
                    <a:pt x="1881" y="1401"/>
                  </a:lnTo>
                  <a:lnTo>
                    <a:pt x="1894" y="1373"/>
                  </a:lnTo>
                  <a:lnTo>
                    <a:pt x="1912" y="1347"/>
                  </a:lnTo>
                  <a:lnTo>
                    <a:pt x="1944" y="1293"/>
                  </a:lnTo>
                  <a:lnTo>
                    <a:pt x="1978" y="1241"/>
                  </a:lnTo>
                  <a:lnTo>
                    <a:pt x="2011" y="1189"/>
                  </a:lnTo>
                  <a:lnTo>
                    <a:pt x="2046" y="1138"/>
                  </a:lnTo>
                  <a:lnTo>
                    <a:pt x="2078" y="1086"/>
                  </a:lnTo>
                  <a:lnTo>
                    <a:pt x="2110" y="1033"/>
                  </a:lnTo>
                  <a:lnTo>
                    <a:pt x="2141" y="980"/>
                  </a:lnTo>
                  <a:lnTo>
                    <a:pt x="2172" y="928"/>
                  </a:lnTo>
                  <a:lnTo>
                    <a:pt x="2182" y="876"/>
                  </a:lnTo>
                  <a:lnTo>
                    <a:pt x="2197" y="825"/>
                  </a:lnTo>
                  <a:lnTo>
                    <a:pt x="2212" y="775"/>
                  </a:lnTo>
                  <a:lnTo>
                    <a:pt x="2231" y="728"/>
                  </a:lnTo>
                  <a:lnTo>
                    <a:pt x="2251" y="680"/>
                  </a:lnTo>
                  <a:lnTo>
                    <a:pt x="2274" y="634"/>
                  </a:lnTo>
                  <a:lnTo>
                    <a:pt x="2296" y="588"/>
                  </a:lnTo>
                  <a:lnTo>
                    <a:pt x="2319" y="542"/>
                  </a:lnTo>
                  <a:lnTo>
                    <a:pt x="2345" y="513"/>
                  </a:lnTo>
                  <a:lnTo>
                    <a:pt x="2373" y="480"/>
                  </a:lnTo>
                  <a:lnTo>
                    <a:pt x="2399" y="447"/>
                  </a:lnTo>
                  <a:lnTo>
                    <a:pt x="2429" y="419"/>
                  </a:lnTo>
                  <a:lnTo>
                    <a:pt x="2459" y="393"/>
                  </a:lnTo>
                  <a:lnTo>
                    <a:pt x="2494" y="374"/>
                  </a:lnTo>
                  <a:lnTo>
                    <a:pt x="2531" y="363"/>
                  </a:lnTo>
                  <a:lnTo>
                    <a:pt x="2573" y="365"/>
                  </a:lnTo>
                  <a:lnTo>
                    <a:pt x="2587" y="369"/>
                  </a:lnTo>
                  <a:lnTo>
                    <a:pt x="2603" y="376"/>
                  </a:lnTo>
                  <a:lnTo>
                    <a:pt x="2618" y="382"/>
                  </a:lnTo>
                  <a:lnTo>
                    <a:pt x="2634" y="391"/>
                  </a:lnTo>
                  <a:lnTo>
                    <a:pt x="2647" y="400"/>
                  </a:lnTo>
                  <a:lnTo>
                    <a:pt x="2659" y="412"/>
                  </a:lnTo>
                  <a:lnTo>
                    <a:pt x="2668" y="427"/>
                  </a:lnTo>
                  <a:lnTo>
                    <a:pt x="2675" y="445"/>
                  </a:lnTo>
                  <a:lnTo>
                    <a:pt x="2681" y="517"/>
                  </a:lnTo>
                  <a:lnTo>
                    <a:pt x="2680" y="591"/>
                  </a:lnTo>
                  <a:lnTo>
                    <a:pt x="2671" y="663"/>
                  </a:lnTo>
                  <a:lnTo>
                    <a:pt x="2658" y="737"/>
                  </a:lnTo>
                  <a:lnTo>
                    <a:pt x="2641" y="808"/>
                  </a:lnTo>
                  <a:lnTo>
                    <a:pt x="2622" y="880"/>
                  </a:lnTo>
                  <a:lnTo>
                    <a:pt x="2602" y="950"/>
                  </a:lnTo>
                  <a:lnTo>
                    <a:pt x="2584" y="1020"/>
                  </a:lnTo>
                  <a:lnTo>
                    <a:pt x="2535" y="1135"/>
                  </a:lnTo>
                  <a:lnTo>
                    <a:pt x="2490" y="1253"/>
                  </a:lnTo>
                  <a:lnTo>
                    <a:pt x="2446" y="1371"/>
                  </a:lnTo>
                  <a:lnTo>
                    <a:pt x="2400" y="1488"/>
                  </a:lnTo>
                  <a:lnTo>
                    <a:pt x="2349" y="1604"/>
                  </a:lnTo>
                  <a:lnTo>
                    <a:pt x="2293" y="1717"/>
                  </a:lnTo>
                  <a:lnTo>
                    <a:pt x="2228" y="1825"/>
                  </a:lnTo>
                  <a:lnTo>
                    <a:pt x="2154" y="1930"/>
                  </a:lnTo>
                  <a:lnTo>
                    <a:pt x="2142" y="1976"/>
                  </a:lnTo>
                  <a:lnTo>
                    <a:pt x="2132" y="2024"/>
                  </a:lnTo>
                  <a:lnTo>
                    <a:pt x="2120" y="2070"/>
                  </a:lnTo>
                  <a:lnTo>
                    <a:pt x="2109" y="2118"/>
                  </a:lnTo>
                  <a:lnTo>
                    <a:pt x="2097" y="2164"/>
                  </a:lnTo>
                  <a:lnTo>
                    <a:pt x="2086" y="2212"/>
                  </a:lnTo>
                  <a:lnTo>
                    <a:pt x="2073" y="2259"/>
                  </a:lnTo>
                  <a:lnTo>
                    <a:pt x="2062" y="2307"/>
                  </a:lnTo>
                  <a:lnTo>
                    <a:pt x="2070" y="2362"/>
                  </a:lnTo>
                  <a:lnTo>
                    <a:pt x="2078" y="2420"/>
                  </a:lnTo>
                  <a:lnTo>
                    <a:pt x="2082" y="2478"/>
                  </a:lnTo>
                  <a:lnTo>
                    <a:pt x="2087" y="2538"/>
                  </a:lnTo>
                  <a:lnTo>
                    <a:pt x="2088" y="2595"/>
                  </a:lnTo>
                  <a:lnTo>
                    <a:pt x="2089" y="2655"/>
                  </a:lnTo>
                  <a:lnTo>
                    <a:pt x="2086" y="2714"/>
                  </a:lnTo>
                  <a:lnTo>
                    <a:pt x="2082" y="2774"/>
                  </a:lnTo>
                  <a:lnTo>
                    <a:pt x="2083" y="2781"/>
                  </a:lnTo>
                  <a:lnTo>
                    <a:pt x="2087" y="2789"/>
                  </a:lnTo>
                  <a:lnTo>
                    <a:pt x="2090" y="2796"/>
                  </a:lnTo>
                  <a:lnTo>
                    <a:pt x="2097" y="2802"/>
                  </a:lnTo>
                  <a:lnTo>
                    <a:pt x="2102" y="2807"/>
                  </a:lnTo>
                  <a:lnTo>
                    <a:pt x="2110" y="2811"/>
                  </a:lnTo>
                  <a:lnTo>
                    <a:pt x="2117" y="2814"/>
                  </a:lnTo>
                  <a:lnTo>
                    <a:pt x="2127" y="2817"/>
                  </a:lnTo>
                  <a:lnTo>
                    <a:pt x="2176" y="2811"/>
                  </a:lnTo>
                  <a:lnTo>
                    <a:pt x="2221" y="2797"/>
                  </a:lnTo>
                  <a:lnTo>
                    <a:pt x="2265" y="2773"/>
                  </a:lnTo>
                  <a:lnTo>
                    <a:pt x="2307" y="2745"/>
                  </a:lnTo>
                  <a:lnTo>
                    <a:pt x="2347" y="2713"/>
                  </a:lnTo>
                  <a:lnTo>
                    <a:pt x="2388" y="2681"/>
                  </a:lnTo>
                  <a:lnTo>
                    <a:pt x="2429" y="2651"/>
                  </a:lnTo>
                  <a:lnTo>
                    <a:pt x="2474" y="2628"/>
                  </a:lnTo>
                  <a:lnTo>
                    <a:pt x="2503" y="2611"/>
                  </a:lnTo>
                  <a:lnTo>
                    <a:pt x="2535" y="2598"/>
                  </a:lnTo>
                  <a:lnTo>
                    <a:pt x="2567" y="2585"/>
                  </a:lnTo>
                  <a:lnTo>
                    <a:pt x="2602" y="2577"/>
                  </a:lnTo>
                  <a:lnTo>
                    <a:pt x="2635" y="2569"/>
                  </a:lnTo>
                  <a:lnTo>
                    <a:pt x="2671" y="2564"/>
                  </a:lnTo>
                  <a:lnTo>
                    <a:pt x="2706" y="2557"/>
                  </a:lnTo>
                  <a:lnTo>
                    <a:pt x="2743" y="2552"/>
                  </a:lnTo>
                  <a:lnTo>
                    <a:pt x="2803" y="2555"/>
                  </a:lnTo>
                  <a:lnTo>
                    <a:pt x="2863" y="2561"/>
                  </a:lnTo>
                  <a:lnTo>
                    <a:pt x="2922" y="2570"/>
                  </a:lnTo>
                  <a:lnTo>
                    <a:pt x="2982" y="2584"/>
                  </a:lnTo>
                  <a:lnTo>
                    <a:pt x="3038" y="2600"/>
                  </a:lnTo>
                  <a:lnTo>
                    <a:pt x="3093" y="2622"/>
                  </a:lnTo>
                  <a:lnTo>
                    <a:pt x="3147" y="2650"/>
                  </a:lnTo>
                  <a:lnTo>
                    <a:pt x="3197" y="2685"/>
                  </a:lnTo>
                  <a:lnTo>
                    <a:pt x="3203" y="2699"/>
                  </a:lnTo>
                  <a:lnTo>
                    <a:pt x="3211" y="2714"/>
                  </a:lnTo>
                  <a:lnTo>
                    <a:pt x="3218" y="2728"/>
                  </a:lnTo>
                  <a:lnTo>
                    <a:pt x="3224" y="2744"/>
                  </a:lnTo>
                  <a:lnTo>
                    <a:pt x="3228" y="2757"/>
                  </a:lnTo>
                  <a:lnTo>
                    <a:pt x="3230" y="2774"/>
                  </a:lnTo>
                  <a:lnTo>
                    <a:pt x="3229" y="2790"/>
                  </a:lnTo>
                  <a:lnTo>
                    <a:pt x="3224" y="2809"/>
                  </a:lnTo>
                  <a:lnTo>
                    <a:pt x="3198" y="2850"/>
                  </a:lnTo>
                  <a:lnTo>
                    <a:pt x="3163" y="2877"/>
                  </a:lnTo>
                  <a:lnTo>
                    <a:pt x="3122" y="2893"/>
                  </a:lnTo>
                  <a:lnTo>
                    <a:pt x="3078" y="2902"/>
                  </a:lnTo>
                  <a:lnTo>
                    <a:pt x="3030" y="2908"/>
                  </a:lnTo>
                  <a:lnTo>
                    <a:pt x="2982" y="2916"/>
                  </a:lnTo>
                  <a:lnTo>
                    <a:pt x="2938" y="2929"/>
                  </a:lnTo>
                  <a:lnTo>
                    <a:pt x="2897" y="2955"/>
                  </a:lnTo>
                  <a:lnTo>
                    <a:pt x="2880" y="2961"/>
                  </a:lnTo>
                  <a:lnTo>
                    <a:pt x="2864" y="2971"/>
                  </a:lnTo>
                  <a:lnTo>
                    <a:pt x="2849" y="2981"/>
                  </a:lnTo>
                  <a:lnTo>
                    <a:pt x="2835" y="2994"/>
                  </a:lnTo>
                  <a:lnTo>
                    <a:pt x="2820" y="3005"/>
                  </a:lnTo>
                  <a:lnTo>
                    <a:pt x="2805" y="3017"/>
                  </a:lnTo>
                  <a:lnTo>
                    <a:pt x="2790" y="3028"/>
                  </a:lnTo>
                  <a:lnTo>
                    <a:pt x="2774" y="3036"/>
                  </a:lnTo>
                  <a:lnTo>
                    <a:pt x="2760" y="3051"/>
                  </a:lnTo>
                  <a:lnTo>
                    <a:pt x="2745" y="3065"/>
                  </a:lnTo>
                  <a:lnTo>
                    <a:pt x="2730" y="3076"/>
                  </a:lnTo>
                  <a:lnTo>
                    <a:pt x="2714" y="3088"/>
                  </a:lnTo>
                  <a:lnTo>
                    <a:pt x="2696" y="3095"/>
                  </a:lnTo>
                  <a:lnTo>
                    <a:pt x="2680" y="3103"/>
                  </a:lnTo>
                  <a:lnTo>
                    <a:pt x="2662" y="3110"/>
                  </a:lnTo>
                  <a:lnTo>
                    <a:pt x="2644" y="3119"/>
                  </a:lnTo>
                  <a:lnTo>
                    <a:pt x="2616" y="3126"/>
                  </a:lnTo>
                  <a:lnTo>
                    <a:pt x="2592" y="3137"/>
                  </a:lnTo>
                  <a:lnTo>
                    <a:pt x="2568" y="3151"/>
                  </a:lnTo>
                  <a:lnTo>
                    <a:pt x="2546" y="3168"/>
                  </a:lnTo>
                  <a:lnTo>
                    <a:pt x="2523" y="3183"/>
                  </a:lnTo>
                  <a:lnTo>
                    <a:pt x="2499" y="3198"/>
                  </a:lnTo>
                  <a:lnTo>
                    <a:pt x="2474" y="3212"/>
                  </a:lnTo>
                  <a:lnTo>
                    <a:pt x="2449" y="3223"/>
                  </a:lnTo>
                  <a:lnTo>
                    <a:pt x="2418" y="3248"/>
                  </a:lnTo>
                  <a:lnTo>
                    <a:pt x="2387" y="3274"/>
                  </a:lnTo>
                  <a:lnTo>
                    <a:pt x="2355" y="3299"/>
                  </a:lnTo>
                  <a:lnTo>
                    <a:pt x="2325" y="3326"/>
                  </a:lnTo>
                  <a:lnTo>
                    <a:pt x="2294" y="3352"/>
                  </a:lnTo>
                  <a:lnTo>
                    <a:pt x="2266" y="3382"/>
                  </a:lnTo>
                  <a:lnTo>
                    <a:pt x="2239" y="3411"/>
                  </a:lnTo>
                  <a:lnTo>
                    <a:pt x="2217" y="3444"/>
                  </a:lnTo>
                  <a:lnTo>
                    <a:pt x="2206" y="3446"/>
                  </a:lnTo>
                  <a:lnTo>
                    <a:pt x="2195" y="3450"/>
                  </a:lnTo>
                  <a:lnTo>
                    <a:pt x="2185" y="3453"/>
                  </a:lnTo>
                  <a:lnTo>
                    <a:pt x="2175" y="3460"/>
                  </a:lnTo>
                  <a:lnTo>
                    <a:pt x="2165" y="3466"/>
                  </a:lnTo>
                  <a:lnTo>
                    <a:pt x="2155" y="3472"/>
                  </a:lnTo>
                  <a:lnTo>
                    <a:pt x="2146" y="3479"/>
                  </a:lnTo>
                  <a:lnTo>
                    <a:pt x="2138" y="3489"/>
                  </a:lnTo>
                  <a:lnTo>
                    <a:pt x="2127" y="3484"/>
                  </a:lnTo>
                  <a:lnTo>
                    <a:pt x="2120" y="3488"/>
                  </a:lnTo>
                  <a:lnTo>
                    <a:pt x="2111" y="3495"/>
                  </a:lnTo>
                  <a:lnTo>
                    <a:pt x="2102" y="3498"/>
                  </a:lnTo>
                  <a:lnTo>
                    <a:pt x="2070" y="3515"/>
                  </a:lnTo>
                  <a:lnTo>
                    <a:pt x="2042" y="3536"/>
                  </a:lnTo>
                  <a:lnTo>
                    <a:pt x="2015" y="3556"/>
                  </a:lnTo>
                  <a:lnTo>
                    <a:pt x="1989" y="3579"/>
                  </a:lnTo>
                  <a:lnTo>
                    <a:pt x="1962" y="3600"/>
                  </a:lnTo>
                  <a:lnTo>
                    <a:pt x="1938" y="3624"/>
                  </a:lnTo>
                  <a:lnTo>
                    <a:pt x="1911" y="3647"/>
                  </a:lnTo>
                  <a:lnTo>
                    <a:pt x="1884" y="3670"/>
                  </a:lnTo>
                  <a:lnTo>
                    <a:pt x="1873" y="3670"/>
                  </a:lnTo>
                  <a:lnTo>
                    <a:pt x="1866" y="3674"/>
                  </a:lnTo>
                  <a:lnTo>
                    <a:pt x="1858" y="3678"/>
                  </a:lnTo>
                  <a:lnTo>
                    <a:pt x="1851" y="3687"/>
                  </a:lnTo>
                  <a:lnTo>
                    <a:pt x="1844" y="3696"/>
                  </a:lnTo>
                  <a:lnTo>
                    <a:pt x="1839" y="3705"/>
                  </a:lnTo>
                  <a:lnTo>
                    <a:pt x="1832" y="3715"/>
                  </a:lnTo>
                  <a:lnTo>
                    <a:pt x="1825" y="3722"/>
                  </a:lnTo>
                  <a:lnTo>
                    <a:pt x="1804" y="3736"/>
                  </a:lnTo>
                  <a:lnTo>
                    <a:pt x="1784" y="3751"/>
                  </a:lnTo>
                  <a:lnTo>
                    <a:pt x="1764" y="3763"/>
                  </a:lnTo>
                  <a:lnTo>
                    <a:pt x="1744" y="3777"/>
                  </a:lnTo>
                  <a:lnTo>
                    <a:pt x="1724" y="3789"/>
                  </a:lnTo>
                  <a:lnTo>
                    <a:pt x="1704" y="3803"/>
                  </a:lnTo>
                  <a:lnTo>
                    <a:pt x="1685" y="3818"/>
                  </a:lnTo>
                  <a:lnTo>
                    <a:pt x="1668" y="3835"/>
                  </a:lnTo>
                  <a:lnTo>
                    <a:pt x="1654" y="3840"/>
                  </a:lnTo>
                  <a:lnTo>
                    <a:pt x="1641" y="3847"/>
                  </a:lnTo>
                  <a:lnTo>
                    <a:pt x="1626" y="3851"/>
                  </a:lnTo>
                  <a:lnTo>
                    <a:pt x="1612" y="3858"/>
                  </a:lnTo>
                  <a:lnTo>
                    <a:pt x="1596" y="3864"/>
                  </a:lnTo>
                  <a:lnTo>
                    <a:pt x="1583" y="3871"/>
                  </a:lnTo>
                  <a:lnTo>
                    <a:pt x="1569" y="3880"/>
                  </a:lnTo>
                  <a:lnTo>
                    <a:pt x="1557" y="3891"/>
                  </a:lnTo>
                  <a:lnTo>
                    <a:pt x="1526" y="3898"/>
                  </a:lnTo>
                  <a:lnTo>
                    <a:pt x="1497" y="3908"/>
                  </a:lnTo>
                  <a:lnTo>
                    <a:pt x="1467" y="3918"/>
                  </a:lnTo>
                  <a:lnTo>
                    <a:pt x="1440" y="3930"/>
                  </a:lnTo>
                  <a:lnTo>
                    <a:pt x="1410" y="3939"/>
                  </a:lnTo>
                  <a:lnTo>
                    <a:pt x="1381" y="3947"/>
                  </a:lnTo>
                  <a:lnTo>
                    <a:pt x="1350" y="3951"/>
                  </a:lnTo>
                  <a:lnTo>
                    <a:pt x="1317" y="3952"/>
                  </a:lnTo>
                  <a:lnTo>
                    <a:pt x="1294" y="3967"/>
                  </a:lnTo>
                  <a:lnTo>
                    <a:pt x="1278" y="3986"/>
                  </a:lnTo>
                  <a:lnTo>
                    <a:pt x="1266" y="4008"/>
                  </a:lnTo>
                  <a:lnTo>
                    <a:pt x="1258" y="4033"/>
                  </a:lnTo>
                  <a:lnTo>
                    <a:pt x="1251" y="4056"/>
                  </a:lnTo>
                  <a:lnTo>
                    <a:pt x="1243" y="4081"/>
                  </a:lnTo>
                  <a:lnTo>
                    <a:pt x="1233" y="4104"/>
                  </a:lnTo>
                  <a:lnTo>
                    <a:pt x="1222" y="4128"/>
                  </a:lnTo>
                  <a:lnTo>
                    <a:pt x="1222" y="4134"/>
                  </a:lnTo>
                  <a:lnTo>
                    <a:pt x="1222" y="4142"/>
                  </a:lnTo>
                  <a:lnTo>
                    <a:pt x="1219" y="4148"/>
                  </a:lnTo>
                  <a:lnTo>
                    <a:pt x="1217" y="4155"/>
                  </a:lnTo>
                  <a:lnTo>
                    <a:pt x="1208" y="4165"/>
                  </a:lnTo>
                  <a:lnTo>
                    <a:pt x="1202" y="4176"/>
                  </a:lnTo>
                  <a:lnTo>
                    <a:pt x="1189" y="4170"/>
                  </a:lnTo>
                  <a:lnTo>
                    <a:pt x="1185" y="4163"/>
                  </a:lnTo>
                  <a:lnTo>
                    <a:pt x="1185" y="4155"/>
                  </a:lnTo>
                  <a:lnTo>
                    <a:pt x="1188" y="4148"/>
                  </a:lnTo>
                  <a:lnTo>
                    <a:pt x="1193" y="4140"/>
                  </a:lnTo>
                  <a:lnTo>
                    <a:pt x="1199" y="4132"/>
                  </a:lnTo>
                  <a:lnTo>
                    <a:pt x="1205" y="4125"/>
                  </a:lnTo>
                  <a:lnTo>
                    <a:pt x="1209" y="4121"/>
                  </a:lnTo>
                  <a:lnTo>
                    <a:pt x="1208" y="4098"/>
                  </a:lnTo>
                  <a:lnTo>
                    <a:pt x="1212" y="4076"/>
                  </a:lnTo>
                  <a:lnTo>
                    <a:pt x="1213" y="4052"/>
                  </a:lnTo>
                  <a:lnTo>
                    <a:pt x="1215" y="4029"/>
                  </a:lnTo>
                  <a:lnTo>
                    <a:pt x="1213" y="4007"/>
                  </a:lnTo>
                  <a:lnTo>
                    <a:pt x="1208" y="3986"/>
                  </a:lnTo>
                  <a:lnTo>
                    <a:pt x="1198" y="3967"/>
                  </a:lnTo>
                  <a:lnTo>
                    <a:pt x="1182" y="3952"/>
                  </a:lnTo>
                  <a:lnTo>
                    <a:pt x="1175" y="3947"/>
                  </a:lnTo>
                  <a:lnTo>
                    <a:pt x="1172" y="3942"/>
                  </a:lnTo>
                  <a:lnTo>
                    <a:pt x="1168" y="3936"/>
                  </a:lnTo>
                  <a:lnTo>
                    <a:pt x="1166" y="3932"/>
                  </a:lnTo>
                  <a:lnTo>
                    <a:pt x="1159" y="3922"/>
                  </a:lnTo>
                  <a:lnTo>
                    <a:pt x="1150" y="3915"/>
                  </a:lnTo>
                  <a:lnTo>
                    <a:pt x="1112" y="3882"/>
                  </a:lnTo>
                  <a:lnTo>
                    <a:pt x="1068" y="3857"/>
                  </a:lnTo>
                  <a:lnTo>
                    <a:pt x="1021" y="3838"/>
                  </a:lnTo>
                  <a:lnTo>
                    <a:pt x="973" y="3822"/>
                  </a:lnTo>
                  <a:lnTo>
                    <a:pt x="923" y="3806"/>
                  </a:lnTo>
                  <a:lnTo>
                    <a:pt x="874" y="3789"/>
                  </a:lnTo>
                  <a:lnTo>
                    <a:pt x="826" y="3769"/>
                  </a:lnTo>
                  <a:lnTo>
                    <a:pt x="784" y="3743"/>
                  </a:lnTo>
                  <a:lnTo>
                    <a:pt x="788" y="3736"/>
                  </a:lnTo>
                  <a:lnTo>
                    <a:pt x="795" y="3734"/>
                  </a:lnTo>
                  <a:lnTo>
                    <a:pt x="802" y="3734"/>
                  </a:lnTo>
                  <a:lnTo>
                    <a:pt x="810" y="3737"/>
                  </a:lnTo>
                  <a:lnTo>
                    <a:pt x="818" y="3739"/>
                  </a:lnTo>
                  <a:lnTo>
                    <a:pt x="826" y="3744"/>
                  </a:lnTo>
                  <a:lnTo>
                    <a:pt x="834" y="3747"/>
                  </a:lnTo>
                  <a:lnTo>
                    <a:pt x="842" y="3751"/>
                  </a:lnTo>
                  <a:lnTo>
                    <a:pt x="877" y="3771"/>
                  </a:lnTo>
                  <a:lnTo>
                    <a:pt x="916" y="3788"/>
                  </a:lnTo>
                  <a:lnTo>
                    <a:pt x="955" y="3802"/>
                  </a:lnTo>
                  <a:lnTo>
                    <a:pt x="996" y="3813"/>
                  </a:lnTo>
                  <a:lnTo>
                    <a:pt x="1036" y="3822"/>
                  </a:lnTo>
                  <a:lnTo>
                    <a:pt x="1076" y="3832"/>
                  </a:lnTo>
                  <a:lnTo>
                    <a:pt x="1115" y="3844"/>
                  </a:lnTo>
                  <a:lnTo>
                    <a:pt x="1154" y="3859"/>
                  </a:lnTo>
                  <a:lnTo>
                    <a:pt x="1175" y="3885"/>
                  </a:lnTo>
                  <a:lnTo>
                    <a:pt x="1202" y="3904"/>
                  </a:lnTo>
                  <a:lnTo>
                    <a:pt x="1229" y="3914"/>
                  </a:lnTo>
                  <a:lnTo>
                    <a:pt x="1261" y="3919"/>
                  </a:lnTo>
                  <a:lnTo>
                    <a:pt x="1292" y="3919"/>
                  </a:lnTo>
                  <a:lnTo>
                    <a:pt x="1325" y="3917"/>
                  </a:lnTo>
                  <a:lnTo>
                    <a:pt x="1357" y="3914"/>
                  </a:lnTo>
                  <a:lnTo>
                    <a:pt x="1391" y="3911"/>
                  </a:lnTo>
                  <a:lnTo>
                    <a:pt x="1417" y="3900"/>
                  </a:lnTo>
                  <a:lnTo>
                    <a:pt x="1445" y="3891"/>
                  </a:lnTo>
                  <a:lnTo>
                    <a:pt x="1473" y="3883"/>
                  </a:lnTo>
                  <a:lnTo>
                    <a:pt x="1502" y="3875"/>
                  </a:lnTo>
                  <a:lnTo>
                    <a:pt x="1529" y="3864"/>
                  </a:lnTo>
                  <a:lnTo>
                    <a:pt x="1555" y="3853"/>
                  </a:lnTo>
                  <a:lnTo>
                    <a:pt x="1581" y="3838"/>
                  </a:lnTo>
                  <a:lnTo>
                    <a:pt x="1605" y="3820"/>
                  </a:lnTo>
                  <a:lnTo>
                    <a:pt x="1676" y="3777"/>
                  </a:lnTo>
                  <a:lnTo>
                    <a:pt x="1744" y="3728"/>
                  </a:lnTo>
                  <a:lnTo>
                    <a:pt x="1811" y="3675"/>
                  </a:lnTo>
                  <a:lnTo>
                    <a:pt x="1878" y="3621"/>
                  </a:lnTo>
                  <a:lnTo>
                    <a:pt x="1943" y="3566"/>
                  </a:lnTo>
                  <a:lnTo>
                    <a:pt x="2012" y="3516"/>
                  </a:lnTo>
                  <a:lnTo>
                    <a:pt x="2082" y="3471"/>
                  </a:lnTo>
                  <a:lnTo>
                    <a:pt x="2158" y="3437"/>
                  </a:lnTo>
                  <a:lnTo>
                    <a:pt x="2190" y="3411"/>
                  </a:lnTo>
                  <a:lnTo>
                    <a:pt x="2219" y="3383"/>
                  </a:lnTo>
                  <a:lnTo>
                    <a:pt x="2245" y="3351"/>
                  </a:lnTo>
                  <a:lnTo>
                    <a:pt x="2271" y="3321"/>
                  </a:lnTo>
                  <a:lnTo>
                    <a:pt x="2297" y="3289"/>
                  </a:lnTo>
                  <a:lnTo>
                    <a:pt x="2326" y="3261"/>
                  </a:lnTo>
                  <a:lnTo>
                    <a:pt x="2357" y="3236"/>
                  </a:lnTo>
                  <a:lnTo>
                    <a:pt x="2395" y="3217"/>
                  </a:lnTo>
                  <a:lnTo>
                    <a:pt x="2424" y="3194"/>
                  </a:lnTo>
                  <a:lnTo>
                    <a:pt x="2454" y="3175"/>
                  </a:lnTo>
                  <a:lnTo>
                    <a:pt x="2484" y="3155"/>
                  </a:lnTo>
                  <a:lnTo>
                    <a:pt x="2516" y="3140"/>
                  </a:lnTo>
                  <a:lnTo>
                    <a:pt x="2546" y="3123"/>
                  </a:lnTo>
                  <a:lnTo>
                    <a:pt x="2579" y="3110"/>
                  </a:lnTo>
                  <a:lnTo>
                    <a:pt x="2613" y="3097"/>
                  </a:lnTo>
                  <a:lnTo>
                    <a:pt x="2647" y="3088"/>
                  </a:lnTo>
                  <a:lnTo>
                    <a:pt x="2704" y="3048"/>
                  </a:lnTo>
                  <a:lnTo>
                    <a:pt x="2761" y="3008"/>
                  </a:lnTo>
                  <a:lnTo>
                    <a:pt x="2819" y="2971"/>
                  </a:lnTo>
                  <a:lnTo>
                    <a:pt x="2879" y="2937"/>
                  </a:lnTo>
                  <a:lnTo>
                    <a:pt x="2939" y="2906"/>
                  </a:lnTo>
                  <a:lnTo>
                    <a:pt x="3002" y="2882"/>
                  </a:lnTo>
                  <a:lnTo>
                    <a:pt x="3068" y="2863"/>
                  </a:lnTo>
                  <a:lnTo>
                    <a:pt x="3138" y="2854"/>
                  </a:lnTo>
                  <a:lnTo>
                    <a:pt x="3148" y="2851"/>
                  </a:lnTo>
                  <a:lnTo>
                    <a:pt x="3158" y="2845"/>
                  </a:lnTo>
                  <a:lnTo>
                    <a:pt x="3167" y="2837"/>
                  </a:lnTo>
                  <a:lnTo>
                    <a:pt x="3175" y="2828"/>
                  </a:lnTo>
                  <a:lnTo>
                    <a:pt x="3181" y="2817"/>
                  </a:lnTo>
                  <a:lnTo>
                    <a:pt x="3187" y="2807"/>
                  </a:lnTo>
                  <a:lnTo>
                    <a:pt x="3191" y="2796"/>
                  </a:lnTo>
                  <a:lnTo>
                    <a:pt x="3197" y="2785"/>
                  </a:lnTo>
                  <a:lnTo>
                    <a:pt x="3197" y="2771"/>
                  </a:lnTo>
                  <a:lnTo>
                    <a:pt x="3197" y="2757"/>
                  </a:lnTo>
                  <a:lnTo>
                    <a:pt x="3193" y="2745"/>
                  </a:lnTo>
                  <a:lnTo>
                    <a:pt x="3191" y="2733"/>
                  </a:lnTo>
                  <a:lnTo>
                    <a:pt x="3187" y="2721"/>
                  </a:lnTo>
                  <a:lnTo>
                    <a:pt x="3182" y="2711"/>
                  </a:lnTo>
                  <a:lnTo>
                    <a:pt x="3177" y="2699"/>
                  </a:lnTo>
                  <a:lnTo>
                    <a:pt x="3173" y="2689"/>
                  </a:lnTo>
                  <a:lnTo>
                    <a:pt x="3115" y="2656"/>
                  </a:lnTo>
                  <a:lnTo>
                    <a:pt x="3055" y="2631"/>
                  </a:lnTo>
                  <a:lnTo>
                    <a:pt x="2992" y="2613"/>
                  </a:lnTo>
                  <a:lnTo>
                    <a:pt x="2929" y="2602"/>
                  </a:lnTo>
                  <a:lnTo>
                    <a:pt x="2862" y="2594"/>
                  </a:lnTo>
                  <a:lnTo>
                    <a:pt x="2796" y="2591"/>
                  </a:lnTo>
                  <a:lnTo>
                    <a:pt x="2730" y="2590"/>
                  </a:lnTo>
                  <a:lnTo>
                    <a:pt x="2664" y="2593"/>
                  </a:lnTo>
                  <a:lnTo>
                    <a:pt x="2616" y="2605"/>
                  </a:lnTo>
                  <a:lnTo>
                    <a:pt x="2571" y="2622"/>
                  </a:lnTo>
                  <a:lnTo>
                    <a:pt x="2524" y="2643"/>
                  </a:lnTo>
                  <a:lnTo>
                    <a:pt x="2480" y="2667"/>
                  </a:lnTo>
                  <a:lnTo>
                    <a:pt x="2438" y="2694"/>
                  </a:lnTo>
                  <a:lnTo>
                    <a:pt x="2402" y="2727"/>
                  </a:lnTo>
                  <a:lnTo>
                    <a:pt x="2367" y="2763"/>
                  </a:lnTo>
                  <a:lnTo>
                    <a:pt x="2339" y="2806"/>
                  </a:lnTo>
                  <a:lnTo>
                    <a:pt x="2333" y="2805"/>
                  </a:lnTo>
                  <a:lnTo>
                    <a:pt x="2328" y="2807"/>
                  </a:lnTo>
                  <a:lnTo>
                    <a:pt x="2325" y="2810"/>
                  </a:lnTo>
                  <a:lnTo>
                    <a:pt x="2324" y="2816"/>
                  </a:lnTo>
                  <a:lnTo>
                    <a:pt x="2323" y="2820"/>
                  </a:lnTo>
                  <a:lnTo>
                    <a:pt x="2324" y="2826"/>
                  </a:lnTo>
                  <a:lnTo>
                    <a:pt x="2324" y="2832"/>
                  </a:lnTo>
                  <a:lnTo>
                    <a:pt x="2327" y="2837"/>
                  </a:lnTo>
                  <a:lnTo>
                    <a:pt x="2331" y="2850"/>
                  </a:lnTo>
                  <a:lnTo>
                    <a:pt x="2338" y="2863"/>
                  </a:lnTo>
                  <a:lnTo>
                    <a:pt x="2344" y="2877"/>
                  </a:lnTo>
                  <a:lnTo>
                    <a:pt x="2350" y="2891"/>
                  </a:lnTo>
                  <a:lnTo>
                    <a:pt x="2355" y="2903"/>
                  </a:lnTo>
                  <a:lnTo>
                    <a:pt x="2360" y="2917"/>
                  </a:lnTo>
                  <a:lnTo>
                    <a:pt x="2364" y="2930"/>
                  </a:lnTo>
                  <a:lnTo>
                    <a:pt x="2367" y="2946"/>
                  </a:lnTo>
                  <a:lnTo>
                    <a:pt x="2356" y="2933"/>
                  </a:lnTo>
                  <a:lnTo>
                    <a:pt x="2348" y="2917"/>
                  </a:lnTo>
                  <a:lnTo>
                    <a:pt x="2341" y="2901"/>
                  </a:lnTo>
                  <a:lnTo>
                    <a:pt x="2336" y="2885"/>
                  </a:lnTo>
                  <a:lnTo>
                    <a:pt x="2328" y="2868"/>
                  </a:lnTo>
                  <a:lnTo>
                    <a:pt x="2320" y="2854"/>
                  </a:lnTo>
                  <a:lnTo>
                    <a:pt x="2310" y="2842"/>
                  </a:lnTo>
                  <a:lnTo>
                    <a:pt x="2299" y="2834"/>
                  </a:lnTo>
                  <a:lnTo>
                    <a:pt x="2281" y="2842"/>
                  </a:lnTo>
                  <a:lnTo>
                    <a:pt x="2265" y="2847"/>
                  </a:lnTo>
                  <a:lnTo>
                    <a:pt x="2246" y="2849"/>
                  </a:lnTo>
                  <a:lnTo>
                    <a:pt x="2227" y="2850"/>
                  </a:lnTo>
                  <a:lnTo>
                    <a:pt x="2207" y="2849"/>
                  </a:lnTo>
                  <a:lnTo>
                    <a:pt x="2188" y="2848"/>
                  </a:lnTo>
                  <a:lnTo>
                    <a:pt x="2170" y="2847"/>
                  </a:lnTo>
                  <a:lnTo>
                    <a:pt x="2154" y="2847"/>
                  </a:lnTo>
                  <a:lnTo>
                    <a:pt x="2105" y="2833"/>
                  </a:lnTo>
                  <a:lnTo>
                    <a:pt x="2059" y="2817"/>
                  </a:lnTo>
                  <a:lnTo>
                    <a:pt x="2013" y="2798"/>
                  </a:lnTo>
                  <a:lnTo>
                    <a:pt x="1970" y="2779"/>
                  </a:lnTo>
                  <a:lnTo>
                    <a:pt x="1924" y="2758"/>
                  </a:lnTo>
                  <a:lnTo>
                    <a:pt x="1879" y="2740"/>
                  </a:lnTo>
                  <a:lnTo>
                    <a:pt x="1831" y="2727"/>
                  </a:lnTo>
                  <a:lnTo>
                    <a:pt x="1783" y="2720"/>
                  </a:lnTo>
                  <a:lnTo>
                    <a:pt x="1757" y="2719"/>
                  </a:lnTo>
                  <a:lnTo>
                    <a:pt x="1731" y="2717"/>
                  </a:lnTo>
                  <a:lnTo>
                    <a:pt x="1704" y="2714"/>
                  </a:lnTo>
                  <a:lnTo>
                    <a:pt x="1679" y="2712"/>
                  </a:lnTo>
                  <a:lnTo>
                    <a:pt x="1652" y="2708"/>
                  </a:lnTo>
                  <a:lnTo>
                    <a:pt x="1625" y="2706"/>
                  </a:lnTo>
                  <a:lnTo>
                    <a:pt x="1600" y="2703"/>
                  </a:lnTo>
                  <a:lnTo>
                    <a:pt x="1574" y="2701"/>
                  </a:lnTo>
                  <a:lnTo>
                    <a:pt x="1580" y="2694"/>
                  </a:lnTo>
                  <a:lnTo>
                    <a:pt x="1609" y="2697"/>
                  </a:lnTo>
                  <a:lnTo>
                    <a:pt x="1640" y="2699"/>
                  </a:lnTo>
                  <a:lnTo>
                    <a:pt x="1670" y="2701"/>
                  </a:lnTo>
                  <a:lnTo>
                    <a:pt x="1702" y="2702"/>
                  </a:lnTo>
                  <a:lnTo>
                    <a:pt x="1732" y="2703"/>
                  </a:lnTo>
                  <a:lnTo>
                    <a:pt x="1763" y="2706"/>
                  </a:lnTo>
                  <a:lnTo>
                    <a:pt x="1792" y="2711"/>
                  </a:lnTo>
                  <a:lnTo>
                    <a:pt x="1822" y="2720"/>
                  </a:lnTo>
                  <a:lnTo>
                    <a:pt x="1843" y="2717"/>
                  </a:lnTo>
                  <a:lnTo>
                    <a:pt x="1866" y="2721"/>
                  </a:lnTo>
                  <a:lnTo>
                    <a:pt x="1887" y="2725"/>
                  </a:lnTo>
                  <a:lnTo>
                    <a:pt x="1908" y="2733"/>
                  </a:lnTo>
                  <a:lnTo>
                    <a:pt x="1928" y="2741"/>
                  </a:lnTo>
                  <a:lnTo>
                    <a:pt x="1949" y="2750"/>
                  </a:lnTo>
                  <a:lnTo>
                    <a:pt x="1970" y="2758"/>
                  </a:lnTo>
                  <a:lnTo>
                    <a:pt x="1991" y="2766"/>
                  </a:lnTo>
                  <a:lnTo>
                    <a:pt x="1998" y="2749"/>
                  </a:lnTo>
                  <a:lnTo>
                    <a:pt x="2000" y="2733"/>
                  </a:lnTo>
                  <a:lnTo>
                    <a:pt x="1999" y="2717"/>
                  </a:lnTo>
                  <a:lnTo>
                    <a:pt x="1997" y="2703"/>
                  </a:lnTo>
                  <a:lnTo>
                    <a:pt x="1991" y="2687"/>
                  </a:lnTo>
                  <a:lnTo>
                    <a:pt x="1987" y="2671"/>
                  </a:lnTo>
                  <a:lnTo>
                    <a:pt x="1982" y="2655"/>
                  </a:lnTo>
                  <a:lnTo>
                    <a:pt x="1980" y="2641"/>
                  </a:lnTo>
                  <a:lnTo>
                    <a:pt x="1960" y="2613"/>
                  </a:lnTo>
                  <a:lnTo>
                    <a:pt x="1946" y="2585"/>
                  </a:lnTo>
                  <a:lnTo>
                    <a:pt x="1933" y="2555"/>
                  </a:lnTo>
                  <a:lnTo>
                    <a:pt x="1923" y="2525"/>
                  </a:lnTo>
                  <a:lnTo>
                    <a:pt x="1912" y="2495"/>
                  </a:lnTo>
                  <a:lnTo>
                    <a:pt x="1902" y="2465"/>
                  </a:lnTo>
                  <a:lnTo>
                    <a:pt x="1889" y="2437"/>
                  </a:lnTo>
                  <a:lnTo>
                    <a:pt x="1873" y="2412"/>
                  </a:lnTo>
                  <a:lnTo>
                    <a:pt x="1873" y="2407"/>
                  </a:lnTo>
                  <a:lnTo>
                    <a:pt x="1884" y="2407"/>
                  </a:lnTo>
                  <a:lnTo>
                    <a:pt x="1900" y="2440"/>
                  </a:lnTo>
                  <a:lnTo>
                    <a:pt x="1917" y="2474"/>
                  </a:lnTo>
                  <a:lnTo>
                    <a:pt x="1934" y="2507"/>
                  </a:lnTo>
                  <a:lnTo>
                    <a:pt x="1952" y="2541"/>
                  </a:lnTo>
                  <a:lnTo>
                    <a:pt x="1969" y="2574"/>
                  </a:lnTo>
                  <a:lnTo>
                    <a:pt x="1988" y="2607"/>
                  </a:lnTo>
                  <a:lnTo>
                    <a:pt x="2005" y="2639"/>
                  </a:lnTo>
                  <a:lnTo>
                    <a:pt x="2023" y="2673"/>
                  </a:lnTo>
                  <a:lnTo>
                    <a:pt x="2029" y="2672"/>
                  </a:lnTo>
                  <a:lnTo>
                    <a:pt x="2033" y="2670"/>
                  </a:lnTo>
                  <a:lnTo>
                    <a:pt x="2038" y="2664"/>
                  </a:lnTo>
                  <a:lnTo>
                    <a:pt x="2042" y="2660"/>
                  </a:lnTo>
                  <a:lnTo>
                    <a:pt x="2047" y="2604"/>
                  </a:lnTo>
                  <a:lnTo>
                    <a:pt x="2049" y="2552"/>
                  </a:lnTo>
                  <a:lnTo>
                    <a:pt x="2049" y="2501"/>
                  </a:lnTo>
                  <a:lnTo>
                    <a:pt x="2049" y="2450"/>
                  </a:lnTo>
                  <a:lnTo>
                    <a:pt x="2047" y="2398"/>
                  </a:lnTo>
                  <a:lnTo>
                    <a:pt x="2045" y="2347"/>
                  </a:lnTo>
                  <a:lnTo>
                    <a:pt x="2042" y="2295"/>
                  </a:lnTo>
                  <a:lnTo>
                    <a:pt x="2042" y="2243"/>
                  </a:lnTo>
                  <a:lnTo>
                    <a:pt x="2065" y="2193"/>
                  </a:lnTo>
                  <a:lnTo>
                    <a:pt x="2080" y="2143"/>
                  </a:lnTo>
                  <a:lnTo>
                    <a:pt x="2091" y="2089"/>
                  </a:lnTo>
                  <a:lnTo>
                    <a:pt x="2101" y="2036"/>
                  </a:lnTo>
                  <a:lnTo>
                    <a:pt x="2112" y="1982"/>
                  </a:lnTo>
                  <a:lnTo>
                    <a:pt x="2128" y="1931"/>
                  </a:lnTo>
                  <a:lnTo>
                    <a:pt x="2151" y="1883"/>
                  </a:lnTo>
                  <a:lnTo>
                    <a:pt x="2186" y="1840"/>
                  </a:lnTo>
                  <a:lnTo>
                    <a:pt x="2221" y="1791"/>
                  </a:lnTo>
                  <a:lnTo>
                    <a:pt x="2255" y="1741"/>
                  </a:lnTo>
                  <a:lnTo>
                    <a:pt x="2287" y="1689"/>
                  </a:lnTo>
                  <a:lnTo>
                    <a:pt x="2318" y="1637"/>
                  </a:lnTo>
                  <a:lnTo>
                    <a:pt x="2345" y="1581"/>
                  </a:lnTo>
                  <a:lnTo>
                    <a:pt x="2369" y="1527"/>
                  </a:lnTo>
                  <a:lnTo>
                    <a:pt x="2391" y="1470"/>
                  </a:lnTo>
                  <a:lnTo>
                    <a:pt x="2410" y="1414"/>
                  </a:lnTo>
                  <a:lnTo>
                    <a:pt x="2428" y="1367"/>
                  </a:lnTo>
                  <a:lnTo>
                    <a:pt x="2447" y="1322"/>
                  </a:lnTo>
                  <a:lnTo>
                    <a:pt x="2464" y="1277"/>
                  </a:lnTo>
                  <a:lnTo>
                    <a:pt x="2480" y="1232"/>
                  </a:lnTo>
                  <a:lnTo>
                    <a:pt x="2495" y="1184"/>
                  </a:lnTo>
                  <a:lnTo>
                    <a:pt x="2510" y="1138"/>
                  </a:lnTo>
                  <a:lnTo>
                    <a:pt x="2526" y="1091"/>
                  </a:lnTo>
                  <a:lnTo>
                    <a:pt x="2542" y="1045"/>
                  </a:lnTo>
                  <a:lnTo>
                    <a:pt x="2558" y="1012"/>
                  </a:lnTo>
                  <a:lnTo>
                    <a:pt x="2573" y="979"/>
                  </a:lnTo>
                  <a:lnTo>
                    <a:pt x="2583" y="943"/>
                  </a:lnTo>
                  <a:lnTo>
                    <a:pt x="2594" y="907"/>
                  </a:lnTo>
                  <a:lnTo>
                    <a:pt x="2601" y="868"/>
                  </a:lnTo>
                  <a:lnTo>
                    <a:pt x="2608" y="831"/>
                  </a:lnTo>
                  <a:lnTo>
                    <a:pt x="2615" y="792"/>
                  </a:lnTo>
                  <a:lnTo>
                    <a:pt x="2624" y="755"/>
                  </a:lnTo>
                  <a:lnTo>
                    <a:pt x="2627" y="709"/>
                  </a:lnTo>
                  <a:lnTo>
                    <a:pt x="2631" y="666"/>
                  </a:lnTo>
                  <a:lnTo>
                    <a:pt x="2631" y="624"/>
                  </a:lnTo>
                  <a:lnTo>
                    <a:pt x="2631" y="584"/>
                  </a:lnTo>
                  <a:lnTo>
                    <a:pt x="2627" y="542"/>
                  </a:lnTo>
                  <a:lnTo>
                    <a:pt x="2625" y="502"/>
                  </a:lnTo>
                  <a:lnTo>
                    <a:pt x="2618" y="460"/>
                  </a:lnTo>
                  <a:lnTo>
                    <a:pt x="2613" y="417"/>
                  </a:lnTo>
                  <a:lnTo>
                    <a:pt x="2601" y="406"/>
                  </a:lnTo>
                  <a:lnTo>
                    <a:pt x="2588" y="400"/>
                  </a:lnTo>
                  <a:lnTo>
                    <a:pt x="2574" y="395"/>
                  </a:lnTo>
                  <a:lnTo>
                    <a:pt x="2561" y="393"/>
                  </a:lnTo>
                  <a:lnTo>
                    <a:pt x="2545" y="392"/>
                  </a:lnTo>
                  <a:lnTo>
                    <a:pt x="2532" y="394"/>
                  </a:lnTo>
                  <a:lnTo>
                    <a:pt x="2517" y="396"/>
                  </a:lnTo>
                  <a:lnTo>
                    <a:pt x="2505" y="402"/>
                  </a:lnTo>
                  <a:lnTo>
                    <a:pt x="2457" y="431"/>
                  </a:lnTo>
                  <a:lnTo>
                    <a:pt x="2418" y="468"/>
                  </a:lnTo>
                  <a:lnTo>
                    <a:pt x="2385" y="509"/>
                  </a:lnTo>
                  <a:lnTo>
                    <a:pt x="2358" y="557"/>
                  </a:lnTo>
                  <a:lnTo>
                    <a:pt x="2333" y="606"/>
                  </a:lnTo>
                  <a:lnTo>
                    <a:pt x="2310" y="657"/>
                  </a:lnTo>
                  <a:lnTo>
                    <a:pt x="2288" y="706"/>
                  </a:lnTo>
                  <a:lnTo>
                    <a:pt x="2265" y="755"/>
                  </a:lnTo>
                  <a:lnTo>
                    <a:pt x="2242" y="840"/>
                  </a:lnTo>
                  <a:lnTo>
                    <a:pt x="2212" y="923"/>
                  </a:lnTo>
                  <a:lnTo>
                    <a:pt x="2174" y="1002"/>
                  </a:lnTo>
                  <a:lnTo>
                    <a:pt x="2130" y="1079"/>
                  </a:lnTo>
                  <a:lnTo>
                    <a:pt x="2081" y="1152"/>
                  </a:lnTo>
                  <a:lnTo>
                    <a:pt x="2030" y="1226"/>
                  </a:lnTo>
                  <a:lnTo>
                    <a:pt x="1978" y="1298"/>
                  </a:lnTo>
                  <a:lnTo>
                    <a:pt x="1929" y="1373"/>
                  </a:lnTo>
                  <a:lnTo>
                    <a:pt x="1913" y="1400"/>
                  </a:lnTo>
                  <a:lnTo>
                    <a:pt x="1900" y="1427"/>
                  </a:lnTo>
                  <a:lnTo>
                    <a:pt x="1888" y="1456"/>
                  </a:lnTo>
                  <a:lnTo>
                    <a:pt x="1876" y="1484"/>
                  </a:lnTo>
                  <a:lnTo>
                    <a:pt x="1862" y="1511"/>
                  </a:lnTo>
                  <a:lnTo>
                    <a:pt x="1850" y="1539"/>
                  </a:lnTo>
                  <a:lnTo>
                    <a:pt x="1838" y="1567"/>
                  </a:lnTo>
                  <a:lnTo>
                    <a:pt x="1825" y="1595"/>
                  </a:lnTo>
                  <a:lnTo>
                    <a:pt x="1834" y="1603"/>
                  </a:lnTo>
                  <a:lnTo>
                    <a:pt x="1845" y="1611"/>
                  </a:lnTo>
                  <a:lnTo>
                    <a:pt x="1857" y="1617"/>
                  </a:lnTo>
                  <a:lnTo>
                    <a:pt x="1870" y="1624"/>
                  </a:lnTo>
                  <a:lnTo>
                    <a:pt x="1881" y="1631"/>
                  </a:lnTo>
                  <a:lnTo>
                    <a:pt x="1892" y="1640"/>
                  </a:lnTo>
                  <a:lnTo>
                    <a:pt x="1901" y="1650"/>
                  </a:lnTo>
                  <a:lnTo>
                    <a:pt x="1910" y="1664"/>
                  </a:lnTo>
                  <a:lnTo>
                    <a:pt x="1904" y="1668"/>
                  </a:lnTo>
                  <a:lnTo>
                    <a:pt x="1890" y="1662"/>
                  </a:lnTo>
                  <a:lnTo>
                    <a:pt x="1877" y="1653"/>
                  </a:lnTo>
                  <a:lnTo>
                    <a:pt x="1863" y="1641"/>
                  </a:lnTo>
                  <a:lnTo>
                    <a:pt x="1850" y="1632"/>
                  </a:lnTo>
                  <a:lnTo>
                    <a:pt x="1835" y="1623"/>
                  </a:lnTo>
                  <a:lnTo>
                    <a:pt x="1822" y="1620"/>
                  </a:lnTo>
                  <a:lnTo>
                    <a:pt x="1808" y="1621"/>
                  </a:lnTo>
                  <a:lnTo>
                    <a:pt x="1794" y="1631"/>
                  </a:lnTo>
                  <a:lnTo>
                    <a:pt x="1794" y="1645"/>
                  </a:lnTo>
                  <a:lnTo>
                    <a:pt x="1800" y="1658"/>
                  </a:lnTo>
                  <a:lnTo>
                    <a:pt x="1809" y="1671"/>
                  </a:lnTo>
                  <a:lnTo>
                    <a:pt x="1818" y="1683"/>
                  </a:lnTo>
                  <a:lnTo>
                    <a:pt x="1823" y="1694"/>
                  </a:lnTo>
                  <a:lnTo>
                    <a:pt x="1827" y="1706"/>
                  </a:lnTo>
                  <a:lnTo>
                    <a:pt x="1824" y="1718"/>
                  </a:lnTo>
                  <a:lnTo>
                    <a:pt x="1814" y="1732"/>
                  </a:lnTo>
                  <a:lnTo>
                    <a:pt x="1799" y="1708"/>
                  </a:lnTo>
                  <a:lnTo>
                    <a:pt x="1782" y="1690"/>
                  </a:lnTo>
                  <a:lnTo>
                    <a:pt x="1762" y="1673"/>
                  </a:lnTo>
                  <a:lnTo>
                    <a:pt x="1743" y="1659"/>
                  </a:lnTo>
                  <a:lnTo>
                    <a:pt x="1723" y="1643"/>
                  </a:lnTo>
                  <a:lnTo>
                    <a:pt x="1705" y="1629"/>
                  </a:lnTo>
                  <a:lnTo>
                    <a:pt x="1690" y="1610"/>
                  </a:lnTo>
                  <a:lnTo>
                    <a:pt x="1679" y="1588"/>
                  </a:lnTo>
                  <a:lnTo>
                    <a:pt x="1683" y="1526"/>
                  </a:lnTo>
                  <a:lnTo>
                    <a:pt x="1692" y="1465"/>
                  </a:lnTo>
                  <a:lnTo>
                    <a:pt x="1702" y="1404"/>
                  </a:lnTo>
                  <a:lnTo>
                    <a:pt x="1715" y="1345"/>
                  </a:lnTo>
                  <a:lnTo>
                    <a:pt x="1729" y="1285"/>
                  </a:lnTo>
                  <a:lnTo>
                    <a:pt x="1745" y="1226"/>
                  </a:lnTo>
                  <a:lnTo>
                    <a:pt x="1763" y="1168"/>
                  </a:lnTo>
                  <a:lnTo>
                    <a:pt x="1783" y="1112"/>
                  </a:lnTo>
                  <a:lnTo>
                    <a:pt x="1793" y="1045"/>
                  </a:lnTo>
                  <a:lnTo>
                    <a:pt x="1805" y="979"/>
                  </a:lnTo>
                  <a:lnTo>
                    <a:pt x="1818" y="912"/>
                  </a:lnTo>
                  <a:lnTo>
                    <a:pt x="1831" y="847"/>
                  </a:lnTo>
                  <a:lnTo>
                    <a:pt x="1844" y="781"/>
                  </a:lnTo>
                  <a:lnTo>
                    <a:pt x="1859" y="715"/>
                  </a:lnTo>
                  <a:lnTo>
                    <a:pt x="1873" y="651"/>
                  </a:lnTo>
                  <a:lnTo>
                    <a:pt x="1890" y="586"/>
                  </a:lnTo>
                  <a:lnTo>
                    <a:pt x="1884" y="580"/>
                  </a:lnTo>
                  <a:lnTo>
                    <a:pt x="1880" y="577"/>
                  </a:lnTo>
                  <a:lnTo>
                    <a:pt x="1876" y="577"/>
                  </a:lnTo>
                  <a:lnTo>
                    <a:pt x="1871" y="580"/>
                  </a:lnTo>
                  <a:lnTo>
                    <a:pt x="1862" y="582"/>
                  </a:lnTo>
                  <a:lnTo>
                    <a:pt x="1853" y="577"/>
                  </a:lnTo>
                  <a:lnTo>
                    <a:pt x="1835" y="567"/>
                  </a:lnTo>
                  <a:lnTo>
                    <a:pt x="1819" y="562"/>
                  </a:lnTo>
                  <a:lnTo>
                    <a:pt x="1800" y="556"/>
                  </a:lnTo>
                  <a:lnTo>
                    <a:pt x="1782" y="552"/>
                  </a:lnTo>
                  <a:lnTo>
                    <a:pt x="1762" y="548"/>
                  </a:lnTo>
                  <a:lnTo>
                    <a:pt x="1744" y="543"/>
                  </a:lnTo>
                  <a:lnTo>
                    <a:pt x="1728" y="537"/>
                  </a:lnTo>
                  <a:lnTo>
                    <a:pt x="1712" y="531"/>
                  </a:lnTo>
                  <a:lnTo>
                    <a:pt x="1733" y="528"/>
                  </a:lnTo>
                  <a:lnTo>
                    <a:pt x="1755" y="528"/>
                  </a:lnTo>
                  <a:lnTo>
                    <a:pt x="1777" y="530"/>
                  </a:lnTo>
                  <a:lnTo>
                    <a:pt x="1799" y="537"/>
                  </a:lnTo>
                  <a:lnTo>
                    <a:pt x="1820" y="542"/>
                  </a:lnTo>
                  <a:lnTo>
                    <a:pt x="1841" y="550"/>
                  </a:lnTo>
                  <a:lnTo>
                    <a:pt x="1862" y="558"/>
                  </a:lnTo>
                  <a:lnTo>
                    <a:pt x="1884" y="566"/>
                  </a:lnTo>
                  <a:lnTo>
                    <a:pt x="1897" y="555"/>
                  </a:lnTo>
                  <a:lnTo>
                    <a:pt x="1906" y="514"/>
                  </a:lnTo>
                  <a:lnTo>
                    <a:pt x="1917" y="474"/>
                  </a:lnTo>
                  <a:lnTo>
                    <a:pt x="1928" y="435"/>
                  </a:lnTo>
                  <a:lnTo>
                    <a:pt x="1939" y="395"/>
                  </a:lnTo>
                  <a:lnTo>
                    <a:pt x="1948" y="354"/>
                  </a:lnTo>
                  <a:lnTo>
                    <a:pt x="1954" y="315"/>
                  </a:lnTo>
                  <a:lnTo>
                    <a:pt x="1957" y="273"/>
                  </a:lnTo>
                  <a:lnTo>
                    <a:pt x="1956" y="232"/>
                  </a:lnTo>
                  <a:lnTo>
                    <a:pt x="1960" y="216"/>
                  </a:lnTo>
                  <a:lnTo>
                    <a:pt x="1964" y="201"/>
                  </a:lnTo>
                  <a:lnTo>
                    <a:pt x="1967" y="184"/>
                  </a:lnTo>
                  <a:lnTo>
                    <a:pt x="1970" y="167"/>
                  </a:lnTo>
                  <a:lnTo>
                    <a:pt x="1970" y="148"/>
                  </a:lnTo>
                  <a:lnTo>
                    <a:pt x="1970" y="131"/>
                  </a:lnTo>
                  <a:lnTo>
                    <a:pt x="1967" y="114"/>
                  </a:lnTo>
                  <a:lnTo>
                    <a:pt x="1963" y="100"/>
                  </a:lnTo>
                  <a:lnTo>
                    <a:pt x="1949" y="85"/>
                  </a:lnTo>
                  <a:lnTo>
                    <a:pt x="1936" y="71"/>
                  </a:lnTo>
                  <a:lnTo>
                    <a:pt x="1921" y="58"/>
                  </a:lnTo>
                  <a:lnTo>
                    <a:pt x="1906" y="49"/>
                  </a:lnTo>
                  <a:lnTo>
                    <a:pt x="1888" y="40"/>
                  </a:lnTo>
                  <a:lnTo>
                    <a:pt x="1869" y="36"/>
                  </a:lnTo>
                  <a:lnTo>
                    <a:pt x="1849" y="36"/>
                  </a:lnTo>
                  <a:lnTo>
                    <a:pt x="1830" y="43"/>
                  </a:lnTo>
                  <a:lnTo>
                    <a:pt x="1820" y="52"/>
                  </a:lnTo>
                  <a:lnTo>
                    <a:pt x="1809" y="60"/>
                  </a:lnTo>
                  <a:lnTo>
                    <a:pt x="1795" y="65"/>
                  </a:lnTo>
                  <a:lnTo>
                    <a:pt x="1783" y="70"/>
                  </a:lnTo>
                  <a:lnTo>
                    <a:pt x="1770" y="76"/>
                  </a:lnTo>
                  <a:lnTo>
                    <a:pt x="1759" y="84"/>
                  </a:lnTo>
                  <a:lnTo>
                    <a:pt x="1749" y="94"/>
                  </a:lnTo>
                  <a:lnTo>
                    <a:pt x="1743" y="109"/>
                  </a:lnTo>
                  <a:lnTo>
                    <a:pt x="1732" y="107"/>
                  </a:lnTo>
                  <a:lnTo>
                    <a:pt x="1727" y="109"/>
                  </a:lnTo>
                  <a:lnTo>
                    <a:pt x="1724" y="112"/>
                  </a:lnTo>
                  <a:lnTo>
                    <a:pt x="1725" y="119"/>
                  </a:lnTo>
                  <a:lnTo>
                    <a:pt x="1725" y="125"/>
                  </a:lnTo>
                  <a:lnTo>
                    <a:pt x="1725" y="131"/>
                  </a:lnTo>
                  <a:lnTo>
                    <a:pt x="1723" y="137"/>
                  </a:lnTo>
                  <a:lnTo>
                    <a:pt x="1719" y="144"/>
                  </a:lnTo>
                  <a:lnTo>
                    <a:pt x="1662" y="241"/>
                  </a:lnTo>
                  <a:lnTo>
                    <a:pt x="1614" y="343"/>
                  </a:lnTo>
                  <a:lnTo>
                    <a:pt x="1571" y="446"/>
                  </a:lnTo>
                  <a:lnTo>
                    <a:pt x="1533" y="554"/>
                  </a:lnTo>
                  <a:lnTo>
                    <a:pt x="1496" y="661"/>
                  </a:lnTo>
                  <a:lnTo>
                    <a:pt x="1462" y="769"/>
                  </a:lnTo>
                  <a:lnTo>
                    <a:pt x="1426" y="876"/>
                  </a:lnTo>
                  <a:lnTo>
                    <a:pt x="1391" y="985"/>
                  </a:lnTo>
                  <a:lnTo>
                    <a:pt x="1385" y="1045"/>
                  </a:lnTo>
                  <a:lnTo>
                    <a:pt x="1374" y="1102"/>
                  </a:lnTo>
                  <a:lnTo>
                    <a:pt x="1356" y="1158"/>
                  </a:lnTo>
                  <a:lnTo>
                    <a:pt x="1337" y="1213"/>
                  </a:lnTo>
                  <a:lnTo>
                    <a:pt x="1317" y="1268"/>
                  </a:lnTo>
                  <a:lnTo>
                    <a:pt x="1302" y="1324"/>
                  </a:lnTo>
                  <a:lnTo>
                    <a:pt x="1291" y="1383"/>
                  </a:lnTo>
                  <a:lnTo>
                    <a:pt x="1288" y="1447"/>
                  </a:lnTo>
                  <a:lnTo>
                    <a:pt x="1259" y="1464"/>
                  </a:lnTo>
                  <a:lnTo>
                    <a:pt x="1231" y="1478"/>
                  </a:lnTo>
                  <a:lnTo>
                    <a:pt x="1199" y="1490"/>
                  </a:lnTo>
                  <a:lnTo>
                    <a:pt x="1169" y="1500"/>
                  </a:lnTo>
                  <a:lnTo>
                    <a:pt x="1137" y="1508"/>
                  </a:lnTo>
                  <a:lnTo>
                    <a:pt x="1106" y="1516"/>
                  </a:lnTo>
                  <a:lnTo>
                    <a:pt x="1074" y="1524"/>
                  </a:lnTo>
                  <a:lnTo>
                    <a:pt x="1044" y="1535"/>
                  </a:lnTo>
                  <a:lnTo>
                    <a:pt x="1029" y="1537"/>
                  </a:lnTo>
                  <a:lnTo>
                    <a:pt x="1016" y="1538"/>
                  </a:lnTo>
                  <a:lnTo>
                    <a:pt x="1003" y="1537"/>
                  </a:lnTo>
                  <a:lnTo>
                    <a:pt x="990" y="1537"/>
                  </a:lnTo>
                  <a:lnTo>
                    <a:pt x="977" y="1534"/>
                  </a:lnTo>
                  <a:lnTo>
                    <a:pt x="966" y="1531"/>
                  </a:lnTo>
                  <a:lnTo>
                    <a:pt x="953" y="1527"/>
                  </a:lnTo>
                  <a:lnTo>
                    <a:pt x="941" y="1522"/>
                  </a:lnTo>
                  <a:lnTo>
                    <a:pt x="945" y="1517"/>
                  </a:lnTo>
                  <a:lnTo>
                    <a:pt x="950" y="1514"/>
                  </a:lnTo>
                  <a:lnTo>
                    <a:pt x="955" y="1513"/>
                  </a:lnTo>
                  <a:lnTo>
                    <a:pt x="961" y="1516"/>
                  </a:lnTo>
                  <a:lnTo>
                    <a:pt x="966" y="1517"/>
                  </a:lnTo>
                  <a:lnTo>
                    <a:pt x="973" y="1519"/>
                  </a:lnTo>
                  <a:lnTo>
                    <a:pt x="978" y="1521"/>
                  </a:lnTo>
                  <a:lnTo>
                    <a:pt x="985" y="1522"/>
                  </a:lnTo>
                  <a:lnTo>
                    <a:pt x="1015" y="1521"/>
                  </a:lnTo>
                  <a:lnTo>
                    <a:pt x="1045" y="1518"/>
                  </a:lnTo>
                  <a:lnTo>
                    <a:pt x="1073" y="1510"/>
                  </a:lnTo>
                  <a:lnTo>
                    <a:pt x="1102" y="1501"/>
                  </a:lnTo>
                  <a:lnTo>
                    <a:pt x="1129" y="1488"/>
                  </a:lnTo>
                  <a:lnTo>
                    <a:pt x="1157" y="1477"/>
                  </a:lnTo>
                  <a:lnTo>
                    <a:pt x="1185" y="1465"/>
                  </a:lnTo>
                  <a:lnTo>
                    <a:pt x="1213" y="1454"/>
                  </a:lnTo>
                  <a:lnTo>
                    <a:pt x="1215" y="1436"/>
                  </a:lnTo>
                  <a:lnTo>
                    <a:pt x="1217" y="1419"/>
                  </a:lnTo>
                  <a:lnTo>
                    <a:pt x="1216" y="1401"/>
                  </a:lnTo>
                  <a:lnTo>
                    <a:pt x="1216" y="1383"/>
                  </a:lnTo>
                  <a:lnTo>
                    <a:pt x="1214" y="1364"/>
                  </a:lnTo>
                  <a:lnTo>
                    <a:pt x="1212" y="1346"/>
                  </a:lnTo>
                  <a:lnTo>
                    <a:pt x="1209" y="1327"/>
                  </a:lnTo>
                  <a:lnTo>
                    <a:pt x="1209" y="1310"/>
                  </a:lnTo>
                  <a:lnTo>
                    <a:pt x="1253" y="1009"/>
                  </a:lnTo>
                  <a:lnTo>
                    <a:pt x="1252" y="954"/>
                  </a:lnTo>
                  <a:lnTo>
                    <a:pt x="1254" y="902"/>
                  </a:lnTo>
                  <a:lnTo>
                    <a:pt x="1256" y="848"/>
                  </a:lnTo>
                  <a:lnTo>
                    <a:pt x="1261" y="796"/>
                  </a:lnTo>
                  <a:lnTo>
                    <a:pt x="1265" y="743"/>
                  </a:lnTo>
                  <a:lnTo>
                    <a:pt x="1271" y="691"/>
                  </a:lnTo>
                  <a:lnTo>
                    <a:pt x="1277" y="637"/>
                  </a:lnTo>
                  <a:lnTo>
                    <a:pt x="1284" y="586"/>
                  </a:lnTo>
                  <a:lnTo>
                    <a:pt x="1278" y="556"/>
                  </a:lnTo>
                  <a:lnTo>
                    <a:pt x="1281" y="525"/>
                  </a:lnTo>
                  <a:lnTo>
                    <a:pt x="1285" y="496"/>
                  </a:lnTo>
                  <a:lnTo>
                    <a:pt x="1294" y="468"/>
                  </a:lnTo>
                  <a:lnTo>
                    <a:pt x="1301" y="438"/>
                  </a:lnTo>
                  <a:lnTo>
                    <a:pt x="1306" y="410"/>
                  </a:lnTo>
                  <a:lnTo>
                    <a:pt x="1305" y="380"/>
                  </a:lnTo>
                  <a:lnTo>
                    <a:pt x="1297" y="353"/>
                  </a:lnTo>
                  <a:lnTo>
                    <a:pt x="1294" y="326"/>
                  </a:lnTo>
                  <a:lnTo>
                    <a:pt x="1293" y="300"/>
                  </a:lnTo>
                  <a:lnTo>
                    <a:pt x="1291" y="273"/>
                  </a:lnTo>
                  <a:lnTo>
                    <a:pt x="1287" y="247"/>
                  </a:lnTo>
                  <a:lnTo>
                    <a:pt x="1281" y="220"/>
                  </a:lnTo>
                  <a:lnTo>
                    <a:pt x="1271" y="196"/>
                  </a:lnTo>
                  <a:lnTo>
                    <a:pt x="1256" y="173"/>
                  </a:lnTo>
                  <a:lnTo>
                    <a:pt x="1237" y="155"/>
                  </a:lnTo>
                  <a:lnTo>
                    <a:pt x="1217" y="146"/>
                  </a:lnTo>
                  <a:lnTo>
                    <a:pt x="1198" y="143"/>
                  </a:lnTo>
                  <a:lnTo>
                    <a:pt x="1179" y="144"/>
                  </a:lnTo>
                  <a:lnTo>
                    <a:pt x="1162" y="150"/>
                  </a:lnTo>
                  <a:lnTo>
                    <a:pt x="1143" y="155"/>
                  </a:lnTo>
                  <a:lnTo>
                    <a:pt x="1126" y="165"/>
                  </a:lnTo>
                  <a:lnTo>
                    <a:pt x="1109" y="177"/>
                  </a:lnTo>
                  <a:lnTo>
                    <a:pt x="1095" y="189"/>
                  </a:lnTo>
                  <a:lnTo>
                    <a:pt x="1095" y="193"/>
                  </a:lnTo>
                  <a:lnTo>
                    <a:pt x="1099" y="196"/>
                  </a:lnTo>
                  <a:lnTo>
                    <a:pt x="1080" y="202"/>
                  </a:lnTo>
                  <a:lnTo>
                    <a:pt x="1068" y="213"/>
                  </a:lnTo>
                  <a:lnTo>
                    <a:pt x="1062" y="227"/>
                  </a:lnTo>
                  <a:lnTo>
                    <a:pt x="1059" y="245"/>
                  </a:lnTo>
                  <a:lnTo>
                    <a:pt x="1058" y="262"/>
                  </a:lnTo>
                  <a:lnTo>
                    <a:pt x="1058" y="281"/>
                  </a:lnTo>
                  <a:lnTo>
                    <a:pt x="1057" y="299"/>
                  </a:lnTo>
                  <a:lnTo>
                    <a:pt x="1055" y="316"/>
                  </a:lnTo>
                  <a:lnTo>
                    <a:pt x="1027" y="357"/>
                  </a:lnTo>
                  <a:lnTo>
                    <a:pt x="1008" y="402"/>
                  </a:lnTo>
                  <a:lnTo>
                    <a:pt x="996" y="448"/>
                  </a:lnTo>
                  <a:lnTo>
                    <a:pt x="988" y="498"/>
                  </a:lnTo>
                  <a:lnTo>
                    <a:pt x="981" y="548"/>
                  </a:lnTo>
                  <a:lnTo>
                    <a:pt x="977" y="599"/>
                  </a:lnTo>
                  <a:lnTo>
                    <a:pt x="971" y="649"/>
                  </a:lnTo>
                  <a:lnTo>
                    <a:pt x="965" y="698"/>
                  </a:lnTo>
                  <a:lnTo>
                    <a:pt x="928" y="794"/>
                  </a:lnTo>
                  <a:lnTo>
                    <a:pt x="899" y="892"/>
                  </a:lnTo>
                  <a:lnTo>
                    <a:pt x="872" y="993"/>
                  </a:lnTo>
                  <a:lnTo>
                    <a:pt x="850" y="1095"/>
                  </a:lnTo>
                  <a:lnTo>
                    <a:pt x="828" y="1196"/>
                  </a:lnTo>
                  <a:lnTo>
                    <a:pt x="807" y="1298"/>
                  </a:lnTo>
                  <a:lnTo>
                    <a:pt x="786" y="1400"/>
                  </a:lnTo>
                  <a:lnTo>
                    <a:pt x="763" y="1502"/>
                  </a:lnTo>
                  <a:lnTo>
                    <a:pt x="745" y="1533"/>
                  </a:lnTo>
                  <a:lnTo>
                    <a:pt x="721" y="1553"/>
                  </a:lnTo>
                  <a:lnTo>
                    <a:pt x="695" y="1564"/>
                  </a:lnTo>
                  <a:lnTo>
                    <a:pt x="666" y="1572"/>
                  </a:lnTo>
                  <a:lnTo>
                    <a:pt x="633" y="1577"/>
                  </a:lnTo>
                  <a:lnTo>
                    <a:pt x="603" y="1583"/>
                  </a:lnTo>
                  <a:lnTo>
                    <a:pt x="574" y="1593"/>
                  </a:lnTo>
                  <a:lnTo>
                    <a:pt x="550" y="1608"/>
                  </a:lnTo>
                  <a:lnTo>
                    <a:pt x="380" y="1715"/>
                  </a:lnTo>
                  <a:lnTo>
                    <a:pt x="393" y="1698"/>
                  </a:lnTo>
                  <a:lnTo>
                    <a:pt x="411" y="1682"/>
                  </a:lnTo>
                  <a:lnTo>
                    <a:pt x="430" y="1666"/>
                  </a:lnTo>
                  <a:lnTo>
                    <a:pt x="452" y="1651"/>
                  </a:lnTo>
                  <a:lnTo>
                    <a:pt x="474" y="1634"/>
                  </a:lnTo>
                  <a:lnTo>
                    <a:pt x="497" y="1619"/>
                  </a:lnTo>
                  <a:lnTo>
                    <a:pt x="519" y="1603"/>
                  </a:lnTo>
                  <a:lnTo>
                    <a:pt x="541" y="1588"/>
                  </a:lnTo>
                  <a:lnTo>
                    <a:pt x="553" y="1579"/>
                  </a:lnTo>
                  <a:lnTo>
                    <a:pt x="567" y="1573"/>
                  </a:lnTo>
                  <a:lnTo>
                    <a:pt x="581" y="1569"/>
                  </a:lnTo>
                  <a:lnTo>
                    <a:pt x="596" y="1565"/>
                  </a:lnTo>
                  <a:lnTo>
                    <a:pt x="609" y="1560"/>
                  </a:lnTo>
                  <a:lnTo>
                    <a:pt x="623" y="1554"/>
                  </a:lnTo>
                  <a:lnTo>
                    <a:pt x="636" y="1546"/>
                  </a:lnTo>
                  <a:lnTo>
                    <a:pt x="648" y="1535"/>
                  </a:lnTo>
                  <a:lnTo>
                    <a:pt x="631" y="1501"/>
                  </a:lnTo>
                  <a:lnTo>
                    <a:pt x="616" y="1468"/>
                  </a:lnTo>
                  <a:lnTo>
                    <a:pt x="602" y="1433"/>
                  </a:lnTo>
                  <a:lnTo>
                    <a:pt x="591" y="1399"/>
                  </a:lnTo>
                  <a:lnTo>
                    <a:pt x="580" y="1363"/>
                  </a:lnTo>
                  <a:lnTo>
                    <a:pt x="573" y="1327"/>
                  </a:lnTo>
                  <a:lnTo>
                    <a:pt x="568" y="1289"/>
                  </a:lnTo>
                  <a:lnTo>
                    <a:pt x="566" y="1253"/>
                  </a:lnTo>
                  <a:lnTo>
                    <a:pt x="553" y="1241"/>
                  </a:lnTo>
                  <a:lnTo>
                    <a:pt x="527" y="1241"/>
                  </a:lnTo>
                  <a:lnTo>
                    <a:pt x="501" y="1245"/>
                  </a:lnTo>
                  <a:lnTo>
                    <a:pt x="477" y="1250"/>
                  </a:lnTo>
                  <a:lnTo>
                    <a:pt x="453" y="1256"/>
                  </a:lnTo>
                  <a:lnTo>
                    <a:pt x="429" y="1262"/>
                  </a:lnTo>
                  <a:lnTo>
                    <a:pt x="404" y="1269"/>
                  </a:lnTo>
                  <a:lnTo>
                    <a:pt x="380" y="1273"/>
                  </a:lnTo>
                  <a:lnTo>
                    <a:pt x="355" y="1278"/>
                  </a:lnTo>
                  <a:lnTo>
                    <a:pt x="353" y="1271"/>
                  </a:lnTo>
                  <a:lnTo>
                    <a:pt x="354" y="1268"/>
                  </a:lnTo>
                  <a:lnTo>
                    <a:pt x="356" y="1264"/>
                  </a:lnTo>
                  <a:lnTo>
                    <a:pt x="363" y="1263"/>
                  </a:lnTo>
                  <a:lnTo>
                    <a:pt x="370" y="1261"/>
                  </a:lnTo>
                  <a:lnTo>
                    <a:pt x="377" y="1260"/>
                  </a:lnTo>
                  <a:lnTo>
                    <a:pt x="382" y="1259"/>
                  </a:lnTo>
                  <a:lnTo>
                    <a:pt x="389" y="1258"/>
                  </a:lnTo>
                  <a:lnTo>
                    <a:pt x="408" y="1254"/>
                  </a:lnTo>
                  <a:lnTo>
                    <a:pt x="428" y="1252"/>
                  </a:lnTo>
                  <a:lnTo>
                    <a:pt x="448" y="1246"/>
                  </a:lnTo>
                  <a:lnTo>
                    <a:pt x="468" y="1242"/>
                  </a:lnTo>
                  <a:lnTo>
                    <a:pt x="488" y="1236"/>
                  </a:lnTo>
                  <a:lnTo>
                    <a:pt x="509" y="1232"/>
                  </a:lnTo>
                  <a:lnTo>
                    <a:pt x="530" y="1228"/>
                  </a:lnTo>
                  <a:lnTo>
                    <a:pt x="553" y="1229"/>
                  </a:lnTo>
                  <a:lnTo>
                    <a:pt x="561" y="1218"/>
                  </a:lnTo>
                  <a:lnTo>
                    <a:pt x="554" y="1143"/>
                  </a:lnTo>
                  <a:lnTo>
                    <a:pt x="551" y="1067"/>
                  </a:lnTo>
                  <a:lnTo>
                    <a:pt x="548" y="989"/>
                  </a:lnTo>
                  <a:lnTo>
                    <a:pt x="544" y="911"/>
                  </a:lnTo>
                  <a:lnTo>
                    <a:pt x="539" y="833"/>
                  </a:lnTo>
                  <a:lnTo>
                    <a:pt x="532" y="756"/>
                  </a:lnTo>
                  <a:lnTo>
                    <a:pt x="521" y="681"/>
                  </a:lnTo>
                  <a:lnTo>
                    <a:pt x="507" y="611"/>
                  </a:lnTo>
                  <a:lnTo>
                    <a:pt x="498" y="593"/>
                  </a:lnTo>
                  <a:lnTo>
                    <a:pt x="489" y="575"/>
                  </a:lnTo>
                  <a:lnTo>
                    <a:pt x="478" y="558"/>
                  </a:lnTo>
                  <a:lnTo>
                    <a:pt x="465" y="543"/>
                  </a:lnTo>
                  <a:lnTo>
                    <a:pt x="451" y="529"/>
                  </a:lnTo>
                  <a:lnTo>
                    <a:pt x="435" y="519"/>
                  </a:lnTo>
                  <a:lnTo>
                    <a:pt x="419" y="512"/>
                  </a:lnTo>
                  <a:lnTo>
                    <a:pt x="400" y="511"/>
                  </a:lnTo>
                  <a:lnTo>
                    <a:pt x="375" y="512"/>
                  </a:lnTo>
                  <a:lnTo>
                    <a:pt x="355" y="519"/>
                  </a:lnTo>
                  <a:lnTo>
                    <a:pt x="338" y="529"/>
                  </a:lnTo>
                  <a:lnTo>
                    <a:pt x="322" y="543"/>
                  </a:lnTo>
                  <a:lnTo>
                    <a:pt x="308" y="559"/>
                  </a:lnTo>
                  <a:lnTo>
                    <a:pt x="294" y="579"/>
                  </a:lnTo>
                  <a:lnTo>
                    <a:pt x="283" y="598"/>
                  </a:lnTo>
                  <a:lnTo>
                    <a:pt x="273" y="618"/>
                  </a:lnTo>
                  <a:lnTo>
                    <a:pt x="263" y="671"/>
                  </a:lnTo>
                  <a:lnTo>
                    <a:pt x="256" y="728"/>
                  </a:lnTo>
                  <a:lnTo>
                    <a:pt x="251" y="783"/>
                  </a:lnTo>
                  <a:lnTo>
                    <a:pt x="250" y="841"/>
                  </a:lnTo>
                  <a:lnTo>
                    <a:pt x="249" y="899"/>
                  </a:lnTo>
                  <a:lnTo>
                    <a:pt x="250" y="957"/>
                  </a:lnTo>
                  <a:lnTo>
                    <a:pt x="251" y="1014"/>
                  </a:lnTo>
                  <a:lnTo>
                    <a:pt x="253" y="1072"/>
                  </a:lnTo>
                  <a:lnTo>
                    <a:pt x="261" y="1110"/>
                  </a:lnTo>
                  <a:lnTo>
                    <a:pt x="265" y="1152"/>
                  </a:lnTo>
                  <a:lnTo>
                    <a:pt x="269" y="1193"/>
                  </a:lnTo>
                  <a:lnTo>
                    <a:pt x="271" y="1236"/>
                  </a:lnTo>
                  <a:lnTo>
                    <a:pt x="271" y="1278"/>
                  </a:lnTo>
                  <a:lnTo>
                    <a:pt x="273" y="1321"/>
                  </a:lnTo>
                  <a:lnTo>
                    <a:pt x="276" y="1364"/>
                  </a:lnTo>
                  <a:lnTo>
                    <a:pt x="284" y="1407"/>
                  </a:lnTo>
                  <a:lnTo>
                    <a:pt x="293" y="1485"/>
                  </a:lnTo>
                  <a:lnTo>
                    <a:pt x="294" y="1564"/>
                  </a:lnTo>
                  <a:lnTo>
                    <a:pt x="289" y="1641"/>
                  </a:lnTo>
                  <a:lnTo>
                    <a:pt x="280" y="1719"/>
                  </a:lnTo>
                  <a:lnTo>
                    <a:pt x="268" y="1795"/>
                  </a:lnTo>
                  <a:lnTo>
                    <a:pt x="255" y="1873"/>
                  </a:lnTo>
                  <a:lnTo>
                    <a:pt x="244" y="1950"/>
                  </a:lnTo>
                  <a:lnTo>
                    <a:pt x="236" y="2031"/>
                  </a:lnTo>
                  <a:lnTo>
                    <a:pt x="256" y="2031"/>
                  </a:lnTo>
                  <a:lnTo>
                    <a:pt x="278" y="2031"/>
                  </a:lnTo>
                  <a:lnTo>
                    <a:pt x="298" y="2028"/>
                  </a:lnTo>
                  <a:lnTo>
                    <a:pt x="318" y="2026"/>
                  </a:lnTo>
                  <a:lnTo>
                    <a:pt x="338" y="2021"/>
                  </a:lnTo>
                  <a:lnTo>
                    <a:pt x="359" y="2018"/>
                  </a:lnTo>
                  <a:lnTo>
                    <a:pt x="380" y="2015"/>
                  </a:lnTo>
                  <a:lnTo>
                    <a:pt x="403" y="2014"/>
                  </a:lnTo>
                  <a:lnTo>
                    <a:pt x="494" y="2016"/>
                  </a:lnTo>
                  <a:lnTo>
                    <a:pt x="590" y="2023"/>
                  </a:lnTo>
                  <a:lnTo>
                    <a:pt x="689" y="2032"/>
                  </a:lnTo>
                  <a:lnTo>
                    <a:pt x="791" y="2042"/>
                  </a:lnTo>
                  <a:lnTo>
                    <a:pt x="892" y="2050"/>
                  </a:lnTo>
                  <a:lnTo>
                    <a:pt x="995" y="2058"/>
                  </a:lnTo>
                  <a:lnTo>
                    <a:pt x="1095" y="2061"/>
                  </a:lnTo>
                  <a:lnTo>
                    <a:pt x="1193" y="2062"/>
                  </a:lnTo>
                  <a:lnTo>
                    <a:pt x="1201" y="2055"/>
                  </a:lnTo>
                  <a:lnTo>
                    <a:pt x="1209" y="2052"/>
                  </a:lnTo>
                  <a:lnTo>
                    <a:pt x="1217" y="2050"/>
                  </a:lnTo>
                  <a:lnTo>
                    <a:pt x="1226" y="2050"/>
                  </a:lnTo>
                  <a:lnTo>
                    <a:pt x="1235" y="2049"/>
                  </a:lnTo>
                  <a:lnTo>
                    <a:pt x="1244" y="2049"/>
                  </a:lnTo>
                  <a:lnTo>
                    <a:pt x="1254" y="2046"/>
                  </a:lnTo>
                  <a:lnTo>
                    <a:pt x="1264" y="2045"/>
                  </a:lnTo>
                  <a:lnTo>
                    <a:pt x="1288" y="2033"/>
                  </a:lnTo>
                  <a:lnTo>
                    <a:pt x="1316" y="2027"/>
                  </a:lnTo>
                  <a:lnTo>
                    <a:pt x="1344" y="2024"/>
                  </a:lnTo>
                  <a:lnTo>
                    <a:pt x="1373" y="2024"/>
                  </a:lnTo>
                  <a:lnTo>
                    <a:pt x="1402" y="2021"/>
                  </a:lnTo>
                  <a:lnTo>
                    <a:pt x="1431" y="2019"/>
                  </a:lnTo>
                  <a:lnTo>
                    <a:pt x="1459" y="2012"/>
                  </a:lnTo>
                  <a:lnTo>
                    <a:pt x="1486" y="2002"/>
                  </a:lnTo>
                  <a:lnTo>
                    <a:pt x="1523" y="2002"/>
                  </a:lnTo>
                  <a:lnTo>
                    <a:pt x="1562" y="2002"/>
                  </a:lnTo>
                  <a:lnTo>
                    <a:pt x="1602" y="2000"/>
                  </a:lnTo>
                  <a:lnTo>
                    <a:pt x="1642" y="1999"/>
                  </a:lnTo>
                  <a:lnTo>
                    <a:pt x="1681" y="1997"/>
                  </a:lnTo>
                  <a:lnTo>
                    <a:pt x="1721" y="1998"/>
                  </a:lnTo>
                  <a:lnTo>
                    <a:pt x="1759" y="2002"/>
                  </a:lnTo>
                  <a:lnTo>
                    <a:pt x="1798" y="2010"/>
                  </a:lnTo>
                  <a:lnTo>
                    <a:pt x="1742" y="2014"/>
                  </a:lnTo>
                  <a:lnTo>
                    <a:pt x="1690" y="2014"/>
                  </a:lnTo>
                  <a:lnTo>
                    <a:pt x="1636" y="2012"/>
                  </a:lnTo>
                  <a:lnTo>
                    <a:pt x="1586" y="2012"/>
                  </a:lnTo>
                  <a:lnTo>
                    <a:pt x="1535" y="2014"/>
                  </a:lnTo>
                  <a:lnTo>
                    <a:pt x="1486" y="2019"/>
                  </a:lnTo>
                  <a:lnTo>
                    <a:pt x="1437" y="2032"/>
                  </a:lnTo>
                  <a:lnTo>
                    <a:pt x="1391" y="2053"/>
                  </a:lnTo>
                  <a:lnTo>
                    <a:pt x="1361" y="2054"/>
                  </a:lnTo>
                  <a:lnTo>
                    <a:pt x="1331" y="2058"/>
                  </a:lnTo>
                  <a:lnTo>
                    <a:pt x="1301" y="2061"/>
                  </a:lnTo>
                  <a:lnTo>
                    <a:pt x="1272" y="2068"/>
                  </a:lnTo>
                  <a:lnTo>
                    <a:pt x="1242" y="2075"/>
                  </a:lnTo>
                  <a:lnTo>
                    <a:pt x="1212" y="2081"/>
                  </a:lnTo>
                  <a:lnTo>
                    <a:pt x="1183" y="2089"/>
                  </a:lnTo>
                  <a:lnTo>
                    <a:pt x="1154" y="2097"/>
                  </a:lnTo>
                  <a:lnTo>
                    <a:pt x="1143" y="2092"/>
                  </a:lnTo>
                  <a:lnTo>
                    <a:pt x="1135" y="2093"/>
                  </a:lnTo>
                  <a:lnTo>
                    <a:pt x="1129" y="2093"/>
                  </a:lnTo>
                  <a:lnTo>
                    <a:pt x="1125" y="2094"/>
                  </a:lnTo>
                  <a:lnTo>
                    <a:pt x="1119" y="2094"/>
                  </a:lnTo>
                  <a:lnTo>
                    <a:pt x="1114" y="2094"/>
                  </a:lnTo>
                  <a:lnTo>
                    <a:pt x="1104" y="2094"/>
                  </a:lnTo>
                  <a:lnTo>
                    <a:pt x="1094" y="2095"/>
                  </a:lnTo>
                  <a:lnTo>
                    <a:pt x="1083" y="2093"/>
                  </a:lnTo>
                  <a:lnTo>
                    <a:pt x="1072" y="2092"/>
                  </a:lnTo>
                  <a:lnTo>
                    <a:pt x="1059" y="2089"/>
                  </a:lnTo>
                  <a:lnTo>
                    <a:pt x="1048" y="2088"/>
                  </a:lnTo>
                  <a:lnTo>
                    <a:pt x="1037" y="2088"/>
                  </a:lnTo>
                  <a:lnTo>
                    <a:pt x="1027" y="2091"/>
                  </a:lnTo>
                  <a:lnTo>
                    <a:pt x="1004" y="2084"/>
                  </a:lnTo>
                  <a:lnTo>
                    <a:pt x="981" y="2081"/>
                  </a:lnTo>
                  <a:lnTo>
                    <a:pt x="957" y="2080"/>
                  </a:lnTo>
                  <a:lnTo>
                    <a:pt x="933" y="2080"/>
                  </a:lnTo>
                  <a:lnTo>
                    <a:pt x="908" y="2080"/>
                  </a:lnTo>
                  <a:lnTo>
                    <a:pt x="884" y="2080"/>
                  </a:lnTo>
                  <a:lnTo>
                    <a:pt x="860" y="2078"/>
                  </a:lnTo>
                  <a:lnTo>
                    <a:pt x="838" y="2077"/>
                  </a:lnTo>
                  <a:lnTo>
                    <a:pt x="775" y="2076"/>
                  </a:lnTo>
                  <a:lnTo>
                    <a:pt x="710" y="2070"/>
                  </a:lnTo>
                  <a:lnTo>
                    <a:pt x="643" y="2060"/>
                  </a:lnTo>
                  <a:lnTo>
                    <a:pt x="578" y="2051"/>
                  </a:lnTo>
                  <a:lnTo>
                    <a:pt x="510" y="2042"/>
                  </a:lnTo>
                  <a:lnTo>
                    <a:pt x="443" y="2038"/>
                  </a:lnTo>
                  <a:lnTo>
                    <a:pt x="375" y="2041"/>
                  </a:lnTo>
                  <a:lnTo>
                    <a:pt x="309" y="2053"/>
                  </a:lnTo>
                  <a:lnTo>
                    <a:pt x="299" y="2050"/>
                  </a:lnTo>
                  <a:lnTo>
                    <a:pt x="289" y="2051"/>
                  </a:lnTo>
                  <a:lnTo>
                    <a:pt x="279" y="2053"/>
                  </a:lnTo>
                  <a:lnTo>
                    <a:pt x="269" y="2055"/>
                  </a:lnTo>
                  <a:lnTo>
                    <a:pt x="259" y="2057"/>
                  </a:lnTo>
                  <a:lnTo>
                    <a:pt x="251" y="2055"/>
                  </a:lnTo>
                  <a:lnTo>
                    <a:pt x="242" y="2051"/>
                  </a:lnTo>
                  <a:lnTo>
                    <a:pt x="236" y="2042"/>
                  </a:lnTo>
                  <a:lnTo>
                    <a:pt x="225" y="2053"/>
                  </a:lnTo>
                  <a:lnTo>
                    <a:pt x="219" y="2077"/>
                  </a:lnTo>
                  <a:lnTo>
                    <a:pt x="215" y="2104"/>
                  </a:lnTo>
                  <a:lnTo>
                    <a:pt x="212" y="2130"/>
                  </a:lnTo>
                  <a:lnTo>
                    <a:pt x="210" y="2157"/>
                  </a:lnTo>
                  <a:lnTo>
                    <a:pt x="206" y="2183"/>
                  </a:lnTo>
                  <a:lnTo>
                    <a:pt x="203" y="2209"/>
                  </a:lnTo>
                  <a:lnTo>
                    <a:pt x="199" y="2233"/>
                  </a:lnTo>
                  <a:lnTo>
                    <a:pt x="194" y="2258"/>
                  </a:lnTo>
                  <a:lnTo>
                    <a:pt x="191" y="2285"/>
                  </a:lnTo>
                  <a:lnTo>
                    <a:pt x="187" y="2313"/>
                  </a:lnTo>
                  <a:lnTo>
                    <a:pt x="184" y="2343"/>
                  </a:lnTo>
                  <a:lnTo>
                    <a:pt x="181" y="2372"/>
                  </a:lnTo>
                  <a:lnTo>
                    <a:pt x="174" y="2401"/>
                  </a:lnTo>
                  <a:lnTo>
                    <a:pt x="169" y="2429"/>
                  </a:lnTo>
                  <a:lnTo>
                    <a:pt x="162" y="2456"/>
                  </a:lnTo>
                  <a:lnTo>
                    <a:pt x="154" y="2484"/>
                  </a:lnTo>
                  <a:lnTo>
                    <a:pt x="134" y="2595"/>
                  </a:lnTo>
                  <a:lnTo>
                    <a:pt x="113" y="2711"/>
                  </a:lnTo>
                  <a:lnTo>
                    <a:pt x="91" y="2826"/>
                  </a:lnTo>
                  <a:lnTo>
                    <a:pt x="74" y="2944"/>
                  </a:lnTo>
                  <a:lnTo>
                    <a:pt x="63" y="3060"/>
                  </a:lnTo>
                  <a:lnTo>
                    <a:pt x="65" y="3177"/>
                  </a:lnTo>
                  <a:lnTo>
                    <a:pt x="82" y="3291"/>
                  </a:lnTo>
                  <a:lnTo>
                    <a:pt x="119" y="3404"/>
                  </a:lnTo>
                  <a:lnTo>
                    <a:pt x="124" y="3430"/>
                  </a:lnTo>
                  <a:lnTo>
                    <a:pt x="135" y="3455"/>
                  </a:lnTo>
                  <a:lnTo>
                    <a:pt x="149" y="3478"/>
                  </a:lnTo>
                  <a:lnTo>
                    <a:pt x="166" y="3502"/>
                  </a:lnTo>
                  <a:lnTo>
                    <a:pt x="183" y="3523"/>
                  </a:lnTo>
                  <a:lnTo>
                    <a:pt x="202" y="3545"/>
                  </a:lnTo>
                  <a:lnTo>
                    <a:pt x="220" y="3566"/>
                  </a:lnTo>
                  <a:lnTo>
                    <a:pt x="236" y="3590"/>
                  </a:lnTo>
                  <a:lnTo>
                    <a:pt x="258" y="3600"/>
                  </a:lnTo>
                  <a:lnTo>
                    <a:pt x="281" y="3610"/>
                  </a:lnTo>
                  <a:lnTo>
                    <a:pt x="303" y="3619"/>
                  </a:lnTo>
                  <a:lnTo>
                    <a:pt x="326" y="3630"/>
                  </a:lnTo>
                  <a:lnTo>
                    <a:pt x="350" y="3636"/>
                  </a:lnTo>
                  <a:lnTo>
                    <a:pt x="373" y="3643"/>
                  </a:lnTo>
                  <a:lnTo>
                    <a:pt x="397" y="3649"/>
                  </a:lnTo>
                  <a:lnTo>
                    <a:pt x="423" y="3653"/>
                  </a:lnTo>
                  <a:lnTo>
                    <a:pt x="448" y="3656"/>
                  </a:lnTo>
                  <a:lnTo>
                    <a:pt x="472" y="3657"/>
                  </a:lnTo>
                  <a:lnTo>
                    <a:pt x="497" y="3656"/>
                  </a:lnTo>
                  <a:lnTo>
                    <a:pt x="521" y="3653"/>
                  </a:lnTo>
                  <a:lnTo>
                    <a:pt x="543" y="3647"/>
                  </a:lnTo>
                  <a:lnTo>
                    <a:pt x="567" y="3640"/>
                  </a:lnTo>
                  <a:lnTo>
                    <a:pt x="588" y="3630"/>
                  </a:lnTo>
                  <a:lnTo>
                    <a:pt x="609" y="3618"/>
                  </a:lnTo>
                  <a:lnTo>
                    <a:pt x="601" y="3627"/>
                  </a:lnTo>
                  <a:lnTo>
                    <a:pt x="591" y="3636"/>
                  </a:lnTo>
                  <a:lnTo>
                    <a:pt x="580" y="3643"/>
                  </a:lnTo>
                  <a:lnTo>
                    <a:pt x="568" y="3650"/>
                  </a:lnTo>
                  <a:lnTo>
                    <a:pt x="553" y="3655"/>
                  </a:lnTo>
                  <a:lnTo>
                    <a:pt x="540" y="3661"/>
                  </a:lnTo>
                  <a:lnTo>
                    <a:pt x="526" y="3667"/>
                  </a:lnTo>
                  <a:lnTo>
                    <a:pt x="513" y="3674"/>
                  </a:lnTo>
                  <a:lnTo>
                    <a:pt x="464" y="3676"/>
                  </a:lnTo>
                  <a:lnTo>
                    <a:pt x="417" y="3675"/>
                  </a:lnTo>
                  <a:lnTo>
                    <a:pt x="370" y="3670"/>
                  </a:lnTo>
                  <a:lnTo>
                    <a:pt x="324" y="3662"/>
                  </a:lnTo>
                  <a:lnTo>
                    <a:pt x="280" y="3648"/>
                  </a:lnTo>
                  <a:lnTo>
                    <a:pt x="239" y="3627"/>
                  </a:lnTo>
                  <a:lnTo>
                    <a:pt x="200" y="3599"/>
                  </a:lnTo>
                  <a:lnTo>
                    <a:pt x="166" y="3565"/>
                  </a:lnTo>
                  <a:lnTo>
                    <a:pt x="154" y="3565"/>
                  </a:lnTo>
                  <a:lnTo>
                    <a:pt x="143" y="3567"/>
                  </a:lnTo>
                  <a:lnTo>
                    <a:pt x="131" y="3570"/>
                  </a:lnTo>
                  <a:lnTo>
                    <a:pt x="121" y="3573"/>
                  </a:lnTo>
                  <a:lnTo>
                    <a:pt x="109" y="3575"/>
                  </a:lnTo>
                  <a:lnTo>
                    <a:pt x="99" y="3580"/>
                  </a:lnTo>
                  <a:lnTo>
                    <a:pt x="88" y="3583"/>
                  </a:lnTo>
                  <a:lnTo>
                    <a:pt x="78" y="3590"/>
                  </a:lnTo>
                  <a:lnTo>
                    <a:pt x="71" y="3599"/>
                  </a:lnTo>
                  <a:lnTo>
                    <a:pt x="67" y="3613"/>
                  </a:lnTo>
                  <a:lnTo>
                    <a:pt x="65" y="3626"/>
                  </a:lnTo>
                  <a:lnTo>
                    <a:pt x="65" y="3642"/>
                  </a:lnTo>
                  <a:lnTo>
                    <a:pt x="63" y="3655"/>
                  </a:lnTo>
                  <a:lnTo>
                    <a:pt x="60" y="3667"/>
                  </a:lnTo>
                  <a:lnTo>
                    <a:pt x="52" y="3676"/>
                  </a:lnTo>
                  <a:lnTo>
                    <a:pt x="40" y="3682"/>
                  </a:lnTo>
                  <a:lnTo>
                    <a:pt x="32" y="3670"/>
                  </a:lnTo>
                  <a:lnTo>
                    <a:pt x="28" y="3659"/>
                  </a:lnTo>
                  <a:lnTo>
                    <a:pt x="27" y="3648"/>
                  </a:lnTo>
                  <a:lnTo>
                    <a:pt x="31" y="3636"/>
                  </a:lnTo>
                  <a:lnTo>
                    <a:pt x="33" y="3624"/>
                  </a:lnTo>
                  <a:lnTo>
                    <a:pt x="37" y="3613"/>
                  </a:lnTo>
                  <a:lnTo>
                    <a:pt x="41" y="3600"/>
                  </a:lnTo>
                  <a:lnTo>
                    <a:pt x="44" y="3590"/>
                  </a:lnTo>
                  <a:lnTo>
                    <a:pt x="63" y="3547"/>
                  </a:lnTo>
                  <a:lnTo>
                    <a:pt x="72" y="3504"/>
                  </a:lnTo>
                  <a:lnTo>
                    <a:pt x="71" y="3460"/>
                  </a:lnTo>
                  <a:lnTo>
                    <a:pt x="63" y="3416"/>
                  </a:lnTo>
                  <a:lnTo>
                    <a:pt x="48" y="3372"/>
                  </a:lnTo>
                  <a:lnTo>
                    <a:pt x="33" y="3329"/>
                  </a:lnTo>
                  <a:lnTo>
                    <a:pt x="15" y="3287"/>
                  </a:lnTo>
                  <a:lnTo>
                    <a:pt x="0" y="3248"/>
                  </a:lnTo>
                  <a:lnTo>
                    <a:pt x="10" y="3219"/>
                  </a:lnTo>
                  <a:lnTo>
                    <a:pt x="13" y="3191"/>
                  </a:lnTo>
                  <a:lnTo>
                    <a:pt x="11" y="3161"/>
                  </a:lnTo>
                  <a:lnTo>
                    <a:pt x="6" y="3134"/>
                  </a:lnTo>
                  <a:lnTo>
                    <a:pt x="2" y="3106"/>
                  </a:lnTo>
                  <a:lnTo>
                    <a:pt x="2" y="3079"/>
                  </a:lnTo>
                  <a:lnTo>
                    <a:pt x="7" y="3051"/>
                  </a:lnTo>
                  <a:lnTo>
                    <a:pt x="24" y="3028"/>
                  </a:lnTo>
                  <a:lnTo>
                    <a:pt x="23" y="2960"/>
                  </a:lnTo>
                  <a:lnTo>
                    <a:pt x="31" y="2896"/>
                  </a:lnTo>
                  <a:lnTo>
                    <a:pt x="43" y="2834"/>
                  </a:lnTo>
                  <a:lnTo>
                    <a:pt x="58" y="2773"/>
                  </a:lnTo>
                  <a:lnTo>
                    <a:pt x="73" y="2711"/>
                  </a:lnTo>
                  <a:lnTo>
                    <a:pt x="87" y="2648"/>
                  </a:lnTo>
                  <a:lnTo>
                    <a:pt x="97" y="2584"/>
                  </a:lnTo>
                  <a:lnTo>
                    <a:pt x="103" y="2519"/>
                  </a:lnTo>
                  <a:lnTo>
                    <a:pt x="119" y="2403"/>
                  </a:lnTo>
                  <a:lnTo>
                    <a:pt x="135" y="2287"/>
                  </a:lnTo>
                  <a:lnTo>
                    <a:pt x="151" y="2171"/>
                  </a:lnTo>
                  <a:lnTo>
                    <a:pt x="167" y="2055"/>
                  </a:lnTo>
                  <a:lnTo>
                    <a:pt x="184" y="1939"/>
                  </a:lnTo>
                  <a:lnTo>
                    <a:pt x="202" y="1825"/>
                  </a:lnTo>
                  <a:lnTo>
                    <a:pt x="221" y="1710"/>
                  </a:lnTo>
                  <a:lnTo>
                    <a:pt x="242" y="1599"/>
                  </a:lnTo>
                  <a:lnTo>
                    <a:pt x="241" y="1473"/>
                  </a:lnTo>
                  <a:lnTo>
                    <a:pt x="235" y="1347"/>
                  </a:lnTo>
                  <a:lnTo>
                    <a:pt x="225" y="1222"/>
                  </a:lnTo>
                  <a:lnTo>
                    <a:pt x="216" y="1099"/>
                  </a:lnTo>
                  <a:lnTo>
                    <a:pt x="210" y="975"/>
                  </a:lnTo>
                  <a:lnTo>
                    <a:pt x="210" y="851"/>
                  </a:lnTo>
                  <a:lnTo>
                    <a:pt x="219" y="728"/>
                  </a:lnTo>
                  <a:lnTo>
                    <a:pt x="242" y="606"/>
                  </a:lnTo>
                  <a:lnTo>
                    <a:pt x="249" y="589"/>
                  </a:lnTo>
                  <a:lnTo>
                    <a:pt x="256" y="573"/>
                  </a:lnTo>
                  <a:lnTo>
                    <a:pt x="263" y="557"/>
                  </a:lnTo>
                  <a:lnTo>
                    <a:pt x="270" y="541"/>
                  </a:lnTo>
                  <a:lnTo>
                    <a:pt x="276" y="524"/>
                  </a:lnTo>
                  <a:lnTo>
                    <a:pt x="288" y="509"/>
                  </a:lnTo>
                  <a:lnTo>
                    <a:pt x="300" y="496"/>
                  </a:lnTo>
                  <a:lnTo>
                    <a:pt x="315" y="486"/>
                  </a:lnTo>
                  <a:lnTo>
                    <a:pt x="330" y="487"/>
                  </a:lnTo>
                  <a:lnTo>
                    <a:pt x="344" y="485"/>
                  </a:lnTo>
                  <a:lnTo>
                    <a:pt x="358" y="479"/>
                  </a:lnTo>
                  <a:lnTo>
                    <a:pt x="372" y="473"/>
                  </a:lnTo>
                  <a:lnTo>
                    <a:pt x="385" y="466"/>
                  </a:lnTo>
                  <a:lnTo>
                    <a:pt x="400" y="462"/>
                  </a:lnTo>
                  <a:lnTo>
                    <a:pt x="414" y="461"/>
                  </a:lnTo>
                  <a:lnTo>
                    <a:pt x="431" y="465"/>
                  </a:lnTo>
                  <a:lnTo>
                    <a:pt x="467" y="482"/>
                  </a:lnTo>
                  <a:lnTo>
                    <a:pt x="495" y="506"/>
                  </a:lnTo>
                  <a:lnTo>
                    <a:pt x="516" y="534"/>
                  </a:lnTo>
                  <a:lnTo>
                    <a:pt x="531" y="568"/>
                  </a:lnTo>
                  <a:lnTo>
                    <a:pt x="541" y="602"/>
                  </a:lnTo>
                  <a:lnTo>
                    <a:pt x="550" y="640"/>
                  </a:lnTo>
                  <a:lnTo>
                    <a:pt x="558" y="677"/>
                  </a:lnTo>
                  <a:lnTo>
                    <a:pt x="569" y="715"/>
                  </a:lnTo>
                  <a:lnTo>
                    <a:pt x="567" y="747"/>
                  </a:lnTo>
                  <a:lnTo>
                    <a:pt x="568" y="780"/>
                  </a:lnTo>
                  <a:lnTo>
                    <a:pt x="571" y="811"/>
                  </a:lnTo>
                  <a:lnTo>
                    <a:pt x="576" y="841"/>
                  </a:lnTo>
                  <a:lnTo>
                    <a:pt x="578" y="872"/>
                  </a:lnTo>
                  <a:lnTo>
                    <a:pt x="581" y="903"/>
                  </a:lnTo>
                  <a:lnTo>
                    <a:pt x="582" y="936"/>
                  </a:lnTo>
                  <a:lnTo>
                    <a:pt x="581" y="971"/>
                  </a:lnTo>
                  <a:lnTo>
                    <a:pt x="589" y="996"/>
                  </a:lnTo>
                  <a:lnTo>
                    <a:pt x="594" y="1024"/>
                  </a:lnTo>
                  <a:lnTo>
                    <a:pt x="596" y="1052"/>
                  </a:lnTo>
                  <a:lnTo>
                    <a:pt x="597" y="1081"/>
                  </a:lnTo>
                  <a:lnTo>
                    <a:pt x="596" y="1108"/>
                  </a:lnTo>
                  <a:lnTo>
                    <a:pt x="598" y="1136"/>
                  </a:lnTo>
                  <a:lnTo>
                    <a:pt x="601" y="1165"/>
                  </a:lnTo>
                  <a:lnTo>
                    <a:pt x="609" y="1193"/>
                  </a:lnTo>
                  <a:lnTo>
                    <a:pt x="610" y="1234"/>
                  </a:lnTo>
                  <a:lnTo>
                    <a:pt x="613" y="1278"/>
                  </a:lnTo>
                  <a:lnTo>
                    <a:pt x="617" y="1320"/>
                  </a:lnTo>
                  <a:lnTo>
                    <a:pt x="624" y="1363"/>
                  </a:lnTo>
                  <a:lnTo>
                    <a:pt x="632" y="1404"/>
                  </a:lnTo>
                  <a:lnTo>
                    <a:pt x="646" y="1444"/>
                  </a:lnTo>
                  <a:lnTo>
                    <a:pt x="661" y="1482"/>
                  </a:lnTo>
                  <a:lnTo>
                    <a:pt x="685" y="1519"/>
                  </a:lnTo>
                  <a:lnTo>
                    <a:pt x="695" y="1516"/>
                  </a:lnTo>
                  <a:lnTo>
                    <a:pt x="703" y="1510"/>
                  </a:lnTo>
                  <a:lnTo>
                    <a:pt x="710" y="1502"/>
                  </a:lnTo>
                  <a:lnTo>
                    <a:pt x="717" y="1493"/>
                  </a:lnTo>
                  <a:lnTo>
                    <a:pt x="721" y="1483"/>
                  </a:lnTo>
                  <a:lnTo>
                    <a:pt x="726" y="1473"/>
                  </a:lnTo>
                  <a:lnTo>
                    <a:pt x="731" y="1462"/>
                  </a:lnTo>
                  <a:lnTo>
                    <a:pt x="739" y="1454"/>
                  </a:lnTo>
                  <a:lnTo>
                    <a:pt x="753" y="1383"/>
                  </a:lnTo>
                  <a:lnTo>
                    <a:pt x="768" y="1313"/>
                  </a:lnTo>
                  <a:lnTo>
                    <a:pt x="782" y="1243"/>
                  </a:lnTo>
                  <a:lnTo>
                    <a:pt x="797" y="1174"/>
                  </a:lnTo>
                  <a:lnTo>
                    <a:pt x="811" y="1102"/>
                  </a:lnTo>
                  <a:lnTo>
                    <a:pt x="828" y="1033"/>
                  </a:lnTo>
                  <a:lnTo>
                    <a:pt x="846" y="964"/>
                  </a:lnTo>
                  <a:lnTo>
                    <a:pt x="866" y="897"/>
                  </a:lnTo>
                  <a:lnTo>
                    <a:pt x="882" y="841"/>
                  </a:lnTo>
                  <a:lnTo>
                    <a:pt x="900" y="786"/>
                  </a:lnTo>
                  <a:lnTo>
                    <a:pt x="915" y="729"/>
                  </a:lnTo>
                  <a:lnTo>
                    <a:pt x="929" y="674"/>
                  </a:lnTo>
                  <a:lnTo>
                    <a:pt x="940" y="615"/>
                  </a:lnTo>
                  <a:lnTo>
                    <a:pt x="950" y="557"/>
                  </a:lnTo>
                  <a:lnTo>
                    <a:pt x="957" y="497"/>
                  </a:lnTo>
                  <a:lnTo>
                    <a:pt x="961" y="437"/>
                  </a:lnTo>
                  <a:lnTo>
                    <a:pt x="979" y="393"/>
                  </a:lnTo>
                  <a:lnTo>
                    <a:pt x="995" y="346"/>
                  </a:lnTo>
                  <a:lnTo>
                    <a:pt x="1008" y="299"/>
                  </a:lnTo>
                  <a:lnTo>
                    <a:pt x="1024" y="254"/>
                  </a:lnTo>
                  <a:lnTo>
                    <a:pt x="1043" y="210"/>
                  </a:lnTo>
                  <a:lnTo>
                    <a:pt x="1069" y="171"/>
                  </a:lnTo>
                  <a:lnTo>
                    <a:pt x="1105" y="141"/>
                  </a:lnTo>
                  <a:lnTo>
                    <a:pt x="1154" y="120"/>
                  </a:lnTo>
                  <a:lnTo>
                    <a:pt x="1173" y="113"/>
                  </a:lnTo>
                  <a:lnTo>
                    <a:pt x="1192" y="113"/>
                  </a:lnTo>
                  <a:lnTo>
                    <a:pt x="1209" y="116"/>
                  </a:lnTo>
                  <a:lnTo>
                    <a:pt x="1228" y="121"/>
                  </a:lnTo>
                  <a:lnTo>
                    <a:pt x="1244" y="129"/>
                  </a:lnTo>
                  <a:lnTo>
                    <a:pt x="1261" y="139"/>
                  </a:lnTo>
                  <a:lnTo>
                    <a:pt x="1276" y="151"/>
                  </a:lnTo>
                  <a:lnTo>
                    <a:pt x="1292" y="164"/>
                  </a:lnTo>
                  <a:lnTo>
                    <a:pt x="1306" y="187"/>
                  </a:lnTo>
                  <a:lnTo>
                    <a:pt x="1317" y="211"/>
                  </a:lnTo>
                  <a:lnTo>
                    <a:pt x="1325" y="237"/>
                  </a:lnTo>
                  <a:lnTo>
                    <a:pt x="1333" y="264"/>
                  </a:lnTo>
                  <a:lnTo>
                    <a:pt x="1337" y="291"/>
                  </a:lnTo>
                  <a:lnTo>
                    <a:pt x="1342" y="318"/>
                  </a:lnTo>
                  <a:lnTo>
                    <a:pt x="1346" y="345"/>
                  </a:lnTo>
                  <a:lnTo>
                    <a:pt x="1352" y="374"/>
                  </a:lnTo>
                  <a:lnTo>
                    <a:pt x="1333" y="451"/>
                  </a:lnTo>
                  <a:lnTo>
                    <a:pt x="1318" y="532"/>
                  </a:lnTo>
                  <a:lnTo>
                    <a:pt x="1307" y="614"/>
                  </a:lnTo>
                  <a:lnTo>
                    <a:pt x="1299" y="697"/>
                  </a:lnTo>
                  <a:lnTo>
                    <a:pt x="1293" y="781"/>
                  </a:lnTo>
                  <a:lnTo>
                    <a:pt x="1288" y="865"/>
                  </a:lnTo>
                  <a:lnTo>
                    <a:pt x="1284" y="947"/>
                  </a:lnTo>
                  <a:lnTo>
                    <a:pt x="1281" y="1031"/>
                  </a:lnTo>
                  <a:lnTo>
                    <a:pt x="1274" y="1075"/>
                  </a:lnTo>
                  <a:lnTo>
                    <a:pt x="1266" y="1121"/>
                  </a:lnTo>
                  <a:lnTo>
                    <a:pt x="1257" y="1165"/>
                  </a:lnTo>
                  <a:lnTo>
                    <a:pt x="1249" y="1210"/>
                  </a:lnTo>
                  <a:lnTo>
                    <a:pt x="1242" y="1254"/>
                  </a:lnTo>
                  <a:lnTo>
                    <a:pt x="1238" y="1299"/>
                  </a:lnTo>
                  <a:lnTo>
                    <a:pt x="1237" y="1346"/>
                  </a:lnTo>
                  <a:lnTo>
                    <a:pt x="1244" y="1393"/>
                  </a:lnTo>
                  <a:lnTo>
                    <a:pt x="1267" y="1337"/>
                  </a:lnTo>
                  <a:lnTo>
                    <a:pt x="1286" y="1279"/>
                  </a:lnTo>
                  <a:lnTo>
                    <a:pt x="1299" y="1219"/>
                  </a:lnTo>
                  <a:lnTo>
                    <a:pt x="1313" y="1159"/>
                  </a:lnTo>
                  <a:lnTo>
                    <a:pt x="1324" y="1098"/>
                  </a:lnTo>
                  <a:lnTo>
                    <a:pt x="1340" y="1038"/>
                  </a:lnTo>
                  <a:lnTo>
                    <a:pt x="1356" y="979"/>
                  </a:lnTo>
                  <a:lnTo>
                    <a:pt x="1380" y="925"/>
                  </a:lnTo>
                  <a:lnTo>
                    <a:pt x="1396" y="852"/>
                  </a:lnTo>
                  <a:lnTo>
                    <a:pt x="1418" y="782"/>
                  </a:lnTo>
                  <a:lnTo>
                    <a:pt x="1444" y="714"/>
                  </a:lnTo>
                  <a:lnTo>
                    <a:pt x="1471" y="648"/>
                  </a:lnTo>
                  <a:lnTo>
                    <a:pt x="1496" y="580"/>
                  </a:lnTo>
                  <a:lnTo>
                    <a:pt x="1522" y="512"/>
                  </a:lnTo>
                  <a:lnTo>
                    <a:pt x="1545" y="443"/>
                  </a:lnTo>
                  <a:lnTo>
                    <a:pt x="1565" y="374"/>
                  </a:lnTo>
                  <a:lnTo>
                    <a:pt x="1585" y="317"/>
                  </a:lnTo>
                  <a:lnTo>
                    <a:pt x="1609" y="259"/>
                  </a:lnTo>
                  <a:lnTo>
                    <a:pt x="1634" y="202"/>
                  </a:lnTo>
                  <a:lnTo>
                    <a:pt x="1665" y="148"/>
                  </a:lnTo>
                  <a:lnTo>
                    <a:pt x="1700" y="99"/>
                  </a:lnTo>
                  <a:lnTo>
                    <a:pt x="1743" y="56"/>
                  </a:lnTo>
                  <a:lnTo>
                    <a:pt x="1793" y="22"/>
                  </a:lnTo>
                  <a:lnTo>
                    <a:pt x="1853" y="0"/>
                  </a:lnTo>
                  <a:lnTo>
                    <a:pt x="1869" y="0"/>
                  </a:lnTo>
                  <a:lnTo>
                    <a:pt x="1884" y="4"/>
                  </a:lnTo>
                  <a:lnTo>
                    <a:pt x="1899" y="8"/>
                  </a:lnTo>
                  <a:lnTo>
                    <a:pt x="1913" y="16"/>
                  </a:lnTo>
                  <a:lnTo>
                    <a:pt x="1927" y="23"/>
                  </a:lnTo>
                  <a:lnTo>
                    <a:pt x="1941" y="32"/>
                  </a:lnTo>
                  <a:lnTo>
                    <a:pt x="1954" y="40"/>
                  </a:lnTo>
                  <a:lnTo>
                    <a:pt x="196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06720" y="1243080"/>
              <a:ext cx="39600" cy="12600"/>
            </a:xfrm>
            <a:custGeom>
              <a:avLst/>
              <a:gdLst/>
              <a:ahLst/>
              <a:rect l="l" t="t" r="r" b="b"/>
              <a:pathLst>
                <a:path w="229" h="63">
                  <a:moveTo>
                    <a:pt x="229" y="63"/>
                  </a:moveTo>
                  <a:lnTo>
                    <a:pt x="199" y="59"/>
                  </a:lnTo>
                  <a:lnTo>
                    <a:pt x="169" y="57"/>
                  </a:lnTo>
                  <a:lnTo>
                    <a:pt x="138" y="53"/>
                  </a:lnTo>
                  <a:lnTo>
                    <a:pt x="108" y="51"/>
                  </a:lnTo>
                  <a:lnTo>
                    <a:pt x="78" y="45"/>
                  </a:lnTo>
                  <a:lnTo>
                    <a:pt x="49" y="37"/>
                  </a:lnTo>
                  <a:lnTo>
                    <a:pt x="22" y="26"/>
                  </a:lnTo>
                  <a:lnTo>
                    <a:pt x="0" y="11"/>
                  </a:lnTo>
                  <a:lnTo>
                    <a:pt x="3" y="0"/>
                  </a:lnTo>
                  <a:lnTo>
                    <a:pt x="28" y="14"/>
                  </a:lnTo>
                  <a:lnTo>
                    <a:pt x="56" y="23"/>
                  </a:lnTo>
                  <a:lnTo>
                    <a:pt x="85" y="28"/>
                  </a:lnTo>
                  <a:lnTo>
                    <a:pt x="115" y="34"/>
                  </a:lnTo>
                  <a:lnTo>
                    <a:pt x="144" y="37"/>
                  </a:lnTo>
                  <a:lnTo>
                    <a:pt x="174" y="43"/>
                  </a:lnTo>
                  <a:lnTo>
                    <a:pt x="201" y="51"/>
                  </a:lnTo>
                  <a:lnTo>
                    <a:pt x="22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705200" y="1245960"/>
              <a:ext cx="34920" cy="15840"/>
            </a:xfrm>
            <a:custGeom>
              <a:avLst/>
              <a:gdLst/>
              <a:ahLst/>
              <a:rect l="l" t="t" r="r" b="b"/>
              <a:pathLst>
                <a:path w="199" h="78">
                  <a:moveTo>
                    <a:pt x="195" y="58"/>
                  </a:moveTo>
                  <a:lnTo>
                    <a:pt x="199" y="61"/>
                  </a:lnTo>
                  <a:lnTo>
                    <a:pt x="199" y="69"/>
                  </a:lnTo>
                  <a:lnTo>
                    <a:pt x="191" y="78"/>
                  </a:lnTo>
                  <a:lnTo>
                    <a:pt x="184" y="73"/>
                  </a:lnTo>
                  <a:lnTo>
                    <a:pt x="179" y="67"/>
                  </a:lnTo>
                  <a:lnTo>
                    <a:pt x="172" y="62"/>
                  </a:lnTo>
                  <a:lnTo>
                    <a:pt x="164" y="65"/>
                  </a:lnTo>
                  <a:lnTo>
                    <a:pt x="157" y="73"/>
                  </a:lnTo>
                  <a:lnTo>
                    <a:pt x="140" y="58"/>
                  </a:lnTo>
                  <a:lnTo>
                    <a:pt x="122" y="48"/>
                  </a:lnTo>
                  <a:lnTo>
                    <a:pt x="102" y="41"/>
                  </a:lnTo>
                  <a:lnTo>
                    <a:pt x="82" y="39"/>
                  </a:lnTo>
                  <a:lnTo>
                    <a:pt x="61" y="36"/>
                  </a:lnTo>
                  <a:lnTo>
                    <a:pt x="41" y="35"/>
                  </a:lnTo>
                  <a:lnTo>
                    <a:pt x="20" y="33"/>
                  </a:lnTo>
                  <a:lnTo>
                    <a:pt x="1" y="30"/>
                  </a:lnTo>
                  <a:lnTo>
                    <a:pt x="0" y="22"/>
                  </a:lnTo>
                  <a:lnTo>
                    <a:pt x="5" y="16"/>
                  </a:lnTo>
                  <a:lnTo>
                    <a:pt x="11" y="10"/>
                  </a:lnTo>
                  <a:lnTo>
                    <a:pt x="18" y="9"/>
                  </a:lnTo>
                  <a:lnTo>
                    <a:pt x="21" y="13"/>
                  </a:lnTo>
                  <a:lnTo>
                    <a:pt x="28" y="17"/>
                  </a:lnTo>
                  <a:lnTo>
                    <a:pt x="34" y="18"/>
                  </a:lnTo>
                  <a:lnTo>
                    <a:pt x="41" y="21"/>
                  </a:lnTo>
                  <a:lnTo>
                    <a:pt x="48" y="19"/>
                  </a:lnTo>
                  <a:lnTo>
                    <a:pt x="54" y="19"/>
                  </a:lnTo>
                  <a:lnTo>
                    <a:pt x="61" y="19"/>
                  </a:lnTo>
                  <a:lnTo>
                    <a:pt x="69" y="21"/>
                  </a:lnTo>
                  <a:lnTo>
                    <a:pt x="74" y="7"/>
                  </a:lnTo>
                  <a:lnTo>
                    <a:pt x="84" y="1"/>
                  </a:lnTo>
                  <a:lnTo>
                    <a:pt x="95" y="0"/>
                  </a:lnTo>
                  <a:lnTo>
                    <a:pt x="111" y="3"/>
                  </a:lnTo>
                  <a:lnTo>
                    <a:pt x="125" y="7"/>
                  </a:lnTo>
                  <a:lnTo>
                    <a:pt x="142" y="13"/>
                  </a:lnTo>
                  <a:lnTo>
                    <a:pt x="157" y="17"/>
                  </a:lnTo>
                  <a:lnTo>
                    <a:pt x="171" y="21"/>
                  </a:lnTo>
                  <a:lnTo>
                    <a:pt x="178" y="29"/>
                  </a:lnTo>
                  <a:lnTo>
                    <a:pt x="181" y="41"/>
                  </a:lnTo>
                  <a:lnTo>
                    <a:pt x="181" y="46"/>
                  </a:lnTo>
                  <a:lnTo>
                    <a:pt x="184" y="50"/>
                  </a:lnTo>
                  <a:lnTo>
                    <a:pt x="188" y="53"/>
                  </a:lnTo>
                  <a:lnTo>
                    <a:pt x="195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924080" y="1315800"/>
              <a:ext cx="42840" cy="28800"/>
            </a:xfrm>
            <a:custGeom>
              <a:avLst/>
              <a:gdLst/>
              <a:ahLst/>
              <a:rect l="l" t="t" r="r" b="b"/>
              <a:pathLst>
                <a:path w="245" h="139">
                  <a:moveTo>
                    <a:pt x="177" y="62"/>
                  </a:moveTo>
                  <a:lnTo>
                    <a:pt x="186" y="67"/>
                  </a:lnTo>
                  <a:lnTo>
                    <a:pt x="195" y="75"/>
                  </a:lnTo>
                  <a:lnTo>
                    <a:pt x="203" y="82"/>
                  </a:lnTo>
                  <a:lnTo>
                    <a:pt x="213" y="92"/>
                  </a:lnTo>
                  <a:lnTo>
                    <a:pt x="221" y="100"/>
                  </a:lnTo>
                  <a:lnTo>
                    <a:pt x="230" y="109"/>
                  </a:lnTo>
                  <a:lnTo>
                    <a:pt x="237" y="117"/>
                  </a:lnTo>
                  <a:lnTo>
                    <a:pt x="245" y="126"/>
                  </a:lnTo>
                  <a:lnTo>
                    <a:pt x="228" y="139"/>
                  </a:lnTo>
                  <a:lnTo>
                    <a:pt x="203" y="111"/>
                  </a:lnTo>
                  <a:lnTo>
                    <a:pt x="177" y="91"/>
                  </a:lnTo>
                  <a:lnTo>
                    <a:pt x="148" y="74"/>
                  </a:lnTo>
                  <a:lnTo>
                    <a:pt x="119" y="61"/>
                  </a:lnTo>
                  <a:lnTo>
                    <a:pt x="88" y="50"/>
                  </a:lnTo>
                  <a:lnTo>
                    <a:pt x="58" y="39"/>
                  </a:lnTo>
                  <a:lnTo>
                    <a:pt x="28" y="27"/>
                  </a:lnTo>
                  <a:lnTo>
                    <a:pt x="0" y="14"/>
                  </a:lnTo>
                  <a:lnTo>
                    <a:pt x="2" y="6"/>
                  </a:lnTo>
                  <a:lnTo>
                    <a:pt x="8" y="2"/>
                  </a:lnTo>
                  <a:lnTo>
                    <a:pt x="14" y="0"/>
                  </a:lnTo>
                  <a:lnTo>
                    <a:pt x="23" y="1"/>
                  </a:lnTo>
                  <a:lnTo>
                    <a:pt x="31" y="1"/>
                  </a:lnTo>
                  <a:lnTo>
                    <a:pt x="40" y="2"/>
                  </a:lnTo>
                  <a:lnTo>
                    <a:pt x="47" y="4"/>
                  </a:lnTo>
                  <a:lnTo>
                    <a:pt x="54" y="6"/>
                  </a:lnTo>
                  <a:lnTo>
                    <a:pt x="17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54320" y="1317600"/>
              <a:ext cx="11160" cy="6120"/>
            </a:xfrm>
            <a:custGeom>
              <a:avLst/>
              <a:gdLst/>
              <a:ahLst/>
              <a:rect l="l" t="t" r="r" b="b"/>
              <a:pathLst>
                <a:path w="65" h="34">
                  <a:moveTo>
                    <a:pt x="65" y="32"/>
                  </a:moveTo>
                  <a:lnTo>
                    <a:pt x="57" y="34"/>
                  </a:lnTo>
                  <a:lnTo>
                    <a:pt x="50" y="34"/>
                  </a:lnTo>
                  <a:lnTo>
                    <a:pt x="43" y="31"/>
                  </a:lnTo>
                  <a:lnTo>
                    <a:pt x="35" y="28"/>
                  </a:lnTo>
                  <a:lnTo>
                    <a:pt x="26" y="22"/>
                  </a:lnTo>
                  <a:lnTo>
                    <a:pt x="17" y="16"/>
                  </a:lnTo>
                  <a:lnTo>
                    <a:pt x="8" y="11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2"/>
                  </a:lnTo>
                  <a:lnTo>
                    <a:pt x="18" y="4"/>
                  </a:lnTo>
                  <a:lnTo>
                    <a:pt x="27" y="5"/>
                  </a:lnTo>
                  <a:lnTo>
                    <a:pt x="37" y="8"/>
                  </a:lnTo>
                  <a:lnTo>
                    <a:pt x="45" y="11"/>
                  </a:lnTo>
                  <a:lnTo>
                    <a:pt x="54" y="16"/>
                  </a:lnTo>
                  <a:lnTo>
                    <a:pt x="59" y="22"/>
                  </a:lnTo>
                  <a:lnTo>
                    <a:pt x="65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82960" y="1330200"/>
              <a:ext cx="52200" cy="14400"/>
            </a:xfrm>
            <a:custGeom>
              <a:avLst/>
              <a:gdLst/>
              <a:ahLst/>
              <a:rect l="l" t="t" r="r" b="b"/>
              <a:pathLst>
                <a:path w="292" h="74">
                  <a:moveTo>
                    <a:pt x="292" y="74"/>
                  </a:moveTo>
                  <a:lnTo>
                    <a:pt x="278" y="73"/>
                  </a:lnTo>
                  <a:lnTo>
                    <a:pt x="265" y="69"/>
                  </a:lnTo>
                  <a:lnTo>
                    <a:pt x="252" y="63"/>
                  </a:lnTo>
                  <a:lnTo>
                    <a:pt x="240" y="57"/>
                  </a:lnTo>
                  <a:lnTo>
                    <a:pt x="228" y="48"/>
                  </a:lnTo>
                  <a:lnTo>
                    <a:pt x="216" y="40"/>
                  </a:lnTo>
                  <a:lnTo>
                    <a:pt x="202" y="33"/>
                  </a:lnTo>
                  <a:lnTo>
                    <a:pt x="190" y="31"/>
                  </a:lnTo>
                  <a:lnTo>
                    <a:pt x="163" y="30"/>
                  </a:lnTo>
                  <a:lnTo>
                    <a:pt x="138" y="30"/>
                  </a:lnTo>
                  <a:lnTo>
                    <a:pt x="113" y="29"/>
                  </a:lnTo>
                  <a:lnTo>
                    <a:pt x="90" y="29"/>
                  </a:lnTo>
                  <a:lnTo>
                    <a:pt x="67" y="26"/>
                  </a:lnTo>
                  <a:lnTo>
                    <a:pt x="43" y="22"/>
                  </a:lnTo>
                  <a:lnTo>
                    <a:pt x="21" y="15"/>
                  </a:lnTo>
                  <a:lnTo>
                    <a:pt x="0" y="5"/>
                  </a:lnTo>
                  <a:lnTo>
                    <a:pt x="11" y="1"/>
                  </a:lnTo>
                  <a:lnTo>
                    <a:pt x="24" y="0"/>
                  </a:lnTo>
                  <a:lnTo>
                    <a:pt x="38" y="0"/>
                  </a:lnTo>
                  <a:lnTo>
                    <a:pt x="52" y="3"/>
                  </a:lnTo>
                  <a:lnTo>
                    <a:pt x="65" y="4"/>
                  </a:lnTo>
                  <a:lnTo>
                    <a:pt x="80" y="7"/>
                  </a:lnTo>
                  <a:lnTo>
                    <a:pt x="93" y="10"/>
                  </a:lnTo>
                  <a:lnTo>
                    <a:pt x="107" y="14"/>
                  </a:lnTo>
                  <a:lnTo>
                    <a:pt x="130" y="9"/>
                  </a:lnTo>
                  <a:lnTo>
                    <a:pt x="156" y="9"/>
                  </a:lnTo>
                  <a:lnTo>
                    <a:pt x="180" y="12"/>
                  </a:lnTo>
                  <a:lnTo>
                    <a:pt x="206" y="18"/>
                  </a:lnTo>
                  <a:lnTo>
                    <a:pt x="229" y="26"/>
                  </a:lnTo>
                  <a:lnTo>
                    <a:pt x="252" y="39"/>
                  </a:lnTo>
                  <a:lnTo>
                    <a:pt x="272" y="55"/>
                  </a:lnTo>
                  <a:lnTo>
                    <a:pt x="29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74880" y="1336680"/>
              <a:ext cx="27000" cy="6120"/>
            </a:xfrm>
            <a:custGeom>
              <a:avLst/>
              <a:gdLst/>
              <a:ahLst/>
              <a:rect l="l" t="t" r="r" b="b"/>
              <a:pathLst>
                <a:path w="147" h="32">
                  <a:moveTo>
                    <a:pt x="147" y="0"/>
                  </a:moveTo>
                  <a:lnTo>
                    <a:pt x="146" y="5"/>
                  </a:lnTo>
                  <a:lnTo>
                    <a:pt x="145" y="9"/>
                  </a:lnTo>
                  <a:lnTo>
                    <a:pt x="141" y="12"/>
                  </a:lnTo>
                  <a:lnTo>
                    <a:pt x="138" y="14"/>
                  </a:lnTo>
                  <a:lnTo>
                    <a:pt x="127" y="15"/>
                  </a:lnTo>
                  <a:lnTo>
                    <a:pt x="119" y="19"/>
                  </a:lnTo>
                  <a:lnTo>
                    <a:pt x="104" y="19"/>
                  </a:lnTo>
                  <a:lnTo>
                    <a:pt x="88" y="22"/>
                  </a:lnTo>
                  <a:lnTo>
                    <a:pt x="73" y="24"/>
                  </a:lnTo>
                  <a:lnTo>
                    <a:pt x="58" y="26"/>
                  </a:lnTo>
                  <a:lnTo>
                    <a:pt x="42" y="27"/>
                  </a:lnTo>
                  <a:lnTo>
                    <a:pt x="28" y="30"/>
                  </a:lnTo>
                  <a:lnTo>
                    <a:pt x="14" y="31"/>
                  </a:lnTo>
                  <a:lnTo>
                    <a:pt x="0" y="32"/>
                  </a:lnTo>
                  <a:lnTo>
                    <a:pt x="16" y="23"/>
                  </a:lnTo>
                  <a:lnTo>
                    <a:pt x="35" y="17"/>
                  </a:lnTo>
                  <a:lnTo>
                    <a:pt x="52" y="14"/>
                  </a:lnTo>
                  <a:lnTo>
                    <a:pt x="73" y="14"/>
                  </a:lnTo>
                  <a:lnTo>
                    <a:pt x="91" y="12"/>
                  </a:lnTo>
                  <a:lnTo>
                    <a:pt x="110" y="9"/>
                  </a:lnTo>
                  <a:lnTo>
                    <a:pt x="129" y="6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89280" y="1346040"/>
              <a:ext cx="15840" cy="4680"/>
            </a:xfrm>
            <a:custGeom>
              <a:avLst/>
              <a:gdLst/>
              <a:ahLst/>
              <a:rect l="l" t="t" r="r" b="b"/>
              <a:pathLst>
                <a:path w="85" h="29">
                  <a:moveTo>
                    <a:pt x="85" y="9"/>
                  </a:moveTo>
                  <a:lnTo>
                    <a:pt x="74" y="12"/>
                  </a:lnTo>
                  <a:lnTo>
                    <a:pt x="62" y="15"/>
                  </a:lnTo>
                  <a:lnTo>
                    <a:pt x="51" y="16"/>
                  </a:lnTo>
                  <a:lnTo>
                    <a:pt x="41" y="18"/>
                  </a:lnTo>
                  <a:lnTo>
                    <a:pt x="30" y="19"/>
                  </a:lnTo>
                  <a:lnTo>
                    <a:pt x="19" y="22"/>
                  </a:lnTo>
                  <a:lnTo>
                    <a:pt x="9" y="24"/>
                  </a:lnTo>
                  <a:lnTo>
                    <a:pt x="0" y="29"/>
                  </a:lnTo>
                  <a:lnTo>
                    <a:pt x="7" y="22"/>
                  </a:lnTo>
                  <a:lnTo>
                    <a:pt x="16" y="17"/>
                  </a:lnTo>
                  <a:lnTo>
                    <a:pt x="25" y="13"/>
                  </a:lnTo>
                  <a:lnTo>
                    <a:pt x="35" y="9"/>
                  </a:lnTo>
                  <a:lnTo>
                    <a:pt x="45" y="6"/>
                  </a:lnTo>
                  <a:lnTo>
                    <a:pt x="55" y="2"/>
                  </a:lnTo>
                  <a:lnTo>
                    <a:pt x="65" y="0"/>
                  </a:lnTo>
                  <a:lnTo>
                    <a:pt x="76" y="0"/>
                  </a:lnTo>
                  <a:lnTo>
                    <a:pt x="8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97280" y="1347840"/>
              <a:ext cx="25200" cy="6120"/>
            </a:xfrm>
            <a:custGeom>
              <a:avLst/>
              <a:gdLst/>
              <a:ahLst/>
              <a:rect l="l" t="t" r="r" b="b"/>
              <a:pathLst>
                <a:path w="138" h="32">
                  <a:moveTo>
                    <a:pt x="138" y="32"/>
                  </a:moveTo>
                  <a:lnTo>
                    <a:pt x="121" y="31"/>
                  </a:lnTo>
                  <a:lnTo>
                    <a:pt x="104" y="29"/>
                  </a:lnTo>
                  <a:lnTo>
                    <a:pt x="88" y="25"/>
                  </a:lnTo>
                  <a:lnTo>
                    <a:pt x="71" y="22"/>
                  </a:lnTo>
                  <a:lnTo>
                    <a:pt x="53" y="16"/>
                  </a:lnTo>
                  <a:lnTo>
                    <a:pt x="37" y="13"/>
                  </a:lnTo>
                  <a:lnTo>
                    <a:pt x="18" y="10"/>
                  </a:lnTo>
                  <a:lnTo>
                    <a:pt x="0" y="12"/>
                  </a:lnTo>
                  <a:lnTo>
                    <a:pt x="2" y="4"/>
                  </a:lnTo>
                  <a:lnTo>
                    <a:pt x="9" y="4"/>
                  </a:lnTo>
                  <a:lnTo>
                    <a:pt x="17" y="4"/>
                  </a:lnTo>
                  <a:lnTo>
                    <a:pt x="24" y="0"/>
                  </a:lnTo>
                  <a:lnTo>
                    <a:pt x="38" y="3"/>
                  </a:lnTo>
                  <a:lnTo>
                    <a:pt x="53" y="6"/>
                  </a:lnTo>
                  <a:lnTo>
                    <a:pt x="68" y="8"/>
                  </a:lnTo>
                  <a:lnTo>
                    <a:pt x="83" y="12"/>
                  </a:lnTo>
                  <a:lnTo>
                    <a:pt x="98" y="14"/>
                  </a:lnTo>
                  <a:lnTo>
                    <a:pt x="112" y="18"/>
                  </a:lnTo>
                  <a:lnTo>
                    <a:pt x="124" y="24"/>
                  </a:lnTo>
                  <a:lnTo>
                    <a:pt x="13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98800" y="1347840"/>
              <a:ext cx="30240" cy="10800"/>
            </a:xfrm>
            <a:custGeom>
              <a:avLst/>
              <a:gdLst/>
              <a:ahLst/>
              <a:rect l="l" t="t" r="r" b="b"/>
              <a:pathLst>
                <a:path w="170" h="57">
                  <a:moveTo>
                    <a:pt x="170" y="46"/>
                  </a:moveTo>
                  <a:lnTo>
                    <a:pt x="147" y="53"/>
                  </a:lnTo>
                  <a:lnTo>
                    <a:pt x="125" y="57"/>
                  </a:lnTo>
                  <a:lnTo>
                    <a:pt x="103" y="55"/>
                  </a:lnTo>
                  <a:lnTo>
                    <a:pt x="82" y="50"/>
                  </a:lnTo>
                  <a:lnTo>
                    <a:pt x="60" y="40"/>
                  </a:lnTo>
                  <a:lnTo>
                    <a:pt x="39" y="31"/>
                  </a:lnTo>
                  <a:lnTo>
                    <a:pt x="19" y="21"/>
                  </a:lnTo>
                  <a:lnTo>
                    <a:pt x="0" y="12"/>
                  </a:lnTo>
                  <a:lnTo>
                    <a:pt x="5" y="0"/>
                  </a:lnTo>
                  <a:lnTo>
                    <a:pt x="23" y="9"/>
                  </a:lnTo>
                  <a:lnTo>
                    <a:pt x="43" y="18"/>
                  </a:lnTo>
                  <a:lnTo>
                    <a:pt x="63" y="26"/>
                  </a:lnTo>
                  <a:lnTo>
                    <a:pt x="83" y="34"/>
                  </a:lnTo>
                  <a:lnTo>
                    <a:pt x="103" y="40"/>
                  </a:lnTo>
                  <a:lnTo>
                    <a:pt x="125" y="43"/>
                  </a:lnTo>
                  <a:lnTo>
                    <a:pt x="146" y="46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82880" y="1357200"/>
              <a:ext cx="50760" cy="9360"/>
            </a:xfrm>
            <a:custGeom>
              <a:avLst/>
              <a:gdLst/>
              <a:ahLst/>
              <a:rect l="l" t="t" r="r" b="b"/>
              <a:pathLst>
                <a:path w="294" h="50">
                  <a:moveTo>
                    <a:pt x="294" y="49"/>
                  </a:moveTo>
                  <a:lnTo>
                    <a:pt x="285" y="50"/>
                  </a:lnTo>
                  <a:lnTo>
                    <a:pt x="277" y="49"/>
                  </a:lnTo>
                  <a:lnTo>
                    <a:pt x="269" y="45"/>
                  </a:lnTo>
                  <a:lnTo>
                    <a:pt x="262" y="43"/>
                  </a:lnTo>
                  <a:lnTo>
                    <a:pt x="254" y="38"/>
                  </a:lnTo>
                  <a:lnTo>
                    <a:pt x="246" y="34"/>
                  </a:lnTo>
                  <a:lnTo>
                    <a:pt x="238" y="31"/>
                  </a:lnTo>
                  <a:lnTo>
                    <a:pt x="231" y="30"/>
                  </a:lnTo>
                  <a:lnTo>
                    <a:pt x="202" y="23"/>
                  </a:lnTo>
                  <a:lnTo>
                    <a:pt x="175" y="21"/>
                  </a:lnTo>
                  <a:lnTo>
                    <a:pt x="148" y="17"/>
                  </a:lnTo>
                  <a:lnTo>
                    <a:pt x="121" y="18"/>
                  </a:lnTo>
                  <a:lnTo>
                    <a:pt x="93" y="18"/>
                  </a:lnTo>
                  <a:lnTo>
                    <a:pt x="67" y="22"/>
                  </a:lnTo>
                  <a:lnTo>
                    <a:pt x="40" y="26"/>
                  </a:lnTo>
                  <a:lnTo>
                    <a:pt x="13" y="34"/>
                  </a:lnTo>
                  <a:lnTo>
                    <a:pt x="0" y="26"/>
                  </a:lnTo>
                  <a:lnTo>
                    <a:pt x="9" y="18"/>
                  </a:lnTo>
                  <a:lnTo>
                    <a:pt x="19" y="15"/>
                  </a:lnTo>
                  <a:lnTo>
                    <a:pt x="30" y="12"/>
                  </a:lnTo>
                  <a:lnTo>
                    <a:pt x="43" y="10"/>
                  </a:lnTo>
                  <a:lnTo>
                    <a:pt x="56" y="8"/>
                  </a:lnTo>
                  <a:lnTo>
                    <a:pt x="68" y="7"/>
                  </a:lnTo>
                  <a:lnTo>
                    <a:pt x="80" y="4"/>
                  </a:lnTo>
                  <a:lnTo>
                    <a:pt x="92" y="0"/>
                  </a:lnTo>
                  <a:lnTo>
                    <a:pt x="119" y="0"/>
                  </a:lnTo>
                  <a:lnTo>
                    <a:pt x="146" y="1"/>
                  </a:lnTo>
                  <a:lnTo>
                    <a:pt x="172" y="5"/>
                  </a:lnTo>
                  <a:lnTo>
                    <a:pt x="199" y="10"/>
                  </a:lnTo>
                  <a:lnTo>
                    <a:pt x="224" y="16"/>
                  </a:lnTo>
                  <a:lnTo>
                    <a:pt x="248" y="25"/>
                  </a:lnTo>
                  <a:lnTo>
                    <a:pt x="271" y="35"/>
                  </a:lnTo>
                  <a:lnTo>
                    <a:pt x="29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608360" y="1374840"/>
              <a:ext cx="3240" cy="792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17" y="0"/>
                  </a:moveTo>
                  <a:lnTo>
                    <a:pt x="19" y="6"/>
                  </a:lnTo>
                  <a:lnTo>
                    <a:pt x="15" y="15"/>
                  </a:lnTo>
                  <a:lnTo>
                    <a:pt x="13" y="19"/>
                  </a:lnTo>
                  <a:lnTo>
                    <a:pt x="13" y="23"/>
                  </a:lnTo>
                  <a:lnTo>
                    <a:pt x="15" y="27"/>
                  </a:lnTo>
                  <a:lnTo>
                    <a:pt x="22" y="31"/>
                  </a:lnTo>
                  <a:lnTo>
                    <a:pt x="14" y="39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2"/>
                  </a:lnTo>
                  <a:lnTo>
                    <a:pt x="2" y="18"/>
                  </a:lnTo>
                  <a:lnTo>
                    <a:pt x="7" y="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897080" y="1385640"/>
              <a:ext cx="22320" cy="15840"/>
            </a:xfrm>
            <a:custGeom>
              <a:avLst/>
              <a:gdLst/>
              <a:ahLst/>
              <a:rect l="l" t="t" r="r" b="b"/>
              <a:pathLst>
                <a:path w="130" h="81">
                  <a:moveTo>
                    <a:pt x="130" y="81"/>
                  </a:moveTo>
                  <a:lnTo>
                    <a:pt x="122" y="74"/>
                  </a:lnTo>
                  <a:lnTo>
                    <a:pt x="114" y="67"/>
                  </a:lnTo>
                  <a:lnTo>
                    <a:pt x="105" y="60"/>
                  </a:lnTo>
                  <a:lnTo>
                    <a:pt x="98" y="52"/>
                  </a:lnTo>
                  <a:lnTo>
                    <a:pt x="88" y="43"/>
                  </a:lnTo>
                  <a:lnTo>
                    <a:pt x="78" y="36"/>
                  </a:lnTo>
                  <a:lnTo>
                    <a:pt x="68" y="29"/>
                  </a:lnTo>
                  <a:lnTo>
                    <a:pt x="59" y="26"/>
                  </a:lnTo>
                  <a:lnTo>
                    <a:pt x="50" y="22"/>
                  </a:lnTo>
                  <a:lnTo>
                    <a:pt x="43" y="21"/>
                  </a:lnTo>
                  <a:lnTo>
                    <a:pt x="34" y="20"/>
                  </a:lnTo>
                  <a:lnTo>
                    <a:pt x="28" y="20"/>
                  </a:lnTo>
                  <a:lnTo>
                    <a:pt x="19" y="17"/>
                  </a:lnTo>
                  <a:lnTo>
                    <a:pt x="12" y="14"/>
                  </a:lnTo>
                  <a:lnTo>
                    <a:pt x="4" y="10"/>
                  </a:lnTo>
                  <a:lnTo>
                    <a:pt x="0" y="5"/>
                  </a:lnTo>
                  <a:lnTo>
                    <a:pt x="5" y="1"/>
                  </a:lnTo>
                  <a:lnTo>
                    <a:pt x="13" y="0"/>
                  </a:lnTo>
                  <a:lnTo>
                    <a:pt x="21" y="1"/>
                  </a:lnTo>
                  <a:lnTo>
                    <a:pt x="31" y="4"/>
                  </a:lnTo>
                  <a:lnTo>
                    <a:pt x="39" y="7"/>
                  </a:lnTo>
                  <a:lnTo>
                    <a:pt x="48" y="11"/>
                  </a:lnTo>
                  <a:lnTo>
                    <a:pt x="57" y="14"/>
                  </a:lnTo>
                  <a:lnTo>
                    <a:pt x="65" y="18"/>
                  </a:lnTo>
                  <a:lnTo>
                    <a:pt x="75" y="20"/>
                  </a:lnTo>
                  <a:lnTo>
                    <a:pt x="87" y="26"/>
                  </a:lnTo>
                  <a:lnTo>
                    <a:pt x="97" y="31"/>
                  </a:lnTo>
                  <a:lnTo>
                    <a:pt x="107" y="39"/>
                  </a:lnTo>
                  <a:lnTo>
                    <a:pt x="113" y="47"/>
                  </a:lnTo>
                  <a:lnTo>
                    <a:pt x="121" y="58"/>
                  </a:lnTo>
                  <a:lnTo>
                    <a:pt x="125" y="69"/>
                  </a:lnTo>
                  <a:lnTo>
                    <a:pt x="13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892400" y="1398600"/>
              <a:ext cx="42840" cy="33120"/>
            </a:xfrm>
            <a:custGeom>
              <a:avLst/>
              <a:gdLst/>
              <a:ahLst/>
              <a:rect l="l" t="t" r="r" b="b"/>
              <a:pathLst>
                <a:path w="239" h="166">
                  <a:moveTo>
                    <a:pt x="188" y="106"/>
                  </a:moveTo>
                  <a:lnTo>
                    <a:pt x="194" y="113"/>
                  </a:lnTo>
                  <a:lnTo>
                    <a:pt x="204" y="120"/>
                  </a:lnTo>
                  <a:lnTo>
                    <a:pt x="214" y="124"/>
                  </a:lnTo>
                  <a:lnTo>
                    <a:pt x="224" y="131"/>
                  </a:lnTo>
                  <a:lnTo>
                    <a:pt x="233" y="137"/>
                  </a:lnTo>
                  <a:lnTo>
                    <a:pt x="238" y="144"/>
                  </a:lnTo>
                  <a:lnTo>
                    <a:pt x="239" y="153"/>
                  </a:lnTo>
                  <a:lnTo>
                    <a:pt x="236" y="166"/>
                  </a:lnTo>
                  <a:lnTo>
                    <a:pt x="214" y="139"/>
                  </a:lnTo>
                  <a:lnTo>
                    <a:pt x="186" y="125"/>
                  </a:lnTo>
                  <a:lnTo>
                    <a:pt x="155" y="118"/>
                  </a:lnTo>
                  <a:lnTo>
                    <a:pt x="125" y="115"/>
                  </a:lnTo>
                  <a:lnTo>
                    <a:pt x="95" y="108"/>
                  </a:lnTo>
                  <a:lnTo>
                    <a:pt x="69" y="97"/>
                  </a:lnTo>
                  <a:lnTo>
                    <a:pt x="50" y="73"/>
                  </a:lnTo>
                  <a:lnTo>
                    <a:pt x="41" y="37"/>
                  </a:lnTo>
                  <a:lnTo>
                    <a:pt x="36" y="29"/>
                  </a:lnTo>
                  <a:lnTo>
                    <a:pt x="28" y="26"/>
                  </a:lnTo>
                  <a:lnTo>
                    <a:pt x="20" y="22"/>
                  </a:lnTo>
                  <a:lnTo>
                    <a:pt x="12" y="21"/>
                  </a:lnTo>
                  <a:lnTo>
                    <a:pt x="5" y="18"/>
                  </a:lnTo>
                  <a:lnTo>
                    <a:pt x="0" y="14"/>
                  </a:lnTo>
                  <a:lnTo>
                    <a:pt x="0" y="7"/>
                  </a:lnTo>
                  <a:lnTo>
                    <a:pt x="7" y="0"/>
                  </a:lnTo>
                  <a:lnTo>
                    <a:pt x="30" y="6"/>
                  </a:lnTo>
                  <a:lnTo>
                    <a:pt x="52" y="21"/>
                  </a:lnTo>
                  <a:lnTo>
                    <a:pt x="74" y="38"/>
                  </a:lnTo>
                  <a:lnTo>
                    <a:pt x="95" y="57"/>
                  </a:lnTo>
                  <a:lnTo>
                    <a:pt x="115" y="74"/>
                  </a:lnTo>
                  <a:lnTo>
                    <a:pt x="137" y="90"/>
                  </a:lnTo>
                  <a:lnTo>
                    <a:pt x="160" y="101"/>
                  </a:lnTo>
                  <a:lnTo>
                    <a:pt x="188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97200" y="1414440"/>
              <a:ext cx="17280" cy="4680"/>
            </a:xfrm>
            <a:custGeom>
              <a:avLst/>
              <a:gdLst/>
              <a:ahLst/>
              <a:rect l="l" t="t" r="r" b="b"/>
              <a:pathLst>
                <a:path w="104" h="25">
                  <a:moveTo>
                    <a:pt x="104" y="14"/>
                  </a:moveTo>
                  <a:lnTo>
                    <a:pt x="89" y="14"/>
                  </a:lnTo>
                  <a:lnTo>
                    <a:pt x="76" y="16"/>
                  </a:lnTo>
                  <a:lnTo>
                    <a:pt x="62" y="17"/>
                  </a:lnTo>
                  <a:lnTo>
                    <a:pt x="49" y="20"/>
                  </a:lnTo>
                  <a:lnTo>
                    <a:pt x="36" y="20"/>
                  </a:lnTo>
                  <a:lnTo>
                    <a:pt x="22" y="22"/>
                  </a:lnTo>
                  <a:lnTo>
                    <a:pt x="10" y="23"/>
                  </a:lnTo>
                  <a:lnTo>
                    <a:pt x="0" y="25"/>
                  </a:lnTo>
                  <a:lnTo>
                    <a:pt x="9" y="15"/>
                  </a:lnTo>
                  <a:lnTo>
                    <a:pt x="21" y="9"/>
                  </a:lnTo>
                  <a:lnTo>
                    <a:pt x="35" y="4"/>
                  </a:lnTo>
                  <a:lnTo>
                    <a:pt x="50" y="2"/>
                  </a:lnTo>
                  <a:lnTo>
                    <a:pt x="64" y="0"/>
                  </a:lnTo>
                  <a:lnTo>
                    <a:pt x="78" y="3"/>
                  </a:lnTo>
                  <a:lnTo>
                    <a:pt x="91" y="6"/>
                  </a:lnTo>
                  <a:lnTo>
                    <a:pt x="10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59200" y="1434960"/>
              <a:ext cx="39600" cy="9720"/>
            </a:xfrm>
            <a:custGeom>
              <a:avLst/>
              <a:gdLst/>
              <a:ahLst/>
              <a:rect l="l" t="t" r="r" b="b"/>
              <a:pathLst>
                <a:path w="217" h="49">
                  <a:moveTo>
                    <a:pt x="217" y="42"/>
                  </a:moveTo>
                  <a:lnTo>
                    <a:pt x="217" y="49"/>
                  </a:lnTo>
                  <a:lnTo>
                    <a:pt x="194" y="37"/>
                  </a:lnTo>
                  <a:lnTo>
                    <a:pt x="169" y="29"/>
                  </a:lnTo>
                  <a:lnTo>
                    <a:pt x="142" y="23"/>
                  </a:lnTo>
                  <a:lnTo>
                    <a:pt x="115" y="19"/>
                  </a:lnTo>
                  <a:lnTo>
                    <a:pt x="86" y="17"/>
                  </a:lnTo>
                  <a:lnTo>
                    <a:pt x="58" y="17"/>
                  </a:lnTo>
                  <a:lnTo>
                    <a:pt x="32" y="18"/>
                  </a:lnTo>
                  <a:lnTo>
                    <a:pt x="8" y="22"/>
                  </a:lnTo>
                  <a:lnTo>
                    <a:pt x="0" y="14"/>
                  </a:lnTo>
                  <a:lnTo>
                    <a:pt x="16" y="6"/>
                  </a:lnTo>
                  <a:lnTo>
                    <a:pt x="33" y="1"/>
                  </a:lnTo>
                  <a:lnTo>
                    <a:pt x="50" y="0"/>
                  </a:lnTo>
                  <a:lnTo>
                    <a:pt x="69" y="1"/>
                  </a:lnTo>
                  <a:lnTo>
                    <a:pt x="87" y="3"/>
                  </a:lnTo>
                  <a:lnTo>
                    <a:pt x="106" y="7"/>
                  </a:lnTo>
                  <a:lnTo>
                    <a:pt x="124" y="10"/>
                  </a:lnTo>
                  <a:lnTo>
                    <a:pt x="142" y="14"/>
                  </a:lnTo>
                  <a:lnTo>
                    <a:pt x="151" y="15"/>
                  </a:lnTo>
                  <a:lnTo>
                    <a:pt x="161" y="17"/>
                  </a:lnTo>
                  <a:lnTo>
                    <a:pt x="171" y="18"/>
                  </a:lnTo>
                  <a:lnTo>
                    <a:pt x="181" y="22"/>
                  </a:lnTo>
                  <a:lnTo>
                    <a:pt x="189" y="24"/>
                  </a:lnTo>
                  <a:lnTo>
                    <a:pt x="199" y="28"/>
                  </a:lnTo>
                  <a:lnTo>
                    <a:pt x="208" y="34"/>
                  </a:lnTo>
                  <a:lnTo>
                    <a:pt x="217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684320" y="1441440"/>
              <a:ext cx="28800" cy="4680"/>
            </a:xfrm>
            <a:custGeom>
              <a:avLst/>
              <a:gdLst/>
              <a:ahLst/>
              <a:rect l="l" t="t" r="r" b="b"/>
              <a:pathLst>
                <a:path w="154" h="26">
                  <a:moveTo>
                    <a:pt x="154" y="20"/>
                  </a:moveTo>
                  <a:lnTo>
                    <a:pt x="134" y="24"/>
                  </a:lnTo>
                  <a:lnTo>
                    <a:pt x="114" y="26"/>
                  </a:lnTo>
                  <a:lnTo>
                    <a:pt x="95" y="26"/>
                  </a:lnTo>
                  <a:lnTo>
                    <a:pt x="76" y="24"/>
                  </a:lnTo>
                  <a:lnTo>
                    <a:pt x="56" y="21"/>
                  </a:lnTo>
                  <a:lnTo>
                    <a:pt x="38" y="17"/>
                  </a:lnTo>
                  <a:lnTo>
                    <a:pt x="19" y="14"/>
                  </a:lnTo>
                  <a:lnTo>
                    <a:pt x="0" y="13"/>
                  </a:lnTo>
                  <a:lnTo>
                    <a:pt x="9" y="0"/>
                  </a:lnTo>
                  <a:lnTo>
                    <a:pt x="26" y="3"/>
                  </a:lnTo>
                  <a:lnTo>
                    <a:pt x="45" y="6"/>
                  </a:lnTo>
                  <a:lnTo>
                    <a:pt x="64" y="7"/>
                  </a:lnTo>
                  <a:lnTo>
                    <a:pt x="83" y="10"/>
                  </a:lnTo>
                  <a:lnTo>
                    <a:pt x="101" y="11"/>
                  </a:lnTo>
                  <a:lnTo>
                    <a:pt x="119" y="13"/>
                  </a:lnTo>
                  <a:lnTo>
                    <a:pt x="137" y="15"/>
                  </a:lnTo>
                  <a:lnTo>
                    <a:pt x="15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765320" y="1446120"/>
              <a:ext cx="27000" cy="11160"/>
            </a:xfrm>
            <a:custGeom>
              <a:avLst/>
              <a:gdLst/>
              <a:ahLst/>
              <a:rect l="l" t="t" r="r" b="b"/>
              <a:pathLst>
                <a:path w="153" h="49">
                  <a:moveTo>
                    <a:pt x="153" y="49"/>
                  </a:moveTo>
                  <a:lnTo>
                    <a:pt x="133" y="46"/>
                  </a:lnTo>
                  <a:lnTo>
                    <a:pt x="115" y="42"/>
                  </a:lnTo>
                  <a:lnTo>
                    <a:pt x="96" y="35"/>
                  </a:lnTo>
                  <a:lnTo>
                    <a:pt x="78" y="29"/>
                  </a:lnTo>
                  <a:lnTo>
                    <a:pt x="59" y="22"/>
                  </a:lnTo>
                  <a:lnTo>
                    <a:pt x="40" y="17"/>
                  </a:lnTo>
                  <a:lnTo>
                    <a:pt x="20" y="12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0" y="1"/>
                  </a:lnTo>
                  <a:lnTo>
                    <a:pt x="18" y="0"/>
                  </a:lnTo>
                  <a:lnTo>
                    <a:pt x="28" y="2"/>
                  </a:lnTo>
                  <a:lnTo>
                    <a:pt x="38" y="3"/>
                  </a:lnTo>
                  <a:lnTo>
                    <a:pt x="49" y="6"/>
                  </a:lnTo>
                  <a:lnTo>
                    <a:pt x="60" y="8"/>
                  </a:lnTo>
                  <a:lnTo>
                    <a:pt x="71" y="9"/>
                  </a:lnTo>
                  <a:lnTo>
                    <a:pt x="81" y="12"/>
                  </a:lnTo>
                  <a:lnTo>
                    <a:pt x="91" y="17"/>
                  </a:lnTo>
                  <a:lnTo>
                    <a:pt x="101" y="22"/>
                  </a:lnTo>
                  <a:lnTo>
                    <a:pt x="113" y="29"/>
                  </a:lnTo>
                  <a:lnTo>
                    <a:pt x="123" y="35"/>
                  </a:lnTo>
                  <a:lnTo>
                    <a:pt x="133" y="40"/>
                  </a:lnTo>
                  <a:lnTo>
                    <a:pt x="143" y="45"/>
                  </a:lnTo>
                  <a:lnTo>
                    <a:pt x="153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49560" y="1487520"/>
              <a:ext cx="33480" cy="27000"/>
            </a:xfrm>
            <a:custGeom>
              <a:avLst/>
              <a:gdLst/>
              <a:ahLst/>
              <a:rect l="l" t="t" r="r" b="b"/>
              <a:pathLst>
                <a:path w="187" h="136">
                  <a:moveTo>
                    <a:pt x="187" y="132"/>
                  </a:moveTo>
                  <a:lnTo>
                    <a:pt x="181" y="136"/>
                  </a:lnTo>
                  <a:lnTo>
                    <a:pt x="161" y="114"/>
                  </a:lnTo>
                  <a:lnTo>
                    <a:pt x="140" y="97"/>
                  </a:lnTo>
                  <a:lnTo>
                    <a:pt x="117" y="81"/>
                  </a:lnTo>
                  <a:lnTo>
                    <a:pt x="95" y="68"/>
                  </a:lnTo>
                  <a:lnTo>
                    <a:pt x="70" y="54"/>
                  </a:lnTo>
                  <a:lnTo>
                    <a:pt x="46" y="42"/>
                  </a:lnTo>
                  <a:lnTo>
                    <a:pt x="22" y="2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25" y="11"/>
                  </a:lnTo>
                  <a:lnTo>
                    <a:pt x="50" y="24"/>
                  </a:lnTo>
                  <a:lnTo>
                    <a:pt x="76" y="36"/>
                  </a:lnTo>
                  <a:lnTo>
                    <a:pt x="102" y="51"/>
                  </a:lnTo>
                  <a:lnTo>
                    <a:pt x="126" y="65"/>
                  </a:lnTo>
                  <a:lnTo>
                    <a:pt x="149" y="83"/>
                  </a:lnTo>
                  <a:lnTo>
                    <a:pt x="169" y="105"/>
                  </a:lnTo>
                  <a:lnTo>
                    <a:pt x="187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65520" y="1616040"/>
              <a:ext cx="301680" cy="223920"/>
            </a:xfrm>
            <a:custGeom>
              <a:avLst/>
              <a:gdLst/>
              <a:ahLst/>
              <a:rect l="l" t="t" r="r" b="b"/>
              <a:pathLst>
                <a:path w="1710" h="1128">
                  <a:moveTo>
                    <a:pt x="1710" y="23"/>
                  </a:moveTo>
                  <a:lnTo>
                    <a:pt x="1640" y="18"/>
                  </a:lnTo>
                  <a:lnTo>
                    <a:pt x="1571" y="19"/>
                  </a:lnTo>
                  <a:lnTo>
                    <a:pt x="1502" y="26"/>
                  </a:lnTo>
                  <a:lnTo>
                    <a:pt x="1435" y="41"/>
                  </a:lnTo>
                  <a:lnTo>
                    <a:pt x="1369" y="59"/>
                  </a:lnTo>
                  <a:lnTo>
                    <a:pt x="1305" y="84"/>
                  </a:lnTo>
                  <a:lnTo>
                    <a:pt x="1245" y="114"/>
                  </a:lnTo>
                  <a:lnTo>
                    <a:pt x="1188" y="152"/>
                  </a:lnTo>
                  <a:lnTo>
                    <a:pt x="1137" y="191"/>
                  </a:lnTo>
                  <a:lnTo>
                    <a:pt x="1088" y="234"/>
                  </a:lnTo>
                  <a:lnTo>
                    <a:pt x="1041" y="280"/>
                  </a:lnTo>
                  <a:lnTo>
                    <a:pt x="997" y="329"/>
                  </a:lnTo>
                  <a:lnTo>
                    <a:pt x="955" y="379"/>
                  </a:lnTo>
                  <a:lnTo>
                    <a:pt x="917" y="432"/>
                  </a:lnTo>
                  <a:lnTo>
                    <a:pt x="882" y="487"/>
                  </a:lnTo>
                  <a:lnTo>
                    <a:pt x="849" y="542"/>
                  </a:lnTo>
                  <a:lnTo>
                    <a:pt x="818" y="611"/>
                  </a:lnTo>
                  <a:lnTo>
                    <a:pt x="787" y="681"/>
                  </a:lnTo>
                  <a:lnTo>
                    <a:pt x="756" y="750"/>
                  </a:lnTo>
                  <a:lnTo>
                    <a:pt x="726" y="821"/>
                  </a:lnTo>
                  <a:lnTo>
                    <a:pt x="693" y="890"/>
                  </a:lnTo>
                  <a:lnTo>
                    <a:pt x="660" y="960"/>
                  </a:lnTo>
                  <a:lnTo>
                    <a:pt x="627" y="1028"/>
                  </a:lnTo>
                  <a:lnTo>
                    <a:pt x="592" y="1097"/>
                  </a:lnTo>
                  <a:lnTo>
                    <a:pt x="582" y="1106"/>
                  </a:lnTo>
                  <a:lnTo>
                    <a:pt x="574" y="1116"/>
                  </a:lnTo>
                  <a:lnTo>
                    <a:pt x="564" y="1124"/>
                  </a:lnTo>
                  <a:lnTo>
                    <a:pt x="554" y="1128"/>
                  </a:lnTo>
                  <a:lnTo>
                    <a:pt x="552" y="1117"/>
                  </a:lnTo>
                  <a:lnTo>
                    <a:pt x="556" y="1109"/>
                  </a:lnTo>
                  <a:lnTo>
                    <a:pt x="561" y="1101"/>
                  </a:lnTo>
                  <a:lnTo>
                    <a:pt x="569" y="1094"/>
                  </a:lnTo>
                  <a:lnTo>
                    <a:pt x="576" y="1087"/>
                  </a:lnTo>
                  <a:lnTo>
                    <a:pt x="584" y="1080"/>
                  </a:lnTo>
                  <a:lnTo>
                    <a:pt x="589" y="1071"/>
                  </a:lnTo>
                  <a:lnTo>
                    <a:pt x="592" y="1062"/>
                  </a:lnTo>
                  <a:lnTo>
                    <a:pt x="638" y="967"/>
                  </a:lnTo>
                  <a:lnTo>
                    <a:pt x="681" y="872"/>
                  </a:lnTo>
                  <a:lnTo>
                    <a:pt x="723" y="775"/>
                  </a:lnTo>
                  <a:lnTo>
                    <a:pt x="766" y="680"/>
                  </a:lnTo>
                  <a:lnTo>
                    <a:pt x="810" y="585"/>
                  </a:lnTo>
                  <a:lnTo>
                    <a:pt x="859" y="494"/>
                  </a:lnTo>
                  <a:lnTo>
                    <a:pt x="915" y="403"/>
                  </a:lnTo>
                  <a:lnTo>
                    <a:pt x="979" y="317"/>
                  </a:lnTo>
                  <a:lnTo>
                    <a:pt x="1161" y="128"/>
                  </a:lnTo>
                  <a:lnTo>
                    <a:pt x="1145" y="123"/>
                  </a:lnTo>
                  <a:lnTo>
                    <a:pt x="1131" y="122"/>
                  </a:lnTo>
                  <a:lnTo>
                    <a:pt x="1115" y="122"/>
                  </a:lnTo>
                  <a:lnTo>
                    <a:pt x="1101" y="125"/>
                  </a:lnTo>
                  <a:lnTo>
                    <a:pt x="1085" y="126"/>
                  </a:lnTo>
                  <a:lnTo>
                    <a:pt x="1071" y="127"/>
                  </a:lnTo>
                  <a:lnTo>
                    <a:pt x="1056" y="127"/>
                  </a:lnTo>
                  <a:lnTo>
                    <a:pt x="1042" y="128"/>
                  </a:lnTo>
                  <a:lnTo>
                    <a:pt x="1007" y="140"/>
                  </a:lnTo>
                  <a:lnTo>
                    <a:pt x="974" y="154"/>
                  </a:lnTo>
                  <a:lnTo>
                    <a:pt x="939" y="166"/>
                  </a:lnTo>
                  <a:lnTo>
                    <a:pt x="905" y="178"/>
                  </a:lnTo>
                  <a:lnTo>
                    <a:pt x="869" y="187"/>
                  </a:lnTo>
                  <a:lnTo>
                    <a:pt x="835" y="197"/>
                  </a:lnTo>
                  <a:lnTo>
                    <a:pt x="799" y="204"/>
                  </a:lnTo>
                  <a:lnTo>
                    <a:pt x="766" y="212"/>
                  </a:lnTo>
                  <a:lnTo>
                    <a:pt x="749" y="221"/>
                  </a:lnTo>
                  <a:lnTo>
                    <a:pt x="734" y="228"/>
                  </a:lnTo>
                  <a:lnTo>
                    <a:pt x="717" y="232"/>
                  </a:lnTo>
                  <a:lnTo>
                    <a:pt x="700" y="238"/>
                  </a:lnTo>
                  <a:lnTo>
                    <a:pt x="683" y="241"/>
                  </a:lnTo>
                  <a:lnTo>
                    <a:pt x="666" y="247"/>
                  </a:lnTo>
                  <a:lnTo>
                    <a:pt x="649" y="254"/>
                  </a:lnTo>
                  <a:lnTo>
                    <a:pt x="636" y="264"/>
                  </a:lnTo>
                  <a:lnTo>
                    <a:pt x="597" y="272"/>
                  </a:lnTo>
                  <a:lnTo>
                    <a:pt x="561" y="283"/>
                  </a:lnTo>
                  <a:lnTo>
                    <a:pt x="525" y="297"/>
                  </a:lnTo>
                  <a:lnTo>
                    <a:pt x="490" y="312"/>
                  </a:lnTo>
                  <a:lnTo>
                    <a:pt x="455" y="327"/>
                  </a:lnTo>
                  <a:lnTo>
                    <a:pt x="420" y="342"/>
                  </a:lnTo>
                  <a:lnTo>
                    <a:pt x="386" y="355"/>
                  </a:lnTo>
                  <a:lnTo>
                    <a:pt x="351" y="369"/>
                  </a:lnTo>
                  <a:lnTo>
                    <a:pt x="356" y="372"/>
                  </a:lnTo>
                  <a:lnTo>
                    <a:pt x="343" y="375"/>
                  </a:lnTo>
                  <a:lnTo>
                    <a:pt x="331" y="378"/>
                  </a:lnTo>
                  <a:lnTo>
                    <a:pt x="318" y="381"/>
                  </a:lnTo>
                  <a:lnTo>
                    <a:pt x="306" y="385"/>
                  </a:lnTo>
                  <a:lnTo>
                    <a:pt x="291" y="387"/>
                  </a:lnTo>
                  <a:lnTo>
                    <a:pt x="278" y="391"/>
                  </a:lnTo>
                  <a:lnTo>
                    <a:pt x="264" y="394"/>
                  </a:lnTo>
                  <a:lnTo>
                    <a:pt x="252" y="397"/>
                  </a:lnTo>
                  <a:lnTo>
                    <a:pt x="219" y="401"/>
                  </a:lnTo>
                  <a:lnTo>
                    <a:pt x="188" y="408"/>
                  </a:lnTo>
                  <a:lnTo>
                    <a:pt x="155" y="414"/>
                  </a:lnTo>
                  <a:lnTo>
                    <a:pt x="125" y="423"/>
                  </a:lnTo>
                  <a:lnTo>
                    <a:pt x="93" y="430"/>
                  </a:lnTo>
                  <a:lnTo>
                    <a:pt x="62" y="437"/>
                  </a:lnTo>
                  <a:lnTo>
                    <a:pt x="31" y="441"/>
                  </a:lnTo>
                  <a:lnTo>
                    <a:pt x="0" y="445"/>
                  </a:lnTo>
                  <a:lnTo>
                    <a:pt x="64" y="423"/>
                  </a:lnTo>
                  <a:lnTo>
                    <a:pt x="130" y="406"/>
                  </a:lnTo>
                  <a:lnTo>
                    <a:pt x="197" y="391"/>
                  </a:lnTo>
                  <a:lnTo>
                    <a:pt x="263" y="375"/>
                  </a:lnTo>
                  <a:lnTo>
                    <a:pt x="328" y="354"/>
                  </a:lnTo>
                  <a:lnTo>
                    <a:pt x="392" y="332"/>
                  </a:lnTo>
                  <a:lnTo>
                    <a:pt x="453" y="303"/>
                  </a:lnTo>
                  <a:lnTo>
                    <a:pt x="513" y="268"/>
                  </a:lnTo>
                  <a:lnTo>
                    <a:pt x="587" y="250"/>
                  </a:lnTo>
                  <a:lnTo>
                    <a:pt x="659" y="228"/>
                  </a:lnTo>
                  <a:lnTo>
                    <a:pt x="730" y="202"/>
                  </a:lnTo>
                  <a:lnTo>
                    <a:pt x="802" y="177"/>
                  </a:lnTo>
                  <a:lnTo>
                    <a:pt x="872" y="151"/>
                  </a:lnTo>
                  <a:lnTo>
                    <a:pt x="945" y="128"/>
                  </a:lnTo>
                  <a:lnTo>
                    <a:pt x="1019" y="110"/>
                  </a:lnTo>
                  <a:lnTo>
                    <a:pt x="1098" y="100"/>
                  </a:lnTo>
                  <a:lnTo>
                    <a:pt x="1152" y="85"/>
                  </a:lnTo>
                  <a:lnTo>
                    <a:pt x="1209" y="74"/>
                  </a:lnTo>
                  <a:lnTo>
                    <a:pt x="1265" y="63"/>
                  </a:lnTo>
                  <a:lnTo>
                    <a:pt x="1323" y="53"/>
                  </a:lnTo>
                  <a:lnTo>
                    <a:pt x="1381" y="42"/>
                  </a:lnTo>
                  <a:lnTo>
                    <a:pt x="1439" y="31"/>
                  </a:lnTo>
                  <a:lnTo>
                    <a:pt x="1495" y="17"/>
                  </a:lnTo>
                  <a:lnTo>
                    <a:pt x="1552" y="2"/>
                  </a:lnTo>
                  <a:lnTo>
                    <a:pt x="1570" y="2"/>
                  </a:lnTo>
                  <a:lnTo>
                    <a:pt x="1591" y="2"/>
                  </a:lnTo>
                  <a:lnTo>
                    <a:pt x="1612" y="1"/>
                  </a:lnTo>
                  <a:lnTo>
                    <a:pt x="1634" y="1"/>
                  </a:lnTo>
                  <a:lnTo>
                    <a:pt x="1654" y="0"/>
                  </a:lnTo>
                  <a:lnTo>
                    <a:pt x="1676" y="3"/>
                  </a:lnTo>
                  <a:lnTo>
                    <a:pt x="1693" y="10"/>
                  </a:lnTo>
                  <a:lnTo>
                    <a:pt x="17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38480" y="1717560"/>
              <a:ext cx="12600" cy="31680"/>
            </a:xfrm>
            <a:custGeom>
              <a:avLst/>
              <a:gdLst/>
              <a:ahLst/>
              <a:rect l="l" t="t" r="r" b="b"/>
              <a:pathLst>
                <a:path w="70" h="160">
                  <a:moveTo>
                    <a:pt x="70" y="160"/>
                  </a:moveTo>
                  <a:lnTo>
                    <a:pt x="63" y="141"/>
                  </a:lnTo>
                  <a:lnTo>
                    <a:pt x="56" y="122"/>
                  </a:lnTo>
                  <a:lnTo>
                    <a:pt x="48" y="102"/>
                  </a:lnTo>
                  <a:lnTo>
                    <a:pt x="40" y="84"/>
                  </a:lnTo>
                  <a:lnTo>
                    <a:pt x="30" y="64"/>
                  </a:lnTo>
                  <a:lnTo>
                    <a:pt x="21" y="46"/>
                  </a:lnTo>
                  <a:lnTo>
                    <a:pt x="10" y="28"/>
                  </a:lnTo>
                  <a:lnTo>
                    <a:pt x="0" y="11"/>
                  </a:lnTo>
                  <a:lnTo>
                    <a:pt x="8" y="0"/>
                  </a:lnTo>
                  <a:lnTo>
                    <a:pt x="19" y="16"/>
                  </a:lnTo>
                  <a:lnTo>
                    <a:pt x="30" y="36"/>
                  </a:lnTo>
                  <a:lnTo>
                    <a:pt x="40" y="56"/>
                  </a:lnTo>
                  <a:lnTo>
                    <a:pt x="49" y="76"/>
                  </a:lnTo>
                  <a:lnTo>
                    <a:pt x="56" y="97"/>
                  </a:lnTo>
                  <a:lnTo>
                    <a:pt x="63" y="117"/>
                  </a:lnTo>
                  <a:lnTo>
                    <a:pt x="67" y="139"/>
                  </a:lnTo>
                  <a:lnTo>
                    <a:pt x="7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76400" y="1841400"/>
              <a:ext cx="19080" cy="54000"/>
            </a:xfrm>
            <a:custGeom>
              <a:avLst/>
              <a:gdLst/>
              <a:ahLst/>
              <a:rect l="l" t="t" r="r" b="b"/>
              <a:pathLst>
                <a:path w="105" h="271">
                  <a:moveTo>
                    <a:pt x="17" y="0"/>
                  </a:moveTo>
                  <a:lnTo>
                    <a:pt x="17" y="34"/>
                  </a:lnTo>
                  <a:lnTo>
                    <a:pt x="20" y="71"/>
                  </a:lnTo>
                  <a:lnTo>
                    <a:pt x="27" y="106"/>
                  </a:lnTo>
                  <a:lnTo>
                    <a:pt x="37" y="142"/>
                  </a:lnTo>
                  <a:lnTo>
                    <a:pt x="48" y="175"/>
                  </a:lnTo>
                  <a:lnTo>
                    <a:pt x="64" y="209"/>
                  </a:lnTo>
                  <a:lnTo>
                    <a:pt x="83" y="240"/>
                  </a:lnTo>
                  <a:lnTo>
                    <a:pt x="105" y="271"/>
                  </a:lnTo>
                  <a:lnTo>
                    <a:pt x="79" y="243"/>
                  </a:lnTo>
                  <a:lnTo>
                    <a:pt x="58" y="214"/>
                  </a:lnTo>
                  <a:lnTo>
                    <a:pt x="39" y="183"/>
                  </a:lnTo>
                  <a:lnTo>
                    <a:pt x="24" y="152"/>
                  </a:lnTo>
                  <a:lnTo>
                    <a:pt x="11" y="118"/>
                  </a:lnTo>
                  <a:lnTo>
                    <a:pt x="4" y="84"/>
                  </a:lnTo>
                  <a:lnTo>
                    <a:pt x="0" y="47"/>
                  </a:lnTo>
                  <a:lnTo>
                    <a:pt x="2" y="9"/>
                  </a:lnTo>
                  <a:lnTo>
                    <a:pt x="8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2209680" y="2222640"/>
            <a:ext cx="0" cy="990360"/>
          </a:xfrm>
          <a:prstGeom prst="line">
            <a:avLst/>
          </a:prstGeom>
          <a:ln w="57240">
            <a:solidFill>
              <a:srgbClr val="ffcc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00000" y="33577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Arial Black"/>
                <a:cs typeface="AL-Mohanad Bold"/>
              </a:rPr>
              <a:t>التمثيل الداخل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716360" y="260280"/>
            <a:ext cx="324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32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PT Bold Heading"/>
              </a:rPr>
              <a:t>نموذج الاتصال الإنساني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622520" y="404640"/>
            <a:ext cx="2949480" cy="43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바탕"/>
              </a:rPr>
              <a:t>Human Modeling Proces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바탕"/>
              <a:ea typeface="바탕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5" dur="2000" fill="hold"/>
                                        <p:tgtEl>
                                          <p:spTgt spid="21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5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7" dur="2000" fill="hold"/>
                                        <p:tgtEl>
                                          <p:spTgt spid="21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51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9" dur="2000" fill="hold"/>
                                        <p:tgtEl>
                                          <p:spTgt spid="21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1" dur="2000" fill="hold"/>
                                        <p:tgtEl>
                                          <p:spTgt spid="21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5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3" dur="2000" fill="hold"/>
                                        <p:tgtEl>
                                          <p:spTgt spid="21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52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indefinite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indefinite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indefinite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indefinite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indefinite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indefinite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5052960" y="1981080"/>
            <a:ext cx="398304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PT Bold Dusky"/>
              </a:rPr>
              <a:t>القي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PT Bold Dusky"/>
              </a:rPr>
              <a:t>الاعتقاد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PT Bold Dusky"/>
              </a:rPr>
              <a:t>التجارب الشخص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PT Bold Dusky"/>
              </a:rPr>
              <a:t>المؤثرات الخارج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PT Bold Dusky"/>
              </a:rPr>
              <a:t>البرمجة السابق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427280" y="2192400"/>
            <a:ext cx="277920" cy="3598920"/>
            <a:chOff x="4427280" y="2192400"/>
            <a:chExt cx="277920" cy="3598920"/>
          </a:xfrm>
        </p:grpSpPr>
        <p:sp>
          <p:nvSpPr>
            <p:cNvPr id="254" name=""/>
            <p:cNvSpPr/>
            <p:nvPr/>
          </p:nvSpPr>
          <p:spPr>
            <a:xfrm rot="5400000">
              <a:off x="2782800" y="3867480"/>
              <a:ext cx="3565800" cy="27756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91160" y="2223360"/>
              <a:ext cx="14040" cy="3567960"/>
            </a:xfrm>
            <a:prstGeom prst="line">
              <a:avLst/>
            </a:prstGeom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28880" y="2226960"/>
              <a:ext cx="0" cy="3564360"/>
            </a:xfrm>
            <a:prstGeom prst="line">
              <a:avLst/>
            </a:prstGeom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38520" y="2223360"/>
              <a:ext cx="0" cy="3564360"/>
            </a:xfrm>
            <a:prstGeom prst="line">
              <a:avLst/>
            </a:prstGeom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552560" y="2192400"/>
              <a:ext cx="0" cy="3564360"/>
            </a:xfrm>
            <a:prstGeom prst="line">
              <a:avLst/>
            </a:prstGeom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76600" y="2223360"/>
              <a:ext cx="0" cy="3564360"/>
            </a:xfrm>
            <a:prstGeom prst="line">
              <a:avLst/>
            </a:prstGeom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28880" y="2223360"/>
              <a:ext cx="0" cy="3564360"/>
            </a:xfrm>
            <a:prstGeom prst="line">
              <a:avLst/>
            </a:prstGeom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3505320" y="5715000"/>
            <a:ext cx="2209680" cy="1143000"/>
          </a:xfrm>
          <a:custGeom>
            <a:avLst/>
            <a:gdLst>
              <a:gd name="textAreaLeft" fmla="*/ 345240 w 2209680"/>
              <a:gd name="textAreaRight" fmla="*/ 1933560 w 220968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0800000">
            <a:off x="3428640" y="1196280"/>
            <a:ext cx="2133720" cy="10666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1981080"/>
            <a:ext cx="407844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PT Bold Dusky"/>
              </a:rPr>
              <a:t>القي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PT Bold Dusky"/>
              </a:rPr>
              <a:t>الاعتقادا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3399"/>
                </a:solidFill>
                <a:latin typeface="Times New Roman"/>
                <a:cs typeface="PT Bold Heading"/>
              </a:rPr>
              <a:t>التجارب الشخصي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3300"/>
                </a:solidFill>
                <a:latin typeface="Times New Roman"/>
                <a:cs typeface="PT Bold Heading"/>
              </a:rPr>
              <a:t>المؤثرات الخارج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برمجة السابق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52680" y="1341360"/>
            <a:ext cx="190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3300"/>
                </a:solidFill>
                <a:latin typeface="Times New Roman"/>
              </a:rPr>
              <a:t>الرســـال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05320" y="5927760"/>
            <a:ext cx="190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3300"/>
                </a:solidFill>
                <a:latin typeface="Times New Roman"/>
              </a:rPr>
              <a:t>ردة الفع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800600" y="189000"/>
            <a:ext cx="4114800" cy="1191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00"/>
                </a:solidFill>
                <a:latin typeface="Times New Roman"/>
              </a:rPr>
              <a:t>المعنى   الأحاسيس   الحك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6503760" y="1143000"/>
            <a:ext cx="1066680" cy="609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189000"/>
            <a:ext cx="4114800" cy="1191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00"/>
                </a:solidFill>
                <a:latin typeface="Times New Roman"/>
              </a:rPr>
              <a:t>المعنى   الأحاسيس   الحك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1606320" y="1143000"/>
            <a:ext cx="1066680" cy="609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268360" y="115920"/>
            <a:ext cx="55436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32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PT Bold Heading"/>
              </a:rPr>
              <a:t>قبل أن تبدأ (( اسأل نفسك ))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1481040"/>
            <a:ext cx="87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00"/>
                </a:solidFill>
                <a:latin typeface="Arial"/>
                <a:cs typeface="PT Bold Heading"/>
              </a:rPr>
              <a:t>س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: ما الذي دفعني لأدرس و اتعلم فنون الإيصال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3786120"/>
            <a:ext cx="875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00"/>
                </a:solidFill>
                <a:latin typeface="Arial"/>
                <a:cs typeface="PT Bold Heading"/>
              </a:rPr>
              <a:t>س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: ما الذي اخطط أن أفعله بهذه المعلومات الجديدة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68000" y="2421000"/>
            <a:ext cx="828036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68000" y="2997360"/>
            <a:ext cx="828036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68000" y="3645000"/>
            <a:ext cx="828036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68000" y="4508640"/>
            <a:ext cx="828036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68000" y="5084640"/>
            <a:ext cx="828036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68000" y="5732640"/>
            <a:ext cx="828036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250"/>
                            </p:stCondLst>
                            <p:childTnLst>
                              <p:par>
                                <p:cTn id="2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75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250"/>
                            </p:stCondLst>
                            <p:childTnLst>
                              <p:par>
                                <p:cTn id="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450"/>
                            </p:stCondLst>
                            <p:childTnLst>
                              <p:par>
                                <p:cTn id="5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950"/>
                            </p:stCondLst>
                            <p:childTnLst>
                              <p:par>
                                <p:cTn id="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450"/>
                            </p:stCondLst>
                            <p:childTnLst>
                              <p:par>
                                <p:cTn id="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906720" y="54000"/>
            <a:ext cx="469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rial"/>
              </a:rPr>
              <a:t>عناصر الاتصال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19160" y="189000"/>
            <a:ext cx="4653000" cy="16509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779480" y="907560"/>
            <a:ext cx="7112160" cy="61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MCS Farisy E_U 3D."/>
              </a:rPr>
              <a:t>نموذج ديفز (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MCS Farisy E_U 3D."/>
              </a:rPr>
              <a:t>1997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MCS Farisy E_U 3D."/>
              </a:rPr>
              <a:t>م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0000"/>
                </a:solidFill>
                <a:latin typeface="Times New Roman"/>
                <a:cs typeface="Akhbar MT"/>
              </a:rPr>
              <a:t>يقسم عملية الاتصال إلى ست خطوات متتالية هي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تكوين الفكرة لدى المرسل 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ثم تحويل الفكرة إلى رموز 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ثم نقل الرسالة خلال قناة الاتصال 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ثم تسلم الرسالة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ثم تفسير الرموز وتحويلها إلى رسالة مرة أخرى 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ثم القيام بعمل أو تصرف ما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0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743040" y="1066680"/>
            <a:ext cx="7416720" cy="5349960"/>
          </a:xfrm>
          <a:prstGeom prst="ellipse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153280" cy="53337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352680" y="2590920"/>
            <a:ext cx="2057400" cy="26668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3300"/>
                </a:solidFill>
                <a:latin typeface="Times New Roman"/>
                <a:cs typeface="AF_Aseer"/>
              </a:rPr>
              <a:t>القيم والمعتقدات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3300"/>
                </a:solidFill>
                <a:latin typeface="Times New Roman"/>
                <a:cs typeface="AF_Aseer"/>
              </a:rPr>
              <a:t>اللغ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3300"/>
                </a:solidFill>
                <a:latin typeface="Times New Roman"/>
                <a:cs typeface="AF_Aseer"/>
              </a:rPr>
              <a:t>الذاكر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3300"/>
                </a:solidFill>
                <a:latin typeface="Times New Roman"/>
                <a:cs typeface="AF_Aseer"/>
              </a:rPr>
              <a:t>الترميز الزمني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3300"/>
                </a:solidFill>
                <a:latin typeface="Times New Roman"/>
                <a:cs typeface="AF_Aseer"/>
              </a:rPr>
              <a:t>البرامج العقلي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38080" y="1828800"/>
            <a:ext cx="2514600" cy="762120"/>
          </a:xfrm>
          <a:prstGeom prst="flowChartAlternateProcess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00"/>
                </a:solidFill>
                <a:latin typeface="Times New Roman"/>
                <a:cs typeface="AF_Aseer"/>
              </a:rPr>
              <a:t>التمثيل الداخل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38080" y="3733920"/>
            <a:ext cx="2210040" cy="685800"/>
          </a:xfrm>
          <a:prstGeom prst="roundRect">
            <a:avLst>
              <a:gd name="adj" fmla="val 50000"/>
            </a:avLst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3300"/>
                </a:solidFill>
                <a:latin typeface="Arial"/>
                <a:cs typeface="MCS Taybah S_U normal."/>
              </a:rPr>
              <a:t>الحال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38080" y="5105520"/>
            <a:ext cx="2133720" cy="761760"/>
          </a:xfrm>
          <a:prstGeom prst="roundRect">
            <a:avLst>
              <a:gd name="adj" fmla="val 50000"/>
            </a:avLst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00"/>
                </a:solidFill>
                <a:latin typeface="Times New Roman"/>
                <a:cs typeface="AF_Aseer"/>
              </a:rPr>
              <a:t>فسيولوج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410080"/>
            <a:ext cx="2210040" cy="914400"/>
          </a:xfrm>
          <a:prstGeom prst="flowChartAlternateProcess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800000"/>
                </a:solidFill>
                <a:latin typeface="Times New Roman"/>
                <a:cs typeface="AF_Aseer"/>
              </a:rPr>
              <a:t>السلو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29000" y="2041560"/>
            <a:ext cx="1447920" cy="100764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3300"/>
                </a:solidFill>
                <a:latin typeface="Times New Roman"/>
                <a:cs typeface="Kabir04 Normal"/>
              </a:rPr>
              <a:t>مرشحات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876920" y="1066680"/>
            <a:ext cx="1371600" cy="152424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00"/>
                </a:solidFill>
                <a:latin typeface="Times New Roman"/>
                <a:cs typeface="Kabir04 Normal"/>
              </a:rPr>
              <a:t>حذ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00"/>
                </a:solidFill>
                <a:latin typeface="Times New Roman"/>
                <a:cs typeface="Kabir04 Normal"/>
              </a:rPr>
              <a:t>تعمي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00"/>
                </a:solidFill>
                <a:latin typeface="Times New Roman"/>
                <a:cs typeface="Kabir04 Normal"/>
              </a:rPr>
              <a:t>تشوي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827680" y="3463920"/>
            <a:ext cx="330120" cy="5745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5827320" y="2859120"/>
            <a:ext cx="265320" cy="430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172200" y="2514600"/>
            <a:ext cx="2362320" cy="1905120"/>
            <a:chOff x="6172200" y="2514600"/>
            <a:chExt cx="2362320" cy="1905120"/>
          </a:xfrm>
        </p:grpSpPr>
        <p:sp>
          <p:nvSpPr>
            <p:cNvPr id="285" name=""/>
            <p:cNvSpPr/>
            <p:nvPr/>
          </p:nvSpPr>
          <p:spPr>
            <a:xfrm flipH="1">
              <a:off x="6172200" y="2514600"/>
              <a:ext cx="2362320" cy="1905120"/>
            </a:xfrm>
            <a:custGeom>
              <a:avLst/>
              <a:gdLst>
                <a:gd name="textAreaLeft" fmla="*/ 369360 w 2362320"/>
                <a:gd name="textAreaRight" fmla="*/ 2067480 w 2362320"/>
                <a:gd name="textAreaTop" fmla="*/ 476280 h 1905120"/>
                <a:gd name="textAreaBottom" fmla="*/ 14288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77120" y="2971800"/>
              <a:ext cx="1904760" cy="9144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400" spc="-1" strike="noStrike">
                  <a:solidFill>
                    <a:srgbClr val="800000"/>
                  </a:solidFill>
                  <a:latin typeface="Times New Roman"/>
                  <a:cs typeface="Kabir04 Normal"/>
                </a:rPr>
                <a:t>حدث خارجي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 rot="434400">
            <a:off x="6803640" y="5722920"/>
            <a:ext cx="817560" cy="533520"/>
          </a:xfrm>
          <a:custGeom>
            <a:avLst/>
            <a:gdLst>
              <a:gd name="textAreaLeft" fmla="*/ 127800 w 817560"/>
              <a:gd name="textAreaRight" fmla="*/ 715680 w 8175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cc3300"/>
            </a:solidFill>
            <a:miter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8120" y="76320"/>
            <a:ext cx="46479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3240">
                  <a:solidFill>
                    <a:srgbClr val="e8e7e9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a8a8b"/>
                  </a:outerShdw>
                </a:effectLst>
                <a:latin typeface="Arial Black"/>
              </a:rPr>
              <a:t>نموذج الإتصال الإنساني</a:t>
            </a:r>
            <a:endParaRPr b="1" lang="en-US" sz="2400" spc="1" strike="noStrike">
              <a:ln w="3240">
                <a:solidFill>
                  <a:srgbClr val="e8e7e9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a8a8b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9" name=""/>
          <p:cNvSpPr/>
          <p:nvPr/>
        </p:nvSpPr>
        <p:spPr>
          <a:xfrm rot="13393200">
            <a:off x="1901880" y="2855520"/>
            <a:ext cx="2114640" cy="590760"/>
          </a:xfrm>
          <a:custGeom>
            <a:avLst/>
            <a:gdLst>
              <a:gd name="textAreaLeft" fmla="*/ 264240 w 2114640"/>
              <a:gd name="textAreaRight" fmla="*/ 1850400 w 2114640"/>
              <a:gd name="textAreaTop" fmla="*/ 147600 h 590760"/>
              <a:gd name="textAreaBottom" fmla="*/ 443160 h 590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  <a:effectLst>
            <a:outerShdw dist="17819" dir="2700000" blurRad="0" rotWithShape="0">
              <a:srgbClr val="005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rot="13393800">
            <a:off x="2062800" y="4992120"/>
            <a:ext cx="2815920" cy="516240"/>
          </a:xfrm>
          <a:custGeom>
            <a:avLst/>
            <a:gdLst>
              <a:gd name="textAreaLeft" fmla="*/ 351720 w 2815920"/>
              <a:gd name="textAreaRight" fmla="*/ 2464200 w 2815920"/>
              <a:gd name="textAreaTop" fmla="*/ 128880 h 516240"/>
              <a:gd name="textAreaBottom" fmla="*/ 387360 h 516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  <a:effectLst>
            <a:outerShdw dist="17819" dir="2700000" blurRad="0" rotWithShape="0">
              <a:srgbClr val="005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" y="6553080"/>
            <a:ext cx="8305920" cy="0"/>
          </a:xfrm>
          <a:prstGeom prst="line">
            <a:avLst/>
          </a:prstGeom>
          <a:ln w="57240">
            <a:solidFill>
              <a:srgbClr val="3333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6543720"/>
            <a:ext cx="32763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pyright</a:t>
            </a: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2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43400" y="6534000"/>
            <a:ext cx="4419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MCS Modern S_U normal."/>
                <a:ea typeface="Arial"/>
              </a:rPr>
              <a:t> </a:t>
            </a:r>
            <a:r>
              <a:rPr b="1" lang="ar-SA" sz="1200" spc="-1" strike="noStrike">
                <a:solidFill>
                  <a:srgbClr val="000000"/>
                </a:solidFill>
                <a:latin typeface="MCS Modern S_U normal."/>
                <a:ea typeface="Arial"/>
              </a:rPr>
              <a:t>:: </a:t>
            </a:r>
            <a:r>
              <a:rPr b="1" lang="ar-SA" sz="1200" spc="-1" strike="noStrike">
                <a:solidFill>
                  <a:srgbClr val="000000"/>
                </a:solidFill>
                <a:latin typeface="MCS Modern S_U normal."/>
                <a:cs typeface="Arial"/>
              </a:rPr>
              <a:t>عبد الرحمن الحازمي، د.عبد القادر تنكل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LP</a:t>
            </a:r>
            <a:r>
              <a:rPr b="1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lang="ar-SA" sz="1200" spc="-1" strike="noStrike">
                <a:solidFill>
                  <a:srgbClr val="000000"/>
                </a:solidFill>
                <a:latin typeface="Tahoma"/>
                <a:cs typeface="Arial"/>
              </a:rPr>
              <a:t>استراتيجيات الامتياز البشري (دبلوم)</a:t>
            </a:r>
            <a:r>
              <a:rPr b="1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676520" y="2044800"/>
            <a:ext cx="5638680" cy="3975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2057400" y="182520"/>
            <a:ext cx="6858000" cy="100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4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993300"/>
                </a:solidFill>
                <a:latin typeface="Arial"/>
                <a:cs typeface="MCS Jeddah S_U normal."/>
              </a:rPr>
              <a:t>المستويات الثلاث للـبرمجة  (نموذج مرسيدس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371600" y="1219320"/>
            <a:ext cx="6400440" cy="741240"/>
            <a:chOff x="1371600" y="1219320"/>
            <a:chExt cx="6400440" cy="741240"/>
          </a:xfrm>
        </p:grpSpPr>
        <p:grpSp>
          <p:nvGrpSpPr>
            <p:cNvPr id="297" name=""/>
            <p:cNvGrpSpPr/>
            <p:nvPr/>
          </p:nvGrpSpPr>
          <p:grpSpPr>
            <a:xfrm>
              <a:off x="1378080" y="1224000"/>
              <a:ext cx="6386760" cy="731880"/>
              <a:chOff x="1378080" y="1224000"/>
              <a:chExt cx="6386760" cy="731880"/>
            </a:xfrm>
          </p:grpSpPr>
          <p:sp>
            <p:nvSpPr>
              <p:cNvPr id="298" name=""/>
              <p:cNvSpPr/>
              <p:nvPr/>
            </p:nvSpPr>
            <p:spPr>
              <a:xfrm>
                <a:off x="1378080" y="1224000"/>
                <a:ext cx="6386760" cy="731880"/>
              </a:xfrm>
              <a:prstGeom prst="rect">
                <a:avLst/>
              </a:prstGeom>
              <a:solidFill>
                <a:srgbClr val="deedff"/>
              </a:solidFill>
              <a:ln w="0">
                <a:noFill/>
              </a:ln>
              <a:effectLst>
                <a:outerShdw dist="17819" dir="2700000" blurRad="0" rotWithShape="0">
                  <a:srgbClr val="848d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9" name=""/>
              <p:cNvGrpSpPr/>
              <p:nvPr/>
            </p:nvGrpSpPr>
            <p:grpSpPr>
              <a:xfrm>
                <a:off x="1378080" y="1224000"/>
                <a:ext cx="6386400" cy="731880"/>
                <a:chOff x="1378080" y="1224000"/>
                <a:chExt cx="6386400" cy="73188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1475640" y="1224000"/>
                  <a:ext cx="6191640" cy="731880"/>
                </a:xfrm>
                <a:prstGeom prst="rect">
                  <a:avLst/>
                </a:prstGeom>
                <a:solidFill>
                  <a:srgbClr val="deedff"/>
                </a:solidFill>
                <a:ln w="0">
                  <a:noFill/>
                </a:ln>
                <a:effectLst>
                  <a:outerShdw dist="17819" dir="2700000" blurRad="0" rotWithShape="0">
                    <a:srgbClr val="848d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3300"/>
                      </a:solidFill>
                      <a:latin typeface="Albertus Extra Bold"/>
                      <a:ea typeface="MCS FREEDOM"/>
                    </a:rPr>
                    <a:t>The three levels of NLP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378080" y="1224000"/>
                  <a:ext cx="63864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2" name=""/>
            <p:cNvSpPr/>
            <p:nvPr/>
          </p:nvSpPr>
          <p:spPr>
            <a:xfrm>
              <a:off x="1371600" y="1219320"/>
              <a:ext cx="640044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04920" y="914400"/>
            <a:ext cx="8610480" cy="0"/>
          </a:xfrm>
          <a:prstGeom prst="line">
            <a:avLst/>
          </a:prstGeom>
          <a:ln w="25560">
            <a:solidFill>
              <a:srgbClr val="c0c0c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38480" y="3581280"/>
            <a:ext cx="914400" cy="91440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114300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300"/>
                </a:solidFill>
                <a:latin typeface="MCS Taybah S_U normal."/>
                <a:cs typeface="MCS Taybah S_U normal."/>
              </a:rPr>
              <a:t>المستويات الثلاثة للبرمجة اللغوية العصب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r" rtl="1">
              <a:lnSpc>
                <a:spcPct val="100000"/>
              </a:lnSpc>
              <a:buClr>
                <a:srgbClr val="800000"/>
              </a:buClr>
              <a:buFont typeface="Times New Roman (Arabic)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3300"/>
                </a:solidFill>
                <a:latin typeface="Times New Roman (Arabic)"/>
                <a:cs typeface="MCS Taybah S_U normal."/>
              </a:rPr>
              <a:t>مستوى السلوك الخارجي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r" rtl="1">
              <a:lnSpc>
                <a:spcPct val="100000"/>
              </a:lnSpc>
              <a:buClr>
                <a:srgbClr val="800000"/>
              </a:buClr>
              <a:buFont typeface="Times New Roman (Arabic)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3300"/>
                </a:solidFill>
                <a:latin typeface="Times New Roman (Arabic)"/>
                <a:cs typeface="MCS Taybah S_U normal."/>
              </a:rPr>
              <a:t>مستوى التفكير الداخل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r" rtl="1">
              <a:lnSpc>
                <a:spcPct val="100000"/>
              </a:lnSpc>
              <a:buClr>
                <a:srgbClr val="800000"/>
              </a:buClr>
              <a:buFont typeface="Times New Roman (Arabic)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3300"/>
                </a:solidFill>
                <a:latin typeface="Times New Roman (Arabic)"/>
                <a:cs typeface="MCS Taybah S_U normal."/>
              </a:rPr>
              <a:t>مستوى الشعور الداخل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33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300"/>
                </a:solidFill>
                <a:latin typeface="Traditional Arabic"/>
                <a:cs typeface="MCS Taybah S_U normal."/>
              </a:rPr>
              <a:t>كافة المستويات الثلاث مرتبطة ببعضها البعض و يؤثر كل مستوى على الآخ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33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300"/>
                </a:solidFill>
                <a:latin typeface="Traditional Arabic"/>
                <a:cs typeface="MCS Taybah S_U normal."/>
              </a:rPr>
              <a:t>أي تغيير فى أي مستوي يؤثر فى باق المستويا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33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300"/>
                </a:solidFill>
                <a:latin typeface="Traditional Arabic"/>
                <a:cs typeface="MCS Taybah S_U normal."/>
              </a:rPr>
              <a:t>كل إنسان له تأثير على أحد هذه المستويات أكبر من المستويات الأخرى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33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300"/>
                </a:solidFill>
                <a:latin typeface="Traditional Arabic"/>
                <a:cs typeface="MCS Taybah S_U normal."/>
              </a:rPr>
              <a:t>كل إنسان لديه القدرة على السيطرة على كافة المستويات.</a:t>
            </a:r>
            <a:r>
              <a:rPr b="0" lang="ar-SA" sz="3200" spc="-1" strike="noStrike">
                <a:solidFill>
                  <a:srgbClr val="003300"/>
                </a:solidFill>
                <a:latin typeface="Traditional Arabic"/>
                <a:ea typeface="MCS Taybah S_U normal.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52360" y="1052640"/>
            <a:ext cx="4519800" cy="3240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07" name=""/>
          <p:cNvSpPr/>
          <p:nvPr/>
        </p:nvSpPr>
        <p:spPr>
          <a:xfrm>
            <a:off x="2057400" y="182520"/>
            <a:ext cx="6781680" cy="100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4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993300"/>
                </a:solidFill>
                <a:latin typeface="Arial"/>
                <a:cs typeface="MCS Jeddah S_U normal."/>
              </a:rPr>
              <a:t>المستويات الثلاث للـبرمجة  (نموذج مرسيدس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04920" y="914400"/>
            <a:ext cx="8610480" cy="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9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5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8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3" dur="500"/>
                                        <p:tgtEl>
                                          <p:spTgt spid="3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8" dur="500"/>
                                        <p:tgtEl>
                                          <p:spTgt spid="3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3" dur="500"/>
                                        <p:tgtEl>
                                          <p:spTgt spid="30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8" dur="500"/>
                                        <p:tgtEl>
                                          <p:spTgt spid="30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023920" y="3581280"/>
            <a:ext cx="1490760" cy="163044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19360" y="4083120"/>
            <a:ext cx="2155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8080"/>
                </a:solidFill>
                <a:latin typeface="Tahoma"/>
                <a:cs typeface="MCS Jeddah S_U normal."/>
              </a:rPr>
              <a:t>الذ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395520" y="1523880"/>
            <a:ext cx="1575000" cy="1630440"/>
          </a:xfrm>
          <a:prstGeom prst="ellipse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90960" y="2057400"/>
            <a:ext cx="21556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6600"/>
                </a:solidFill>
                <a:latin typeface="Tahoma"/>
                <a:cs typeface="MCS Jeddah S_U normal."/>
              </a:rPr>
              <a:t>المراقب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76960" y="3505320"/>
            <a:ext cx="1574640" cy="1630080"/>
          </a:xfrm>
          <a:prstGeom prst="ellipse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072040" y="3940200"/>
            <a:ext cx="2155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00"/>
                </a:solidFill>
                <a:latin typeface="Tahoma"/>
                <a:cs typeface="MCS Jeddah S_U normal."/>
              </a:rPr>
              <a:t>الآخر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48160" y="4191120"/>
            <a:ext cx="1906560" cy="14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471480" y="4495680"/>
            <a:ext cx="1989000" cy="180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2937960" y="2743200"/>
            <a:ext cx="746280" cy="95868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91160" y="2895480"/>
            <a:ext cx="828720" cy="9590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2360" y="2708280"/>
            <a:ext cx="1658880" cy="3241800"/>
          </a:xfrm>
          <a:prstGeom prst="wedgeRoundRectCallout">
            <a:avLst>
              <a:gd name="adj1" fmla="val 67402"/>
              <a:gd name="adj2" fmla="val -11898"/>
              <a:gd name="adj3" fmla="val 16667"/>
            </a:avLst>
          </a:prstGeom>
          <a:solidFill>
            <a:srgbClr val="009999"/>
          </a:solidFill>
          <a:ln w="0">
            <a:noFill/>
          </a:ln>
          <a:effectLst>
            <a:outerShdw dist="17819" dir="2700000" blurRad="0" rotWithShape="0">
              <a:srgbClr val="005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imes New Roman"/>
                <a:cs typeface="MCS Taybah S_U normal."/>
              </a:rPr>
              <a:t>الموقع </a:t>
            </a: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MCS Taybah S_U normal."/>
              </a:rPr>
              <a:t>الاول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08080"/>
                </a:solidFill>
                <a:latin typeface="Times New Roman"/>
                <a:ea typeface="MCS Taybah S_U normal."/>
              </a:rPr>
              <a:t>( </a:t>
            </a:r>
            <a:r>
              <a:rPr b="0" lang="ar-SA" sz="2800" spc="-1" strike="noStrike">
                <a:solidFill>
                  <a:srgbClr val="660066"/>
                </a:solidFill>
                <a:latin typeface="Times New Roman"/>
                <a:cs typeface="MCS Taybah S_U normal."/>
              </a:rPr>
              <a:t>الذات</a:t>
            </a:r>
            <a:r>
              <a:rPr b="0" lang="ar-SA" sz="2800" spc="-1" strike="noStrike">
                <a:solidFill>
                  <a:srgbClr val="808080"/>
                </a:solidFill>
                <a:latin typeface="Times New Roman"/>
                <a:ea typeface="MCS Taybah S_U normal."/>
              </a:rPr>
              <a:t>)</a:t>
            </a:r>
            <a:r>
              <a:rPr b="0" lang="ar-SA" sz="2800" spc="-1" strike="noStrike">
                <a:solidFill>
                  <a:srgbClr val="000066"/>
                </a:solidFill>
                <a:latin typeface="Times New Roman"/>
                <a:ea typeface="MCS Taybah S_U normal."/>
              </a:rPr>
              <a:t> مرجعية كاملة للذ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MCS Taybah S_U normal."/>
              </a:rPr>
              <a:t>من وجهة نظرك أن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00640" y="1143000"/>
            <a:ext cx="3646440" cy="2206800"/>
          </a:xfrm>
          <a:prstGeom prst="wedgeRoundRectCallout">
            <a:avLst>
              <a:gd name="adj1" fmla="val -60967"/>
              <a:gd name="adj2" fmla="val -4458"/>
              <a:gd name="adj3" fmla="val 16667"/>
            </a:avLst>
          </a:prstGeom>
          <a:solidFill>
            <a:srgbClr val="009999"/>
          </a:solidFill>
          <a:ln w="0">
            <a:noFill/>
          </a:ln>
          <a:effectLst>
            <a:outerShdw dist="17819" dir="2700000" blurRad="0" rotWithShape="0">
              <a:srgbClr val="005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66"/>
                </a:solidFill>
                <a:latin typeface="Times New Roman"/>
                <a:cs typeface="MCS Taybah S_U normal."/>
              </a:rPr>
              <a:t>الموقع الثالث : </a:t>
            </a:r>
            <a:r>
              <a:rPr b="0" lang="ar-SA" sz="3400" spc="-1" strike="noStrike">
                <a:solidFill>
                  <a:srgbClr val="336600"/>
                </a:solidFill>
                <a:latin typeface="Times New Roman"/>
                <a:ea typeface="MCS Taybah S_U normal."/>
              </a:rPr>
              <a:t>( </a:t>
            </a:r>
            <a:r>
              <a:rPr b="1" lang="ar-SA" sz="3400" spc="-1" strike="noStrike">
                <a:solidFill>
                  <a:srgbClr val="336600"/>
                </a:solidFill>
                <a:latin typeface="Times New Roman"/>
                <a:cs typeface="MCS Taybah S_U normal."/>
              </a:rPr>
              <a:t>المراقب</a:t>
            </a:r>
            <a:r>
              <a:rPr b="0" lang="ar-SA" sz="3400" spc="-1" strike="noStrike">
                <a:solidFill>
                  <a:srgbClr val="336600"/>
                </a:solidFill>
                <a:latin typeface="Times New Roman"/>
                <a:ea typeface="MCS Taybah S_U normal."/>
              </a:rPr>
              <a:t>)</a:t>
            </a:r>
            <a:r>
              <a:rPr b="0" lang="ar-SA" sz="3400" spc="-1" strike="noStrike">
                <a:solidFill>
                  <a:srgbClr val="000066"/>
                </a:solidFill>
                <a:latin typeface="Times New Roman"/>
                <a:ea typeface="MCS Taybah S_U normal."/>
              </a:rPr>
              <a:t> غير منحاز (محايد) ينظر للموقف والعلاقة بين الذات والآخر ويقدر الاثنين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105440" y="5300640"/>
            <a:ext cx="4667040" cy="1343160"/>
          </a:xfrm>
          <a:prstGeom prst="wedgeRoundRectCallout">
            <a:avLst>
              <a:gd name="adj1" fmla="val -14143"/>
              <a:gd name="adj2" fmla="val -78842"/>
              <a:gd name="adj3" fmla="val 16667"/>
            </a:avLst>
          </a:prstGeom>
          <a:solidFill>
            <a:srgbClr val="009999"/>
          </a:solidFill>
          <a:ln w="0">
            <a:noFill/>
          </a:ln>
          <a:effectLst>
            <a:outerShdw dist="17819" dir="2700000" blurRad="0" rotWithShape="0">
              <a:srgbClr val="005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66"/>
                </a:solidFill>
                <a:latin typeface="Times New Roman"/>
                <a:cs typeface="MCS Taybah S_U normal."/>
              </a:rPr>
              <a:t>الموقع الثاني :</a:t>
            </a:r>
            <a:r>
              <a:rPr b="0" lang="ar-SA" sz="3600" spc="-1" strike="noStrike">
                <a:solidFill>
                  <a:srgbClr val="800000"/>
                </a:solidFill>
                <a:latin typeface="Times New Roman"/>
                <a:ea typeface="MCS Taybah S_U normal."/>
              </a:rPr>
              <a:t> (</a:t>
            </a:r>
            <a:r>
              <a:rPr b="1" lang="ar-SA" sz="3600" spc="-1" strike="noStrike">
                <a:solidFill>
                  <a:srgbClr val="800000"/>
                </a:solidFill>
                <a:latin typeface="Times New Roman"/>
                <a:cs typeface="MCS Taybah S_U normal."/>
              </a:rPr>
              <a:t>الآخر</a:t>
            </a:r>
            <a:r>
              <a:rPr b="0" lang="ar-SA" sz="3600" spc="-1" strike="noStrike">
                <a:solidFill>
                  <a:srgbClr val="800000"/>
                </a:solidFill>
                <a:latin typeface="Times New Roman"/>
                <a:ea typeface="MCS Taybah S_U normal."/>
              </a:rPr>
              <a:t>)</a:t>
            </a:r>
            <a:r>
              <a:rPr b="0" lang="ar-SA" sz="3600" spc="-1" strike="noStrike">
                <a:solidFill>
                  <a:srgbClr val="000066"/>
                </a:solidFill>
                <a:latin typeface="Times New Roman"/>
                <a:ea typeface="MCS Taybah S_U normal."/>
              </a:rPr>
              <a:t> وجهة نظر الشخص الآخر مرجعية كاملة للآخر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43040" y="152280"/>
            <a:ext cx="671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0000"/>
                </a:solidFill>
                <a:latin typeface="Times New Roman"/>
                <a:cs typeface="MCS Jeddah S_U normal."/>
              </a:rPr>
              <a:t>مواقع الإدراك  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MCS Jeddah S_U normal."/>
              </a:rPr>
              <a:t>Perceptual Pos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2360" y="907920"/>
            <a:ext cx="8507520" cy="7308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906720" y="54000"/>
            <a:ext cx="469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rial"/>
              </a:rPr>
              <a:t>الاتصال الفعال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-712440" y="1341000"/>
            <a:ext cx="129121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00"/>
                </a:solidFill>
                <a:latin typeface="Times New Roman"/>
                <a:cs typeface="Hesham Bold"/>
              </a:rPr>
              <a:t>ولو كنت فضاً غلظ القلب ..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( ماكان الرفق في شيئ الا زانه وما نزع من شيئ الا شانه 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وقع الآخر 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( فقولا له قولاً ليناً لعله يذكر أو يخشى ..)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-3320640" y="4004640"/>
            <a:ext cx="163458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00"/>
                </a:solidFill>
                <a:latin typeface="Times New Roman"/>
                <a:cs typeface="Hesham Bold"/>
              </a:rPr>
              <a:t>السحر الحلال مع ابتسامة لطيفة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( وتبسمك في وجه أخيك صدقة 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مثل الصيني المشهور :( إن من لايحرص على الابتسام يجب ألاّ يفتح متجراً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ابتسامة نفتح الأبواب الموصدة ، العقول المغلق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906720" y="54000"/>
            <a:ext cx="469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rial"/>
              </a:rPr>
              <a:t>الاتصال الفعال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-4362840" y="3573360"/>
            <a:ext cx="1786968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00"/>
                </a:solidFill>
                <a:latin typeface="Times New Roman"/>
                <a:cs typeface="Hesham Bold"/>
              </a:rPr>
              <a:t>تذكر أن أي شيء يصل للآخرين هو وسيلة اتصال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طرف المرسل غير مهتم كثيراً بالتفاصي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إن الحرص على الشكليات المقبولة وبدون مبالغة ونبرة الصوت وارتفاعه وحدته 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السكون ، كلها وسائل اتصال يتوجب عليك أن تضعها في الحسبان لئلا تقع في مأز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خاطبة من حولك برسائل خاطئة من غير قصد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-3024720" y="1413000"/>
            <a:ext cx="1565712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00"/>
                </a:solidFill>
                <a:latin typeface="Times New Roman"/>
                <a:cs typeface="Hesham Bold"/>
              </a:rPr>
              <a:t>اللبيب بالإشارة يفهم :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نت رائع في القاء النصائح .. وتعرف كل شيئ ، ولكن ثم ماذا ( النتيجة ) ؟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قصة واحدة أو مثل مشهور ، تكفيك عن ألف كلمة 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906720" y="54000"/>
            <a:ext cx="469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rial"/>
              </a:rPr>
              <a:t>الاتصال الفعال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-4378680" y="1845000"/>
            <a:ext cx="175953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00"/>
                </a:solidFill>
                <a:latin typeface="Times New Roman"/>
                <a:cs typeface="Hesham Bold"/>
              </a:rPr>
              <a:t>استمع بدقة واستيعاب إلى الرسالة التي ينقلها الآخرون إليك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بحث عن كل ما تحمله من معاني قدر المستطاع 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Akhbar MT"/>
              </a:rPr>
              <a:t> ولا تقصر تركيزك على بضع كلمات من الرسالة ( الخارطة ) 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Akhbar MT"/>
              </a:rPr>
              <a:t> فإن ما تعنيه هذه الكلمات بالنسبة لك قد يختلف عن ما تعنيه لشخص آخر .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-1200240" y="4723560"/>
            <a:ext cx="134686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00"/>
                </a:solidFill>
                <a:latin typeface="Times New Roman"/>
                <a:ea typeface="Hesham Bold"/>
              </a:rPr>
              <a:t> </a:t>
            </a:r>
            <a:r>
              <a:rPr b="1" lang="ar-SA" sz="3600" spc="-1" strike="noStrike">
                <a:solidFill>
                  <a:srgbClr val="800000"/>
                </a:solidFill>
                <a:latin typeface="Times New Roman"/>
                <a:cs typeface="Hesham Bold"/>
              </a:rPr>
              <a:t>كن واضحاً ومحدداً 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ا تدور حول الموضوع بالتحدث في العموميات الغامضة 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فإذا تحدثت بحديث عام فليكن لديك شيء محدد يوضح قصدك .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0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906720" y="54000"/>
            <a:ext cx="469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rial"/>
              </a:rPr>
              <a:t>الاتصال الفعال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-3874680" y="1596240"/>
            <a:ext cx="1714896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00"/>
                </a:solidFill>
                <a:latin typeface="Times New Roman"/>
                <a:ea typeface="Hesham Bold"/>
              </a:rPr>
              <a:t> تحقق من جدوى الاتصال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Hesham Bold"/>
              </a:rPr>
              <a:t> أسال نفسك قبل الدخول في أي عملية اتصال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ما الهدف منها ؟ إذا كان هدفها واضحاً ويستحق المتابعة فالاتصال هنا أمر مطلو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وإلا كان تركه أفضل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-1808280" y="4120560"/>
            <a:ext cx="14338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00"/>
                </a:solidFill>
                <a:latin typeface="Times New Roman"/>
                <a:ea typeface="Hesham Bold"/>
              </a:rPr>
              <a:t> </a:t>
            </a:r>
            <a:r>
              <a:rPr b="1" lang="ar-SA" sz="3600" spc="-1" strike="noStrike">
                <a:solidFill>
                  <a:srgbClr val="800000"/>
                </a:solidFill>
                <a:latin typeface="Times New Roman"/>
                <a:cs typeface="Hesham Bold"/>
              </a:rPr>
              <a:t>وسع دائرة التفكير لديك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تذكر بأن الكلمات عبارة عن رموز وكلما ازدادت معرفتنا ومعلوماتنا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عن القضايا التي تتحدث عنها ازدادت قدرتنا على التأثير والإقناع .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0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3906720" y="54000"/>
            <a:ext cx="469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rial"/>
              </a:rPr>
              <a:t>الاتصال الفعال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-2741760" y="1558080"/>
            <a:ext cx="157028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00"/>
                </a:solidFill>
                <a:latin typeface="Times New Roman"/>
                <a:cs typeface="Hesham Bold"/>
              </a:rPr>
              <a:t>ضع مصدر الرسالة في اعتبارك على الدوا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وكلما عرف المتصل بشكل أفض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كنت قادراً على تقييم رسالة والدوافع الكامنة وراء إرسالها بشكل أحسن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-1177200" y="3283920"/>
            <a:ext cx="136119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00"/>
                </a:solidFill>
                <a:latin typeface="Times New Roman"/>
                <a:cs typeface="Hesham Bold"/>
              </a:rPr>
              <a:t>صمم رسالتك بما يتناسب مع المستمعين 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ختر الكلمات والمفاهيم والأفكار التي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تجعلهم يتفاعلون معك بناءً على ما يحملون من خلفية ومعرفة .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-3467880" y="5208120"/>
            <a:ext cx="16626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00"/>
                </a:solidFill>
                <a:latin typeface="Times New Roman"/>
                <a:ea typeface="Hesham Bold"/>
              </a:rPr>
              <a:t> </a:t>
            </a:r>
            <a:r>
              <a:rPr b="1" lang="ar-SA" sz="3600" spc="-1" strike="noStrike">
                <a:solidFill>
                  <a:srgbClr val="800000"/>
                </a:solidFill>
                <a:latin typeface="Times New Roman"/>
                <a:cs typeface="Hesham Bold"/>
              </a:rPr>
              <a:t>أطرح الأسئلة ثم دع المتحدث يؤكد لك أن ما فهمته في الواقع صحيح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( هل هذا ماقصدته أنت .. ) ( عفوا .. أنت مهتم ب...)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411280" y="115920"/>
            <a:ext cx="55436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32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PT Bold Heading"/>
              </a:rPr>
              <a:t>مدرج التعلم ـ سلم التعلم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1619280" y="4796640"/>
            <a:ext cx="7200720" cy="865080"/>
          </a:xfrm>
          <a:custGeom>
            <a:avLst/>
            <a:gdLst>
              <a:gd name="textAreaLeft" fmla="*/ 990360 w 7200720"/>
              <a:gd name="textAreaRight" fmla="*/ 6210360 w 7200720"/>
              <a:gd name="textAreaTop" fmla="*/ 118800 h 865080"/>
              <a:gd name="textAreaBottom" fmla="*/ 74628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401" y="21600"/>
                </a:lnTo>
                <a:lnTo>
                  <a:pt x="2199" y="216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مرحلة عدم وعي ـ وعدم مهار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2339640" y="3931920"/>
            <a:ext cx="5761080" cy="865080"/>
          </a:xfrm>
          <a:custGeom>
            <a:avLst/>
            <a:gdLst>
              <a:gd name="textAreaLeft" fmla="*/ 867960 w 5761080"/>
              <a:gd name="textAreaRight" fmla="*/ 4893120 w 5761080"/>
              <a:gd name="textAreaTop" fmla="*/ 130320 h 865080"/>
              <a:gd name="textAreaBottom" fmla="*/ 734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892" y="21600"/>
                </a:lnTo>
                <a:lnTo>
                  <a:pt x="2708" y="216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99"/>
                </a:solidFill>
                <a:latin typeface="Arial"/>
                <a:cs typeface="PT Bold Heading"/>
              </a:rPr>
              <a:t>مرحلة وعي ـ وعدم مهار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0800000">
            <a:off x="3058920" y="3068280"/>
            <a:ext cx="4321080" cy="865080"/>
          </a:xfrm>
          <a:custGeom>
            <a:avLst/>
            <a:gdLst>
              <a:gd name="textAreaLeft" fmla="*/ 784440 w 4321080"/>
              <a:gd name="textAreaRight" fmla="*/ 3536640 w 4321080"/>
              <a:gd name="textAreaTop" fmla="*/ 156960 h 865080"/>
              <a:gd name="textAreaBottom" fmla="*/ 70812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691" y="21600"/>
                </a:lnTo>
                <a:lnTo>
                  <a:pt x="3909" y="216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300"/>
                </a:solidFill>
                <a:latin typeface="Arial"/>
                <a:cs typeface="PT Bold Heading"/>
              </a:rPr>
              <a:t>مرحلة وعي ـ و مهار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51280" y="1557360"/>
            <a:ext cx="2736720" cy="151128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800000"/>
                </a:solidFill>
                <a:latin typeface="Arial"/>
                <a:cs typeface="PT Bold Heading"/>
              </a:rPr>
              <a:t>مرح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800000"/>
                </a:solidFill>
                <a:latin typeface="Arial"/>
                <a:cs typeface="PT Bold Heading"/>
              </a:rPr>
              <a:t>عدم وعي ومها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411280" y="4797360"/>
            <a:ext cx="5616720" cy="0"/>
          </a:xfrm>
          <a:prstGeom prst="line">
            <a:avLst/>
          </a:prstGeom>
          <a:ln w="38160">
            <a:solidFill>
              <a:srgbClr val="99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851280" y="3068640"/>
            <a:ext cx="2664000" cy="0"/>
          </a:xfrm>
          <a:prstGeom prst="line">
            <a:avLst/>
          </a:prstGeom>
          <a:ln w="38160">
            <a:solidFill>
              <a:srgbClr val="99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059280" y="3933720"/>
            <a:ext cx="4249440" cy="0"/>
          </a:xfrm>
          <a:prstGeom prst="line">
            <a:avLst/>
          </a:prstGeom>
          <a:ln w="38160">
            <a:solidFill>
              <a:srgbClr val="99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906720" y="54000"/>
            <a:ext cx="469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rial"/>
              </a:rPr>
              <a:t>الاتصال الفعال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5880" y="1740960"/>
            <a:ext cx="119124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00"/>
                </a:solidFill>
                <a:latin typeface="Times New Roman"/>
                <a:cs typeface="Hesham Bold"/>
              </a:rPr>
              <a:t>أعرف ما ستتحدث عنه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حيث أن التأثير في الآخرين وإقناعهم بما تريد لا ب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ن يعتمد على معرفة جيدة وتمكن شديد من الموضوع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-2970000" y="4004640"/>
            <a:ext cx="1577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00"/>
                </a:solidFill>
                <a:latin typeface="Times New Roman"/>
                <a:ea typeface="Hesham Bold"/>
              </a:rPr>
              <a:t> </a:t>
            </a:r>
            <a:r>
              <a:rPr b="1" lang="ar-SA" sz="3600" spc="-1" strike="noStrike">
                <a:solidFill>
                  <a:srgbClr val="800000"/>
                </a:solidFill>
                <a:latin typeface="Times New Roman"/>
                <a:cs typeface="Hesham Bold"/>
              </a:rPr>
              <a:t>هل  تخاف من قولك : أنا لا أعرف 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فالكثير منا لا يعرف إلا القليل عن العالم الذي نعيش فيه والتظاهر بالإجاب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و تلفيقها يضاعف فقط من المشاكل الجهل 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وقديماً قال إمام من أئمة السلف ، " لست أدري نصف العلم " .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906720" y="54000"/>
            <a:ext cx="469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rial"/>
              </a:rPr>
              <a:t>الاتصال الفعال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7400" y="1784880"/>
            <a:ext cx="114127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00"/>
                </a:solidFill>
                <a:latin typeface="Times New Roman"/>
                <a:cs typeface="Hesham Bold"/>
              </a:rPr>
              <a:t>ابتعد عن الوقوف في مصيدة عبارة ( إما/ أو )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ea typeface="Hesham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ذلك لأن كثير الأشياء في الحياة 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ا تقع تحت تصنيف الأسود والأبيض ببساطة .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-2989440" y="4166280"/>
            <a:ext cx="152805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00"/>
                </a:solidFill>
                <a:latin typeface="Times New Roman"/>
                <a:cs typeface="Hesham Bold"/>
              </a:rPr>
              <a:t>توجه إلى أولئك  الذين تتحدث إليك  بكل انتباهك 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إذا خصصت وقتاً للتواصل مع شخصاً فامنحه الاهتمام والانتباه إلى حديثه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شارك فيه عندما ترى في ذلك مصلحة لعملية الاتصال .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0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906720" y="54000"/>
            <a:ext cx="469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rial"/>
              </a:rPr>
              <a:t>الاتصال الفعال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-1262880" y="1620000"/>
            <a:ext cx="1297332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00"/>
                </a:solidFill>
                <a:latin typeface="Times New Roman"/>
                <a:ea typeface="Hesham Bold"/>
              </a:rPr>
              <a:t> لا تقاطع الشخص الآخر بل استمع باتصال جيد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( أفرغت يأبا الوليد .. )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مقاطعة بمثابة إبلاغ الطرف الآخر بالعبارة التالية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"من فضلك اسكت .. فما سأقوله أنا .... هو الأكثر أهمية "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-3338280" y="4248720"/>
            <a:ext cx="157014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00"/>
                </a:solidFill>
                <a:latin typeface="Times New Roman"/>
                <a:cs typeface="Hesham Bold"/>
              </a:rPr>
              <a:t>حاول طرح أفكارك في المكان والوقت المناسبين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فالموقع والإطار الذهني الذي تكون فيه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ع الطرف الآخر يؤثر بشكل كبير على مدى حسن استقبال آرائك وقبولها.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0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3906720" y="54000"/>
            <a:ext cx="469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rial"/>
              </a:rPr>
              <a:t>الاتصال الفعال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-3064320" y="1196280"/>
            <a:ext cx="155412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  <a:ea typeface="Hesham Bold"/>
              </a:rPr>
              <a:t> </a:t>
            </a:r>
            <a:r>
              <a:rPr b="1" lang="ar-SA" sz="3600" spc="-1" strike="noStrike">
                <a:solidFill>
                  <a:srgbClr val="800000"/>
                </a:solidFill>
                <a:latin typeface="Times New Roman"/>
                <a:cs typeface="Hesham Bold"/>
              </a:rPr>
              <a:t>تأكد أن الاتصال وجهاً لوجه هو عملية مستمرة 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حيث تشير الدراسات إلى أن إرسا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رسالة واحدة يعني أن هناك على الأقل ست رسائل مختلفة ضمنية وهي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4160" y="2853720"/>
            <a:ext cx="8989200" cy="33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009999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5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609480" indent="-6094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55031a"/>
                </a:solidFill>
                <a:latin typeface="Times New Roman"/>
                <a:cs typeface="MCS Jeddah S_U engrave."/>
              </a:rPr>
              <a:t>ما تعني قوله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55031a"/>
                </a:solidFill>
                <a:latin typeface="Times New Roman"/>
                <a:cs typeface="MCS Jeddah S_U engrave."/>
              </a:rPr>
              <a:t>ما تقوله فعلاً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55031a"/>
                </a:solidFill>
                <a:latin typeface="Times New Roman"/>
                <a:cs typeface="MCS Jeddah S_U engrave."/>
              </a:rPr>
              <a:t>ما يسمعه الشخص الآخر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55031a"/>
                </a:solidFill>
                <a:latin typeface="Times New Roman"/>
                <a:cs typeface="MCS Jeddah S_U engrave."/>
              </a:rPr>
              <a:t>ما يعتقد الآخر أنه يسمعه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55031a"/>
                </a:solidFill>
                <a:latin typeface="Times New Roman"/>
                <a:cs typeface="MCS Jeddah S_U engrave."/>
              </a:rPr>
              <a:t>ما يقوله الآخر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55031a"/>
                </a:solidFill>
                <a:latin typeface="Times New Roman"/>
                <a:cs typeface="MCS Jeddah S_U engrave."/>
              </a:rPr>
              <a:t>ما تعتقد أن الشخص الآخر يقوله .</a:t>
            </a:r>
            <a:r>
              <a:rPr b="1" lang="ar-SA" sz="3600" spc="-1" strike="noStrike">
                <a:solidFill>
                  <a:srgbClr val="55031a"/>
                </a:solidFill>
                <a:latin typeface="Times New Roman"/>
                <a:ea typeface="MCS Jeddah S_U engrave.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0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6012000" y="260280"/>
            <a:ext cx="194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32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PT Bold Heading"/>
              </a:rPr>
              <a:t>اكتشاف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353" name=""/>
          <p:cNvSpPr/>
          <p:nvPr/>
        </p:nvSpPr>
        <p:spPr>
          <a:xfrm>
            <a:off x="250920" y="148428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كتشف العالم الفرنسي البرت مهارابيان </a:t>
            </a:r>
            <a:r>
              <a:rPr b="1" lang="en-US" sz="2000" spc="-1" strike="noStrike">
                <a:solidFill>
                  <a:srgbClr val="000000"/>
                </a:solidFill>
                <a:latin typeface="바탕"/>
                <a:ea typeface="PT Bold Heading"/>
              </a:rPr>
              <a:t>Albert</a:t>
            </a:r>
            <a:r>
              <a:rPr b="0" lang="en-US" sz="3200" spc="-1" strike="noStrike">
                <a:solidFill>
                  <a:srgbClr val="000000"/>
                </a:solidFill>
                <a:latin typeface="바탕"/>
                <a:ea typeface="PT Bold Heading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바탕"/>
                <a:ea typeface="PT Bold Heading"/>
              </a:rPr>
              <a:t>Meharabian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من جامعة هارفارد أن (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9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% من عملية الاتصالات تكون غير ملفوظة 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8388360" y="3745080"/>
            <a:ext cx="476280" cy="4759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4965840" y="3716280"/>
            <a:ext cx="342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تعبيرات الجسم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5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%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8416800" y="453708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5435640" y="4508640"/>
            <a:ext cx="298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نبرة الصوت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38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%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8416800" y="532620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6300720" y="5297400"/>
            <a:ext cx="211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كلمات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7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%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142920" y="2851200"/>
          <a:ext cx="5076720" cy="34574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2920" y="2851200"/>
                    <a:ext cx="5076720" cy="34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7020000" y="260280"/>
            <a:ext cx="1366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32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PT Bold Heading"/>
              </a:rPr>
              <a:t>الختام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363" name=""/>
          <p:cNvSpPr/>
          <p:nvPr/>
        </p:nvSpPr>
        <p:spPr>
          <a:xfrm>
            <a:off x="684360" y="5734080"/>
            <a:ext cx="82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تجد عددا من دورات مهارت الاتصال لدى موقع المفكرة الدعوية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dawahmemo.com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332000" y="2276640"/>
            <a:ext cx="655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سبحانك اللهم وبحمدك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نشهد ألا إله إلا أنت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نستغفرك ونتوب إليك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0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000" y="1412640"/>
            <a:ext cx="8218440" cy="18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just" rtl="1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عرف الاتصال بأنه الآلية التي توجد فيها العلاقات الإنسانية وتنمو عن طريق استخدام الرموز التي تصدر عن العقل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1880" y="3886200"/>
            <a:ext cx="82184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كما عرف بأنه ” تأثير عقل على عقل آخر فتحدث في عقل المتلقي خبرة مشابهة لتلك التي حدثت في عقل المرسل“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84720" y="115920"/>
            <a:ext cx="187020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32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PT Bold Heading"/>
              </a:rPr>
              <a:t>الاتصال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PT Bold Heading"/>
              <a:ea typeface="PT Bold Heading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000" y="1599840"/>
            <a:ext cx="8218440" cy="18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تفاعل بواسطة الرموز والاشارات التي تعمل كمنبه أو مثير يثير سلوكاً عند المتلقي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1880" y="3886200"/>
            <a:ext cx="82184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عملية يقوم بموجبها شخص (مرسل) بإرسال منبه (رسالة) بقصد تعديل أو تغيير سلوك شخص آخر (المستقبل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84720" y="115920"/>
            <a:ext cx="1870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32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PT Bold Heading"/>
              </a:rPr>
              <a:t>الاتصال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PT Bold Heading"/>
              <a:ea typeface="PT Bold Heading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000" y="1600200"/>
            <a:ext cx="8218440" cy="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 algn="just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نطباعات التي يكتسبها شخص عن آخر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1880" y="3200400"/>
            <a:ext cx="8218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عملية التي من خلالها نفهم الآخرين ويفهموننا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1880" y="4800600"/>
            <a:ext cx="8218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عملية نقل الافكار والمعلومات بواسطة استخدام الرموز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300720" y="333360"/>
            <a:ext cx="16542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32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PT Bold Heading"/>
              </a:rPr>
              <a:t>الاتصال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PT Bold Heading"/>
              <a:ea typeface="PT Bold Heading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8000" y="1600200"/>
            <a:ext cx="8218440" cy="89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 rtl="1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أولاً : الحاجة الى الانتماء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1880" y="3200400"/>
            <a:ext cx="8218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ثانياً : الحاجة إلى الطمأنينة والاستقرار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1880" y="4800600"/>
            <a:ext cx="8218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ثالثاً : الحاجة الى تحقيق الذات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00720" y="333360"/>
            <a:ext cx="34542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32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PT Bold Heading"/>
              </a:rPr>
              <a:t>الحاجة إلى الإتصال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PT Bold Heading"/>
              <a:ea typeface="PT Bold Heading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268280"/>
            <a:ext cx="87487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1000"/>
          </a:bodyPr>
          <a:p>
            <a:pPr marL="541080" indent="-5410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1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- يزيد من قبول وتقدير الانسان في المجتمع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1080" indent="-5410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2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- يزيد من التقارب النفسي لابناء المجتمع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1080" indent="-5410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3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- تزداد الافكار وتنمو ويتوسع الخيال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1080" indent="-5410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4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- تهيؤ النفوس لقبول الحق والرجوع عن الخطأ ومن ثم اتحاد القرارات من خلال الحوار والاتصال الجيد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1080" indent="-541080"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00720" y="333360"/>
            <a:ext cx="34542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32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PT Bold Heading"/>
              </a:rPr>
              <a:t>أهمية الاتصال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PT Bold Heading"/>
              <a:ea typeface="PT Bold Heading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98360" y="1409760"/>
            <a:ext cx="8747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5000"/>
          </a:bodyPr>
          <a:p>
            <a:pPr marL="571320" indent="-57132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5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- اشباع حاجات الانسان ونمو المهارات المتنوعة وازدياد الثقافة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71320" indent="-57132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6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- يزيد من مستوى المفردات لدى الابناء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71320" indent="-57132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7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- البيت الذي فيه اتصال فاعل وبناء سيظهر أثرة واضحاً على الابناء , سيخرجون الى المجتمع وهم على علم تام بحقوقهم و واجباتهم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00720" y="333360"/>
            <a:ext cx="34542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32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PT Bold Heading"/>
              </a:rPr>
              <a:t>أهمية الاتصال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PT Bold Heading"/>
              <a:ea typeface="PT Bold Heading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1T08:01:48Z</dcterms:created>
  <dc:creator>Noha Gamiel</dc:creator>
  <dc:description/>
  <dc:language>en-US</dc:language>
  <cp:lastModifiedBy>dell</cp:lastModifiedBy>
  <dcterms:modified xsi:type="dcterms:W3CDTF">2006-08-08T07:37:05Z</dcterms:modified>
  <cp:revision>88</cp:revision>
  <dc:subject/>
  <dc:title>المحاضرة الخامسة</dc:title>
</cp:coreProperties>
</file>