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BF2-9427-4B6C-BE0C-F093077C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13C-8A5A-4BF5-9BA5-EDA2E543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35A-505E-42AF-9D82-3B5AC9D8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AB5-0E31-468E-BC93-4E6A1B41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C1F-085C-4274-81F0-FB735D2C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113-079F-4F87-8091-BC2BED76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58C-2EA0-4FE0-8632-EFFA7FD6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823-7F6F-435A-9738-D5B4C48B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693-6ACD-437A-AE2C-70E0ECF0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3F2-EA7A-429F-9159-9ADBD435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FCB-01B7-4871-B7DB-5D96D3A9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D078-3FB4-4DAC-A247-5C0FE34A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96BD-BB71-44E8-AA03-43712AF228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wahmemo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00720" y="907920"/>
            <a:ext cx="360036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العادات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907920"/>
            <a:ext cx="31338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العش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56000" y="2349360"/>
            <a:ext cx="403200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للشخص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00360" y="4365720"/>
            <a:ext cx="395928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الناجح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692280"/>
            <a:ext cx="8136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0360" y="5805360"/>
            <a:ext cx="287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63388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المفكرة الدعوية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awahmemo.co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اهو اسلوب السبع دقائق؟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1989000"/>
            <a:ext cx="2663640" cy="1656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832320"/>
            <a:ext cx="2952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عمل تشعر بعدم الرغبة في بدءه والهروب  من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72280" y="2205000"/>
            <a:ext cx="4173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عط نفس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سبع دقائق فقط كبداية ف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تنفيذ العم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67280" y="3933720"/>
            <a:ext cx="143964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4320" y="4005360"/>
            <a:ext cx="2375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بعد انتها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لسبع دقائ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30440" y="5157720"/>
            <a:ext cx="2753640" cy="76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هل تشعر برغب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في المواصلة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0" y="5734080"/>
            <a:ext cx="3602520" cy="76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ستمر في انجاز العم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حتى النها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57960" y="5734080"/>
            <a:ext cx="3451680" cy="76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ترك اتمام العمل ال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وقت آخ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0000" y="5516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2000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627280" y="5516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27280" y="55166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331640" y="609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332000" y="285228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32000" y="2852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90040" y="5084640"/>
            <a:ext cx="13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نع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90760" y="5084640"/>
            <a:ext cx="10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عادة السادسة:</a:t>
            </a:r>
            <a:r>
              <a:rPr b="1" lang="ar-SA" sz="4400" spc="-1" strike="noStrike">
                <a:solidFill>
                  <a:srgbClr val="ffff00"/>
                </a:solidFill>
                <a:latin typeface="Arial"/>
              </a:rPr>
              <a:t> إدارة الوقت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1413000"/>
            <a:ext cx="2664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2276640"/>
            <a:ext cx="230508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03280" y="2349360"/>
            <a:ext cx="230508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5003280" y="3860280"/>
            <a:ext cx="3816360" cy="2590920"/>
          </a:xfrm>
          <a:custGeom>
            <a:avLst/>
            <a:gdLst>
              <a:gd name="textAreaLeft" fmla="*/ 839160 w 3816360"/>
              <a:gd name="textAreaRight" fmla="*/ 2977200 w 3816360"/>
              <a:gd name="textAreaTop" fmla="*/ 569520 h 2590920"/>
              <a:gd name="textAreaBottom" fmla="*/ 20214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610920" y="3860280"/>
            <a:ext cx="3816360" cy="2590920"/>
          </a:xfrm>
          <a:custGeom>
            <a:avLst/>
            <a:gdLst>
              <a:gd name="textAreaLeft" fmla="*/ 839160 w 3816360"/>
              <a:gd name="textAreaRight" fmla="*/ 2977200 w 3816360"/>
              <a:gd name="textAreaTop" fmla="*/ 569520 h 2590920"/>
              <a:gd name="textAreaBottom" fmla="*/ 20214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342900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708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1628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0400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484000" y="1700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1700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07160" y="1413000"/>
            <a:ext cx="28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نواع ال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09200" y="242100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يصعب تنظي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0200" y="2421000"/>
            <a:ext cx="30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يمكن تنظي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20240" y="4005360"/>
            <a:ext cx="46328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الوقت الذ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نقضيه في حاجات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الأساسية مثل النو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والأكل والراحة والعلاق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الأسرية والاجتما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3860640"/>
            <a:ext cx="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18880" y="3789360"/>
            <a:ext cx="268668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اوقا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الذرو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في النشا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والحيوية مث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ساعات العم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ألأول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3360" y="3789360"/>
            <a:ext cx="337392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اوقا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يقل في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النشا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والحيوية مث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ساعات العم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ألأخي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43280" y="3860640"/>
            <a:ext cx="431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3860640"/>
            <a:ext cx="4330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59280" y="342900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979280" y="3429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48436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564000" y="2997360"/>
            <a:ext cx="1944720" cy="14414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04000" y="2637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1268280"/>
            <a:ext cx="215928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3834000">
            <a:off x="6623640" y="209628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244800">
            <a:off x="6269040" y="4827240"/>
            <a:ext cx="22939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64000" y="5661000"/>
            <a:ext cx="2016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6524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7635200">
            <a:off x="575280" y="2169360"/>
            <a:ext cx="2016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3373800">
            <a:off x="646560" y="483300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508720" y="2637000"/>
            <a:ext cx="1800000" cy="79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08720" y="4005360"/>
            <a:ext cx="158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437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57200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908000" y="2781000"/>
            <a:ext cx="1656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979280" y="4005360"/>
            <a:ext cx="158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5000" y="3284640"/>
            <a:ext cx="3329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إدارة الناج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لل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26640" y="1440000"/>
            <a:ext cx="35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راجع اهدافك وخطط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666400">
            <a:off x="-20160" y="2236680"/>
            <a:ext cx="31816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حتفظ بخطة زمن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(العادة الرابع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3475200">
            <a:off x="108360" y="4797000"/>
            <a:ext cx="305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ضع لنفسك قائم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نحاز يو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01680" y="5661000"/>
            <a:ext cx="30661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سد منافذ الهرو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(السبع دقائ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8175200">
            <a:off x="5214960" y="4867560"/>
            <a:ext cx="43765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ستغل الأوقات الهامش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مثل اوقات الانتظار والسف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3756600">
            <a:off x="6000480" y="1991520"/>
            <a:ext cx="3227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لا تستسلم للأمو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لعاجلة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(العادة الثالث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31800" y="2349360"/>
            <a:ext cx="10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60160" y="2637000"/>
            <a:ext cx="10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15800" y="3933720"/>
            <a:ext cx="10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0160" y="4869000"/>
            <a:ext cx="10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87440" y="4076640"/>
            <a:ext cx="10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16160" y="2565360"/>
            <a:ext cx="10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لعادة السابعة: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جهاد النفس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61080" y="3319560"/>
            <a:ext cx="1727280" cy="122544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3744360" y="5047920"/>
            <a:ext cx="1727280" cy="122580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1619280" y="3357720"/>
            <a:ext cx="1727280" cy="122544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3673440" y="1663200"/>
            <a:ext cx="1726920" cy="122544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64000" y="3357720"/>
            <a:ext cx="1942920" cy="1223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40640" y="3429000"/>
            <a:ext cx="2712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كيف تجاه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نفس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93000" y="1773360"/>
            <a:ext cx="232668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مجاه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العد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53080" y="3429000"/>
            <a:ext cx="28724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مجاه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عدو الث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67240" y="5013360"/>
            <a:ext cx="2122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تر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النف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8880" y="3284640"/>
            <a:ext cx="27583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التخل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من معوق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الفعا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651640" y="1341360"/>
            <a:ext cx="2592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51640" y="2421000"/>
            <a:ext cx="2592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1640" y="3500280"/>
            <a:ext cx="259236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خلاص العبادة لله  والتقر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منه والمداومة على ذكر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4508640"/>
            <a:ext cx="259236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5516640"/>
            <a:ext cx="259236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0720" y="1484280"/>
            <a:ext cx="452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عدو الأول: الشيط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35640" y="2492280"/>
            <a:ext cx="313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لمداومة على الاستعاذ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بالله من الشيط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83560" y="4581360"/>
            <a:ext cx="35139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مراقبة الله في القو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والعمل والن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8360" y="5734080"/>
            <a:ext cx="4303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لا تغضب لأن الغضب من أ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مداخل الشيط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1341360"/>
            <a:ext cx="2592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47640" y="4437000"/>
            <a:ext cx="259272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47640" y="3357720"/>
            <a:ext cx="259272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2349360"/>
            <a:ext cx="259272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1280" y="1484280"/>
            <a:ext cx="42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عدو الثاني: النف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4320" y="2349360"/>
            <a:ext cx="4384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تعويد النفس على الصبر عل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المكاره لتحيا حياة كريم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5400" y="3429000"/>
            <a:ext cx="37594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تعويد النفس على تحم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المسؤولي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76360" y="4365720"/>
            <a:ext cx="263376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لتضحية بما قد تميل له النف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من امور وشهوات تعود بالضرر في الدنيا والآخرة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5516640"/>
            <a:ext cx="2592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2560" y="5516640"/>
            <a:ext cx="43675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محاسبة النفس على التقص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والخطأ والعزم على عد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لعودة ال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260280"/>
            <a:ext cx="295272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72040" y="260280"/>
            <a:ext cx="4643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كيف تكون فعالاً في إدا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الصراع مع اعدائك؟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72360" y="6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20000" y="692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692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71640" y="692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4836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4328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2349360"/>
            <a:ext cx="574560" cy="41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-1464840" y="4167720"/>
            <a:ext cx="43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تربية النفس يكون 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42920" y="28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42920" y="38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42920" y="501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602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17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170028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14000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14000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140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140000" y="49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92720" y="170028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92720" y="6021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5013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92720" y="3933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92720" y="2852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92720" y="17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52880" y="907920"/>
            <a:ext cx="10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99800" y="836640"/>
            <a:ext cx="10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-340200" y="4005360"/>
            <a:ext cx="10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372360" y="404640"/>
            <a:ext cx="2160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72360" y="1773360"/>
            <a:ext cx="21603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72360" y="3141720"/>
            <a:ext cx="21603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72360" y="4437000"/>
            <a:ext cx="21603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72360" y="5734080"/>
            <a:ext cx="21603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64880" y="404640"/>
            <a:ext cx="3668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تخلص م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معوقات الفع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0760" y="1916280"/>
            <a:ext cx="33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حيل النف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57840" y="3284640"/>
            <a:ext cx="32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عجز والكس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17440" y="4508640"/>
            <a:ext cx="36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الفوضى والتسوي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16440" y="5805360"/>
            <a:ext cx="33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مشاعر الفش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1628640"/>
            <a:ext cx="583380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2924280"/>
            <a:ext cx="583380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4221000"/>
            <a:ext cx="583380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5516640"/>
            <a:ext cx="583380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893080" y="765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32720" y="90792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32720" y="76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853236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853236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853236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53236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84360" y="213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084360" y="3429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084360" y="4724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084360" y="6093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-1126800" y="1628640"/>
            <a:ext cx="85356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ا لتبرير:  التبرير السلبي الذي يستخدم كوسيلة للهروب والدفاع عن النف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ا لتقليد ا لسلبي للآخري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ا لكبت النفسي: وهو رفض الاعتراف بالمشكلة والهروب منها كحل مؤق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324000" y="2924280"/>
            <a:ext cx="60850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وهو عدم الفعل وأيضا عدم المبادرة او المحاولة. وهو خُلق ذم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يجب على المؤمن ان يتخلص منه ويستعيذ بالله منه كما كان يفع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المصطفى صلى الله عليه وسلم لما له من آثار سلبية في الدنيا والآخر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-1161720" y="4221000"/>
            <a:ext cx="87750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الفوضى من اكبر اسباب ضياع الوقت الذي هو عمر الإنسان وحياته والذ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يؤدي الى شل فعا ليتة وحيويت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وا لتسويف داء عضال يصبُغ  حياة الإنسان بالهامشية والضيا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5516640"/>
            <a:ext cx="608472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هو الشعور بخيبة الأمل والإحباط عندما لا يحالفنا الحظ في تحقيق هدف أ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انجاز مهمة. وهو امر طبيعي في حياة الإنسان ويجب مواجهته وذلك بط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مشاعر الحزن وتذكر نعم الله العظيمة الأخرى وعدم اليأس من اعادة المحاول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119440" y="333360"/>
            <a:ext cx="10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عادة الثامنة:  </a:t>
            </a:r>
            <a:r>
              <a:rPr b="1" lang="ar-SA" sz="4400" spc="-1" strike="noStrike">
                <a:solidFill>
                  <a:srgbClr val="ffff00"/>
                </a:solidFill>
                <a:latin typeface="Arial"/>
              </a:rPr>
              <a:t>البراعة الإتصالي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هدف من أي اتصال مع طرف اخر لا يخرج عن ثلاثة امور هي الإخبار, أو الإقناع, أو الإمتا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وتتكون عناصر هذه العادة من ثلاث جوانب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سمات شخصية معينة وراثية او مكتس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ثل الحلم ,الثقة بالنفس, الصبر, الأناة, القدرة على استيعاب المخالفين, والشجاعة, وقوة الشخص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استعمال المهارات اللغو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ثل تعلم آداب الإنصات,الحديث, وتعلم فنون القراءة والكتاب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استعمال لغة الإشارة والتمكن من إيحاءاتها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والمقصود بلغة الإشارة حركات الجسم والإيماءات وحركات العينين واليدين وطريقة الجلوس واللبس والابتسامة وغير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Arial"/>
              </a:rPr>
              <a:t>بعض الخطوات التي تجعل منك متصل أفض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ا تخف من قول لا اعرف او لا اعل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حاول طرح افكارك في المكان والوقت المناس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كن واضحاً ومحدداً في ما تتحدث عنة وتجنب العموميات والغموض في الحديث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ا تشغل نفسك وذهنك بأمور اخرى خارجة عن موضوع الاتصا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حرص على اظهار وسائل الاتصال بالمظهر الجي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حدد الهدف من الاتصال ومدى اهميت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وسع  دائرة التفكير لديك بزيادة المعلومات عن الموضع المراد الاتصال من اجل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ستمع بدقة واستيعاب الى الرسالة التي ينقلها اليك الآخر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صمم رسالتك بما يتناسب مع الآخرين بناءً على ما يحملونه من خلفية ومعر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طرح الأسئلة خاصةً عندما تكون غير متأكد من المعنى ولا تخف من الظهور بمظهر الجاه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لعادة التاسعة: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 التفكير الإيجابي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"/>
          <p:cNvCxnSpPr/>
          <p:nvPr/>
        </p:nvCxnSpPr>
        <p:spPr>
          <a:xfrm flipV="1">
            <a:off x="3222720" y="-1900800"/>
            <a:ext cx="1080000" cy="6050520"/>
          </a:xfrm>
          <a:prstGeom prst="curvedConnector2">
            <a:avLst/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 rot="5400000">
            <a:off x="2267640" y="3212280"/>
            <a:ext cx="1871640" cy="2016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3860640"/>
            <a:ext cx="2232000" cy="216072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81840" y="1413000"/>
            <a:ext cx="7787520" cy="51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اذا نظرت الى هذا الكوب فكيف ستراه؟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ذا سألت الشخص الإيجاب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نفس السؤ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فسوف يقول: نصفه مليء! وهذ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يدل على الإيجابية في التفك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وأما الشخص السلبي فسوف يقو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نصفه فار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وهذا مفهوم رمزي للطريقة ال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ينظر بها الناس للشيء الواحد., ويعك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يضاً نظرة التفاؤل او التشاؤم للشخ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60640"/>
            <a:ext cx="2376720" cy="417492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547280" y="549360"/>
            <a:ext cx="62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كيف تبني عادة التفكير الإيجاب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6920" y="333360"/>
            <a:ext cx="7704360" cy="1366920"/>
          </a:xfrm>
          <a:custGeom>
            <a:avLst/>
            <a:gdLst>
              <a:gd name="textAreaLeft" fmla="*/ 1926000 w 7704360"/>
              <a:gd name="textAreaRight" fmla="*/ 5778360 w 7704360"/>
              <a:gd name="textAreaTop" fmla="*/ 40320 h 1366920"/>
              <a:gd name="textAreaBottom" fmla="*/ 1025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399400" y="1989000"/>
            <a:ext cx="77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هناك عشرة وسائل مهمة لبناء التفكير الإيجاب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51640" y="4869000"/>
            <a:ext cx="1728720" cy="1728720"/>
          </a:xfrm>
          <a:custGeom>
            <a:avLst/>
            <a:gdLst>
              <a:gd name="textAreaLeft" fmla="*/ 394560 w 1728720"/>
              <a:gd name="textAreaRight" fmla="*/ 1334160 w 172872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79640" y="4869000"/>
            <a:ext cx="1728720" cy="1728720"/>
          </a:xfrm>
          <a:custGeom>
            <a:avLst/>
            <a:gdLst>
              <a:gd name="textAreaLeft" fmla="*/ 394560 w 1728720"/>
              <a:gd name="textAreaRight" fmla="*/ 1334160 w 172872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4869000"/>
            <a:ext cx="1835280" cy="1728720"/>
          </a:xfrm>
          <a:custGeom>
            <a:avLst/>
            <a:gdLst>
              <a:gd name="textAreaLeft" fmla="*/ 419040 w 1835280"/>
              <a:gd name="textAreaRight" fmla="*/ 1416240 w 183528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80000" y="4797360"/>
            <a:ext cx="1800000" cy="1800360"/>
          </a:xfrm>
          <a:custGeom>
            <a:avLst/>
            <a:gdLst>
              <a:gd name="textAreaLeft" fmla="*/ 410760 w 1800000"/>
              <a:gd name="textAreaRight" fmla="*/ 1389240 w 180000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79640" y="2565360"/>
            <a:ext cx="1657440" cy="172872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565360"/>
            <a:ext cx="1798560" cy="1728720"/>
          </a:xfrm>
          <a:custGeom>
            <a:avLst/>
            <a:gdLst>
              <a:gd name="textAreaLeft" fmla="*/ 410400 w 1798560"/>
              <a:gd name="textAreaRight" fmla="*/ 1388160 w 179856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51640" y="2565360"/>
            <a:ext cx="1655640" cy="1728720"/>
          </a:xfrm>
          <a:custGeom>
            <a:avLst/>
            <a:gdLst>
              <a:gd name="textAreaLeft" fmla="*/ 378000 w 1655640"/>
              <a:gd name="textAreaRight" fmla="*/ 1277640 w 165564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08360" y="2565360"/>
            <a:ext cx="1800360" cy="1728720"/>
          </a:xfrm>
          <a:custGeom>
            <a:avLst/>
            <a:gdLst>
              <a:gd name="textAreaLeft" fmla="*/ 410760 w 1800360"/>
              <a:gd name="textAreaRight" fmla="*/ 1389600 w 180036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524720" y="2565360"/>
            <a:ext cx="1619280" cy="1728720"/>
          </a:xfrm>
          <a:custGeom>
            <a:avLst/>
            <a:gdLst>
              <a:gd name="textAreaLeft" fmla="*/ 369720 w 1619280"/>
              <a:gd name="textAreaRight" fmla="*/ 1249560 w 161928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451640" y="4797360"/>
            <a:ext cx="1692360" cy="1728720"/>
          </a:xfrm>
          <a:custGeom>
            <a:avLst/>
            <a:gdLst>
              <a:gd name="textAreaLeft" fmla="*/ 386280 w 1692360"/>
              <a:gd name="textAreaRight" fmla="*/ 1306080 w 169236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43120" y="2924280"/>
            <a:ext cx="23986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التمسك بحب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الله الم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والتوكل علي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48680" y="2997360"/>
            <a:ext cx="1881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لتفاؤ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بالخ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03240" y="2852640"/>
            <a:ext cx="20692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خذ الحيا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بهدو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وبساط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74640" y="3068640"/>
            <a:ext cx="2387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لتذكر الدائ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لنعم الل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-338400" y="2852640"/>
            <a:ext cx="23803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لطرْق عل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لجانب الج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في الآخر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01720" y="5013360"/>
            <a:ext cx="23450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حسن الخل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واستعما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اللغة (العبار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الجي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-703440" y="5084640"/>
            <a:ext cx="31741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البحث ع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العناصر الإيجابية ف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شخصيتك والتركي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علي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46840" y="5300640"/>
            <a:ext cx="27856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لا تجعل المشاك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تسيطر عليك ب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واجهها لحله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42960" y="5084640"/>
            <a:ext cx="27187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استعمال الدعاب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وروح النكت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عند مواجه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المشاك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00400" y="5373720"/>
            <a:ext cx="27885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ممارسة التمار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الرياض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ادة السادسة: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 إدارة ال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ادة السابعة: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 جهاد النف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ادة الثامنة: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  البراعة الإتص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ادة التاسعة: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  التفكير الإيجاب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ادة العاشرة: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  التواز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00" y="2637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ادة الأولى: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 السعي للتمي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ادة الثانية: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 تحديد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ادة الثالثة: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  ترتيب الأولوي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ادة الرابعة: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 التخطي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ادة الخامسة: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 التركي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19280" y="0"/>
            <a:ext cx="6192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محتويات العر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لعادة العاشرة: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 التوازن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172360" y="1125360"/>
            <a:ext cx="503280" cy="539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4833000" y="351972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مؤشرات لبناء عادة التوازن في الحي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24360" y="1413000"/>
            <a:ext cx="21592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24360" y="2708280"/>
            <a:ext cx="21592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24360" y="4076640"/>
            <a:ext cx="215928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24360" y="5373720"/>
            <a:ext cx="21592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6920" y="1341360"/>
            <a:ext cx="453708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6920" y="2708280"/>
            <a:ext cx="45370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4005360"/>
            <a:ext cx="45370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26920" y="5300640"/>
            <a:ext cx="45370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945320" y="1484280"/>
            <a:ext cx="36129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توازن الأهداف الكبير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في حيات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44880" y="2708280"/>
            <a:ext cx="37821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توازن الوسائل والآليا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لتي تحقق الأهد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97400" y="4149720"/>
            <a:ext cx="3056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لتوازن بين العم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والحياة الخاص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80120" y="5373720"/>
            <a:ext cx="3069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لتوازن بين العق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والعاطف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692280" y="1341360"/>
            <a:ext cx="74811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من خلال العادة الثانية التي تم فيها وضع الأهد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يجب التنبه الى عدم جعل احداها يطغى بشكل كبير عل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الآخر كأن تطغى الأهداف الشخصية على الأهداف ألاجتماعية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606240" y="2852640"/>
            <a:ext cx="73072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توزيع الوقت لتحقق الأهداف يجب ان يكون بطريقة متوازن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وذلك بتحديد الوقت اللازم لإنجاز قائمة الأعمال اليومية.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-576000" y="4005360"/>
            <a:ext cx="73166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يجب الفصل التام بين العمل والحياة الخاصة, ويكون ذل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بترك هموم العمل في المكتب (مقر العمل) وإعطاء التفر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الكامل للعبادة و للأسرة والحياة الخاصة بمجرد ترك العمل 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477000" y="5300640"/>
            <a:ext cx="70772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يجب عدم التحيز للآراء الشخصية والأمور التي ير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الشخص انها هي الأفضل في نظره ولكن يجب الحكم عل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الأمور بطريقة متوازنة والعدل في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885080" y="177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363640" y="184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885080" y="306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788508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788508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363640" y="58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363640" y="45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36364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900000" y="907920"/>
            <a:ext cx="763272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Diwani Bent"/>
              </a:rPr>
              <a:t>تم بحمد الل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Diwani Bent"/>
              <a:ea typeface="Diwani Be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لعادة الأولى: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السعي للتميز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سعي للتميز يعني ثلاثة امور رئيس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الإيمان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وذلك بالمداومة على رفع مستوى الإيمان بفعل الطاعات واجتناب المنكرات والإكثار من النواف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الاحتراف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وذلك برفع مستوى الإنتاج والكفاءة والفعالية في عملك او مهنت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العلاقات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وذلك بالمداومة على رفع مستوى علاقتك الإيجابية مع الآخري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781360"/>
            <a:ext cx="2232360" cy="1657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5373720"/>
            <a:ext cx="194472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1341360"/>
            <a:ext cx="194472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373720"/>
            <a:ext cx="19443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826920" y="4437000"/>
            <a:ext cx="720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4437000"/>
            <a:ext cx="863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284640"/>
            <a:ext cx="173664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مصاد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السعادة ال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هي ثمرة التمي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25960" y="1413000"/>
            <a:ext cx="24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رضى ال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30640" y="5516640"/>
            <a:ext cx="18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الإنج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334080" y="5516640"/>
            <a:ext cx="32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سعاد الآخر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      العادة الثانية: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تحديد الأهداف </a:t>
            </a:r>
            <a:br>
              <a:rPr sz="48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نقسم الأهداف من حيث المصدر ا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51640" y="2421000"/>
            <a:ext cx="3168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4005360"/>
            <a:ext cx="3168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5516640"/>
            <a:ext cx="3168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2421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. اهداف إله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55240" y="4005360"/>
            <a:ext cx="48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. اهداف اجتما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47120" y="5516640"/>
            <a:ext cx="46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. اهداف شخص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5280" y="2327400"/>
          <a:ext cx="4824360" cy="4282920"/>
        </p:xfrm>
        <a:graphic>
          <a:graphicData uri="http://schemas.openxmlformats.org/drawingml/2006/table">
            <a:tbl>
              <a:tblPr/>
              <a:tblGrid>
                <a:gridCol w="1655640"/>
                <a:gridCol w="1584360"/>
                <a:gridCol w="1584360"/>
              </a:tblGrid>
              <a:tr h="107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هداف شخص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هداف اجتماع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hi-IN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هداف إله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صول على تقييم مرتفع في العام الحا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خصيص ساعتين كل يوم للجلوس مع الزوجة والأطف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راءة جزء من القرآن كل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علم ثلاث كلمات جديدة من اللغة الإنجليزية كل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وزيع شريط او كتاب في المسجد كل شه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عوة الى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مارسة رياضة المشي لمدة نصف ساعة كل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صطحاب الأصدقاء او الجيران لأداء عمرة في رمض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داء جميع الصلوات في المس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803520" y="177336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مثلة على كل نو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348000" y="2492280"/>
            <a:ext cx="3168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1413000"/>
            <a:ext cx="3168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8000" y="3573360"/>
            <a:ext cx="3168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4653000"/>
            <a:ext cx="3168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مواصفات الهدف الج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9880" y="1484280"/>
            <a:ext cx="32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واضح ومحد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46040" y="2565360"/>
            <a:ext cx="34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قابل للقي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7640" y="3500280"/>
            <a:ext cx="93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عم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5734080"/>
            <a:ext cx="3168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5120" y="4724280"/>
            <a:ext cx="20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طمو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04040" y="5734080"/>
            <a:ext cx="42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تاريخ انجازه محد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0364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     العادة الثالثة: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 ترتيب الأولويات</a:t>
            </a:r>
            <a:br>
              <a:rPr sz="4800"/>
            </a:b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جب تحديد الأوليات كما هو موضح في الجدول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11280" y="1916280"/>
          <a:ext cx="8229600" cy="2190600"/>
        </p:xfrm>
        <a:graphic>
          <a:graphicData uri="http://schemas.openxmlformats.org/drawingml/2006/table">
            <a:tbl>
              <a:tblPr/>
              <a:tblGrid>
                <a:gridCol w="2057400"/>
                <a:gridCol w="2119320"/>
                <a:gridCol w="1995480"/>
                <a:gridCol w="205740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وع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 ضرو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رو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هام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اج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 عاج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900000" y="4221000"/>
            <a:ext cx="7559640" cy="303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الاهتمام بالمربعين الثاني والرابع لأنهما محورا لنجاح ولتعرضهما للتسويف والكس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اعطاء الاهتمام للمربعين الأول والثالث لأنها امور حتمية تفرض نفسها ولا يمكن تجنبها و وضع جدول زمني مسبق قبل حلولها. ويجب بعد الانتهاء من اداءها  العودة  لتحقيق اهداف المربعين  الثاني والرابع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250"/>
              </a:spcBef>
              <a:buClr>
                <a:srgbClr val="66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hi-IN" sz="2000" spc="-1" strike="noStrike">
                <a:solidFill>
                  <a:srgbClr val="00ff00"/>
                </a:solidFill>
                <a:latin typeface="Arial"/>
              </a:rPr>
              <a:t>تجنب الانشغال بالمربعين الخامس و السادس فكلاهما مضيعة للوقت وانحراف عن الأهدا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4292640"/>
            <a:ext cx="741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لعادة الرابعة: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التخطيط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92720" y="3141720"/>
            <a:ext cx="3456000" cy="2067120"/>
          </a:xfrm>
          <a:prstGeom prst="rect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حدد وضع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راه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3141720"/>
            <a:ext cx="3456000" cy="2067120"/>
          </a:xfrm>
          <a:prstGeom prst="rect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حدد صور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مستقب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3500280"/>
            <a:ext cx="1079280" cy="289080"/>
          </a:xfrm>
          <a:prstGeom prst="leftArrow">
            <a:avLst>
              <a:gd name="adj1" fmla="val 50000"/>
              <a:gd name="adj2" fmla="val 933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4581360"/>
            <a:ext cx="1079280" cy="287640"/>
          </a:xfrm>
          <a:prstGeom prst="leftArrow">
            <a:avLst>
              <a:gd name="adj1" fmla="val 50000"/>
              <a:gd name="adj2" fmla="val 9380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140360" y="4075920"/>
            <a:ext cx="1079280" cy="2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Arial"/>
              </a:rPr>
              <a:t>كيف تخطط 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8360" y="1557360"/>
          <a:ext cx="8229600" cy="4867200"/>
        </p:xfrm>
        <a:graphic>
          <a:graphicData uri="http://schemas.openxmlformats.org/drawingml/2006/table">
            <a:tbl>
              <a:tblPr/>
              <a:tblGrid>
                <a:gridCol w="5327640"/>
                <a:gridCol w="1728720"/>
                <a:gridCol w="1173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طريق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وع الخط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ستو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ضع رسالة وغاية للحياة وذلك بوضع اهداف كبرى لتحقيقها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دى الحيا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ديد هدفين او ثلاثة فقط خلال هذه السنوات منبثقة من الأهداف الكبرى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خطة من ثلاث الى خمس سن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ضع برنامج عملي  على مستوى السنة لتحقيق واحد او اكثر من الأهداف التي وضعت في المستوى الثاني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خطة سن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ل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ضع جدول محدد وواضح وقابل للإنجاز خلال تاريخ محدد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خطة شه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اب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ديد اول يوم من كل اسبوع لدراسة الأهداف الشهرية  و وضع الخطوات والآليات لتحقيقها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خطة اسبوع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خام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هي بمثابة الخلية في جسم الكائن الحي  فهي وحدة التركيب لجميع الخطط وعلى قدر الفعالية من استغلالها تتحقق جميع الأهدا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خطة يو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اد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لعادة الخامسة: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التركيز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3068640"/>
            <a:ext cx="2016000" cy="16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341360"/>
            <a:ext cx="7777080" cy="525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27640" y="134136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427640" y="4724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393372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3933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292720" y="1988640"/>
            <a:ext cx="172872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979640" y="1988640"/>
            <a:ext cx="1728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4508640"/>
            <a:ext cx="216036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79280" y="4437000"/>
            <a:ext cx="165564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62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500280"/>
            <a:ext cx="23050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ألأساليب المساعد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Arial"/>
              </a:rPr>
              <a:t>على التركي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42560" y="1628640"/>
            <a:ext cx="33692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الاستعانة بالل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والتوكل علية قبل البد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في أي ع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90440" y="1700280"/>
            <a:ext cx="3060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تحديد وقت لبدا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العمل وآخ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لنهايت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57320" y="2421000"/>
            <a:ext cx="4356720" cy="13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فكر في الفوائ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والمنافع الت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ستحصل عليها  عند اكمال الع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ولا تفكر في العوائق والعقبات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440" y="4076640"/>
            <a:ext cx="3398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 ابتكار اسا ليب جدي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 لإنجاز المهام والخرو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عن الروتين المم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60280" y="5013360"/>
            <a:ext cx="30614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تجنب المقاطع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عند مباشرة الأعما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التي تحتاج ال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تركيز شدي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72520" y="4869000"/>
            <a:ext cx="30675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التزام الصب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والهدوء  مع قو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الإرادة وعدم تحم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النفس فوق طاقت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29800" y="4005360"/>
            <a:ext cx="48567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عدم انتظار الحوافز والثناءات ال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يقدمها الآخرين وكن ايجابياً ف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نظرتك لنفس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وللآخرين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6400" y="2492280"/>
            <a:ext cx="43308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استعما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اسلوب السبع دقائ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للتركيز في الأعمال التي  تشع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بعدم الرغبة في  بدأها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08:50:28Z</dcterms:created>
  <dc:creator>user</dc:creator>
  <dc:description/>
  <dc:language>en-US</dc:language>
  <cp:lastModifiedBy>dell</cp:lastModifiedBy>
  <dcterms:modified xsi:type="dcterms:W3CDTF">2006-08-02T14:16:32Z</dcterms:modified>
  <cp:revision>132</cp:revision>
  <dc:subject/>
  <dc:title>Slide 1</dc:title>
</cp:coreProperties>
</file>