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ricochet.wav" ContentType="audio/x-wav"/>
  <Override PartName="/ppt/media/LASER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efefe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449600" y="120600"/>
            <a:ext cx="22561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el :  04 -2617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ax : 04 – 26177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O. Box : 20142 Duba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mail: hammadi3 @emirates.net.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380880" y="76320"/>
            <a:ext cx="857520" cy="62856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38080" y="104760"/>
            <a:ext cx="15242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 rtl="1"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ndalus"/>
                <a:cs typeface="Andalus"/>
              </a:rPr>
              <a:t>مركز التفكير الإبداعي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Creativity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audio" Target="../media/ricochet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ricochet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ricochet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efefe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" name=""/>
          <p:cNvGraphicFramePr/>
          <p:nvPr/>
        </p:nvGraphicFramePr>
        <p:xfrm>
          <a:off x="907920" y="1714680"/>
          <a:ext cx="854280" cy="157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7920" y="1714680"/>
                    <a:ext cx="854280" cy="15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" name=""/>
          <p:cNvSpPr/>
          <p:nvPr/>
        </p:nvSpPr>
        <p:spPr>
          <a:xfrm>
            <a:off x="304920" y="8839080"/>
            <a:ext cx="228600" cy="2523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400" spc="-1" strike="noStrike">
                <a:solidFill>
                  <a:srgbClr val="000000"/>
                </a:solidFill>
                <a:latin typeface="Times New Roman"/>
                <a:ea typeface="SKR HEAD1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90720" y="257796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800" spc="-1" strike="noStrike">
                <a:solidFill>
                  <a:srgbClr val="000000"/>
                </a:solidFill>
                <a:latin typeface="Times New Roman"/>
                <a:ea typeface="AL-Mateen"/>
              </a:rPr>
              <a:t>  تحطيم المشاعر السلبية 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20640" y="3000240"/>
            <a:ext cx="4608720" cy="22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قـامـوس الكلـمـات الـسـلبيـ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الحذر من عشاق الفشـل ولصـوص الأمـل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قـاتل المـائـة .. مـن هـو ؟ ومـا قـصـته 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تمزيق الأوهام السوداء ( أنا فقير ، أنا لا أحمل شهادة عليا)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95440" y="467352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800" spc="-1" strike="noStrike">
                <a:solidFill>
                  <a:srgbClr val="000000"/>
                </a:solidFill>
                <a:latin typeface="Times New Roman"/>
                <a:cs typeface="AL-Mateen"/>
              </a:rPr>
              <a:t>القناعة بأهمية وضرورة تطوير الذات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89000" y="5111640"/>
            <a:ext cx="504036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66760" algn="r" rtl="1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قناعة بأنه  لا خيار سوى تطوير الذات وتنميتـهـا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266760" algn="r" rtl="1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قنـاعة المـزيفـة والـرضـى بـالـواقـع السيـئ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266760" algn="r" rtl="1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لا أحد يستطيع تطوير ذاتك ما لم تشعر بأهمية ذلك وضرورته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</a:t>
            </a:r>
            <a:r>
              <a:rPr b="1" lang="ar-A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</a:t>
            </a:r>
            <a:r>
              <a:rPr b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الـتسـويـف .    </a:t>
            </a:r>
            <a:r>
              <a:rPr b="1" lang="ar-A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</a:t>
            </a:r>
            <a:r>
              <a:rPr b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الـلـسـان .    </a:t>
            </a:r>
            <a:r>
              <a:rPr b="1" lang="ar-A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</a:t>
            </a:r>
            <a:r>
              <a:rPr b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الأخـلا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</a:t>
            </a:r>
            <a:r>
              <a:rPr b="1" lang="ar-A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</a:t>
            </a:r>
            <a:r>
              <a:rPr b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العـلاقـة مـع الله .         </a:t>
            </a:r>
            <a:r>
              <a:rPr b="1" lang="ar-A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</a:t>
            </a:r>
            <a:r>
              <a:rPr b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العـلاقـة الأسـريـة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45000" y="1849320"/>
            <a:ext cx="1847880" cy="432000"/>
          </a:xfrm>
          <a:custGeom>
            <a:avLst/>
            <a:gdLst>
              <a:gd name="textAreaLeft" fmla="*/ 50760 w 1847880"/>
              <a:gd name="textAreaRight" fmla="*/ 1797120 w 1847880"/>
              <a:gd name="textAreaTop" fmla="*/ 50760 h 432000"/>
              <a:gd name="textAreaBottom" fmla="*/ 381240 h 432000"/>
            </a:gdLst>
            <a:ahLst/>
            <a:rect l="textAreaLeft" t="textAreaTop" r="textAreaRight" b="textAreaBottom"/>
            <a:pathLst>
              <a:path w="9233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8735" y="21600"/>
                </a:lnTo>
                <a:arcTo wR="3600" hR="3600" stAng="10800000" swAng="5400000"/>
                <a:lnTo>
                  <a:pt x="92335" y="3600"/>
                </a:lnTo>
                <a:arcTo wR="3600" hR="3600" stAng="5400000" swAng="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1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000000"/>
                </a:solidFill>
                <a:latin typeface="Times New Roman"/>
                <a:cs typeface="SKR HEAD1"/>
              </a:rPr>
              <a:t>صناعة المعنويات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589720" y="1913040"/>
            <a:ext cx="647640" cy="465120"/>
          </a:xfrm>
          <a:prstGeom prst="downArrowCallout">
            <a:avLst>
              <a:gd name="adj1" fmla="val 34813"/>
              <a:gd name="adj2" fmla="val 34810"/>
              <a:gd name="adj3" fmla="val 16667"/>
              <a:gd name="adj4" fmla="val 742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000000"/>
                </a:solidFill>
                <a:latin typeface="Times New Roman"/>
                <a:cs typeface="SKR HEAD1"/>
              </a:rPr>
              <a:t>ثانيا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20708400">
            <a:off x="5237280" y="2577600"/>
            <a:ext cx="288720" cy="398520"/>
          </a:xfrm>
          <a:custGeom>
            <a:avLst/>
            <a:gdLst>
              <a:gd name="textAreaLeft" fmla="*/ 0 w 288720"/>
              <a:gd name="textAreaRight" fmla="*/ 289080 w 288720"/>
              <a:gd name="textAreaTop" fmla="*/ 51480 h 398520"/>
              <a:gd name="textAreaBottom" fmla="*/ 347040 h 3985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000000"/>
                </a:solidFill>
                <a:latin typeface="Times New Roman"/>
                <a:ea typeface="SKR HEAD1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20708400">
            <a:off x="5237280" y="4638240"/>
            <a:ext cx="288720" cy="398520"/>
          </a:xfrm>
          <a:custGeom>
            <a:avLst/>
            <a:gdLst>
              <a:gd name="textAreaLeft" fmla="*/ 0 w 288720"/>
              <a:gd name="textAreaRight" fmla="*/ 289080 w 288720"/>
              <a:gd name="textAreaTop" fmla="*/ 51480 h 398520"/>
              <a:gd name="textAreaBottom" fmla="*/ 347040 h 3985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000000"/>
                </a:solidFill>
                <a:latin typeface="Times New Roman"/>
                <a:ea typeface="SKR HEAD1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58840" y="711036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800" spc="-1" strike="noStrike">
                <a:solidFill>
                  <a:srgbClr val="000000"/>
                </a:solidFill>
                <a:latin typeface="Times New Roman"/>
                <a:cs typeface="AL-Mateen"/>
              </a:rPr>
              <a:t>الرغبة الصادقة في تطوير الذات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20640" y="7591320"/>
            <a:ext cx="4608720" cy="15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66760" algn="r" rtl="1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من السهل جر الحصان إلى نبع الماء ولكن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266760" algn="r" rtl="1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You get what you accept</a:t>
            </a:r>
            <a:r>
              <a:rPr b="1" lang="ar-AE" sz="1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266760" algn="r" rtl="1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الـطبيـب والـدخـان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266760" algn="r" rtl="1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الرغبـة والقـرار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53880" y="7564320"/>
            <a:ext cx="185112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20708400">
            <a:off x="5237280" y="7089480"/>
            <a:ext cx="288720" cy="398520"/>
          </a:xfrm>
          <a:custGeom>
            <a:avLst/>
            <a:gdLst>
              <a:gd name="textAreaLeft" fmla="*/ 0 w 288720"/>
              <a:gd name="textAreaRight" fmla="*/ 289080 w 288720"/>
              <a:gd name="textAreaTop" fmla="*/ 51480 h 398520"/>
              <a:gd name="textAreaBottom" fmla="*/ 347040 h 3985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000000"/>
                </a:solidFill>
                <a:latin typeface="Times New Roman"/>
                <a:ea typeface="SKR HEAD1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700280" y="982800"/>
            <a:ext cx="3240000" cy="53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nUp">
              <a:avLst>
                <a:gd name="adj" fmla="val 66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000000"/>
                </a:solidFill>
                <a:latin typeface="AL-Mateen"/>
              </a:rPr>
              <a:t> </a:t>
            </a:r>
            <a:r>
              <a:rPr b="0" lang="hi-IN" sz="3200" spc="1" strike="noStrike">
                <a:ln w="0">
                  <a:noFill/>
                </a:ln>
                <a:solidFill>
                  <a:srgbClr val="000000"/>
                </a:solidFill>
                <a:latin typeface="AL-Mateen"/>
              </a:rPr>
              <a:t>كيف تدير وتطور ذاتك ؟</a:t>
            </a:r>
            <a:r>
              <a:rPr b="0" lang="en-US" sz="3200" spc="1" strike="noStrike">
                <a:ln w="0">
                  <a:noFill/>
                </a:ln>
                <a:solidFill>
                  <a:srgbClr val="000000"/>
                </a:solidFill>
                <a:latin typeface="AL-Mateen"/>
              </a:rPr>
              <a:t> </a:t>
            </a:r>
            <a:endParaRPr b="0" lang="en-US" sz="3200" spc="1" strike="noStrike">
              <a:ln w="0">
                <a:noFill/>
              </a:ln>
              <a:solidFill>
                <a:srgbClr val="000000"/>
              </a:solidFill>
              <a:latin typeface="AL-Mateen"/>
              <a:ea typeface="AL-Mate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efefe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8886960"/>
            <a:ext cx="228600" cy="2505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400" spc="-1" strike="noStrike">
                <a:solidFill>
                  <a:srgbClr val="000000"/>
                </a:solidFill>
                <a:latin typeface="Times New Roman"/>
                <a:ea typeface="SKR HEAD1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68280" y="739800"/>
            <a:ext cx="393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800" spc="-1" strike="noStrike">
                <a:solidFill>
                  <a:srgbClr val="000000"/>
                </a:solidFill>
                <a:latin typeface="Times New Roman"/>
                <a:cs typeface="AL-Mateen"/>
              </a:rPr>
              <a:t>الاعتقاد بالقدرة على تطوير الذات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6040" y="1182600"/>
            <a:ext cx="5040360" cy="24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66760" algn="r" rtl="1"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”لقد خلقنا الإنسان في أحسن تقويـم“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266760" algn="r" rtl="1"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تـعـلَّـم أنـه لا شـيء مستـحيـل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266760" algn="r" rtl="1"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إمكانات الثلاثة (مفعلـة ، كامنة ، ممكنة)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266760" algn="r" rtl="1"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ــخ الإنــســان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266760" algn="r" rtl="1"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احـذر عـقـدة النقـص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266760" algn="r" rtl="1"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إن أذهب الله من عيني نورهمـا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266760" algn="r" rtl="1"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فإن تكن الأيـام أودت بصحـتي 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20708400">
            <a:off x="5237280" y="715680"/>
            <a:ext cx="288720" cy="398520"/>
          </a:xfrm>
          <a:custGeom>
            <a:avLst/>
            <a:gdLst>
              <a:gd name="textAreaLeft" fmla="*/ 0 w 288720"/>
              <a:gd name="textAreaRight" fmla="*/ 289080 w 288720"/>
              <a:gd name="textAreaTop" fmla="*/ 51480 h 398520"/>
              <a:gd name="textAreaBottom" fmla="*/ 347040 h 3985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000000"/>
                </a:solidFill>
                <a:latin typeface="Times New Roman"/>
                <a:ea typeface="SKR HEAD1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54120" y="335592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800" spc="-1" strike="noStrike">
                <a:solidFill>
                  <a:srgbClr val="000000"/>
                </a:solidFill>
                <a:latin typeface="Times New Roman"/>
                <a:ea typeface="AL-Mateen"/>
              </a:rPr>
              <a:t> التفاؤل والسمو بالمعنويات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20640" y="3840120"/>
            <a:ext cx="4608720" cy="14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66760" algn="r" rtl="1"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ـطـيـرة شـرك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266760" algn="r" rtl="1"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كان رسول الله يتفـاءل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266760" algn="r" rtl="1"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عدي بن حاتم وقصة إسلامه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266760" algn="r" rtl="1"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الـرسـول وتغيـير الأسمـاء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266760" algn="r" rtl="1"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وزير الملك وعسى أن يكون خيراً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708280" y="5256360"/>
            <a:ext cx="247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800" spc="-1" strike="noStrike">
                <a:solidFill>
                  <a:srgbClr val="000000"/>
                </a:solidFill>
                <a:latin typeface="Times New Roman"/>
                <a:cs typeface="AL-Mateen"/>
              </a:rPr>
              <a:t>التفكير الإيجابي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9000" y="5715000"/>
            <a:ext cx="5040360" cy="13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66760" algn="r" rtl="1">
              <a:lnSpc>
                <a:spcPct val="5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كــأس.. مــاذا تـرى 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266760" algn="r" rtl="1">
              <a:lnSpc>
                <a:spcPct val="5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صاحب الديـك والكلـب والحمار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266760" algn="r" rtl="1">
              <a:lnSpc>
                <a:spcPct val="5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ليس هناك فشل وإنما هناك خبرات وتجارب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266760" algn="r" rtl="1">
              <a:lnSpc>
                <a:spcPct val="5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فشل الحقيقي يوم أن تقرر التوقف عـن العمل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57720" y="6746760"/>
            <a:ext cx="192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000000"/>
                </a:solidFill>
                <a:latin typeface="Times New Roman"/>
                <a:ea typeface="SKR HEAD1"/>
              </a:rPr>
              <a:t> </a:t>
            </a:r>
            <a:r>
              <a:rPr b="0" lang="ar-AE" sz="1800" spc="-1" strike="noStrike">
                <a:solidFill>
                  <a:srgbClr val="000000"/>
                </a:solidFill>
                <a:latin typeface="Times New Roman"/>
                <a:cs typeface="AL-Mateen"/>
              </a:rPr>
              <a:t>الألــــــم</a:t>
            </a:r>
            <a:r>
              <a:rPr b="0" lang="ar-AE" sz="2000" spc="-1" strike="noStrike">
                <a:solidFill>
                  <a:srgbClr val="000000"/>
                </a:solidFill>
                <a:latin typeface="Times New Roman"/>
                <a:ea typeface="SKR HEAD1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-100080" y="7145280"/>
            <a:ext cx="5300640" cy="24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66760" algn="r" rtl="1">
              <a:lnSpc>
                <a:spcPct val="5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حـرقة والعـواطـف الجيـاشـة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266760" algn="r" rtl="1">
              <a:lnSpc>
                <a:spcPct val="5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الوقود الذي يحرك الإنسـان نحـو التطويـر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266760" algn="r" rtl="1">
              <a:lnSpc>
                <a:spcPct val="5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”لعـلك بـاخـع نفسك ألا يكـونـوا مـؤمنيـن“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266760" algn="r" rtl="1">
              <a:lnSpc>
                <a:spcPct val="5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”فلعلك باخع نفسك على آثارهم إن لم يؤمنوا بهذا الحديث أسفاً“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266760" algn="r" rtl="1">
              <a:lnSpc>
                <a:spcPct val="5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صـلاح الـدين الأيـوبي والمسجـد الأقصـى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266760" algn="r" rtl="1">
              <a:lnSpc>
                <a:spcPct val="5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متسلـق الجبـال آرون والتسـون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266760" algn="r" rtl="1">
              <a:lnSpc>
                <a:spcPct val="5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لـو كـان شعـري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20708400">
            <a:off x="5237280" y="3304800"/>
            <a:ext cx="288720" cy="399960"/>
          </a:xfrm>
          <a:custGeom>
            <a:avLst/>
            <a:gdLst>
              <a:gd name="textAreaLeft" fmla="*/ 0 w 288720"/>
              <a:gd name="textAreaRight" fmla="*/ 289080 w 288720"/>
              <a:gd name="textAreaTop" fmla="*/ 51840 h 399960"/>
              <a:gd name="textAreaBottom" fmla="*/ 348120 h 3999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000000"/>
                </a:solidFill>
                <a:latin typeface="Times New Roman"/>
                <a:ea typeface="SKR HEAD1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20708400">
            <a:off x="5237280" y="5231880"/>
            <a:ext cx="288720" cy="398520"/>
          </a:xfrm>
          <a:custGeom>
            <a:avLst/>
            <a:gdLst>
              <a:gd name="textAreaLeft" fmla="*/ 0 w 288720"/>
              <a:gd name="textAreaRight" fmla="*/ 289080 w 288720"/>
              <a:gd name="textAreaTop" fmla="*/ 51480 h 398520"/>
              <a:gd name="textAreaBottom" fmla="*/ 347040 h 3985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000000"/>
                </a:solidFill>
                <a:latin typeface="Times New Roman"/>
                <a:ea typeface="SKR HEAD1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rot="20708400">
            <a:off x="5237280" y="6711480"/>
            <a:ext cx="288720" cy="398520"/>
          </a:xfrm>
          <a:custGeom>
            <a:avLst/>
            <a:gdLst>
              <a:gd name="textAreaLeft" fmla="*/ 0 w 288720"/>
              <a:gd name="textAreaRight" fmla="*/ 289080 w 288720"/>
              <a:gd name="textAreaTop" fmla="*/ 51480 h 398520"/>
              <a:gd name="textAreaBottom" fmla="*/ 347040 h 3985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000000"/>
                </a:solidFill>
                <a:latin typeface="Times New Roman"/>
                <a:ea typeface="SKR HEAD1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76280" y="3575160"/>
            <a:ext cx="1440000" cy="27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efefe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860640" y="1685880"/>
            <a:ext cx="1584360" cy="433440"/>
          </a:xfrm>
          <a:custGeom>
            <a:avLst/>
            <a:gdLst>
              <a:gd name="textAreaLeft" fmla="*/ 51120 w 1584360"/>
              <a:gd name="textAreaRight" fmla="*/ 1533240 w 1584360"/>
              <a:gd name="textAreaTop" fmla="*/ 51120 h 433440"/>
              <a:gd name="textAreaBottom" fmla="*/ 382320 h 433440"/>
            </a:gdLst>
            <a:ahLst/>
            <a:rect l="textAreaLeft" t="textAreaTop" r="textAreaRight" b="textAreaBottom"/>
            <a:pathLst>
              <a:path w="78907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75307" y="21600"/>
                </a:lnTo>
                <a:arcTo wR="3600" hR="3600" stAng="10800000" swAng="5400000"/>
                <a:lnTo>
                  <a:pt x="78907" y="3600"/>
                </a:lnTo>
                <a:arcTo wR="3600" hR="3600" stAng="5400000" swAng="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47600" indent="-1047600" algn="r" rtl="1">
              <a:lnSpc>
                <a:spcPct val="105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SKR HEAD1"/>
              </a:rPr>
              <a:t>ا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cs typeface="SKR HEAD1"/>
              </a:rPr>
              <a:t>كت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SKR HEAD1"/>
              </a:rPr>
              <a:t>شاف الذات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8881920"/>
            <a:ext cx="228600" cy="25272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400" spc="-1" strike="noStrike">
                <a:solidFill>
                  <a:srgbClr val="000000"/>
                </a:solidFill>
                <a:latin typeface="Times New Roman"/>
                <a:ea typeface="SKR HEAD1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14480" y="2700360"/>
            <a:ext cx="4103640" cy="9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800" spc="-1" strike="noStrike">
                <a:solidFill>
                  <a:srgbClr val="000000"/>
                </a:solidFill>
                <a:latin typeface="Times New Roman"/>
                <a:ea typeface="AL-Mateen"/>
              </a:rPr>
              <a:t> قد يتأخر الإنسان في اكتشاف نفسه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600" spc="-1" strike="noStrike">
                <a:solidFill>
                  <a:srgbClr val="000000"/>
                </a:solidFill>
                <a:latin typeface="Times New Roman"/>
                <a:ea typeface="SKR HEAD1"/>
              </a:rPr>
              <a:t> </a:t>
            </a:r>
            <a:r>
              <a:rPr b="1" lang="ar-AE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ar-AE" sz="2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ابن حزم .    </a:t>
            </a:r>
            <a:r>
              <a:rPr b="1" lang="ar-AE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ar-AE" sz="2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رئيس شركة نيسان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76280" y="3570120"/>
            <a:ext cx="4603680" cy="11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800" spc="-1" strike="noStrike">
                <a:solidFill>
                  <a:srgbClr val="000000"/>
                </a:solidFill>
                <a:latin typeface="Times New Roman"/>
                <a:cs typeface="AL-Mateen"/>
              </a:rPr>
              <a:t>كيــــــف يُكـْـتَشَفُ الإنـســــان أو مــــــــن الـــذي يكـــتشفـــه 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r>
              <a:rPr b="1" lang="ar-AE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ar-AE" sz="1600" spc="-1" strike="noStrike">
                <a:solidFill>
                  <a:srgbClr val="000000"/>
                </a:solidFill>
                <a:latin typeface="Times New Roman"/>
                <a:ea typeface="SKR HEAD1"/>
              </a:rPr>
              <a:t> </a:t>
            </a:r>
            <a:r>
              <a:rPr b="1" lang="ar-AE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أبو حنيفة.  </a:t>
            </a:r>
            <a:r>
              <a:rPr b="1" lang="ar-AE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ar-AE" sz="2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ابن المبارك. </a:t>
            </a:r>
            <a:r>
              <a:rPr b="1" lang="ar-AE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ar-AE" sz="1600" spc="-1" strike="noStrike">
                <a:solidFill>
                  <a:srgbClr val="000000"/>
                </a:solidFill>
                <a:latin typeface="Times New Roman"/>
                <a:ea typeface="SKR HEAD1"/>
              </a:rPr>
              <a:t> </a:t>
            </a:r>
            <a:r>
              <a:rPr b="1" lang="ar-AE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الك بن دينار. </a:t>
            </a:r>
            <a:r>
              <a:rPr b="1" lang="ar-AE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ar-AE" sz="2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إديسون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49360" y="4390920"/>
            <a:ext cx="45482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800" spc="-1" strike="noStrike">
                <a:solidFill>
                  <a:srgbClr val="000000"/>
                </a:solidFill>
                <a:latin typeface="Times New Roman"/>
                <a:cs typeface="AL-Mateen"/>
              </a:rPr>
              <a:t>تعرَّف علــى معــادلــة اكتشـــاف الـــذت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589720" y="1749600"/>
            <a:ext cx="647640" cy="466560"/>
          </a:xfrm>
          <a:prstGeom prst="downArrowCallout">
            <a:avLst>
              <a:gd name="adj1" fmla="val 34706"/>
              <a:gd name="adj2" fmla="val 34703"/>
              <a:gd name="adj3" fmla="val 16667"/>
              <a:gd name="adj4" fmla="val 742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000000"/>
                </a:solidFill>
                <a:latin typeface="Times New Roman"/>
                <a:cs typeface="SKR HEAD1"/>
              </a:rPr>
              <a:t>ثالثا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 rot="850200">
            <a:off x="5122440" y="2644560"/>
            <a:ext cx="295200" cy="333360"/>
          </a:xfrm>
          <a:custGeom>
            <a:avLst/>
            <a:gdLst>
              <a:gd name="textAreaLeft" fmla="*/ 0 w 295200"/>
              <a:gd name="textAreaRight" fmla="*/ 295200 w 29520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000000"/>
                </a:solidFill>
                <a:latin typeface="Times New Roman"/>
                <a:ea typeface="SKR HEAD1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 rot="850200">
            <a:off x="5122080" y="3507840"/>
            <a:ext cx="295200" cy="331920"/>
          </a:xfrm>
          <a:custGeom>
            <a:avLst/>
            <a:gdLst>
              <a:gd name="textAreaLeft" fmla="*/ 0 w 295200"/>
              <a:gd name="textAreaRight" fmla="*/ 295200 w 295200"/>
              <a:gd name="textAreaTop" fmla="*/ 0 h 331920"/>
              <a:gd name="textAreaBottom" fmla="*/ 332280 h 33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000000"/>
                </a:solidFill>
                <a:latin typeface="Times New Roman"/>
                <a:ea typeface="SKR HEAD1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 rot="850200">
            <a:off x="5122440" y="4438440"/>
            <a:ext cx="295200" cy="333360"/>
          </a:xfrm>
          <a:custGeom>
            <a:avLst/>
            <a:gdLst>
              <a:gd name="textAreaLeft" fmla="*/ 0 w 295200"/>
              <a:gd name="textAreaRight" fmla="*/ 295200 w 29520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000000"/>
                </a:solidFill>
                <a:latin typeface="Times New Roman"/>
                <a:ea typeface="SKR HEAD1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611440" y="7427880"/>
            <a:ext cx="1224000" cy="1328760"/>
          </a:xfrm>
          <a:custGeom>
            <a:avLst/>
            <a:gdLst>
              <a:gd name="textAreaLeft" fmla="*/ 15120 w 1224000"/>
              <a:gd name="textAreaRight" fmla="*/ 1208880 w 1224000"/>
              <a:gd name="textAreaTop" fmla="*/ 15120 h 1328760"/>
              <a:gd name="textAreaBottom" fmla="*/ 1313640 h 1328760"/>
            </a:gdLst>
            <a:ahLst/>
            <a:rect l="textAreaLeft" t="textAreaTop" r="textAreaRight" b="textAreaBottom"/>
            <a:pathLst>
              <a:path w="21600" h="23448">
                <a:moveTo>
                  <a:pt x="925" y="0"/>
                </a:moveTo>
                <a:arcTo wR="925" hR="925" stAng="16200000" swAng="-5400000"/>
                <a:lnTo>
                  <a:pt x="0" y="22523"/>
                </a:lnTo>
                <a:arcTo wR="925" hR="925" stAng="10800000" swAng="-5400000"/>
                <a:lnTo>
                  <a:pt x="20675" y="23448"/>
                </a:lnTo>
                <a:arcTo wR="925" hR="925" stAng="5400000" swAng="-5400000"/>
                <a:lnTo>
                  <a:pt x="21600" y="925"/>
                </a:lnTo>
                <a:arcTo wR="925" hR="925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Times New Roman"/>
                <a:cs typeface="SKR HEAD1"/>
              </a:rPr>
              <a:t>معـــادلــ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Times New Roman"/>
                <a:ea typeface="SKR HEAD1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Times New Roman"/>
                <a:cs typeface="SKR HEAD1"/>
              </a:rPr>
              <a:t>اكتـشـــا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Times New Roman"/>
                <a:ea typeface="SKR HEAD1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Times New Roman"/>
                <a:cs typeface="SKR HEAD1"/>
              </a:rPr>
              <a:t>الــــــــذات</a:t>
            </a:r>
            <a:r>
              <a:rPr b="0" lang="ar-AE" sz="2400" spc="-1" strike="noStrike">
                <a:solidFill>
                  <a:srgbClr val="000000"/>
                </a:solidFill>
                <a:latin typeface="Times New Roman"/>
                <a:ea typeface="SKR HEAD1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013360" y="5702400"/>
            <a:ext cx="792000" cy="1062000"/>
          </a:xfrm>
          <a:prstGeom prst="pentag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تأم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149720" y="5502240"/>
            <a:ext cx="792000" cy="1062000"/>
          </a:xfrm>
          <a:prstGeom prst="pentag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رغب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97240" y="5369040"/>
            <a:ext cx="792000" cy="1062000"/>
          </a:xfrm>
          <a:prstGeom prst="pentag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قدر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97080" y="5369040"/>
            <a:ext cx="944640" cy="1062000"/>
          </a:xfrm>
          <a:prstGeom prst="pentag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استشار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74760" y="5634000"/>
            <a:ext cx="923760" cy="1062000"/>
          </a:xfrm>
          <a:prstGeom prst="pentag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استخار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76280" y="5967360"/>
            <a:ext cx="787320" cy="1062000"/>
          </a:xfrm>
          <a:prstGeom prst="pentag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بيئ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25360" y="7029360"/>
            <a:ext cx="1511640" cy="398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3789360" y="6753240"/>
            <a:ext cx="1393920" cy="67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89000" y="6696000"/>
            <a:ext cx="935280" cy="731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499920" y="6564240"/>
            <a:ext cx="792360" cy="863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357720" y="6431040"/>
            <a:ext cx="287280" cy="996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637000" y="6431040"/>
            <a:ext cx="431640" cy="996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700280" y="982800"/>
            <a:ext cx="3240000" cy="53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nUp">
              <a:avLst>
                <a:gd name="adj" fmla="val 66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000000"/>
                </a:solidFill>
                <a:latin typeface="AL-Mateen"/>
              </a:rPr>
              <a:t> </a:t>
            </a:r>
            <a:r>
              <a:rPr b="0" lang="hi-IN" sz="3200" spc="1" strike="noStrike">
                <a:ln w="0">
                  <a:noFill/>
                </a:ln>
                <a:solidFill>
                  <a:srgbClr val="000000"/>
                </a:solidFill>
                <a:latin typeface="AL-Mateen"/>
              </a:rPr>
              <a:t>كيف تدير وتطور ذاتك ؟</a:t>
            </a:r>
            <a:r>
              <a:rPr b="0" lang="en-US" sz="3200" spc="1" strike="noStrike">
                <a:ln w="0">
                  <a:noFill/>
                </a:ln>
                <a:solidFill>
                  <a:srgbClr val="000000"/>
                </a:solidFill>
                <a:latin typeface="AL-Mateen"/>
              </a:rPr>
              <a:t> </a:t>
            </a:r>
            <a:endParaRPr b="0" lang="en-US" sz="3200" spc="1" strike="noStrike">
              <a:ln w="0">
                <a:noFill/>
              </a:ln>
              <a:solidFill>
                <a:srgbClr val="000000"/>
              </a:solidFill>
              <a:latin typeface="AL-Mateen"/>
              <a:ea typeface="AL-Mate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efefe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20760" y="8858160"/>
            <a:ext cx="228600" cy="254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400" spc="-1" strike="noStrike">
                <a:solidFill>
                  <a:srgbClr val="000000"/>
                </a:solidFill>
                <a:latin typeface="Times New Roman"/>
                <a:ea typeface="SKR HEAD1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49360" y="3544920"/>
            <a:ext cx="4032000" cy="1493640"/>
          </a:xfrm>
          <a:prstGeom prst="roundRect">
            <a:avLst>
              <a:gd name="adj" fmla="val 740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177840" indent="-88920" algn="r" rtl="1">
              <a:lnSpc>
                <a:spcPct val="6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88920" algn="r" rtl="1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800" spc="-1" strike="noStrike">
                <a:solidFill>
                  <a:srgbClr val="000000"/>
                </a:solidFill>
                <a:latin typeface="Times New Roman"/>
                <a:ea typeface="SKR HEAD1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SKR HEAD1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88920" algn="r" rtl="1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800" spc="-1" strike="noStrike">
                <a:solidFill>
                  <a:srgbClr val="000000"/>
                </a:solidFill>
                <a:latin typeface="Times New Roman"/>
                <a:ea typeface="SKR HEAD1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SKR HEAD1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88920" algn="r" rtl="1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800" spc="-1" strike="noStrike">
                <a:solidFill>
                  <a:srgbClr val="000000"/>
                </a:solidFill>
                <a:latin typeface="Times New Roman"/>
                <a:ea typeface="SKR HEAD1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SKR HEAD1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9360" y="5329080"/>
            <a:ext cx="4032000" cy="1501920"/>
          </a:xfrm>
          <a:prstGeom prst="roundRect">
            <a:avLst>
              <a:gd name="adj" fmla="val 740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177840" indent="-88920" algn="r" rtl="1">
              <a:lnSpc>
                <a:spcPct val="6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88920" algn="r" rtl="1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800" spc="-1" strike="noStrike">
                <a:solidFill>
                  <a:srgbClr val="000000"/>
                </a:solidFill>
                <a:latin typeface="Times New Roman"/>
                <a:ea typeface="SKR HEAD1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SKR HEAD1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88920" algn="r" rtl="1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800" spc="-1" strike="noStrike">
                <a:solidFill>
                  <a:srgbClr val="000000"/>
                </a:solidFill>
                <a:latin typeface="Times New Roman"/>
                <a:ea typeface="SKR HEAD1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SKR HEAD1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88920" algn="r" rtl="1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800" spc="-1" strike="noStrike">
                <a:solidFill>
                  <a:srgbClr val="000000"/>
                </a:solidFill>
                <a:latin typeface="Times New Roman"/>
                <a:ea typeface="SKR HEAD1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SKR HEAD1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9360" y="7142040"/>
            <a:ext cx="4032000" cy="1503360"/>
          </a:xfrm>
          <a:prstGeom prst="roundRect">
            <a:avLst>
              <a:gd name="adj" fmla="val 740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177840" indent="-88920" algn="r" rtl="1">
              <a:lnSpc>
                <a:spcPct val="6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88920" algn="r" rtl="1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800" spc="-1" strike="noStrike">
                <a:solidFill>
                  <a:srgbClr val="000000"/>
                </a:solidFill>
                <a:latin typeface="Times New Roman"/>
                <a:ea typeface="SKR HEAD1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SKR HEAD1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88920" algn="r" rtl="1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800" spc="-1" strike="noStrike">
                <a:solidFill>
                  <a:srgbClr val="000000"/>
                </a:solidFill>
                <a:latin typeface="Times New Roman"/>
                <a:ea typeface="SKR HEAD1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SKR HEAD1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88920" algn="r" rtl="1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800" spc="-1" strike="noStrike">
                <a:solidFill>
                  <a:srgbClr val="000000"/>
                </a:solidFill>
                <a:latin typeface="Times New Roman"/>
                <a:ea typeface="SKR HEAD1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SKR HEAD1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54040" y="1800360"/>
            <a:ext cx="4027320" cy="1417680"/>
          </a:xfrm>
          <a:prstGeom prst="roundRect">
            <a:avLst>
              <a:gd name="adj" fmla="val 740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177840" indent="-88920" algn="r" rtl="1">
              <a:lnSpc>
                <a:spcPct val="6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88920" algn="r" rtl="1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800" spc="-1" strike="noStrike">
                <a:solidFill>
                  <a:srgbClr val="000000"/>
                </a:solidFill>
                <a:latin typeface="Times New Roman"/>
                <a:ea typeface="SKR HEAD1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SKR HEAD1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88920" algn="r" rtl="1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800" spc="-1" strike="noStrike">
                <a:solidFill>
                  <a:srgbClr val="000000"/>
                </a:solidFill>
                <a:latin typeface="Times New Roman"/>
                <a:ea typeface="SKR HEAD1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SKR HEAD1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88920" algn="r" rtl="1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800" spc="-1" strike="noStrike">
                <a:solidFill>
                  <a:srgbClr val="000000"/>
                </a:solidFill>
                <a:latin typeface="Times New Roman"/>
                <a:ea typeface="SKR HEAD1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SKR HEAD1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4290840" y="2162160"/>
            <a:ext cx="1409760" cy="647640"/>
          </a:xfrm>
          <a:prstGeom prst="roundRect">
            <a:avLst>
              <a:gd name="adj" fmla="val 812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</a:t>
            </a:r>
            <a:r>
              <a:rPr b="1" lang="ar-AE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ـ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 هي نقاط القوة ل</a:t>
            </a:r>
            <a:r>
              <a:rPr b="1" lang="ar-AE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ـ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ديك ؟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rot="850200">
            <a:off x="5122440" y="1114200"/>
            <a:ext cx="295200" cy="333360"/>
          </a:xfrm>
          <a:custGeom>
            <a:avLst/>
            <a:gdLst>
              <a:gd name="textAreaLeft" fmla="*/ 0 w 295200"/>
              <a:gd name="textAreaRight" fmla="*/ 295200 w 29520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000000"/>
                </a:solidFill>
                <a:latin typeface="Times New Roman"/>
                <a:ea typeface="SKR HEAD1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71680" y="1122480"/>
            <a:ext cx="18162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r" rtl="1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000000"/>
                </a:solidFill>
                <a:latin typeface="Times New Roman"/>
                <a:cs typeface="AL-Mateen"/>
              </a:rPr>
              <a:t>مـــــن أنــــت 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16200000">
            <a:off x="4250520" y="3947040"/>
            <a:ext cx="1477800" cy="647640"/>
          </a:xfrm>
          <a:prstGeom prst="roundRect">
            <a:avLst>
              <a:gd name="adj" fmla="val 812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 rtl="1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</a:t>
            </a:r>
            <a:r>
              <a:rPr b="1" lang="ar-AE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ـ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 هي نقاط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لضعف ل</a:t>
            </a:r>
            <a:r>
              <a:rPr b="1" lang="ar-AE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ــ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ديك ؟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4251960" y="5728320"/>
            <a:ext cx="1474560" cy="647640"/>
          </a:xfrm>
          <a:prstGeom prst="roundRect">
            <a:avLst>
              <a:gd name="adj" fmla="val 812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</a:t>
            </a:r>
            <a:r>
              <a:rPr b="1" lang="ar-AE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ـ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 هي </a:t>
            </a:r>
            <a:r>
              <a:rPr b="1" lang="ar-AE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يولك ورغبـا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؟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4253400" y="7541280"/>
            <a:ext cx="1471680" cy="647640"/>
          </a:xfrm>
          <a:prstGeom prst="roundRect">
            <a:avLst>
              <a:gd name="adj" fmla="val 812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 هي العوائق التي تح</a:t>
            </a: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ـ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ول دون تحق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ي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ق رغب</a:t>
            </a: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ــ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ت</a:t>
            </a: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ـ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ك ؟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efefe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860640" y="1619280"/>
            <a:ext cx="1649520" cy="433440"/>
          </a:xfrm>
          <a:custGeom>
            <a:avLst/>
            <a:gdLst>
              <a:gd name="textAreaLeft" fmla="*/ 51120 w 1649520"/>
              <a:gd name="textAreaRight" fmla="*/ 1598400 w 1649520"/>
              <a:gd name="textAreaTop" fmla="*/ 51120 h 433440"/>
              <a:gd name="textAreaBottom" fmla="*/ 382320 h 433440"/>
            </a:gdLst>
            <a:ahLst/>
            <a:rect l="textAreaLeft" t="textAreaTop" r="textAreaRight" b="textAreaBottom"/>
            <a:pathLst>
              <a:path w="8215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78552" y="21600"/>
                </a:lnTo>
                <a:arcTo wR="3600" hR="3600" stAng="10800000" swAng="5400000"/>
                <a:lnTo>
                  <a:pt x="82152" y="3600"/>
                </a:lnTo>
                <a:arcTo wR="3600" hR="3600" stAng="5400000" swAng="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47600" indent="-1047600" algn="r" rtl="1">
              <a:lnSpc>
                <a:spcPct val="115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000000"/>
                </a:solidFill>
                <a:latin typeface="Times New Roman"/>
                <a:cs typeface="SKR HEAD1"/>
              </a:rPr>
              <a:t>توجيه البوصلة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781360" y="2413080"/>
            <a:ext cx="230328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r" rtl="1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800" spc="-1" strike="noStrike">
                <a:solidFill>
                  <a:srgbClr val="000000"/>
                </a:solidFill>
                <a:latin typeface="Times New Roman"/>
                <a:cs typeface="AL-Mateen"/>
              </a:rPr>
              <a:t>الأحــــلام والأمنيـــات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620640" y="3774960"/>
            <a:ext cx="1165320" cy="1685880"/>
            <a:chOff x="620640" y="3774960"/>
            <a:chExt cx="1165320" cy="1685880"/>
          </a:xfrm>
        </p:grpSpPr>
        <p:sp>
          <p:nvSpPr>
            <p:cNvPr id="106" name=""/>
            <p:cNvSpPr/>
            <p:nvPr/>
          </p:nvSpPr>
          <p:spPr>
            <a:xfrm>
              <a:off x="620640" y="3774960"/>
              <a:ext cx="1165320" cy="16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4040" y="4381200"/>
              <a:ext cx="168120" cy="391680"/>
            </a:xfrm>
            <a:custGeom>
              <a:avLst/>
              <a:gdLst/>
              <a:ahLst/>
              <a:rect l="l" t="t" r="r" b="b"/>
              <a:pathLst>
                <a:path w="2834" h="3746">
                  <a:moveTo>
                    <a:pt x="0" y="3746"/>
                  </a:moveTo>
                  <a:lnTo>
                    <a:pt x="1647" y="2302"/>
                  </a:lnTo>
                  <a:lnTo>
                    <a:pt x="2637" y="0"/>
                  </a:lnTo>
                  <a:lnTo>
                    <a:pt x="2834" y="68"/>
                  </a:lnTo>
                  <a:lnTo>
                    <a:pt x="2637" y="460"/>
                  </a:lnTo>
                  <a:lnTo>
                    <a:pt x="1911" y="2499"/>
                  </a:lnTo>
                  <a:lnTo>
                    <a:pt x="461" y="3746"/>
                  </a:lnTo>
                  <a:lnTo>
                    <a:pt x="0" y="3746"/>
                  </a:lnTo>
                  <a:close/>
                </a:path>
              </a:pathLst>
            </a:custGeom>
            <a:solidFill>
              <a:srgbClr val="b5b5b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40520" y="3927960"/>
              <a:ext cx="601200" cy="797040"/>
            </a:xfrm>
            <a:custGeom>
              <a:avLst/>
              <a:gdLst/>
              <a:ahLst/>
              <a:rect l="l" t="t" r="r" b="b"/>
              <a:pathLst>
                <a:path w="10103" h="7625">
                  <a:moveTo>
                    <a:pt x="10103" y="2499"/>
                  </a:moveTo>
                  <a:lnTo>
                    <a:pt x="10103" y="2368"/>
                  </a:lnTo>
                  <a:lnTo>
                    <a:pt x="10049" y="2325"/>
                  </a:lnTo>
                  <a:lnTo>
                    <a:pt x="9970" y="2303"/>
                  </a:lnTo>
                  <a:lnTo>
                    <a:pt x="9842" y="2285"/>
                  </a:lnTo>
                  <a:lnTo>
                    <a:pt x="9741" y="2224"/>
                  </a:lnTo>
                  <a:lnTo>
                    <a:pt x="9638" y="2142"/>
                  </a:lnTo>
                  <a:lnTo>
                    <a:pt x="9577" y="2102"/>
                  </a:lnTo>
                  <a:lnTo>
                    <a:pt x="9452" y="1978"/>
                  </a:lnTo>
                  <a:lnTo>
                    <a:pt x="9249" y="1895"/>
                  </a:lnTo>
                  <a:lnTo>
                    <a:pt x="8258" y="1317"/>
                  </a:lnTo>
                  <a:lnTo>
                    <a:pt x="5489" y="0"/>
                  </a:lnTo>
                  <a:lnTo>
                    <a:pt x="4896" y="198"/>
                  </a:lnTo>
                  <a:lnTo>
                    <a:pt x="2520" y="1709"/>
                  </a:lnTo>
                  <a:lnTo>
                    <a:pt x="1994" y="2102"/>
                  </a:lnTo>
                  <a:lnTo>
                    <a:pt x="1794" y="2303"/>
                  </a:lnTo>
                  <a:lnTo>
                    <a:pt x="1618" y="2571"/>
                  </a:lnTo>
                  <a:lnTo>
                    <a:pt x="1533" y="2957"/>
                  </a:lnTo>
                  <a:lnTo>
                    <a:pt x="1465" y="3221"/>
                  </a:lnTo>
                  <a:lnTo>
                    <a:pt x="1401" y="3482"/>
                  </a:lnTo>
                  <a:lnTo>
                    <a:pt x="1201" y="3747"/>
                  </a:lnTo>
                  <a:lnTo>
                    <a:pt x="1004" y="4208"/>
                  </a:lnTo>
                  <a:lnTo>
                    <a:pt x="801" y="4594"/>
                  </a:lnTo>
                  <a:lnTo>
                    <a:pt x="740" y="4995"/>
                  </a:lnTo>
                  <a:lnTo>
                    <a:pt x="636" y="5270"/>
                  </a:lnTo>
                  <a:lnTo>
                    <a:pt x="607" y="5456"/>
                  </a:lnTo>
                  <a:lnTo>
                    <a:pt x="411" y="5785"/>
                  </a:lnTo>
                  <a:lnTo>
                    <a:pt x="215" y="5981"/>
                  </a:lnTo>
                  <a:lnTo>
                    <a:pt x="143" y="6067"/>
                  </a:lnTo>
                  <a:lnTo>
                    <a:pt x="42" y="6250"/>
                  </a:lnTo>
                  <a:lnTo>
                    <a:pt x="0" y="6474"/>
                  </a:lnTo>
                  <a:lnTo>
                    <a:pt x="22" y="6782"/>
                  </a:lnTo>
                  <a:lnTo>
                    <a:pt x="60" y="7025"/>
                  </a:lnTo>
                  <a:lnTo>
                    <a:pt x="147" y="7296"/>
                  </a:lnTo>
                  <a:lnTo>
                    <a:pt x="215" y="7493"/>
                  </a:lnTo>
                  <a:lnTo>
                    <a:pt x="278" y="7557"/>
                  </a:lnTo>
                  <a:lnTo>
                    <a:pt x="475" y="7625"/>
                  </a:lnTo>
                  <a:lnTo>
                    <a:pt x="1268" y="7361"/>
                  </a:lnTo>
                  <a:lnTo>
                    <a:pt x="1268" y="7100"/>
                  </a:lnTo>
                  <a:lnTo>
                    <a:pt x="1251" y="6964"/>
                  </a:lnTo>
                  <a:lnTo>
                    <a:pt x="1201" y="6771"/>
                  </a:lnTo>
                  <a:lnTo>
                    <a:pt x="1136" y="6507"/>
                  </a:lnTo>
                  <a:lnTo>
                    <a:pt x="1272" y="6414"/>
                  </a:lnTo>
                  <a:lnTo>
                    <a:pt x="1376" y="6310"/>
                  </a:lnTo>
                  <a:lnTo>
                    <a:pt x="1533" y="6046"/>
                  </a:lnTo>
                  <a:lnTo>
                    <a:pt x="1597" y="5916"/>
                  </a:lnTo>
                  <a:lnTo>
                    <a:pt x="1661" y="5799"/>
                  </a:lnTo>
                  <a:lnTo>
                    <a:pt x="1930" y="5473"/>
                  </a:lnTo>
                  <a:lnTo>
                    <a:pt x="2126" y="5127"/>
                  </a:lnTo>
                  <a:lnTo>
                    <a:pt x="2322" y="4734"/>
                  </a:lnTo>
                  <a:lnTo>
                    <a:pt x="2588" y="4076"/>
                  </a:lnTo>
                  <a:lnTo>
                    <a:pt x="2719" y="3747"/>
                  </a:lnTo>
                  <a:lnTo>
                    <a:pt x="2784" y="3683"/>
                  </a:lnTo>
                  <a:lnTo>
                    <a:pt x="2852" y="3633"/>
                  </a:lnTo>
                  <a:lnTo>
                    <a:pt x="2870" y="3593"/>
                  </a:lnTo>
                  <a:lnTo>
                    <a:pt x="2870" y="3550"/>
                  </a:lnTo>
                  <a:lnTo>
                    <a:pt x="2891" y="3512"/>
                  </a:lnTo>
                  <a:lnTo>
                    <a:pt x="3055" y="3407"/>
                  </a:lnTo>
                  <a:lnTo>
                    <a:pt x="3259" y="3329"/>
                  </a:lnTo>
                  <a:lnTo>
                    <a:pt x="3548" y="3225"/>
                  </a:lnTo>
                  <a:lnTo>
                    <a:pt x="3838" y="3157"/>
                  </a:lnTo>
                  <a:lnTo>
                    <a:pt x="6476" y="3157"/>
                  </a:lnTo>
                  <a:lnTo>
                    <a:pt x="8126" y="3419"/>
                  </a:lnTo>
                  <a:lnTo>
                    <a:pt x="9510" y="3157"/>
                  </a:lnTo>
                  <a:lnTo>
                    <a:pt x="9577" y="2957"/>
                  </a:lnTo>
                  <a:lnTo>
                    <a:pt x="10103" y="2499"/>
                  </a:lnTo>
                  <a:close/>
                </a:path>
              </a:pathLst>
            </a:custGeom>
            <a:solidFill>
              <a:srgbClr val="b5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91640" y="4123800"/>
              <a:ext cx="102600" cy="326160"/>
            </a:xfrm>
            <a:custGeom>
              <a:avLst/>
              <a:gdLst/>
              <a:ahLst/>
              <a:rect l="l" t="t" r="r" b="b"/>
              <a:pathLst>
                <a:path w="1727" h="3117">
                  <a:moveTo>
                    <a:pt x="1393" y="143"/>
                  </a:moveTo>
                  <a:lnTo>
                    <a:pt x="1086" y="325"/>
                  </a:lnTo>
                  <a:lnTo>
                    <a:pt x="922" y="550"/>
                  </a:lnTo>
                  <a:lnTo>
                    <a:pt x="822" y="775"/>
                  </a:lnTo>
                  <a:lnTo>
                    <a:pt x="740" y="1083"/>
                  </a:lnTo>
                  <a:lnTo>
                    <a:pt x="658" y="1408"/>
                  </a:lnTo>
                  <a:lnTo>
                    <a:pt x="614" y="1612"/>
                  </a:lnTo>
                  <a:lnTo>
                    <a:pt x="515" y="1737"/>
                  </a:lnTo>
                  <a:lnTo>
                    <a:pt x="390" y="1941"/>
                  </a:lnTo>
                  <a:lnTo>
                    <a:pt x="226" y="2266"/>
                  </a:lnTo>
                  <a:lnTo>
                    <a:pt x="143" y="2451"/>
                  </a:lnTo>
                  <a:lnTo>
                    <a:pt x="0" y="2859"/>
                  </a:lnTo>
                  <a:lnTo>
                    <a:pt x="11" y="3117"/>
                  </a:lnTo>
                  <a:lnTo>
                    <a:pt x="207" y="3024"/>
                  </a:lnTo>
                  <a:lnTo>
                    <a:pt x="472" y="2981"/>
                  </a:lnTo>
                  <a:lnTo>
                    <a:pt x="390" y="2859"/>
                  </a:lnTo>
                  <a:lnTo>
                    <a:pt x="390" y="2655"/>
                  </a:lnTo>
                  <a:lnTo>
                    <a:pt x="515" y="2451"/>
                  </a:lnTo>
                  <a:lnTo>
                    <a:pt x="604" y="2394"/>
                  </a:lnTo>
                  <a:lnTo>
                    <a:pt x="736" y="2262"/>
                  </a:lnTo>
                  <a:lnTo>
                    <a:pt x="905" y="2205"/>
                  </a:lnTo>
                  <a:lnTo>
                    <a:pt x="804" y="2066"/>
                  </a:lnTo>
                  <a:lnTo>
                    <a:pt x="779" y="1941"/>
                  </a:lnTo>
                  <a:lnTo>
                    <a:pt x="779" y="1880"/>
                  </a:lnTo>
                  <a:lnTo>
                    <a:pt x="986" y="1572"/>
                  </a:lnTo>
                  <a:lnTo>
                    <a:pt x="1212" y="1347"/>
                  </a:lnTo>
                  <a:lnTo>
                    <a:pt x="1065" y="1211"/>
                  </a:lnTo>
                  <a:lnTo>
                    <a:pt x="1065" y="1147"/>
                  </a:lnTo>
                  <a:lnTo>
                    <a:pt x="1069" y="958"/>
                  </a:lnTo>
                  <a:lnTo>
                    <a:pt x="1133" y="818"/>
                  </a:lnTo>
                  <a:lnTo>
                    <a:pt x="1294" y="611"/>
                  </a:lnTo>
                  <a:lnTo>
                    <a:pt x="1458" y="550"/>
                  </a:lnTo>
                  <a:lnTo>
                    <a:pt x="1727" y="490"/>
                  </a:lnTo>
                  <a:lnTo>
                    <a:pt x="1579" y="243"/>
                  </a:lnTo>
                  <a:lnTo>
                    <a:pt x="1601" y="0"/>
                  </a:lnTo>
                  <a:lnTo>
                    <a:pt x="1393" y="143"/>
                  </a:lnTo>
                  <a:close/>
                </a:path>
              </a:pathLst>
            </a:custGeom>
            <a:solidFill>
              <a:srgbClr val="ff3d3d"/>
            </a:solidFill>
            <a:ln w="0">
              <a:solidFill>
                <a:srgbClr val="ff3d3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44120" y="4568400"/>
              <a:ext cx="51120" cy="115560"/>
            </a:xfrm>
            <a:custGeom>
              <a:avLst/>
              <a:gdLst/>
              <a:ahLst/>
              <a:rect l="l" t="t" r="r" b="b"/>
              <a:pathLst>
                <a:path w="862" h="1101">
                  <a:moveTo>
                    <a:pt x="862" y="244"/>
                  </a:moveTo>
                  <a:lnTo>
                    <a:pt x="701" y="83"/>
                  </a:lnTo>
                  <a:lnTo>
                    <a:pt x="555" y="0"/>
                  </a:lnTo>
                  <a:lnTo>
                    <a:pt x="351" y="0"/>
                  </a:lnTo>
                  <a:lnTo>
                    <a:pt x="105" y="61"/>
                  </a:lnTo>
                  <a:lnTo>
                    <a:pt x="44" y="183"/>
                  </a:lnTo>
                  <a:lnTo>
                    <a:pt x="0" y="309"/>
                  </a:lnTo>
                  <a:lnTo>
                    <a:pt x="65" y="309"/>
                  </a:lnTo>
                  <a:lnTo>
                    <a:pt x="105" y="347"/>
                  </a:lnTo>
                  <a:lnTo>
                    <a:pt x="105" y="430"/>
                  </a:lnTo>
                  <a:lnTo>
                    <a:pt x="105" y="512"/>
                  </a:lnTo>
                  <a:lnTo>
                    <a:pt x="125" y="573"/>
                  </a:lnTo>
                  <a:lnTo>
                    <a:pt x="165" y="655"/>
                  </a:lnTo>
                  <a:lnTo>
                    <a:pt x="229" y="694"/>
                  </a:lnTo>
                  <a:lnTo>
                    <a:pt x="290" y="737"/>
                  </a:lnTo>
                  <a:lnTo>
                    <a:pt x="329" y="777"/>
                  </a:lnTo>
                  <a:lnTo>
                    <a:pt x="390" y="898"/>
                  </a:lnTo>
                  <a:lnTo>
                    <a:pt x="390" y="980"/>
                  </a:lnTo>
                  <a:lnTo>
                    <a:pt x="483" y="1101"/>
                  </a:lnTo>
                  <a:lnTo>
                    <a:pt x="547" y="1101"/>
                  </a:lnTo>
                  <a:lnTo>
                    <a:pt x="615" y="1101"/>
                  </a:lnTo>
                  <a:lnTo>
                    <a:pt x="748" y="1101"/>
                  </a:lnTo>
                  <a:lnTo>
                    <a:pt x="576" y="980"/>
                  </a:lnTo>
                  <a:lnTo>
                    <a:pt x="515" y="898"/>
                  </a:lnTo>
                  <a:lnTo>
                    <a:pt x="515" y="777"/>
                  </a:lnTo>
                  <a:lnTo>
                    <a:pt x="547" y="709"/>
                  </a:lnTo>
                  <a:lnTo>
                    <a:pt x="615" y="644"/>
                  </a:lnTo>
                  <a:lnTo>
                    <a:pt x="576" y="512"/>
                  </a:lnTo>
                  <a:lnTo>
                    <a:pt x="537" y="451"/>
                  </a:lnTo>
                  <a:lnTo>
                    <a:pt x="415" y="315"/>
                  </a:lnTo>
                  <a:lnTo>
                    <a:pt x="415" y="247"/>
                  </a:lnTo>
                  <a:lnTo>
                    <a:pt x="555" y="226"/>
                  </a:lnTo>
                  <a:lnTo>
                    <a:pt x="862" y="244"/>
                  </a:lnTo>
                  <a:close/>
                </a:path>
              </a:pathLst>
            </a:custGeom>
            <a:solidFill>
              <a:srgbClr val="ff3d3d"/>
            </a:solidFill>
            <a:ln w="0">
              <a:solidFill>
                <a:srgbClr val="ff3d3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90280" y="3884040"/>
              <a:ext cx="407520" cy="427680"/>
            </a:xfrm>
            <a:custGeom>
              <a:avLst/>
              <a:gdLst/>
              <a:ahLst/>
              <a:rect l="l" t="t" r="r" b="b"/>
              <a:pathLst>
                <a:path w="6857" h="4097">
                  <a:moveTo>
                    <a:pt x="6661" y="2782"/>
                  </a:moveTo>
                  <a:lnTo>
                    <a:pt x="6707" y="2720"/>
                  </a:lnTo>
                  <a:lnTo>
                    <a:pt x="6811" y="2578"/>
                  </a:lnTo>
                  <a:lnTo>
                    <a:pt x="6832" y="2516"/>
                  </a:lnTo>
                  <a:lnTo>
                    <a:pt x="6857" y="2388"/>
                  </a:lnTo>
                  <a:lnTo>
                    <a:pt x="6832" y="2249"/>
                  </a:lnTo>
                  <a:lnTo>
                    <a:pt x="6792" y="2188"/>
                  </a:lnTo>
                  <a:lnTo>
                    <a:pt x="6724" y="2123"/>
                  </a:lnTo>
                  <a:lnTo>
                    <a:pt x="6661" y="2059"/>
                  </a:lnTo>
                  <a:lnTo>
                    <a:pt x="6521" y="1941"/>
                  </a:lnTo>
                  <a:lnTo>
                    <a:pt x="6196" y="1698"/>
                  </a:lnTo>
                  <a:lnTo>
                    <a:pt x="6032" y="1473"/>
                  </a:lnTo>
                  <a:lnTo>
                    <a:pt x="5927" y="1248"/>
                  </a:lnTo>
                  <a:lnTo>
                    <a:pt x="5806" y="1044"/>
                  </a:lnTo>
                  <a:lnTo>
                    <a:pt x="5600" y="736"/>
                  </a:lnTo>
                  <a:lnTo>
                    <a:pt x="5538" y="637"/>
                  </a:lnTo>
                  <a:lnTo>
                    <a:pt x="5396" y="512"/>
                  </a:lnTo>
                  <a:lnTo>
                    <a:pt x="5274" y="351"/>
                  </a:lnTo>
                  <a:lnTo>
                    <a:pt x="5077" y="283"/>
                  </a:lnTo>
                  <a:lnTo>
                    <a:pt x="4813" y="218"/>
                  </a:lnTo>
                  <a:lnTo>
                    <a:pt x="4677" y="125"/>
                  </a:lnTo>
                  <a:lnTo>
                    <a:pt x="4552" y="86"/>
                  </a:lnTo>
                  <a:lnTo>
                    <a:pt x="4166" y="44"/>
                  </a:lnTo>
                  <a:lnTo>
                    <a:pt x="3956" y="86"/>
                  </a:lnTo>
                  <a:lnTo>
                    <a:pt x="3826" y="22"/>
                  </a:lnTo>
                  <a:lnTo>
                    <a:pt x="3695" y="0"/>
                  </a:lnTo>
                  <a:lnTo>
                    <a:pt x="3494" y="22"/>
                  </a:lnTo>
                  <a:lnTo>
                    <a:pt x="3305" y="61"/>
                  </a:lnTo>
                  <a:lnTo>
                    <a:pt x="3037" y="104"/>
                  </a:lnTo>
                  <a:lnTo>
                    <a:pt x="2837" y="86"/>
                  </a:lnTo>
                  <a:lnTo>
                    <a:pt x="2565" y="104"/>
                  </a:lnTo>
                  <a:lnTo>
                    <a:pt x="0" y="876"/>
                  </a:lnTo>
                  <a:lnTo>
                    <a:pt x="1651" y="3768"/>
                  </a:lnTo>
                  <a:lnTo>
                    <a:pt x="1979" y="3964"/>
                  </a:lnTo>
                  <a:lnTo>
                    <a:pt x="3298" y="4097"/>
                  </a:lnTo>
                  <a:lnTo>
                    <a:pt x="4945" y="3503"/>
                  </a:lnTo>
                  <a:lnTo>
                    <a:pt x="5342" y="3371"/>
                  </a:lnTo>
                  <a:lnTo>
                    <a:pt x="5396" y="3167"/>
                  </a:lnTo>
                  <a:lnTo>
                    <a:pt x="6503" y="2842"/>
                  </a:lnTo>
                  <a:lnTo>
                    <a:pt x="6661" y="2782"/>
                  </a:lnTo>
                  <a:close/>
                </a:path>
              </a:pathLst>
            </a:custGeom>
            <a:solidFill>
              <a:srgbClr val="ffd3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145160" y="3911760"/>
              <a:ext cx="117720" cy="214560"/>
            </a:xfrm>
            <a:custGeom>
              <a:avLst/>
              <a:gdLst/>
              <a:ahLst/>
              <a:rect l="l" t="t" r="r" b="b"/>
              <a:pathLst>
                <a:path w="1976" h="2052">
                  <a:moveTo>
                    <a:pt x="1976" y="1920"/>
                  </a:moveTo>
                  <a:lnTo>
                    <a:pt x="1948" y="1655"/>
                  </a:lnTo>
                  <a:lnTo>
                    <a:pt x="1865" y="1387"/>
                  </a:lnTo>
                  <a:lnTo>
                    <a:pt x="1779" y="1197"/>
                  </a:lnTo>
                  <a:lnTo>
                    <a:pt x="1661" y="1001"/>
                  </a:lnTo>
                  <a:lnTo>
                    <a:pt x="1583" y="805"/>
                  </a:lnTo>
                  <a:lnTo>
                    <a:pt x="1476" y="611"/>
                  </a:lnTo>
                  <a:lnTo>
                    <a:pt x="1318" y="344"/>
                  </a:lnTo>
                  <a:lnTo>
                    <a:pt x="1186" y="211"/>
                  </a:lnTo>
                  <a:lnTo>
                    <a:pt x="1054" y="83"/>
                  </a:lnTo>
                  <a:lnTo>
                    <a:pt x="922" y="40"/>
                  </a:lnTo>
                  <a:lnTo>
                    <a:pt x="657" y="0"/>
                  </a:lnTo>
                  <a:lnTo>
                    <a:pt x="267" y="61"/>
                  </a:lnTo>
                  <a:lnTo>
                    <a:pt x="0" y="211"/>
                  </a:lnTo>
                  <a:lnTo>
                    <a:pt x="525" y="475"/>
                  </a:lnTo>
                  <a:lnTo>
                    <a:pt x="1118" y="1001"/>
                  </a:lnTo>
                  <a:lnTo>
                    <a:pt x="1583" y="1659"/>
                  </a:lnTo>
                  <a:lnTo>
                    <a:pt x="1843" y="1988"/>
                  </a:lnTo>
                  <a:lnTo>
                    <a:pt x="1911" y="2052"/>
                  </a:lnTo>
                  <a:lnTo>
                    <a:pt x="1976" y="1920"/>
                  </a:lnTo>
                  <a:close/>
                </a:path>
              </a:pathLst>
            </a:custGeom>
            <a:solidFill>
              <a:srgbClr val="ff993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988200" y="4200480"/>
              <a:ext cx="237600" cy="138960"/>
            </a:xfrm>
            <a:custGeom>
              <a:avLst/>
              <a:gdLst/>
              <a:ahLst/>
              <a:rect l="l" t="t" r="r" b="b"/>
              <a:pathLst>
                <a:path w="3991" h="1334">
                  <a:moveTo>
                    <a:pt x="3620" y="65"/>
                  </a:moveTo>
                  <a:lnTo>
                    <a:pt x="2966" y="208"/>
                  </a:lnTo>
                  <a:lnTo>
                    <a:pt x="2576" y="208"/>
                  </a:lnTo>
                  <a:lnTo>
                    <a:pt x="2144" y="125"/>
                  </a:lnTo>
                  <a:lnTo>
                    <a:pt x="1979" y="65"/>
                  </a:lnTo>
                  <a:lnTo>
                    <a:pt x="1858" y="0"/>
                  </a:lnTo>
                  <a:lnTo>
                    <a:pt x="1918" y="208"/>
                  </a:lnTo>
                  <a:lnTo>
                    <a:pt x="1976" y="283"/>
                  </a:lnTo>
                  <a:lnTo>
                    <a:pt x="2061" y="351"/>
                  </a:lnTo>
                  <a:lnTo>
                    <a:pt x="1918" y="329"/>
                  </a:lnTo>
                  <a:lnTo>
                    <a:pt x="1843" y="283"/>
                  </a:lnTo>
                  <a:lnTo>
                    <a:pt x="1979" y="412"/>
                  </a:lnTo>
                  <a:lnTo>
                    <a:pt x="1836" y="450"/>
                  </a:lnTo>
                  <a:lnTo>
                    <a:pt x="1712" y="479"/>
                  </a:lnTo>
                  <a:lnTo>
                    <a:pt x="1514" y="479"/>
                  </a:lnTo>
                  <a:lnTo>
                    <a:pt x="1386" y="494"/>
                  </a:lnTo>
                  <a:lnTo>
                    <a:pt x="1118" y="533"/>
                  </a:lnTo>
                  <a:lnTo>
                    <a:pt x="893" y="615"/>
                  </a:lnTo>
                  <a:lnTo>
                    <a:pt x="649" y="654"/>
                  </a:lnTo>
                  <a:lnTo>
                    <a:pt x="392" y="676"/>
                  </a:lnTo>
                  <a:lnTo>
                    <a:pt x="64" y="744"/>
                  </a:lnTo>
                  <a:lnTo>
                    <a:pt x="0" y="809"/>
                  </a:lnTo>
                  <a:lnTo>
                    <a:pt x="131" y="1005"/>
                  </a:lnTo>
                  <a:lnTo>
                    <a:pt x="789" y="1334"/>
                  </a:lnTo>
                  <a:lnTo>
                    <a:pt x="1911" y="1201"/>
                  </a:lnTo>
                  <a:lnTo>
                    <a:pt x="2569" y="872"/>
                  </a:lnTo>
                  <a:lnTo>
                    <a:pt x="3362" y="744"/>
                  </a:lnTo>
                  <a:lnTo>
                    <a:pt x="3991" y="246"/>
                  </a:lnTo>
                  <a:lnTo>
                    <a:pt x="3620" y="65"/>
                  </a:lnTo>
                  <a:close/>
                </a:path>
              </a:pathLst>
            </a:custGeom>
            <a:solidFill>
              <a:srgbClr val="ff993d"/>
            </a:solidFill>
            <a:ln w="0">
              <a:solidFill>
                <a:srgbClr val="ff993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984600" y="3941640"/>
              <a:ext cx="90000" cy="303840"/>
            </a:xfrm>
            <a:custGeom>
              <a:avLst/>
              <a:gdLst/>
              <a:ahLst/>
              <a:rect l="l" t="t" r="r" b="b"/>
              <a:pathLst>
                <a:path w="1518" h="2909">
                  <a:moveTo>
                    <a:pt x="1451" y="0"/>
                  </a:moveTo>
                  <a:lnTo>
                    <a:pt x="1496" y="129"/>
                  </a:lnTo>
                  <a:lnTo>
                    <a:pt x="1476" y="393"/>
                  </a:lnTo>
                  <a:lnTo>
                    <a:pt x="1386" y="526"/>
                  </a:lnTo>
                  <a:lnTo>
                    <a:pt x="1350" y="661"/>
                  </a:lnTo>
                  <a:lnTo>
                    <a:pt x="1350" y="926"/>
                  </a:lnTo>
                  <a:lnTo>
                    <a:pt x="1386" y="1116"/>
                  </a:lnTo>
                  <a:lnTo>
                    <a:pt x="1433" y="1315"/>
                  </a:lnTo>
                  <a:lnTo>
                    <a:pt x="1451" y="1512"/>
                  </a:lnTo>
                  <a:lnTo>
                    <a:pt x="1496" y="1702"/>
                  </a:lnTo>
                  <a:lnTo>
                    <a:pt x="1518" y="1969"/>
                  </a:lnTo>
                  <a:lnTo>
                    <a:pt x="1476" y="2173"/>
                  </a:lnTo>
                  <a:lnTo>
                    <a:pt x="1333" y="2438"/>
                  </a:lnTo>
                  <a:lnTo>
                    <a:pt x="1254" y="2563"/>
                  </a:lnTo>
                  <a:lnTo>
                    <a:pt x="1147" y="2703"/>
                  </a:lnTo>
                  <a:lnTo>
                    <a:pt x="989" y="2824"/>
                  </a:lnTo>
                  <a:lnTo>
                    <a:pt x="857" y="2892"/>
                  </a:lnTo>
                  <a:lnTo>
                    <a:pt x="450" y="2909"/>
                  </a:lnTo>
                  <a:lnTo>
                    <a:pt x="328" y="2760"/>
                  </a:lnTo>
                  <a:lnTo>
                    <a:pt x="68" y="2298"/>
                  </a:lnTo>
                  <a:lnTo>
                    <a:pt x="0" y="658"/>
                  </a:lnTo>
                  <a:lnTo>
                    <a:pt x="68" y="133"/>
                  </a:lnTo>
                  <a:lnTo>
                    <a:pt x="328" y="133"/>
                  </a:lnTo>
                  <a:lnTo>
                    <a:pt x="1451" y="0"/>
                  </a:lnTo>
                  <a:close/>
                </a:path>
              </a:pathLst>
            </a:custGeom>
            <a:solidFill>
              <a:srgbClr val="ff993d"/>
            </a:solidFill>
            <a:ln w="0">
              <a:solidFill>
                <a:srgbClr val="ff993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92440" y="4284360"/>
              <a:ext cx="18360" cy="12240"/>
            </a:xfrm>
            <a:custGeom>
              <a:avLst/>
              <a:gdLst/>
              <a:ahLst/>
              <a:rect l="l" t="t" r="r" b="b"/>
              <a:pathLst>
                <a:path w="308" h="125">
                  <a:moveTo>
                    <a:pt x="308" y="125"/>
                  </a:moveTo>
                  <a:lnTo>
                    <a:pt x="247" y="65"/>
                  </a:lnTo>
                  <a:lnTo>
                    <a:pt x="186" y="22"/>
                  </a:lnTo>
                  <a:lnTo>
                    <a:pt x="104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66160" y="4305600"/>
              <a:ext cx="40320" cy="6120"/>
            </a:xfrm>
            <a:custGeom>
              <a:avLst/>
              <a:gdLst/>
              <a:ahLst/>
              <a:rect l="l" t="t" r="r" b="b"/>
              <a:pathLst>
                <a:path w="679" h="61">
                  <a:moveTo>
                    <a:pt x="679" y="39"/>
                  </a:moveTo>
                  <a:lnTo>
                    <a:pt x="532" y="18"/>
                  </a:lnTo>
                  <a:lnTo>
                    <a:pt x="368" y="0"/>
                  </a:lnTo>
                  <a:lnTo>
                    <a:pt x="247" y="0"/>
                  </a:lnTo>
                  <a:lnTo>
                    <a:pt x="82" y="39"/>
                  </a:lnTo>
                  <a:lnTo>
                    <a:pt x="0" y="6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71840" y="4555800"/>
              <a:ext cx="35280" cy="51480"/>
            </a:xfrm>
            <a:custGeom>
              <a:avLst/>
              <a:gdLst/>
              <a:ahLst/>
              <a:rect l="l" t="t" r="r" b="b"/>
              <a:pathLst>
                <a:path w="598" h="490">
                  <a:moveTo>
                    <a:pt x="598" y="490"/>
                  </a:moveTo>
                  <a:lnTo>
                    <a:pt x="455" y="387"/>
                  </a:lnTo>
                  <a:lnTo>
                    <a:pt x="350" y="325"/>
                  </a:lnTo>
                  <a:lnTo>
                    <a:pt x="247" y="244"/>
                  </a:lnTo>
                  <a:lnTo>
                    <a:pt x="208" y="204"/>
                  </a:lnTo>
                  <a:lnTo>
                    <a:pt x="126" y="161"/>
                  </a:lnTo>
                  <a:lnTo>
                    <a:pt x="65" y="121"/>
                  </a:lnTo>
                  <a:lnTo>
                    <a:pt x="0" y="61"/>
                  </a:lnTo>
                  <a:lnTo>
                    <a:pt x="43" y="0"/>
                  </a:lnTo>
                  <a:lnTo>
                    <a:pt x="12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86600" y="4561920"/>
              <a:ext cx="20520" cy="45000"/>
            </a:xfrm>
            <a:custGeom>
              <a:avLst/>
              <a:gdLst/>
              <a:ahLst/>
              <a:rect l="l" t="t" r="r" b="b"/>
              <a:pathLst>
                <a:path w="351" h="429">
                  <a:moveTo>
                    <a:pt x="0" y="0"/>
                  </a:moveTo>
                  <a:lnTo>
                    <a:pt x="143" y="100"/>
                  </a:lnTo>
                  <a:lnTo>
                    <a:pt x="225" y="183"/>
                  </a:lnTo>
                  <a:lnTo>
                    <a:pt x="308" y="304"/>
                  </a:lnTo>
                  <a:lnTo>
                    <a:pt x="351" y="42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18280" y="4538160"/>
              <a:ext cx="4680" cy="54000"/>
            </a:xfrm>
            <a:custGeom>
              <a:avLst/>
              <a:gdLst/>
              <a:ahLst/>
              <a:rect l="l" t="t" r="r" b="b"/>
              <a:pathLst>
                <a:path w="83" h="511">
                  <a:moveTo>
                    <a:pt x="0" y="0"/>
                  </a:moveTo>
                  <a:lnTo>
                    <a:pt x="65" y="182"/>
                  </a:lnTo>
                  <a:lnTo>
                    <a:pt x="83" y="325"/>
                  </a:lnTo>
                  <a:lnTo>
                    <a:pt x="65" y="408"/>
                  </a:lnTo>
                  <a:lnTo>
                    <a:pt x="22" y="51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993960" y="4251960"/>
              <a:ext cx="102600" cy="18720"/>
            </a:xfrm>
            <a:custGeom>
              <a:avLst/>
              <a:gdLst/>
              <a:ahLst/>
              <a:rect l="l" t="t" r="r" b="b"/>
              <a:pathLst>
                <a:path w="1722" h="182">
                  <a:moveTo>
                    <a:pt x="1722" y="61"/>
                  </a:moveTo>
                  <a:lnTo>
                    <a:pt x="1619" y="18"/>
                  </a:lnTo>
                  <a:lnTo>
                    <a:pt x="1536" y="18"/>
                  </a:lnTo>
                  <a:lnTo>
                    <a:pt x="1415" y="0"/>
                  </a:lnTo>
                  <a:lnTo>
                    <a:pt x="1229" y="0"/>
                  </a:lnTo>
                  <a:lnTo>
                    <a:pt x="1022" y="39"/>
                  </a:lnTo>
                  <a:lnTo>
                    <a:pt x="818" y="99"/>
                  </a:lnTo>
                  <a:lnTo>
                    <a:pt x="676" y="142"/>
                  </a:lnTo>
                  <a:lnTo>
                    <a:pt x="511" y="160"/>
                  </a:lnTo>
                  <a:lnTo>
                    <a:pt x="286" y="182"/>
                  </a:lnTo>
                  <a:lnTo>
                    <a:pt x="0" y="16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105200" y="4211640"/>
              <a:ext cx="82800" cy="9720"/>
            </a:xfrm>
            <a:custGeom>
              <a:avLst/>
              <a:gdLst/>
              <a:ahLst/>
              <a:rect l="l" t="t" r="r" b="b"/>
              <a:pathLst>
                <a:path w="1394" h="104">
                  <a:moveTo>
                    <a:pt x="1394" y="0"/>
                  </a:moveTo>
                  <a:lnTo>
                    <a:pt x="1191" y="39"/>
                  </a:lnTo>
                  <a:lnTo>
                    <a:pt x="1086" y="61"/>
                  </a:lnTo>
                  <a:lnTo>
                    <a:pt x="983" y="82"/>
                  </a:lnTo>
                  <a:lnTo>
                    <a:pt x="840" y="82"/>
                  </a:lnTo>
                  <a:lnTo>
                    <a:pt x="593" y="104"/>
                  </a:lnTo>
                  <a:lnTo>
                    <a:pt x="429" y="82"/>
                  </a:lnTo>
                  <a:lnTo>
                    <a:pt x="226" y="3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127520" y="4211640"/>
              <a:ext cx="61920" cy="21240"/>
            </a:xfrm>
            <a:custGeom>
              <a:avLst/>
              <a:gdLst/>
              <a:ahLst/>
              <a:rect l="l" t="t" r="r" b="b"/>
              <a:pathLst>
                <a:path w="1046" h="204">
                  <a:moveTo>
                    <a:pt x="1046" y="0"/>
                  </a:moveTo>
                  <a:lnTo>
                    <a:pt x="921" y="39"/>
                  </a:lnTo>
                  <a:lnTo>
                    <a:pt x="822" y="104"/>
                  </a:lnTo>
                  <a:lnTo>
                    <a:pt x="757" y="122"/>
                  </a:lnTo>
                  <a:lnTo>
                    <a:pt x="636" y="142"/>
                  </a:lnTo>
                  <a:lnTo>
                    <a:pt x="471" y="164"/>
                  </a:lnTo>
                  <a:lnTo>
                    <a:pt x="307" y="142"/>
                  </a:lnTo>
                  <a:lnTo>
                    <a:pt x="164" y="142"/>
                  </a:lnTo>
                  <a:lnTo>
                    <a:pt x="60" y="164"/>
                  </a:lnTo>
                  <a:lnTo>
                    <a:pt x="0" y="20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155240" y="3901320"/>
              <a:ext cx="16920" cy="2520"/>
            </a:xfrm>
            <a:custGeom>
              <a:avLst/>
              <a:gdLst/>
              <a:ahLst/>
              <a:rect l="l" t="t" r="r" b="b"/>
              <a:pathLst>
                <a:path w="286" h="21">
                  <a:moveTo>
                    <a:pt x="286" y="21"/>
                  </a:moveTo>
                  <a:lnTo>
                    <a:pt x="225" y="21"/>
                  </a:lnTo>
                  <a:lnTo>
                    <a:pt x="143" y="0"/>
                  </a:lnTo>
                  <a:lnTo>
                    <a:pt x="60" y="0"/>
                  </a:lnTo>
                  <a:lnTo>
                    <a:pt x="0" y="2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112400" y="3893040"/>
              <a:ext cx="11880" cy="10800"/>
            </a:xfrm>
            <a:custGeom>
              <a:avLst/>
              <a:gdLst/>
              <a:ahLst/>
              <a:rect l="l" t="t" r="r" b="b"/>
              <a:pathLst>
                <a:path w="208" h="104">
                  <a:moveTo>
                    <a:pt x="208" y="0"/>
                  </a:moveTo>
                  <a:lnTo>
                    <a:pt x="126" y="43"/>
                  </a:lnTo>
                  <a:lnTo>
                    <a:pt x="62" y="61"/>
                  </a:lnTo>
                  <a:lnTo>
                    <a:pt x="0" y="10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081800" y="3922920"/>
              <a:ext cx="24120" cy="66600"/>
            </a:xfrm>
            <a:custGeom>
              <a:avLst/>
              <a:gdLst/>
              <a:ahLst/>
              <a:rect l="l" t="t" r="r" b="b"/>
              <a:pathLst>
                <a:path w="407" h="633">
                  <a:moveTo>
                    <a:pt x="407" y="0"/>
                  </a:moveTo>
                  <a:lnTo>
                    <a:pt x="286" y="83"/>
                  </a:lnTo>
                  <a:lnTo>
                    <a:pt x="165" y="225"/>
                  </a:lnTo>
                  <a:lnTo>
                    <a:pt x="60" y="368"/>
                  </a:lnTo>
                  <a:lnTo>
                    <a:pt x="17" y="511"/>
                  </a:lnTo>
                  <a:lnTo>
                    <a:pt x="0" y="63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084680" y="3931560"/>
              <a:ext cx="5760" cy="30960"/>
            </a:xfrm>
            <a:custGeom>
              <a:avLst/>
              <a:gdLst/>
              <a:ahLst/>
              <a:rect l="l" t="t" r="r" b="b"/>
              <a:pathLst>
                <a:path w="104" h="307">
                  <a:moveTo>
                    <a:pt x="104" y="0"/>
                  </a:moveTo>
                  <a:lnTo>
                    <a:pt x="61" y="121"/>
                  </a:lnTo>
                  <a:lnTo>
                    <a:pt x="21" y="225"/>
                  </a:lnTo>
                  <a:lnTo>
                    <a:pt x="0" y="30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064520" y="3967920"/>
              <a:ext cx="13320" cy="217080"/>
            </a:xfrm>
            <a:custGeom>
              <a:avLst/>
              <a:gdLst/>
              <a:ahLst/>
              <a:rect l="l" t="t" r="r" b="b"/>
              <a:pathLst>
                <a:path w="229" h="2083">
                  <a:moveTo>
                    <a:pt x="126" y="0"/>
                  </a:moveTo>
                  <a:lnTo>
                    <a:pt x="104" y="164"/>
                  </a:lnTo>
                  <a:lnTo>
                    <a:pt x="43" y="267"/>
                  </a:lnTo>
                  <a:lnTo>
                    <a:pt x="21" y="410"/>
                  </a:lnTo>
                  <a:lnTo>
                    <a:pt x="0" y="636"/>
                  </a:lnTo>
                  <a:lnTo>
                    <a:pt x="21" y="818"/>
                  </a:lnTo>
                  <a:lnTo>
                    <a:pt x="65" y="983"/>
                  </a:lnTo>
                  <a:lnTo>
                    <a:pt x="104" y="1187"/>
                  </a:lnTo>
                  <a:lnTo>
                    <a:pt x="126" y="1308"/>
                  </a:lnTo>
                  <a:lnTo>
                    <a:pt x="164" y="1532"/>
                  </a:lnTo>
                  <a:lnTo>
                    <a:pt x="164" y="1798"/>
                  </a:lnTo>
                  <a:lnTo>
                    <a:pt x="229" y="208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065960" y="4096080"/>
              <a:ext cx="4680" cy="85320"/>
            </a:xfrm>
            <a:custGeom>
              <a:avLst/>
              <a:gdLst/>
              <a:ahLst/>
              <a:rect l="l" t="t" r="r" b="b"/>
              <a:pathLst>
                <a:path w="83" h="819">
                  <a:moveTo>
                    <a:pt x="83" y="0"/>
                  </a:moveTo>
                  <a:lnTo>
                    <a:pt x="83" y="208"/>
                  </a:lnTo>
                  <a:lnTo>
                    <a:pt x="83" y="450"/>
                  </a:lnTo>
                  <a:lnTo>
                    <a:pt x="44" y="615"/>
                  </a:lnTo>
                  <a:lnTo>
                    <a:pt x="0" y="81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043280" y="4175280"/>
              <a:ext cx="369000" cy="493200"/>
            </a:xfrm>
            <a:custGeom>
              <a:avLst/>
              <a:gdLst/>
              <a:ahLst/>
              <a:rect l="l" t="t" r="r" b="b"/>
              <a:pathLst>
                <a:path w="6200" h="4717">
                  <a:moveTo>
                    <a:pt x="1198" y="4332"/>
                  </a:moveTo>
                  <a:lnTo>
                    <a:pt x="1452" y="4531"/>
                  </a:lnTo>
                  <a:lnTo>
                    <a:pt x="1780" y="4664"/>
                  </a:lnTo>
                  <a:lnTo>
                    <a:pt x="1915" y="4700"/>
                  </a:lnTo>
                  <a:lnTo>
                    <a:pt x="2113" y="4717"/>
                  </a:lnTo>
                  <a:lnTo>
                    <a:pt x="2309" y="4664"/>
                  </a:lnTo>
                  <a:lnTo>
                    <a:pt x="2834" y="4599"/>
                  </a:lnTo>
                  <a:lnTo>
                    <a:pt x="4152" y="4139"/>
                  </a:lnTo>
                  <a:lnTo>
                    <a:pt x="4310" y="4000"/>
                  </a:lnTo>
                  <a:lnTo>
                    <a:pt x="4388" y="3942"/>
                  </a:lnTo>
                  <a:lnTo>
                    <a:pt x="4617" y="3942"/>
                  </a:lnTo>
                  <a:lnTo>
                    <a:pt x="4746" y="3942"/>
                  </a:lnTo>
                  <a:lnTo>
                    <a:pt x="5011" y="3902"/>
                  </a:lnTo>
                  <a:lnTo>
                    <a:pt x="5275" y="3809"/>
                  </a:lnTo>
                  <a:lnTo>
                    <a:pt x="5654" y="3556"/>
                  </a:lnTo>
                  <a:lnTo>
                    <a:pt x="5868" y="3220"/>
                  </a:lnTo>
                  <a:lnTo>
                    <a:pt x="6082" y="2701"/>
                  </a:lnTo>
                  <a:lnTo>
                    <a:pt x="6200" y="2040"/>
                  </a:lnTo>
                  <a:lnTo>
                    <a:pt x="6200" y="1712"/>
                  </a:lnTo>
                  <a:lnTo>
                    <a:pt x="6132" y="1315"/>
                  </a:lnTo>
                  <a:lnTo>
                    <a:pt x="6001" y="986"/>
                  </a:lnTo>
                  <a:lnTo>
                    <a:pt x="5868" y="789"/>
                  </a:lnTo>
                  <a:lnTo>
                    <a:pt x="5790" y="664"/>
                  </a:lnTo>
                  <a:lnTo>
                    <a:pt x="5614" y="586"/>
                  </a:lnTo>
                  <a:lnTo>
                    <a:pt x="5604" y="525"/>
                  </a:lnTo>
                  <a:lnTo>
                    <a:pt x="5575" y="392"/>
                  </a:lnTo>
                  <a:lnTo>
                    <a:pt x="5461" y="332"/>
                  </a:lnTo>
                  <a:lnTo>
                    <a:pt x="5343" y="353"/>
                  </a:lnTo>
                  <a:lnTo>
                    <a:pt x="5303" y="314"/>
                  </a:lnTo>
                  <a:lnTo>
                    <a:pt x="5275" y="260"/>
                  </a:lnTo>
                  <a:lnTo>
                    <a:pt x="5247" y="81"/>
                  </a:lnTo>
                  <a:lnTo>
                    <a:pt x="5150" y="20"/>
                  </a:lnTo>
                  <a:lnTo>
                    <a:pt x="4946" y="0"/>
                  </a:lnTo>
                  <a:lnTo>
                    <a:pt x="4813" y="63"/>
                  </a:lnTo>
                  <a:lnTo>
                    <a:pt x="4549" y="131"/>
                  </a:lnTo>
                  <a:lnTo>
                    <a:pt x="4285" y="260"/>
                  </a:lnTo>
                  <a:lnTo>
                    <a:pt x="4152" y="328"/>
                  </a:lnTo>
                  <a:lnTo>
                    <a:pt x="858" y="1772"/>
                  </a:lnTo>
                  <a:lnTo>
                    <a:pt x="0" y="3284"/>
                  </a:lnTo>
                  <a:lnTo>
                    <a:pt x="265" y="3613"/>
                  </a:lnTo>
                  <a:lnTo>
                    <a:pt x="1198" y="4332"/>
                  </a:lnTo>
                  <a:close/>
                </a:path>
              </a:pathLst>
            </a:custGeom>
            <a:solidFill>
              <a:srgbClr val="b5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975600" y="4270680"/>
              <a:ext cx="189720" cy="673920"/>
            </a:xfrm>
            <a:custGeom>
              <a:avLst/>
              <a:gdLst/>
              <a:ahLst/>
              <a:rect l="l" t="t" r="r" b="b"/>
              <a:pathLst>
                <a:path w="3190" h="6444">
                  <a:moveTo>
                    <a:pt x="1797" y="332"/>
                  </a:moveTo>
                  <a:lnTo>
                    <a:pt x="2654" y="2040"/>
                  </a:lnTo>
                  <a:lnTo>
                    <a:pt x="2569" y="2562"/>
                  </a:lnTo>
                  <a:lnTo>
                    <a:pt x="2411" y="3085"/>
                  </a:lnTo>
                  <a:lnTo>
                    <a:pt x="2451" y="3455"/>
                  </a:lnTo>
                  <a:lnTo>
                    <a:pt x="2523" y="3817"/>
                  </a:lnTo>
                  <a:lnTo>
                    <a:pt x="2591" y="3945"/>
                  </a:lnTo>
                  <a:lnTo>
                    <a:pt x="2626" y="4017"/>
                  </a:lnTo>
                  <a:lnTo>
                    <a:pt x="2654" y="4146"/>
                  </a:lnTo>
                  <a:lnTo>
                    <a:pt x="2787" y="4274"/>
                  </a:lnTo>
                  <a:lnTo>
                    <a:pt x="2840" y="4407"/>
                  </a:lnTo>
                  <a:lnTo>
                    <a:pt x="2840" y="4464"/>
                  </a:lnTo>
                  <a:lnTo>
                    <a:pt x="2855" y="4604"/>
                  </a:lnTo>
                  <a:lnTo>
                    <a:pt x="2919" y="5064"/>
                  </a:lnTo>
                  <a:lnTo>
                    <a:pt x="2986" y="5325"/>
                  </a:lnTo>
                  <a:lnTo>
                    <a:pt x="3054" y="5454"/>
                  </a:lnTo>
                  <a:lnTo>
                    <a:pt x="3037" y="5590"/>
                  </a:lnTo>
                  <a:lnTo>
                    <a:pt x="3119" y="5654"/>
                  </a:lnTo>
                  <a:lnTo>
                    <a:pt x="3119" y="5722"/>
                  </a:lnTo>
                  <a:lnTo>
                    <a:pt x="3054" y="5805"/>
                  </a:lnTo>
                  <a:lnTo>
                    <a:pt x="3076" y="5861"/>
                  </a:lnTo>
                  <a:lnTo>
                    <a:pt x="3151" y="5879"/>
                  </a:lnTo>
                  <a:lnTo>
                    <a:pt x="3190" y="5919"/>
                  </a:lnTo>
                  <a:lnTo>
                    <a:pt x="3184" y="5984"/>
                  </a:lnTo>
                  <a:lnTo>
                    <a:pt x="3184" y="6051"/>
                  </a:lnTo>
                  <a:lnTo>
                    <a:pt x="3119" y="6115"/>
                  </a:lnTo>
                  <a:lnTo>
                    <a:pt x="1536" y="6444"/>
                  </a:lnTo>
                  <a:lnTo>
                    <a:pt x="1468" y="6312"/>
                  </a:lnTo>
                  <a:lnTo>
                    <a:pt x="1336" y="6051"/>
                  </a:lnTo>
                  <a:lnTo>
                    <a:pt x="1243" y="5861"/>
                  </a:lnTo>
                  <a:lnTo>
                    <a:pt x="1225" y="5726"/>
                  </a:lnTo>
                  <a:lnTo>
                    <a:pt x="1204" y="5654"/>
                  </a:lnTo>
                  <a:lnTo>
                    <a:pt x="1204" y="5526"/>
                  </a:lnTo>
                  <a:lnTo>
                    <a:pt x="1204" y="5393"/>
                  </a:lnTo>
                  <a:lnTo>
                    <a:pt x="1139" y="5129"/>
                  </a:lnTo>
                  <a:lnTo>
                    <a:pt x="1089" y="5064"/>
                  </a:lnTo>
                  <a:lnTo>
                    <a:pt x="1075" y="4933"/>
                  </a:lnTo>
                  <a:lnTo>
                    <a:pt x="1028" y="4871"/>
                  </a:lnTo>
                  <a:lnTo>
                    <a:pt x="1007" y="4671"/>
                  </a:lnTo>
                  <a:lnTo>
                    <a:pt x="914" y="4599"/>
                  </a:lnTo>
                  <a:lnTo>
                    <a:pt x="875" y="4471"/>
                  </a:lnTo>
                  <a:lnTo>
                    <a:pt x="743" y="4013"/>
                  </a:lnTo>
                  <a:lnTo>
                    <a:pt x="349" y="3159"/>
                  </a:lnTo>
                  <a:lnTo>
                    <a:pt x="218" y="2437"/>
                  </a:lnTo>
                  <a:lnTo>
                    <a:pt x="150" y="1844"/>
                  </a:lnTo>
                  <a:lnTo>
                    <a:pt x="96" y="1650"/>
                  </a:lnTo>
                  <a:lnTo>
                    <a:pt x="38" y="1514"/>
                  </a:lnTo>
                  <a:lnTo>
                    <a:pt x="0" y="1182"/>
                  </a:lnTo>
                  <a:lnTo>
                    <a:pt x="0" y="661"/>
                  </a:lnTo>
                  <a:lnTo>
                    <a:pt x="20" y="586"/>
                  </a:lnTo>
                  <a:lnTo>
                    <a:pt x="38" y="511"/>
                  </a:lnTo>
                  <a:lnTo>
                    <a:pt x="63" y="438"/>
                  </a:lnTo>
                  <a:lnTo>
                    <a:pt x="103" y="371"/>
                  </a:lnTo>
                  <a:lnTo>
                    <a:pt x="150" y="310"/>
                  </a:lnTo>
                  <a:lnTo>
                    <a:pt x="203" y="257"/>
                  </a:lnTo>
                  <a:lnTo>
                    <a:pt x="264" y="210"/>
                  </a:lnTo>
                  <a:lnTo>
                    <a:pt x="332" y="174"/>
                  </a:lnTo>
                  <a:lnTo>
                    <a:pt x="407" y="153"/>
                  </a:lnTo>
                  <a:lnTo>
                    <a:pt x="482" y="139"/>
                  </a:lnTo>
                  <a:lnTo>
                    <a:pt x="546" y="136"/>
                  </a:lnTo>
                  <a:lnTo>
                    <a:pt x="656" y="85"/>
                  </a:lnTo>
                  <a:lnTo>
                    <a:pt x="771" y="49"/>
                  </a:lnTo>
                  <a:lnTo>
                    <a:pt x="885" y="21"/>
                  </a:lnTo>
                  <a:lnTo>
                    <a:pt x="1007" y="6"/>
                  </a:lnTo>
                  <a:lnTo>
                    <a:pt x="1128" y="0"/>
                  </a:lnTo>
                  <a:lnTo>
                    <a:pt x="1246" y="6"/>
                  </a:lnTo>
                  <a:lnTo>
                    <a:pt x="1365" y="25"/>
                  </a:lnTo>
                  <a:lnTo>
                    <a:pt x="1483" y="56"/>
                  </a:lnTo>
                  <a:lnTo>
                    <a:pt x="1596" y="96"/>
                  </a:lnTo>
                  <a:lnTo>
                    <a:pt x="1704" y="146"/>
                  </a:lnTo>
                  <a:lnTo>
                    <a:pt x="1797" y="199"/>
                  </a:lnTo>
                  <a:lnTo>
                    <a:pt x="1797" y="332"/>
                  </a:lnTo>
                  <a:close/>
                </a:path>
              </a:pathLst>
            </a:custGeom>
            <a:solidFill>
              <a:srgbClr val="ff3d3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035360" y="4298400"/>
              <a:ext cx="118440" cy="577080"/>
            </a:xfrm>
            <a:custGeom>
              <a:avLst/>
              <a:gdLst/>
              <a:ahLst/>
              <a:rect l="l" t="t" r="r" b="b"/>
              <a:pathLst>
                <a:path w="1991" h="5519">
                  <a:moveTo>
                    <a:pt x="665" y="4"/>
                  </a:moveTo>
                  <a:lnTo>
                    <a:pt x="529" y="0"/>
                  </a:lnTo>
                  <a:lnTo>
                    <a:pt x="353" y="83"/>
                  </a:lnTo>
                  <a:lnTo>
                    <a:pt x="257" y="161"/>
                  </a:lnTo>
                  <a:lnTo>
                    <a:pt x="197" y="394"/>
                  </a:lnTo>
                  <a:lnTo>
                    <a:pt x="257" y="586"/>
                  </a:lnTo>
                  <a:lnTo>
                    <a:pt x="375" y="858"/>
                  </a:lnTo>
                  <a:lnTo>
                    <a:pt x="529" y="1116"/>
                  </a:lnTo>
                  <a:lnTo>
                    <a:pt x="661" y="1315"/>
                  </a:lnTo>
                  <a:lnTo>
                    <a:pt x="725" y="1445"/>
                  </a:lnTo>
                  <a:lnTo>
                    <a:pt x="725" y="1577"/>
                  </a:lnTo>
                  <a:lnTo>
                    <a:pt x="586" y="1594"/>
                  </a:lnTo>
                  <a:lnTo>
                    <a:pt x="490" y="1634"/>
                  </a:lnTo>
                  <a:lnTo>
                    <a:pt x="353" y="1712"/>
                  </a:lnTo>
                  <a:lnTo>
                    <a:pt x="315" y="1810"/>
                  </a:lnTo>
                  <a:lnTo>
                    <a:pt x="297" y="1906"/>
                  </a:lnTo>
                  <a:lnTo>
                    <a:pt x="329" y="2038"/>
                  </a:lnTo>
                  <a:lnTo>
                    <a:pt x="236" y="2024"/>
                  </a:lnTo>
                  <a:lnTo>
                    <a:pt x="132" y="2038"/>
                  </a:lnTo>
                  <a:lnTo>
                    <a:pt x="61" y="2081"/>
                  </a:lnTo>
                  <a:lnTo>
                    <a:pt x="0" y="2170"/>
                  </a:lnTo>
                  <a:lnTo>
                    <a:pt x="21" y="2295"/>
                  </a:lnTo>
                  <a:lnTo>
                    <a:pt x="68" y="2431"/>
                  </a:lnTo>
                  <a:lnTo>
                    <a:pt x="132" y="2564"/>
                  </a:lnTo>
                  <a:lnTo>
                    <a:pt x="397" y="2760"/>
                  </a:lnTo>
                  <a:lnTo>
                    <a:pt x="725" y="2957"/>
                  </a:lnTo>
                  <a:lnTo>
                    <a:pt x="858" y="3024"/>
                  </a:lnTo>
                  <a:lnTo>
                    <a:pt x="990" y="3153"/>
                  </a:lnTo>
                  <a:lnTo>
                    <a:pt x="1255" y="3349"/>
                  </a:lnTo>
                  <a:lnTo>
                    <a:pt x="1318" y="3482"/>
                  </a:lnTo>
                  <a:lnTo>
                    <a:pt x="1348" y="3615"/>
                  </a:lnTo>
                  <a:lnTo>
                    <a:pt x="1318" y="3746"/>
                  </a:lnTo>
                  <a:lnTo>
                    <a:pt x="1426" y="3829"/>
                  </a:lnTo>
                  <a:lnTo>
                    <a:pt x="1516" y="3943"/>
                  </a:lnTo>
                  <a:lnTo>
                    <a:pt x="1451" y="4007"/>
                  </a:lnTo>
                  <a:lnTo>
                    <a:pt x="1386" y="4140"/>
                  </a:lnTo>
                  <a:lnTo>
                    <a:pt x="1255" y="4204"/>
                  </a:lnTo>
                  <a:lnTo>
                    <a:pt x="1151" y="4215"/>
                  </a:lnTo>
                  <a:lnTo>
                    <a:pt x="918" y="4254"/>
                  </a:lnTo>
                  <a:lnTo>
                    <a:pt x="879" y="4294"/>
                  </a:lnTo>
                  <a:lnTo>
                    <a:pt x="997" y="4276"/>
                  </a:lnTo>
                  <a:lnTo>
                    <a:pt x="1054" y="4276"/>
                  </a:lnTo>
                  <a:lnTo>
                    <a:pt x="1115" y="4294"/>
                  </a:lnTo>
                  <a:lnTo>
                    <a:pt x="1330" y="4294"/>
                  </a:lnTo>
                  <a:lnTo>
                    <a:pt x="1386" y="4337"/>
                  </a:lnTo>
                  <a:lnTo>
                    <a:pt x="1516" y="4533"/>
                  </a:lnTo>
                  <a:lnTo>
                    <a:pt x="1516" y="4601"/>
                  </a:lnTo>
                  <a:lnTo>
                    <a:pt x="1541" y="4797"/>
                  </a:lnTo>
                  <a:lnTo>
                    <a:pt x="1647" y="4930"/>
                  </a:lnTo>
                  <a:lnTo>
                    <a:pt x="1640" y="4991"/>
                  </a:lnTo>
                  <a:lnTo>
                    <a:pt x="1619" y="5126"/>
                  </a:lnTo>
                  <a:lnTo>
                    <a:pt x="1541" y="5266"/>
                  </a:lnTo>
                  <a:lnTo>
                    <a:pt x="1451" y="5387"/>
                  </a:lnTo>
                  <a:lnTo>
                    <a:pt x="1579" y="5402"/>
                  </a:lnTo>
                  <a:lnTo>
                    <a:pt x="1776" y="5438"/>
                  </a:lnTo>
                  <a:lnTo>
                    <a:pt x="1848" y="5519"/>
                  </a:lnTo>
                  <a:lnTo>
                    <a:pt x="1929" y="5380"/>
                  </a:lnTo>
                  <a:lnTo>
                    <a:pt x="1991" y="5187"/>
                  </a:lnTo>
                  <a:lnTo>
                    <a:pt x="1894" y="4933"/>
                  </a:lnTo>
                  <a:lnTo>
                    <a:pt x="1855" y="4604"/>
                  </a:lnTo>
                  <a:lnTo>
                    <a:pt x="1815" y="4332"/>
                  </a:lnTo>
                  <a:lnTo>
                    <a:pt x="1794" y="4140"/>
                  </a:lnTo>
                  <a:lnTo>
                    <a:pt x="1658" y="3982"/>
                  </a:lnTo>
                  <a:lnTo>
                    <a:pt x="1579" y="3904"/>
                  </a:lnTo>
                  <a:lnTo>
                    <a:pt x="1562" y="3789"/>
                  </a:lnTo>
                  <a:lnTo>
                    <a:pt x="1504" y="3653"/>
                  </a:lnTo>
                  <a:lnTo>
                    <a:pt x="1330" y="2974"/>
                  </a:lnTo>
                  <a:lnTo>
                    <a:pt x="1330" y="2760"/>
                  </a:lnTo>
                  <a:lnTo>
                    <a:pt x="1579" y="1712"/>
                  </a:lnTo>
                  <a:lnTo>
                    <a:pt x="790" y="0"/>
                  </a:lnTo>
                  <a:lnTo>
                    <a:pt x="665" y="4"/>
                  </a:lnTo>
                  <a:close/>
                </a:path>
              </a:pathLst>
            </a:custGeom>
            <a:solidFill>
              <a:srgbClr val="b50000"/>
            </a:solidFill>
            <a:ln w="0">
              <a:solidFill>
                <a:srgbClr val="b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59480" y="4222800"/>
              <a:ext cx="281880" cy="632520"/>
            </a:xfrm>
            <a:custGeom>
              <a:avLst/>
              <a:gdLst/>
              <a:ahLst/>
              <a:rect l="l" t="t" r="r" b="b"/>
              <a:pathLst>
                <a:path w="4732" h="6045">
                  <a:moveTo>
                    <a:pt x="2359" y="28"/>
                  </a:moveTo>
                  <a:lnTo>
                    <a:pt x="1897" y="65"/>
                  </a:lnTo>
                  <a:lnTo>
                    <a:pt x="1229" y="204"/>
                  </a:lnTo>
                  <a:lnTo>
                    <a:pt x="779" y="340"/>
                  </a:lnTo>
                  <a:lnTo>
                    <a:pt x="372" y="511"/>
                  </a:lnTo>
                  <a:lnTo>
                    <a:pt x="183" y="654"/>
                  </a:lnTo>
                  <a:lnTo>
                    <a:pt x="60" y="783"/>
                  </a:lnTo>
                  <a:lnTo>
                    <a:pt x="0" y="1054"/>
                  </a:lnTo>
                  <a:lnTo>
                    <a:pt x="0" y="1388"/>
                  </a:lnTo>
                  <a:lnTo>
                    <a:pt x="22" y="1501"/>
                  </a:lnTo>
                  <a:lnTo>
                    <a:pt x="157" y="1773"/>
                  </a:lnTo>
                  <a:lnTo>
                    <a:pt x="314" y="1969"/>
                  </a:lnTo>
                  <a:lnTo>
                    <a:pt x="579" y="2235"/>
                  </a:lnTo>
                  <a:lnTo>
                    <a:pt x="1173" y="2892"/>
                  </a:lnTo>
                  <a:lnTo>
                    <a:pt x="1633" y="3679"/>
                  </a:lnTo>
                  <a:lnTo>
                    <a:pt x="1830" y="4008"/>
                  </a:lnTo>
                  <a:lnTo>
                    <a:pt x="2030" y="4337"/>
                  </a:lnTo>
                  <a:lnTo>
                    <a:pt x="2201" y="4608"/>
                  </a:lnTo>
                  <a:lnTo>
                    <a:pt x="2377" y="4862"/>
                  </a:lnTo>
                  <a:lnTo>
                    <a:pt x="2551" y="5033"/>
                  </a:lnTo>
                  <a:lnTo>
                    <a:pt x="2623" y="5059"/>
                  </a:lnTo>
                  <a:lnTo>
                    <a:pt x="2613" y="5134"/>
                  </a:lnTo>
                  <a:lnTo>
                    <a:pt x="2613" y="5190"/>
                  </a:lnTo>
                  <a:lnTo>
                    <a:pt x="2669" y="5326"/>
                  </a:lnTo>
                  <a:lnTo>
                    <a:pt x="2755" y="5388"/>
                  </a:lnTo>
                  <a:lnTo>
                    <a:pt x="2749" y="5463"/>
                  </a:lnTo>
                  <a:lnTo>
                    <a:pt x="2805" y="5713"/>
                  </a:lnTo>
                  <a:lnTo>
                    <a:pt x="2820" y="5780"/>
                  </a:lnTo>
                  <a:lnTo>
                    <a:pt x="2887" y="5848"/>
                  </a:lnTo>
                  <a:lnTo>
                    <a:pt x="3059" y="6045"/>
                  </a:lnTo>
                  <a:lnTo>
                    <a:pt x="3216" y="6045"/>
                  </a:lnTo>
                  <a:lnTo>
                    <a:pt x="3481" y="5981"/>
                  </a:lnTo>
                  <a:lnTo>
                    <a:pt x="4732" y="5519"/>
                  </a:lnTo>
                  <a:lnTo>
                    <a:pt x="4695" y="5463"/>
                  </a:lnTo>
                  <a:lnTo>
                    <a:pt x="4695" y="5326"/>
                  </a:lnTo>
                  <a:lnTo>
                    <a:pt x="4674" y="5190"/>
                  </a:lnTo>
                  <a:lnTo>
                    <a:pt x="4599" y="4994"/>
                  </a:lnTo>
                  <a:lnTo>
                    <a:pt x="4443" y="4801"/>
                  </a:lnTo>
                  <a:lnTo>
                    <a:pt x="4325" y="4529"/>
                  </a:lnTo>
                  <a:lnTo>
                    <a:pt x="4206" y="4337"/>
                  </a:lnTo>
                  <a:lnTo>
                    <a:pt x="4139" y="4204"/>
                  </a:lnTo>
                  <a:lnTo>
                    <a:pt x="4071" y="4143"/>
                  </a:lnTo>
                  <a:lnTo>
                    <a:pt x="3935" y="4046"/>
                  </a:lnTo>
                  <a:lnTo>
                    <a:pt x="3742" y="3679"/>
                  </a:lnTo>
                  <a:lnTo>
                    <a:pt x="3613" y="3349"/>
                  </a:lnTo>
                  <a:lnTo>
                    <a:pt x="3481" y="3088"/>
                  </a:lnTo>
                  <a:lnTo>
                    <a:pt x="3410" y="2939"/>
                  </a:lnTo>
                  <a:lnTo>
                    <a:pt x="3280" y="2824"/>
                  </a:lnTo>
                  <a:lnTo>
                    <a:pt x="3216" y="2563"/>
                  </a:lnTo>
                  <a:lnTo>
                    <a:pt x="3149" y="2363"/>
                  </a:lnTo>
                  <a:lnTo>
                    <a:pt x="4139" y="1641"/>
                  </a:lnTo>
                  <a:lnTo>
                    <a:pt x="2952" y="261"/>
                  </a:lnTo>
                  <a:lnTo>
                    <a:pt x="2755" y="0"/>
                  </a:lnTo>
                  <a:lnTo>
                    <a:pt x="2359" y="28"/>
                  </a:lnTo>
                  <a:close/>
                </a:path>
              </a:pathLst>
            </a:custGeom>
            <a:solidFill>
              <a:srgbClr val="ff3d3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149840" y="4234320"/>
              <a:ext cx="152640" cy="257040"/>
            </a:xfrm>
            <a:custGeom>
              <a:avLst/>
              <a:gdLst/>
              <a:ahLst/>
              <a:rect l="l" t="t" r="r" b="b"/>
              <a:pathLst>
                <a:path w="2573" h="2466">
                  <a:moveTo>
                    <a:pt x="1012" y="0"/>
                  </a:moveTo>
                  <a:lnTo>
                    <a:pt x="582" y="0"/>
                  </a:lnTo>
                  <a:lnTo>
                    <a:pt x="725" y="93"/>
                  </a:lnTo>
                  <a:lnTo>
                    <a:pt x="858" y="225"/>
                  </a:lnTo>
                  <a:lnTo>
                    <a:pt x="990" y="354"/>
                  </a:lnTo>
                  <a:lnTo>
                    <a:pt x="1054" y="550"/>
                  </a:lnTo>
                  <a:lnTo>
                    <a:pt x="1186" y="683"/>
                  </a:lnTo>
                  <a:lnTo>
                    <a:pt x="1319" y="815"/>
                  </a:lnTo>
                  <a:lnTo>
                    <a:pt x="1451" y="947"/>
                  </a:lnTo>
                  <a:lnTo>
                    <a:pt x="1648" y="1080"/>
                  </a:lnTo>
                  <a:lnTo>
                    <a:pt x="1575" y="1148"/>
                  </a:lnTo>
                  <a:lnTo>
                    <a:pt x="1519" y="1208"/>
                  </a:lnTo>
                  <a:lnTo>
                    <a:pt x="1451" y="1340"/>
                  </a:lnTo>
                  <a:lnTo>
                    <a:pt x="1319" y="1473"/>
                  </a:lnTo>
                  <a:lnTo>
                    <a:pt x="1054" y="1537"/>
                  </a:lnTo>
                  <a:lnTo>
                    <a:pt x="972" y="1498"/>
                  </a:lnTo>
                  <a:lnTo>
                    <a:pt x="922" y="1405"/>
                  </a:lnTo>
                  <a:lnTo>
                    <a:pt x="725" y="1144"/>
                  </a:lnTo>
                  <a:lnTo>
                    <a:pt x="525" y="933"/>
                  </a:lnTo>
                  <a:lnTo>
                    <a:pt x="661" y="1144"/>
                  </a:lnTo>
                  <a:lnTo>
                    <a:pt x="725" y="1340"/>
                  </a:lnTo>
                  <a:lnTo>
                    <a:pt x="740" y="1419"/>
                  </a:lnTo>
                  <a:lnTo>
                    <a:pt x="661" y="1276"/>
                  </a:lnTo>
                  <a:lnTo>
                    <a:pt x="529" y="1144"/>
                  </a:lnTo>
                  <a:lnTo>
                    <a:pt x="329" y="1012"/>
                  </a:lnTo>
                  <a:lnTo>
                    <a:pt x="0" y="950"/>
                  </a:lnTo>
                  <a:lnTo>
                    <a:pt x="253" y="1086"/>
                  </a:lnTo>
                  <a:lnTo>
                    <a:pt x="525" y="1301"/>
                  </a:lnTo>
                  <a:lnTo>
                    <a:pt x="593" y="1405"/>
                  </a:lnTo>
                  <a:lnTo>
                    <a:pt x="529" y="1405"/>
                  </a:lnTo>
                  <a:lnTo>
                    <a:pt x="215" y="1244"/>
                  </a:lnTo>
                  <a:lnTo>
                    <a:pt x="333" y="1380"/>
                  </a:lnTo>
                  <a:lnTo>
                    <a:pt x="429" y="1476"/>
                  </a:lnTo>
                  <a:lnTo>
                    <a:pt x="593" y="1605"/>
                  </a:lnTo>
                  <a:lnTo>
                    <a:pt x="793" y="1802"/>
                  </a:lnTo>
                  <a:lnTo>
                    <a:pt x="990" y="1998"/>
                  </a:lnTo>
                  <a:lnTo>
                    <a:pt x="1032" y="2059"/>
                  </a:lnTo>
                  <a:lnTo>
                    <a:pt x="1422" y="2466"/>
                  </a:lnTo>
                  <a:lnTo>
                    <a:pt x="2573" y="1405"/>
                  </a:lnTo>
                  <a:lnTo>
                    <a:pt x="1012" y="0"/>
                  </a:lnTo>
                  <a:close/>
                </a:path>
              </a:pathLst>
            </a:custGeom>
            <a:solidFill>
              <a:srgbClr val="b50000"/>
            </a:solidFill>
            <a:ln w="0">
              <a:solidFill>
                <a:srgbClr val="b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294560" y="4178880"/>
              <a:ext cx="108360" cy="249480"/>
            </a:xfrm>
            <a:custGeom>
              <a:avLst/>
              <a:gdLst/>
              <a:ahLst/>
              <a:rect l="l" t="t" r="r" b="b"/>
              <a:pathLst>
                <a:path w="1824" h="2387">
                  <a:moveTo>
                    <a:pt x="265" y="561"/>
                  </a:moveTo>
                  <a:lnTo>
                    <a:pt x="598" y="622"/>
                  </a:lnTo>
                  <a:lnTo>
                    <a:pt x="851" y="697"/>
                  </a:lnTo>
                  <a:lnTo>
                    <a:pt x="1180" y="854"/>
                  </a:lnTo>
                  <a:lnTo>
                    <a:pt x="1319" y="1009"/>
                  </a:lnTo>
                  <a:lnTo>
                    <a:pt x="1201" y="969"/>
                  </a:lnTo>
                  <a:lnTo>
                    <a:pt x="1319" y="1140"/>
                  </a:lnTo>
                  <a:lnTo>
                    <a:pt x="1434" y="1280"/>
                  </a:lnTo>
                  <a:lnTo>
                    <a:pt x="1452" y="1337"/>
                  </a:lnTo>
                  <a:lnTo>
                    <a:pt x="1394" y="1337"/>
                  </a:lnTo>
                  <a:lnTo>
                    <a:pt x="1452" y="1469"/>
                  </a:lnTo>
                  <a:lnTo>
                    <a:pt x="1512" y="1608"/>
                  </a:lnTo>
                  <a:lnTo>
                    <a:pt x="1648" y="1748"/>
                  </a:lnTo>
                  <a:lnTo>
                    <a:pt x="1727" y="1998"/>
                  </a:lnTo>
                  <a:lnTo>
                    <a:pt x="1781" y="2387"/>
                  </a:lnTo>
                  <a:lnTo>
                    <a:pt x="1824" y="1670"/>
                  </a:lnTo>
                  <a:lnTo>
                    <a:pt x="1727" y="1201"/>
                  </a:lnTo>
                  <a:lnTo>
                    <a:pt x="1648" y="876"/>
                  </a:lnTo>
                  <a:lnTo>
                    <a:pt x="1452" y="679"/>
                  </a:lnTo>
                  <a:lnTo>
                    <a:pt x="1259" y="601"/>
                  </a:lnTo>
                  <a:lnTo>
                    <a:pt x="1187" y="483"/>
                  </a:lnTo>
                  <a:lnTo>
                    <a:pt x="1065" y="446"/>
                  </a:lnTo>
                  <a:lnTo>
                    <a:pt x="922" y="418"/>
                  </a:lnTo>
                  <a:lnTo>
                    <a:pt x="922" y="350"/>
                  </a:lnTo>
                  <a:lnTo>
                    <a:pt x="990" y="154"/>
                  </a:lnTo>
                  <a:lnTo>
                    <a:pt x="990" y="89"/>
                  </a:lnTo>
                  <a:lnTo>
                    <a:pt x="930" y="39"/>
                  </a:lnTo>
                  <a:lnTo>
                    <a:pt x="791" y="0"/>
                  </a:lnTo>
                  <a:lnTo>
                    <a:pt x="598" y="39"/>
                  </a:lnTo>
                  <a:lnTo>
                    <a:pt x="440" y="79"/>
                  </a:lnTo>
                  <a:lnTo>
                    <a:pt x="130" y="232"/>
                  </a:lnTo>
                  <a:lnTo>
                    <a:pt x="0" y="350"/>
                  </a:lnTo>
                  <a:lnTo>
                    <a:pt x="265" y="561"/>
                  </a:lnTo>
                  <a:close/>
                </a:path>
              </a:pathLst>
            </a:custGeom>
            <a:solidFill>
              <a:srgbClr val="ff3d3d"/>
            </a:solidFill>
            <a:ln w="0">
              <a:solidFill>
                <a:srgbClr val="ff3d3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081080" y="4737600"/>
              <a:ext cx="55440" cy="18720"/>
            </a:xfrm>
            <a:custGeom>
              <a:avLst/>
              <a:gdLst/>
              <a:ahLst/>
              <a:rect l="l" t="t" r="r" b="b"/>
              <a:pathLst>
                <a:path w="935" h="175">
                  <a:moveTo>
                    <a:pt x="935" y="0"/>
                  </a:moveTo>
                  <a:lnTo>
                    <a:pt x="704" y="57"/>
                  </a:lnTo>
                  <a:lnTo>
                    <a:pt x="568" y="79"/>
                  </a:lnTo>
                  <a:lnTo>
                    <a:pt x="506" y="79"/>
                  </a:lnTo>
                  <a:lnTo>
                    <a:pt x="353" y="79"/>
                  </a:lnTo>
                  <a:lnTo>
                    <a:pt x="214" y="97"/>
                  </a:lnTo>
                  <a:lnTo>
                    <a:pt x="78" y="135"/>
                  </a:lnTo>
                  <a:lnTo>
                    <a:pt x="0" y="17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059120" y="4766760"/>
              <a:ext cx="49680" cy="19800"/>
            </a:xfrm>
            <a:custGeom>
              <a:avLst/>
              <a:gdLst/>
              <a:ahLst/>
              <a:rect l="l" t="t" r="r" b="b"/>
              <a:pathLst>
                <a:path w="837" h="193">
                  <a:moveTo>
                    <a:pt x="837" y="0"/>
                  </a:moveTo>
                  <a:lnTo>
                    <a:pt x="565" y="19"/>
                  </a:lnTo>
                  <a:lnTo>
                    <a:pt x="332" y="80"/>
                  </a:lnTo>
                  <a:lnTo>
                    <a:pt x="158" y="136"/>
                  </a:lnTo>
                  <a:lnTo>
                    <a:pt x="0" y="19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065960" y="4826880"/>
              <a:ext cx="42480" cy="25200"/>
            </a:xfrm>
            <a:custGeom>
              <a:avLst/>
              <a:gdLst/>
              <a:ahLst/>
              <a:rect l="l" t="t" r="r" b="b"/>
              <a:pathLst>
                <a:path w="719" h="233">
                  <a:moveTo>
                    <a:pt x="719" y="0"/>
                  </a:moveTo>
                  <a:lnTo>
                    <a:pt x="583" y="18"/>
                  </a:lnTo>
                  <a:lnTo>
                    <a:pt x="486" y="58"/>
                  </a:lnTo>
                  <a:lnTo>
                    <a:pt x="390" y="97"/>
                  </a:lnTo>
                  <a:lnTo>
                    <a:pt x="289" y="176"/>
                  </a:lnTo>
                  <a:lnTo>
                    <a:pt x="175" y="233"/>
                  </a:lnTo>
                  <a:lnTo>
                    <a:pt x="96" y="233"/>
                  </a:lnTo>
                  <a:lnTo>
                    <a:pt x="0" y="23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089000" y="4820400"/>
              <a:ext cx="48240" cy="31320"/>
            </a:xfrm>
            <a:custGeom>
              <a:avLst/>
              <a:gdLst/>
              <a:ahLst/>
              <a:rect l="l" t="t" r="r" b="b"/>
              <a:pathLst>
                <a:path w="814" h="293">
                  <a:moveTo>
                    <a:pt x="814" y="60"/>
                  </a:moveTo>
                  <a:lnTo>
                    <a:pt x="718" y="21"/>
                  </a:lnTo>
                  <a:lnTo>
                    <a:pt x="640" y="0"/>
                  </a:lnTo>
                  <a:lnTo>
                    <a:pt x="582" y="21"/>
                  </a:lnTo>
                  <a:lnTo>
                    <a:pt x="485" y="60"/>
                  </a:lnTo>
                  <a:lnTo>
                    <a:pt x="389" y="135"/>
                  </a:lnTo>
                  <a:lnTo>
                    <a:pt x="271" y="214"/>
                  </a:lnTo>
                  <a:lnTo>
                    <a:pt x="135" y="253"/>
                  </a:lnTo>
                  <a:lnTo>
                    <a:pt x="0" y="29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127520" y="4879800"/>
              <a:ext cx="31320" cy="16200"/>
            </a:xfrm>
            <a:custGeom>
              <a:avLst/>
              <a:gdLst/>
              <a:ahLst/>
              <a:rect l="l" t="t" r="r" b="b"/>
              <a:pathLst>
                <a:path w="528" h="153">
                  <a:moveTo>
                    <a:pt x="528" y="38"/>
                  </a:moveTo>
                  <a:lnTo>
                    <a:pt x="450" y="0"/>
                  </a:lnTo>
                  <a:lnTo>
                    <a:pt x="388" y="0"/>
                  </a:lnTo>
                  <a:lnTo>
                    <a:pt x="314" y="17"/>
                  </a:lnTo>
                  <a:lnTo>
                    <a:pt x="253" y="38"/>
                  </a:lnTo>
                  <a:lnTo>
                    <a:pt x="196" y="78"/>
                  </a:lnTo>
                  <a:lnTo>
                    <a:pt x="139" y="118"/>
                  </a:lnTo>
                  <a:lnTo>
                    <a:pt x="60" y="135"/>
                  </a:lnTo>
                  <a:lnTo>
                    <a:pt x="0" y="1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72960" y="4668840"/>
              <a:ext cx="24120" cy="19800"/>
            </a:xfrm>
            <a:custGeom>
              <a:avLst/>
              <a:gdLst/>
              <a:ahLst/>
              <a:rect l="l" t="t" r="r" b="b"/>
              <a:pathLst>
                <a:path w="407" h="198">
                  <a:moveTo>
                    <a:pt x="407" y="0"/>
                  </a:moveTo>
                  <a:lnTo>
                    <a:pt x="407" y="22"/>
                  </a:lnTo>
                  <a:lnTo>
                    <a:pt x="390" y="62"/>
                  </a:lnTo>
                  <a:lnTo>
                    <a:pt x="351" y="97"/>
                  </a:lnTo>
                  <a:lnTo>
                    <a:pt x="254" y="136"/>
                  </a:lnTo>
                  <a:lnTo>
                    <a:pt x="136" y="176"/>
                  </a:lnTo>
                  <a:lnTo>
                    <a:pt x="0" y="19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24000" y="4697640"/>
              <a:ext cx="48960" cy="27360"/>
            </a:xfrm>
            <a:custGeom>
              <a:avLst/>
              <a:gdLst/>
              <a:ahLst/>
              <a:rect l="l" t="t" r="r" b="b"/>
              <a:pathLst>
                <a:path w="835" h="272">
                  <a:moveTo>
                    <a:pt x="835" y="0"/>
                  </a:moveTo>
                  <a:lnTo>
                    <a:pt x="639" y="118"/>
                  </a:lnTo>
                  <a:lnTo>
                    <a:pt x="485" y="158"/>
                  </a:lnTo>
                  <a:lnTo>
                    <a:pt x="349" y="158"/>
                  </a:lnTo>
                  <a:lnTo>
                    <a:pt x="153" y="215"/>
                  </a:lnTo>
                  <a:lnTo>
                    <a:pt x="0" y="27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31920" y="4713840"/>
              <a:ext cx="18360" cy="17640"/>
            </a:xfrm>
            <a:custGeom>
              <a:avLst/>
              <a:gdLst/>
              <a:ahLst/>
              <a:rect l="l" t="t" r="r" b="b"/>
              <a:pathLst>
                <a:path w="310" h="175">
                  <a:moveTo>
                    <a:pt x="310" y="0"/>
                  </a:moveTo>
                  <a:lnTo>
                    <a:pt x="272" y="17"/>
                  </a:lnTo>
                  <a:lnTo>
                    <a:pt x="136" y="75"/>
                  </a:lnTo>
                  <a:lnTo>
                    <a:pt x="57" y="114"/>
                  </a:lnTo>
                  <a:lnTo>
                    <a:pt x="0" y="17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45240" y="4737600"/>
              <a:ext cx="54000" cy="38880"/>
            </a:xfrm>
            <a:custGeom>
              <a:avLst/>
              <a:gdLst/>
              <a:ahLst/>
              <a:rect l="l" t="t" r="r" b="b"/>
              <a:pathLst>
                <a:path w="915" h="368">
                  <a:moveTo>
                    <a:pt x="915" y="0"/>
                  </a:moveTo>
                  <a:lnTo>
                    <a:pt x="722" y="97"/>
                  </a:lnTo>
                  <a:lnTo>
                    <a:pt x="565" y="114"/>
                  </a:lnTo>
                  <a:lnTo>
                    <a:pt x="450" y="154"/>
                  </a:lnTo>
                  <a:lnTo>
                    <a:pt x="372" y="193"/>
                  </a:lnTo>
                  <a:lnTo>
                    <a:pt x="294" y="250"/>
                  </a:lnTo>
                  <a:lnTo>
                    <a:pt x="176" y="311"/>
                  </a:lnTo>
                  <a:lnTo>
                    <a:pt x="78" y="329"/>
                  </a:lnTo>
                  <a:lnTo>
                    <a:pt x="0" y="36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146960" y="4333320"/>
              <a:ext cx="68400" cy="93960"/>
            </a:xfrm>
            <a:custGeom>
              <a:avLst/>
              <a:gdLst/>
              <a:ahLst/>
              <a:rect l="l" t="t" r="r" b="b"/>
              <a:pathLst>
                <a:path w="1151" h="895">
                  <a:moveTo>
                    <a:pt x="586" y="0"/>
                  </a:moveTo>
                  <a:lnTo>
                    <a:pt x="797" y="236"/>
                  </a:lnTo>
                  <a:lnTo>
                    <a:pt x="897" y="372"/>
                  </a:lnTo>
                  <a:lnTo>
                    <a:pt x="1011" y="526"/>
                  </a:lnTo>
                  <a:lnTo>
                    <a:pt x="1089" y="684"/>
                  </a:lnTo>
                  <a:lnTo>
                    <a:pt x="1151" y="895"/>
                  </a:lnTo>
                  <a:lnTo>
                    <a:pt x="936" y="701"/>
                  </a:lnTo>
                  <a:lnTo>
                    <a:pt x="857" y="605"/>
                  </a:lnTo>
                  <a:lnTo>
                    <a:pt x="761" y="469"/>
                  </a:lnTo>
                  <a:lnTo>
                    <a:pt x="682" y="372"/>
                  </a:lnTo>
                  <a:lnTo>
                    <a:pt x="604" y="276"/>
                  </a:lnTo>
                  <a:lnTo>
                    <a:pt x="446" y="136"/>
                  </a:lnTo>
                  <a:lnTo>
                    <a:pt x="271" y="62"/>
                  </a:lnTo>
                  <a:lnTo>
                    <a:pt x="136" y="40"/>
                  </a:lnTo>
                  <a:lnTo>
                    <a:pt x="0" y="2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164600" y="4366080"/>
              <a:ext cx="35640" cy="36360"/>
            </a:xfrm>
            <a:custGeom>
              <a:avLst/>
              <a:gdLst/>
              <a:ahLst/>
              <a:rect l="l" t="t" r="r" b="b"/>
              <a:pathLst>
                <a:path w="605" h="350">
                  <a:moveTo>
                    <a:pt x="0" y="0"/>
                  </a:moveTo>
                  <a:lnTo>
                    <a:pt x="215" y="100"/>
                  </a:lnTo>
                  <a:lnTo>
                    <a:pt x="312" y="157"/>
                  </a:lnTo>
                  <a:lnTo>
                    <a:pt x="408" y="196"/>
                  </a:lnTo>
                  <a:lnTo>
                    <a:pt x="526" y="293"/>
                  </a:lnTo>
                  <a:lnTo>
                    <a:pt x="605" y="35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341720" y="4210200"/>
              <a:ext cx="22680" cy="3600"/>
            </a:xfrm>
            <a:custGeom>
              <a:avLst/>
              <a:gdLst/>
              <a:ahLst/>
              <a:rect l="l" t="t" r="r" b="b"/>
              <a:pathLst>
                <a:path w="389" h="38">
                  <a:moveTo>
                    <a:pt x="389" y="21"/>
                  </a:moveTo>
                  <a:lnTo>
                    <a:pt x="174" y="0"/>
                  </a:lnTo>
                  <a:lnTo>
                    <a:pt x="78" y="21"/>
                  </a:lnTo>
                  <a:lnTo>
                    <a:pt x="0" y="3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351080" y="4224240"/>
              <a:ext cx="27720" cy="12240"/>
            </a:xfrm>
            <a:custGeom>
              <a:avLst/>
              <a:gdLst/>
              <a:ahLst/>
              <a:rect l="l" t="t" r="r" b="b"/>
              <a:pathLst>
                <a:path w="468" h="118">
                  <a:moveTo>
                    <a:pt x="468" y="118"/>
                  </a:moveTo>
                  <a:lnTo>
                    <a:pt x="333" y="60"/>
                  </a:lnTo>
                  <a:lnTo>
                    <a:pt x="158" y="20"/>
                  </a:lnTo>
                  <a:lnTo>
                    <a:pt x="8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290960" y="4207680"/>
              <a:ext cx="42480" cy="22680"/>
            </a:xfrm>
            <a:custGeom>
              <a:avLst/>
              <a:gdLst/>
              <a:ahLst/>
              <a:rect l="l" t="t" r="r" b="b"/>
              <a:pathLst>
                <a:path w="718" h="214">
                  <a:moveTo>
                    <a:pt x="718" y="18"/>
                  </a:moveTo>
                  <a:lnTo>
                    <a:pt x="603" y="0"/>
                  </a:lnTo>
                  <a:lnTo>
                    <a:pt x="428" y="0"/>
                  </a:lnTo>
                  <a:lnTo>
                    <a:pt x="289" y="18"/>
                  </a:lnTo>
                  <a:lnTo>
                    <a:pt x="175" y="56"/>
                  </a:lnTo>
                  <a:lnTo>
                    <a:pt x="75" y="114"/>
                  </a:lnTo>
                  <a:lnTo>
                    <a:pt x="0" y="214"/>
                  </a:lnTo>
                  <a:lnTo>
                    <a:pt x="175" y="154"/>
                  </a:lnTo>
                  <a:lnTo>
                    <a:pt x="389" y="114"/>
                  </a:lnTo>
                  <a:lnTo>
                    <a:pt x="503" y="13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311840" y="4244400"/>
              <a:ext cx="72360" cy="38880"/>
            </a:xfrm>
            <a:custGeom>
              <a:avLst/>
              <a:gdLst/>
              <a:ahLst/>
              <a:rect l="l" t="t" r="r" b="b"/>
              <a:pathLst>
                <a:path w="1226" h="369">
                  <a:moveTo>
                    <a:pt x="1108" y="193"/>
                  </a:moveTo>
                  <a:lnTo>
                    <a:pt x="837" y="57"/>
                  </a:lnTo>
                  <a:lnTo>
                    <a:pt x="644" y="0"/>
                  </a:lnTo>
                  <a:lnTo>
                    <a:pt x="408" y="0"/>
                  </a:lnTo>
                  <a:lnTo>
                    <a:pt x="176" y="18"/>
                  </a:lnTo>
                  <a:lnTo>
                    <a:pt x="0" y="57"/>
                  </a:lnTo>
                  <a:lnTo>
                    <a:pt x="312" y="36"/>
                  </a:lnTo>
                  <a:lnTo>
                    <a:pt x="505" y="36"/>
                  </a:lnTo>
                  <a:lnTo>
                    <a:pt x="644" y="75"/>
                  </a:lnTo>
                  <a:lnTo>
                    <a:pt x="759" y="115"/>
                  </a:lnTo>
                  <a:lnTo>
                    <a:pt x="819" y="136"/>
                  </a:lnTo>
                  <a:lnTo>
                    <a:pt x="877" y="193"/>
                  </a:lnTo>
                  <a:lnTo>
                    <a:pt x="915" y="272"/>
                  </a:lnTo>
                  <a:lnTo>
                    <a:pt x="1012" y="329"/>
                  </a:lnTo>
                  <a:lnTo>
                    <a:pt x="1051" y="347"/>
                  </a:lnTo>
                  <a:lnTo>
                    <a:pt x="1169" y="369"/>
                  </a:lnTo>
                  <a:lnTo>
                    <a:pt x="1226" y="36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5280" y="4673520"/>
              <a:ext cx="114840" cy="224640"/>
            </a:xfrm>
            <a:custGeom>
              <a:avLst/>
              <a:gdLst/>
              <a:ahLst/>
              <a:rect l="l" t="t" r="r" b="b"/>
              <a:pathLst>
                <a:path w="1938" h="2156">
                  <a:moveTo>
                    <a:pt x="1201" y="440"/>
                  </a:moveTo>
                  <a:lnTo>
                    <a:pt x="1201" y="304"/>
                  </a:lnTo>
                  <a:lnTo>
                    <a:pt x="1169" y="186"/>
                  </a:lnTo>
                  <a:lnTo>
                    <a:pt x="1015" y="68"/>
                  </a:lnTo>
                  <a:lnTo>
                    <a:pt x="744" y="0"/>
                  </a:lnTo>
                  <a:lnTo>
                    <a:pt x="558" y="0"/>
                  </a:lnTo>
                  <a:lnTo>
                    <a:pt x="358" y="37"/>
                  </a:lnTo>
                  <a:lnTo>
                    <a:pt x="222" y="118"/>
                  </a:lnTo>
                  <a:lnTo>
                    <a:pt x="154" y="168"/>
                  </a:lnTo>
                  <a:lnTo>
                    <a:pt x="36" y="254"/>
                  </a:lnTo>
                  <a:lnTo>
                    <a:pt x="0" y="372"/>
                  </a:lnTo>
                  <a:lnTo>
                    <a:pt x="18" y="505"/>
                  </a:lnTo>
                  <a:lnTo>
                    <a:pt x="55" y="623"/>
                  </a:lnTo>
                  <a:lnTo>
                    <a:pt x="158" y="759"/>
                  </a:lnTo>
                  <a:lnTo>
                    <a:pt x="290" y="826"/>
                  </a:lnTo>
                  <a:lnTo>
                    <a:pt x="254" y="1144"/>
                  </a:lnTo>
                  <a:lnTo>
                    <a:pt x="272" y="1212"/>
                  </a:lnTo>
                  <a:lnTo>
                    <a:pt x="290" y="1416"/>
                  </a:lnTo>
                  <a:lnTo>
                    <a:pt x="304" y="1551"/>
                  </a:lnTo>
                  <a:lnTo>
                    <a:pt x="354" y="1745"/>
                  </a:lnTo>
                  <a:lnTo>
                    <a:pt x="487" y="1877"/>
                  </a:lnTo>
                  <a:lnTo>
                    <a:pt x="679" y="2006"/>
                  </a:lnTo>
                  <a:lnTo>
                    <a:pt x="815" y="2139"/>
                  </a:lnTo>
                  <a:lnTo>
                    <a:pt x="948" y="2156"/>
                  </a:lnTo>
                  <a:lnTo>
                    <a:pt x="1201" y="2139"/>
                  </a:lnTo>
                  <a:lnTo>
                    <a:pt x="1473" y="2074"/>
                  </a:lnTo>
                  <a:lnTo>
                    <a:pt x="1691" y="2020"/>
                  </a:lnTo>
                  <a:lnTo>
                    <a:pt x="1809" y="1870"/>
                  </a:lnTo>
                  <a:lnTo>
                    <a:pt x="1938" y="1480"/>
                  </a:lnTo>
                  <a:lnTo>
                    <a:pt x="1873" y="1156"/>
                  </a:lnTo>
                  <a:lnTo>
                    <a:pt x="1237" y="522"/>
                  </a:lnTo>
                  <a:lnTo>
                    <a:pt x="1201" y="44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63200" y="4683960"/>
              <a:ext cx="60480" cy="102600"/>
            </a:xfrm>
            <a:custGeom>
              <a:avLst/>
              <a:gdLst/>
              <a:ahLst/>
              <a:rect l="l" t="t" r="r" b="b"/>
              <a:pathLst>
                <a:path w="1012" h="988">
                  <a:moveTo>
                    <a:pt x="0" y="169"/>
                  </a:moveTo>
                  <a:lnTo>
                    <a:pt x="222" y="204"/>
                  </a:lnTo>
                  <a:lnTo>
                    <a:pt x="286" y="265"/>
                  </a:lnTo>
                  <a:lnTo>
                    <a:pt x="304" y="390"/>
                  </a:lnTo>
                  <a:lnTo>
                    <a:pt x="390" y="458"/>
                  </a:lnTo>
                  <a:lnTo>
                    <a:pt x="407" y="591"/>
                  </a:lnTo>
                  <a:lnTo>
                    <a:pt x="475" y="794"/>
                  </a:lnTo>
                  <a:lnTo>
                    <a:pt x="679" y="988"/>
                  </a:lnTo>
                  <a:lnTo>
                    <a:pt x="1012" y="988"/>
                  </a:lnTo>
                  <a:lnTo>
                    <a:pt x="944" y="526"/>
                  </a:lnTo>
                  <a:lnTo>
                    <a:pt x="998" y="186"/>
                  </a:lnTo>
                  <a:lnTo>
                    <a:pt x="879" y="86"/>
                  </a:lnTo>
                  <a:lnTo>
                    <a:pt x="608" y="18"/>
                  </a:lnTo>
                  <a:lnTo>
                    <a:pt x="490" y="0"/>
                  </a:lnTo>
                  <a:lnTo>
                    <a:pt x="322" y="18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b5b5b5"/>
            </a:solidFill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341720" y="4086360"/>
              <a:ext cx="438840" cy="328680"/>
            </a:xfrm>
            <a:custGeom>
              <a:avLst/>
              <a:gdLst/>
              <a:ahLst/>
              <a:rect l="l" t="t" r="r" b="b"/>
              <a:pathLst>
                <a:path w="7387" h="3153">
                  <a:moveTo>
                    <a:pt x="0" y="3153"/>
                  </a:moveTo>
                  <a:lnTo>
                    <a:pt x="2901" y="1512"/>
                  </a:lnTo>
                  <a:lnTo>
                    <a:pt x="7387" y="132"/>
                  </a:lnTo>
                  <a:lnTo>
                    <a:pt x="7387" y="64"/>
                  </a:lnTo>
                  <a:lnTo>
                    <a:pt x="7318" y="0"/>
                  </a:lnTo>
                  <a:lnTo>
                    <a:pt x="2637" y="1315"/>
                  </a:lnTo>
                  <a:lnTo>
                    <a:pt x="0" y="2759"/>
                  </a:lnTo>
                  <a:lnTo>
                    <a:pt x="0" y="3153"/>
                  </a:lnTo>
                  <a:close/>
                </a:path>
              </a:pathLst>
            </a:custGeom>
            <a:solidFill>
              <a:srgbClr val="b5b5b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92600" y="3917880"/>
              <a:ext cx="280440" cy="614880"/>
            </a:xfrm>
            <a:custGeom>
              <a:avLst/>
              <a:gdLst/>
              <a:ahLst/>
              <a:rect l="l" t="t" r="r" b="b"/>
              <a:pathLst>
                <a:path w="4714" h="5870">
                  <a:moveTo>
                    <a:pt x="1216" y="22"/>
                  </a:moveTo>
                  <a:lnTo>
                    <a:pt x="1412" y="85"/>
                  </a:lnTo>
                  <a:lnTo>
                    <a:pt x="1583" y="153"/>
                  </a:lnTo>
                  <a:lnTo>
                    <a:pt x="1744" y="283"/>
                  </a:lnTo>
                  <a:lnTo>
                    <a:pt x="1941" y="425"/>
                  </a:lnTo>
                  <a:lnTo>
                    <a:pt x="2059" y="543"/>
                  </a:lnTo>
                  <a:lnTo>
                    <a:pt x="2073" y="611"/>
                  </a:lnTo>
                  <a:lnTo>
                    <a:pt x="2144" y="729"/>
                  </a:lnTo>
                  <a:lnTo>
                    <a:pt x="2248" y="815"/>
                  </a:lnTo>
                  <a:lnTo>
                    <a:pt x="2280" y="882"/>
                  </a:lnTo>
                  <a:lnTo>
                    <a:pt x="2334" y="933"/>
                  </a:lnTo>
                  <a:lnTo>
                    <a:pt x="2452" y="1068"/>
                  </a:lnTo>
                  <a:lnTo>
                    <a:pt x="2552" y="1272"/>
                  </a:lnTo>
                  <a:lnTo>
                    <a:pt x="2666" y="1465"/>
                  </a:lnTo>
                  <a:lnTo>
                    <a:pt x="2798" y="1662"/>
                  </a:lnTo>
                  <a:lnTo>
                    <a:pt x="2931" y="1859"/>
                  </a:lnTo>
                  <a:lnTo>
                    <a:pt x="3081" y="2124"/>
                  </a:lnTo>
                  <a:lnTo>
                    <a:pt x="3260" y="2320"/>
                  </a:lnTo>
                  <a:lnTo>
                    <a:pt x="3391" y="2516"/>
                  </a:lnTo>
                  <a:lnTo>
                    <a:pt x="3474" y="2649"/>
                  </a:lnTo>
                  <a:lnTo>
                    <a:pt x="3589" y="2845"/>
                  </a:lnTo>
                  <a:lnTo>
                    <a:pt x="3788" y="3110"/>
                  </a:lnTo>
                  <a:lnTo>
                    <a:pt x="3917" y="3242"/>
                  </a:lnTo>
                  <a:lnTo>
                    <a:pt x="4117" y="3504"/>
                  </a:lnTo>
                  <a:lnTo>
                    <a:pt x="4257" y="3682"/>
                  </a:lnTo>
                  <a:lnTo>
                    <a:pt x="4374" y="3818"/>
                  </a:lnTo>
                  <a:lnTo>
                    <a:pt x="4461" y="3972"/>
                  </a:lnTo>
                  <a:lnTo>
                    <a:pt x="4596" y="4225"/>
                  </a:lnTo>
                  <a:lnTo>
                    <a:pt x="4682" y="4447"/>
                  </a:lnTo>
                  <a:lnTo>
                    <a:pt x="4714" y="4651"/>
                  </a:lnTo>
                  <a:lnTo>
                    <a:pt x="4682" y="4819"/>
                  </a:lnTo>
                  <a:lnTo>
                    <a:pt x="4446" y="5015"/>
                  </a:lnTo>
                  <a:lnTo>
                    <a:pt x="4257" y="5144"/>
                  </a:lnTo>
                  <a:lnTo>
                    <a:pt x="3846" y="5397"/>
                  </a:lnTo>
                  <a:lnTo>
                    <a:pt x="3391" y="5541"/>
                  </a:lnTo>
                  <a:lnTo>
                    <a:pt x="2798" y="5673"/>
                  </a:lnTo>
                  <a:lnTo>
                    <a:pt x="2534" y="5737"/>
                  </a:lnTo>
                  <a:lnTo>
                    <a:pt x="2205" y="5805"/>
                  </a:lnTo>
                  <a:lnTo>
                    <a:pt x="2005" y="5870"/>
                  </a:lnTo>
                  <a:lnTo>
                    <a:pt x="1412" y="5015"/>
                  </a:lnTo>
                  <a:lnTo>
                    <a:pt x="1941" y="4804"/>
                  </a:lnTo>
                  <a:lnTo>
                    <a:pt x="2262" y="4615"/>
                  </a:lnTo>
                  <a:lnTo>
                    <a:pt x="2606" y="4447"/>
                  </a:lnTo>
                  <a:lnTo>
                    <a:pt x="2798" y="4357"/>
                  </a:lnTo>
                  <a:lnTo>
                    <a:pt x="2931" y="4293"/>
                  </a:lnTo>
                  <a:lnTo>
                    <a:pt x="2666" y="3896"/>
                  </a:lnTo>
                  <a:lnTo>
                    <a:pt x="2470" y="3700"/>
                  </a:lnTo>
                  <a:lnTo>
                    <a:pt x="2270" y="3567"/>
                  </a:lnTo>
                  <a:lnTo>
                    <a:pt x="2044" y="3378"/>
                  </a:lnTo>
                  <a:lnTo>
                    <a:pt x="1873" y="3174"/>
                  </a:lnTo>
                  <a:lnTo>
                    <a:pt x="1601" y="2853"/>
                  </a:lnTo>
                  <a:lnTo>
                    <a:pt x="1548" y="2785"/>
                  </a:lnTo>
                  <a:lnTo>
                    <a:pt x="1216" y="2713"/>
                  </a:lnTo>
                  <a:lnTo>
                    <a:pt x="951" y="2649"/>
                  </a:lnTo>
                  <a:lnTo>
                    <a:pt x="679" y="2563"/>
                  </a:lnTo>
                  <a:lnTo>
                    <a:pt x="490" y="2453"/>
                  </a:lnTo>
                  <a:lnTo>
                    <a:pt x="226" y="2124"/>
                  </a:lnTo>
                  <a:lnTo>
                    <a:pt x="29" y="1662"/>
                  </a:lnTo>
                  <a:lnTo>
                    <a:pt x="0" y="1458"/>
                  </a:lnTo>
                  <a:lnTo>
                    <a:pt x="33" y="1204"/>
                  </a:lnTo>
                  <a:lnTo>
                    <a:pt x="50" y="1001"/>
                  </a:lnTo>
                  <a:lnTo>
                    <a:pt x="118" y="747"/>
                  </a:lnTo>
                  <a:lnTo>
                    <a:pt x="226" y="479"/>
                  </a:lnTo>
                  <a:lnTo>
                    <a:pt x="289" y="321"/>
                  </a:lnTo>
                  <a:lnTo>
                    <a:pt x="490" y="150"/>
                  </a:lnTo>
                  <a:lnTo>
                    <a:pt x="686" y="85"/>
                  </a:lnTo>
                  <a:lnTo>
                    <a:pt x="887" y="35"/>
                  </a:lnTo>
                  <a:lnTo>
                    <a:pt x="1123" y="0"/>
                  </a:lnTo>
                  <a:lnTo>
                    <a:pt x="1216" y="22"/>
                  </a:lnTo>
                  <a:close/>
                </a:path>
              </a:pathLst>
            </a:custGeom>
            <a:solidFill>
              <a:srgbClr val="ff3d3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186200" y="4203000"/>
              <a:ext cx="132480" cy="163080"/>
            </a:xfrm>
            <a:custGeom>
              <a:avLst/>
              <a:gdLst/>
              <a:ahLst/>
              <a:rect l="l" t="t" r="r" b="b"/>
              <a:pathLst>
                <a:path w="2229" h="1559">
                  <a:moveTo>
                    <a:pt x="2229" y="1255"/>
                  </a:moveTo>
                  <a:lnTo>
                    <a:pt x="2023" y="1179"/>
                  </a:lnTo>
                  <a:lnTo>
                    <a:pt x="1890" y="1179"/>
                  </a:lnTo>
                  <a:lnTo>
                    <a:pt x="1757" y="1247"/>
                  </a:lnTo>
                  <a:lnTo>
                    <a:pt x="1626" y="1380"/>
                  </a:lnTo>
                  <a:lnTo>
                    <a:pt x="1429" y="1508"/>
                  </a:lnTo>
                  <a:lnTo>
                    <a:pt x="1397" y="1559"/>
                  </a:lnTo>
                  <a:lnTo>
                    <a:pt x="1244" y="1305"/>
                  </a:lnTo>
                  <a:lnTo>
                    <a:pt x="986" y="1001"/>
                  </a:lnTo>
                  <a:lnTo>
                    <a:pt x="578" y="679"/>
                  </a:lnTo>
                  <a:lnTo>
                    <a:pt x="339" y="390"/>
                  </a:lnTo>
                  <a:lnTo>
                    <a:pt x="0" y="0"/>
                  </a:lnTo>
                  <a:lnTo>
                    <a:pt x="307" y="118"/>
                  </a:lnTo>
                  <a:lnTo>
                    <a:pt x="614" y="168"/>
                  </a:lnTo>
                  <a:lnTo>
                    <a:pt x="904" y="196"/>
                  </a:lnTo>
                  <a:lnTo>
                    <a:pt x="836" y="261"/>
                  </a:lnTo>
                  <a:lnTo>
                    <a:pt x="850" y="322"/>
                  </a:lnTo>
                  <a:lnTo>
                    <a:pt x="968" y="457"/>
                  </a:lnTo>
                  <a:lnTo>
                    <a:pt x="1158" y="543"/>
                  </a:lnTo>
                  <a:lnTo>
                    <a:pt x="1497" y="611"/>
                  </a:lnTo>
                  <a:lnTo>
                    <a:pt x="1561" y="654"/>
                  </a:lnTo>
                  <a:lnTo>
                    <a:pt x="1515" y="729"/>
                  </a:lnTo>
                  <a:lnTo>
                    <a:pt x="1565" y="797"/>
                  </a:lnTo>
                  <a:lnTo>
                    <a:pt x="1583" y="915"/>
                  </a:lnTo>
                  <a:lnTo>
                    <a:pt x="1626" y="983"/>
                  </a:lnTo>
                  <a:lnTo>
                    <a:pt x="1754" y="1086"/>
                  </a:lnTo>
                  <a:lnTo>
                    <a:pt x="1890" y="1119"/>
                  </a:lnTo>
                  <a:lnTo>
                    <a:pt x="2094" y="1169"/>
                  </a:lnTo>
                  <a:lnTo>
                    <a:pt x="2154" y="1179"/>
                  </a:lnTo>
                  <a:lnTo>
                    <a:pt x="2229" y="1255"/>
                  </a:lnTo>
                  <a:close/>
                </a:path>
              </a:pathLst>
            </a:custGeom>
            <a:solidFill>
              <a:srgbClr val="b50000"/>
            </a:solidFill>
            <a:ln w="0">
              <a:solidFill>
                <a:srgbClr val="b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096200" y="3958200"/>
              <a:ext cx="87120" cy="245880"/>
            </a:xfrm>
            <a:custGeom>
              <a:avLst/>
              <a:gdLst/>
              <a:ahLst/>
              <a:rect l="l" t="t" r="r" b="b"/>
              <a:pathLst>
                <a:path w="1466" h="2356">
                  <a:moveTo>
                    <a:pt x="1348" y="2205"/>
                  </a:moveTo>
                  <a:lnTo>
                    <a:pt x="1415" y="2273"/>
                  </a:lnTo>
                  <a:lnTo>
                    <a:pt x="1466" y="2356"/>
                  </a:lnTo>
                  <a:lnTo>
                    <a:pt x="1158" y="2287"/>
                  </a:lnTo>
                  <a:lnTo>
                    <a:pt x="973" y="2237"/>
                  </a:lnTo>
                  <a:lnTo>
                    <a:pt x="769" y="2151"/>
                  </a:lnTo>
                  <a:lnTo>
                    <a:pt x="629" y="2119"/>
                  </a:lnTo>
                  <a:lnTo>
                    <a:pt x="462" y="2019"/>
                  </a:lnTo>
                  <a:lnTo>
                    <a:pt x="290" y="1780"/>
                  </a:lnTo>
                  <a:lnTo>
                    <a:pt x="154" y="1594"/>
                  </a:lnTo>
                  <a:lnTo>
                    <a:pt x="86" y="1422"/>
                  </a:lnTo>
                  <a:lnTo>
                    <a:pt x="0" y="1082"/>
                  </a:lnTo>
                  <a:lnTo>
                    <a:pt x="50" y="625"/>
                  </a:lnTo>
                  <a:lnTo>
                    <a:pt x="154" y="254"/>
                  </a:lnTo>
                  <a:lnTo>
                    <a:pt x="257" y="0"/>
                  </a:lnTo>
                  <a:lnTo>
                    <a:pt x="204" y="439"/>
                  </a:lnTo>
                  <a:lnTo>
                    <a:pt x="204" y="896"/>
                  </a:lnTo>
                  <a:lnTo>
                    <a:pt x="272" y="1150"/>
                  </a:lnTo>
                  <a:lnTo>
                    <a:pt x="325" y="1354"/>
                  </a:lnTo>
                  <a:lnTo>
                    <a:pt x="393" y="1544"/>
                  </a:lnTo>
                  <a:lnTo>
                    <a:pt x="408" y="1150"/>
                  </a:lnTo>
                  <a:lnTo>
                    <a:pt x="425" y="915"/>
                  </a:lnTo>
                  <a:lnTo>
                    <a:pt x="480" y="1150"/>
                  </a:lnTo>
                  <a:lnTo>
                    <a:pt x="493" y="1422"/>
                  </a:lnTo>
                  <a:lnTo>
                    <a:pt x="561" y="1557"/>
                  </a:lnTo>
                  <a:lnTo>
                    <a:pt x="579" y="1748"/>
                  </a:lnTo>
                  <a:lnTo>
                    <a:pt x="615" y="1883"/>
                  </a:lnTo>
                  <a:lnTo>
                    <a:pt x="751" y="2019"/>
                  </a:lnTo>
                  <a:lnTo>
                    <a:pt x="905" y="2069"/>
                  </a:lnTo>
                  <a:lnTo>
                    <a:pt x="850" y="2019"/>
                  </a:lnTo>
                  <a:lnTo>
                    <a:pt x="783" y="1933"/>
                  </a:lnTo>
                  <a:lnTo>
                    <a:pt x="1348" y="2205"/>
                  </a:lnTo>
                  <a:close/>
                </a:path>
              </a:pathLst>
            </a:custGeom>
            <a:solidFill>
              <a:srgbClr val="b50000"/>
            </a:solidFill>
            <a:ln w="0">
              <a:solidFill>
                <a:srgbClr val="b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214640" y="4460400"/>
              <a:ext cx="104040" cy="58680"/>
            </a:xfrm>
            <a:custGeom>
              <a:avLst/>
              <a:gdLst/>
              <a:ahLst/>
              <a:rect l="l" t="t" r="r" b="b"/>
              <a:pathLst>
                <a:path w="1751" h="561">
                  <a:moveTo>
                    <a:pt x="0" y="561"/>
                  </a:moveTo>
                  <a:lnTo>
                    <a:pt x="358" y="304"/>
                  </a:lnTo>
                  <a:lnTo>
                    <a:pt x="544" y="168"/>
                  </a:lnTo>
                  <a:lnTo>
                    <a:pt x="630" y="204"/>
                  </a:lnTo>
                  <a:lnTo>
                    <a:pt x="748" y="204"/>
                  </a:lnTo>
                  <a:lnTo>
                    <a:pt x="951" y="136"/>
                  </a:lnTo>
                  <a:lnTo>
                    <a:pt x="1208" y="68"/>
                  </a:lnTo>
                  <a:lnTo>
                    <a:pt x="1344" y="50"/>
                  </a:lnTo>
                  <a:lnTo>
                    <a:pt x="1530" y="18"/>
                  </a:lnTo>
                  <a:lnTo>
                    <a:pt x="1751" y="0"/>
                  </a:lnTo>
                  <a:lnTo>
                    <a:pt x="1208" y="221"/>
                  </a:lnTo>
                  <a:lnTo>
                    <a:pt x="884" y="322"/>
                  </a:lnTo>
                  <a:lnTo>
                    <a:pt x="630" y="407"/>
                  </a:lnTo>
                  <a:lnTo>
                    <a:pt x="494" y="425"/>
                  </a:lnTo>
                  <a:lnTo>
                    <a:pt x="218" y="508"/>
                  </a:lnTo>
                  <a:lnTo>
                    <a:pt x="0" y="561"/>
                  </a:lnTo>
                  <a:close/>
                </a:path>
              </a:pathLst>
            </a:custGeom>
            <a:solidFill>
              <a:srgbClr val="b50000"/>
            </a:solidFill>
            <a:ln w="0">
              <a:solidFill>
                <a:srgbClr val="b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121040" y="4056120"/>
              <a:ext cx="20520" cy="125280"/>
            </a:xfrm>
            <a:custGeom>
              <a:avLst/>
              <a:gdLst/>
              <a:ahLst/>
              <a:rect l="l" t="t" r="r" b="b"/>
              <a:pathLst>
                <a:path w="344" h="1204">
                  <a:moveTo>
                    <a:pt x="0" y="0"/>
                  </a:moveTo>
                  <a:lnTo>
                    <a:pt x="55" y="217"/>
                  </a:lnTo>
                  <a:lnTo>
                    <a:pt x="86" y="372"/>
                  </a:lnTo>
                  <a:lnTo>
                    <a:pt x="86" y="624"/>
                  </a:lnTo>
                  <a:lnTo>
                    <a:pt x="105" y="797"/>
                  </a:lnTo>
                  <a:lnTo>
                    <a:pt x="173" y="983"/>
                  </a:lnTo>
                  <a:lnTo>
                    <a:pt x="272" y="1169"/>
                  </a:lnTo>
                  <a:lnTo>
                    <a:pt x="344" y="120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139760" y="4007160"/>
              <a:ext cx="12600" cy="55080"/>
            </a:xfrm>
            <a:custGeom>
              <a:avLst/>
              <a:gdLst/>
              <a:ahLst/>
              <a:rect l="l" t="t" r="r" b="b"/>
              <a:pathLst>
                <a:path w="222" h="526">
                  <a:moveTo>
                    <a:pt x="222" y="0"/>
                  </a:moveTo>
                  <a:lnTo>
                    <a:pt x="172" y="31"/>
                  </a:lnTo>
                  <a:lnTo>
                    <a:pt x="117" y="68"/>
                  </a:lnTo>
                  <a:lnTo>
                    <a:pt x="68" y="136"/>
                  </a:lnTo>
                  <a:lnTo>
                    <a:pt x="18" y="304"/>
                  </a:lnTo>
                  <a:lnTo>
                    <a:pt x="0" y="52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140480" y="4160160"/>
              <a:ext cx="44280" cy="51480"/>
            </a:xfrm>
            <a:custGeom>
              <a:avLst/>
              <a:gdLst/>
              <a:ahLst/>
              <a:rect l="l" t="t" r="r" b="b"/>
              <a:pathLst>
                <a:path w="747" h="490">
                  <a:moveTo>
                    <a:pt x="747" y="490"/>
                  </a:moveTo>
                  <a:lnTo>
                    <a:pt x="697" y="408"/>
                  </a:lnTo>
                  <a:lnTo>
                    <a:pt x="647" y="340"/>
                  </a:lnTo>
                  <a:lnTo>
                    <a:pt x="597" y="254"/>
                  </a:lnTo>
                  <a:lnTo>
                    <a:pt x="443" y="204"/>
                  </a:lnTo>
                  <a:lnTo>
                    <a:pt x="272" y="136"/>
                  </a:lnTo>
                  <a:lnTo>
                    <a:pt x="136" y="8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161720" y="4185360"/>
              <a:ext cx="15480" cy="8640"/>
            </a:xfrm>
            <a:custGeom>
              <a:avLst/>
              <a:gdLst/>
              <a:ahLst/>
              <a:rect l="l" t="t" r="r" b="b"/>
              <a:pathLst>
                <a:path w="272" h="85">
                  <a:moveTo>
                    <a:pt x="272" y="85"/>
                  </a:moveTo>
                  <a:lnTo>
                    <a:pt x="169" y="67"/>
                  </a:lnTo>
                  <a:lnTo>
                    <a:pt x="50" y="3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266120" y="4324680"/>
              <a:ext cx="56160" cy="45000"/>
            </a:xfrm>
            <a:custGeom>
              <a:avLst/>
              <a:gdLst/>
              <a:ahLst/>
              <a:rect l="l" t="t" r="r" b="b"/>
              <a:pathLst>
                <a:path w="953" h="425">
                  <a:moveTo>
                    <a:pt x="0" y="425"/>
                  </a:moveTo>
                  <a:lnTo>
                    <a:pt x="153" y="307"/>
                  </a:lnTo>
                  <a:lnTo>
                    <a:pt x="257" y="221"/>
                  </a:lnTo>
                  <a:lnTo>
                    <a:pt x="392" y="103"/>
                  </a:lnTo>
                  <a:lnTo>
                    <a:pt x="528" y="35"/>
                  </a:lnTo>
                  <a:lnTo>
                    <a:pt x="649" y="0"/>
                  </a:lnTo>
                  <a:lnTo>
                    <a:pt x="818" y="18"/>
                  </a:lnTo>
                  <a:lnTo>
                    <a:pt x="903" y="68"/>
                  </a:lnTo>
                  <a:lnTo>
                    <a:pt x="953" y="10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331640" y="4350960"/>
              <a:ext cx="2880" cy="18720"/>
            </a:xfrm>
            <a:custGeom>
              <a:avLst/>
              <a:gdLst/>
              <a:ahLst/>
              <a:rect l="l" t="t" r="r" b="b"/>
              <a:pathLst>
                <a:path w="50" h="171">
                  <a:moveTo>
                    <a:pt x="35" y="0"/>
                  </a:moveTo>
                  <a:lnTo>
                    <a:pt x="50" y="53"/>
                  </a:lnTo>
                  <a:lnTo>
                    <a:pt x="35" y="121"/>
                  </a:lnTo>
                  <a:lnTo>
                    <a:pt x="0" y="17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327680" y="4323240"/>
              <a:ext cx="27720" cy="29880"/>
            </a:xfrm>
            <a:custGeom>
              <a:avLst/>
              <a:gdLst/>
              <a:ahLst/>
              <a:rect l="l" t="t" r="r" b="b"/>
              <a:pathLst>
                <a:path w="462" h="289">
                  <a:moveTo>
                    <a:pt x="462" y="289"/>
                  </a:moveTo>
                  <a:lnTo>
                    <a:pt x="339" y="154"/>
                  </a:lnTo>
                  <a:lnTo>
                    <a:pt x="258" y="86"/>
                  </a:lnTo>
                  <a:lnTo>
                    <a:pt x="153" y="36"/>
                  </a:lnTo>
                  <a:lnTo>
                    <a:pt x="0" y="0"/>
                  </a:lnTo>
                  <a:lnTo>
                    <a:pt x="136" y="68"/>
                  </a:lnTo>
                  <a:lnTo>
                    <a:pt x="221" y="136"/>
                  </a:lnTo>
                  <a:lnTo>
                    <a:pt x="258" y="189"/>
                  </a:lnTo>
                  <a:lnTo>
                    <a:pt x="289" y="27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078920" y="4470120"/>
              <a:ext cx="58320" cy="82800"/>
            </a:xfrm>
            <a:custGeom>
              <a:avLst/>
              <a:gdLst/>
              <a:ahLst/>
              <a:rect l="l" t="t" r="r" b="b"/>
              <a:pathLst>
                <a:path w="990" h="790">
                  <a:moveTo>
                    <a:pt x="0" y="200"/>
                  </a:moveTo>
                  <a:lnTo>
                    <a:pt x="133" y="657"/>
                  </a:lnTo>
                  <a:lnTo>
                    <a:pt x="198" y="790"/>
                  </a:lnTo>
                  <a:lnTo>
                    <a:pt x="990" y="790"/>
                  </a:lnTo>
                  <a:lnTo>
                    <a:pt x="791" y="265"/>
                  </a:lnTo>
                  <a:lnTo>
                    <a:pt x="530" y="0"/>
                  </a:lnTo>
                  <a:lnTo>
                    <a:pt x="265" y="68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b5b5b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048320" y="4420080"/>
              <a:ext cx="187560" cy="203040"/>
            </a:xfrm>
            <a:custGeom>
              <a:avLst/>
              <a:gdLst/>
              <a:ahLst/>
              <a:rect l="l" t="t" r="r" b="b"/>
              <a:pathLst>
                <a:path w="3152" h="1952">
                  <a:moveTo>
                    <a:pt x="3059" y="1143"/>
                  </a:moveTo>
                  <a:lnTo>
                    <a:pt x="3087" y="1080"/>
                  </a:lnTo>
                  <a:lnTo>
                    <a:pt x="3145" y="940"/>
                  </a:lnTo>
                  <a:lnTo>
                    <a:pt x="3152" y="751"/>
                  </a:lnTo>
                  <a:lnTo>
                    <a:pt x="3127" y="622"/>
                  </a:lnTo>
                  <a:lnTo>
                    <a:pt x="3087" y="486"/>
                  </a:lnTo>
                  <a:lnTo>
                    <a:pt x="3009" y="354"/>
                  </a:lnTo>
                  <a:lnTo>
                    <a:pt x="2909" y="218"/>
                  </a:lnTo>
                  <a:lnTo>
                    <a:pt x="2755" y="92"/>
                  </a:lnTo>
                  <a:lnTo>
                    <a:pt x="2552" y="14"/>
                  </a:lnTo>
                  <a:lnTo>
                    <a:pt x="2366" y="0"/>
                  </a:lnTo>
                  <a:lnTo>
                    <a:pt x="2215" y="50"/>
                  </a:lnTo>
                  <a:lnTo>
                    <a:pt x="2030" y="290"/>
                  </a:lnTo>
                  <a:lnTo>
                    <a:pt x="1701" y="225"/>
                  </a:lnTo>
                  <a:lnTo>
                    <a:pt x="1504" y="160"/>
                  </a:lnTo>
                  <a:lnTo>
                    <a:pt x="1169" y="150"/>
                  </a:lnTo>
                  <a:lnTo>
                    <a:pt x="983" y="200"/>
                  </a:lnTo>
                  <a:lnTo>
                    <a:pt x="779" y="300"/>
                  </a:lnTo>
                  <a:lnTo>
                    <a:pt x="576" y="404"/>
                  </a:lnTo>
                  <a:lnTo>
                    <a:pt x="508" y="436"/>
                  </a:lnTo>
                  <a:lnTo>
                    <a:pt x="439" y="486"/>
                  </a:lnTo>
                  <a:lnTo>
                    <a:pt x="318" y="554"/>
                  </a:lnTo>
                  <a:lnTo>
                    <a:pt x="154" y="622"/>
                  </a:lnTo>
                  <a:lnTo>
                    <a:pt x="204" y="758"/>
                  </a:lnTo>
                  <a:lnTo>
                    <a:pt x="318" y="815"/>
                  </a:lnTo>
                  <a:lnTo>
                    <a:pt x="383" y="815"/>
                  </a:lnTo>
                  <a:lnTo>
                    <a:pt x="647" y="751"/>
                  </a:lnTo>
                  <a:lnTo>
                    <a:pt x="779" y="686"/>
                  </a:lnTo>
                  <a:lnTo>
                    <a:pt x="843" y="686"/>
                  </a:lnTo>
                  <a:lnTo>
                    <a:pt x="915" y="708"/>
                  </a:lnTo>
                  <a:lnTo>
                    <a:pt x="983" y="773"/>
                  </a:lnTo>
                  <a:lnTo>
                    <a:pt x="997" y="890"/>
                  </a:lnTo>
                  <a:lnTo>
                    <a:pt x="976" y="1015"/>
                  </a:lnTo>
                  <a:lnTo>
                    <a:pt x="929" y="1094"/>
                  </a:lnTo>
                  <a:lnTo>
                    <a:pt x="847" y="1162"/>
                  </a:lnTo>
                  <a:lnTo>
                    <a:pt x="712" y="1194"/>
                  </a:lnTo>
                  <a:lnTo>
                    <a:pt x="579" y="1211"/>
                  </a:lnTo>
                  <a:lnTo>
                    <a:pt x="514" y="1211"/>
                  </a:lnTo>
                  <a:lnTo>
                    <a:pt x="383" y="1143"/>
                  </a:lnTo>
                  <a:lnTo>
                    <a:pt x="186" y="1094"/>
                  </a:lnTo>
                  <a:lnTo>
                    <a:pt x="50" y="1126"/>
                  </a:lnTo>
                  <a:lnTo>
                    <a:pt x="0" y="1162"/>
                  </a:lnTo>
                  <a:lnTo>
                    <a:pt x="0" y="1279"/>
                  </a:lnTo>
                  <a:lnTo>
                    <a:pt x="118" y="1341"/>
                  </a:lnTo>
                  <a:lnTo>
                    <a:pt x="204" y="1480"/>
                  </a:lnTo>
                  <a:lnTo>
                    <a:pt x="318" y="1540"/>
                  </a:lnTo>
                  <a:lnTo>
                    <a:pt x="579" y="1605"/>
                  </a:lnTo>
                  <a:lnTo>
                    <a:pt x="661" y="1734"/>
                  </a:lnTo>
                  <a:lnTo>
                    <a:pt x="811" y="1802"/>
                  </a:lnTo>
                  <a:lnTo>
                    <a:pt x="983" y="1802"/>
                  </a:lnTo>
                  <a:lnTo>
                    <a:pt x="1014" y="1920"/>
                  </a:lnTo>
                  <a:lnTo>
                    <a:pt x="1183" y="1952"/>
                  </a:lnTo>
                  <a:lnTo>
                    <a:pt x="1368" y="1952"/>
                  </a:lnTo>
                  <a:lnTo>
                    <a:pt x="1569" y="1934"/>
                  </a:lnTo>
                  <a:lnTo>
                    <a:pt x="1758" y="1902"/>
                  </a:lnTo>
                  <a:lnTo>
                    <a:pt x="1926" y="1802"/>
                  </a:lnTo>
                  <a:lnTo>
                    <a:pt x="2044" y="1734"/>
                  </a:lnTo>
                  <a:lnTo>
                    <a:pt x="2362" y="1472"/>
                  </a:lnTo>
                  <a:lnTo>
                    <a:pt x="2494" y="1276"/>
                  </a:lnTo>
                  <a:lnTo>
                    <a:pt x="2655" y="1211"/>
                  </a:lnTo>
                  <a:lnTo>
                    <a:pt x="2959" y="1176"/>
                  </a:lnTo>
                  <a:lnTo>
                    <a:pt x="3059" y="114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059120" y="4491720"/>
              <a:ext cx="31320" cy="67680"/>
            </a:xfrm>
            <a:custGeom>
              <a:avLst/>
              <a:gdLst/>
              <a:ahLst/>
              <a:rect l="l" t="t" r="r" b="b"/>
              <a:pathLst>
                <a:path w="521" h="655">
                  <a:moveTo>
                    <a:pt x="0" y="329"/>
                  </a:moveTo>
                  <a:lnTo>
                    <a:pt x="3" y="265"/>
                  </a:lnTo>
                  <a:lnTo>
                    <a:pt x="18" y="208"/>
                  </a:lnTo>
                  <a:lnTo>
                    <a:pt x="39" y="154"/>
                  </a:lnTo>
                  <a:lnTo>
                    <a:pt x="68" y="104"/>
                  </a:lnTo>
                  <a:lnTo>
                    <a:pt x="104" y="65"/>
                  </a:lnTo>
                  <a:lnTo>
                    <a:pt x="146" y="32"/>
                  </a:lnTo>
                  <a:lnTo>
                    <a:pt x="189" y="11"/>
                  </a:lnTo>
                  <a:lnTo>
                    <a:pt x="239" y="0"/>
                  </a:lnTo>
                  <a:lnTo>
                    <a:pt x="289" y="0"/>
                  </a:lnTo>
                  <a:lnTo>
                    <a:pt x="335" y="14"/>
                  </a:lnTo>
                  <a:lnTo>
                    <a:pt x="382" y="36"/>
                  </a:lnTo>
                  <a:lnTo>
                    <a:pt x="421" y="68"/>
                  </a:lnTo>
                  <a:lnTo>
                    <a:pt x="461" y="112"/>
                  </a:lnTo>
                  <a:lnTo>
                    <a:pt x="489" y="161"/>
                  </a:lnTo>
                  <a:lnTo>
                    <a:pt x="507" y="218"/>
                  </a:lnTo>
                  <a:lnTo>
                    <a:pt x="518" y="276"/>
                  </a:lnTo>
                  <a:lnTo>
                    <a:pt x="521" y="336"/>
                  </a:lnTo>
                  <a:lnTo>
                    <a:pt x="518" y="397"/>
                  </a:lnTo>
                  <a:lnTo>
                    <a:pt x="504" y="457"/>
                  </a:lnTo>
                  <a:lnTo>
                    <a:pt x="479" y="512"/>
                  </a:lnTo>
                  <a:lnTo>
                    <a:pt x="446" y="558"/>
                  </a:lnTo>
                  <a:lnTo>
                    <a:pt x="411" y="597"/>
                  </a:lnTo>
                  <a:lnTo>
                    <a:pt x="368" y="630"/>
                  </a:lnTo>
                  <a:lnTo>
                    <a:pt x="322" y="648"/>
                  </a:lnTo>
                  <a:lnTo>
                    <a:pt x="275" y="655"/>
                  </a:lnTo>
                  <a:lnTo>
                    <a:pt x="225" y="655"/>
                  </a:lnTo>
                  <a:lnTo>
                    <a:pt x="175" y="640"/>
                  </a:lnTo>
                  <a:lnTo>
                    <a:pt x="132" y="615"/>
                  </a:lnTo>
                  <a:lnTo>
                    <a:pt x="89" y="580"/>
                  </a:lnTo>
                  <a:lnTo>
                    <a:pt x="57" y="537"/>
                  </a:lnTo>
                  <a:lnTo>
                    <a:pt x="32" y="482"/>
                  </a:lnTo>
                  <a:lnTo>
                    <a:pt x="11" y="429"/>
                  </a:lnTo>
                  <a:lnTo>
                    <a:pt x="0" y="369"/>
                  </a:lnTo>
                  <a:lnTo>
                    <a:pt x="0" y="329"/>
                  </a:lnTo>
                  <a:close/>
                </a:path>
              </a:pathLst>
            </a:custGeom>
            <a:solidFill>
              <a:srgbClr val="006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111680" y="4470120"/>
              <a:ext cx="120600" cy="147960"/>
            </a:xfrm>
            <a:custGeom>
              <a:avLst/>
              <a:gdLst/>
              <a:ahLst/>
              <a:rect l="l" t="t" r="r" b="b"/>
              <a:pathLst>
                <a:path w="2030" h="1416">
                  <a:moveTo>
                    <a:pt x="1944" y="640"/>
                  </a:moveTo>
                  <a:lnTo>
                    <a:pt x="2012" y="522"/>
                  </a:lnTo>
                  <a:lnTo>
                    <a:pt x="2030" y="404"/>
                  </a:lnTo>
                  <a:lnTo>
                    <a:pt x="2012" y="169"/>
                  </a:lnTo>
                  <a:lnTo>
                    <a:pt x="1944" y="0"/>
                  </a:lnTo>
                  <a:lnTo>
                    <a:pt x="1858" y="154"/>
                  </a:lnTo>
                  <a:lnTo>
                    <a:pt x="1690" y="169"/>
                  </a:lnTo>
                  <a:lnTo>
                    <a:pt x="1472" y="169"/>
                  </a:lnTo>
                  <a:lnTo>
                    <a:pt x="1386" y="136"/>
                  </a:lnTo>
                  <a:lnTo>
                    <a:pt x="1297" y="329"/>
                  </a:lnTo>
                  <a:lnTo>
                    <a:pt x="1133" y="236"/>
                  </a:lnTo>
                  <a:lnTo>
                    <a:pt x="1133" y="322"/>
                  </a:lnTo>
                  <a:lnTo>
                    <a:pt x="1065" y="590"/>
                  </a:lnTo>
                  <a:lnTo>
                    <a:pt x="1065" y="657"/>
                  </a:lnTo>
                  <a:lnTo>
                    <a:pt x="979" y="861"/>
                  </a:lnTo>
                  <a:lnTo>
                    <a:pt x="879" y="1029"/>
                  </a:lnTo>
                  <a:lnTo>
                    <a:pt x="711" y="1097"/>
                  </a:lnTo>
                  <a:lnTo>
                    <a:pt x="371" y="1119"/>
                  </a:lnTo>
                  <a:lnTo>
                    <a:pt x="236" y="1112"/>
                  </a:lnTo>
                  <a:lnTo>
                    <a:pt x="118" y="1112"/>
                  </a:lnTo>
                  <a:lnTo>
                    <a:pt x="50" y="1112"/>
                  </a:lnTo>
                  <a:lnTo>
                    <a:pt x="85" y="1162"/>
                  </a:lnTo>
                  <a:lnTo>
                    <a:pt x="153" y="1230"/>
                  </a:lnTo>
                  <a:lnTo>
                    <a:pt x="271" y="1265"/>
                  </a:lnTo>
                  <a:lnTo>
                    <a:pt x="85" y="1298"/>
                  </a:lnTo>
                  <a:lnTo>
                    <a:pt x="0" y="1280"/>
                  </a:lnTo>
                  <a:lnTo>
                    <a:pt x="17" y="1383"/>
                  </a:lnTo>
                  <a:lnTo>
                    <a:pt x="85" y="1416"/>
                  </a:lnTo>
                  <a:lnTo>
                    <a:pt x="236" y="1416"/>
                  </a:lnTo>
                  <a:lnTo>
                    <a:pt x="439" y="1398"/>
                  </a:lnTo>
                  <a:lnTo>
                    <a:pt x="711" y="1348"/>
                  </a:lnTo>
                  <a:lnTo>
                    <a:pt x="965" y="1198"/>
                  </a:lnTo>
                  <a:lnTo>
                    <a:pt x="1201" y="1029"/>
                  </a:lnTo>
                  <a:lnTo>
                    <a:pt x="1319" y="861"/>
                  </a:lnTo>
                  <a:lnTo>
                    <a:pt x="1437" y="708"/>
                  </a:lnTo>
                  <a:lnTo>
                    <a:pt x="1605" y="676"/>
                  </a:lnTo>
                  <a:lnTo>
                    <a:pt x="1944" y="640"/>
                  </a:lnTo>
                  <a:close/>
                </a:path>
              </a:pathLst>
            </a:custGeom>
            <a:solidFill>
              <a:srgbClr val="b5b5b5"/>
            </a:solidFill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144800" y="4433760"/>
              <a:ext cx="63360" cy="156600"/>
            </a:xfrm>
            <a:custGeom>
              <a:avLst/>
              <a:gdLst/>
              <a:ahLst/>
              <a:rect l="l" t="t" r="r" b="b"/>
              <a:pathLst>
                <a:path w="1069" h="1501">
                  <a:moveTo>
                    <a:pt x="644" y="1416"/>
                  </a:moveTo>
                  <a:lnTo>
                    <a:pt x="729" y="1280"/>
                  </a:lnTo>
                  <a:lnTo>
                    <a:pt x="762" y="1079"/>
                  </a:lnTo>
                  <a:lnTo>
                    <a:pt x="711" y="876"/>
                  </a:lnTo>
                  <a:lnTo>
                    <a:pt x="644" y="676"/>
                  </a:lnTo>
                  <a:lnTo>
                    <a:pt x="526" y="490"/>
                  </a:lnTo>
                  <a:lnTo>
                    <a:pt x="408" y="354"/>
                  </a:lnTo>
                  <a:lnTo>
                    <a:pt x="289" y="222"/>
                  </a:lnTo>
                  <a:lnTo>
                    <a:pt x="211" y="158"/>
                  </a:lnTo>
                  <a:lnTo>
                    <a:pt x="15" y="93"/>
                  </a:lnTo>
                  <a:lnTo>
                    <a:pt x="0" y="50"/>
                  </a:lnTo>
                  <a:lnTo>
                    <a:pt x="86" y="18"/>
                  </a:lnTo>
                  <a:lnTo>
                    <a:pt x="272" y="0"/>
                  </a:lnTo>
                  <a:lnTo>
                    <a:pt x="440" y="36"/>
                  </a:lnTo>
                  <a:lnTo>
                    <a:pt x="540" y="93"/>
                  </a:lnTo>
                  <a:lnTo>
                    <a:pt x="744" y="286"/>
                  </a:lnTo>
                  <a:lnTo>
                    <a:pt x="880" y="472"/>
                  </a:lnTo>
                  <a:lnTo>
                    <a:pt x="1001" y="683"/>
                  </a:lnTo>
                  <a:lnTo>
                    <a:pt x="1048" y="808"/>
                  </a:lnTo>
                  <a:lnTo>
                    <a:pt x="1069" y="948"/>
                  </a:lnTo>
                  <a:lnTo>
                    <a:pt x="1048" y="1112"/>
                  </a:lnTo>
                  <a:lnTo>
                    <a:pt x="965" y="1280"/>
                  </a:lnTo>
                  <a:lnTo>
                    <a:pt x="880" y="1398"/>
                  </a:lnTo>
                  <a:lnTo>
                    <a:pt x="794" y="1466"/>
                  </a:lnTo>
                  <a:lnTo>
                    <a:pt x="593" y="1501"/>
                  </a:lnTo>
                  <a:lnTo>
                    <a:pt x="593" y="1466"/>
                  </a:lnTo>
                  <a:lnTo>
                    <a:pt x="644" y="1416"/>
                  </a:lnTo>
                  <a:close/>
                </a:path>
              </a:pathLst>
            </a:custGeom>
            <a:solidFill>
              <a:srgbClr val="ce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725840" y="4072320"/>
              <a:ext cx="49320" cy="85320"/>
            </a:xfrm>
            <a:custGeom>
              <a:avLst/>
              <a:gdLst/>
              <a:ahLst/>
              <a:rect l="l" t="t" r="r" b="b"/>
              <a:pathLst>
                <a:path w="830" h="815">
                  <a:moveTo>
                    <a:pt x="0" y="544"/>
                  </a:moveTo>
                  <a:lnTo>
                    <a:pt x="22" y="629"/>
                  </a:lnTo>
                  <a:lnTo>
                    <a:pt x="168" y="586"/>
                  </a:lnTo>
                  <a:lnTo>
                    <a:pt x="261" y="619"/>
                  </a:lnTo>
                  <a:lnTo>
                    <a:pt x="272" y="815"/>
                  </a:lnTo>
                  <a:lnTo>
                    <a:pt x="483" y="794"/>
                  </a:lnTo>
                  <a:lnTo>
                    <a:pt x="462" y="598"/>
                  </a:lnTo>
                  <a:lnTo>
                    <a:pt x="548" y="526"/>
                  </a:lnTo>
                  <a:lnTo>
                    <a:pt x="722" y="641"/>
                  </a:lnTo>
                  <a:lnTo>
                    <a:pt x="830" y="473"/>
                  </a:lnTo>
                  <a:lnTo>
                    <a:pt x="640" y="369"/>
                  </a:lnTo>
                  <a:lnTo>
                    <a:pt x="598" y="272"/>
                  </a:lnTo>
                  <a:lnTo>
                    <a:pt x="711" y="108"/>
                  </a:lnTo>
                  <a:lnTo>
                    <a:pt x="548" y="5"/>
                  </a:lnTo>
                  <a:lnTo>
                    <a:pt x="430" y="158"/>
                  </a:lnTo>
                  <a:lnTo>
                    <a:pt x="304" y="136"/>
                  </a:lnTo>
                  <a:lnTo>
                    <a:pt x="201" y="0"/>
                  </a:lnTo>
                  <a:lnTo>
                    <a:pt x="33" y="136"/>
                  </a:lnTo>
                  <a:lnTo>
                    <a:pt x="126" y="254"/>
                  </a:lnTo>
                  <a:lnTo>
                    <a:pt x="115" y="347"/>
                  </a:lnTo>
                  <a:lnTo>
                    <a:pt x="315" y="294"/>
                  </a:lnTo>
                  <a:lnTo>
                    <a:pt x="379" y="326"/>
                  </a:lnTo>
                  <a:lnTo>
                    <a:pt x="397" y="394"/>
                  </a:lnTo>
                  <a:lnTo>
                    <a:pt x="390" y="408"/>
                  </a:lnTo>
                  <a:lnTo>
                    <a:pt x="347" y="451"/>
                  </a:lnTo>
                  <a:lnTo>
                    <a:pt x="0" y="54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097640" y="4487760"/>
              <a:ext cx="16200" cy="6120"/>
            </a:xfrm>
            <a:custGeom>
              <a:avLst/>
              <a:gdLst/>
              <a:ahLst/>
              <a:rect l="l" t="t" r="r" b="b"/>
              <a:pathLst>
                <a:path w="273" h="53">
                  <a:moveTo>
                    <a:pt x="273" y="0"/>
                  </a:moveTo>
                  <a:lnTo>
                    <a:pt x="0" y="35"/>
                  </a:lnTo>
                  <a:lnTo>
                    <a:pt x="186" y="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083240" y="4587120"/>
              <a:ext cx="33480" cy="1080"/>
            </a:xfrm>
            <a:custGeom>
              <a:avLst/>
              <a:gdLst/>
              <a:ahLst/>
              <a:rect l="l" t="t" r="r" b="b"/>
              <a:pathLst>
                <a:path w="556" h="18">
                  <a:moveTo>
                    <a:pt x="556" y="0"/>
                  </a:moveTo>
                  <a:lnTo>
                    <a:pt x="321" y="18"/>
                  </a:lnTo>
                  <a:lnTo>
                    <a:pt x="118" y="18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102680" y="4608360"/>
              <a:ext cx="19080" cy="1080"/>
            </a:xfrm>
            <a:custGeom>
              <a:avLst/>
              <a:gdLst/>
              <a:ahLst/>
              <a:rect l="l" t="t" r="r" b="b"/>
              <a:pathLst>
                <a:path w="329" h="0">
                  <a:moveTo>
                    <a:pt x="329" y="0"/>
                  </a:moveTo>
                  <a:lnTo>
                    <a:pt x="65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125360" y="4620960"/>
              <a:ext cx="82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61760" y="4749120"/>
              <a:ext cx="56160" cy="65160"/>
            </a:xfrm>
            <a:custGeom>
              <a:avLst/>
              <a:gdLst/>
              <a:ahLst/>
              <a:rect l="l" t="t" r="r" b="b"/>
              <a:pathLst>
                <a:path w="947" h="626">
                  <a:moveTo>
                    <a:pt x="947" y="300"/>
                  </a:moveTo>
                  <a:lnTo>
                    <a:pt x="472" y="68"/>
                  </a:lnTo>
                  <a:lnTo>
                    <a:pt x="318" y="33"/>
                  </a:lnTo>
                  <a:lnTo>
                    <a:pt x="186" y="0"/>
                  </a:lnTo>
                  <a:lnTo>
                    <a:pt x="100" y="15"/>
                  </a:lnTo>
                  <a:lnTo>
                    <a:pt x="50" y="15"/>
                  </a:lnTo>
                  <a:lnTo>
                    <a:pt x="0" y="68"/>
                  </a:lnTo>
                  <a:lnTo>
                    <a:pt x="0" y="300"/>
                  </a:lnTo>
                  <a:lnTo>
                    <a:pt x="32" y="337"/>
                  </a:lnTo>
                  <a:lnTo>
                    <a:pt x="118" y="387"/>
                  </a:lnTo>
                  <a:lnTo>
                    <a:pt x="321" y="418"/>
                  </a:lnTo>
                  <a:lnTo>
                    <a:pt x="640" y="522"/>
                  </a:lnTo>
                  <a:lnTo>
                    <a:pt x="779" y="626"/>
                  </a:lnTo>
                  <a:lnTo>
                    <a:pt x="947" y="300"/>
                  </a:lnTo>
                  <a:close/>
                </a:path>
              </a:pathLst>
            </a:custGeom>
            <a:solidFill>
              <a:srgbClr val="ce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00280" y="4786560"/>
              <a:ext cx="30600" cy="69120"/>
            </a:xfrm>
            <a:custGeom>
              <a:avLst/>
              <a:gdLst/>
              <a:ahLst/>
              <a:rect l="l" t="t" r="r" b="b"/>
              <a:pathLst>
                <a:path w="521" h="654">
                  <a:moveTo>
                    <a:pt x="0" y="328"/>
                  </a:moveTo>
                  <a:lnTo>
                    <a:pt x="3" y="264"/>
                  </a:lnTo>
                  <a:lnTo>
                    <a:pt x="18" y="206"/>
                  </a:lnTo>
                  <a:lnTo>
                    <a:pt x="39" y="153"/>
                  </a:lnTo>
                  <a:lnTo>
                    <a:pt x="68" y="103"/>
                  </a:lnTo>
                  <a:lnTo>
                    <a:pt x="104" y="63"/>
                  </a:lnTo>
                  <a:lnTo>
                    <a:pt x="146" y="31"/>
                  </a:lnTo>
                  <a:lnTo>
                    <a:pt x="189" y="10"/>
                  </a:lnTo>
                  <a:lnTo>
                    <a:pt x="239" y="0"/>
                  </a:lnTo>
                  <a:lnTo>
                    <a:pt x="290" y="0"/>
                  </a:lnTo>
                  <a:lnTo>
                    <a:pt x="336" y="13"/>
                  </a:lnTo>
                  <a:lnTo>
                    <a:pt x="383" y="35"/>
                  </a:lnTo>
                  <a:lnTo>
                    <a:pt x="422" y="68"/>
                  </a:lnTo>
                  <a:lnTo>
                    <a:pt x="461" y="110"/>
                  </a:lnTo>
                  <a:lnTo>
                    <a:pt x="490" y="160"/>
                  </a:lnTo>
                  <a:lnTo>
                    <a:pt x="508" y="217"/>
                  </a:lnTo>
                  <a:lnTo>
                    <a:pt x="518" y="274"/>
                  </a:lnTo>
                  <a:lnTo>
                    <a:pt x="521" y="335"/>
                  </a:lnTo>
                  <a:lnTo>
                    <a:pt x="518" y="396"/>
                  </a:lnTo>
                  <a:lnTo>
                    <a:pt x="504" y="457"/>
                  </a:lnTo>
                  <a:lnTo>
                    <a:pt x="479" y="510"/>
                  </a:lnTo>
                  <a:lnTo>
                    <a:pt x="447" y="556"/>
                  </a:lnTo>
                  <a:lnTo>
                    <a:pt x="411" y="596"/>
                  </a:lnTo>
                  <a:lnTo>
                    <a:pt x="368" y="629"/>
                  </a:lnTo>
                  <a:lnTo>
                    <a:pt x="322" y="646"/>
                  </a:lnTo>
                  <a:lnTo>
                    <a:pt x="275" y="654"/>
                  </a:lnTo>
                  <a:lnTo>
                    <a:pt x="225" y="654"/>
                  </a:lnTo>
                  <a:lnTo>
                    <a:pt x="175" y="639"/>
                  </a:lnTo>
                  <a:lnTo>
                    <a:pt x="132" y="614"/>
                  </a:lnTo>
                  <a:lnTo>
                    <a:pt x="89" y="578"/>
                  </a:lnTo>
                  <a:lnTo>
                    <a:pt x="58" y="536"/>
                  </a:lnTo>
                  <a:lnTo>
                    <a:pt x="33" y="482"/>
                  </a:lnTo>
                  <a:lnTo>
                    <a:pt x="11" y="428"/>
                  </a:lnTo>
                  <a:lnTo>
                    <a:pt x="0" y="367"/>
                  </a:lnTo>
                  <a:lnTo>
                    <a:pt x="0" y="328"/>
                  </a:lnTo>
                  <a:close/>
                </a:path>
              </a:pathLst>
            </a:custGeom>
            <a:solidFill>
              <a:srgbClr val="006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43280" y="4899600"/>
              <a:ext cx="196200" cy="402840"/>
            </a:xfrm>
            <a:custGeom>
              <a:avLst/>
              <a:gdLst/>
              <a:ahLst/>
              <a:rect l="l" t="t" r="r" b="b"/>
              <a:pathLst>
                <a:path w="3299" h="3852">
                  <a:moveTo>
                    <a:pt x="407" y="407"/>
                  </a:moveTo>
                  <a:lnTo>
                    <a:pt x="651" y="221"/>
                  </a:lnTo>
                  <a:lnTo>
                    <a:pt x="929" y="128"/>
                  </a:lnTo>
                  <a:lnTo>
                    <a:pt x="1191" y="71"/>
                  </a:lnTo>
                  <a:lnTo>
                    <a:pt x="1523" y="17"/>
                  </a:lnTo>
                  <a:lnTo>
                    <a:pt x="1709" y="0"/>
                  </a:lnTo>
                  <a:lnTo>
                    <a:pt x="1952" y="17"/>
                  </a:lnTo>
                  <a:lnTo>
                    <a:pt x="2045" y="42"/>
                  </a:lnTo>
                  <a:lnTo>
                    <a:pt x="2109" y="239"/>
                  </a:lnTo>
                  <a:lnTo>
                    <a:pt x="2119" y="443"/>
                  </a:lnTo>
                  <a:lnTo>
                    <a:pt x="2309" y="896"/>
                  </a:lnTo>
                  <a:lnTo>
                    <a:pt x="2505" y="1750"/>
                  </a:lnTo>
                  <a:lnTo>
                    <a:pt x="2573" y="2012"/>
                  </a:lnTo>
                  <a:lnTo>
                    <a:pt x="2638" y="2147"/>
                  </a:lnTo>
                  <a:lnTo>
                    <a:pt x="2770" y="2144"/>
                  </a:lnTo>
                  <a:lnTo>
                    <a:pt x="2880" y="2201"/>
                  </a:lnTo>
                  <a:lnTo>
                    <a:pt x="2902" y="2276"/>
                  </a:lnTo>
                  <a:lnTo>
                    <a:pt x="2863" y="2516"/>
                  </a:lnTo>
                  <a:lnTo>
                    <a:pt x="3034" y="2934"/>
                  </a:lnTo>
                  <a:lnTo>
                    <a:pt x="3195" y="3331"/>
                  </a:lnTo>
                  <a:lnTo>
                    <a:pt x="3252" y="3517"/>
                  </a:lnTo>
                  <a:lnTo>
                    <a:pt x="3299" y="3852"/>
                  </a:lnTo>
                  <a:lnTo>
                    <a:pt x="1648" y="3721"/>
                  </a:lnTo>
                  <a:lnTo>
                    <a:pt x="65" y="3130"/>
                  </a:lnTo>
                  <a:lnTo>
                    <a:pt x="0" y="2605"/>
                  </a:lnTo>
                  <a:lnTo>
                    <a:pt x="129" y="2444"/>
                  </a:lnTo>
                  <a:lnTo>
                    <a:pt x="197" y="2409"/>
                  </a:lnTo>
                  <a:lnTo>
                    <a:pt x="529" y="2144"/>
                  </a:lnTo>
                  <a:lnTo>
                    <a:pt x="726" y="1947"/>
                  </a:lnTo>
                  <a:lnTo>
                    <a:pt x="726" y="1750"/>
                  </a:lnTo>
                  <a:lnTo>
                    <a:pt x="575" y="1036"/>
                  </a:lnTo>
                  <a:lnTo>
                    <a:pt x="447" y="571"/>
                  </a:lnTo>
                  <a:lnTo>
                    <a:pt x="407" y="407"/>
                  </a:lnTo>
                  <a:close/>
                </a:path>
              </a:pathLst>
            </a:custGeom>
            <a:solidFill>
              <a:srgbClr val="006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246680" y="4786560"/>
              <a:ext cx="215640" cy="399240"/>
            </a:xfrm>
            <a:custGeom>
              <a:avLst/>
              <a:gdLst/>
              <a:ahLst/>
              <a:rect l="l" t="t" r="r" b="b"/>
              <a:pathLst>
                <a:path w="3624" h="3817">
                  <a:moveTo>
                    <a:pt x="1523" y="35"/>
                  </a:moveTo>
                  <a:lnTo>
                    <a:pt x="1393" y="0"/>
                  </a:lnTo>
                  <a:lnTo>
                    <a:pt x="1133" y="17"/>
                  </a:lnTo>
                  <a:lnTo>
                    <a:pt x="797" y="93"/>
                  </a:lnTo>
                  <a:lnTo>
                    <a:pt x="404" y="264"/>
                  </a:lnTo>
                  <a:lnTo>
                    <a:pt x="207" y="392"/>
                  </a:lnTo>
                  <a:lnTo>
                    <a:pt x="53" y="518"/>
                  </a:lnTo>
                  <a:lnTo>
                    <a:pt x="0" y="611"/>
                  </a:lnTo>
                  <a:lnTo>
                    <a:pt x="207" y="986"/>
                  </a:lnTo>
                  <a:lnTo>
                    <a:pt x="354" y="1257"/>
                  </a:lnTo>
                  <a:lnTo>
                    <a:pt x="540" y="1519"/>
                  </a:lnTo>
                  <a:lnTo>
                    <a:pt x="536" y="1576"/>
                  </a:lnTo>
                  <a:lnTo>
                    <a:pt x="601" y="1776"/>
                  </a:lnTo>
                  <a:lnTo>
                    <a:pt x="669" y="1904"/>
                  </a:lnTo>
                  <a:lnTo>
                    <a:pt x="611" y="2240"/>
                  </a:lnTo>
                  <a:lnTo>
                    <a:pt x="540" y="2409"/>
                  </a:lnTo>
                  <a:lnTo>
                    <a:pt x="472" y="2759"/>
                  </a:lnTo>
                  <a:lnTo>
                    <a:pt x="1858" y="3480"/>
                  </a:lnTo>
                  <a:lnTo>
                    <a:pt x="3381" y="3817"/>
                  </a:lnTo>
                  <a:lnTo>
                    <a:pt x="3624" y="3724"/>
                  </a:lnTo>
                  <a:lnTo>
                    <a:pt x="3606" y="3520"/>
                  </a:lnTo>
                  <a:lnTo>
                    <a:pt x="3438" y="3463"/>
                  </a:lnTo>
                  <a:lnTo>
                    <a:pt x="3174" y="3088"/>
                  </a:lnTo>
                  <a:lnTo>
                    <a:pt x="3041" y="2891"/>
                  </a:lnTo>
                  <a:lnTo>
                    <a:pt x="2909" y="2429"/>
                  </a:lnTo>
                  <a:lnTo>
                    <a:pt x="2788" y="2369"/>
                  </a:lnTo>
                  <a:lnTo>
                    <a:pt x="2602" y="1983"/>
                  </a:lnTo>
                  <a:lnTo>
                    <a:pt x="2516" y="1708"/>
                  </a:lnTo>
                  <a:lnTo>
                    <a:pt x="2380" y="1443"/>
                  </a:lnTo>
                  <a:lnTo>
                    <a:pt x="2080" y="1111"/>
                  </a:lnTo>
                  <a:lnTo>
                    <a:pt x="1951" y="925"/>
                  </a:lnTo>
                  <a:lnTo>
                    <a:pt x="1895" y="721"/>
                  </a:lnTo>
                  <a:lnTo>
                    <a:pt x="1659" y="264"/>
                  </a:lnTo>
                  <a:lnTo>
                    <a:pt x="1591" y="131"/>
                  </a:lnTo>
                  <a:lnTo>
                    <a:pt x="1523" y="35"/>
                  </a:lnTo>
                  <a:close/>
                </a:path>
              </a:pathLst>
            </a:custGeom>
            <a:solidFill>
              <a:srgbClr val="006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200240" y="5130720"/>
              <a:ext cx="11160" cy="33840"/>
            </a:xfrm>
            <a:custGeom>
              <a:avLst/>
              <a:gdLst/>
              <a:ahLst/>
              <a:rect l="l" t="t" r="r" b="b"/>
              <a:pathLst>
                <a:path w="196" h="329">
                  <a:moveTo>
                    <a:pt x="0" y="0"/>
                  </a:moveTo>
                  <a:lnTo>
                    <a:pt x="64" y="201"/>
                  </a:lnTo>
                  <a:lnTo>
                    <a:pt x="132" y="329"/>
                  </a:lnTo>
                  <a:lnTo>
                    <a:pt x="196" y="133"/>
                  </a:lnTo>
                  <a:lnTo>
                    <a:pt x="196" y="68"/>
                  </a:lnTo>
                  <a:lnTo>
                    <a:pt x="13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413360" y="5040360"/>
              <a:ext cx="9720" cy="42480"/>
            </a:xfrm>
            <a:custGeom>
              <a:avLst/>
              <a:gdLst/>
              <a:ahLst/>
              <a:rect l="l" t="t" r="r" b="b"/>
              <a:pathLst>
                <a:path w="168" h="408">
                  <a:moveTo>
                    <a:pt x="168" y="408"/>
                  </a:moveTo>
                  <a:lnTo>
                    <a:pt x="110" y="58"/>
                  </a:lnTo>
                  <a:lnTo>
                    <a:pt x="0" y="0"/>
                  </a:lnTo>
                  <a:lnTo>
                    <a:pt x="93" y="204"/>
                  </a:lnTo>
                  <a:lnTo>
                    <a:pt x="121" y="400"/>
                  </a:lnTo>
                  <a:lnTo>
                    <a:pt x="168" y="40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324440" y="4814280"/>
              <a:ext cx="42840" cy="61200"/>
            </a:xfrm>
            <a:custGeom>
              <a:avLst/>
              <a:gdLst/>
              <a:ahLst/>
              <a:rect l="l" t="t" r="r" b="b"/>
              <a:pathLst>
                <a:path w="724" h="593">
                  <a:moveTo>
                    <a:pt x="617" y="593"/>
                  </a:moveTo>
                  <a:lnTo>
                    <a:pt x="685" y="500"/>
                  </a:lnTo>
                  <a:lnTo>
                    <a:pt x="724" y="386"/>
                  </a:lnTo>
                  <a:lnTo>
                    <a:pt x="631" y="129"/>
                  </a:lnTo>
                  <a:lnTo>
                    <a:pt x="556" y="36"/>
                  </a:lnTo>
                  <a:lnTo>
                    <a:pt x="353" y="0"/>
                  </a:lnTo>
                  <a:lnTo>
                    <a:pt x="156" y="4"/>
                  </a:lnTo>
                  <a:lnTo>
                    <a:pt x="53" y="0"/>
                  </a:lnTo>
                  <a:lnTo>
                    <a:pt x="0" y="54"/>
                  </a:lnTo>
                  <a:lnTo>
                    <a:pt x="128" y="386"/>
                  </a:lnTo>
                  <a:lnTo>
                    <a:pt x="335" y="351"/>
                  </a:lnTo>
                  <a:lnTo>
                    <a:pt x="556" y="386"/>
                  </a:lnTo>
                  <a:lnTo>
                    <a:pt x="617" y="59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341720" y="4889520"/>
              <a:ext cx="50400" cy="48960"/>
            </a:xfrm>
            <a:custGeom>
              <a:avLst/>
              <a:gdLst/>
              <a:ahLst/>
              <a:rect l="l" t="t" r="r" b="b"/>
              <a:pathLst>
                <a:path w="850" h="463">
                  <a:moveTo>
                    <a:pt x="0" y="71"/>
                  </a:moveTo>
                  <a:lnTo>
                    <a:pt x="57" y="35"/>
                  </a:lnTo>
                  <a:lnTo>
                    <a:pt x="521" y="0"/>
                  </a:lnTo>
                  <a:lnTo>
                    <a:pt x="650" y="17"/>
                  </a:lnTo>
                  <a:lnTo>
                    <a:pt x="850" y="332"/>
                  </a:lnTo>
                  <a:lnTo>
                    <a:pt x="785" y="463"/>
                  </a:lnTo>
                  <a:lnTo>
                    <a:pt x="689" y="367"/>
                  </a:lnTo>
                  <a:lnTo>
                    <a:pt x="504" y="389"/>
                  </a:lnTo>
                  <a:lnTo>
                    <a:pt x="185" y="425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298160" y="4944960"/>
              <a:ext cx="98280" cy="68760"/>
            </a:xfrm>
            <a:custGeom>
              <a:avLst/>
              <a:gdLst/>
              <a:ahLst/>
              <a:rect l="l" t="t" r="r" b="b"/>
              <a:pathLst>
                <a:path w="1651" h="658">
                  <a:moveTo>
                    <a:pt x="1254" y="461"/>
                  </a:moveTo>
                  <a:lnTo>
                    <a:pt x="1451" y="526"/>
                  </a:lnTo>
                  <a:lnTo>
                    <a:pt x="1583" y="658"/>
                  </a:lnTo>
                  <a:lnTo>
                    <a:pt x="1651" y="594"/>
                  </a:lnTo>
                  <a:lnTo>
                    <a:pt x="1586" y="472"/>
                  </a:lnTo>
                  <a:lnTo>
                    <a:pt x="1476" y="340"/>
                  </a:lnTo>
                  <a:lnTo>
                    <a:pt x="1308" y="211"/>
                  </a:lnTo>
                  <a:lnTo>
                    <a:pt x="1030" y="65"/>
                  </a:lnTo>
                  <a:lnTo>
                    <a:pt x="794" y="0"/>
                  </a:lnTo>
                  <a:lnTo>
                    <a:pt x="528" y="0"/>
                  </a:lnTo>
                  <a:lnTo>
                    <a:pt x="361" y="65"/>
                  </a:lnTo>
                  <a:lnTo>
                    <a:pt x="211" y="136"/>
                  </a:lnTo>
                  <a:lnTo>
                    <a:pt x="133" y="197"/>
                  </a:lnTo>
                  <a:lnTo>
                    <a:pt x="0" y="329"/>
                  </a:lnTo>
                  <a:lnTo>
                    <a:pt x="1254" y="461"/>
                  </a:lnTo>
                  <a:close/>
                </a:path>
              </a:pathLst>
            </a:custGeom>
            <a:solidFill>
              <a:srgbClr val="ce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279080" y="4956120"/>
              <a:ext cx="94680" cy="71280"/>
            </a:xfrm>
            <a:custGeom>
              <a:avLst/>
              <a:gdLst/>
              <a:ahLst/>
              <a:rect l="l" t="t" r="r" b="b"/>
              <a:pathLst>
                <a:path w="1597" h="689">
                  <a:moveTo>
                    <a:pt x="61" y="689"/>
                  </a:moveTo>
                  <a:lnTo>
                    <a:pt x="204" y="500"/>
                  </a:lnTo>
                  <a:lnTo>
                    <a:pt x="390" y="407"/>
                  </a:lnTo>
                  <a:lnTo>
                    <a:pt x="657" y="360"/>
                  </a:lnTo>
                  <a:lnTo>
                    <a:pt x="908" y="349"/>
                  </a:lnTo>
                  <a:lnTo>
                    <a:pt x="1190" y="389"/>
                  </a:lnTo>
                  <a:lnTo>
                    <a:pt x="1447" y="493"/>
                  </a:lnTo>
                  <a:lnTo>
                    <a:pt x="1511" y="493"/>
                  </a:lnTo>
                  <a:lnTo>
                    <a:pt x="1597" y="296"/>
                  </a:lnTo>
                  <a:lnTo>
                    <a:pt x="1318" y="128"/>
                  </a:lnTo>
                  <a:lnTo>
                    <a:pt x="908" y="17"/>
                  </a:lnTo>
                  <a:lnTo>
                    <a:pt x="722" y="0"/>
                  </a:lnTo>
                  <a:lnTo>
                    <a:pt x="465" y="35"/>
                  </a:lnTo>
                  <a:lnTo>
                    <a:pt x="257" y="110"/>
                  </a:lnTo>
                  <a:lnTo>
                    <a:pt x="129" y="185"/>
                  </a:lnTo>
                  <a:lnTo>
                    <a:pt x="0" y="332"/>
                  </a:lnTo>
                  <a:lnTo>
                    <a:pt x="61" y="689"/>
                  </a:lnTo>
                  <a:close/>
                </a:path>
              </a:pathLst>
            </a:custGeom>
            <a:solidFill>
              <a:srgbClr val="ce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71000" y="5079240"/>
              <a:ext cx="54000" cy="44640"/>
            </a:xfrm>
            <a:custGeom>
              <a:avLst/>
              <a:gdLst/>
              <a:ahLst/>
              <a:rect l="l" t="t" r="r" b="b"/>
              <a:pathLst>
                <a:path w="914" h="422">
                  <a:moveTo>
                    <a:pt x="914" y="54"/>
                  </a:moveTo>
                  <a:lnTo>
                    <a:pt x="724" y="290"/>
                  </a:lnTo>
                  <a:lnTo>
                    <a:pt x="485" y="297"/>
                  </a:lnTo>
                  <a:lnTo>
                    <a:pt x="196" y="358"/>
                  </a:lnTo>
                  <a:lnTo>
                    <a:pt x="0" y="422"/>
                  </a:lnTo>
                  <a:lnTo>
                    <a:pt x="67" y="225"/>
                  </a:lnTo>
                  <a:lnTo>
                    <a:pt x="131" y="111"/>
                  </a:lnTo>
                  <a:lnTo>
                    <a:pt x="335" y="18"/>
                  </a:lnTo>
                  <a:lnTo>
                    <a:pt x="525" y="0"/>
                  </a:lnTo>
                  <a:lnTo>
                    <a:pt x="857" y="18"/>
                  </a:lnTo>
                  <a:lnTo>
                    <a:pt x="914" y="54"/>
                  </a:lnTo>
                  <a:close/>
                </a:path>
              </a:pathLst>
            </a:custGeom>
            <a:solidFill>
              <a:srgbClr val="ce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44720" y="5114160"/>
              <a:ext cx="56880" cy="54000"/>
            </a:xfrm>
            <a:custGeom>
              <a:avLst/>
              <a:gdLst/>
              <a:ahLst/>
              <a:rect l="l" t="t" r="r" b="b"/>
              <a:pathLst>
                <a:path w="969" h="519">
                  <a:moveTo>
                    <a:pt x="947" y="129"/>
                  </a:moveTo>
                  <a:lnTo>
                    <a:pt x="779" y="240"/>
                  </a:lnTo>
                  <a:lnTo>
                    <a:pt x="575" y="240"/>
                  </a:lnTo>
                  <a:lnTo>
                    <a:pt x="464" y="258"/>
                  </a:lnTo>
                  <a:lnTo>
                    <a:pt x="354" y="315"/>
                  </a:lnTo>
                  <a:lnTo>
                    <a:pt x="261" y="426"/>
                  </a:lnTo>
                  <a:lnTo>
                    <a:pt x="111" y="462"/>
                  </a:lnTo>
                  <a:lnTo>
                    <a:pt x="0" y="519"/>
                  </a:lnTo>
                  <a:lnTo>
                    <a:pt x="57" y="350"/>
                  </a:lnTo>
                  <a:lnTo>
                    <a:pt x="111" y="258"/>
                  </a:lnTo>
                  <a:lnTo>
                    <a:pt x="243" y="129"/>
                  </a:lnTo>
                  <a:lnTo>
                    <a:pt x="371" y="36"/>
                  </a:lnTo>
                  <a:lnTo>
                    <a:pt x="575" y="0"/>
                  </a:lnTo>
                  <a:lnTo>
                    <a:pt x="894" y="18"/>
                  </a:lnTo>
                  <a:lnTo>
                    <a:pt x="969" y="76"/>
                  </a:lnTo>
                  <a:lnTo>
                    <a:pt x="947" y="129"/>
                  </a:lnTo>
                  <a:close/>
                </a:path>
              </a:pathLst>
            </a:custGeom>
            <a:solidFill>
              <a:srgbClr val="ce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325880" y="5013720"/>
              <a:ext cx="82080" cy="88920"/>
            </a:xfrm>
            <a:custGeom>
              <a:avLst/>
              <a:gdLst/>
              <a:ahLst/>
              <a:rect l="l" t="t" r="r" b="b"/>
              <a:pathLst>
                <a:path w="1386" h="854">
                  <a:moveTo>
                    <a:pt x="1122" y="0"/>
                  </a:moveTo>
                  <a:lnTo>
                    <a:pt x="1255" y="197"/>
                  </a:lnTo>
                  <a:lnTo>
                    <a:pt x="1294" y="386"/>
                  </a:lnTo>
                  <a:lnTo>
                    <a:pt x="1319" y="590"/>
                  </a:lnTo>
                  <a:lnTo>
                    <a:pt x="1386" y="657"/>
                  </a:lnTo>
                  <a:lnTo>
                    <a:pt x="1319" y="854"/>
                  </a:lnTo>
                  <a:lnTo>
                    <a:pt x="1057" y="657"/>
                  </a:lnTo>
                  <a:lnTo>
                    <a:pt x="793" y="629"/>
                  </a:lnTo>
                  <a:lnTo>
                    <a:pt x="404" y="647"/>
                  </a:lnTo>
                  <a:lnTo>
                    <a:pt x="0" y="79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415880" y="5138280"/>
              <a:ext cx="51480" cy="39960"/>
            </a:xfrm>
            <a:custGeom>
              <a:avLst/>
              <a:gdLst/>
              <a:ahLst/>
              <a:rect l="l" t="t" r="r" b="b"/>
              <a:pathLst>
                <a:path w="858" h="394">
                  <a:moveTo>
                    <a:pt x="725" y="394"/>
                  </a:moveTo>
                  <a:lnTo>
                    <a:pt x="858" y="329"/>
                  </a:lnTo>
                  <a:lnTo>
                    <a:pt x="790" y="133"/>
                  </a:lnTo>
                  <a:lnTo>
                    <a:pt x="0" y="0"/>
                  </a:lnTo>
                  <a:lnTo>
                    <a:pt x="0" y="196"/>
                  </a:lnTo>
                  <a:lnTo>
                    <a:pt x="725" y="329"/>
                  </a:lnTo>
                  <a:lnTo>
                    <a:pt x="725" y="39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396800" y="5116680"/>
              <a:ext cx="19080" cy="34920"/>
            </a:xfrm>
            <a:custGeom>
              <a:avLst/>
              <a:gdLst/>
              <a:ahLst/>
              <a:rect l="l" t="t" r="r" b="b"/>
              <a:pathLst>
                <a:path w="329" h="329">
                  <a:moveTo>
                    <a:pt x="329" y="329"/>
                  </a:moveTo>
                  <a:lnTo>
                    <a:pt x="329" y="128"/>
                  </a:lnTo>
                  <a:lnTo>
                    <a:pt x="0" y="0"/>
                  </a:lnTo>
                  <a:lnTo>
                    <a:pt x="0" y="196"/>
                  </a:lnTo>
                  <a:lnTo>
                    <a:pt x="329" y="329"/>
                  </a:lnTo>
                  <a:close/>
                </a:path>
              </a:pathLst>
            </a:custGeom>
            <a:solidFill>
              <a:srgbClr val="006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181880" y="5259960"/>
              <a:ext cx="60480" cy="42480"/>
            </a:xfrm>
            <a:custGeom>
              <a:avLst/>
              <a:gdLst/>
              <a:ahLst/>
              <a:rect l="l" t="t" r="r" b="b"/>
              <a:pathLst>
                <a:path w="1022" h="407">
                  <a:moveTo>
                    <a:pt x="1022" y="407"/>
                  </a:moveTo>
                  <a:lnTo>
                    <a:pt x="965" y="0"/>
                  </a:lnTo>
                  <a:lnTo>
                    <a:pt x="0" y="165"/>
                  </a:lnTo>
                  <a:lnTo>
                    <a:pt x="843" y="407"/>
                  </a:lnTo>
                  <a:lnTo>
                    <a:pt x="1022" y="40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157400" y="5247360"/>
              <a:ext cx="54720" cy="29880"/>
            </a:xfrm>
            <a:custGeom>
              <a:avLst/>
              <a:gdLst/>
              <a:ahLst/>
              <a:rect l="l" t="t" r="r" b="b"/>
              <a:pathLst>
                <a:path w="933" h="283">
                  <a:moveTo>
                    <a:pt x="933" y="265"/>
                  </a:moveTo>
                  <a:lnTo>
                    <a:pt x="933" y="118"/>
                  </a:lnTo>
                  <a:lnTo>
                    <a:pt x="189" y="118"/>
                  </a:lnTo>
                  <a:lnTo>
                    <a:pt x="197" y="0"/>
                  </a:lnTo>
                  <a:lnTo>
                    <a:pt x="0" y="0"/>
                  </a:lnTo>
                  <a:lnTo>
                    <a:pt x="0" y="196"/>
                  </a:lnTo>
                  <a:lnTo>
                    <a:pt x="654" y="283"/>
                  </a:lnTo>
                  <a:lnTo>
                    <a:pt x="922" y="196"/>
                  </a:lnTo>
                  <a:lnTo>
                    <a:pt x="933" y="265"/>
                  </a:lnTo>
                  <a:close/>
                </a:path>
              </a:pathLst>
            </a:custGeom>
            <a:solidFill>
              <a:srgbClr val="006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086840" y="5060520"/>
              <a:ext cx="109080" cy="192960"/>
            </a:xfrm>
            <a:custGeom>
              <a:avLst/>
              <a:gdLst/>
              <a:ahLst/>
              <a:rect l="l" t="t" r="r" b="b"/>
              <a:pathLst>
                <a:path w="1840" h="1851">
                  <a:moveTo>
                    <a:pt x="0" y="147"/>
                  </a:moveTo>
                  <a:lnTo>
                    <a:pt x="128" y="93"/>
                  </a:lnTo>
                  <a:lnTo>
                    <a:pt x="332" y="36"/>
                  </a:lnTo>
                  <a:lnTo>
                    <a:pt x="528" y="18"/>
                  </a:lnTo>
                  <a:lnTo>
                    <a:pt x="929" y="0"/>
                  </a:lnTo>
                  <a:lnTo>
                    <a:pt x="1261" y="36"/>
                  </a:lnTo>
                  <a:lnTo>
                    <a:pt x="1383" y="214"/>
                  </a:lnTo>
                  <a:lnTo>
                    <a:pt x="1690" y="740"/>
                  </a:lnTo>
                  <a:lnTo>
                    <a:pt x="1690" y="908"/>
                  </a:lnTo>
                  <a:lnTo>
                    <a:pt x="1597" y="944"/>
                  </a:lnTo>
                  <a:lnTo>
                    <a:pt x="1840" y="185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082520" y="5213520"/>
              <a:ext cx="101880" cy="27360"/>
            </a:xfrm>
            <a:custGeom>
              <a:avLst/>
              <a:gdLst/>
              <a:ahLst/>
              <a:rect l="l" t="t" r="r" b="b"/>
              <a:pathLst>
                <a:path w="1715" h="265">
                  <a:moveTo>
                    <a:pt x="1715" y="265"/>
                  </a:moveTo>
                  <a:lnTo>
                    <a:pt x="1126" y="24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277640" y="4860720"/>
              <a:ext cx="72000" cy="77760"/>
            </a:xfrm>
            <a:custGeom>
              <a:avLst/>
              <a:gdLst/>
              <a:ahLst/>
              <a:rect l="l" t="t" r="r" b="b"/>
              <a:pathLst>
                <a:path w="1212" h="739">
                  <a:moveTo>
                    <a:pt x="1212" y="0"/>
                  </a:moveTo>
                  <a:lnTo>
                    <a:pt x="1061" y="17"/>
                  </a:lnTo>
                  <a:lnTo>
                    <a:pt x="744" y="110"/>
                  </a:lnTo>
                  <a:lnTo>
                    <a:pt x="412" y="261"/>
                  </a:lnTo>
                  <a:lnTo>
                    <a:pt x="208" y="407"/>
                  </a:lnTo>
                  <a:lnTo>
                    <a:pt x="75" y="536"/>
                  </a:lnTo>
                  <a:lnTo>
                    <a:pt x="22" y="629"/>
                  </a:lnTo>
                  <a:lnTo>
                    <a:pt x="0" y="73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1357200" y="495360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1348560" y="4967280"/>
              <a:ext cx="1800" cy="21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303200" y="4982400"/>
              <a:ext cx="64080" cy="23760"/>
            </a:xfrm>
            <a:custGeom>
              <a:avLst/>
              <a:gdLst/>
              <a:ahLst/>
              <a:rect l="l" t="t" r="r" b="b"/>
              <a:pathLst>
                <a:path w="1079" h="225">
                  <a:moveTo>
                    <a:pt x="1079" y="225"/>
                  </a:moveTo>
                  <a:lnTo>
                    <a:pt x="855" y="114"/>
                  </a:lnTo>
                  <a:lnTo>
                    <a:pt x="762" y="75"/>
                  </a:lnTo>
                  <a:lnTo>
                    <a:pt x="539" y="21"/>
                  </a:lnTo>
                  <a:lnTo>
                    <a:pt x="315" y="0"/>
                  </a:lnTo>
                  <a:lnTo>
                    <a:pt x="111" y="21"/>
                  </a:lnTo>
                  <a:lnTo>
                    <a:pt x="0" y="5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055520" y="5134320"/>
              <a:ext cx="33840" cy="18720"/>
            </a:xfrm>
            <a:custGeom>
              <a:avLst/>
              <a:gdLst/>
              <a:ahLst/>
              <a:rect l="l" t="t" r="r" b="b"/>
              <a:pathLst>
                <a:path w="575" h="186">
                  <a:moveTo>
                    <a:pt x="575" y="54"/>
                  </a:moveTo>
                  <a:lnTo>
                    <a:pt x="557" y="18"/>
                  </a:lnTo>
                  <a:lnTo>
                    <a:pt x="278" y="0"/>
                  </a:lnTo>
                  <a:lnTo>
                    <a:pt x="110" y="54"/>
                  </a:lnTo>
                  <a:lnTo>
                    <a:pt x="17" y="147"/>
                  </a:lnTo>
                  <a:lnTo>
                    <a:pt x="0" y="18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081080" y="5103000"/>
              <a:ext cx="30600" cy="10080"/>
            </a:xfrm>
            <a:custGeom>
              <a:avLst/>
              <a:gdLst/>
              <a:ahLst/>
              <a:rect l="l" t="t" r="r" b="b"/>
              <a:pathLst>
                <a:path w="518" h="93">
                  <a:moveTo>
                    <a:pt x="518" y="0"/>
                  </a:moveTo>
                  <a:lnTo>
                    <a:pt x="257" y="17"/>
                  </a:lnTo>
                  <a:lnTo>
                    <a:pt x="93" y="53"/>
                  </a:lnTo>
                  <a:lnTo>
                    <a:pt x="0" y="9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362960" y="4893480"/>
              <a:ext cx="792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39880" y="3975840"/>
              <a:ext cx="176040" cy="122760"/>
            </a:xfrm>
            <a:custGeom>
              <a:avLst/>
              <a:gdLst/>
              <a:ahLst/>
              <a:rect l="l" t="t" r="r" b="b"/>
              <a:pathLst>
                <a:path w="2966" h="1184">
                  <a:moveTo>
                    <a:pt x="2898" y="458"/>
                  </a:moveTo>
                  <a:lnTo>
                    <a:pt x="2966" y="329"/>
                  </a:lnTo>
                  <a:lnTo>
                    <a:pt x="2898" y="133"/>
                  </a:lnTo>
                  <a:lnTo>
                    <a:pt x="2702" y="0"/>
                  </a:lnTo>
                  <a:lnTo>
                    <a:pt x="1579" y="133"/>
                  </a:lnTo>
                  <a:lnTo>
                    <a:pt x="461" y="458"/>
                  </a:lnTo>
                  <a:lnTo>
                    <a:pt x="197" y="590"/>
                  </a:lnTo>
                  <a:lnTo>
                    <a:pt x="0" y="787"/>
                  </a:lnTo>
                  <a:lnTo>
                    <a:pt x="129" y="1051"/>
                  </a:lnTo>
                  <a:lnTo>
                    <a:pt x="393" y="1184"/>
                  </a:lnTo>
                  <a:lnTo>
                    <a:pt x="2898" y="525"/>
                  </a:lnTo>
                  <a:lnTo>
                    <a:pt x="2898" y="45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78400" y="4175280"/>
              <a:ext cx="78480" cy="74880"/>
            </a:xfrm>
            <a:custGeom>
              <a:avLst/>
              <a:gdLst/>
              <a:ahLst/>
              <a:rect l="l" t="t" r="r" b="b"/>
              <a:pathLst>
                <a:path w="1319" h="722">
                  <a:moveTo>
                    <a:pt x="1055" y="659"/>
                  </a:moveTo>
                  <a:lnTo>
                    <a:pt x="530" y="462"/>
                  </a:lnTo>
                  <a:lnTo>
                    <a:pt x="133" y="133"/>
                  </a:lnTo>
                  <a:lnTo>
                    <a:pt x="0" y="0"/>
                  </a:lnTo>
                  <a:lnTo>
                    <a:pt x="397" y="133"/>
                  </a:lnTo>
                  <a:lnTo>
                    <a:pt x="661" y="65"/>
                  </a:lnTo>
                  <a:lnTo>
                    <a:pt x="1187" y="462"/>
                  </a:lnTo>
                  <a:lnTo>
                    <a:pt x="1319" y="722"/>
                  </a:lnTo>
                  <a:lnTo>
                    <a:pt x="1055" y="65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910440" y="4016880"/>
              <a:ext cx="137160" cy="225720"/>
            </a:xfrm>
            <a:custGeom>
              <a:avLst/>
              <a:gdLst/>
              <a:ahLst/>
              <a:rect l="l" t="t" r="r" b="b"/>
              <a:pathLst>
                <a:path w="2305" h="2170">
                  <a:moveTo>
                    <a:pt x="0" y="1576"/>
                  </a:moveTo>
                  <a:lnTo>
                    <a:pt x="63" y="1644"/>
                  </a:lnTo>
                  <a:lnTo>
                    <a:pt x="196" y="1773"/>
                  </a:lnTo>
                  <a:lnTo>
                    <a:pt x="261" y="1905"/>
                  </a:lnTo>
                  <a:lnTo>
                    <a:pt x="392" y="2037"/>
                  </a:lnTo>
                  <a:lnTo>
                    <a:pt x="593" y="2102"/>
                  </a:lnTo>
                  <a:lnTo>
                    <a:pt x="657" y="2170"/>
                  </a:lnTo>
                  <a:lnTo>
                    <a:pt x="1186" y="2170"/>
                  </a:lnTo>
                  <a:lnTo>
                    <a:pt x="1579" y="1840"/>
                  </a:lnTo>
                  <a:lnTo>
                    <a:pt x="2176" y="986"/>
                  </a:lnTo>
                  <a:lnTo>
                    <a:pt x="2305" y="722"/>
                  </a:lnTo>
                  <a:lnTo>
                    <a:pt x="2176" y="264"/>
                  </a:lnTo>
                  <a:lnTo>
                    <a:pt x="1844" y="0"/>
                  </a:lnTo>
                  <a:lnTo>
                    <a:pt x="1711" y="329"/>
                  </a:lnTo>
                  <a:lnTo>
                    <a:pt x="1450" y="986"/>
                  </a:lnTo>
                  <a:lnTo>
                    <a:pt x="1186" y="1119"/>
                  </a:lnTo>
                  <a:lnTo>
                    <a:pt x="857" y="1119"/>
                  </a:lnTo>
                  <a:lnTo>
                    <a:pt x="657" y="1119"/>
                  </a:lnTo>
                  <a:lnTo>
                    <a:pt x="525" y="1182"/>
                  </a:lnTo>
                  <a:lnTo>
                    <a:pt x="392" y="1247"/>
                  </a:lnTo>
                  <a:lnTo>
                    <a:pt x="261" y="1380"/>
                  </a:lnTo>
                  <a:lnTo>
                    <a:pt x="196" y="1448"/>
                  </a:lnTo>
                  <a:lnTo>
                    <a:pt x="131" y="1511"/>
                  </a:lnTo>
                  <a:lnTo>
                    <a:pt x="131" y="1576"/>
                  </a:lnTo>
                  <a:lnTo>
                    <a:pt x="0" y="1576"/>
                  </a:lnTo>
                  <a:close/>
                </a:path>
              </a:pathLst>
            </a:custGeom>
            <a:solidFill>
              <a:srgbClr val="ffb58e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914040" y="4140000"/>
              <a:ext cx="62640" cy="90360"/>
            </a:xfrm>
            <a:custGeom>
              <a:avLst/>
              <a:gdLst/>
              <a:ahLst/>
              <a:rect l="l" t="t" r="r" b="b"/>
              <a:pathLst>
                <a:path w="1055" h="862">
                  <a:moveTo>
                    <a:pt x="991" y="0"/>
                  </a:moveTo>
                  <a:lnTo>
                    <a:pt x="991" y="65"/>
                  </a:lnTo>
                  <a:lnTo>
                    <a:pt x="859" y="133"/>
                  </a:lnTo>
                  <a:lnTo>
                    <a:pt x="791" y="111"/>
                  </a:lnTo>
                  <a:lnTo>
                    <a:pt x="726" y="198"/>
                  </a:lnTo>
                  <a:lnTo>
                    <a:pt x="662" y="266"/>
                  </a:lnTo>
                  <a:lnTo>
                    <a:pt x="619" y="369"/>
                  </a:lnTo>
                  <a:lnTo>
                    <a:pt x="480" y="408"/>
                  </a:lnTo>
                  <a:lnTo>
                    <a:pt x="422" y="369"/>
                  </a:lnTo>
                  <a:lnTo>
                    <a:pt x="351" y="198"/>
                  </a:lnTo>
                  <a:lnTo>
                    <a:pt x="266" y="198"/>
                  </a:lnTo>
                  <a:lnTo>
                    <a:pt x="68" y="329"/>
                  </a:lnTo>
                  <a:lnTo>
                    <a:pt x="0" y="394"/>
                  </a:lnTo>
                  <a:lnTo>
                    <a:pt x="126" y="523"/>
                  </a:lnTo>
                  <a:lnTo>
                    <a:pt x="169" y="594"/>
                  </a:lnTo>
                  <a:lnTo>
                    <a:pt x="236" y="719"/>
                  </a:lnTo>
                  <a:lnTo>
                    <a:pt x="309" y="805"/>
                  </a:lnTo>
                  <a:lnTo>
                    <a:pt x="580" y="862"/>
                  </a:lnTo>
                  <a:lnTo>
                    <a:pt x="859" y="855"/>
                  </a:lnTo>
                  <a:lnTo>
                    <a:pt x="662" y="723"/>
                  </a:lnTo>
                  <a:lnTo>
                    <a:pt x="551" y="580"/>
                  </a:lnTo>
                  <a:lnTo>
                    <a:pt x="591" y="580"/>
                  </a:lnTo>
                  <a:lnTo>
                    <a:pt x="705" y="623"/>
                  </a:lnTo>
                  <a:lnTo>
                    <a:pt x="791" y="537"/>
                  </a:lnTo>
                  <a:lnTo>
                    <a:pt x="805" y="494"/>
                  </a:lnTo>
                  <a:lnTo>
                    <a:pt x="794" y="462"/>
                  </a:lnTo>
                  <a:lnTo>
                    <a:pt x="791" y="452"/>
                  </a:lnTo>
                  <a:lnTo>
                    <a:pt x="776" y="394"/>
                  </a:lnTo>
                  <a:lnTo>
                    <a:pt x="847" y="326"/>
                  </a:lnTo>
                  <a:lnTo>
                    <a:pt x="905" y="269"/>
                  </a:lnTo>
                  <a:lnTo>
                    <a:pt x="991" y="133"/>
                  </a:lnTo>
                  <a:lnTo>
                    <a:pt x="1055" y="65"/>
                  </a:lnTo>
                  <a:lnTo>
                    <a:pt x="991" y="0"/>
                  </a:lnTo>
                  <a:close/>
                </a:path>
              </a:pathLst>
            </a:custGeom>
            <a:solidFill>
              <a:srgbClr val="ff9975"/>
            </a:solidFill>
            <a:ln w="0">
              <a:solidFill>
                <a:srgbClr val="ff997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24040" y="3781080"/>
              <a:ext cx="231120" cy="317520"/>
            </a:xfrm>
            <a:custGeom>
              <a:avLst/>
              <a:gdLst/>
              <a:ahLst/>
              <a:rect l="l" t="t" r="r" b="b"/>
              <a:pathLst>
                <a:path w="3888" h="3035">
                  <a:moveTo>
                    <a:pt x="3888" y="2112"/>
                  </a:moveTo>
                  <a:lnTo>
                    <a:pt x="3888" y="2084"/>
                  </a:lnTo>
                  <a:lnTo>
                    <a:pt x="3863" y="1919"/>
                  </a:lnTo>
                  <a:lnTo>
                    <a:pt x="3831" y="1755"/>
                  </a:lnTo>
                  <a:lnTo>
                    <a:pt x="3784" y="1594"/>
                  </a:lnTo>
                  <a:lnTo>
                    <a:pt x="3584" y="1140"/>
                  </a:lnTo>
                  <a:lnTo>
                    <a:pt x="3499" y="997"/>
                  </a:lnTo>
                  <a:lnTo>
                    <a:pt x="3402" y="862"/>
                  </a:lnTo>
                  <a:lnTo>
                    <a:pt x="3298" y="736"/>
                  </a:lnTo>
                  <a:lnTo>
                    <a:pt x="3183" y="614"/>
                  </a:lnTo>
                  <a:lnTo>
                    <a:pt x="3070" y="493"/>
                  </a:lnTo>
                  <a:lnTo>
                    <a:pt x="2926" y="379"/>
                  </a:lnTo>
                  <a:lnTo>
                    <a:pt x="2687" y="224"/>
                  </a:lnTo>
                  <a:lnTo>
                    <a:pt x="2505" y="143"/>
                  </a:lnTo>
                  <a:lnTo>
                    <a:pt x="2448" y="118"/>
                  </a:lnTo>
                  <a:lnTo>
                    <a:pt x="2312" y="71"/>
                  </a:lnTo>
                  <a:lnTo>
                    <a:pt x="2176" y="40"/>
                  </a:lnTo>
                  <a:lnTo>
                    <a:pt x="2034" y="14"/>
                  </a:lnTo>
                  <a:lnTo>
                    <a:pt x="1894" y="3"/>
                  </a:lnTo>
                  <a:lnTo>
                    <a:pt x="1750" y="0"/>
                  </a:lnTo>
                  <a:lnTo>
                    <a:pt x="1612" y="10"/>
                  </a:lnTo>
                  <a:lnTo>
                    <a:pt x="1469" y="32"/>
                  </a:lnTo>
                  <a:lnTo>
                    <a:pt x="1333" y="68"/>
                  </a:lnTo>
                  <a:lnTo>
                    <a:pt x="1197" y="111"/>
                  </a:lnTo>
                  <a:lnTo>
                    <a:pt x="1069" y="164"/>
                  </a:lnTo>
                  <a:lnTo>
                    <a:pt x="940" y="232"/>
                  </a:lnTo>
                  <a:lnTo>
                    <a:pt x="822" y="307"/>
                  </a:lnTo>
                  <a:lnTo>
                    <a:pt x="707" y="389"/>
                  </a:lnTo>
                  <a:lnTo>
                    <a:pt x="600" y="482"/>
                  </a:lnTo>
                  <a:lnTo>
                    <a:pt x="500" y="586"/>
                  </a:lnTo>
                  <a:lnTo>
                    <a:pt x="411" y="697"/>
                  </a:lnTo>
                  <a:lnTo>
                    <a:pt x="328" y="812"/>
                  </a:lnTo>
                  <a:lnTo>
                    <a:pt x="257" y="933"/>
                  </a:lnTo>
                  <a:lnTo>
                    <a:pt x="196" y="1061"/>
                  </a:lnTo>
                  <a:lnTo>
                    <a:pt x="196" y="1061"/>
                  </a:lnTo>
                  <a:lnTo>
                    <a:pt x="189" y="1079"/>
                  </a:lnTo>
                  <a:lnTo>
                    <a:pt x="129" y="1207"/>
                  </a:lnTo>
                  <a:lnTo>
                    <a:pt x="82" y="1337"/>
                  </a:lnTo>
                  <a:lnTo>
                    <a:pt x="43" y="1473"/>
                  </a:lnTo>
                  <a:lnTo>
                    <a:pt x="18" y="1612"/>
                  </a:lnTo>
                  <a:lnTo>
                    <a:pt x="3" y="1752"/>
                  </a:lnTo>
                  <a:lnTo>
                    <a:pt x="0" y="1891"/>
                  </a:lnTo>
                  <a:lnTo>
                    <a:pt x="6" y="2030"/>
                  </a:lnTo>
                  <a:lnTo>
                    <a:pt x="25" y="2170"/>
                  </a:lnTo>
                  <a:lnTo>
                    <a:pt x="57" y="2305"/>
                  </a:lnTo>
                  <a:lnTo>
                    <a:pt x="99" y="2438"/>
                  </a:lnTo>
                  <a:lnTo>
                    <a:pt x="149" y="2570"/>
                  </a:lnTo>
                  <a:lnTo>
                    <a:pt x="214" y="2695"/>
                  </a:lnTo>
                  <a:lnTo>
                    <a:pt x="285" y="2813"/>
                  </a:lnTo>
                  <a:lnTo>
                    <a:pt x="368" y="2927"/>
                  </a:lnTo>
                  <a:lnTo>
                    <a:pt x="461" y="3035"/>
                  </a:lnTo>
                  <a:lnTo>
                    <a:pt x="461" y="3035"/>
                  </a:lnTo>
                  <a:lnTo>
                    <a:pt x="436" y="2906"/>
                  </a:lnTo>
                  <a:lnTo>
                    <a:pt x="450" y="2806"/>
                  </a:lnTo>
                  <a:lnTo>
                    <a:pt x="564" y="2705"/>
                  </a:lnTo>
                  <a:lnTo>
                    <a:pt x="1101" y="2438"/>
                  </a:lnTo>
                  <a:lnTo>
                    <a:pt x="2147" y="2044"/>
                  </a:lnTo>
                  <a:lnTo>
                    <a:pt x="2572" y="1973"/>
                  </a:lnTo>
                  <a:lnTo>
                    <a:pt x="2801" y="1959"/>
                  </a:lnTo>
                  <a:lnTo>
                    <a:pt x="2955" y="1973"/>
                  </a:lnTo>
                  <a:lnTo>
                    <a:pt x="3098" y="2044"/>
                  </a:lnTo>
                  <a:lnTo>
                    <a:pt x="3627" y="2902"/>
                  </a:lnTo>
                  <a:lnTo>
                    <a:pt x="3888" y="2112"/>
                  </a:lnTo>
                  <a:close/>
                </a:path>
              </a:pathLst>
            </a:custGeom>
            <a:solidFill>
              <a:srgbClr val="b5b5b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82360" y="3995640"/>
              <a:ext cx="180000" cy="302400"/>
            </a:xfrm>
            <a:custGeom>
              <a:avLst/>
              <a:gdLst/>
              <a:ahLst/>
              <a:rect l="l" t="t" r="r" b="b"/>
              <a:pathLst>
                <a:path w="3031" h="2902">
                  <a:moveTo>
                    <a:pt x="2627" y="225"/>
                  </a:moveTo>
                  <a:lnTo>
                    <a:pt x="2627" y="175"/>
                  </a:lnTo>
                  <a:lnTo>
                    <a:pt x="2637" y="129"/>
                  </a:lnTo>
                  <a:lnTo>
                    <a:pt x="2659" y="86"/>
                  </a:lnTo>
                  <a:lnTo>
                    <a:pt x="2691" y="50"/>
                  </a:lnTo>
                  <a:lnTo>
                    <a:pt x="2730" y="25"/>
                  </a:lnTo>
                  <a:lnTo>
                    <a:pt x="2773" y="7"/>
                  </a:lnTo>
                  <a:lnTo>
                    <a:pt x="2820" y="0"/>
                  </a:lnTo>
                  <a:lnTo>
                    <a:pt x="2891" y="32"/>
                  </a:lnTo>
                  <a:lnTo>
                    <a:pt x="2934" y="104"/>
                  </a:lnTo>
                  <a:lnTo>
                    <a:pt x="2963" y="171"/>
                  </a:lnTo>
                  <a:lnTo>
                    <a:pt x="2991" y="343"/>
                  </a:lnTo>
                  <a:lnTo>
                    <a:pt x="2991" y="386"/>
                  </a:lnTo>
                  <a:lnTo>
                    <a:pt x="3002" y="504"/>
                  </a:lnTo>
                  <a:lnTo>
                    <a:pt x="3019" y="672"/>
                  </a:lnTo>
                  <a:lnTo>
                    <a:pt x="3031" y="843"/>
                  </a:lnTo>
                  <a:lnTo>
                    <a:pt x="3027" y="1011"/>
                  </a:lnTo>
                  <a:lnTo>
                    <a:pt x="3016" y="1183"/>
                  </a:lnTo>
                  <a:lnTo>
                    <a:pt x="2991" y="1351"/>
                  </a:lnTo>
                  <a:lnTo>
                    <a:pt x="2951" y="1516"/>
                  </a:lnTo>
                  <a:lnTo>
                    <a:pt x="2905" y="1680"/>
                  </a:lnTo>
                  <a:lnTo>
                    <a:pt x="2848" y="1841"/>
                  </a:lnTo>
                  <a:lnTo>
                    <a:pt x="2780" y="1999"/>
                  </a:lnTo>
                  <a:lnTo>
                    <a:pt x="2702" y="2148"/>
                  </a:lnTo>
                  <a:lnTo>
                    <a:pt x="2612" y="2291"/>
                  </a:lnTo>
                  <a:lnTo>
                    <a:pt x="2513" y="2431"/>
                  </a:lnTo>
                  <a:lnTo>
                    <a:pt x="2420" y="2527"/>
                  </a:lnTo>
                  <a:lnTo>
                    <a:pt x="2327" y="2610"/>
                  </a:lnTo>
                  <a:lnTo>
                    <a:pt x="2227" y="2681"/>
                  </a:lnTo>
                  <a:lnTo>
                    <a:pt x="2119" y="2745"/>
                  </a:lnTo>
                  <a:lnTo>
                    <a:pt x="2005" y="2799"/>
                  </a:lnTo>
                  <a:lnTo>
                    <a:pt x="1887" y="2842"/>
                  </a:lnTo>
                  <a:lnTo>
                    <a:pt x="1769" y="2874"/>
                  </a:lnTo>
                  <a:lnTo>
                    <a:pt x="1644" y="2892"/>
                  </a:lnTo>
                  <a:lnTo>
                    <a:pt x="1523" y="2902"/>
                  </a:lnTo>
                  <a:lnTo>
                    <a:pt x="1237" y="2852"/>
                  </a:lnTo>
                  <a:lnTo>
                    <a:pt x="1093" y="2796"/>
                  </a:lnTo>
                  <a:lnTo>
                    <a:pt x="950" y="2728"/>
                  </a:lnTo>
                  <a:lnTo>
                    <a:pt x="815" y="2648"/>
                  </a:lnTo>
                  <a:lnTo>
                    <a:pt x="686" y="2560"/>
                  </a:lnTo>
                  <a:lnTo>
                    <a:pt x="565" y="2462"/>
                  </a:lnTo>
                  <a:lnTo>
                    <a:pt x="450" y="2359"/>
                  </a:lnTo>
                  <a:lnTo>
                    <a:pt x="344" y="2245"/>
                  </a:lnTo>
                  <a:lnTo>
                    <a:pt x="243" y="2123"/>
                  </a:lnTo>
                  <a:lnTo>
                    <a:pt x="154" y="1994"/>
                  </a:lnTo>
                  <a:lnTo>
                    <a:pt x="75" y="1862"/>
                  </a:lnTo>
                  <a:lnTo>
                    <a:pt x="3" y="1723"/>
                  </a:lnTo>
                  <a:lnTo>
                    <a:pt x="0" y="1715"/>
                  </a:lnTo>
                  <a:lnTo>
                    <a:pt x="0" y="1715"/>
                  </a:lnTo>
                  <a:lnTo>
                    <a:pt x="7" y="1723"/>
                  </a:lnTo>
                  <a:lnTo>
                    <a:pt x="83" y="1816"/>
                  </a:lnTo>
                  <a:lnTo>
                    <a:pt x="168" y="1901"/>
                  </a:lnTo>
                  <a:lnTo>
                    <a:pt x="257" y="1980"/>
                  </a:lnTo>
                  <a:lnTo>
                    <a:pt x="357" y="2052"/>
                  </a:lnTo>
                  <a:lnTo>
                    <a:pt x="465" y="2109"/>
                  </a:lnTo>
                  <a:lnTo>
                    <a:pt x="572" y="2158"/>
                  </a:lnTo>
                  <a:lnTo>
                    <a:pt x="804" y="2223"/>
                  </a:lnTo>
                  <a:lnTo>
                    <a:pt x="1030" y="2263"/>
                  </a:lnTo>
                  <a:lnTo>
                    <a:pt x="1144" y="2276"/>
                  </a:lnTo>
                  <a:lnTo>
                    <a:pt x="1262" y="2276"/>
                  </a:lnTo>
                  <a:lnTo>
                    <a:pt x="1380" y="2266"/>
                  </a:lnTo>
                  <a:lnTo>
                    <a:pt x="1493" y="2248"/>
                  </a:lnTo>
                  <a:lnTo>
                    <a:pt x="1608" y="2216"/>
                  </a:lnTo>
                  <a:lnTo>
                    <a:pt x="1719" y="2173"/>
                  </a:lnTo>
                  <a:lnTo>
                    <a:pt x="1822" y="2120"/>
                  </a:lnTo>
                  <a:lnTo>
                    <a:pt x="1923" y="2055"/>
                  </a:lnTo>
                  <a:lnTo>
                    <a:pt x="2016" y="1984"/>
                  </a:lnTo>
                  <a:lnTo>
                    <a:pt x="2098" y="1901"/>
                  </a:lnTo>
                  <a:lnTo>
                    <a:pt x="2323" y="1587"/>
                  </a:lnTo>
                  <a:lnTo>
                    <a:pt x="2401" y="1444"/>
                  </a:lnTo>
                  <a:lnTo>
                    <a:pt x="2466" y="1293"/>
                  </a:lnTo>
                  <a:lnTo>
                    <a:pt x="2523" y="1140"/>
                  </a:lnTo>
                  <a:lnTo>
                    <a:pt x="2569" y="983"/>
                  </a:lnTo>
                  <a:lnTo>
                    <a:pt x="2606" y="825"/>
                  </a:lnTo>
                  <a:lnTo>
                    <a:pt x="2627" y="661"/>
                  </a:lnTo>
                  <a:lnTo>
                    <a:pt x="2637" y="500"/>
                  </a:lnTo>
                  <a:lnTo>
                    <a:pt x="2641" y="335"/>
                  </a:lnTo>
                  <a:lnTo>
                    <a:pt x="2627" y="225"/>
                  </a:lnTo>
                  <a:close/>
                </a:path>
              </a:pathLst>
            </a:custGeom>
            <a:solidFill>
              <a:srgbClr val="b5b5b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46000" y="3997080"/>
              <a:ext cx="180000" cy="198000"/>
            </a:xfrm>
            <a:custGeom>
              <a:avLst/>
              <a:gdLst/>
              <a:ahLst/>
              <a:rect l="l" t="t" r="r" b="b"/>
              <a:pathLst>
                <a:path w="3016" h="1891">
                  <a:moveTo>
                    <a:pt x="3016" y="536"/>
                  </a:moveTo>
                  <a:lnTo>
                    <a:pt x="2985" y="779"/>
                  </a:lnTo>
                  <a:lnTo>
                    <a:pt x="2917" y="976"/>
                  </a:lnTo>
                  <a:lnTo>
                    <a:pt x="2792" y="1197"/>
                  </a:lnTo>
                  <a:lnTo>
                    <a:pt x="2506" y="1383"/>
                  </a:lnTo>
                  <a:lnTo>
                    <a:pt x="2259" y="1433"/>
                  </a:lnTo>
                  <a:lnTo>
                    <a:pt x="1998" y="1455"/>
                  </a:lnTo>
                  <a:lnTo>
                    <a:pt x="1798" y="1433"/>
                  </a:lnTo>
                  <a:lnTo>
                    <a:pt x="1673" y="1455"/>
                  </a:lnTo>
                  <a:lnTo>
                    <a:pt x="1533" y="1501"/>
                  </a:lnTo>
                  <a:lnTo>
                    <a:pt x="1465" y="1566"/>
                  </a:lnTo>
                  <a:lnTo>
                    <a:pt x="1402" y="1697"/>
                  </a:lnTo>
                  <a:lnTo>
                    <a:pt x="1334" y="1762"/>
                  </a:lnTo>
                  <a:lnTo>
                    <a:pt x="1176" y="1862"/>
                  </a:lnTo>
                  <a:lnTo>
                    <a:pt x="1005" y="1891"/>
                  </a:lnTo>
                  <a:lnTo>
                    <a:pt x="851" y="1876"/>
                  </a:lnTo>
                  <a:lnTo>
                    <a:pt x="694" y="1833"/>
                  </a:lnTo>
                  <a:lnTo>
                    <a:pt x="526" y="1762"/>
                  </a:lnTo>
                  <a:lnTo>
                    <a:pt x="311" y="1566"/>
                  </a:lnTo>
                  <a:lnTo>
                    <a:pt x="130" y="1368"/>
                  </a:lnTo>
                  <a:lnTo>
                    <a:pt x="43" y="1240"/>
                  </a:lnTo>
                  <a:lnTo>
                    <a:pt x="0" y="1101"/>
                  </a:lnTo>
                  <a:lnTo>
                    <a:pt x="15" y="1001"/>
                  </a:lnTo>
                  <a:lnTo>
                    <a:pt x="83" y="843"/>
                  </a:lnTo>
                  <a:lnTo>
                    <a:pt x="279" y="779"/>
                  </a:lnTo>
                  <a:lnTo>
                    <a:pt x="608" y="689"/>
                  </a:lnTo>
                  <a:lnTo>
                    <a:pt x="1133" y="508"/>
                  </a:lnTo>
                  <a:lnTo>
                    <a:pt x="1458" y="368"/>
                  </a:lnTo>
                  <a:lnTo>
                    <a:pt x="1798" y="186"/>
                  </a:lnTo>
                  <a:lnTo>
                    <a:pt x="1998" y="86"/>
                  </a:lnTo>
                  <a:lnTo>
                    <a:pt x="2191" y="53"/>
                  </a:lnTo>
                  <a:lnTo>
                    <a:pt x="2395" y="0"/>
                  </a:lnTo>
                  <a:lnTo>
                    <a:pt x="2520" y="0"/>
                  </a:lnTo>
                  <a:lnTo>
                    <a:pt x="2720" y="14"/>
                  </a:lnTo>
                  <a:lnTo>
                    <a:pt x="2852" y="121"/>
                  </a:lnTo>
                  <a:lnTo>
                    <a:pt x="2945" y="254"/>
                  </a:lnTo>
                  <a:lnTo>
                    <a:pt x="2985" y="382"/>
                  </a:lnTo>
                  <a:lnTo>
                    <a:pt x="3016" y="536"/>
                  </a:lnTo>
                  <a:close/>
                </a:path>
              </a:pathLst>
            </a:custGeom>
            <a:solidFill>
              <a:srgbClr val="006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58240" y="4030920"/>
              <a:ext cx="145080" cy="147960"/>
            </a:xfrm>
            <a:custGeom>
              <a:avLst/>
              <a:gdLst/>
              <a:ahLst/>
              <a:rect l="l" t="t" r="r" b="b"/>
              <a:pathLst>
                <a:path w="2433" h="1420">
                  <a:moveTo>
                    <a:pt x="2123" y="22"/>
                  </a:moveTo>
                  <a:lnTo>
                    <a:pt x="2191" y="65"/>
                  </a:lnTo>
                  <a:lnTo>
                    <a:pt x="2333" y="191"/>
                  </a:lnTo>
                  <a:lnTo>
                    <a:pt x="2387" y="262"/>
                  </a:lnTo>
                  <a:lnTo>
                    <a:pt x="2420" y="387"/>
                  </a:lnTo>
                  <a:lnTo>
                    <a:pt x="2433" y="530"/>
                  </a:lnTo>
                  <a:lnTo>
                    <a:pt x="2433" y="641"/>
                  </a:lnTo>
                  <a:lnTo>
                    <a:pt x="2387" y="723"/>
                  </a:lnTo>
                  <a:lnTo>
                    <a:pt x="2251" y="827"/>
                  </a:lnTo>
                  <a:lnTo>
                    <a:pt x="1993" y="870"/>
                  </a:lnTo>
                  <a:lnTo>
                    <a:pt x="1654" y="827"/>
                  </a:lnTo>
                  <a:lnTo>
                    <a:pt x="1472" y="812"/>
                  </a:lnTo>
                  <a:lnTo>
                    <a:pt x="1344" y="812"/>
                  </a:lnTo>
                  <a:lnTo>
                    <a:pt x="1257" y="870"/>
                  </a:lnTo>
                  <a:lnTo>
                    <a:pt x="1201" y="988"/>
                  </a:lnTo>
                  <a:lnTo>
                    <a:pt x="1068" y="1249"/>
                  </a:lnTo>
                  <a:lnTo>
                    <a:pt x="990" y="1334"/>
                  </a:lnTo>
                  <a:lnTo>
                    <a:pt x="872" y="1380"/>
                  </a:lnTo>
                  <a:lnTo>
                    <a:pt x="707" y="1420"/>
                  </a:lnTo>
                  <a:lnTo>
                    <a:pt x="450" y="1377"/>
                  </a:lnTo>
                  <a:lnTo>
                    <a:pt x="282" y="1305"/>
                  </a:lnTo>
                  <a:lnTo>
                    <a:pt x="110" y="1123"/>
                  </a:lnTo>
                  <a:lnTo>
                    <a:pt x="25" y="980"/>
                  </a:lnTo>
                  <a:lnTo>
                    <a:pt x="0" y="855"/>
                  </a:lnTo>
                  <a:lnTo>
                    <a:pt x="39" y="726"/>
                  </a:lnTo>
                  <a:lnTo>
                    <a:pt x="96" y="655"/>
                  </a:lnTo>
                  <a:lnTo>
                    <a:pt x="282" y="613"/>
                  </a:lnTo>
                  <a:lnTo>
                    <a:pt x="679" y="515"/>
                  </a:lnTo>
                  <a:lnTo>
                    <a:pt x="1201" y="319"/>
                  </a:lnTo>
                  <a:lnTo>
                    <a:pt x="1597" y="118"/>
                  </a:lnTo>
                  <a:lnTo>
                    <a:pt x="1797" y="51"/>
                  </a:lnTo>
                  <a:lnTo>
                    <a:pt x="2058" y="0"/>
                  </a:lnTo>
                  <a:lnTo>
                    <a:pt x="2123" y="22"/>
                  </a:lnTo>
                  <a:close/>
                </a:path>
              </a:pathLst>
            </a:custGeom>
            <a:solidFill>
              <a:srgbClr val="ff993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930960" y="4030920"/>
              <a:ext cx="82080" cy="105120"/>
            </a:xfrm>
            <a:custGeom>
              <a:avLst/>
              <a:gdLst/>
              <a:ahLst/>
              <a:rect l="l" t="t" r="r" b="b"/>
              <a:pathLst>
                <a:path w="1375" h="1009">
                  <a:moveTo>
                    <a:pt x="822" y="8"/>
                  </a:moveTo>
                  <a:lnTo>
                    <a:pt x="962" y="0"/>
                  </a:lnTo>
                  <a:lnTo>
                    <a:pt x="1026" y="0"/>
                  </a:lnTo>
                  <a:lnTo>
                    <a:pt x="1161" y="37"/>
                  </a:lnTo>
                  <a:lnTo>
                    <a:pt x="1222" y="65"/>
                  </a:lnTo>
                  <a:lnTo>
                    <a:pt x="1333" y="204"/>
                  </a:lnTo>
                  <a:lnTo>
                    <a:pt x="1354" y="262"/>
                  </a:lnTo>
                  <a:lnTo>
                    <a:pt x="1375" y="387"/>
                  </a:lnTo>
                  <a:lnTo>
                    <a:pt x="1375" y="588"/>
                  </a:lnTo>
                  <a:lnTo>
                    <a:pt x="1319" y="726"/>
                  </a:lnTo>
                  <a:lnTo>
                    <a:pt x="1204" y="855"/>
                  </a:lnTo>
                  <a:lnTo>
                    <a:pt x="965" y="966"/>
                  </a:lnTo>
                  <a:lnTo>
                    <a:pt x="836" y="995"/>
                  </a:lnTo>
                  <a:lnTo>
                    <a:pt x="693" y="1009"/>
                  </a:lnTo>
                  <a:lnTo>
                    <a:pt x="497" y="995"/>
                  </a:lnTo>
                  <a:lnTo>
                    <a:pt x="297" y="937"/>
                  </a:lnTo>
                  <a:lnTo>
                    <a:pt x="171" y="923"/>
                  </a:lnTo>
                  <a:lnTo>
                    <a:pt x="0" y="95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44920" y="3979440"/>
              <a:ext cx="193320" cy="104040"/>
            </a:xfrm>
            <a:custGeom>
              <a:avLst/>
              <a:gdLst/>
              <a:ahLst/>
              <a:rect l="l" t="t" r="r" b="b"/>
              <a:pathLst>
                <a:path w="3259" h="1003">
                  <a:moveTo>
                    <a:pt x="3259" y="807"/>
                  </a:moveTo>
                  <a:lnTo>
                    <a:pt x="2877" y="185"/>
                  </a:lnTo>
                  <a:lnTo>
                    <a:pt x="2762" y="71"/>
                  </a:lnTo>
                  <a:lnTo>
                    <a:pt x="2619" y="13"/>
                  </a:lnTo>
                  <a:lnTo>
                    <a:pt x="2466" y="0"/>
                  </a:lnTo>
                  <a:lnTo>
                    <a:pt x="2180" y="13"/>
                  </a:lnTo>
                  <a:lnTo>
                    <a:pt x="1883" y="56"/>
                  </a:lnTo>
                  <a:lnTo>
                    <a:pt x="1486" y="185"/>
                  </a:lnTo>
                  <a:lnTo>
                    <a:pt x="1090" y="339"/>
                  </a:lnTo>
                  <a:lnTo>
                    <a:pt x="693" y="496"/>
                  </a:lnTo>
                  <a:lnTo>
                    <a:pt x="311" y="679"/>
                  </a:lnTo>
                  <a:lnTo>
                    <a:pt x="114" y="792"/>
                  </a:lnTo>
                  <a:lnTo>
                    <a:pt x="28" y="860"/>
                  </a:lnTo>
                  <a:lnTo>
                    <a:pt x="0" y="100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008000" y="3847680"/>
              <a:ext cx="33480" cy="203040"/>
            </a:xfrm>
            <a:custGeom>
              <a:avLst/>
              <a:gdLst/>
              <a:ahLst/>
              <a:rect l="l" t="t" r="r" b="b"/>
              <a:pathLst>
                <a:path w="565" h="1941">
                  <a:moveTo>
                    <a:pt x="482" y="450"/>
                  </a:moveTo>
                  <a:lnTo>
                    <a:pt x="550" y="636"/>
                  </a:lnTo>
                  <a:lnTo>
                    <a:pt x="562" y="779"/>
                  </a:lnTo>
                  <a:lnTo>
                    <a:pt x="565" y="921"/>
                  </a:lnTo>
                  <a:lnTo>
                    <a:pt x="550" y="1064"/>
                  </a:lnTo>
                  <a:lnTo>
                    <a:pt x="529" y="1204"/>
                  </a:lnTo>
                  <a:lnTo>
                    <a:pt x="497" y="1343"/>
                  </a:lnTo>
                  <a:lnTo>
                    <a:pt x="450" y="1479"/>
                  </a:lnTo>
                  <a:lnTo>
                    <a:pt x="411" y="1608"/>
                  </a:lnTo>
                  <a:lnTo>
                    <a:pt x="354" y="1737"/>
                  </a:lnTo>
                  <a:lnTo>
                    <a:pt x="258" y="1858"/>
                  </a:lnTo>
                  <a:lnTo>
                    <a:pt x="197" y="1941"/>
                  </a:lnTo>
                  <a:lnTo>
                    <a:pt x="0" y="1612"/>
                  </a:lnTo>
                  <a:lnTo>
                    <a:pt x="115" y="1483"/>
                  </a:lnTo>
                  <a:lnTo>
                    <a:pt x="168" y="1326"/>
                  </a:lnTo>
                  <a:lnTo>
                    <a:pt x="197" y="1187"/>
                  </a:lnTo>
                  <a:lnTo>
                    <a:pt x="225" y="1014"/>
                  </a:lnTo>
                  <a:lnTo>
                    <a:pt x="240" y="861"/>
                  </a:lnTo>
                  <a:lnTo>
                    <a:pt x="240" y="704"/>
                  </a:lnTo>
                  <a:lnTo>
                    <a:pt x="225" y="536"/>
                  </a:lnTo>
                  <a:lnTo>
                    <a:pt x="197" y="382"/>
                  </a:lnTo>
                  <a:lnTo>
                    <a:pt x="150" y="229"/>
                  </a:lnTo>
                  <a:lnTo>
                    <a:pt x="110" y="71"/>
                  </a:lnTo>
                  <a:lnTo>
                    <a:pt x="85" y="0"/>
                  </a:lnTo>
                  <a:lnTo>
                    <a:pt x="168" y="13"/>
                  </a:lnTo>
                  <a:lnTo>
                    <a:pt x="482" y="450"/>
                  </a:lnTo>
                  <a:close/>
                </a:path>
              </a:pathLst>
            </a:custGeom>
            <a:solidFill>
              <a:srgbClr val="ce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76240" y="4100040"/>
              <a:ext cx="35280" cy="71280"/>
            </a:xfrm>
            <a:custGeom>
              <a:avLst/>
              <a:gdLst/>
              <a:ahLst/>
              <a:rect l="l" t="t" r="r" b="b"/>
              <a:pathLst>
                <a:path w="608" h="679">
                  <a:moveTo>
                    <a:pt x="0" y="0"/>
                  </a:moveTo>
                  <a:lnTo>
                    <a:pt x="168" y="158"/>
                  </a:lnTo>
                  <a:lnTo>
                    <a:pt x="211" y="226"/>
                  </a:lnTo>
                  <a:lnTo>
                    <a:pt x="226" y="254"/>
                  </a:lnTo>
                  <a:lnTo>
                    <a:pt x="254" y="297"/>
                  </a:lnTo>
                  <a:lnTo>
                    <a:pt x="282" y="311"/>
                  </a:lnTo>
                  <a:lnTo>
                    <a:pt x="340" y="340"/>
                  </a:lnTo>
                  <a:lnTo>
                    <a:pt x="368" y="354"/>
                  </a:lnTo>
                  <a:lnTo>
                    <a:pt x="397" y="425"/>
                  </a:lnTo>
                  <a:lnTo>
                    <a:pt x="440" y="480"/>
                  </a:lnTo>
                  <a:lnTo>
                    <a:pt x="508" y="593"/>
                  </a:lnTo>
                  <a:lnTo>
                    <a:pt x="579" y="651"/>
                  </a:lnTo>
                  <a:lnTo>
                    <a:pt x="608" y="67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86680" y="4089960"/>
              <a:ext cx="23400" cy="21240"/>
            </a:xfrm>
            <a:custGeom>
              <a:avLst/>
              <a:gdLst/>
              <a:ahLst/>
              <a:rect l="l" t="t" r="r" b="b"/>
              <a:pathLst>
                <a:path w="397" h="196">
                  <a:moveTo>
                    <a:pt x="397" y="28"/>
                  </a:moveTo>
                  <a:lnTo>
                    <a:pt x="311" y="0"/>
                  </a:lnTo>
                  <a:lnTo>
                    <a:pt x="201" y="15"/>
                  </a:lnTo>
                  <a:lnTo>
                    <a:pt x="115" y="28"/>
                  </a:lnTo>
                  <a:lnTo>
                    <a:pt x="72" y="53"/>
                  </a:lnTo>
                  <a:lnTo>
                    <a:pt x="29" y="96"/>
                  </a:lnTo>
                  <a:lnTo>
                    <a:pt x="15" y="168"/>
                  </a:lnTo>
                  <a:lnTo>
                    <a:pt x="0" y="19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948960" y="4039560"/>
              <a:ext cx="30600" cy="31320"/>
            </a:xfrm>
            <a:custGeom>
              <a:avLst/>
              <a:gdLst/>
              <a:ahLst/>
              <a:rect l="l" t="t" r="r" b="b"/>
              <a:pathLst>
                <a:path w="510" h="297">
                  <a:moveTo>
                    <a:pt x="510" y="0"/>
                  </a:moveTo>
                  <a:lnTo>
                    <a:pt x="439" y="0"/>
                  </a:lnTo>
                  <a:lnTo>
                    <a:pt x="371" y="0"/>
                  </a:lnTo>
                  <a:lnTo>
                    <a:pt x="314" y="28"/>
                  </a:lnTo>
                  <a:lnTo>
                    <a:pt x="228" y="71"/>
                  </a:lnTo>
                  <a:lnTo>
                    <a:pt x="171" y="101"/>
                  </a:lnTo>
                  <a:lnTo>
                    <a:pt x="128" y="143"/>
                  </a:lnTo>
                  <a:lnTo>
                    <a:pt x="85" y="186"/>
                  </a:lnTo>
                  <a:lnTo>
                    <a:pt x="42" y="254"/>
                  </a:lnTo>
                  <a:lnTo>
                    <a:pt x="0" y="29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925560" y="4094640"/>
              <a:ext cx="3960" cy="21240"/>
            </a:xfrm>
            <a:custGeom>
              <a:avLst/>
              <a:gdLst/>
              <a:ahLst/>
              <a:rect l="l" t="t" r="r" b="b"/>
              <a:pathLst>
                <a:path w="68" h="214">
                  <a:moveTo>
                    <a:pt x="0" y="0"/>
                  </a:moveTo>
                  <a:lnTo>
                    <a:pt x="38" y="71"/>
                  </a:lnTo>
                  <a:lnTo>
                    <a:pt x="53" y="113"/>
                  </a:lnTo>
                  <a:lnTo>
                    <a:pt x="68" y="21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940320" y="4082400"/>
              <a:ext cx="2520" cy="8640"/>
            </a:xfrm>
            <a:custGeom>
              <a:avLst/>
              <a:gdLst/>
              <a:ahLst/>
              <a:rect l="l" t="t" r="r" b="b"/>
              <a:pathLst>
                <a:path w="42" h="87">
                  <a:moveTo>
                    <a:pt x="0" y="0"/>
                  </a:moveTo>
                  <a:lnTo>
                    <a:pt x="13" y="43"/>
                  </a:lnTo>
                  <a:lnTo>
                    <a:pt x="42" y="8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968400" y="4083840"/>
              <a:ext cx="6840" cy="4680"/>
            </a:xfrm>
            <a:custGeom>
              <a:avLst/>
              <a:gdLst/>
              <a:ahLst/>
              <a:rect l="l" t="t" r="r" b="b"/>
              <a:pathLst>
                <a:path w="110" h="43">
                  <a:moveTo>
                    <a:pt x="110" y="0"/>
                  </a:moveTo>
                  <a:lnTo>
                    <a:pt x="67" y="29"/>
                  </a:lnTo>
                  <a:lnTo>
                    <a:pt x="0" y="4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958320" y="4067280"/>
              <a:ext cx="21240" cy="20160"/>
            </a:xfrm>
            <a:custGeom>
              <a:avLst/>
              <a:gdLst/>
              <a:ahLst/>
              <a:rect l="l" t="t" r="r" b="b"/>
              <a:pathLst>
                <a:path w="353" h="185">
                  <a:moveTo>
                    <a:pt x="353" y="28"/>
                  </a:moveTo>
                  <a:lnTo>
                    <a:pt x="225" y="0"/>
                  </a:lnTo>
                  <a:lnTo>
                    <a:pt x="142" y="13"/>
                  </a:lnTo>
                  <a:lnTo>
                    <a:pt x="86" y="28"/>
                  </a:lnTo>
                  <a:lnTo>
                    <a:pt x="43" y="71"/>
                  </a:lnTo>
                  <a:lnTo>
                    <a:pt x="14" y="114"/>
                  </a:lnTo>
                  <a:lnTo>
                    <a:pt x="0" y="18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94600" y="4108680"/>
              <a:ext cx="20520" cy="16200"/>
            </a:xfrm>
            <a:custGeom>
              <a:avLst/>
              <a:gdLst/>
              <a:ahLst/>
              <a:rect l="l" t="t" r="r" b="b"/>
              <a:pathLst>
                <a:path w="353" h="154">
                  <a:moveTo>
                    <a:pt x="353" y="29"/>
                  </a:moveTo>
                  <a:lnTo>
                    <a:pt x="224" y="0"/>
                  </a:lnTo>
                  <a:lnTo>
                    <a:pt x="143" y="0"/>
                  </a:lnTo>
                  <a:lnTo>
                    <a:pt x="85" y="29"/>
                  </a:lnTo>
                  <a:lnTo>
                    <a:pt x="28" y="57"/>
                  </a:lnTo>
                  <a:lnTo>
                    <a:pt x="13" y="100"/>
                  </a:lnTo>
                  <a:lnTo>
                    <a:pt x="0" y="15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905400" y="4124880"/>
              <a:ext cx="6120" cy="6120"/>
            </a:xfrm>
            <a:custGeom>
              <a:avLst/>
              <a:gdLst/>
              <a:ahLst/>
              <a:rect l="l" t="t" r="r" b="b"/>
              <a:pathLst>
                <a:path w="115" h="57">
                  <a:moveTo>
                    <a:pt x="115" y="0"/>
                  </a:moveTo>
                  <a:lnTo>
                    <a:pt x="58" y="28"/>
                  </a:lnTo>
                  <a:lnTo>
                    <a:pt x="0" y="5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962640" y="4071240"/>
              <a:ext cx="9360" cy="14760"/>
            </a:xfrm>
            <a:custGeom>
              <a:avLst/>
              <a:gdLst/>
              <a:ahLst/>
              <a:rect l="l" t="t" r="r" b="b"/>
              <a:pathLst>
                <a:path w="154" h="143">
                  <a:moveTo>
                    <a:pt x="101" y="0"/>
                  </a:moveTo>
                  <a:lnTo>
                    <a:pt x="129" y="28"/>
                  </a:lnTo>
                  <a:lnTo>
                    <a:pt x="143" y="57"/>
                  </a:lnTo>
                  <a:lnTo>
                    <a:pt x="154" y="100"/>
                  </a:lnTo>
                  <a:lnTo>
                    <a:pt x="143" y="114"/>
                  </a:lnTo>
                  <a:lnTo>
                    <a:pt x="129" y="143"/>
                  </a:lnTo>
                  <a:lnTo>
                    <a:pt x="86" y="143"/>
                  </a:lnTo>
                  <a:lnTo>
                    <a:pt x="43" y="128"/>
                  </a:lnTo>
                  <a:lnTo>
                    <a:pt x="15" y="100"/>
                  </a:lnTo>
                  <a:lnTo>
                    <a:pt x="0" y="43"/>
                  </a:lnTo>
                  <a:lnTo>
                    <a:pt x="0" y="1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98200" y="4111200"/>
              <a:ext cx="8280" cy="13320"/>
            </a:xfrm>
            <a:custGeom>
              <a:avLst/>
              <a:gdLst/>
              <a:ahLst/>
              <a:rect l="l" t="t" r="r" b="b"/>
              <a:pathLst>
                <a:path w="139" h="140">
                  <a:moveTo>
                    <a:pt x="72" y="0"/>
                  </a:moveTo>
                  <a:lnTo>
                    <a:pt x="110" y="28"/>
                  </a:lnTo>
                  <a:lnTo>
                    <a:pt x="125" y="58"/>
                  </a:lnTo>
                  <a:lnTo>
                    <a:pt x="139" y="101"/>
                  </a:lnTo>
                  <a:lnTo>
                    <a:pt x="139" y="111"/>
                  </a:lnTo>
                  <a:lnTo>
                    <a:pt x="125" y="140"/>
                  </a:lnTo>
                  <a:lnTo>
                    <a:pt x="110" y="140"/>
                  </a:lnTo>
                  <a:lnTo>
                    <a:pt x="82" y="140"/>
                  </a:lnTo>
                  <a:lnTo>
                    <a:pt x="42" y="111"/>
                  </a:lnTo>
                  <a:lnTo>
                    <a:pt x="14" y="72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012680" y="3855240"/>
              <a:ext cx="13320" cy="161640"/>
            </a:xfrm>
            <a:custGeom>
              <a:avLst/>
              <a:gdLst/>
              <a:ahLst/>
              <a:rect l="l" t="t" r="r" b="b"/>
              <a:pathLst>
                <a:path w="224" h="1551">
                  <a:moveTo>
                    <a:pt x="96" y="0"/>
                  </a:moveTo>
                  <a:lnTo>
                    <a:pt x="182" y="297"/>
                  </a:lnTo>
                  <a:lnTo>
                    <a:pt x="211" y="493"/>
                  </a:lnTo>
                  <a:lnTo>
                    <a:pt x="224" y="761"/>
                  </a:lnTo>
                  <a:lnTo>
                    <a:pt x="196" y="1029"/>
                  </a:lnTo>
                  <a:lnTo>
                    <a:pt x="153" y="1283"/>
                  </a:lnTo>
                  <a:lnTo>
                    <a:pt x="81" y="1426"/>
                  </a:lnTo>
                  <a:lnTo>
                    <a:pt x="0" y="155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34560" y="4149000"/>
              <a:ext cx="32040" cy="32400"/>
            </a:xfrm>
            <a:custGeom>
              <a:avLst/>
              <a:gdLst/>
              <a:ahLst/>
              <a:rect l="l" t="t" r="r" b="b"/>
              <a:pathLst>
                <a:path w="539" h="307">
                  <a:moveTo>
                    <a:pt x="539" y="0"/>
                  </a:moveTo>
                  <a:lnTo>
                    <a:pt x="511" y="39"/>
                  </a:lnTo>
                  <a:lnTo>
                    <a:pt x="496" y="39"/>
                  </a:lnTo>
                  <a:lnTo>
                    <a:pt x="468" y="53"/>
                  </a:lnTo>
                  <a:lnTo>
                    <a:pt x="425" y="68"/>
                  </a:lnTo>
                  <a:lnTo>
                    <a:pt x="368" y="111"/>
                  </a:lnTo>
                  <a:lnTo>
                    <a:pt x="311" y="167"/>
                  </a:lnTo>
                  <a:lnTo>
                    <a:pt x="282" y="253"/>
                  </a:lnTo>
                  <a:lnTo>
                    <a:pt x="240" y="282"/>
                  </a:lnTo>
                  <a:lnTo>
                    <a:pt x="200" y="293"/>
                  </a:lnTo>
                  <a:lnTo>
                    <a:pt x="143" y="307"/>
                  </a:lnTo>
                  <a:lnTo>
                    <a:pt x="86" y="293"/>
                  </a:lnTo>
                  <a:lnTo>
                    <a:pt x="58" y="253"/>
                  </a:lnTo>
                  <a:lnTo>
                    <a:pt x="29" y="210"/>
                  </a:lnTo>
                  <a:lnTo>
                    <a:pt x="0" y="11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956160" y="4173840"/>
              <a:ext cx="4680" cy="17640"/>
            </a:xfrm>
            <a:custGeom>
              <a:avLst/>
              <a:gdLst/>
              <a:ahLst/>
              <a:rect l="l" t="t" r="r" b="b"/>
              <a:pathLst>
                <a:path w="86" h="168">
                  <a:moveTo>
                    <a:pt x="14" y="0"/>
                  </a:moveTo>
                  <a:lnTo>
                    <a:pt x="86" y="111"/>
                  </a:lnTo>
                  <a:lnTo>
                    <a:pt x="86" y="139"/>
                  </a:lnTo>
                  <a:lnTo>
                    <a:pt x="57" y="154"/>
                  </a:lnTo>
                  <a:lnTo>
                    <a:pt x="29" y="168"/>
                  </a:lnTo>
                  <a:lnTo>
                    <a:pt x="0" y="16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986760" y="4145040"/>
              <a:ext cx="14040" cy="17640"/>
            </a:xfrm>
            <a:custGeom>
              <a:avLst/>
              <a:gdLst/>
              <a:ahLst/>
              <a:rect l="l" t="t" r="r" b="b"/>
              <a:pathLst>
                <a:path w="239" h="168">
                  <a:moveTo>
                    <a:pt x="0" y="0"/>
                  </a:moveTo>
                  <a:lnTo>
                    <a:pt x="71" y="68"/>
                  </a:lnTo>
                  <a:lnTo>
                    <a:pt x="153" y="112"/>
                  </a:lnTo>
                  <a:lnTo>
                    <a:pt x="239" y="16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986040" y="4162680"/>
              <a:ext cx="7560" cy="9720"/>
            </a:xfrm>
            <a:custGeom>
              <a:avLst/>
              <a:gdLst/>
              <a:ahLst/>
              <a:rect l="l" t="t" r="r" b="b"/>
              <a:pathLst>
                <a:path w="125" h="101">
                  <a:moveTo>
                    <a:pt x="0" y="0"/>
                  </a:moveTo>
                  <a:lnTo>
                    <a:pt x="58" y="15"/>
                  </a:lnTo>
                  <a:lnTo>
                    <a:pt x="86" y="43"/>
                  </a:lnTo>
                  <a:lnTo>
                    <a:pt x="125" y="10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56160" y="4186440"/>
              <a:ext cx="32400" cy="42480"/>
            </a:xfrm>
            <a:custGeom>
              <a:avLst/>
              <a:gdLst/>
              <a:ahLst/>
              <a:rect l="l" t="t" r="r" b="b"/>
              <a:pathLst>
                <a:path w="554" h="411">
                  <a:moveTo>
                    <a:pt x="554" y="0"/>
                  </a:moveTo>
                  <a:lnTo>
                    <a:pt x="539" y="171"/>
                  </a:lnTo>
                  <a:lnTo>
                    <a:pt x="468" y="254"/>
                  </a:lnTo>
                  <a:lnTo>
                    <a:pt x="368" y="325"/>
                  </a:lnTo>
                  <a:lnTo>
                    <a:pt x="243" y="397"/>
                  </a:lnTo>
                  <a:lnTo>
                    <a:pt x="172" y="411"/>
                  </a:lnTo>
                  <a:lnTo>
                    <a:pt x="114" y="397"/>
                  </a:lnTo>
                  <a:lnTo>
                    <a:pt x="0" y="32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949680" y="4172760"/>
              <a:ext cx="37080" cy="42480"/>
            </a:xfrm>
            <a:custGeom>
              <a:avLst/>
              <a:gdLst/>
              <a:ahLst/>
              <a:rect l="l" t="t" r="r" b="b"/>
              <a:pathLst>
                <a:path w="626" h="407">
                  <a:moveTo>
                    <a:pt x="0" y="311"/>
                  </a:moveTo>
                  <a:lnTo>
                    <a:pt x="43" y="325"/>
                  </a:lnTo>
                  <a:lnTo>
                    <a:pt x="100" y="336"/>
                  </a:lnTo>
                  <a:lnTo>
                    <a:pt x="129" y="325"/>
                  </a:lnTo>
                  <a:lnTo>
                    <a:pt x="214" y="296"/>
                  </a:lnTo>
                  <a:lnTo>
                    <a:pt x="285" y="254"/>
                  </a:lnTo>
                  <a:lnTo>
                    <a:pt x="329" y="239"/>
                  </a:lnTo>
                  <a:lnTo>
                    <a:pt x="368" y="211"/>
                  </a:lnTo>
                  <a:lnTo>
                    <a:pt x="483" y="140"/>
                  </a:lnTo>
                  <a:lnTo>
                    <a:pt x="568" y="68"/>
                  </a:lnTo>
                  <a:lnTo>
                    <a:pt x="626" y="0"/>
                  </a:lnTo>
                  <a:lnTo>
                    <a:pt x="583" y="82"/>
                  </a:lnTo>
                  <a:lnTo>
                    <a:pt x="554" y="153"/>
                  </a:lnTo>
                  <a:lnTo>
                    <a:pt x="511" y="239"/>
                  </a:lnTo>
                  <a:lnTo>
                    <a:pt x="468" y="282"/>
                  </a:lnTo>
                  <a:lnTo>
                    <a:pt x="382" y="336"/>
                  </a:lnTo>
                  <a:lnTo>
                    <a:pt x="285" y="379"/>
                  </a:lnTo>
                  <a:lnTo>
                    <a:pt x="171" y="407"/>
                  </a:lnTo>
                  <a:lnTo>
                    <a:pt x="114" y="407"/>
                  </a:lnTo>
                  <a:lnTo>
                    <a:pt x="57" y="364"/>
                  </a:lnTo>
                  <a:lnTo>
                    <a:pt x="0" y="325"/>
                  </a:lnTo>
                  <a:lnTo>
                    <a:pt x="0" y="31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247400" y="5020200"/>
              <a:ext cx="89640" cy="55080"/>
            </a:xfrm>
            <a:custGeom>
              <a:avLst/>
              <a:gdLst/>
              <a:ahLst/>
              <a:rect l="l" t="t" r="r" b="b"/>
              <a:pathLst>
                <a:path w="1518" h="526">
                  <a:moveTo>
                    <a:pt x="990" y="526"/>
                  </a:moveTo>
                  <a:lnTo>
                    <a:pt x="1518" y="397"/>
                  </a:lnTo>
                  <a:lnTo>
                    <a:pt x="1450" y="196"/>
                  </a:lnTo>
                  <a:lnTo>
                    <a:pt x="1057" y="68"/>
                  </a:lnTo>
                  <a:lnTo>
                    <a:pt x="990" y="133"/>
                  </a:lnTo>
                  <a:lnTo>
                    <a:pt x="724" y="68"/>
                  </a:lnTo>
                  <a:lnTo>
                    <a:pt x="593" y="0"/>
                  </a:lnTo>
                  <a:lnTo>
                    <a:pt x="464" y="0"/>
                  </a:lnTo>
                  <a:lnTo>
                    <a:pt x="199" y="0"/>
                  </a:lnTo>
                  <a:lnTo>
                    <a:pt x="67" y="68"/>
                  </a:lnTo>
                  <a:lnTo>
                    <a:pt x="0" y="196"/>
                  </a:lnTo>
                  <a:lnTo>
                    <a:pt x="0" y="397"/>
                  </a:lnTo>
                  <a:lnTo>
                    <a:pt x="990" y="5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019520" y="5158440"/>
              <a:ext cx="86400" cy="74880"/>
            </a:xfrm>
            <a:custGeom>
              <a:avLst/>
              <a:gdLst/>
              <a:ahLst/>
              <a:rect l="l" t="t" r="r" b="b"/>
              <a:pathLst>
                <a:path w="1451" h="723">
                  <a:moveTo>
                    <a:pt x="925" y="723"/>
                  </a:moveTo>
                  <a:lnTo>
                    <a:pt x="989" y="526"/>
                  </a:lnTo>
                  <a:lnTo>
                    <a:pt x="1451" y="526"/>
                  </a:lnTo>
                  <a:lnTo>
                    <a:pt x="1451" y="394"/>
                  </a:lnTo>
                  <a:lnTo>
                    <a:pt x="1318" y="198"/>
                  </a:lnTo>
                  <a:lnTo>
                    <a:pt x="925" y="65"/>
                  </a:lnTo>
                  <a:lnTo>
                    <a:pt x="793" y="133"/>
                  </a:lnTo>
                  <a:lnTo>
                    <a:pt x="529" y="0"/>
                  </a:lnTo>
                  <a:lnTo>
                    <a:pt x="264" y="133"/>
                  </a:lnTo>
                  <a:lnTo>
                    <a:pt x="68" y="65"/>
                  </a:lnTo>
                  <a:lnTo>
                    <a:pt x="0" y="198"/>
                  </a:lnTo>
                  <a:lnTo>
                    <a:pt x="0" y="462"/>
                  </a:lnTo>
                  <a:lnTo>
                    <a:pt x="925" y="7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78320" y="4686120"/>
              <a:ext cx="978840" cy="768240"/>
            </a:xfrm>
            <a:custGeom>
              <a:avLst/>
              <a:gdLst/>
              <a:ahLst/>
              <a:rect l="l" t="t" r="r" b="b"/>
              <a:pathLst>
                <a:path w="16453" h="7339">
                  <a:moveTo>
                    <a:pt x="35" y="43"/>
                  </a:moveTo>
                  <a:lnTo>
                    <a:pt x="32" y="65"/>
                  </a:lnTo>
                  <a:lnTo>
                    <a:pt x="0" y="219"/>
                  </a:lnTo>
                  <a:lnTo>
                    <a:pt x="0" y="365"/>
                  </a:lnTo>
                  <a:lnTo>
                    <a:pt x="38" y="512"/>
                  </a:lnTo>
                  <a:lnTo>
                    <a:pt x="75" y="659"/>
                  </a:lnTo>
                  <a:lnTo>
                    <a:pt x="131" y="802"/>
                  </a:lnTo>
                  <a:lnTo>
                    <a:pt x="186" y="941"/>
                  </a:lnTo>
                  <a:lnTo>
                    <a:pt x="249" y="1076"/>
                  </a:lnTo>
                  <a:lnTo>
                    <a:pt x="321" y="1205"/>
                  </a:lnTo>
                  <a:lnTo>
                    <a:pt x="407" y="1330"/>
                  </a:lnTo>
                  <a:lnTo>
                    <a:pt x="496" y="1448"/>
                  </a:lnTo>
                  <a:lnTo>
                    <a:pt x="600" y="1556"/>
                  </a:lnTo>
                  <a:lnTo>
                    <a:pt x="707" y="1659"/>
                  </a:lnTo>
                  <a:lnTo>
                    <a:pt x="825" y="1752"/>
                  </a:lnTo>
                  <a:lnTo>
                    <a:pt x="825" y="1752"/>
                  </a:lnTo>
                  <a:lnTo>
                    <a:pt x="922" y="1835"/>
                  </a:lnTo>
                  <a:lnTo>
                    <a:pt x="1071" y="1952"/>
                  </a:lnTo>
                  <a:lnTo>
                    <a:pt x="1229" y="2064"/>
                  </a:lnTo>
                  <a:lnTo>
                    <a:pt x="1400" y="2152"/>
                  </a:lnTo>
                  <a:lnTo>
                    <a:pt x="1565" y="2253"/>
                  </a:lnTo>
                  <a:lnTo>
                    <a:pt x="1740" y="2331"/>
                  </a:lnTo>
                  <a:lnTo>
                    <a:pt x="1911" y="2371"/>
                  </a:lnTo>
                  <a:lnTo>
                    <a:pt x="2097" y="2428"/>
                  </a:lnTo>
                  <a:lnTo>
                    <a:pt x="2280" y="2482"/>
                  </a:lnTo>
                  <a:lnTo>
                    <a:pt x="2473" y="2539"/>
                  </a:lnTo>
                  <a:lnTo>
                    <a:pt x="2473" y="2539"/>
                  </a:lnTo>
                  <a:lnTo>
                    <a:pt x="3527" y="2857"/>
                  </a:lnTo>
                  <a:lnTo>
                    <a:pt x="4577" y="3183"/>
                  </a:lnTo>
                  <a:lnTo>
                    <a:pt x="5625" y="3522"/>
                  </a:lnTo>
                  <a:lnTo>
                    <a:pt x="6668" y="3869"/>
                  </a:lnTo>
                  <a:lnTo>
                    <a:pt x="7704" y="4229"/>
                  </a:lnTo>
                  <a:lnTo>
                    <a:pt x="8740" y="4601"/>
                  </a:lnTo>
                  <a:lnTo>
                    <a:pt x="9773" y="4980"/>
                  </a:lnTo>
                  <a:lnTo>
                    <a:pt x="10799" y="5373"/>
                  </a:lnTo>
                  <a:lnTo>
                    <a:pt x="11824" y="5773"/>
                  </a:lnTo>
                  <a:lnTo>
                    <a:pt x="12843" y="6188"/>
                  </a:lnTo>
                  <a:lnTo>
                    <a:pt x="13858" y="6613"/>
                  </a:lnTo>
                  <a:lnTo>
                    <a:pt x="14865" y="7047"/>
                  </a:lnTo>
                  <a:lnTo>
                    <a:pt x="15531" y="7339"/>
                  </a:lnTo>
                  <a:lnTo>
                    <a:pt x="15531" y="7339"/>
                  </a:lnTo>
                  <a:lnTo>
                    <a:pt x="16453" y="6942"/>
                  </a:lnTo>
                  <a:lnTo>
                    <a:pt x="16453" y="6811"/>
                  </a:lnTo>
                  <a:lnTo>
                    <a:pt x="16453" y="6811"/>
                  </a:lnTo>
                  <a:lnTo>
                    <a:pt x="15563" y="6403"/>
                  </a:lnTo>
                  <a:lnTo>
                    <a:pt x="14569" y="5956"/>
                  </a:lnTo>
                  <a:lnTo>
                    <a:pt x="13568" y="5519"/>
                  </a:lnTo>
                  <a:lnTo>
                    <a:pt x="12568" y="5098"/>
                  </a:lnTo>
                  <a:lnTo>
                    <a:pt x="11557" y="4684"/>
                  </a:lnTo>
                  <a:lnTo>
                    <a:pt x="10545" y="4279"/>
                  </a:lnTo>
                  <a:lnTo>
                    <a:pt x="9531" y="3887"/>
                  </a:lnTo>
                  <a:lnTo>
                    <a:pt x="8508" y="3504"/>
                  </a:lnTo>
                  <a:lnTo>
                    <a:pt x="7483" y="3132"/>
                  </a:lnTo>
                  <a:lnTo>
                    <a:pt x="6454" y="2771"/>
                  </a:lnTo>
                  <a:lnTo>
                    <a:pt x="5421" y="2421"/>
                  </a:lnTo>
                  <a:lnTo>
                    <a:pt x="4388" y="2081"/>
                  </a:lnTo>
                  <a:lnTo>
                    <a:pt x="4388" y="2081"/>
                  </a:lnTo>
                  <a:lnTo>
                    <a:pt x="4092" y="1992"/>
                  </a:lnTo>
                  <a:lnTo>
                    <a:pt x="3798" y="1895"/>
                  </a:lnTo>
                  <a:lnTo>
                    <a:pt x="3509" y="1788"/>
                  </a:lnTo>
                  <a:lnTo>
                    <a:pt x="3223" y="1667"/>
                  </a:lnTo>
                  <a:lnTo>
                    <a:pt x="2941" y="1538"/>
                  </a:lnTo>
                  <a:lnTo>
                    <a:pt x="2665" y="1398"/>
                  </a:lnTo>
                  <a:lnTo>
                    <a:pt x="2398" y="1248"/>
                  </a:lnTo>
                  <a:lnTo>
                    <a:pt x="2133" y="1087"/>
                  </a:lnTo>
                  <a:lnTo>
                    <a:pt x="1872" y="916"/>
                  </a:lnTo>
                  <a:lnTo>
                    <a:pt x="1622" y="737"/>
                  </a:lnTo>
                  <a:lnTo>
                    <a:pt x="1486" y="634"/>
                  </a:lnTo>
                  <a:lnTo>
                    <a:pt x="1486" y="634"/>
                  </a:lnTo>
                  <a:lnTo>
                    <a:pt x="1290" y="519"/>
                  </a:lnTo>
                  <a:lnTo>
                    <a:pt x="1018" y="347"/>
                  </a:lnTo>
                  <a:lnTo>
                    <a:pt x="739" y="226"/>
                  </a:lnTo>
                  <a:lnTo>
                    <a:pt x="453" y="98"/>
                  </a:lnTo>
                  <a:lnTo>
                    <a:pt x="174" y="0"/>
                  </a:lnTo>
                  <a:lnTo>
                    <a:pt x="35" y="43"/>
                  </a:lnTo>
                  <a:close/>
                </a:path>
              </a:pathLst>
            </a:custGeom>
            <a:solidFill>
              <a:srgbClr val="ce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84800" y="4697640"/>
              <a:ext cx="968760" cy="714240"/>
            </a:xfrm>
            <a:custGeom>
              <a:avLst/>
              <a:gdLst/>
              <a:ahLst/>
              <a:rect l="l" t="t" r="r" b="b"/>
              <a:pathLst>
                <a:path w="16285" h="6835">
                  <a:moveTo>
                    <a:pt x="0" y="0"/>
                  </a:moveTo>
                  <a:lnTo>
                    <a:pt x="286" y="122"/>
                  </a:lnTo>
                  <a:lnTo>
                    <a:pt x="572" y="251"/>
                  </a:lnTo>
                  <a:lnTo>
                    <a:pt x="850" y="394"/>
                  </a:lnTo>
                  <a:lnTo>
                    <a:pt x="1122" y="544"/>
                  </a:lnTo>
                  <a:lnTo>
                    <a:pt x="1319" y="658"/>
                  </a:lnTo>
                  <a:lnTo>
                    <a:pt x="1319" y="658"/>
                  </a:lnTo>
                  <a:lnTo>
                    <a:pt x="1455" y="761"/>
                  </a:lnTo>
                  <a:lnTo>
                    <a:pt x="1705" y="940"/>
                  </a:lnTo>
                  <a:lnTo>
                    <a:pt x="1966" y="1112"/>
                  </a:lnTo>
                  <a:lnTo>
                    <a:pt x="2230" y="1273"/>
                  </a:lnTo>
                  <a:lnTo>
                    <a:pt x="2498" y="1423"/>
                  </a:lnTo>
                  <a:lnTo>
                    <a:pt x="2773" y="1563"/>
                  </a:lnTo>
                  <a:lnTo>
                    <a:pt x="3056" y="1691"/>
                  </a:lnTo>
                  <a:lnTo>
                    <a:pt x="3341" y="1812"/>
                  </a:lnTo>
                  <a:lnTo>
                    <a:pt x="3631" y="1920"/>
                  </a:lnTo>
                  <a:lnTo>
                    <a:pt x="3924" y="2016"/>
                  </a:lnTo>
                  <a:lnTo>
                    <a:pt x="4220" y="2106"/>
                  </a:lnTo>
                  <a:lnTo>
                    <a:pt x="4220" y="2106"/>
                  </a:lnTo>
                  <a:lnTo>
                    <a:pt x="5253" y="2445"/>
                  </a:lnTo>
                  <a:lnTo>
                    <a:pt x="6286" y="2795"/>
                  </a:lnTo>
                  <a:lnTo>
                    <a:pt x="7315" y="3157"/>
                  </a:lnTo>
                  <a:lnTo>
                    <a:pt x="8341" y="3529"/>
                  </a:lnTo>
                  <a:lnTo>
                    <a:pt x="9363" y="3911"/>
                  </a:lnTo>
                  <a:lnTo>
                    <a:pt x="10378" y="4304"/>
                  </a:lnTo>
                  <a:lnTo>
                    <a:pt x="11389" y="4708"/>
                  </a:lnTo>
                  <a:lnTo>
                    <a:pt x="12401" y="5123"/>
                  </a:lnTo>
                  <a:lnTo>
                    <a:pt x="13402" y="5545"/>
                  </a:lnTo>
                  <a:lnTo>
                    <a:pt x="14402" y="5981"/>
                  </a:lnTo>
                  <a:lnTo>
                    <a:pt x="15395" y="6428"/>
                  </a:lnTo>
                  <a:lnTo>
                    <a:pt x="16285" y="683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95240" y="4737600"/>
              <a:ext cx="61920" cy="99000"/>
            </a:xfrm>
            <a:custGeom>
              <a:avLst/>
              <a:gdLst/>
              <a:ahLst/>
              <a:rect l="l" t="t" r="r" b="b"/>
              <a:pathLst>
                <a:path w="1043" h="947">
                  <a:moveTo>
                    <a:pt x="1043" y="529"/>
                  </a:moveTo>
                  <a:lnTo>
                    <a:pt x="933" y="383"/>
                  </a:lnTo>
                  <a:lnTo>
                    <a:pt x="803" y="271"/>
                  </a:lnTo>
                  <a:lnTo>
                    <a:pt x="604" y="165"/>
                  </a:lnTo>
                  <a:lnTo>
                    <a:pt x="346" y="54"/>
                  </a:lnTo>
                  <a:lnTo>
                    <a:pt x="217" y="18"/>
                  </a:lnTo>
                  <a:lnTo>
                    <a:pt x="71" y="0"/>
                  </a:lnTo>
                  <a:lnTo>
                    <a:pt x="0" y="0"/>
                  </a:lnTo>
                  <a:lnTo>
                    <a:pt x="0" y="72"/>
                  </a:lnTo>
                  <a:lnTo>
                    <a:pt x="18" y="271"/>
                  </a:lnTo>
                  <a:lnTo>
                    <a:pt x="128" y="600"/>
                  </a:lnTo>
                  <a:lnTo>
                    <a:pt x="199" y="729"/>
                  </a:lnTo>
                  <a:lnTo>
                    <a:pt x="328" y="876"/>
                  </a:lnTo>
                  <a:lnTo>
                    <a:pt x="475" y="947"/>
                  </a:lnTo>
                  <a:lnTo>
                    <a:pt x="604" y="947"/>
                  </a:lnTo>
                  <a:lnTo>
                    <a:pt x="732" y="894"/>
                  </a:lnTo>
                  <a:lnTo>
                    <a:pt x="857" y="841"/>
                  </a:lnTo>
                  <a:lnTo>
                    <a:pt x="1026" y="658"/>
                  </a:lnTo>
                  <a:lnTo>
                    <a:pt x="1043" y="529"/>
                  </a:lnTo>
                  <a:close/>
                </a:path>
              </a:pathLst>
            </a:custGeom>
            <a:solidFill>
              <a:srgbClr val="006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25320" y="4964760"/>
              <a:ext cx="861120" cy="489600"/>
            </a:xfrm>
            <a:custGeom>
              <a:avLst/>
              <a:gdLst/>
              <a:ahLst/>
              <a:rect l="l" t="t" r="r" b="b"/>
              <a:pathLst>
                <a:path w="14480" h="4676">
                  <a:moveTo>
                    <a:pt x="13426" y="4676"/>
                  </a:moveTo>
                  <a:lnTo>
                    <a:pt x="12733" y="4458"/>
                  </a:lnTo>
                  <a:lnTo>
                    <a:pt x="11804" y="4179"/>
                  </a:lnTo>
                  <a:lnTo>
                    <a:pt x="10874" y="3912"/>
                  </a:lnTo>
                  <a:lnTo>
                    <a:pt x="9942" y="3658"/>
                  </a:lnTo>
                  <a:lnTo>
                    <a:pt x="9006" y="3411"/>
                  </a:lnTo>
                  <a:lnTo>
                    <a:pt x="8066" y="3175"/>
                  </a:lnTo>
                  <a:lnTo>
                    <a:pt x="7126" y="2954"/>
                  </a:lnTo>
                  <a:lnTo>
                    <a:pt x="6172" y="2753"/>
                  </a:lnTo>
                  <a:lnTo>
                    <a:pt x="5239" y="2571"/>
                  </a:lnTo>
                  <a:lnTo>
                    <a:pt x="4289" y="2388"/>
                  </a:lnTo>
                  <a:lnTo>
                    <a:pt x="3338" y="2224"/>
                  </a:lnTo>
                  <a:lnTo>
                    <a:pt x="2387" y="2059"/>
                  </a:lnTo>
                  <a:lnTo>
                    <a:pt x="1748" y="1971"/>
                  </a:lnTo>
                  <a:lnTo>
                    <a:pt x="1436" y="1895"/>
                  </a:lnTo>
                  <a:lnTo>
                    <a:pt x="1233" y="1842"/>
                  </a:lnTo>
                  <a:lnTo>
                    <a:pt x="1039" y="1788"/>
                  </a:lnTo>
                  <a:lnTo>
                    <a:pt x="918" y="1731"/>
                  </a:lnTo>
                  <a:lnTo>
                    <a:pt x="804" y="1674"/>
                  </a:lnTo>
                  <a:lnTo>
                    <a:pt x="690" y="1609"/>
                  </a:lnTo>
                  <a:lnTo>
                    <a:pt x="586" y="1531"/>
                  </a:lnTo>
                  <a:lnTo>
                    <a:pt x="476" y="1441"/>
                  </a:lnTo>
                  <a:lnTo>
                    <a:pt x="383" y="1348"/>
                  </a:lnTo>
                  <a:lnTo>
                    <a:pt x="315" y="1252"/>
                  </a:lnTo>
                  <a:lnTo>
                    <a:pt x="239" y="1144"/>
                  </a:lnTo>
                  <a:lnTo>
                    <a:pt x="147" y="1023"/>
                  </a:lnTo>
                  <a:lnTo>
                    <a:pt x="89" y="912"/>
                  </a:lnTo>
                  <a:lnTo>
                    <a:pt x="36" y="784"/>
                  </a:lnTo>
                  <a:lnTo>
                    <a:pt x="0" y="641"/>
                  </a:lnTo>
                  <a:lnTo>
                    <a:pt x="0" y="494"/>
                  </a:lnTo>
                  <a:lnTo>
                    <a:pt x="32" y="294"/>
                  </a:lnTo>
                  <a:lnTo>
                    <a:pt x="64" y="219"/>
                  </a:lnTo>
                  <a:lnTo>
                    <a:pt x="107" y="143"/>
                  </a:lnTo>
                  <a:lnTo>
                    <a:pt x="161" y="80"/>
                  </a:lnTo>
                  <a:lnTo>
                    <a:pt x="218" y="19"/>
                  </a:lnTo>
                  <a:lnTo>
                    <a:pt x="293" y="0"/>
                  </a:lnTo>
                  <a:lnTo>
                    <a:pt x="511" y="72"/>
                  </a:lnTo>
                  <a:lnTo>
                    <a:pt x="675" y="148"/>
                  </a:lnTo>
                  <a:lnTo>
                    <a:pt x="822" y="236"/>
                  </a:lnTo>
                  <a:lnTo>
                    <a:pt x="951" y="329"/>
                  </a:lnTo>
                  <a:lnTo>
                    <a:pt x="1079" y="437"/>
                  </a:lnTo>
                  <a:lnTo>
                    <a:pt x="1737" y="983"/>
                  </a:lnTo>
                  <a:lnTo>
                    <a:pt x="1954" y="1131"/>
                  </a:lnTo>
                  <a:lnTo>
                    <a:pt x="2158" y="1259"/>
                  </a:lnTo>
                  <a:lnTo>
                    <a:pt x="2341" y="1348"/>
                  </a:lnTo>
                  <a:lnTo>
                    <a:pt x="2544" y="1423"/>
                  </a:lnTo>
                  <a:lnTo>
                    <a:pt x="2748" y="1503"/>
                  </a:lnTo>
                  <a:lnTo>
                    <a:pt x="2959" y="1574"/>
                  </a:lnTo>
                  <a:lnTo>
                    <a:pt x="3170" y="1631"/>
                  </a:lnTo>
                  <a:lnTo>
                    <a:pt x="3384" y="1681"/>
                  </a:lnTo>
                  <a:lnTo>
                    <a:pt x="3602" y="1717"/>
                  </a:lnTo>
                  <a:lnTo>
                    <a:pt x="3602" y="1717"/>
                  </a:lnTo>
                  <a:lnTo>
                    <a:pt x="4463" y="1856"/>
                  </a:lnTo>
                  <a:lnTo>
                    <a:pt x="5321" y="2006"/>
                  </a:lnTo>
                  <a:lnTo>
                    <a:pt x="6179" y="2167"/>
                  </a:lnTo>
                  <a:lnTo>
                    <a:pt x="7036" y="2338"/>
                  </a:lnTo>
                  <a:lnTo>
                    <a:pt x="7887" y="2524"/>
                  </a:lnTo>
                  <a:lnTo>
                    <a:pt x="8738" y="2717"/>
                  </a:lnTo>
                  <a:lnTo>
                    <a:pt x="9588" y="2924"/>
                  </a:lnTo>
                  <a:lnTo>
                    <a:pt x="10431" y="3140"/>
                  </a:lnTo>
                  <a:lnTo>
                    <a:pt x="11274" y="3368"/>
                  </a:lnTo>
                  <a:lnTo>
                    <a:pt x="12115" y="3608"/>
                  </a:lnTo>
                  <a:lnTo>
                    <a:pt x="12950" y="3858"/>
                  </a:lnTo>
                  <a:lnTo>
                    <a:pt x="13784" y="4118"/>
                  </a:lnTo>
                  <a:lnTo>
                    <a:pt x="14480" y="4347"/>
                  </a:lnTo>
                  <a:lnTo>
                    <a:pt x="14480" y="4347"/>
                  </a:lnTo>
                  <a:lnTo>
                    <a:pt x="14480" y="4469"/>
                  </a:lnTo>
                  <a:lnTo>
                    <a:pt x="13426" y="4676"/>
                  </a:lnTo>
                  <a:close/>
                </a:path>
              </a:pathLst>
            </a:custGeom>
            <a:solidFill>
              <a:srgbClr val="ce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36840" y="4976280"/>
              <a:ext cx="847440" cy="454320"/>
            </a:xfrm>
            <a:custGeom>
              <a:avLst/>
              <a:gdLst/>
              <a:ahLst/>
              <a:rect l="l" t="t" r="r" b="b"/>
              <a:pathLst>
                <a:path w="14241" h="4341">
                  <a:moveTo>
                    <a:pt x="0" y="0"/>
                  </a:moveTo>
                  <a:lnTo>
                    <a:pt x="104" y="22"/>
                  </a:lnTo>
                  <a:lnTo>
                    <a:pt x="304" y="90"/>
                  </a:lnTo>
                  <a:lnTo>
                    <a:pt x="422" y="143"/>
                  </a:lnTo>
                  <a:lnTo>
                    <a:pt x="550" y="218"/>
                  </a:lnTo>
                  <a:lnTo>
                    <a:pt x="690" y="333"/>
                  </a:lnTo>
                  <a:lnTo>
                    <a:pt x="819" y="426"/>
                  </a:lnTo>
                  <a:lnTo>
                    <a:pt x="937" y="526"/>
                  </a:lnTo>
                  <a:lnTo>
                    <a:pt x="1030" y="615"/>
                  </a:lnTo>
                  <a:lnTo>
                    <a:pt x="1030" y="615"/>
                  </a:lnTo>
                  <a:lnTo>
                    <a:pt x="1165" y="741"/>
                  </a:lnTo>
                  <a:lnTo>
                    <a:pt x="1337" y="880"/>
                  </a:lnTo>
                  <a:lnTo>
                    <a:pt x="1512" y="1008"/>
                  </a:lnTo>
                  <a:lnTo>
                    <a:pt x="1698" y="1130"/>
                  </a:lnTo>
                  <a:lnTo>
                    <a:pt x="1887" y="1244"/>
                  </a:lnTo>
                  <a:lnTo>
                    <a:pt x="2080" y="1345"/>
                  </a:lnTo>
                  <a:lnTo>
                    <a:pt x="2280" y="1438"/>
                  </a:lnTo>
                  <a:lnTo>
                    <a:pt x="2483" y="1516"/>
                  </a:lnTo>
                  <a:lnTo>
                    <a:pt x="2694" y="1588"/>
                  </a:lnTo>
                  <a:lnTo>
                    <a:pt x="2905" y="1645"/>
                  </a:lnTo>
                  <a:lnTo>
                    <a:pt x="3120" y="1694"/>
                  </a:lnTo>
                  <a:lnTo>
                    <a:pt x="3338" y="1731"/>
                  </a:lnTo>
                  <a:lnTo>
                    <a:pt x="3338" y="1731"/>
                  </a:lnTo>
                  <a:lnTo>
                    <a:pt x="4199" y="1870"/>
                  </a:lnTo>
                  <a:lnTo>
                    <a:pt x="5057" y="2020"/>
                  </a:lnTo>
                  <a:lnTo>
                    <a:pt x="5914" y="2181"/>
                  </a:lnTo>
                  <a:lnTo>
                    <a:pt x="6773" y="2353"/>
                  </a:lnTo>
                  <a:lnTo>
                    <a:pt x="7623" y="2539"/>
                  </a:lnTo>
                  <a:lnTo>
                    <a:pt x="8473" y="2732"/>
                  </a:lnTo>
                  <a:lnTo>
                    <a:pt x="9324" y="2939"/>
                  </a:lnTo>
                  <a:lnTo>
                    <a:pt x="10167" y="3154"/>
                  </a:lnTo>
                  <a:lnTo>
                    <a:pt x="11011" y="3383"/>
                  </a:lnTo>
                  <a:lnTo>
                    <a:pt x="11850" y="3622"/>
                  </a:lnTo>
                  <a:lnTo>
                    <a:pt x="12687" y="3864"/>
                  </a:lnTo>
                  <a:lnTo>
                    <a:pt x="13512" y="4118"/>
                  </a:lnTo>
                  <a:lnTo>
                    <a:pt x="14241" y="434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33960" y="4993920"/>
              <a:ext cx="56880" cy="95040"/>
            </a:xfrm>
            <a:custGeom>
              <a:avLst/>
              <a:gdLst/>
              <a:ahLst/>
              <a:rect l="l" t="t" r="r" b="b"/>
              <a:pathLst>
                <a:path w="968" h="915">
                  <a:moveTo>
                    <a:pt x="968" y="605"/>
                  </a:moveTo>
                  <a:lnTo>
                    <a:pt x="857" y="457"/>
                  </a:lnTo>
                  <a:lnTo>
                    <a:pt x="729" y="347"/>
                  </a:lnTo>
                  <a:lnTo>
                    <a:pt x="582" y="240"/>
                  </a:lnTo>
                  <a:lnTo>
                    <a:pt x="492" y="165"/>
                  </a:lnTo>
                  <a:lnTo>
                    <a:pt x="346" y="93"/>
                  </a:lnTo>
                  <a:lnTo>
                    <a:pt x="181" y="40"/>
                  </a:lnTo>
                  <a:lnTo>
                    <a:pt x="71" y="0"/>
                  </a:lnTo>
                  <a:lnTo>
                    <a:pt x="35" y="93"/>
                  </a:lnTo>
                  <a:lnTo>
                    <a:pt x="0" y="329"/>
                  </a:lnTo>
                  <a:lnTo>
                    <a:pt x="53" y="569"/>
                  </a:lnTo>
                  <a:lnTo>
                    <a:pt x="164" y="733"/>
                  </a:lnTo>
                  <a:lnTo>
                    <a:pt x="253" y="859"/>
                  </a:lnTo>
                  <a:lnTo>
                    <a:pt x="435" y="915"/>
                  </a:lnTo>
                  <a:lnTo>
                    <a:pt x="750" y="841"/>
                  </a:lnTo>
                  <a:lnTo>
                    <a:pt x="914" y="733"/>
                  </a:lnTo>
                  <a:lnTo>
                    <a:pt x="968" y="605"/>
                  </a:lnTo>
                  <a:close/>
                </a:path>
              </a:pathLst>
            </a:custGeom>
            <a:solidFill>
              <a:srgbClr val="006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304920" y="8839080"/>
            <a:ext cx="228600" cy="2523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400" spc="-1" strike="noStrike">
                <a:solidFill>
                  <a:srgbClr val="000000"/>
                </a:solidFill>
                <a:latin typeface="Times New Roman"/>
                <a:ea typeface="SKR HEAD1"/>
              </a:rPr>
              <a:t>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33360" y="5041800"/>
            <a:ext cx="4754520" cy="32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r" rtl="1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ebdings" charset="2"/>
              <a:buChar char="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ت</a:t>
            </a: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ـ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أم</a:t>
            </a: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ـ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ل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م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س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تق</a:t>
            </a: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ــ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بلك المن</a:t>
            </a: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ـ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ش</a:t>
            </a: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ـــ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ود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r" rtl="1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ebdings" charset="2"/>
              <a:buChar char="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ا هو ال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ح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لم الذي تود تحق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ي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ق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ه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ف</a:t>
            </a: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ـ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ي المستقب</a:t>
            </a: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ـ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ل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؟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r" rtl="1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ebdings" charset="2"/>
              <a:buChar char="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</a:t>
            </a: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ـ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 ه</a:t>
            </a: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ـ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ي صو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ر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ت</a:t>
            </a: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ـ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ك بع</a:t>
            </a: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ـ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د (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10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) أو (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20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) سن</a:t>
            </a: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ـ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ة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r" rtl="1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ebdings" charset="2"/>
              <a:buChar char="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</a:t>
            </a: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ـ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 ه</a:t>
            </a: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ـ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و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لمجــال ال</a:t>
            </a: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ـ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ذي اخ</a:t>
            </a: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ـ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ت</a:t>
            </a: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ـ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رته ل</a:t>
            </a: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ـ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ن</a:t>
            </a: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ـ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ف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س</a:t>
            </a: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ـ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ك 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r" rtl="1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ebdings" charset="2"/>
              <a:buChar char="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تخيَّل النتيجة التـي تود الوصول إليها (المنتخـب الاسترالـي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r" rtl="1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ebdings" charset="2"/>
              <a:buChar char="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فوائد التخيل الثلاث                +               +               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019160" y="2811600"/>
            <a:ext cx="4038480" cy="21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r" rtl="1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ebdings" charset="2"/>
              <a:buChar char="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” قل يا أيها الذين هادوا إن زعمتم أنكم أولياء لله“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 algn="r" rtl="1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ebdings" charset="2"/>
              <a:buChar char="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”إذا تمنى أحدكـم فلينظـر فـي أمنيتـه“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 algn="r" rtl="1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ebdings" charset="2"/>
              <a:buChar char="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عمـر بـن الخطـاب والأمنيـات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 algn="r" rtl="1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ebdings" charset="2"/>
              <a:buChar char="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كــافـور الإخشيـدي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 algn="r" rtl="1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ebdings" charset="2"/>
              <a:buChar char="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الحاجب المنصـور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429000" y="4643280"/>
            <a:ext cx="165564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r" rtl="1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800" spc="-1" strike="noStrike">
                <a:solidFill>
                  <a:srgbClr val="000000"/>
                </a:solidFill>
                <a:latin typeface="Times New Roman"/>
                <a:cs typeface="AL-Mateen"/>
              </a:rPr>
              <a:t>الــــرؤيــــ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89720" y="1681200"/>
            <a:ext cx="647640" cy="466560"/>
          </a:xfrm>
          <a:prstGeom prst="downArrowCallout">
            <a:avLst>
              <a:gd name="adj1" fmla="val 34706"/>
              <a:gd name="adj2" fmla="val 34703"/>
              <a:gd name="adj3" fmla="val 16667"/>
              <a:gd name="adj4" fmla="val 742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000000"/>
                </a:solidFill>
                <a:latin typeface="Times New Roman"/>
                <a:cs typeface="SKR HEAD1"/>
              </a:rPr>
              <a:t>رابعا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 rot="850200">
            <a:off x="5122440" y="2346120"/>
            <a:ext cx="295200" cy="333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000000"/>
                </a:solidFill>
                <a:latin typeface="Times New Roman"/>
                <a:ea typeface="SKR HEAD1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850200">
            <a:off x="5122080" y="4642920"/>
            <a:ext cx="295200" cy="331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000000"/>
                </a:solidFill>
                <a:latin typeface="Times New Roman"/>
                <a:ea typeface="SKR HEAD1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90560" y="7164360"/>
            <a:ext cx="3672000" cy="1328760"/>
          </a:xfrm>
          <a:prstGeom prst="roundRect">
            <a:avLst>
              <a:gd name="adj" fmla="val 518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rot="16200000">
            <a:off x="4061520" y="7612560"/>
            <a:ext cx="1328760" cy="431640"/>
          </a:xfrm>
          <a:prstGeom prst="roundRect">
            <a:avLst>
              <a:gd name="adj" fmla="val 782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رؤيـتـي هـي</a:t>
            </a:r>
            <a:r>
              <a:rPr b="1" lang="ar-AE" sz="2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584440" y="6643800"/>
            <a:ext cx="793800" cy="266760"/>
          </a:xfrm>
          <a:prstGeom prst="roundRect">
            <a:avLst>
              <a:gd name="adj" fmla="val 939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16040" y="6643800"/>
            <a:ext cx="793800" cy="266760"/>
          </a:xfrm>
          <a:prstGeom prst="roundRect">
            <a:avLst>
              <a:gd name="adj" fmla="val 939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63480" y="6643800"/>
            <a:ext cx="793800" cy="266760"/>
          </a:xfrm>
          <a:prstGeom prst="roundRect">
            <a:avLst>
              <a:gd name="adj" fmla="val 939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1700280" y="982800"/>
            <a:ext cx="3240000" cy="53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nUp">
              <a:avLst>
                <a:gd name="adj" fmla="val 66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000000"/>
                </a:solidFill>
                <a:latin typeface="AL-Mateen"/>
              </a:rPr>
              <a:t> </a:t>
            </a:r>
            <a:r>
              <a:rPr b="0" lang="hi-IN" sz="3200" spc="1" strike="noStrike">
                <a:ln w="0">
                  <a:noFill/>
                </a:ln>
                <a:solidFill>
                  <a:srgbClr val="000000"/>
                </a:solidFill>
                <a:latin typeface="AL-Mateen"/>
              </a:rPr>
              <a:t>كيف تدير وتطور ذاتك ؟</a:t>
            </a:r>
            <a:r>
              <a:rPr b="0" lang="en-US" sz="3200" spc="1" strike="noStrike">
                <a:ln w="0">
                  <a:noFill/>
                </a:ln>
                <a:solidFill>
                  <a:srgbClr val="000000"/>
                </a:solidFill>
                <a:latin typeface="AL-Mateen"/>
              </a:rPr>
              <a:t> </a:t>
            </a:r>
            <a:endParaRPr b="0" lang="en-US" sz="3200" spc="1" strike="noStrike">
              <a:ln w="0">
                <a:noFill/>
              </a:ln>
              <a:solidFill>
                <a:srgbClr val="000000"/>
              </a:solidFill>
              <a:latin typeface="AL-Mateen"/>
              <a:ea typeface="AL-Mate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efefe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268280" y="1060560"/>
            <a:ext cx="3816360" cy="60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r" rtl="1">
              <a:lnSpc>
                <a:spcPct val="115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 rtl="1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Webdings" charset="2"/>
              <a:buChar char="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ح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دد أهدافك الذكية أو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ؤش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ر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ت النجاح.</a:t>
            </a:r>
            <a:br>
              <a:rPr sz="1800"/>
            </a:br>
            <a:r>
              <a:rPr b="1" lang="ar-A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 rtl="1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Font typeface="Webdings" charset="2"/>
              <a:buChar char="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كتب أهدا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ف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ك</a:t>
            </a: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، واحفظها، واجعلها في كل مكان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.</a:t>
            </a:r>
            <a:br>
              <a:rPr sz="1800"/>
            </a:br>
            <a:r>
              <a:rPr b="1" lang="ar-A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 rtl="1">
              <a:lnSpc>
                <a:spcPct val="115000"/>
              </a:lnSpc>
              <a:spcBef>
                <a:spcPts val="561"/>
              </a:spcBef>
              <a:buClr>
                <a:srgbClr val="000000"/>
              </a:buClr>
              <a:buFont typeface="Webdings" charset="2"/>
              <a:buChar char="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ل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 تكن سوبر ماناً ( التركيز ) .</a:t>
            </a:r>
            <a:br>
              <a:rPr sz="1800"/>
            </a:br>
            <a:r>
              <a:rPr b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Webdings"/>
                <a:ea typeface="Webdings"/>
              </a:rPr>
              <a:t></a:t>
            </a: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بيل جيتس         </a:t>
            </a:r>
            <a:r>
              <a:rPr b="1" lang="ar-SA" sz="1600" spc="-1" strike="noStrike">
                <a:solidFill>
                  <a:srgbClr val="000000"/>
                </a:solidFill>
                <a:latin typeface="Webdings"/>
                <a:ea typeface="Webdings"/>
              </a:rPr>
              <a:t></a:t>
            </a:r>
            <a:r>
              <a:rPr b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3M</a:t>
            </a:r>
            <a:r>
              <a:rPr b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.      </a:t>
            </a:r>
            <a:r>
              <a:rPr b="1" lang="ar-SA" sz="1600" spc="-1" strike="noStrike">
                <a:solidFill>
                  <a:srgbClr val="000000"/>
                </a:solidFill>
                <a:latin typeface="Webdings"/>
                <a:ea typeface="Webdings"/>
              </a:rPr>
              <a:t></a:t>
            </a: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زيروكس .</a:t>
            </a:r>
            <a:br>
              <a:rPr sz="1800"/>
            </a:br>
            <a:r>
              <a:rPr b="1" lang="ar-A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 rtl="1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Webdings" charset="2"/>
              <a:buChar char="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حذر التمييع والهلامية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(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التمي</a:t>
            </a:r>
            <a:r>
              <a:rPr b="1" lang="ar-AE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ـ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ز 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 rtl="1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 </a:t>
            </a:r>
            <a:r>
              <a:rPr b="1" lang="ar-SA" sz="1800" spc="-1" strike="noStrike">
                <a:solidFill>
                  <a:srgbClr val="000000"/>
                </a:solidFill>
                <a:latin typeface="Webdings"/>
                <a:ea typeface="Webdings"/>
              </a:rPr>
              <a:t></a:t>
            </a: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بخاري .        </a:t>
            </a:r>
            <a:r>
              <a:rPr b="1" lang="ar-SA" sz="1800" spc="-1" strike="noStrike">
                <a:solidFill>
                  <a:srgbClr val="000000"/>
                </a:solidFill>
                <a:latin typeface="Webdings"/>
                <a:ea typeface="Webdings"/>
              </a:rPr>
              <a:t></a:t>
            </a: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عنترة          </a:t>
            </a:r>
            <a:r>
              <a:rPr b="1" lang="ar-SA" sz="1800" spc="-1" strike="noStrike">
                <a:solidFill>
                  <a:srgbClr val="000000"/>
                </a:solidFill>
                <a:latin typeface="Webdings"/>
                <a:ea typeface="Webdings"/>
              </a:rPr>
              <a:t></a:t>
            </a:r>
            <a:r>
              <a:rPr b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أبوحنيفة . </a:t>
            </a:r>
            <a:r>
              <a:rPr b="1" lang="ar-SA" sz="1800" spc="-1" strike="noStrike">
                <a:solidFill>
                  <a:srgbClr val="000000"/>
                </a:solidFill>
                <a:latin typeface="Webdings"/>
                <a:ea typeface="Webdings"/>
              </a:rPr>
              <a:t></a:t>
            </a:r>
            <a:r>
              <a:rPr b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هاينز .     </a:t>
            </a:r>
            <a:r>
              <a:rPr b="1" lang="ar-SA" sz="1800" spc="-1" strike="noStrike">
                <a:solidFill>
                  <a:srgbClr val="000000"/>
                </a:solidFill>
                <a:latin typeface="Webdings"/>
                <a:ea typeface="Webdings"/>
              </a:rPr>
              <a:t></a:t>
            </a:r>
            <a:r>
              <a:rPr b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فيدرال اكسبرس .    </a:t>
            </a:r>
            <a:r>
              <a:rPr b="1" lang="ar-SA" sz="1800" spc="-1" strike="noStrike">
                <a:solidFill>
                  <a:srgbClr val="000000"/>
                </a:solidFill>
                <a:latin typeface="Webdings"/>
                <a:ea typeface="Webdings"/>
              </a:rPr>
              <a:t></a:t>
            </a: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سوني .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  <a:ea typeface="SKR HEAD1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 rtl="1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</a:t>
            </a:r>
            <a:r>
              <a:rPr b="1" lang="ar-SA" sz="1800" spc="-1" strike="noStrike">
                <a:solidFill>
                  <a:srgbClr val="000000"/>
                </a:solidFill>
                <a:latin typeface="Webdings"/>
                <a:ea typeface="Webdings"/>
              </a:rPr>
              <a:t></a:t>
            </a:r>
            <a:r>
              <a:rPr b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خذ من كل شيء شيئاً ومن شي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4920" y="8839080"/>
            <a:ext cx="228600" cy="2523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400" spc="-1" strike="noStrike">
                <a:solidFill>
                  <a:srgbClr val="000000"/>
                </a:solidFill>
                <a:latin typeface="Times New Roman"/>
                <a:ea typeface="SKR HEAD1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141720" y="784080"/>
            <a:ext cx="188424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r" rtl="1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800" spc="-1" strike="noStrike">
                <a:solidFill>
                  <a:srgbClr val="000000"/>
                </a:solidFill>
                <a:latin typeface="Times New Roman"/>
                <a:cs typeface="AL-Mateen"/>
              </a:rPr>
              <a:t>الــتهـــديـــف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447920" y="3886200"/>
            <a:ext cx="995400" cy="333360"/>
          </a:xfrm>
          <a:prstGeom prst="roundRect">
            <a:avLst>
              <a:gd name="adj" fmla="val 1156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 rot="850200">
            <a:off x="5122080" y="783720"/>
            <a:ext cx="295200" cy="331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000000"/>
                </a:solidFill>
                <a:latin typeface="Times New Roman"/>
                <a:ea typeface="SKR HEAD1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76280" y="5189400"/>
            <a:ext cx="3816360" cy="1478160"/>
          </a:xfrm>
          <a:custGeom>
            <a:avLst/>
            <a:gdLst>
              <a:gd name="textAreaLeft" fmla="*/ 30600 w 3816360"/>
              <a:gd name="textAreaRight" fmla="*/ 3785760 w 3816360"/>
              <a:gd name="textAreaTop" fmla="*/ 30600 h 1478160"/>
              <a:gd name="textAreaBottom" fmla="*/ 1447560 h 1478160"/>
            </a:gdLst>
            <a:ahLst/>
            <a:rect l="textAreaLeft" t="textAreaTop" r="textAreaRight" b="textAreaBottom"/>
            <a:pathLst>
              <a:path w="55759" h="21600">
                <a:moveTo>
                  <a:pt x="639" y="0"/>
                </a:moveTo>
                <a:arcTo wR="639" hR="639" stAng="0" swAng="5400000"/>
                <a:lnTo>
                  <a:pt x="0" y="20961"/>
                </a:lnTo>
                <a:arcTo wR="639" hR="639" stAng="16200000" swAng="5400000"/>
                <a:lnTo>
                  <a:pt x="55120" y="21600"/>
                </a:lnTo>
                <a:arcTo wR="639" hR="639" stAng="10800000" swAng="5400000"/>
                <a:lnTo>
                  <a:pt x="55759" y="639"/>
                </a:lnTo>
                <a:arcTo wR="639" hR="639" stAng="5400000" swAng="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177840" indent="-177840" algn="r" rtl="1">
              <a:lnSpc>
                <a:spcPct val="11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800" spc="-1" strike="noStrike">
                <a:solidFill>
                  <a:srgbClr val="000000"/>
                </a:solidFill>
                <a:latin typeface="Times New Roman"/>
                <a:ea typeface="SKR HEAD1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SKR HEAD1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 algn="r" rtl="1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600" spc="-1" strike="noStrike">
                <a:solidFill>
                  <a:srgbClr val="000000"/>
                </a:solidFill>
                <a:latin typeface="Times New Roman"/>
                <a:ea typeface="SKR HEAD1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ea typeface="SKR HEAD1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 algn="r" rtl="1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600" spc="-1" strike="noStrike">
                <a:solidFill>
                  <a:srgbClr val="000000"/>
                </a:solidFill>
                <a:latin typeface="Times New Roman"/>
                <a:ea typeface="SKR HEAD1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 algn="r" rtl="1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600" spc="-1" strike="noStrike">
                <a:solidFill>
                  <a:srgbClr val="000000"/>
                </a:solidFill>
                <a:latin typeface="Times New Roman"/>
                <a:ea typeface="SKR HEAD1"/>
              </a:rPr>
              <a:t>  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ea typeface="SKR HEAD1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82720" y="4173480"/>
            <a:ext cx="3384360" cy="7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 algn="r" rtl="1">
              <a:lnSpc>
                <a:spcPct val="105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r" rtl="1"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حوِّل أهدافك إلى برامج عملية محددة بزمن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40120" y="4229280"/>
            <a:ext cx="12304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r" rtl="1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000000"/>
                </a:solidFill>
                <a:latin typeface="Times New Roman"/>
                <a:cs typeface="AL-Mateen"/>
              </a:rPr>
              <a:t>البـرمجـة</a:t>
            </a:r>
            <a:r>
              <a:rPr b="1" lang="ar-AE" sz="2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rot="16200000">
            <a:off x="3924000" y="5663880"/>
            <a:ext cx="1478160" cy="528840"/>
          </a:xfrm>
          <a:custGeom>
            <a:avLst/>
            <a:gdLst>
              <a:gd name="textAreaLeft" fmla="*/ 10800 w 1478160"/>
              <a:gd name="textAreaRight" fmla="*/ 1467360 w 1478160"/>
              <a:gd name="textAreaTop" fmla="*/ 10800 h 528840"/>
              <a:gd name="textAreaBottom" fmla="*/ 518040 h 528840"/>
            </a:gdLst>
            <a:ahLst/>
            <a:rect l="textAreaLeft" t="textAreaTop" r="textAreaRight" b="textAreaBottom"/>
            <a:pathLst>
              <a:path w="60348" h="21600">
                <a:moveTo>
                  <a:pt x="639" y="0"/>
                </a:moveTo>
                <a:arcTo wR="639" hR="639" stAng="0" swAng="5400000"/>
                <a:lnTo>
                  <a:pt x="0" y="20961"/>
                </a:lnTo>
                <a:arcTo wR="639" hR="639" stAng="16200000" swAng="5400000"/>
                <a:lnTo>
                  <a:pt x="59709" y="21600"/>
                </a:lnTo>
                <a:arcTo wR="639" hR="639" stAng="10800000" swAng="5400000"/>
                <a:lnTo>
                  <a:pt x="60348" y="639"/>
                </a:lnTo>
                <a:arcTo wR="639" hR="639" stAng="5400000" swAng="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177840" indent="-177840" algn="ctr" rtl="1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SKR HEAD1"/>
              </a:rPr>
              <a:t>   </a:t>
            </a:r>
            <a:r>
              <a:rPr b="0" lang="ar-AE" sz="1800" spc="-1" strike="noStrike">
                <a:solidFill>
                  <a:srgbClr val="000000"/>
                </a:solidFill>
                <a:latin typeface="Times New Roman"/>
                <a:cs typeface="SKR HEAD1"/>
              </a:rPr>
              <a:t>الــــبرامـــــــج 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ea typeface="SKR HEAD1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88880" y="4673520"/>
            <a:ext cx="3803760" cy="465120"/>
          </a:xfrm>
          <a:custGeom>
            <a:avLst/>
            <a:gdLst>
              <a:gd name="textAreaLeft" fmla="*/ 9720 w 3803760"/>
              <a:gd name="textAreaRight" fmla="*/ 3794040 w 3803760"/>
              <a:gd name="textAreaTop" fmla="*/ 9720 h 465120"/>
              <a:gd name="textAreaBottom" fmla="*/ 455400 h 465120"/>
            </a:gdLst>
            <a:ahLst/>
            <a:rect l="textAreaLeft" t="textAreaTop" r="textAreaRight" b="textAreaBottom"/>
            <a:pathLst>
              <a:path w="176525" h="21600">
                <a:moveTo>
                  <a:pt x="639" y="0"/>
                </a:moveTo>
                <a:arcTo wR="639" hR="639" stAng="0" swAng="5400000"/>
                <a:lnTo>
                  <a:pt x="0" y="20961"/>
                </a:lnTo>
                <a:arcTo wR="639" hR="639" stAng="16200000" swAng="5400000"/>
                <a:lnTo>
                  <a:pt x="175886" y="21600"/>
                </a:lnTo>
                <a:arcTo wR="639" hR="639" stAng="10800000" swAng="5400000"/>
                <a:lnTo>
                  <a:pt x="176525" y="639"/>
                </a:lnTo>
                <a:arcTo wR="639" hR="639" stAng="5400000" swAng="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177840" indent="-177840" algn="r" rtl="1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410000" y="4673520"/>
            <a:ext cx="505080" cy="465120"/>
          </a:xfrm>
          <a:custGeom>
            <a:avLst/>
            <a:gdLst>
              <a:gd name="textAreaLeft" fmla="*/ 9720 w 505080"/>
              <a:gd name="textAreaRight" fmla="*/ 495360 w 505080"/>
              <a:gd name="textAreaTop" fmla="*/ 9720 h 465120"/>
              <a:gd name="textAreaBottom" fmla="*/ 455400 h 465120"/>
            </a:gdLst>
            <a:ahLst/>
            <a:rect l="textAreaLeft" t="textAreaTop" r="textAreaRight" b="textAreaBottom"/>
            <a:pathLst>
              <a:path w="23454" h="21600">
                <a:moveTo>
                  <a:pt x="639" y="0"/>
                </a:moveTo>
                <a:arcTo wR="639" hR="639" stAng="0" swAng="5400000"/>
                <a:lnTo>
                  <a:pt x="0" y="20961"/>
                </a:lnTo>
                <a:arcTo wR="639" hR="639" stAng="16200000" swAng="5400000"/>
                <a:lnTo>
                  <a:pt x="22815" y="21600"/>
                </a:lnTo>
                <a:arcTo wR="639" hR="639" stAng="10800000" swAng="5400000"/>
                <a:lnTo>
                  <a:pt x="23454" y="639"/>
                </a:lnTo>
                <a:arcTo wR="639" hR="639" stAng="5400000" swAng="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177840" indent="-177840" algn="r" rtl="1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600" spc="-1" strike="noStrike">
                <a:solidFill>
                  <a:srgbClr val="000000"/>
                </a:solidFill>
                <a:latin typeface="Times New Roman"/>
                <a:ea typeface="SKR HEAD1"/>
              </a:rPr>
              <a:t> الهدف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981000" y="6831000"/>
            <a:ext cx="40388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r" rtl="1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800" spc="-1" strike="noStrike">
                <a:solidFill>
                  <a:srgbClr val="000000"/>
                </a:solidFill>
                <a:latin typeface="Times New Roman"/>
                <a:cs typeface="AL-Mateen"/>
              </a:rPr>
              <a:t>المستلزمات والأدوات</a:t>
            </a:r>
            <a:r>
              <a:rPr b="1" lang="ar-AE" sz="2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74680" y="6734160"/>
            <a:ext cx="3298680" cy="8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r" rtl="1">
              <a:lnSpc>
                <a:spcPct val="125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 algn="r" rtl="1"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ما هي مستلزمات تحقيق أهدافك وبرامجك 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188640" y="1924200"/>
            <a:ext cx="1152360" cy="1396440"/>
            <a:chOff x="188640" y="1924200"/>
            <a:chExt cx="1152360" cy="1396440"/>
          </a:xfrm>
        </p:grpSpPr>
        <p:sp>
          <p:nvSpPr>
            <p:cNvPr id="264" name=""/>
            <p:cNvSpPr/>
            <p:nvPr/>
          </p:nvSpPr>
          <p:spPr>
            <a:xfrm flipH="1">
              <a:off x="188280" y="1924200"/>
              <a:ext cx="1152360" cy="1393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188640" y="3033360"/>
              <a:ext cx="1146240" cy="287280"/>
            </a:xfrm>
            <a:custGeom>
              <a:avLst/>
              <a:gdLst/>
              <a:ahLst/>
              <a:rect l="l" t="t" r="r" b="b"/>
              <a:pathLst>
                <a:path w="3312" h="452">
                  <a:moveTo>
                    <a:pt x="3312" y="0"/>
                  </a:moveTo>
                  <a:lnTo>
                    <a:pt x="3073" y="10"/>
                  </a:lnTo>
                  <a:lnTo>
                    <a:pt x="3009" y="5"/>
                  </a:lnTo>
                  <a:lnTo>
                    <a:pt x="2936" y="5"/>
                  </a:lnTo>
                  <a:lnTo>
                    <a:pt x="2908" y="5"/>
                  </a:lnTo>
                  <a:lnTo>
                    <a:pt x="2853" y="13"/>
                  </a:lnTo>
                  <a:lnTo>
                    <a:pt x="2780" y="23"/>
                  </a:lnTo>
                  <a:lnTo>
                    <a:pt x="2715" y="23"/>
                  </a:lnTo>
                  <a:lnTo>
                    <a:pt x="2706" y="28"/>
                  </a:lnTo>
                  <a:lnTo>
                    <a:pt x="2643" y="33"/>
                  </a:lnTo>
                  <a:lnTo>
                    <a:pt x="2614" y="33"/>
                  </a:lnTo>
                  <a:lnTo>
                    <a:pt x="2542" y="28"/>
                  </a:lnTo>
                  <a:lnTo>
                    <a:pt x="2496" y="33"/>
                  </a:lnTo>
                  <a:lnTo>
                    <a:pt x="2421" y="33"/>
                  </a:lnTo>
                  <a:lnTo>
                    <a:pt x="2375" y="42"/>
                  </a:lnTo>
                  <a:lnTo>
                    <a:pt x="2339" y="42"/>
                  </a:lnTo>
                  <a:lnTo>
                    <a:pt x="2312" y="42"/>
                  </a:lnTo>
                  <a:lnTo>
                    <a:pt x="2284" y="42"/>
                  </a:lnTo>
                  <a:lnTo>
                    <a:pt x="2275" y="42"/>
                  </a:lnTo>
                  <a:lnTo>
                    <a:pt x="2257" y="46"/>
                  </a:lnTo>
                  <a:lnTo>
                    <a:pt x="2156" y="46"/>
                  </a:lnTo>
                  <a:lnTo>
                    <a:pt x="2138" y="55"/>
                  </a:lnTo>
                  <a:lnTo>
                    <a:pt x="2128" y="59"/>
                  </a:lnTo>
                  <a:lnTo>
                    <a:pt x="2055" y="65"/>
                  </a:lnTo>
                  <a:lnTo>
                    <a:pt x="2009" y="74"/>
                  </a:lnTo>
                  <a:lnTo>
                    <a:pt x="1963" y="79"/>
                  </a:lnTo>
                  <a:lnTo>
                    <a:pt x="1963" y="84"/>
                  </a:lnTo>
                  <a:lnTo>
                    <a:pt x="1917" y="88"/>
                  </a:lnTo>
                  <a:lnTo>
                    <a:pt x="1862" y="101"/>
                  </a:lnTo>
                  <a:lnTo>
                    <a:pt x="1853" y="101"/>
                  </a:lnTo>
                  <a:lnTo>
                    <a:pt x="1797" y="97"/>
                  </a:lnTo>
                  <a:lnTo>
                    <a:pt x="1761" y="107"/>
                  </a:lnTo>
                  <a:lnTo>
                    <a:pt x="1752" y="111"/>
                  </a:lnTo>
                  <a:lnTo>
                    <a:pt x="1706" y="111"/>
                  </a:lnTo>
                  <a:lnTo>
                    <a:pt x="1696" y="111"/>
                  </a:lnTo>
                  <a:lnTo>
                    <a:pt x="1660" y="120"/>
                  </a:lnTo>
                  <a:lnTo>
                    <a:pt x="1577" y="125"/>
                  </a:lnTo>
                  <a:lnTo>
                    <a:pt x="1532" y="120"/>
                  </a:lnTo>
                  <a:lnTo>
                    <a:pt x="1532" y="111"/>
                  </a:lnTo>
                  <a:lnTo>
                    <a:pt x="1532" y="120"/>
                  </a:lnTo>
                  <a:lnTo>
                    <a:pt x="1522" y="125"/>
                  </a:lnTo>
                  <a:lnTo>
                    <a:pt x="1495" y="125"/>
                  </a:lnTo>
                  <a:lnTo>
                    <a:pt x="1495" y="130"/>
                  </a:lnTo>
                  <a:lnTo>
                    <a:pt x="1450" y="138"/>
                  </a:lnTo>
                  <a:lnTo>
                    <a:pt x="1431" y="138"/>
                  </a:lnTo>
                  <a:lnTo>
                    <a:pt x="1395" y="138"/>
                  </a:lnTo>
                  <a:lnTo>
                    <a:pt x="1376" y="148"/>
                  </a:lnTo>
                  <a:lnTo>
                    <a:pt x="1303" y="161"/>
                  </a:lnTo>
                  <a:lnTo>
                    <a:pt x="1295" y="161"/>
                  </a:lnTo>
                  <a:lnTo>
                    <a:pt x="1275" y="167"/>
                  </a:lnTo>
                  <a:lnTo>
                    <a:pt x="1238" y="171"/>
                  </a:lnTo>
                  <a:lnTo>
                    <a:pt x="1193" y="176"/>
                  </a:lnTo>
                  <a:lnTo>
                    <a:pt x="1164" y="176"/>
                  </a:lnTo>
                  <a:lnTo>
                    <a:pt x="1138" y="180"/>
                  </a:lnTo>
                  <a:lnTo>
                    <a:pt x="1082" y="185"/>
                  </a:lnTo>
                  <a:lnTo>
                    <a:pt x="1055" y="199"/>
                  </a:lnTo>
                  <a:lnTo>
                    <a:pt x="1027" y="208"/>
                  </a:lnTo>
                  <a:lnTo>
                    <a:pt x="981" y="217"/>
                  </a:lnTo>
                  <a:lnTo>
                    <a:pt x="935" y="217"/>
                  </a:lnTo>
                  <a:lnTo>
                    <a:pt x="927" y="226"/>
                  </a:lnTo>
                  <a:lnTo>
                    <a:pt x="908" y="235"/>
                  </a:lnTo>
                  <a:lnTo>
                    <a:pt x="853" y="245"/>
                  </a:lnTo>
                  <a:lnTo>
                    <a:pt x="843" y="258"/>
                  </a:lnTo>
                  <a:lnTo>
                    <a:pt x="798" y="268"/>
                  </a:lnTo>
                  <a:lnTo>
                    <a:pt x="752" y="277"/>
                  </a:lnTo>
                  <a:lnTo>
                    <a:pt x="715" y="277"/>
                  </a:lnTo>
                  <a:lnTo>
                    <a:pt x="660" y="281"/>
                  </a:lnTo>
                  <a:lnTo>
                    <a:pt x="633" y="300"/>
                  </a:lnTo>
                  <a:lnTo>
                    <a:pt x="605" y="304"/>
                  </a:lnTo>
                  <a:lnTo>
                    <a:pt x="550" y="318"/>
                  </a:lnTo>
                  <a:lnTo>
                    <a:pt x="513" y="328"/>
                  </a:lnTo>
                  <a:lnTo>
                    <a:pt x="476" y="341"/>
                  </a:lnTo>
                  <a:lnTo>
                    <a:pt x="430" y="346"/>
                  </a:lnTo>
                  <a:lnTo>
                    <a:pt x="349" y="364"/>
                  </a:lnTo>
                  <a:lnTo>
                    <a:pt x="311" y="373"/>
                  </a:lnTo>
                  <a:lnTo>
                    <a:pt x="265" y="373"/>
                  </a:lnTo>
                  <a:lnTo>
                    <a:pt x="275" y="383"/>
                  </a:lnTo>
                  <a:lnTo>
                    <a:pt x="210" y="392"/>
                  </a:lnTo>
                  <a:lnTo>
                    <a:pt x="147" y="401"/>
                  </a:lnTo>
                  <a:lnTo>
                    <a:pt x="119" y="406"/>
                  </a:lnTo>
                  <a:lnTo>
                    <a:pt x="101" y="411"/>
                  </a:lnTo>
                  <a:lnTo>
                    <a:pt x="91" y="419"/>
                  </a:lnTo>
                  <a:lnTo>
                    <a:pt x="74" y="434"/>
                  </a:lnTo>
                  <a:lnTo>
                    <a:pt x="0" y="452"/>
                  </a:lnTo>
                  <a:lnTo>
                    <a:pt x="3312" y="452"/>
                  </a:lnTo>
                  <a:lnTo>
                    <a:pt x="3312" y="0"/>
                  </a:lnTo>
                  <a:close/>
                </a:path>
              </a:pathLst>
            </a:custGeom>
            <a:solidFill>
              <a:srgbClr val="99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21360" y="2612880"/>
              <a:ext cx="66960" cy="187200"/>
            </a:xfrm>
            <a:custGeom>
              <a:avLst/>
              <a:gdLst/>
              <a:ahLst/>
              <a:rect l="l" t="t" r="r" b="b"/>
              <a:pathLst>
                <a:path w="195" h="295">
                  <a:moveTo>
                    <a:pt x="154" y="295"/>
                  </a:moveTo>
                  <a:lnTo>
                    <a:pt x="98" y="278"/>
                  </a:lnTo>
                  <a:lnTo>
                    <a:pt x="42" y="254"/>
                  </a:lnTo>
                  <a:lnTo>
                    <a:pt x="0" y="231"/>
                  </a:lnTo>
                  <a:lnTo>
                    <a:pt x="15" y="225"/>
                  </a:lnTo>
                  <a:lnTo>
                    <a:pt x="56" y="206"/>
                  </a:lnTo>
                  <a:lnTo>
                    <a:pt x="93" y="181"/>
                  </a:lnTo>
                  <a:lnTo>
                    <a:pt x="128" y="150"/>
                  </a:lnTo>
                  <a:lnTo>
                    <a:pt x="151" y="114"/>
                  </a:lnTo>
                  <a:lnTo>
                    <a:pt x="171" y="71"/>
                  </a:lnTo>
                  <a:lnTo>
                    <a:pt x="195" y="0"/>
                  </a:lnTo>
                  <a:lnTo>
                    <a:pt x="154" y="295"/>
                  </a:lnTo>
                  <a:close/>
                </a:path>
              </a:pathLst>
            </a:custGeom>
            <a:solidFill>
              <a:srgbClr val="b5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628560" y="2598840"/>
              <a:ext cx="66960" cy="65880"/>
            </a:xfrm>
            <a:custGeom>
              <a:avLst/>
              <a:gdLst/>
              <a:ahLst/>
              <a:rect l="l" t="t" r="r" b="b"/>
              <a:pathLst>
                <a:path w="193" h="103">
                  <a:moveTo>
                    <a:pt x="36" y="103"/>
                  </a:moveTo>
                  <a:lnTo>
                    <a:pt x="193" y="0"/>
                  </a:lnTo>
                  <a:lnTo>
                    <a:pt x="110" y="10"/>
                  </a:lnTo>
                  <a:lnTo>
                    <a:pt x="26" y="11"/>
                  </a:lnTo>
                  <a:lnTo>
                    <a:pt x="0" y="10"/>
                  </a:lnTo>
                  <a:lnTo>
                    <a:pt x="36" y="103"/>
                  </a:lnTo>
                  <a:close/>
                </a:path>
              </a:pathLst>
            </a:custGeom>
            <a:solidFill>
              <a:srgbClr val="b5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621360" y="2593800"/>
              <a:ext cx="66960" cy="76320"/>
            </a:xfrm>
            <a:custGeom>
              <a:avLst/>
              <a:gdLst/>
              <a:ahLst/>
              <a:rect l="l" t="t" r="r" b="b"/>
              <a:pathLst>
                <a:path w="194" h="120">
                  <a:moveTo>
                    <a:pt x="0" y="109"/>
                  </a:moveTo>
                  <a:lnTo>
                    <a:pt x="41" y="87"/>
                  </a:lnTo>
                  <a:lnTo>
                    <a:pt x="185" y="0"/>
                  </a:lnTo>
                  <a:lnTo>
                    <a:pt x="194" y="9"/>
                  </a:lnTo>
                  <a:lnTo>
                    <a:pt x="51" y="96"/>
                  </a:lnTo>
                  <a:lnTo>
                    <a:pt x="10" y="120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546840" y="2601360"/>
              <a:ext cx="64080" cy="193320"/>
            </a:xfrm>
            <a:custGeom>
              <a:avLst/>
              <a:gdLst/>
              <a:ahLst/>
              <a:rect l="l" t="t" r="r" b="b"/>
              <a:pathLst>
                <a:path w="187" h="304">
                  <a:moveTo>
                    <a:pt x="0" y="0"/>
                  </a:moveTo>
                  <a:lnTo>
                    <a:pt x="39" y="42"/>
                  </a:lnTo>
                  <a:lnTo>
                    <a:pt x="66" y="88"/>
                  </a:lnTo>
                  <a:lnTo>
                    <a:pt x="85" y="135"/>
                  </a:lnTo>
                  <a:lnTo>
                    <a:pt x="94" y="186"/>
                  </a:lnTo>
                  <a:lnTo>
                    <a:pt x="98" y="238"/>
                  </a:lnTo>
                  <a:lnTo>
                    <a:pt x="93" y="291"/>
                  </a:lnTo>
                  <a:lnTo>
                    <a:pt x="93" y="296"/>
                  </a:lnTo>
                  <a:lnTo>
                    <a:pt x="93" y="304"/>
                  </a:lnTo>
                  <a:lnTo>
                    <a:pt x="125" y="256"/>
                  </a:lnTo>
                  <a:lnTo>
                    <a:pt x="160" y="193"/>
                  </a:lnTo>
                  <a:lnTo>
                    <a:pt x="187" y="130"/>
                  </a:lnTo>
                  <a:lnTo>
                    <a:pt x="116" y="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540360" y="2354400"/>
              <a:ext cx="73440" cy="235440"/>
            </a:xfrm>
            <a:custGeom>
              <a:avLst/>
              <a:gdLst/>
              <a:ahLst/>
              <a:rect l="l" t="t" r="r" b="b"/>
              <a:pathLst>
                <a:path w="212" h="369">
                  <a:moveTo>
                    <a:pt x="47" y="0"/>
                  </a:moveTo>
                  <a:lnTo>
                    <a:pt x="59" y="27"/>
                  </a:lnTo>
                  <a:lnTo>
                    <a:pt x="100" y="80"/>
                  </a:lnTo>
                  <a:lnTo>
                    <a:pt x="152" y="128"/>
                  </a:lnTo>
                  <a:lnTo>
                    <a:pt x="212" y="168"/>
                  </a:lnTo>
                  <a:lnTo>
                    <a:pt x="195" y="168"/>
                  </a:lnTo>
                  <a:lnTo>
                    <a:pt x="161" y="172"/>
                  </a:lnTo>
                  <a:lnTo>
                    <a:pt x="125" y="181"/>
                  </a:lnTo>
                  <a:lnTo>
                    <a:pt x="93" y="198"/>
                  </a:lnTo>
                  <a:lnTo>
                    <a:pt x="70" y="223"/>
                  </a:lnTo>
                  <a:lnTo>
                    <a:pt x="62" y="236"/>
                  </a:lnTo>
                  <a:lnTo>
                    <a:pt x="41" y="262"/>
                  </a:lnTo>
                  <a:lnTo>
                    <a:pt x="18" y="315"/>
                  </a:lnTo>
                  <a:lnTo>
                    <a:pt x="0" y="369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b5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629280" y="2383920"/>
              <a:ext cx="80640" cy="194400"/>
            </a:xfrm>
            <a:custGeom>
              <a:avLst/>
              <a:gdLst/>
              <a:ahLst/>
              <a:rect l="l" t="t" r="r" b="b"/>
              <a:pathLst>
                <a:path w="233" h="305">
                  <a:moveTo>
                    <a:pt x="233" y="305"/>
                  </a:moveTo>
                  <a:lnTo>
                    <a:pt x="203" y="257"/>
                  </a:lnTo>
                  <a:lnTo>
                    <a:pt x="174" y="199"/>
                  </a:lnTo>
                  <a:lnTo>
                    <a:pt x="158" y="135"/>
                  </a:lnTo>
                  <a:lnTo>
                    <a:pt x="148" y="70"/>
                  </a:lnTo>
                  <a:lnTo>
                    <a:pt x="145" y="0"/>
                  </a:lnTo>
                  <a:lnTo>
                    <a:pt x="142" y="12"/>
                  </a:lnTo>
                  <a:lnTo>
                    <a:pt x="128" y="38"/>
                  </a:lnTo>
                  <a:lnTo>
                    <a:pt x="110" y="60"/>
                  </a:lnTo>
                  <a:lnTo>
                    <a:pt x="82" y="78"/>
                  </a:lnTo>
                  <a:lnTo>
                    <a:pt x="53" y="87"/>
                  </a:lnTo>
                  <a:lnTo>
                    <a:pt x="24" y="87"/>
                  </a:lnTo>
                  <a:lnTo>
                    <a:pt x="0" y="82"/>
                  </a:lnTo>
                  <a:lnTo>
                    <a:pt x="233" y="305"/>
                  </a:lnTo>
                  <a:close/>
                </a:path>
              </a:pathLst>
            </a:custGeom>
            <a:solidFill>
              <a:srgbClr val="b5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621360" y="2414160"/>
              <a:ext cx="105120" cy="182160"/>
            </a:xfrm>
            <a:custGeom>
              <a:avLst/>
              <a:gdLst/>
              <a:ahLst/>
              <a:rect l="l" t="t" r="r" b="b"/>
              <a:pathLst>
                <a:path w="303" h="285">
                  <a:moveTo>
                    <a:pt x="303" y="276"/>
                  </a:moveTo>
                  <a:lnTo>
                    <a:pt x="261" y="228"/>
                  </a:lnTo>
                  <a:lnTo>
                    <a:pt x="183" y="146"/>
                  </a:lnTo>
                  <a:lnTo>
                    <a:pt x="99" y="71"/>
                  </a:lnTo>
                  <a:lnTo>
                    <a:pt x="10" y="0"/>
                  </a:lnTo>
                  <a:lnTo>
                    <a:pt x="0" y="10"/>
                  </a:lnTo>
                  <a:lnTo>
                    <a:pt x="88" y="79"/>
                  </a:lnTo>
                  <a:lnTo>
                    <a:pt x="174" y="156"/>
                  </a:lnTo>
                  <a:lnTo>
                    <a:pt x="253" y="237"/>
                  </a:lnTo>
                  <a:lnTo>
                    <a:pt x="294" y="285"/>
                  </a:lnTo>
                  <a:lnTo>
                    <a:pt x="303" y="276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526320" y="2596320"/>
              <a:ext cx="88200" cy="113400"/>
            </a:xfrm>
            <a:custGeom>
              <a:avLst/>
              <a:gdLst/>
              <a:ahLst/>
              <a:rect l="l" t="t" r="r" b="b"/>
              <a:pathLst>
                <a:path w="257" h="176">
                  <a:moveTo>
                    <a:pt x="249" y="176"/>
                  </a:moveTo>
                  <a:lnTo>
                    <a:pt x="169" y="115"/>
                  </a:lnTo>
                  <a:lnTo>
                    <a:pt x="88" y="59"/>
                  </a:lnTo>
                  <a:lnTo>
                    <a:pt x="0" y="9"/>
                  </a:lnTo>
                  <a:lnTo>
                    <a:pt x="8" y="0"/>
                  </a:lnTo>
                  <a:lnTo>
                    <a:pt x="97" y="48"/>
                  </a:lnTo>
                  <a:lnTo>
                    <a:pt x="178" y="104"/>
                  </a:lnTo>
                  <a:lnTo>
                    <a:pt x="257" y="167"/>
                  </a:lnTo>
                  <a:lnTo>
                    <a:pt x="249" y="176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592560" y="2321280"/>
              <a:ext cx="22680" cy="274680"/>
            </a:xfrm>
            <a:custGeom>
              <a:avLst/>
              <a:gdLst/>
              <a:ahLst/>
              <a:rect l="l" t="t" r="r" b="b"/>
              <a:pathLst>
                <a:path w="65" h="431">
                  <a:moveTo>
                    <a:pt x="65" y="9"/>
                  </a:moveTo>
                  <a:lnTo>
                    <a:pt x="42" y="132"/>
                  </a:lnTo>
                  <a:lnTo>
                    <a:pt x="22" y="281"/>
                  </a:lnTo>
                  <a:lnTo>
                    <a:pt x="10" y="431"/>
                  </a:lnTo>
                  <a:lnTo>
                    <a:pt x="0" y="422"/>
                  </a:lnTo>
                  <a:lnTo>
                    <a:pt x="13" y="271"/>
                  </a:lnTo>
                  <a:lnTo>
                    <a:pt x="34" y="123"/>
                  </a:lnTo>
                  <a:lnTo>
                    <a:pt x="56" y="0"/>
                  </a:lnTo>
                  <a:lnTo>
                    <a:pt x="65" y="9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529200" y="2438280"/>
              <a:ext cx="88920" cy="157680"/>
            </a:xfrm>
            <a:custGeom>
              <a:avLst/>
              <a:gdLst/>
              <a:ahLst/>
              <a:rect l="l" t="t" r="r" b="b"/>
              <a:pathLst>
                <a:path w="258" h="248">
                  <a:moveTo>
                    <a:pt x="0" y="239"/>
                  </a:moveTo>
                  <a:lnTo>
                    <a:pt x="52" y="208"/>
                  </a:lnTo>
                  <a:lnTo>
                    <a:pt x="110" y="164"/>
                  </a:lnTo>
                  <a:lnTo>
                    <a:pt x="161" y="115"/>
                  </a:lnTo>
                  <a:lnTo>
                    <a:pt x="209" y="60"/>
                  </a:lnTo>
                  <a:lnTo>
                    <a:pt x="248" y="0"/>
                  </a:lnTo>
                  <a:lnTo>
                    <a:pt x="258" y="9"/>
                  </a:lnTo>
                  <a:lnTo>
                    <a:pt x="217" y="70"/>
                  </a:lnTo>
                  <a:lnTo>
                    <a:pt x="171" y="124"/>
                  </a:lnTo>
                  <a:lnTo>
                    <a:pt x="119" y="174"/>
                  </a:lnTo>
                  <a:lnTo>
                    <a:pt x="61" y="217"/>
                  </a:lnTo>
                  <a:lnTo>
                    <a:pt x="9" y="248"/>
                  </a:lnTo>
                  <a:lnTo>
                    <a:pt x="0" y="239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617040" y="2607840"/>
              <a:ext cx="21960" cy="214920"/>
            </a:xfrm>
            <a:custGeom>
              <a:avLst/>
              <a:gdLst/>
              <a:ahLst/>
              <a:rect l="l" t="t" r="r" b="b"/>
              <a:pathLst>
                <a:path w="62" h="338">
                  <a:moveTo>
                    <a:pt x="52" y="0"/>
                  </a:moveTo>
                  <a:lnTo>
                    <a:pt x="37" y="76"/>
                  </a:lnTo>
                  <a:lnTo>
                    <a:pt x="21" y="162"/>
                  </a:lnTo>
                  <a:lnTo>
                    <a:pt x="11" y="248"/>
                  </a:lnTo>
                  <a:lnTo>
                    <a:pt x="0" y="338"/>
                  </a:lnTo>
                  <a:lnTo>
                    <a:pt x="13" y="338"/>
                  </a:lnTo>
                  <a:lnTo>
                    <a:pt x="21" y="248"/>
                  </a:lnTo>
                  <a:lnTo>
                    <a:pt x="33" y="162"/>
                  </a:lnTo>
                  <a:lnTo>
                    <a:pt x="50" y="76"/>
                  </a:lnTo>
                  <a:lnTo>
                    <a:pt x="62" y="8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620280" y="2353320"/>
              <a:ext cx="45360" cy="236520"/>
            </a:xfrm>
            <a:custGeom>
              <a:avLst/>
              <a:gdLst/>
              <a:ahLst/>
              <a:rect l="l" t="t" r="r" b="b"/>
              <a:pathLst>
                <a:path w="134" h="371">
                  <a:moveTo>
                    <a:pt x="124" y="371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134" y="371"/>
                  </a:lnTo>
                  <a:lnTo>
                    <a:pt x="124" y="37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576000" y="2601360"/>
              <a:ext cx="39960" cy="211320"/>
            </a:xfrm>
            <a:custGeom>
              <a:avLst/>
              <a:gdLst/>
              <a:ahLst/>
              <a:rect l="l" t="t" r="r" b="b"/>
              <a:pathLst>
                <a:path w="115" h="333">
                  <a:moveTo>
                    <a:pt x="106" y="333"/>
                  </a:moveTo>
                  <a:lnTo>
                    <a:pt x="82" y="232"/>
                  </a:lnTo>
                  <a:lnTo>
                    <a:pt x="44" y="115"/>
                  </a:lnTo>
                  <a:lnTo>
                    <a:pt x="0" y="0"/>
                  </a:lnTo>
                  <a:lnTo>
                    <a:pt x="9" y="0"/>
                  </a:lnTo>
                  <a:lnTo>
                    <a:pt x="54" y="114"/>
                  </a:lnTo>
                  <a:lnTo>
                    <a:pt x="91" y="231"/>
                  </a:lnTo>
                  <a:lnTo>
                    <a:pt x="115" y="333"/>
                  </a:lnTo>
                  <a:lnTo>
                    <a:pt x="106" y="33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608760" y="2580840"/>
              <a:ext cx="16920" cy="3168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0" y="26"/>
                  </a:moveTo>
                  <a:lnTo>
                    <a:pt x="4" y="14"/>
                  </a:lnTo>
                  <a:lnTo>
                    <a:pt x="12" y="5"/>
                  </a:lnTo>
                  <a:lnTo>
                    <a:pt x="25" y="0"/>
                  </a:lnTo>
                  <a:lnTo>
                    <a:pt x="36" y="5"/>
                  </a:lnTo>
                  <a:lnTo>
                    <a:pt x="46" y="14"/>
                  </a:lnTo>
                  <a:lnTo>
                    <a:pt x="50" y="26"/>
                  </a:lnTo>
                  <a:lnTo>
                    <a:pt x="46" y="38"/>
                  </a:lnTo>
                  <a:lnTo>
                    <a:pt x="36" y="48"/>
                  </a:lnTo>
                  <a:lnTo>
                    <a:pt x="25" y="50"/>
                  </a:lnTo>
                  <a:lnTo>
                    <a:pt x="12" y="48"/>
                  </a:lnTo>
                  <a:lnTo>
                    <a:pt x="4" y="38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608760" y="2580840"/>
              <a:ext cx="16920" cy="3168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0" y="26"/>
                  </a:moveTo>
                  <a:lnTo>
                    <a:pt x="4" y="14"/>
                  </a:lnTo>
                  <a:lnTo>
                    <a:pt x="12" y="5"/>
                  </a:lnTo>
                  <a:lnTo>
                    <a:pt x="25" y="0"/>
                  </a:lnTo>
                  <a:lnTo>
                    <a:pt x="36" y="5"/>
                  </a:lnTo>
                  <a:lnTo>
                    <a:pt x="46" y="14"/>
                  </a:lnTo>
                  <a:lnTo>
                    <a:pt x="50" y="26"/>
                  </a:lnTo>
                  <a:lnTo>
                    <a:pt x="46" y="38"/>
                  </a:lnTo>
                  <a:lnTo>
                    <a:pt x="36" y="48"/>
                  </a:lnTo>
                  <a:lnTo>
                    <a:pt x="25" y="50"/>
                  </a:lnTo>
                  <a:lnTo>
                    <a:pt x="12" y="48"/>
                  </a:lnTo>
                  <a:lnTo>
                    <a:pt x="4" y="38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621000" y="2592720"/>
              <a:ext cx="57960" cy="7200"/>
            </a:xfrm>
            <a:custGeom>
              <a:avLst/>
              <a:gdLst/>
              <a:ahLst/>
              <a:rect l="l" t="t" r="r" b="b"/>
              <a:pathLst>
                <a:path w="168" h="12">
                  <a:moveTo>
                    <a:pt x="168" y="0"/>
                  </a:moveTo>
                  <a:lnTo>
                    <a:pt x="3" y="0"/>
                  </a:lnTo>
                  <a:lnTo>
                    <a:pt x="0" y="12"/>
                  </a:lnTo>
                  <a:lnTo>
                    <a:pt x="163" y="12"/>
                  </a:lnTo>
                  <a:lnTo>
                    <a:pt x="168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5320" y="2605320"/>
              <a:ext cx="5508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598320" y="2353320"/>
              <a:ext cx="60120" cy="32760"/>
            </a:xfrm>
            <a:custGeom>
              <a:avLst/>
              <a:gdLst/>
              <a:ahLst/>
              <a:rect l="l" t="t" r="r" b="b"/>
              <a:pathLst>
                <a:path w="174" h="50">
                  <a:moveTo>
                    <a:pt x="0" y="50"/>
                  </a:moveTo>
                  <a:lnTo>
                    <a:pt x="39" y="26"/>
                  </a:lnTo>
                  <a:lnTo>
                    <a:pt x="83" y="10"/>
                  </a:lnTo>
                  <a:lnTo>
                    <a:pt x="129" y="1"/>
                  </a:lnTo>
                  <a:lnTo>
                    <a:pt x="174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531360" y="2465280"/>
              <a:ext cx="13680" cy="214920"/>
            </a:xfrm>
            <a:custGeom>
              <a:avLst/>
              <a:gdLst/>
              <a:ahLst/>
              <a:rect l="l" t="t" r="r" b="b"/>
              <a:pathLst>
                <a:path w="39" h="339">
                  <a:moveTo>
                    <a:pt x="22" y="0"/>
                  </a:moveTo>
                  <a:lnTo>
                    <a:pt x="35" y="65"/>
                  </a:lnTo>
                  <a:lnTo>
                    <a:pt x="39" y="130"/>
                  </a:lnTo>
                  <a:lnTo>
                    <a:pt x="35" y="197"/>
                  </a:lnTo>
                  <a:lnTo>
                    <a:pt x="24" y="260"/>
                  </a:lnTo>
                  <a:lnTo>
                    <a:pt x="5" y="324"/>
                  </a:lnTo>
                  <a:lnTo>
                    <a:pt x="0" y="339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580320" y="2797560"/>
              <a:ext cx="55800" cy="7200"/>
            </a:xfrm>
            <a:custGeom>
              <a:avLst/>
              <a:gdLst/>
              <a:ahLst/>
              <a:rect l="l" t="t" r="r" b="b"/>
              <a:pathLst>
                <a:path w="161" h="12">
                  <a:moveTo>
                    <a:pt x="161" y="0"/>
                  </a:moveTo>
                  <a:lnTo>
                    <a:pt x="109" y="10"/>
                  </a:lnTo>
                  <a:lnTo>
                    <a:pt x="58" y="12"/>
                  </a:lnTo>
                  <a:lnTo>
                    <a:pt x="5" y="7"/>
                  </a:lnTo>
                  <a:lnTo>
                    <a:pt x="0" y="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11720" y="2440800"/>
              <a:ext cx="10800" cy="54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676080" y="2455200"/>
              <a:ext cx="158400" cy="141120"/>
            </a:xfrm>
            <a:custGeom>
              <a:avLst/>
              <a:gdLst/>
              <a:ahLst/>
              <a:rect l="l" t="t" r="r" b="b"/>
              <a:pathLst>
                <a:path w="460" h="220">
                  <a:moveTo>
                    <a:pt x="0" y="183"/>
                  </a:moveTo>
                  <a:lnTo>
                    <a:pt x="53" y="121"/>
                  </a:lnTo>
                  <a:lnTo>
                    <a:pt x="93" y="82"/>
                  </a:lnTo>
                  <a:lnTo>
                    <a:pt x="138" y="49"/>
                  </a:lnTo>
                  <a:lnTo>
                    <a:pt x="187" y="23"/>
                  </a:lnTo>
                  <a:lnTo>
                    <a:pt x="239" y="4"/>
                  </a:lnTo>
                  <a:lnTo>
                    <a:pt x="258" y="0"/>
                  </a:lnTo>
                  <a:lnTo>
                    <a:pt x="377" y="110"/>
                  </a:lnTo>
                  <a:lnTo>
                    <a:pt x="460" y="220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b5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677160" y="2448720"/>
              <a:ext cx="110520" cy="137160"/>
            </a:xfrm>
            <a:custGeom>
              <a:avLst/>
              <a:gdLst/>
              <a:ahLst/>
              <a:rect l="l" t="t" r="r" b="b"/>
              <a:pathLst>
                <a:path w="320" h="216">
                  <a:moveTo>
                    <a:pt x="26" y="43"/>
                  </a:moveTo>
                  <a:lnTo>
                    <a:pt x="0" y="61"/>
                  </a:lnTo>
                  <a:lnTo>
                    <a:pt x="31" y="54"/>
                  </a:lnTo>
                  <a:lnTo>
                    <a:pt x="77" y="51"/>
                  </a:lnTo>
                  <a:lnTo>
                    <a:pt x="86" y="64"/>
                  </a:lnTo>
                  <a:lnTo>
                    <a:pt x="102" y="71"/>
                  </a:lnTo>
                  <a:lnTo>
                    <a:pt x="114" y="76"/>
                  </a:lnTo>
                  <a:lnTo>
                    <a:pt x="123" y="84"/>
                  </a:lnTo>
                  <a:lnTo>
                    <a:pt x="123" y="102"/>
                  </a:lnTo>
                  <a:lnTo>
                    <a:pt x="138" y="95"/>
                  </a:lnTo>
                  <a:lnTo>
                    <a:pt x="150" y="93"/>
                  </a:lnTo>
                  <a:lnTo>
                    <a:pt x="169" y="112"/>
                  </a:lnTo>
                  <a:lnTo>
                    <a:pt x="160" y="132"/>
                  </a:lnTo>
                  <a:lnTo>
                    <a:pt x="145" y="149"/>
                  </a:lnTo>
                  <a:lnTo>
                    <a:pt x="138" y="158"/>
                  </a:lnTo>
                  <a:lnTo>
                    <a:pt x="286" y="207"/>
                  </a:lnTo>
                  <a:lnTo>
                    <a:pt x="320" y="216"/>
                  </a:lnTo>
                  <a:lnTo>
                    <a:pt x="302" y="180"/>
                  </a:lnTo>
                  <a:lnTo>
                    <a:pt x="256" y="119"/>
                  </a:lnTo>
                  <a:lnTo>
                    <a:pt x="234" y="95"/>
                  </a:lnTo>
                  <a:lnTo>
                    <a:pt x="208" y="68"/>
                  </a:lnTo>
                  <a:lnTo>
                    <a:pt x="182" y="43"/>
                  </a:lnTo>
                  <a:lnTo>
                    <a:pt x="158" y="21"/>
                  </a:lnTo>
                  <a:lnTo>
                    <a:pt x="138" y="5"/>
                  </a:lnTo>
                  <a:lnTo>
                    <a:pt x="124" y="0"/>
                  </a:lnTo>
                  <a:lnTo>
                    <a:pt x="98" y="9"/>
                  </a:lnTo>
                  <a:lnTo>
                    <a:pt x="56" y="25"/>
                  </a:lnTo>
                  <a:lnTo>
                    <a:pt x="26" y="4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742680" y="2476800"/>
              <a:ext cx="32400" cy="66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61760" y="2467800"/>
              <a:ext cx="33120" cy="75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46280" y="2478960"/>
              <a:ext cx="21240" cy="64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790560" y="2490480"/>
              <a:ext cx="38520" cy="68400"/>
            </a:xfrm>
            <a:custGeom>
              <a:avLst/>
              <a:gdLst/>
              <a:ahLst/>
              <a:rect l="l" t="t" r="r" b="b"/>
              <a:pathLst>
                <a:path w="111" h="108">
                  <a:moveTo>
                    <a:pt x="0" y="108"/>
                  </a:moveTo>
                  <a:lnTo>
                    <a:pt x="19" y="83"/>
                  </a:lnTo>
                  <a:lnTo>
                    <a:pt x="48" y="53"/>
                  </a:lnTo>
                  <a:lnTo>
                    <a:pt x="78" y="24"/>
                  </a:lnTo>
                  <a:lnTo>
                    <a:pt x="111" y="0"/>
                  </a:lnTo>
                  <a:lnTo>
                    <a:pt x="88" y="41"/>
                  </a:lnTo>
                  <a:lnTo>
                    <a:pt x="82" y="62"/>
                  </a:lnTo>
                  <a:lnTo>
                    <a:pt x="77" y="83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656640" y="2541600"/>
              <a:ext cx="228960" cy="421560"/>
            </a:xfrm>
            <a:custGeom>
              <a:avLst/>
              <a:gdLst/>
              <a:ahLst/>
              <a:rect l="l" t="t" r="r" b="b"/>
              <a:pathLst>
                <a:path w="661" h="663">
                  <a:moveTo>
                    <a:pt x="0" y="644"/>
                  </a:moveTo>
                  <a:lnTo>
                    <a:pt x="111" y="39"/>
                  </a:lnTo>
                  <a:lnTo>
                    <a:pt x="126" y="28"/>
                  </a:lnTo>
                  <a:lnTo>
                    <a:pt x="143" y="22"/>
                  </a:lnTo>
                  <a:lnTo>
                    <a:pt x="178" y="12"/>
                  </a:lnTo>
                  <a:lnTo>
                    <a:pt x="245" y="3"/>
                  </a:lnTo>
                  <a:lnTo>
                    <a:pt x="316" y="0"/>
                  </a:lnTo>
                  <a:lnTo>
                    <a:pt x="384" y="3"/>
                  </a:lnTo>
                  <a:lnTo>
                    <a:pt x="454" y="12"/>
                  </a:lnTo>
                  <a:lnTo>
                    <a:pt x="520" y="32"/>
                  </a:lnTo>
                  <a:lnTo>
                    <a:pt x="586" y="56"/>
                  </a:lnTo>
                  <a:lnTo>
                    <a:pt x="607" y="66"/>
                  </a:lnTo>
                  <a:lnTo>
                    <a:pt x="616" y="76"/>
                  </a:lnTo>
                  <a:lnTo>
                    <a:pt x="661" y="663"/>
                  </a:lnTo>
                  <a:lnTo>
                    <a:pt x="0" y="64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752040" y="2570760"/>
              <a:ext cx="20520" cy="69840"/>
            </a:xfrm>
            <a:custGeom>
              <a:avLst/>
              <a:gdLst/>
              <a:ahLst/>
              <a:rect l="l" t="t" r="r" b="b"/>
              <a:pathLst>
                <a:path w="60" h="111">
                  <a:moveTo>
                    <a:pt x="58" y="3"/>
                  </a:moveTo>
                  <a:lnTo>
                    <a:pt x="31" y="0"/>
                  </a:lnTo>
                  <a:lnTo>
                    <a:pt x="6" y="3"/>
                  </a:lnTo>
                  <a:lnTo>
                    <a:pt x="0" y="111"/>
                  </a:lnTo>
                  <a:lnTo>
                    <a:pt x="31" y="111"/>
                  </a:lnTo>
                  <a:lnTo>
                    <a:pt x="33" y="38"/>
                  </a:lnTo>
                  <a:lnTo>
                    <a:pt x="48" y="36"/>
                  </a:lnTo>
                  <a:lnTo>
                    <a:pt x="60" y="38"/>
                  </a:lnTo>
                  <a:lnTo>
                    <a:pt x="58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750960" y="2592720"/>
              <a:ext cx="7200" cy="50760"/>
            </a:xfrm>
            <a:custGeom>
              <a:avLst/>
              <a:gdLst/>
              <a:ahLst/>
              <a:rect l="l" t="t" r="r" b="b"/>
              <a:pathLst>
                <a:path w="21" h="80">
                  <a:moveTo>
                    <a:pt x="18" y="0"/>
                  </a:moveTo>
                  <a:lnTo>
                    <a:pt x="21" y="80"/>
                  </a:lnTo>
                  <a:lnTo>
                    <a:pt x="0" y="7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754200" y="2739960"/>
              <a:ext cx="19800" cy="67320"/>
            </a:xfrm>
            <a:custGeom>
              <a:avLst/>
              <a:gdLst/>
              <a:ahLst/>
              <a:rect l="l" t="t" r="r" b="b"/>
              <a:pathLst>
                <a:path w="60" h="106">
                  <a:moveTo>
                    <a:pt x="55" y="2"/>
                  </a:moveTo>
                  <a:lnTo>
                    <a:pt x="31" y="0"/>
                  </a:lnTo>
                  <a:lnTo>
                    <a:pt x="7" y="0"/>
                  </a:lnTo>
                  <a:lnTo>
                    <a:pt x="0" y="103"/>
                  </a:lnTo>
                  <a:lnTo>
                    <a:pt x="31" y="100"/>
                  </a:lnTo>
                  <a:lnTo>
                    <a:pt x="60" y="106"/>
                  </a:lnTo>
                  <a:lnTo>
                    <a:pt x="59" y="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16840" y="2568240"/>
              <a:ext cx="5400" cy="115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 flipV="1">
              <a:off x="838080" y="2582280"/>
              <a:ext cx="19440" cy="217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809280" y="2567160"/>
              <a:ext cx="360" cy="45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191520" y="2747880"/>
              <a:ext cx="1148760" cy="572760"/>
            </a:xfrm>
            <a:custGeom>
              <a:avLst/>
              <a:gdLst/>
              <a:ahLst/>
              <a:rect l="l" t="t" r="r" b="b"/>
              <a:pathLst>
                <a:path w="3322" h="899">
                  <a:moveTo>
                    <a:pt x="0" y="0"/>
                  </a:moveTo>
                  <a:lnTo>
                    <a:pt x="239" y="19"/>
                  </a:lnTo>
                  <a:lnTo>
                    <a:pt x="304" y="8"/>
                  </a:lnTo>
                  <a:lnTo>
                    <a:pt x="378" y="8"/>
                  </a:lnTo>
                  <a:lnTo>
                    <a:pt x="405" y="8"/>
                  </a:lnTo>
                  <a:lnTo>
                    <a:pt x="461" y="27"/>
                  </a:lnTo>
                  <a:lnTo>
                    <a:pt x="533" y="46"/>
                  </a:lnTo>
                  <a:lnTo>
                    <a:pt x="598" y="46"/>
                  </a:lnTo>
                  <a:lnTo>
                    <a:pt x="607" y="54"/>
                  </a:lnTo>
                  <a:lnTo>
                    <a:pt x="671" y="64"/>
                  </a:lnTo>
                  <a:lnTo>
                    <a:pt x="700" y="64"/>
                  </a:lnTo>
                  <a:lnTo>
                    <a:pt x="772" y="54"/>
                  </a:lnTo>
                  <a:lnTo>
                    <a:pt x="818" y="64"/>
                  </a:lnTo>
                  <a:lnTo>
                    <a:pt x="893" y="64"/>
                  </a:lnTo>
                  <a:lnTo>
                    <a:pt x="939" y="82"/>
                  </a:lnTo>
                  <a:lnTo>
                    <a:pt x="976" y="82"/>
                  </a:lnTo>
                  <a:lnTo>
                    <a:pt x="1003" y="82"/>
                  </a:lnTo>
                  <a:lnTo>
                    <a:pt x="1031" y="82"/>
                  </a:lnTo>
                  <a:lnTo>
                    <a:pt x="1040" y="82"/>
                  </a:lnTo>
                  <a:lnTo>
                    <a:pt x="1057" y="92"/>
                  </a:lnTo>
                  <a:lnTo>
                    <a:pt x="1159" y="92"/>
                  </a:lnTo>
                  <a:lnTo>
                    <a:pt x="1177" y="109"/>
                  </a:lnTo>
                  <a:lnTo>
                    <a:pt x="1187" y="118"/>
                  </a:lnTo>
                  <a:lnTo>
                    <a:pt x="1261" y="128"/>
                  </a:lnTo>
                  <a:lnTo>
                    <a:pt x="1306" y="147"/>
                  </a:lnTo>
                  <a:lnTo>
                    <a:pt x="1352" y="156"/>
                  </a:lnTo>
                  <a:lnTo>
                    <a:pt x="1352" y="164"/>
                  </a:lnTo>
                  <a:lnTo>
                    <a:pt x="1399" y="174"/>
                  </a:lnTo>
                  <a:lnTo>
                    <a:pt x="1453" y="201"/>
                  </a:lnTo>
                  <a:lnTo>
                    <a:pt x="1463" y="201"/>
                  </a:lnTo>
                  <a:lnTo>
                    <a:pt x="1519" y="193"/>
                  </a:lnTo>
                  <a:lnTo>
                    <a:pt x="1555" y="211"/>
                  </a:lnTo>
                  <a:lnTo>
                    <a:pt x="1564" y="220"/>
                  </a:lnTo>
                  <a:lnTo>
                    <a:pt x="1610" y="220"/>
                  </a:lnTo>
                  <a:lnTo>
                    <a:pt x="1620" y="220"/>
                  </a:lnTo>
                  <a:lnTo>
                    <a:pt x="1656" y="238"/>
                  </a:lnTo>
                  <a:lnTo>
                    <a:pt x="1740" y="247"/>
                  </a:lnTo>
                  <a:lnTo>
                    <a:pt x="1785" y="238"/>
                  </a:lnTo>
                  <a:lnTo>
                    <a:pt x="1785" y="220"/>
                  </a:lnTo>
                  <a:lnTo>
                    <a:pt x="1785" y="238"/>
                  </a:lnTo>
                  <a:lnTo>
                    <a:pt x="1794" y="247"/>
                  </a:lnTo>
                  <a:lnTo>
                    <a:pt x="1823" y="247"/>
                  </a:lnTo>
                  <a:lnTo>
                    <a:pt x="1823" y="256"/>
                  </a:lnTo>
                  <a:lnTo>
                    <a:pt x="1868" y="275"/>
                  </a:lnTo>
                  <a:lnTo>
                    <a:pt x="1887" y="275"/>
                  </a:lnTo>
                  <a:lnTo>
                    <a:pt x="1923" y="275"/>
                  </a:lnTo>
                  <a:lnTo>
                    <a:pt x="1941" y="294"/>
                  </a:lnTo>
                  <a:lnTo>
                    <a:pt x="2015" y="321"/>
                  </a:lnTo>
                  <a:lnTo>
                    <a:pt x="2024" y="321"/>
                  </a:lnTo>
                  <a:lnTo>
                    <a:pt x="2042" y="331"/>
                  </a:lnTo>
                  <a:lnTo>
                    <a:pt x="2080" y="340"/>
                  </a:lnTo>
                  <a:lnTo>
                    <a:pt x="2126" y="347"/>
                  </a:lnTo>
                  <a:lnTo>
                    <a:pt x="2153" y="347"/>
                  </a:lnTo>
                  <a:lnTo>
                    <a:pt x="2180" y="357"/>
                  </a:lnTo>
                  <a:lnTo>
                    <a:pt x="2236" y="367"/>
                  </a:lnTo>
                  <a:lnTo>
                    <a:pt x="2264" y="395"/>
                  </a:lnTo>
                  <a:lnTo>
                    <a:pt x="2291" y="413"/>
                  </a:lnTo>
                  <a:lnTo>
                    <a:pt x="2337" y="432"/>
                  </a:lnTo>
                  <a:lnTo>
                    <a:pt x="2383" y="432"/>
                  </a:lnTo>
                  <a:lnTo>
                    <a:pt x="2392" y="449"/>
                  </a:lnTo>
                  <a:lnTo>
                    <a:pt x="2411" y="467"/>
                  </a:lnTo>
                  <a:lnTo>
                    <a:pt x="2466" y="486"/>
                  </a:lnTo>
                  <a:lnTo>
                    <a:pt x="2475" y="513"/>
                  </a:lnTo>
                  <a:lnTo>
                    <a:pt x="2521" y="532"/>
                  </a:lnTo>
                  <a:lnTo>
                    <a:pt x="2568" y="550"/>
                  </a:lnTo>
                  <a:lnTo>
                    <a:pt x="2604" y="550"/>
                  </a:lnTo>
                  <a:lnTo>
                    <a:pt x="2659" y="559"/>
                  </a:lnTo>
                  <a:lnTo>
                    <a:pt x="2687" y="596"/>
                  </a:lnTo>
                  <a:lnTo>
                    <a:pt x="2714" y="605"/>
                  </a:lnTo>
                  <a:lnTo>
                    <a:pt x="2769" y="633"/>
                  </a:lnTo>
                  <a:lnTo>
                    <a:pt x="2807" y="651"/>
                  </a:lnTo>
                  <a:lnTo>
                    <a:pt x="2844" y="679"/>
                  </a:lnTo>
                  <a:lnTo>
                    <a:pt x="2890" y="687"/>
                  </a:lnTo>
                  <a:lnTo>
                    <a:pt x="2972" y="724"/>
                  </a:lnTo>
                  <a:lnTo>
                    <a:pt x="3009" y="743"/>
                  </a:lnTo>
                  <a:lnTo>
                    <a:pt x="3054" y="743"/>
                  </a:lnTo>
                  <a:lnTo>
                    <a:pt x="3045" y="761"/>
                  </a:lnTo>
                  <a:lnTo>
                    <a:pt x="3109" y="780"/>
                  </a:lnTo>
                  <a:lnTo>
                    <a:pt x="3174" y="797"/>
                  </a:lnTo>
                  <a:lnTo>
                    <a:pt x="3201" y="807"/>
                  </a:lnTo>
                  <a:lnTo>
                    <a:pt x="3220" y="816"/>
                  </a:lnTo>
                  <a:lnTo>
                    <a:pt x="3230" y="834"/>
                  </a:lnTo>
                  <a:lnTo>
                    <a:pt x="3246" y="863"/>
                  </a:lnTo>
                  <a:lnTo>
                    <a:pt x="3322" y="899"/>
                  </a:lnTo>
                  <a:lnTo>
                    <a:pt x="0" y="8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1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932400" y="2965680"/>
              <a:ext cx="408240" cy="296280"/>
            </a:xfrm>
            <a:custGeom>
              <a:avLst/>
              <a:gdLst/>
              <a:ahLst/>
              <a:rect l="l" t="t" r="r" b="b"/>
              <a:pathLst>
                <a:path w="1180" h="465">
                  <a:moveTo>
                    <a:pt x="701" y="0"/>
                  </a:moveTo>
                  <a:lnTo>
                    <a:pt x="851" y="13"/>
                  </a:lnTo>
                  <a:lnTo>
                    <a:pt x="1011" y="67"/>
                  </a:lnTo>
                  <a:lnTo>
                    <a:pt x="1097" y="116"/>
                  </a:lnTo>
                  <a:lnTo>
                    <a:pt x="1159" y="172"/>
                  </a:lnTo>
                  <a:lnTo>
                    <a:pt x="1180" y="251"/>
                  </a:lnTo>
                  <a:lnTo>
                    <a:pt x="1164" y="290"/>
                  </a:lnTo>
                  <a:lnTo>
                    <a:pt x="1018" y="391"/>
                  </a:lnTo>
                  <a:lnTo>
                    <a:pt x="778" y="455"/>
                  </a:lnTo>
                  <a:lnTo>
                    <a:pt x="485" y="465"/>
                  </a:lnTo>
                  <a:lnTo>
                    <a:pt x="236" y="452"/>
                  </a:lnTo>
                  <a:lnTo>
                    <a:pt x="0" y="437"/>
                  </a:lnTo>
                  <a:lnTo>
                    <a:pt x="0" y="28"/>
                  </a:lnTo>
                  <a:lnTo>
                    <a:pt x="701" y="0"/>
                  </a:lnTo>
                  <a:close/>
                </a:path>
              </a:pathLst>
            </a:custGeom>
            <a:solidFill>
              <a:srgbClr val="c96623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928440" y="2940120"/>
              <a:ext cx="170640" cy="198360"/>
            </a:xfrm>
            <a:custGeom>
              <a:avLst/>
              <a:gdLst/>
              <a:ahLst/>
              <a:rect l="l" t="t" r="r" b="b"/>
              <a:pathLst>
                <a:path w="494" h="313">
                  <a:moveTo>
                    <a:pt x="0" y="0"/>
                  </a:moveTo>
                  <a:lnTo>
                    <a:pt x="85" y="9"/>
                  </a:lnTo>
                  <a:lnTo>
                    <a:pt x="171" y="25"/>
                  </a:lnTo>
                  <a:lnTo>
                    <a:pt x="243" y="44"/>
                  </a:lnTo>
                  <a:lnTo>
                    <a:pt x="332" y="77"/>
                  </a:lnTo>
                  <a:lnTo>
                    <a:pt x="397" y="111"/>
                  </a:lnTo>
                  <a:lnTo>
                    <a:pt x="441" y="138"/>
                  </a:lnTo>
                  <a:lnTo>
                    <a:pt x="468" y="162"/>
                  </a:lnTo>
                  <a:lnTo>
                    <a:pt x="481" y="180"/>
                  </a:lnTo>
                  <a:lnTo>
                    <a:pt x="491" y="210"/>
                  </a:lnTo>
                  <a:lnTo>
                    <a:pt x="494" y="242"/>
                  </a:lnTo>
                  <a:lnTo>
                    <a:pt x="489" y="270"/>
                  </a:lnTo>
                  <a:lnTo>
                    <a:pt x="488" y="277"/>
                  </a:lnTo>
                  <a:lnTo>
                    <a:pt x="475" y="313"/>
                  </a:lnTo>
                  <a:lnTo>
                    <a:pt x="469" y="280"/>
                  </a:lnTo>
                  <a:lnTo>
                    <a:pt x="460" y="259"/>
                  </a:lnTo>
                  <a:lnTo>
                    <a:pt x="447" y="234"/>
                  </a:lnTo>
                  <a:lnTo>
                    <a:pt x="431" y="217"/>
                  </a:lnTo>
                  <a:lnTo>
                    <a:pt x="402" y="193"/>
                  </a:lnTo>
                  <a:lnTo>
                    <a:pt x="375" y="175"/>
                  </a:lnTo>
                  <a:lnTo>
                    <a:pt x="310" y="138"/>
                  </a:lnTo>
                  <a:lnTo>
                    <a:pt x="231" y="108"/>
                  </a:lnTo>
                  <a:lnTo>
                    <a:pt x="153" y="85"/>
                  </a:lnTo>
                  <a:lnTo>
                    <a:pt x="73" y="70"/>
                  </a:lnTo>
                  <a:lnTo>
                    <a:pt x="1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5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928080" y="3085200"/>
              <a:ext cx="412200" cy="193680"/>
            </a:xfrm>
            <a:custGeom>
              <a:avLst/>
              <a:gdLst/>
              <a:ahLst/>
              <a:rect l="l" t="t" r="r" b="b"/>
              <a:pathLst>
                <a:path w="1193" h="305">
                  <a:moveTo>
                    <a:pt x="0" y="275"/>
                  </a:moveTo>
                  <a:lnTo>
                    <a:pt x="20" y="282"/>
                  </a:lnTo>
                  <a:lnTo>
                    <a:pt x="169" y="297"/>
                  </a:lnTo>
                  <a:lnTo>
                    <a:pt x="318" y="305"/>
                  </a:lnTo>
                  <a:lnTo>
                    <a:pt x="466" y="305"/>
                  </a:lnTo>
                  <a:lnTo>
                    <a:pt x="614" y="298"/>
                  </a:lnTo>
                  <a:lnTo>
                    <a:pt x="765" y="287"/>
                  </a:lnTo>
                  <a:lnTo>
                    <a:pt x="833" y="279"/>
                  </a:lnTo>
                  <a:lnTo>
                    <a:pt x="909" y="266"/>
                  </a:lnTo>
                  <a:lnTo>
                    <a:pt x="963" y="255"/>
                  </a:lnTo>
                  <a:lnTo>
                    <a:pt x="1009" y="243"/>
                  </a:lnTo>
                  <a:lnTo>
                    <a:pt x="1061" y="222"/>
                  </a:lnTo>
                  <a:lnTo>
                    <a:pt x="1102" y="197"/>
                  </a:lnTo>
                  <a:lnTo>
                    <a:pt x="1152" y="161"/>
                  </a:lnTo>
                  <a:lnTo>
                    <a:pt x="1180" y="121"/>
                  </a:lnTo>
                  <a:lnTo>
                    <a:pt x="1188" y="96"/>
                  </a:lnTo>
                  <a:lnTo>
                    <a:pt x="1193" y="0"/>
                  </a:lnTo>
                  <a:lnTo>
                    <a:pt x="1182" y="49"/>
                  </a:lnTo>
                  <a:lnTo>
                    <a:pt x="1154" y="85"/>
                  </a:lnTo>
                  <a:lnTo>
                    <a:pt x="1097" y="128"/>
                  </a:lnTo>
                  <a:lnTo>
                    <a:pt x="1040" y="157"/>
                  </a:lnTo>
                  <a:lnTo>
                    <a:pt x="975" y="180"/>
                  </a:lnTo>
                  <a:lnTo>
                    <a:pt x="897" y="197"/>
                  </a:lnTo>
                  <a:lnTo>
                    <a:pt x="836" y="207"/>
                  </a:lnTo>
                  <a:lnTo>
                    <a:pt x="802" y="212"/>
                  </a:lnTo>
                  <a:lnTo>
                    <a:pt x="724" y="219"/>
                  </a:lnTo>
                  <a:lnTo>
                    <a:pt x="671" y="224"/>
                  </a:lnTo>
                  <a:lnTo>
                    <a:pt x="539" y="232"/>
                  </a:lnTo>
                  <a:lnTo>
                    <a:pt x="410" y="235"/>
                  </a:lnTo>
                  <a:lnTo>
                    <a:pt x="281" y="230"/>
                  </a:lnTo>
                  <a:lnTo>
                    <a:pt x="147" y="214"/>
                  </a:lnTo>
                  <a:lnTo>
                    <a:pt x="20" y="194"/>
                  </a:lnTo>
                  <a:lnTo>
                    <a:pt x="0" y="189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1140120" y="2829240"/>
              <a:ext cx="120960" cy="275040"/>
            </a:xfrm>
            <a:custGeom>
              <a:avLst/>
              <a:gdLst/>
              <a:ahLst/>
              <a:rect l="l" t="t" r="r" b="b"/>
              <a:pathLst>
                <a:path w="349" h="431">
                  <a:moveTo>
                    <a:pt x="349" y="404"/>
                  </a:moveTo>
                  <a:lnTo>
                    <a:pt x="73" y="431"/>
                  </a:lnTo>
                  <a:lnTo>
                    <a:pt x="0" y="46"/>
                  </a:lnTo>
                  <a:lnTo>
                    <a:pt x="276" y="0"/>
                  </a:lnTo>
                  <a:lnTo>
                    <a:pt x="349" y="404"/>
                  </a:lnTo>
                  <a:close/>
                </a:path>
              </a:pathLst>
            </a:custGeom>
            <a:solidFill>
              <a:srgbClr val="b5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1141200" y="2847240"/>
              <a:ext cx="111240" cy="259560"/>
            </a:xfrm>
            <a:custGeom>
              <a:avLst/>
              <a:gdLst/>
              <a:ahLst/>
              <a:rect l="l" t="t" r="r" b="b"/>
              <a:pathLst>
                <a:path w="321" h="408">
                  <a:moveTo>
                    <a:pt x="307" y="382"/>
                  </a:moveTo>
                  <a:lnTo>
                    <a:pt x="277" y="382"/>
                  </a:lnTo>
                  <a:lnTo>
                    <a:pt x="260" y="327"/>
                  </a:lnTo>
                  <a:lnTo>
                    <a:pt x="266" y="327"/>
                  </a:lnTo>
                  <a:lnTo>
                    <a:pt x="248" y="266"/>
                  </a:lnTo>
                  <a:lnTo>
                    <a:pt x="242" y="252"/>
                  </a:lnTo>
                  <a:lnTo>
                    <a:pt x="228" y="222"/>
                  </a:lnTo>
                  <a:lnTo>
                    <a:pt x="225" y="201"/>
                  </a:lnTo>
                  <a:lnTo>
                    <a:pt x="214" y="187"/>
                  </a:lnTo>
                  <a:lnTo>
                    <a:pt x="204" y="173"/>
                  </a:lnTo>
                  <a:lnTo>
                    <a:pt x="198" y="168"/>
                  </a:lnTo>
                  <a:lnTo>
                    <a:pt x="186" y="168"/>
                  </a:lnTo>
                  <a:lnTo>
                    <a:pt x="198" y="236"/>
                  </a:lnTo>
                  <a:lnTo>
                    <a:pt x="195" y="236"/>
                  </a:lnTo>
                  <a:lnTo>
                    <a:pt x="158" y="65"/>
                  </a:lnTo>
                  <a:lnTo>
                    <a:pt x="139" y="65"/>
                  </a:lnTo>
                  <a:lnTo>
                    <a:pt x="134" y="66"/>
                  </a:lnTo>
                  <a:lnTo>
                    <a:pt x="125" y="69"/>
                  </a:lnTo>
                  <a:lnTo>
                    <a:pt x="139" y="150"/>
                  </a:lnTo>
                  <a:lnTo>
                    <a:pt x="114" y="152"/>
                  </a:lnTo>
                  <a:lnTo>
                    <a:pt x="102" y="155"/>
                  </a:lnTo>
                  <a:lnTo>
                    <a:pt x="95" y="155"/>
                  </a:lnTo>
                  <a:lnTo>
                    <a:pt x="102" y="254"/>
                  </a:lnTo>
                  <a:lnTo>
                    <a:pt x="100" y="254"/>
                  </a:lnTo>
                  <a:lnTo>
                    <a:pt x="95" y="252"/>
                  </a:lnTo>
                  <a:lnTo>
                    <a:pt x="91" y="227"/>
                  </a:lnTo>
                  <a:lnTo>
                    <a:pt x="84" y="231"/>
                  </a:lnTo>
                  <a:lnTo>
                    <a:pt x="91" y="297"/>
                  </a:lnTo>
                  <a:lnTo>
                    <a:pt x="81" y="315"/>
                  </a:lnTo>
                  <a:lnTo>
                    <a:pt x="84" y="405"/>
                  </a:lnTo>
                  <a:lnTo>
                    <a:pt x="75" y="408"/>
                  </a:lnTo>
                  <a:lnTo>
                    <a:pt x="0" y="32"/>
                  </a:lnTo>
                  <a:lnTo>
                    <a:pt x="63" y="0"/>
                  </a:lnTo>
                  <a:lnTo>
                    <a:pt x="195" y="3"/>
                  </a:lnTo>
                  <a:lnTo>
                    <a:pt x="214" y="18"/>
                  </a:lnTo>
                  <a:lnTo>
                    <a:pt x="321" y="382"/>
                  </a:lnTo>
                  <a:lnTo>
                    <a:pt x="307" y="38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1193400" y="2941560"/>
              <a:ext cx="10800" cy="114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1121040" y="2350440"/>
              <a:ext cx="69840" cy="93960"/>
            </a:xfrm>
            <a:custGeom>
              <a:avLst/>
              <a:gdLst/>
              <a:ahLst/>
              <a:rect l="l" t="t" r="r" b="b"/>
              <a:pathLst>
                <a:path w="203" h="147">
                  <a:moveTo>
                    <a:pt x="203" y="129"/>
                  </a:moveTo>
                  <a:lnTo>
                    <a:pt x="75" y="147"/>
                  </a:lnTo>
                  <a:lnTo>
                    <a:pt x="0" y="65"/>
                  </a:lnTo>
                  <a:lnTo>
                    <a:pt x="29" y="0"/>
                  </a:lnTo>
                  <a:lnTo>
                    <a:pt x="203" y="120"/>
                  </a:lnTo>
                  <a:lnTo>
                    <a:pt x="203" y="129"/>
                  </a:lnTo>
                  <a:close/>
                </a:path>
              </a:pathLst>
            </a:custGeom>
            <a:solidFill>
              <a:srgbClr val="b5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1117440" y="2210400"/>
              <a:ext cx="204120" cy="227520"/>
            </a:xfrm>
            <a:custGeom>
              <a:avLst/>
              <a:gdLst/>
              <a:ahLst/>
              <a:rect l="l" t="t" r="r" b="b"/>
              <a:pathLst>
                <a:path w="589" h="357">
                  <a:moveTo>
                    <a:pt x="0" y="18"/>
                  </a:moveTo>
                  <a:lnTo>
                    <a:pt x="118" y="67"/>
                  </a:lnTo>
                  <a:lnTo>
                    <a:pt x="232" y="123"/>
                  </a:lnTo>
                  <a:lnTo>
                    <a:pt x="341" y="186"/>
                  </a:lnTo>
                  <a:lnTo>
                    <a:pt x="447" y="254"/>
                  </a:lnTo>
                  <a:lnTo>
                    <a:pt x="548" y="331"/>
                  </a:lnTo>
                  <a:lnTo>
                    <a:pt x="580" y="357"/>
                  </a:lnTo>
                  <a:lnTo>
                    <a:pt x="589" y="340"/>
                  </a:lnTo>
                  <a:lnTo>
                    <a:pt x="557" y="314"/>
                  </a:lnTo>
                  <a:lnTo>
                    <a:pt x="456" y="237"/>
                  </a:lnTo>
                  <a:lnTo>
                    <a:pt x="350" y="168"/>
                  </a:lnTo>
                  <a:lnTo>
                    <a:pt x="240" y="105"/>
                  </a:lnTo>
                  <a:lnTo>
                    <a:pt x="126" y="49"/>
                  </a:lnTo>
                  <a:lnTo>
                    <a:pt x="1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1061280" y="2467800"/>
              <a:ext cx="100800" cy="420120"/>
            </a:xfrm>
            <a:custGeom>
              <a:avLst/>
              <a:gdLst/>
              <a:ahLst/>
              <a:rect l="l" t="t" r="r" b="b"/>
              <a:pathLst>
                <a:path w="293" h="660">
                  <a:moveTo>
                    <a:pt x="146" y="9"/>
                  </a:moveTo>
                  <a:lnTo>
                    <a:pt x="192" y="247"/>
                  </a:lnTo>
                  <a:lnTo>
                    <a:pt x="238" y="403"/>
                  </a:lnTo>
                  <a:lnTo>
                    <a:pt x="293" y="641"/>
                  </a:lnTo>
                  <a:lnTo>
                    <a:pt x="250" y="655"/>
                  </a:lnTo>
                  <a:lnTo>
                    <a:pt x="205" y="660"/>
                  </a:lnTo>
                  <a:lnTo>
                    <a:pt x="161" y="659"/>
                  </a:lnTo>
                  <a:lnTo>
                    <a:pt x="117" y="647"/>
                  </a:lnTo>
                  <a:lnTo>
                    <a:pt x="81" y="633"/>
                  </a:lnTo>
                  <a:lnTo>
                    <a:pt x="81" y="614"/>
                  </a:lnTo>
                  <a:lnTo>
                    <a:pt x="0" y="540"/>
                  </a:lnTo>
                  <a:lnTo>
                    <a:pt x="8" y="529"/>
                  </a:lnTo>
                  <a:lnTo>
                    <a:pt x="50" y="474"/>
                  </a:lnTo>
                  <a:lnTo>
                    <a:pt x="84" y="413"/>
                  </a:lnTo>
                  <a:lnTo>
                    <a:pt x="113" y="347"/>
                  </a:lnTo>
                  <a:lnTo>
                    <a:pt x="134" y="280"/>
                  </a:lnTo>
                  <a:lnTo>
                    <a:pt x="146" y="210"/>
                  </a:lnTo>
                  <a:lnTo>
                    <a:pt x="151" y="139"/>
                  </a:lnTo>
                  <a:lnTo>
                    <a:pt x="148" y="69"/>
                  </a:lnTo>
                  <a:lnTo>
                    <a:pt x="136" y="0"/>
                  </a:lnTo>
                  <a:lnTo>
                    <a:pt x="146" y="9"/>
                  </a:lnTo>
                  <a:close/>
                </a:path>
              </a:pathLst>
            </a:custGeom>
            <a:solidFill>
              <a:srgbClr val="b5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965160" y="2017080"/>
              <a:ext cx="181080" cy="398520"/>
            </a:xfrm>
            <a:custGeom>
              <a:avLst/>
              <a:gdLst/>
              <a:ahLst/>
              <a:rect l="l" t="t" r="r" b="b"/>
              <a:pathLst>
                <a:path w="524" h="624">
                  <a:moveTo>
                    <a:pt x="0" y="10"/>
                  </a:moveTo>
                  <a:lnTo>
                    <a:pt x="119" y="624"/>
                  </a:lnTo>
                  <a:lnTo>
                    <a:pt x="126" y="547"/>
                  </a:lnTo>
                  <a:lnTo>
                    <a:pt x="141" y="473"/>
                  </a:lnTo>
                  <a:lnTo>
                    <a:pt x="164" y="397"/>
                  </a:lnTo>
                  <a:lnTo>
                    <a:pt x="193" y="327"/>
                  </a:lnTo>
                  <a:lnTo>
                    <a:pt x="231" y="260"/>
                  </a:lnTo>
                  <a:lnTo>
                    <a:pt x="256" y="220"/>
                  </a:lnTo>
                  <a:lnTo>
                    <a:pt x="284" y="190"/>
                  </a:lnTo>
                  <a:lnTo>
                    <a:pt x="317" y="164"/>
                  </a:lnTo>
                  <a:lnTo>
                    <a:pt x="353" y="146"/>
                  </a:lnTo>
                  <a:lnTo>
                    <a:pt x="392" y="136"/>
                  </a:lnTo>
                  <a:lnTo>
                    <a:pt x="433" y="133"/>
                  </a:lnTo>
                  <a:lnTo>
                    <a:pt x="474" y="138"/>
                  </a:lnTo>
                  <a:lnTo>
                    <a:pt x="512" y="150"/>
                  </a:lnTo>
                  <a:lnTo>
                    <a:pt x="524" y="157"/>
                  </a:lnTo>
                  <a:lnTo>
                    <a:pt x="463" y="115"/>
                  </a:lnTo>
                  <a:lnTo>
                    <a:pt x="391" y="77"/>
                  </a:lnTo>
                  <a:lnTo>
                    <a:pt x="317" y="47"/>
                  </a:lnTo>
                  <a:lnTo>
                    <a:pt x="240" y="23"/>
                  </a:lnTo>
                  <a:lnTo>
                    <a:pt x="160" y="8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5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945720" y="2076840"/>
              <a:ext cx="162360" cy="354960"/>
            </a:xfrm>
            <a:custGeom>
              <a:avLst/>
              <a:gdLst/>
              <a:ahLst/>
              <a:rect l="l" t="t" r="r" b="b"/>
              <a:pathLst>
                <a:path w="471" h="560">
                  <a:moveTo>
                    <a:pt x="452" y="0"/>
                  </a:moveTo>
                  <a:lnTo>
                    <a:pt x="349" y="143"/>
                  </a:lnTo>
                  <a:lnTo>
                    <a:pt x="242" y="282"/>
                  </a:lnTo>
                  <a:lnTo>
                    <a:pt x="128" y="415"/>
                  </a:lnTo>
                  <a:lnTo>
                    <a:pt x="7" y="543"/>
                  </a:lnTo>
                  <a:lnTo>
                    <a:pt x="0" y="551"/>
                  </a:lnTo>
                  <a:lnTo>
                    <a:pt x="20" y="560"/>
                  </a:lnTo>
                  <a:lnTo>
                    <a:pt x="25" y="553"/>
                  </a:lnTo>
                  <a:lnTo>
                    <a:pt x="146" y="425"/>
                  </a:lnTo>
                  <a:lnTo>
                    <a:pt x="260" y="291"/>
                  </a:lnTo>
                  <a:lnTo>
                    <a:pt x="369" y="153"/>
                  </a:lnTo>
                  <a:lnTo>
                    <a:pt x="471" y="9"/>
                  </a:lnTo>
                  <a:lnTo>
                    <a:pt x="45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1050840" y="2456280"/>
              <a:ext cx="63720" cy="449640"/>
            </a:xfrm>
            <a:custGeom>
              <a:avLst/>
              <a:gdLst/>
              <a:ahLst/>
              <a:rect l="l" t="t" r="r" b="b"/>
              <a:pathLst>
                <a:path w="184" h="705">
                  <a:moveTo>
                    <a:pt x="0" y="9"/>
                  </a:moveTo>
                  <a:lnTo>
                    <a:pt x="16" y="94"/>
                  </a:lnTo>
                  <a:lnTo>
                    <a:pt x="58" y="300"/>
                  </a:lnTo>
                  <a:lnTo>
                    <a:pt x="108" y="504"/>
                  </a:lnTo>
                  <a:lnTo>
                    <a:pt x="165" y="705"/>
                  </a:lnTo>
                  <a:lnTo>
                    <a:pt x="184" y="696"/>
                  </a:lnTo>
                  <a:lnTo>
                    <a:pt x="127" y="495"/>
                  </a:lnTo>
                  <a:lnTo>
                    <a:pt x="77" y="291"/>
                  </a:lnTo>
                  <a:lnTo>
                    <a:pt x="35" y="86"/>
                  </a:lnTo>
                  <a:lnTo>
                    <a:pt x="18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1105560" y="2000160"/>
              <a:ext cx="47520" cy="420120"/>
            </a:xfrm>
            <a:custGeom>
              <a:avLst/>
              <a:gdLst/>
              <a:ahLst/>
              <a:rect l="l" t="t" r="r" b="b"/>
              <a:pathLst>
                <a:path w="138" h="661">
                  <a:moveTo>
                    <a:pt x="0" y="0"/>
                  </a:moveTo>
                  <a:lnTo>
                    <a:pt x="12" y="74"/>
                  </a:lnTo>
                  <a:lnTo>
                    <a:pt x="120" y="661"/>
                  </a:lnTo>
                  <a:lnTo>
                    <a:pt x="138" y="661"/>
                  </a:lnTo>
                  <a:lnTo>
                    <a:pt x="32" y="74"/>
                  </a:lnTo>
                  <a:lnTo>
                    <a:pt x="1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901080" y="2676600"/>
              <a:ext cx="156240" cy="193320"/>
            </a:xfrm>
            <a:custGeom>
              <a:avLst/>
              <a:gdLst/>
              <a:ahLst/>
              <a:rect l="l" t="t" r="r" b="b"/>
              <a:pathLst>
                <a:path w="452" h="304">
                  <a:moveTo>
                    <a:pt x="0" y="304"/>
                  </a:moveTo>
                  <a:lnTo>
                    <a:pt x="176" y="179"/>
                  </a:lnTo>
                  <a:lnTo>
                    <a:pt x="356" y="61"/>
                  </a:lnTo>
                  <a:lnTo>
                    <a:pt x="45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876240" y="2122560"/>
              <a:ext cx="89280" cy="263160"/>
            </a:xfrm>
            <a:custGeom>
              <a:avLst/>
              <a:gdLst/>
              <a:ahLst/>
              <a:rect l="l" t="t" r="r" b="b"/>
              <a:pathLst>
                <a:path w="258" h="412">
                  <a:moveTo>
                    <a:pt x="258" y="412"/>
                  </a:moveTo>
                  <a:lnTo>
                    <a:pt x="152" y="255"/>
                  </a:lnTo>
                  <a:lnTo>
                    <a:pt x="53" y="94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1146600" y="2040840"/>
              <a:ext cx="165240" cy="180720"/>
            </a:xfrm>
            <a:custGeom>
              <a:avLst/>
              <a:gdLst/>
              <a:ahLst/>
              <a:rect l="l" t="t" r="r" b="b"/>
              <a:pathLst>
                <a:path w="479" h="284">
                  <a:moveTo>
                    <a:pt x="479" y="0"/>
                  </a:moveTo>
                  <a:lnTo>
                    <a:pt x="320" y="103"/>
                  </a:lnTo>
                  <a:lnTo>
                    <a:pt x="158" y="200"/>
                  </a:lnTo>
                  <a:lnTo>
                    <a:pt x="0" y="28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875160" y="2381040"/>
              <a:ext cx="217080" cy="295200"/>
            </a:xfrm>
            <a:custGeom>
              <a:avLst/>
              <a:gdLst/>
              <a:ahLst/>
              <a:rect l="l" t="t" r="r" b="b"/>
              <a:pathLst>
                <a:path w="627" h="466">
                  <a:moveTo>
                    <a:pt x="552" y="457"/>
                  </a:moveTo>
                  <a:lnTo>
                    <a:pt x="572" y="417"/>
                  </a:lnTo>
                  <a:lnTo>
                    <a:pt x="597" y="352"/>
                  </a:lnTo>
                  <a:lnTo>
                    <a:pt x="615" y="281"/>
                  </a:lnTo>
                  <a:lnTo>
                    <a:pt x="625" y="211"/>
                  </a:lnTo>
                  <a:lnTo>
                    <a:pt x="627" y="141"/>
                  </a:lnTo>
                  <a:lnTo>
                    <a:pt x="621" y="68"/>
                  </a:lnTo>
                  <a:lnTo>
                    <a:pt x="607" y="0"/>
                  </a:lnTo>
                  <a:lnTo>
                    <a:pt x="313" y="63"/>
                  </a:lnTo>
                  <a:lnTo>
                    <a:pt x="0" y="100"/>
                  </a:lnTo>
                  <a:lnTo>
                    <a:pt x="89" y="107"/>
                  </a:lnTo>
                  <a:lnTo>
                    <a:pt x="177" y="122"/>
                  </a:lnTo>
                  <a:lnTo>
                    <a:pt x="264" y="145"/>
                  </a:lnTo>
                  <a:lnTo>
                    <a:pt x="347" y="175"/>
                  </a:lnTo>
                  <a:lnTo>
                    <a:pt x="424" y="209"/>
                  </a:lnTo>
                  <a:lnTo>
                    <a:pt x="461" y="241"/>
                  </a:lnTo>
                  <a:lnTo>
                    <a:pt x="493" y="278"/>
                  </a:lnTo>
                  <a:lnTo>
                    <a:pt x="518" y="320"/>
                  </a:lnTo>
                  <a:lnTo>
                    <a:pt x="538" y="366"/>
                  </a:lnTo>
                  <a:lnTo>
                    <a:pt x="548" y="414"/>
                  </a:lnTo>
                  <a:lnTo>
                    <a:pt x="552" y="462"/>
                  </a:lnTo>
                  <a:lnTo>
                    <a:pt x="552" y="466"/>
                  </a:lnTo>
                  <a:lnTo>
                    <a:pt x="552" y="457"/>
                  </a:lnTo>
                  <a:close/>
                </a:path>
              </a:pathLst>
            </a:custGeom>
            <a:solidFill>
              <a:srgbClr val="b5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895680" y="2444760"/>
              <a:ext cx="205920" cy="244440"/>
            </a:xfrm>
            <a:custGeom>
              <a:avLst/>
              <a:gdLst/>
              <a:ahLst/>
              <a:rect l="l" t="t" r="r" b="b"/>
              <a:pathLst>
                <a:path w="597" h="385">
                  <a:moveTo>
                    <a:pt x="0" y="19"/>
                  </a:moveTo>
                  <a:lnTo>
                    <a:pt x="111" y="99"/>
                  </a:lnTo>
                  <a:lnTo>
                    <a:pt x="267" y="201"/>
                  </a:lnTo>
                  <a:lnTo>
                    <a:pt x="426" y="297"/>
                  </a:lnTo>
                  <a:lnTo>
                    <a:pt x="588" y="385"/>
                  </a:lnTo>
                  <a:lnTo>
                    <a:pt x="597" y="366"/>
                  </a:lnTo>
                  <a:lnTo>
                    <a:pt x="434" y="279"/>
                  </a:lnTo>
                  <a:lnTo>
                    <a:pt x="275" y="182"/>
                  </a:lnTo>
                  <a:lnTo>
                    <a:pt x="122" y="80"/>
                  </a:lnTo>
                  <a:lnTo>
                    <a:pt x="9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849960" y="2361960"/>
              <a:ext cx="250560" cy="82440"/>
            </a:xfrm>
            <a:custGeom>
              <a:avLst/>
              <a:gdLst/>
              <a:ahLst/>
              <a:rect l="l" t="t" r="r" b="b"/>
              <a:pathLst>
                <a:path w="722" h="130">
                  <a:moveTo>
                    <a:pt x="722" y="18"/>
                  </a:moveTo>
                  <a:lnTo>
                    <a:pt x="531" y="59"/>
                  </a:lnTo>
                  <a:lnTo>
                    <a:pt x="342" y="92"/>
                  </a:lnTo>
                  <a:lnTo>
                    <a:pt x="151" y="116"/>
                  </a:lnTo>
                  <a:lnTo>
                    <a:pt x="0" y="130"/>
                  </a:lnTo>
                  <a:lnTo>
                    <a:pt x="8" y="111"/>
                  </a:lnTo>
                  <a:lnTo>
                    <a:pt x="141" y="97"/>
                  </a:lnTo>
                  <a:lnTo>
                    <a:pt x="333" y="73"/>
                  </a:lnTo>
                  <a:lnTo>
                    <a:pt x="523" y="42"/>
                  </a:lnTo>
                  <a:lnTo>
                    <a:pt x="711" y="0"/>
                  </a:lnTo>
                  <a:lnTo>
                    <a:pt x="722" y="18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1096560" y="2409120"/>
              <a:ext cx="30960" cy="58320"/>
            </a:xfrm>
            <a:custGeom>
              <a:avLst/>
              <a:gdLst/>
              <a:ahLst/>
              <a:rect l="l" t="t" r="r" b="b"/>
              <a:pathLst>
                <a:path w="90" h="92">
                  <a:moveTo>
                    <a:pt x="0" y="45"/>
                  </a:moveTo>
                  <a:lnTo>
                    <a:pt x="2" y="27"/>
                  </a:lnTo>
                  <a:lnTo>
                    <a:pt x="14" y="11"/>
                  </a:lnTo>
                  <a:lnTo>
                    <a:pt x="30" y="3"/>
                  </a:lnTo>
                  <a:lnTo>
                    <a:pt x="50" y="0"/>
                  </a:lnTo>
                  <a:lnTo>
                    <a:pt x="68" y="6"/>
                  </a:lnTo>
                  <a:lnTo>
                    <a:pt x="82" y="18"/>
                  </a:lnTo>
                  <a:lnTo>
                    <a:pt x="90" y="37"/>
                  </a:lnTo>
                  <a:lnTo>
                    <a:pt x="90" y="55"/>
                  </a:lnTo>
                  <a:lnTo>
                    <a:pt x="83" y="73"/>
                  </a:lnTo>
                  <a:lnTo>
                    <a:pt x="69" y="85"/>
                  </a:lnTo>
                  <a:lnTo>
                    <a:pt x="50" y="92"/>
                  </a:lnTo>
                  <a:lnTo>
                    <a:pt x="32" y="89"/>
                  </a:lnTo>
                  <a:lnTo>
                    <a:pt x="14" y="81"/>
                  </a:lnTo>
                  <a:lnTo>
                    <a:pt x="3" y="65"/>
                  </a:lnTo>
                  <a:lnTo>
                    <a:pt x="0" y="47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1116720" y="2429280"/>
              <a:ext cx="42840" cy="16560"/>
            </a:xfrm>
            <a:custGeom>
              <a:avLst/>
              <a:gdLst/>
              <a:ahLst/>
              <a:rect l="l" t="t" r="r" b="b"/>
              <a:pathLst>
                <a:path w="124" h="27">
                  <a:moveTo>
                    <a:pt x="121" y="0"/>
                  </a:moveTo>
                  <a:lnTo>
                    <a:pt x="0" y="0"/>
                  </a:lnTo>
                  <a:lnTo>
                    <a:pt x="3" y="27"/>
                  </a:lnTo>
                  <a:lnTo>
                    <a:pt x="124" y="27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116720" y="2453760"/>
              <a:ext cx="414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1175040" y="2187720"/>
              <a:ext cx="165240" cy="198360"/>
            </a:xfrm>
            <a:custGeom>
              <a:avLst/>
              <a:gdLst/>
              <a:ahLst/>
              <a:rect l="l" t="t" r="r" b="b"/>
              <a:pathLst>
                <a:path w="478" h="311">
                  <a:moveTo>
                    <a:pt x="478" y="292"/>
                  </a:moveTo>
                  <a:lnTo>
                    <a:pt x="248" y="128"/>
                  </a:lnTo>
                  <a:lnTo>
                    <a:pt x="231" y="99"/>
                  </a:lnTo>
                  <a:lnTo>
                    <a:pt x="121" y="9"/>
                  </a:lnTo>
                  <a:lnTo>
                    <a:pt x="101" y="0"/>
                  </a:lnTo>
                  <a:lnTo>
                    <a:pt x="75" y="0"/>
                  </a:lnTo>
                  <a:lnTo>
                    <a:pt x="0" y="73"/>
                  </a:lnTo>
                  <a:lnTo>
                    <a:pt x="0" y="311"/>
                  </a:lnTo>
                  <a:lnTo>
                    <a:pt x="478" y="292"/>
                  </a:lnTo>
                  <a:close/>
                </a:path>
              </a:pathLst>
            </a:custGeom>
            <a:solidFill>
              <a:srgbClr val="b5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1173960" y="2186280"/>
              <a:ext cx="154440" cy="194760"/>
            </a:xfrm>
            <a:custGeom>
              <a:avLst/>
              <a:gdLst/>
              <a:ahLst/>
              <a:rect l="l" t="t" r="r" b="b"/>
              <a:pathLst>
                <a:path w="446" h="305">
                  <a:moveTo>
                    <a:pt x="0" y="41"/>
                  </a:moveTo>
                  <a:lnTo>
                    <a:pt x="29" y="64"/>
                  </a:lnTo>
                  <a:lnTo>
                    <a:pt x="55" y="85"/>
                  </a:lnTo>
                  <a:lnTo>
                    <a:pt x="61" y="92"/>
                  </a:lnTo>
                  <a:lnTo>
                    <a:pt x="66" y="101"/>
                  </a:lnTo>
                  <a:lnTo>
                    <a:pt x="53" y="129"/>
                  </a:lnTo>
                  <a:lnTo>
                    <a:pt x="102" y="140"/>
                  </a:lnTo>
                  <a:lnTo>
                    <a:pt x="129" y="163"/>
                  </a:lnTo>
                  <a:lnTo>
                    <a:pt x="129" y="201"/>
                  </a:lnTo>
                  <a:lnTo>
                    <a:pt x="112" y="305"/>
                  </a:lnTo>
                  <a:lnTo>
                    <a:pt x="446" y="297"/>
                  </a:lnTo>
                  <a:lnTo>
                    <a:pt x="436" y="275"/>
                  </a:lnTo>
                  <a:lnTo>
                    <a:pt x="409" y="252"/>
                  </a:lnTo>
                  <a:lnTo>
                    <a:pt x="275" y="138"/>
                  </a:lnTo>
                  <a:lnTo>
                    <a:pt x="222" y="97"/>
                  </a:lnTo>
                  <a:lnTo>
                    <a:pt x="129" y="32"/>
                  </a:lnTo>
                  <a:lnTo>
                    <a:pt x="88" y="9"/>
                  </a:lnTo>
                  <a:lnTo>
                    <a:pt x="64" y="0"/>
                  </a:lnTo>
                  <a:lnTo>
                    <a:pt x="38" y="3"/>
                  </a:lnTo>
                  <a:lnTo>
                    <a:pt x="20" y="16"/>
                  </a:lnTo>
                  <a:lnTo>
                    <a:pt x="8" y="29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308240" y="2261160"/>
              <a:ext cx="32400" cy="83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93120" y="2257560"/>
              <a:ext cx="29160" cy="74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1124640" y="2800080"/>
              <a:ext cx="162000" cy="297720"/>
            </a:xfrm>
            <a:custGeom>
              <a:avLst/>
              <a:gdLst/>
              <a:ahLst/>
              <a:rect l="l" t="t" r="r" b="b"/>
              <a:pathLst>
                <a:path w="469" h="468">
                  <a:moveTo>
                    <a:pt x="451" y="468"/>
                  </a:moveTo>
                  <a:lnTo>
                    <a:pt x="406" y="458"/>
                  </a:lnTo>
                  <a:lnTo>
                    <a:pt x="305" y="111"/>
                  </a:lnTo>
                  <a:lnTo>
                    <a:pt x="240" y="101"/>
                  </a:lnTo>
                  <a:lnTo>
                    <a:pt x="176" y="101"/>
                  </a:lnTo>
                  <a:lnTo>
                    <a:pt x="111" y="119"/>
                  </a:lnTo>
                  <a:lnTo>
                    <a:pt x="29" y="111"/>
                  </a:lnTo>
                  <a:lnTo>
                    <a:pt x="0" y="74"/>
                  </a:lnTo>
                  <a:lnTo>
                    <a:pt x="185" y="0"/>
                  </a:lnTo>
                  <a:lnTo>
                    <a:pt x="377" y="18"/>
                  </a:lnTo>
                  <a:lnTo>
                    <a:pt x="469" y="413"/>
                  </a:lnTo>
                  <a:lnTo>
                    <a:pt x="451" y="468"/>
                  </a:lnTo>
                  <a:close/>
                </a:path>
              </a:pathLst>
            </a:custGeom>
            <a:solidFill>
              <a:srgbClr val="b5b5b5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1079280" y="2342880"/>
              <a:ext cx="261000" cy="786600"/>
            </a:xfrm>
            <a:custGeom>
              <a:avLst/>
              <a:gdLst/>
              <a:ahLst/>
              <a:rect l="l" t="t" r="r" b="b"/>
              <a:pathLst>
                <a:path w="755" h="1236">
                  <a:moveTo>
                    <a:pt x="277" y="837"/>
                  </a:moveTo>
                  <a:lnTo>
                    <a:pt x="306" y="976"/>
                  </a:lnTo>
                  <a:lnTo>
                    <a:pt x="329" y="1116"/>
                  </a:lnTo>
                  <a:lnTo>
                    <a:pt x="341" y="1223"/>
                  </a:lnTo>
                  <a:lnTo>
                    <a:pt x="266" y="1233"/>
                  </a:lnTo>
                  <a:lnTo>
                    <a:pt x="192" y="1236"/>
                  </a:lnTo>
                  <a:lnTo>
                    <a:pt x="118" y="1231"/>
                  </a:lnTo>
                  <a:lnTo>
                    <a:pt x="44" y="1219"/>
                  </a:lnTo>
                  <a:lnTo>
                    <a:pt x="0" y="1205"/>
                  </a:lnTo>
                  <a:lnTo>
                    <a:pt x="0" y="21"/>
                  </a:lnTo>
                  <a:lnTo>
                    <a:pt x="84" y="7"/>
                  </a:lnTo>
                  <a:lnTo>
                    <a:pt x="169" y="0"/>
                  </a:lnTo>
                  <a:lnTo>
                    <a:pt x="253" y="2"/>
                  </a:lnTo>
                  <a:lnTo>
                    <a:pt x="338" y="11"/>
                  </a:lnTo>
                  <a:lnTo>
                    <a:pt x="421" y="29"/>
                  </a:lnTo>
                  <a:lnTo>
                    <a:pt x="488" y="48"/>
                  </a:lnTo>
                  <a:lnTo>
                    <a:pt x="512" y="74"/>
                  </a:lnTo>
                  <a:lnTo>
                    <a:pt x="525" y="95"/>
                  </a:lnTo>
                  <a:lnTo>
                    <a:pt x="589" y="312"/>
                  </a:lnTo>
                  <a:lnTo>
                    <a:pt x="644" y="532"/>
                  </a:lnTo>
                  <a:lnTo>
                    <a:pt x="693" y="754"/>
                  </a:lnTo>
                  <a:lnTo>
                    <a:pt x="733" y="976"/>
                  </a:lnTo>
                  <a:lnTo>
                    <a:pt x="755" y="1122"/>
                  </a:lnTo>
                  <a:lnTo>
                    <a:pt x="730" y="1149"/>
                  </a:lnTo>
                  <a:lnTo>
                    <a:pt x="699" y="1168"/>
                  </a:lnTo>
                  <a:lnTo>
                    <a:pt x="665" y="1181"/>
                  </a:lnTo>
                  <a:lnTo>
                    <a:pt x="628" y="1187"/>
                  </a:lnTo>
                  <a:lnTo>
                    <a:pt x="607" y="1186"/>
                  </a:lnTo>
                  <a:lnTo>
                    <a:pt x="507" y="847"/>
                  </a:lnTo>
                  <a:lnTo>
                    <a:pt x="497" y="783"/>
                  </a:lnTo>
                  <a:lnTo>
                    <a:pt x="475" y="779"/>
                  </a:lnTo>
                  <a:lnTo>
                    <a:pt x="410" y="773"/>
                  </a:lnTo>
                  <a:lnTo>
                    <a:pt x="341" y="774"/>
                  </a:lnTo>
                  <a:lnTo>
                    <a:pt x="277" y="784"/>
                  </a:lnTo>
                  <a:lnTo>
                    <a:pt x="212" y="800"/>
                  </a:lnTo>
                  <a:lnTo>
                    <a:pt x="277" y="83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1153080" y="2379600"/>
              <a:ext cx="171360" cy="52200"/>
            </a:xfrm>
            <a:custGeom>
              <a:avLst/>
              <a:gdLst/>
              <a:ahLst/>
              <a:rect l="l" t="t" r="r" b="b"/>
              <a:pathLst>
                <a:path w="494" h="84">
                  <a:moveTo>
                    <a:pt x="494" y="84"/>
                  </a:moveTo>
                  <a:lnTo>
                    <a:pt x="470" y="67"/>
                  </a:lnTo>
                  <a:lnTo>
                    <a:pt x="388" y="56"/>
                  </a:lnTo>
                  <a:lnTo>
                    <a:pt x="293" y="47"/>
                  </a:lnTo>
                  <a:lnTo>
                    <a:pt x="200" y="45"/>
                  </a:lnTo>
                  <a:lnTo>
                    <a:pt x="110" y="50"/>
                  </a:lnTo>
                  <a:lnTo>
                    <a:pt x="16" y="65"/>
                  </a:lnTo>
                  <a:lnTo>
                    <a:pt x="2" y="67"/>
                  </a:lnTo>
                  <a:lnTo>
                    <a:pt x="0" y="46"/>
                  </a:lnTo>
                  <a:lnTo>
                    <a:pt x="0" y="39"/>
                  </a:lnTo>
                  <a:lnTo>
                    <a:pt x="86" y="16"/>
                  </a:lnTo>
                  <a:lnTo>
                    <a:pt x="175" y="4"/>
                  </a:lnTo>
                  <a:lnTo>
                    <a:pt x="264" y="0"/>
                  </a:lnTo>
                  <a:lnTo>
                    <a:pt x="356" y="7"/>
                  </a:lnTo>
                  <a:lnTo>
                    <a:pt x="447" y="19"/>
                  </a:lnTo>
                  <a:lnTo>
                    <a:pt x="475" y="30"/>
                  </a:lnTo>
                  <a:lnTo>
                    <a:pt x="494" y="8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1252080" y="2852280"/>
              <a:ext cx="13680" cy="182160"/>
            </a:xfrm>
            <a:custGeom>
              <a:avLst/>
              <a:gdLst/>
              <a:ahLst/>
              <a:rect l="l" t="t" r="r" b="b"/>
              <a:pathLst>
                <a:path w="41" h="285">
                  <a:moveTo>
                    <a:pt x="0" y="0"/>
                  </a:moveTo>
                  <a:lnTo>
                    <a:pt x="16" y="73"/>
                  </a:lnTo>
                  <a:lnTo>
                    <a:pt x="27" y="143"/>
                  </a:lnTo>
                  <a:lnTo>
                    <a:pt x="39" y="213"/>
                  </a:lnTo>
                  <a:lnTo>
                    <a:pt x="41" y="285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1194480" y="2421720"/>
              <a:ext cx="54720" cy="123480"/>
            </a:xfrm>
            <a:custGeom>
              <a:avLst/>
              <a:gdLst/>
              <a:ahLst/>
              <a:rect l="l" t="t" r="r" b="b"/>
              <a:pathLst>
                <a:path w="157" h="193">
                  <a:moveTo>
                    <a:pt x="0" y="3"/>
                  </a:moveTo>
                  <a:lnTo>
                    <a:pt x="44" y="0"/>
                  </a:lnTo>
                  <a:lnTo>
                    <a:pt x="91" y="9"/>
                  </a:lnTo>
                  <a:lnTo>
                    <a:pt x="157" y="191"/>
                  </a:lnTo>
                  <a:lnTo>
                    <a:pt x="97" y="188"/>
                  </a:lnTo>
                  <a:lnTo>
                    <a:pt x="38" y="193"/>
                  </a:lnTo>
                  <a:lnTo>
                    <a:pt x="29" y="181"/>
                  </a:lnTo>
                  <a:lnTo>
                    <a:pt x="80" y="174"/>
                  </a:lnTo>
                  <a:lnTo>
                    <a:pt x="130" y="174"/>
                  </a:lnTo>
                  <a:lnTo>
                    <a:pt x="84" y="24"/>
                  </a:lnTo>
                  <a:lnTo>
                    <a:pt x="52" y="17"/>
                  </a:lnTo>
                  <a:lnTo>
                    <a:pt x="21" y="19"/>
                  </a:lnTo>
                  <a:lnTo>
                    <a:pt x="38" y="106"/>
                  </a:lnTo>
                  <a:lnTo>
                    <a:pt x="38" y="135"/>
                  </a:lnTo>
                  <a:lnTo>
                    <a:pt x="1" y="8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1222920" y="2429280"/>
              <a:ext cx="10080" cy="78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 flipH="1" rot="850200">
            <a:off x="5122440" y="4219200"/>
            <a:ext cx="295200" cy="333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000000"/>
                </a:solidFill>
                <a:latin typeface="Times New Roman"/>
                <a:ea typeface="SKR HEAD1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 rot="850200">
            <a:off x="5122440" y="6819480"/>
            <a:ext cx="295200" cy="333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000000"/>
                </a:solidFill>
                <a:latin typeface="Times New Roman"/>
                <a:ea typeface="SKR HEAD1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76280" y="7229520"/>
            <a:ext cx="3816360" cy="1479600"/>
          </a:xfrm>
          <a:custGeom>
            <a:avLst/>
            <a:gdLst>
              <a:gd name="textAreaLeft" fmla="*/ 30600 w 3816360"/>
              <a:gd name="textAreaRight" fmla="*/ 3785760 w 3816360"/>
              <a:gd name="textAreaTop" fmla="*/ 30600 h 1479600"/>
              <a:gd name="textAreaBottom" fmla="*/ 1449000 h 1479600"/>
            </a:gdLst>
            <a:ahLst/>
            <a:rect l="textAreaLeft" t="textAreaTop" r="textAreaRight" b="textAreaBottom"/>
            <a:pathLst>
              <a:path w="55705" h="21600">
                <a:moveTo>
                  <a:pt x="639" y="0"/>
                </a:moveTo>
                <a:arcTo wR="639" hR="639" stAng="0" swAng="5400000"/>
                <a:lnTo>
                  <a:pt x="0" y="20961"/>
                </a:lnTo>
                <a:arcTo wR="639" hR="639" stAng="16200000" swAng="5400000"/>
                <a:lnTo>
                  <a:pt x="55066" y="21600"/>
                </a:lnTo>
                <a:arcTo wR="639" hR="639" stAng="10800000" swAng="5400000"/>
                <a:lnTo>
                  <a:pt x="55705" y="639"/>
                </a:lnTo>
                <a:arcTo wR="639" hR="639" stAng="5400000" swAng="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177840" indent="-177840" algn="r" rtl="1">
              <a:lnSpc>
                <a:spcPct val="11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800" spc="-1" strike="noStrike">
                <a:solidFill>
                  <a:srgbClr val="000000"/>
                </a:solidFill>
                <a:latin typeface="Times New Roman"/>
                <a:ea typeface="SKR HEAD1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SKR HEAD1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 algn="r" rtl="1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600" spc="-1" strike="noStrike">
                <a:solidFill>
                  <a:srgbClr val="000000"/>
                </a:solidFill>
                <a:latin typeface="Times New Roman"/>
                <a:ea typeface="SKR HEAD1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ea typeface="SKR HEAD1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 algn="r" rtl="1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600" spc="-1" strike="noStrike">
                <a:solidFill>
                  <a:srgbClr val="000000"/>
                </a:solidFill>
                <a:latin typeface="Times New Roman"/>
                <a:ea typeface="SKR HEAD1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 algn="r" rtl="1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600" spc="-1" strike="noStrike">
                <a:solidFill>
                  <a:srgbClr val="000000"/>
                </a:solidFill>
                <a:latin typeface="Times New Roman"/>
                <a:ea typeface="SKR HEAD1"/>
              </a:rPr>
              <a:t>  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ea typeface="SKR HEAD1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rot="16200000">
            <a:off x="3923280" y="7704720"/>
            <a:ext cx="1479600" cy="528840"/>
          </a:xfrm>
          <a:custGeom>
            <a:avLst/>
            <a:gdLst>
              <a:gd name="textAreaLeft" fmla="*/ 10800 w 1479600"/>
              <a:gd name="textAreaRight" fmla="*/ 1468800 w 1479600"/>
              <a:gd name="textAreaTop" fmla="*/ 10800 h 528840"/>
              <a:gd name="textAreaBottom" fmla="*/ 518040 h 528840"/>
            </a:gdLst>
            <a:ahLst/>
            <a:rect l="textAreaLeft" t="textAreaTop" r="textAreaRight" b="textAreaBottom"/>
            <a:pathLst>
              <a:path w="60407" h="21600">
                <a:moveTo>
                  <a:pt x="639" y="0"/>
                </a:moveTo>
                <a:arcTo wR="639" hR="639" stAng="0" swAng="5400000"/>
                <a:lnTo>
                  <a:pt x="0" y="20961"/>
                </a:lnTo>
                <a:arcTo wR="639" hR="639" stAng="16200000" swAng="5400000"/>
                <a:lnTo>
                  <a:pt x="59768" y="21600"/>
                </a:lnTo>
                <a:arcTo wR="639" hR="639" stAng="10800000" swAng="5400000"/>
                <a:lnTo>
                  <a:pt x="60407" y="639"/>
                </a:lnTo>
                <a:arcTo wR="639" hR="639" stAng="5400000" swAng="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177840" indent="-177840" algn="ctr" rtl="1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SKR HEAD1"/>
              </a:rPr>
              <a:t>   </a:t>
            </a:r>
            <a:r>
              <a:rPr b="0" lang="ar-AE" sz="1800" spc="-1" strike="noStrike">
                <a:solidFill>
                  <a:srgbClr val="000000"/>
                </a:solidFill>
                <a:latin typeface="Times New Roman"/>
                <a:cs typeface="SKR HEAD1"/>
              </a:rPr>
              <a:t>المـــستــلـــزمــات  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ea typeface="SKR HEAD1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3T11:31:36Z</dcterms:created>
  <dc:creator>Zaki</dc:creator>
  <dc:description/>
  <dc:language>en-US</dc:language>
  <cp:lastModifiedBy>dell</cp:lastModifiedBy>
  <cp:lastPrinted>2001-05-07T16:56:55Z</cp:lastPrinted>
  <dcterms:modified xsi:type="dcterms:W3CDTF">2006-08-03T13:54:38Z</dcterms:modified>
  <cp:revision>459</cp:revision>
  <dc:subject/>
  <dc:title>لا يوجد عنوان للشريحة</dc:title>
</cp:coreProperties>
</file>