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D30C-C994-4AE8-9596-C94C48299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427C-E3FA-47CF-8529-73725F5E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FE65-8765-4028-8F44-47EE7BCDB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553F-259D-4734-A231-9AD026B0D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4087-4E60-4EA6-9952-050C7C87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C97F-5A55-4086-BCF5-BC3D7851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9B14-2225-46CD-AF77-0A1F2720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A680-49D8-499F-8B67-362D29D4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44EB-DA36-46DB-A7AA-C661BCAE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AEC1-971F-485C-ACF5-85AE4CF8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58A2-8D7D-4DE6-AE86-E77F2A34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7BA9-A6DE-4A6D-BBE1-AB2AA0D9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7021-8F43-4C24-AF3A-9796E043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F023-416D-45C3-9AEC-FDA67B0C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1F01-44F3-4FD9-AAD9-7B53A6F9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D68F-7E12-4009-A4E0-008BE42C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40AD-BEB6-415D-AFB6-33E41620C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6288-22AD-43F8-A434-D8932307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0714-C04F-421B-8073-BABF7EF0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245F-9AD6-4283-84BB-687EA233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5FBB-61AA-45B8-8C48-250E6C53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3420-A7F4-4BB7-854B-679389D5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FFC8-BEF7-4BD9-92DF-AEA3ACB7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1CAB-DFCD-4A0E-A8C9-CA933D9A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93AD-62F4-4830-93F7-AAE559DBE786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32A4-B95F-4D2B-AFF7-8C8E734E28AA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2124000" y="1994040"/>
            <a:ext cx="4967280" cy="22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SC_ALYERMOOK"/>
              </a:rPr>
              <a:t>القياد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SC_ALYERMOOK"/>
              <a:ea typeface="SC_ALYERMOOK"/>
            </a:endParaRPr>
          </a:p>
        </p:txBody>
      </p:sp>
      <p:sp>
        <p:nvSpPr>
          <p:cNvPr id="161" name=""/>
          <p:cNvSpPr/>
          <p:nvPr/>
        </p:nvSpPr>
        <p:spPr>
          <a:xfrm>
            <a:off x="3132000" y="4386240"/>
            <a:ext cx="49690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Verdana"/>
                <a:ea typeface="AL-Hor"/>
              </a:rPr>
              <a:t>      القائد / صالح بن رجاء الحربي</a:t>
            </a:r>
            <a:r>
              <a:rPr b="0" lang="ar-SA" sz="1800" spc="-1" strike="noStrike">
                <a:solidFill>
                  <a:srgbClr val="0033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08000" y="62064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لدراسة العملية للشارة الخشبية            حائل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15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ـ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21/6/1423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ه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6033960"/>
            <a:ext cx="496872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Verdana"/>
                <a:cs typeface="AL-Hor"/>
              </a:rPr>
              <a:t>المفكرة الدعوية </a:t>
            </a:r>
            <a:r>
              <a:rPr b="1" lang="en-US" sz="1600" spc="-1" strike="noStrike">
                <a:solidFill>
                  <a:srgbClr val="003300"/>
                </a:solidFill>
                <a:latin typeface="Verdana"/>
                <a:ea typeface="AL-Hor"/>
              </a:rPr>
              <a:t>www.dawahmemo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32000" y="260280"/>
            <a:ext cx="6337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00"/>
                </a:solidFill>
                <a:latin typeface="Verdana"/>
                <a:cs typeface="SC_DUBAI"/>
              </a:rPr>
              <a:t>الأدوار الأربعة</a:t>
            </a:r>
            <a:r>
              <a:rPr b="0" lang="ar-SA" sz="8800" spc="-1" strike="noStrike">
                <a:solidFill>
                  <a:srgbClr val="ffff00"/>
                </a:solidFill>
                <a:latin typeface="Verdana"/>
                <a:ea typeface="SC_DUBAI"/>
              </a:rPr>
              <a:t>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752560" y="2027160"/>
          <a:ext cx="3638880" cy="35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2560" y="2027160"/>
                    <a:ext cx="3638880" cy="3562560"/>
                  </a:xfrm>
                  <a:prstGeom prst="rect">
                    <a:avLst/>
                  </a:prstGeom>
                  <a:ln w="5724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404640"/>
            <a:ext cx="896472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Haettenschweiler"/>
                <a:cs typeface="AL-Hor"/>
              </a:rPr>
              <a:t>س/ لماذا نقول الأدوار الأربعة ولم نقل المهام أو الوظائف أو الأعمال؟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1628640"/>
            <a:ext cx="547200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9999"/>
                </a:solidFill>
                <a:latin typeface="Verdana"/>
                <a:cs typeface="AL-Bsher"/>
              </a:rPr>
              <a:t>لأن الدور</a:t>
            </a:r>
            <a:r>
              <a:rPr b="0" lang="ar-SA" sz="2800" spc="-1" strike="noStrike">
                <a:solidFill>
                  <a:srgbClr val="009999"/>
                </a:solidFill>
                <a:latin typeface="Verdana"/>
                <a:ea typeface="AL-Bsher"/>
              </a:rPr>
              <a:t> </a:t>
            </a:r>
            <a:r>
              <a:rPr b="0" lang="ar-SA" sz="2800" spc="-1" strike="noStrike">
                <a:solidFill>
                  <a:srgbClr val="009999"/>
                </a:solidFill>
                <a:latin typeface="Verdana"/>
                <a:ea typeface="AL-Bsher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r" rtl="1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9999"/>
                </a:solidFill>
                <a:latin typeface="Verdana"/>
                <a:ea typeface="AL-Bsher"/>
              </a:rPr>
              <a:t> ليس فقط شياً نعمل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r" rtl="1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9999"/>
                </a:solidFill>
                <a:latin typeface="Verdana"/>
                <a:ea typeface="AL-Bsher"/>
              </a:rPr>
              <a:t> ليس فقط مهام ننجز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r" rtl="1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9999"/>
                </a:solidFill>
                <a:latin typeface="Verdana"/>
                <a:ea typeface="AL-Bsher"/>
              </a:rPr>
              <a:t> ليس وظيفة نقوم ب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84720" y="3451320"/>
            <a:ext cx="44640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9999"/>
                </a:solidFill>
                <a:latin typeface="Verdana"/>
                <a:cs typeface="AL-Bsher"/>
              </a:rPr>
              <a:t>وإنما ..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Verdana"/>
                <a:ea typeface="AL-Bsher"/>
              </a:rPr>
              <a:t> طريقة محددة للتفكير ..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Verdana"/>
                <a:ea typeface="AL-Bsher"/>
              </a:rPr>
              <a:t> طريقة محددة للسلوك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Verdana"/>
                <a:ea typeface="AL-Bsher"/>
              </a:rPr>
              <a:t> طريقة محددة للقدوة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Verdana"/>
                <a:ea typeface="AL-Bsher"/>
              </a:rPr>
              <a:t> طريقة محددة للتخطيط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Verdana"/>
                <a:ea typeface="AL-Bsher"/>
              </a:rPr>
              <a:t> طريقة محددة للرؤية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Verdana"/>
                <a:ea typeface="AL-Bsher"/>
              </a:rPr>
              <a:t> أسلوب حيا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6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6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6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8000"/>
                            </p:stCondLst>
                            <p:childTnLst>
                              <p:par>
                                <p:cTn id="2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32000" y="1197000"/>
            <a:ext cx="63356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800" spc="-1" strike="noStrike">
                <a:solidFill>
                  <a:srgbClr val="ffff00"/>
                </a:solidFill>
                <a:latin typeface="Verdana"/>
                <a:cs typeface="SC_DUBAI"/>
              </a:rPr>
              <a:t>الريادة</a:t>
            </a:r>
            <a:endParaRPr b="0" lang="en-US" sz="20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95280" y="1413000"/>
            <a:ext cx="8642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00"/>
                </a:solidFill>
                <a:latin typeface="Verdana"/>
                <a:cs typeface="AL-Hor"/>
              </a:rPr>
              <a:t>تعريفها 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00"/>
                </a:solidFill>
                <a:latin typeface="Verdana"/>
                <a:ea typeface="AL-Hor"/>
              </a:rPr>
              <a:t>         إيجاد رؤية تربط بين ما يتلهف ويتشوق إليه زبائن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00"/>
                </a:solidFill>
                <a:latin typeface="Verdana"/>
                <a:ea typeface="AL-Hor"/>
              </a:rPr>
              <a:t>         للحصول عليه وبين ما نتلهف ونتشوق نحن لتقديم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00"/>
                </a:solidFill>
                <a:latin typeface="Verdana"/>
                <a:ea typeface="AL-Hor"/>
              </a:rPr>
              <a:t>         لزبائننا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4292640"/>
            <a:ext cx="8424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00"/>
                </a:solidFill>
                <a:latin typeface="Verdana"/>
                <a:cs typeface="AL-Hor"/>
              </a:rPr>
              <a:t>الزبون</a:t>
            </a:r>
            <a:r>
              <a:rPr b="0" lang="ar-SA" sz="4400" spc="-1" strike="noStrike">
                <a:solidFill>
                  <a:srgbClr val="003300"/>
                </a:solidFill>
                <a:latin typeface="Verdana"/>
                <a:ea typeface="AL-Hor"/>
              </a:rPr>
              <a:t> </a:t>
            </a:r>
            <a:r>
              <a:rPr b="0" lang="ar-SA" sz="4400" spc="-1" strike="noStrike">
                <a:solidFill>
                  <a:srgbClr val="003300"/>
                </a:solidFill>
                <a:latin typeface="Verdana"/>
                <a:ea typeface="AL-Hor"/>
              </a:rPr>
              <a:t>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00"/>
                </a:solidFill>
                <a:latin typeface="Verdana"/>
                <a:ea typeface="AL-Hor"/>
              </a:rPr>
              <a:t>          </a:t>
            </a:r>
            <a:r>
              <a:rPr b="0" lang="ar-SA" sz="4400" spc="-1" strike="noStrike">
                <a:solidFill>
                  <a:srgbClr val="003300"/>
                </a:solidFill>
                <a:latin typeface="Verdana"/>
                <a:cs typeface="AL-Hor"/>
              </a:rPr>
              <a:t>هو ذلك الشخص الذي لا يستطيع الاستغناء عنك</a:t>
            </a:r>
            <a:r>
              <a:rPr b="0" lang="ar-SA" sz="4400" spc="-1" strike="noStrike">
                <a:solidFill>
                  <a:srgbClr val="003300"/>
                </a:solidFill>
                <a:latin typeface="Verdana"/>
                <a:ea typeface="AL-Hor"/>
              </a:rPr>
              <a:t> </a:t>
            </a:r>
            <a:r>
              <a:rPr b="0" lang="ar-SA" sz="4400" spc="-1" strike="noStrike">
                <a:solidFill>
                  <a:srgbClr val="003300"/>
                </a:solidFill>
                <a:latin typeface="Verdana"/>
                <a:ea typeface="AL-Hor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00"/>
                </a:solidFill>
                <a:latin typeface="Verdana"/>
                <a:ea typeface="AL-Hor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9280" y="1773360"/>
            <a:ext cx="8640720" cy="14396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  <a:cs typeface="AL-Hor"/>
              </a:rPr>
              <a:t>س/ من هم الناس الذين هم في غاية الأهمية بالنسبة ( لي ) لنا ، وماه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  <a:cs typeface="AL-Hor"/>
              </a:rPr>
              <a:t>الأمور التي في غاية الأهمية بالنسبة لهم .؟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  <a:ea typeface="AL-Hor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333360"/>
            <a:ext cx="8640720" cy="1111320"/>
          </a:xfrm>
          <a:prstGeom prst="rect">
            <a:avLst/>
          </a:prstGeom>
          <a:solidFill>
            <a:srgbClr val="ff505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Verdana"/>
                <a:cs typeface="SC_DUBAI"/>
              </a:rPr>
              <a:t>الريادة</a:t>
            </a:r>
            <a:r>
              <a:rPr b="0" lang="ar-SA" sz="16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Verdana"/>
                <a:cs typeface="SC_DUBAI"/>
              </a:rPr>
              <a:t>تجيب</a:t>
            </a:r>
            <a:r>
              <a:rPr b="0" lang="ar-SA" sz="16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Verdana"/>
                <a:cs typeface="SC_DUBAI"/>
              </a:rPr>
              <a:t>على</a:t>
            </a:r>
            <a:r>
              <a:rPr b="0" lang="ar-SA" sz="16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Verdana"/>
                <a:cs typeface="SC_DUBAI"/>
              </a:rPr>
              <a:t>هذه</a:t>
            </a:r>
            <a:r>
              <a:rPr b="0" lang="ar-SA" sz="16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Verdana"/>
                <a:cs typeface="SC_DUBAI"/>
              </a:rPr>
              <a:t>الأسئلة</a:t>
            </a:r>
            <a:r>
              <a:rPr b="0" lang="ar-SA" sz="16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lang="ar-SA" sz="16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3502080"/>
            <a:ext cx="8640720" cy="14396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  <a:cs typeface="AL-Hor"/>
              </a:rPr>
              <a:t>س / ما هي غايتنا ، وماهي الأمور التي في غاية الأهمية بالنسبة لنا 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  <a:ea typeface="AL-Hor"/>
              </a:rPr>
              <a:t> وكيف سنعامل بعضنا البعض 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5229360"/>
            <a:ext cx="8640720" cy="14396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  <a:cs typeface="AL-Hor"/>
              </a:rPr>
              <a:t>س / ماهي وجهتي وكيف أصل إليها 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82560" y="260280"/>
            <a:ext cx="7561440" cy="1297080"/>
          </a:xfrm>
          <a:prstGeom prst="rect">
            <a:avLst/>
          </a:prstGeom>
          <a:solidFill>
            <a:srgbClr val="ff505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Verdana"/>
                <a:cs typeface="SC_DUBAI"/>
              </a:rPr>
              <a:t>ماذا</a:t>
            </a:r>
            <a:r>
              <a:rPr b="0" lang="ar-SA" sz="6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Verdana"/>
                <a:cs typeface="SC_DUBAI"/>
              </a:rPr>
              <a:t>نعني</a:t>
            </a:r>
            <a:r>
              <a:rPr b="0" lang="ar-SA" sz="6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Verdana"/>
                <a:cs typeface="SC_DUBAI"/>
              </a:rPr>
              <a:t>بكلمة</a:t>
            </a:r>
            <a:r>
              <a:rPr b="0" lang="ar-SA" sz="6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Verdana"/>
                <a:cs typeface="SC_DUBAI"/>
              </a:rPr>
              <a:t>الرياد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916360" y="1989000"/>
          <a:ext cx="3174840" cy="32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989000"/>
                    <a:ext cx="3174840" cy="3240360"/>
                  </a:xfrm>
                  <a:prstGeom prst="rect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7380360" y="5661000"/>
            <a:ext cx="1655640" cy="1008000"/>
          </a:xfrm>
          <a:prstGeom prst="rect">
            <a:avLst/>
          </a:prstGeom>
          <a:gradFill rotWithShape="0">
            <a:gsLst>
              <a:gs pos="0">
                <a:srgbClr val="ff5050">
                  <a:alpha val="50196"/>
                </a:srgbClr>
              </a:gs>
              <a:gs pos="50000">
                <a:srgbClr val="fe8e8e">
                  <a:alpha val="50196"/>
                </a:srgbClr>
              </a:gs>
              <a:gs pos="100000">
                <a:srgbClr val="ff5050">
                  <a:alpha val="50196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3300"/>
                </a:solidFill>
                <a:latin typeface="Verdana"/>
                <a:cs typeface="AL-Hosam"/>
              </a:rPr>
              <a:t>عناصره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43280" y="5661000"/>
            <a:ext cx="2592720" cy="10080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111111"/>
                </a:solidFill>
                <a:latin typeface="Verdana"/>
                <a:ea typeface="Bassam Ostorah"/>
              </a:rPr>
              <a:t>1) </a:t>
            </a:r>
            <a:r>
              <a:rPr b="0" lang="ar-SA" sz="2800" spc="-1" strike="noStrike">
                <a:solidFill>
                  <a:srgbClr val="111111"/>
                </a:solidFill>
                <a:latin typeface="Verdana"/>
                <a:cs typeface="Bassam Ostorah"/>
              </a:rPr>
              <a:t>فهم إحتياج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111111"/>
                </a:solidFill>
                <a:latin typeface="Verdana"/>
                <a:ea typeface="Bassam Ostorah"/>
              </a:rPr>
              <a:t> </a:t>
            </a:r>
            <a:r>
              <a:rPr b="0" lang="ar-SA" sz="2800" spc="-1" strike="noStrike">
                <a:solidFill>
                  <a:srgbClr val="111111"/>
                </a:solidFill>
                <a:latin typeface="Verdana"/>
                <a:cs typeface="Bassam Ostorah"/>
              </a:rPr>
              <a:t>من يهمهم الأمر</a:t>
            </a:r>
            <a:r>
              <a:rPr b="0" lang="ar-SA" sz="2800" spc="-1" strike="noStrike">
                <a:solidFill>
                  <a:srgbClr val="111111"/>
                </a:solidFill>
                <a:latin typeface="Verdana"/>
                <a:ea typeface="Bassam Ostorah"/>
              </a:rPr>
              <a:t> </a:t>
            </a:r>
            <a:r>
              <a:rPr b="0" lang="ar-SA" sz="2800" spc="-1" strike="noStrike">
                <a:solidFill>
                  <a:srgbClr val="111111"/>
                </a:solidFill>
                <a:latin typeface="Verdana"/>
                <a:ea typeface="Bassam Ostorah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71640" y="5661000"/>
            <a:ext cx="1730520" cy="10080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111111"/>
                </a:solidFill>
                <a:latin typeface="Verdana"/>
                <a:ea typeface="Bassam Ostorah"/>
              </a:rPr>
              <a:t>2) </a:t>
            </a:r>
            <a:r>
              <a:rPr b="0" lang="ar-SA" sz="2800" spc="-1" strike="noStrike">
                <a:solidFill>
                  <a:srgbClr val="111111"/>
                </a:solidFill>
                <a:latin typeface="Verdana"/>
                <a:cs typeface="Bassam Ostorah"/>
              </a:rPr>
              <a:t>الرسالة</a:t>
            </a:r>
            <a:r>
              <a:rPr b="0" lang="ar-SA" sz="2800" spc="-1" strike="noStrike">
                <a:solidFill>
                  <a:srgbClr val="111111"/>
                </a:solidFill>
                <a:latin typeface="Verdana"/>
                <a:ea typeface="Bassam Ostorah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111111"/>
                </a:solidFill>
                <a:latin typeface="Verdana"/>
                <a:cs typeface="Bassam Ostorah"/>
              </a:rPr>
              <a:t>والق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280" y="5661000"/>
            <a:ext cx="2448000" cy="10080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111111"/>
                </a:solidFill>
                <a:latin typeface="Verdana"/>
                <a:ea typeface="Bassam Ostorah"/>
              </a:rPr>
              <a:t>3) </a:t>
            </a:r>
            <a:r>
              <a:rPr b="0" lang="ar-SA" sz="2800" spc="-1" strike="noStrike">
                <a:solidFill>
                  <a:srgbClr val="111111"/>
                </a:solidFill>
                <a:latin typeface="Verdana"/>
                <a:cs typeface="Bassam Ostorah"/>
              </a:rPr>
              <a:t>الرؤية</a:t>
            </a:r>
            <a:r>
              <a:rPr b="0" lang="ar-SA" sz="2800" spc="-1" strike="noStrike">
                <a:solidFill>
                  <a:srgbClr val="111111"/>
                </a:solidFill>
                <a:latin typeface="Verdana"/>
                <a:ea typeface="Bassam Ostorah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111111"/>
                </a:solidFill>
                <a:latin typeface="Verdana"/>
                <a:cs typeface="Bassam Ostorah"/>
              </a:rPr>
              <a:t>والاستراتيج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067280" y="404640"/>
            <a:ext cx="4824360" cy="79236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111111"/>
                </a:solidFill>
                <a:latin typeface="Verdana"/>
                <a:ea typeface="Bassam Ostorah"/>
              </a:rPr>
              <a:t>1) </a:t>
            </a:r>
            <a:r>
              <a:rPr b="0" lang="ar-SA" sz="2800" spc="-1" strike="noStrike">
                <a:solidFill>
                  <a:srgbClr val="111111"/>
                </a:solidFill>
                <a:latin typeface="Verdana"/>
                <a:cs typeface="Bassam Ostorah"/>
              </a:rPr>
              <a:t>فهم إحتياجات من يهمهم الأمر</a:t>
            </a:r>
            <a:r>
              <a:rPr b="0" lang="ar-SA" sz="2800" spc="-1" strike="noStrike">
                <a:solidFill>
                  <a:srgbClr val="111111"/>
                </a:solidFill>
                <a:latin typeface="Verdana"/>
                <a:ea typeface="Bassam Ostorah"/>
              </a:rPr>
              <a:t> </a:t>
            </a:r>
            <a:r>
              <a:rPr b="0" lang="ar-SA" sz="2800" spc="-1" strike="noStrike">
                <a:solidFill>
                  <a:srgbClr val="111111"/>
                </a:solidFill>
                <a:latin typeface="Verdana"/>
                <a:ea typeface="Bassam Ostorah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00000" y="1341360"/>
            <a:ext cx="4824360" cy="792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111111"/>
                </a:solidFill>
                <a:latin typeface="Verdana"/>
                <a:cs typeface="Bassam Ostorah"/>
              </a:rPr>
              <a:t>شخص قبل أن تصف الدواء</a:t>
            </a:r>
            <a:r>
              <a:rPr b="0" lang="ar-SA" sz="2800" spc="-1" strike="noStrike">
                <a:solidFill>
                  <a:srgbClr val="111111"/>
                </a:solidFill>
                <a:latin typeface="Verdana"/>
                <a:ea typeface="Bassam Ostorah"/>
              </a:rPr>
              <a:t> </a:t>
            </a:r>
            <a:r>
              <a:rPr b="0" lang="ar-SA" sz="2800" spc="-1" strike="noStrike">
                <a:solidFill>
                  <a:srgbClr val="111111"/>
                </a:solidFill>
                <a:latin typeface="Verdana"/>
                <a:ea typeface="Bassam Ostorah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95640" y="2492280"/>
            <a:ext cx="4824360" cy="79236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111111"/>
                </a:solidFill>
                <a:latin typeface="Verdana"/>
                <a:ea typeface="Bassam Ostorah"/>
              </a:rPr>
              <a:t>2) </a:t>
            </a:r>
            <a:r>
              <a:rPr b="0" lang="ar-SA" sz="2800" spc="-1" strike="noStrike">
                <a:solidFill>
                  <a:srgbClr val="111111"/>
                </a:solidFill>
                <a:latin typeface="Verdana"/>
                <a:cs typeface="Bassam Ostorah"/>
              </a:rPr>
              <a:t>الرسالة والقيم</a:t>
            </a:r>
            <a:r>
              <a:rPr b="0" lang="ar-SA" sz="2800" spc="-1" strike="noStrike">
                <a:solidFill>
                  <a:srgbClr val="111111"/>
                </a:solidFill>
                <a:latin typeface="Verdana"/>
                <a:ea typeface="Bassam Ostorah"/>
              </a:rPr>
              <a:t> </a:t>
            </a:r>
            <a:r>
              <a:rPr b="0" lang="ar-SA" sz="2800" spc="-1" strike="noStrike">
                <a:solidFill>
                  <a:srgbClr val="111111"/>
                </a:solidFill>
                <a:latin typeface="Verdana"/>
                <a:ea typeface="Bassam Ostorah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00000" y="3429000"/>
            <a:ext cx="4824360" cy="7920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11111"/>
                </a:solidFill>
                <a:latin typeface="Verdana"/>
                <a:cs typeface="Bassam Ostorah"/>
              </a:rPr>
              <a:t>مالم يكن هناك مشاركة فلن يكن هناك إلتزا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95640" y="4797360"/>
            <a:ext cx="4824360" cy="79236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111111"/>
                </a:solidFill>
                <a:latin typeface="Verdana"/>
                <a:ea typeface="Bassam Ostorah"/>
              </a:rPr>
              <a:t>1 ) </a:t>
            </a:r>
            <a:r>
              <a:rPr b="0" lang="ar-SA" sz="2800" spc="-1" strike="noStrike">
                <a:solidFill>
                  <a:srgbClr val="111111"/>
                </a:solidFill>
                <a:latin typeface="Verdana"/>
                <a:cs typeface="Bassam Ostorah"/>
              </a:rPr>
              <a:t>الرؤية والاستراتيج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71640" y="5805360"/>
            <a:ext cx="482436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111111"/>
                </a:solidFill>
                <a:latin typeface="Verdana"/>
                <a:cs typeface="Bassam Ostorah"/>
              </a:rPr>
              <a:t>إبدا والآخرة في ذهنك</a:t>
            </a:r>
            <a:r>
              <a:rPr b="0" lang="ar-SA" sz="2800" spc="-1" strike="noStrike">
                <a:solidFill>
                  <a:srgbClr val="111111"/>
                </a:solidFill>
                <a:latin typeface="Verdana"/>
                <a:ea typeface="Bassam Ostorah"/>
              </a:rPr>
              <a:t> </a:t>
            </a:r>
            <a:r>
              <a:rPr b="0" lang="ar-SA" sz="2800" spc="-1" strike="noStrike">
                <a:solidFill>
                  <a:srgbClr val="111111"/>
                </a:solidFill>
                <a:latin typeface="Verdana"/>
                <a:ea typeface="Bassam Ostorah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332000" y="1125360"/>
            <a:ext cx="633564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800" spc="-1" strike="noStrike">
                <a:solidFill>
                  <a:srgbClr val="ffff00"/>
                </a:solidFill>
                <a:latin typeface="Verdana"/>
                <a:cs typeface="SC_DUBAI"/>
              </a:rPr>
              <a:t>التقويم</a:t>
            </a:r>
            <a:endParaRPr b="0" lang="en-US" sz="20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16000" y="4116240"/>
            <a:ext cx="69134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3300"/>
                </a:solidFill>
                <a:latin typeface="Verdana"/>
                <a:cs typeface="AL-Hor"/>
              </a:rPr>
              <a:t>تعريفه :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3300"/>
                </a:solidFill>
                <a:latin typeface="Verdana"/>
                <a:ea typeface="AL-Hor"/>
              </a:rPr>
              <a:t>       إيجاد نظام عمل في غاية الجمال 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51280" y="476280"/>
            <a:ext cx="50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Verdana"/>
                <a:cs typeface="SC_DUBAI"/>
              </a:rPr>
              <a:t>عناص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Verdana"/>
                <a:cs typeface="SC_DUBAI"/>
              </a:rPr>
              <a:t>التقوي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0000" y="299736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24360" y="2708280"/>
            <a:ext cx="2664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3357720"/>
            <a:ext cx="2664000" cy="201600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66"/>
                </a:solidFill>
                <a:latin typeface="Verdana"/>
                <a:cs typeface="AL-Hosam"/>
              </a:rPr>
              <a:t>فهم الك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92360" y="3357720"/>
            <a:ext cx="2663640" cy="201600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66"/>
                </a:solidFill>
                <a:latin typeface="Verdana"/>
                <a:cs typeface="AL-Hosam"/>
              </a:rPr>
              <a:t>فهم الأجزا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50920" y="260280"/>
          <a:ext cx="2271600" cy="22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2271600" cy="2224080"/>
                  </a:xfrm>
                  <a:prstGeom prst="rect">
                    <a:avLst/>
                  </a:prstGeom>
                  <a:ln w="5724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77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5" dur="770" fill="hold"/>
                                        <p:tgtEl>
                                          <p:spTgt spid="2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7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9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826920" y="1373040"/>
            <a:ext cx="705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9280" y="333360"/>
            <a:ext cx="8640720" cy="1111320"/>
          </a:xfrm>
          <a:prstGeom prst="rect">
            <a:avLst/>
          </a:prstGeom>
          <a:solidFill>
            <a:srgbClr val="ff505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Verdana"/>
                <a:cs typeface="SC_DUBAI"/>
              </a:rPr>
              <a:t>التقويم</a:t>
            </a:r>
            <a:r>
              <a:rPr b="0" lang="ar-SA" sz="16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Verdana"/>
                <a:cs typeface="SC_DUBAI"/>
              </a:rPr>
              <a:t>يجيب</a:t>
            </a:r>
            <a:r>
              <a:rPr b="0" lang="ar-SA" sz="16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Verdana"/>
                <a:cs typeface="SC_DUBAI"/>
              </a:rPr>
              <a:t>على</a:t>
            </a:r>
            <a:r>
              <a:rPr b="0" lang="ar-SA" sz="16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Verdana"/>
                <a:cs typeface="SC_DUBAI"/>
              </a:rPr>
              <a:t>هذه</a:t>
            </a:r>
            <a:r>
              <a:rPr b="0" lang="ar-SA" sz="16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Verdana"/>
                <a:cs typeface="SC_DUBAI"/>
              </a:rPr>
              <a:t>الأسئلة</a:t>
            </a:r>
            <a:r>
              <a:rPr b="0" lang="ar-SA" sz="16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lang="ar-SA" sz="16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9280" y="1773360"/>
            <a:ext cx="8640720" cy="14396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  <a:cs typeface="AL-Hor"/>
              </a:rPr>
              <a:t>س/ كيف تعمل أجزاء نظام العمل الشامل مع بعضها البعض ؟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  <a:ea typeface="AL-Hor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280" y="3502080"/>
            <a:ext cx="8640720" cy="14396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  <a:cs typeface="AL-Hor"/>
              </a:rPr>
              <a:t>س / ما هي أجزاء النظام  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9280" y="5229360"/>
            <a:ext cx="8640720" cy="14396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  <a:cs typeface="AL-Hor"/>
              </a:rPr>
              <a:t>س / كيف نقوم الأجزاء لتحقيق الرؤية والإستراتيجية 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50920" y="333360"/>
            <a:ext cx="835344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00"/>
                </a:solidFill>
                <a:latin typeface="Verdana"/>
                <a:cs typeface="SC_DUBAI"/>
              </a:rPr>
              <a:t>تعريف القيادة</a:t>
            </a:r>
            <a:r>
              <a:rPr b="0" lang="ar-SA" sz="10600" spc="-1" strike="noStrike">
                <a:solidFill>
                  <a:srgbClr val="ffff00"/>
                </a:solidFill>
                <a:latin typeface="Verdana"/>
                <a:ea typeface="SC_DUBAI"/>
              </a:rPr>
              <a:t> 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332000" y="1197000"/>
            <a:ext cx="63356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800" spc="-1" strike="noStrike">
                <a:solidFill>
                  <a:srgbClr val="ffff00"/>
                </a:solidFill>
                <a:latin typeface="Verdana"/>
                <a:cs typeface="SC_DUBAI"/>
              </a:rPr>
              <a:t>التمكين</a:t>
            </a:r>
            <a:endParaRPr b="0" lang="en-US" sz="20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42920" y="3606840"/>
            <a:ext cx="676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3300"/>
                </a:solidFill>
                <a:latin typeface="Verdana"/>
                <a:cs typeface="AL-Hor"/>
              </a:rPr>
              <a:t>تعريفه :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3300"/>
                </a:solidFill>
                <a:latin typeface="Verdana"/>
                <a:ea typeface="AL-Hor"/>
              </a:rPr>
              <a:t>       إطلاق سراح المواهب والطاقات والإسهامات التي لدى الناس 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851280" y="476280"/>
            <a:ext cx="50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Verdana"/>
                <a:cs typeface="SC_DUBAI"/>
              </a:rPr>
              <a:t>عناص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Verdana"/>
                <a:cs typeface="SC_DUBAI"/>
              </a:rPr>
              <a:t>التمكي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80000" y="299736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24360" y="2708280"/>
            <a:ext cx="2664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84720" y="2276640"/>
            <a:ext cx="2664000" cy="201600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66"/>
                </a:solidFill>
                <a:latin typeface="Verdana"/>
                <a:cs typeface="AL-Hosam"/>
              </a:rPr>
              <a:t>أجواء التمكي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84720" y="4581360"/>
            <a:ext cx="2664000" cy="201636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66"/>
                </a:solidFill>
                <a:latin typeface="Verdana"/>
                <a:cs typeface="AL-Hosam"/>
              </a:rPr>
              <a:t>أسلوب القيادة</a:t>
            </a:r>
            <a:r>
              <a:rPr b="0" lang="ar-SA" sz="3600" spc="-1" strike="noStrike">
                <a:solidFill>
                  <a:srgbClr val="ffff66"/>
                </a:solidFill>
                <a:latin typeface="Verdana"/>
                <a:ea typeface="AL-Hosam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66"/>
                </a:solidFill>
                <a:latin typeface="Verdana"/>
                <a:cs typeface="AL-Hosam"/>
              </a:rPr>
              <a:t>المناس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50920" y="260280"/>
          <a:ext cx="2271600" cy="22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2271600" cy="2224080"/>
                  </a:xfrm>
                  <a:prstGeom prst="rect">
                    <a:avLst/>
                  </a:prstGeom>
                  <a:ln w="5724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3059280" y="4581360"/>
            <a:ext cx="2663640" cy="201636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66"/>
                </a:solidFill>
                <a:latin typeface="Verdana"/>
                <a:cs typeface="AL-Hosam"/>
              </a:rPr>
              <a:t>اتفاقية</a:t>
            </a:r>
            <a:r>
              <a:rPr b="0" lang="ar-SA" sz="3600" spc="-1" strike="noStrike">
                <a:solidFill>
                  <a:srgbClr val="ffff66"/>
                </a:solidFill>
                <a:latin typeface="Verdana"/>
                <a:ea typeface="AL-Hosam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66"/>
                </a:solidFill>
                <a:latin typeface="Verdana"/>
                <a:cs typeface="AL-Hosam"/>
              </a:rPr>
              <a:t>انفع نفسك</a:t>
            </a:r>
            <a:r>
              <a:rPr b="0" lang="ar-SA" sz="3600" spc="-1" strike="noStrike">
                <a:solidFill>
                  <a:srgbClr val="ffff66"/>
                </a:solidFill>
                <a:latin typeface="Verdana"/>
                <a:ea typeface="AL-Hosam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66"/>
                </a:solidFill>
                <a:latin typeface="Verdana"/>
                <a:cs typeface="AL-Hosam"/>
              </a:rPr>
              <a:t>وانفع النا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826920" y="1373040"/>
            <a:ext cx="705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79280" y="333360"/>
            <a:ext cx="8640720" cy="1111320"/>
          </a:xfrm>
          <a:prstGeom prst="rect">
            <a:avLst/>
          </a:prstGeom>
          <a:solidFill>
            <a:srgbClr val="ff505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Verdana"/>
                <a:cs typeface="SC_DUBAI"/>
              </a:rPr>
              <a:t>التمكين</a:t>
            </a:r>
            <a:r>
              <a:rPr b="0" lang="ar-SA" sz="16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Verdana"/>
                <a:cs typeface="SC_DUBAI"/>
              </a:rPr>
              <a:t>يجيب</a:t>
            </a:r>
            <a:r>
              <a:rPr b="0" lang="ar-SA" sz="16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Verdana"/>
                <a:cs typeface="SC_DUBAI"/>
              </a:rPr>
              <a:t>على</a:t>
            </a:r>
            <a:r>
              <a:rPr b="0" lang="ar-SA" sz="16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Verdana"/>
                <a:cs typeface="SC_DUBAI"/>
              </a:rPr>
              <a:t>هذه</a:t>
            </a:r>
            <a:r>
              <a:rPr b="0" lang="ar-SA" sz="16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Verdana"/>
                <a:cs typeface="SC_DUBAI"/>
              </a:rPr>
              <a:t>الأسئلة</a:t>
            </a:r>
            <a:r>
              <a:rPr b="0" lang="ar-SA" sz="16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lang="ar-SA" sz="16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9280" y="1773360"/>
            <a:ext cx="8640720" cy="12240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  <a:cs typeface="AL-Hor"/>
              </a:rPr>
              <a:t>س/ كيف نستنبت بيئة يتمكن فيها الناس من الإسهام بأفضل ما لديهم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  <a:ea typeface="AL-Hor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  <a:cs typeface="AL-Hor"/>
              </a:rPr>
              <a:t>بكل قدرة ورغبة ؟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  <a:ea typeface="AL-Hor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79280" y="3213000"/>
            <a:ext cx="8640720" cy="93672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  <a:cs typeface="AL-Hor"/>
              </a:rPr>
              <a:t>س / ما طبيعة الأعمال التي تنجزها  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0920" y="4365720"/>
            <a:ext cx="8640720" cy="8636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  <a:cs typeface="AL-Hor"/>
              </a:rPr>
              <a:t>س / ما حجم المسؤولية والصلاحية ينبغي أن يملكها الناس  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2360" y="5445000"/>
            <a:ext cx="8640720" cy="8636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  <a:cs typeface="AL-Hor"/>
              </a:rPr>
              <a:t>س / من الذي سينجز كل عمل من الأعمال ، وبأي الموارد  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332000" y="44280"/>
            <a:ext cx="63356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800" spc="-1" strike="noStrike">
                <a:solidFill>
                  <a:srgbClr val="ffff00"/>
                </a:solidFill>
                <a:latin typeface="Verdana"/>
                <a:cs typeface="SC_DUBAI"/>
              </a:rPr>
              <a:t>القدوة</a:t>
            </a:r>
            <a:endParaRPr b="0" lang="en-US" sz="20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26920" y="2852640"/>
            <a:ext cx="7417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3300"/>
                </a:solidFill>
                <a:latin typeface="Verdana"/>
                <a:cs typeface="AL-Hor"/>
              </a:rPr>
              <a:t>تعريفه :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3300"/>
                </a:solidFill>
                <a:latin typeface="Verdana"/>
                <a:ea typeface="AL-Hor"/>
              </a:rPr>
              <a:t>       بناء الثقة مع الناس ( فينا وفيهم 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3300"/>
                </a:solidFill>
                <a:latin typeface="Verdana"/>
                <a:cs typeface="AL-Hor"/>
              </a:rPr>
              <a:t>وتعني : أن نحيًّا و نقود بالمبادئ ( السنن الإلهية ) وعندها فقط يثق فينا الناس 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826920" y="1373040"/>
            <a:ext cx="705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9280" y="333360"/>
            <a:ext cx="8640720" cy="1111320"/>
          </a:xfrm>
          <a:prstGeom prst="rect">
            <a:avLst/>
          </a:prstGeom>
          <a:solidFill>
            <a:srgbClr val="ff505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Verdana"/>
                <a:cs typeface="SC_DUBAI"/>
              </a:rPr>
              <a:t>القدوة</a:t>
            </a:r>
            <a:r>
              <a:rPr b="0" lang="ar-SA" sz="16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Verdana"/>
                <a:cs typeface="SC_DUBAI"/>
              </a:rPr>
              <a:t>تجيب</a:t>
            </a:r>
            <a:r>
              <a:rPr b="0" lang="ar-SA" sz="16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Verdana"/>
                <a:cs typeface="SC_DUBAI"/>
              </a:rPr>
              <a:t>على</a:t>
            </a:r>
            <a:r>
              <a:rPr b="0" lang="ar-SA" sz="16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Verdana"/>
                <a:cs typeface="SC_DUBAI"/>
              </a:rPr>
              <a:t>هذه</a:t>
            </a:r>
            <a:r>
              <a:rPr b="0" lang="ar-SA" sz="16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Verdana"/>
                <a:cs typeface="SC_DUBAI"/>
              </a:rPr>
              <a:t>الأسئلة</a:t>
            </a:r>
            <a:r>
              <a:rPr b="0" lang="ar-SA" sz="16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lang="ar-SA" sz="16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9280" y="1773360"/>
            <a:ext cx="8640720" cy="12240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  <a:cs typeface="AL-Hor"/>
              </a:rPr>
              <a:t>س/ من الذي سيرضى بي قائداً لي ؟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  <a:ea typeface="AL-Hor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3213000"/>
            <a:ext cx="8640720" cy="93672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  <a:cs typeface="AL-Hor"/>
              </a:rPr>
              <a:t>س / هل أنا معتاد على تحمل المسؤولية  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4365720"/>
            <a:ext cx="8640720" cy="8636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  <a:cs typeface="AL-Hor"/>
              </a:rPr>
              <a:t>س / هل أفعل ما أقول 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2360" y="5445000"/>
            <a:ext cx="8640720" cy="8636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  <a:cs typeface="AL-Hor"/>
              </a:rPr>
              <a:t>س / هل أنا أهل للثقة أم لا  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50920" y="1400040"/>
            <a:ext cx="813744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00"/>
                </a:solidFill>
                <a:latin typeface="Verdana"/>
                <a:cs typeface="SC_DUBAI"/>
              </a:rPr>
              <a:t>سلوك القائد 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00"/>
                </a:solidFill>
                <a:latin typeface="Verdana"/>
                <a:cs typeface="SC_DUBAI"/>
              </a:rPr>
              <a:t>ونمطه القيادي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5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65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50920" y="763560"/>
            <a:ext cx="8353440" cy="28065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5940360" y="620640"/>
            <a:ext cx="0" cy="208764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87640" y="1627200"/>
            <a:ext cx="0" cy="208908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3067200"/>
            <a:ext cx="0" cy="64908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987640" y="619200"/>
            <a:ext cx="0" cy="64764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24360" y="260280"/>
            <a:ext cx="302436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79280" y="260280"/>
            <a:ext cx="29527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012000" y="549360"/>
            <a:ext cx="792000" cy="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85080" y="549360"/>
            <a:ext cx="792360" cy="1260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098880" y="549360"/>
            <a:ext cx="792000" cy="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971960" y="549360"/>
            <a:ext cx="792360" cy="1260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98000" y="549360"/>
            <a:ext cx="792360" cy="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071800" y="549360"/>
            <a:ext cx="792000" cy="1260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3640" y="71280"/>
            <a:ext cx="2520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99"/>
                </a:solidFill>
                <a:latin typeface="Verdana"/>
                <a:cs typeface="AdvertisingBold"/>
              </a:rPr>
              <a:t>أنماط القيادة</a:t>
            </a:r>
            <a:r>
              <a:rPr b="0" lang="ar-SA" sz="2400" spc="-1" strike="noStrike">
                <a:solidFill>
                  <a:srgbClr val="ffff00"/>
                </a:solidFill>
                <a:latin typeface="Verdana"/>
                <a:ea typeface="AdvertisingBol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88000" y="404640"/>
            <a:ext cx="1511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11111"/>
                </a:solidFill>
                <a:latin typeface="Verdana"/>
                <a:cs typeface="AdvertisingBold"/>
              </a:rPr>
              <a:t>التسلط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687840" y="404640"/>
            <a:ext cx="1511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11111"/>
                </a:solidFill>
                <a:latin typeface="Verdana"/>
                <a:cs typeface="AdvertisingBold"/>
              </a:rPr>
              <a:t>الديمقراط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47720" y="404640"/>
            <a:ext cx="1511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11111"/>
                </a:solidFill>
                <a:latin typeface="Verdana"/>
                <a:cs typeface="AdvertisingBold"/>
              </a:rPr>
              <a:t>الحــــــ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824400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716436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594036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00024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67644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83528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46076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740720" y="4292640"/>
            <a:ext cx="936720" cy="216072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تخ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Verdana"/>
                <a:ea typeface="AL-Hor"/>
              </a:rPr>
              <a:t> ويعلن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Verdana"/>
                <a:cs typeface="AL-Hor"/>
              </a:rPr>
              <a:t>للمرؤوسين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588000" y="4292640"/>
            <a:ext cx="936720" cy="216072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تخذ</a:t>
            </a:r>
            <a:r>
              <a:rPr b="1" lang="ar-SA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قن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ar-SA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Verdana"/>
                <a:cs typeface="AL-Hor"/>
              </a:rPr>
              <a:t>ب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64000" y="4292640"/>
            <a:ext cx="936720" cy="216072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تخذ</a:t>
            </a:r>
            <a:r>
              <a:rPr b="1" lang="ar-SA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ناقش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Verdana"/>
                <a:cs typeface="AL-Hor"/>
              </a:rPr>
              <a:t>م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ar-SA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95640" y="4292640"/>
            <a:ext cx="936720" cy="216072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قترح</a:t>
            </a:r>
            <a:r>
              <a:rPr b="1" lang="ar-SA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ناقش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ar-SA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كون مستعد</a:t>
            </a:r>
            <a:r>
              <a:rPr b="1" lang="ar-SA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Verdana"/>
                <a:cs typeface="AL-Hor"/>
              </a:rPr>
              <a:t>لتغير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56000" y="4292640"/>
            <a:ext cx="936360" cy="216072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عرض</a:t>
            </a:r>
            <a:r>
              <a:rPr b="1" lang="ar-SA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شكلة</a:t>
            </a:r>
            <a:r>
              <a:rPr b="1" lang="ar-SA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Verdana"/>
                <a:cs typeface="AL-Hor"/>
              </a:rPr>
              <a:t>ويتلق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Verdana"/>
                <a:cs typeface="AL-Hor"/>
              </a:rPr>
              <a:t>اقتراحات</a:t>
            </a:r>
            <a:r>
              <a:rPr b="1" lang="ar-SA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Verdana"/>
                <a:cs typeface="AL-Hor"/>
              </a:rPr>
              <a:t>ويتخذ 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03280" y="4292640"/>
            <a:ext cx="936720" cy="216072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عرض</a:t>
            </a:r>
            <a:r>
              <a:rPr b="1" lang="ar-SA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شكلة</a:t>
            </a:r>
            <a:r>
              <a:rPr b="1" lang="ar-SA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ناقشه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فو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Verdana"/>
                <a:cs typeface="AL-Hor"/>
              </a:rPr>
              <a:t>في اتخا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79280" y="4292640"/>
            <a:ext cx="936720" cy="216072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ar-SA" sz="2000" spc="-1" strike="noStrike">
                <a:solidFill>
                  <a:srgbClr val="ffff66"/>
                </a:solidFill>
                <a:latin typeface="Verdana"/>
                <a:cs typeface="AL-Hor"/>
              </a:rPr>
              <a:t>يفوض</a:t>
            </a:r>
            <a:r>
              <a:rPr b="1" lang="ar-SA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Verdana"/>
                <a:cs typeface="AL-Hor"/>
              </a:rPr>
              <a:t>سلطة</a:t>
            </a:r>
            <a:r>
              <a:rPr b="1" lang="ar-SA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Verdana"/>
                <a:cs typeface="AL-Hor"/>
              </a:rPr>
              <a:t>اتخاذ</a:t>
            </a:r>
            <a:r>
              <a:rPr b="1" lang="ar-SA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r>
              <a:rPr b="1" lang="ar-SA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66"/>
                </a:solidFill>
                <a:latin typeface="Verdana"/>
                <a:cs typeface="AL-Hor"/>
              </a:rPr>
              <a:t>ل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77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6" dur="770" fill="hold"/>
                                        <p:tgtEl>
                                          <p:spTgt spid="2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8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0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77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7" dur="770" fill="hold"/>
                                        <p:tgtEl>
                                          <p:spTgt spid="2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9" dur="77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1" dur="77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77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6" dur="770" fill="hold"/>
                                        <p:tgtEl>
                                          <p:spTgt spid="2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8" dur="77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0" dur="77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77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5" dur="770" fill="hold"/>
                                        <p:tgtEl>
                                          <p:spTgt spid="2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7" dur="77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9" dur="77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77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4" dur="770" fill="hold"/>
                                        <p:tgtEl>
                                          <p:spTgt spid="2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6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8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77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3" dur="770" fill="hold"/>
                                        <p:tgtEl>
                                          <p:spTgt spid="2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5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7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77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2" dur="770" fill="hold"/>
                                        <p:tgtEl>
                                          <p:spTgt spid="2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4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6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77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1" dur="770" fill="hold"/>
                                        <p:tgtEl>
                                          <p:spTgt spid="2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3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5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77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0" dur="770" fill="hold"/>
                                        <p:tgtEl>
                                          <p:spTgt spid="2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2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4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77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9" dur="770" fill="hold"/>
                                        <p:tgtEl>
                                          <p:spTgt spid="2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1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3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77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8" dur="770" fill="hold"/>
                                        <p:tgtEl>
                                          <p:spTgt spid="2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0" dur="77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2" dur="77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77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5" dur="770" fill="hold"/>
                                        <p:tgtEl>
                                          <p:spTgt spid="2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7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9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51280" y="476280"/>
            <a:ext cx="50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Verdana"/>
                <a:cs typeface="SC_DUBAI"/>
              </a:rPr>
              <a:t>عناصر الموقف</a:t>
            </a:r>
            <a:r>
              <a:rPr b="1" lang="ar-SA" sz="4800" spc="-1" strike="noStrike">
                <a:solidFill>
                  <a:srgbClr val="ffff00"/>
                </a:solidFill>
                <a:latin typeface="Verdana"/>
                <a:ea typeface="SC_DUBAI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Verdana"/>
                <a:cs typeface="SC_DUBAI"/>
              </a:rPr>
              <a:t>القيادي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80000" y="299736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24360" y="2708280"/>
            <a:ext cx="2664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84720" y="2276640"/>
            <a:ext cx="2664000" cy="201600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66"/>
                </a:solidFill>
                <a:latin typeface="Verdana"/>
                <a:cs typeface="AL-Hosam"/>
              </a:rPr>
              <a:t>شخصية المرؤوسي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66"/>
                </a:solidFill>
                <a:latin typeface="Verdana"/>
                <a:cs typeface="AL-Hosam"/>
              </a:rPr>
              <a:t>وطبيعة العمل</a:t>
            </a:r>
            <a:r>
              <a:rPr b="0" lang="ar-SA" sz="3600" spc="-1" strike="noStrike">
                <a:solidFill>
                  <a:srgbClr val="ffff66"/>
                </a:solidFill>
                <a:latin typeface="Verdana"/>
                <a:ea typeface="AL-Hosam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84720" y="4581360"/>
            <a:ext cx="2664000" cy="201636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66"/>
                </a:solidFill>
                <a:latin typeface="Verdana"/>
                <a:cs typeface="AL-Hosam"/>
              </a:rPr>
              <a:t>خصائص</a:t>
            </a:r>
            <a:r>
              <a:rPr b="0" lang="ar-SA" sz="3600" spc="-1" strike="noStrike">
                <a:solidFill>
                  <a:srgbClr val="ffff66"/>
                </a:solidFill>
                <a:latin typeface="Verdana"/>
                <a:ea typeface="AL-Hosam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66"/>
                </a:solidFill>
                <a:latin typeface="Verdana"/>
                <a:cs typeface="AL-Hosam"/>
              </a:rPr>
              <a:t>العمل</a:t>
            </a:r>
            <a:r>
              <a:rPr b="0" lang="ar-SA" sz="3600" spc="-1" strike="noStrike">
                <a:solidFill>
                  <a:srgbClr val="ffff66"/>
                </a:solidFill>
                <a:latin typeface="Verdana"/>
                <a:ea typeface="AL-Hosam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59280" y="4581360"/>
            <a:ext cx="2663640" cy="201636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66"/>
                </a:solidFill>
                <a:latin typeface="Verdana"/>
                <a:cs typeface="AL-Hosam"/>
              </a:rPr>
              <a:t>خصائص</a:t>
            </a:r>
            <a:r>
              <a:rPr b="0" lang="ar-SA" sz="3600" spc="-1" strike="noStrike">
                <a:solidFill>
                  <a:srgbClr val="ffff66"/>
                </a:solidFill>
                <a:latin typeface="Verdana"/>
                <a:ea typeface="AL-Hosam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66"/>
                </a:solidFill>
                <a:latin typeface="Verdana"/>
                <a:cs typeface="AL-Hosam"/>
              </a:rPr>
              <a:t>التنظيم</a:t>
            </a:r>
            <a:r>
              <a:rPr b="0" lang="ar-SA" sz="3600" spc="-1" strike="noStrike">
                <a:solidFill>
                  <a:srgbClr val="ffff66"/>
                </a:solidFill>
                <a:latin typeface="Verdana"/>
                <a:ea typeface="AL-Hosam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32108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77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8" dur="770" fill="hold"/>
                                        <p:tgtEl>
                                          <p:spTgt spid="2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0" dur="77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2" dur="77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826920" y="1373040"/>
            <a:ext cx="705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79280" y="333360"/>
            <a:ext cx="8640720" cy="1111320"/>
          </a:xfrm>
          <a:prstGeom prst="rect">
            <a:avLst/>
          </a:prstGeom>
          <a:solidFill>
            <a:srgbClr val="ff505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Verdana"/>
                <a:cs typeface="SC_DUBAI"/>
              </a:rPr>
              <a:t>عناصر شخصية المرؤوسين</a:t>
            </a:r>
            <a:r>
              <a:rPr b="0" lang="ar-SA" sz="16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lang="ar-SA" sz="16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003640" y="1773360"/>
            <a:ext cx="3816360" cy="12240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  <a:cs typeface="AL-Hor"/>
              </a:rPr>
              <a:t>التعلم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  <a:ea typeface="AL-Hor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5640" y="2060640"/>
            <a:ext cx="3816360" cy="93672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  <a:cs typeface="AL-Hor"/>
              </a:rPr>
              <a:t>الس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076720" y="3429000"/>
            <a:ext cx="3888000" cy="8636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  <a:cs typeface="AL-Hor"/>
              </a:rPr>
              <a:t>خصائص الشخصية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  <a:ea typeface="AL-Hor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1280" y="3500280"/>
            <a:ext cx="3960720" cy="8636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  <a:cs typeface="AL-Hor"/>
              </a:rPr>
              <a:t>خصائص الجماعة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  <a:ea typeface="AL-Hor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003640" y="4797360"/>
            <a:ext cx="3888000" cy="8636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  <a:cs typeface="AL-Hor"/>
              </a:rPr>
              <a:t>التعاون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  <a:ea typeface="AL-Hor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826920" y="1373040"/>
            <a:ext cx="705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79280" y="333360"/>
            <a:ext cx="8640720" cy="1111320"/>
          </a:xfrm>
          <a:prstGeom prst="rect">
            <a:avLst/>
          </a:prstGeom>
          <a:solidFill>
            <a:srgbClr val="ff505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Verdana"/>
                <a:cs typeface="SC_DUBAI"/>
              </a:rPr>
              <a:t>عناصر خصائص العمل</a:t>
            </a:r>
            <a:r>
              <a:rPr b="0" lang="ar-SA" sz="16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lang="ar-SA" sz="16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79280" y="1773360"/>
            <a:ext cx="8640720" cy="12240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  <a:cs typeface="AL-Hor"/>
              </a:rPr>
              <a:t>وضوح المهام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  <a:ea typeface="AL-Hor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79280" y="3213000"/>
            <a:ext cx="8640720" cy="93672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  <a:cs typeface="AL-Hor"/>
              </a:rPr>
              <a:t>روتينية العم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50920" y="4365720"/>
            <a:ext cx="8640720" cy="8636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  <a:cs typeface="AL-Hor"/>
              </a:rPr>
              <a:t>مستوى المهار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2360" y="5445000"/>
            <a:ext cx="8640720" cy="8636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  <a:cs typeface="AL-Hor"/>
              </a:rPr>
              <a:t>توافر المعلومات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404640"/>
            <a:ext cx="91440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Verdana"/>
                <a:cs typeface="AL-Hor"/>
              </a:rPr>
              <a:t>تعريف القيادة</a:t>
            </a:r>
            <a:r>
              <a:rPr b="0" lang="ar-SA" sz="3200" spc="-1" strike="noStrike">
                <a:solidFill>
                  <a:srgbClr val="ffff00"/>
                </a:solidFill>
                <a:latin typeface="Verdana"/>
                <a:ea typeface="AL-Hor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Verdana"/>
                <a:ea typeface="AL-Hor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99"/>
                </a:solidFill>
                <a:latin typeface="Verdana"/>
                <a:cs typeface="AL-Hor"/>
              </a:rPr>
              <a:t>تعرف القيادة بأنها القدرة على التأثير فى الآخرين</a:t>
            </a:r>
            <a:r>
              <a:rPr b="0" lang="ar-SA" sz="3200" spc="-1" strike="noStrike">
                <a:solidFill>
                  <a:srgbClr val="009999"/>
                </a:solidFill>
                <a:latin typeface="Verdana"/>
                <a:ea typeface="AL-Hor"/>
              </a:rPr>
              <a:t> </a:t>
            </a:r>
            <a:r>
              <a:rPr b="0" lang="ar-SA" sz="3200" spc="-1" strike="noStrike">
                <a:solidFill>
                  <a:srgbClr val="009999"/>
                </a:solidFill>
                <a:latin typeface="Verdana"/>
                <a:ea typeface="AL-Hor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11111"/>
                </a:solidFill>
                <a:latin typeface="Verdana"/>
                <a:ea typeface="AL-Hor"/>
              </a:rPr>
              <a:t>    </a:t>
            </a:r>
            <a:r>
              <a:rPr b="0" lang="ar-SA" sz="3200" spc="-1" strike="noStrike">
                <a:solidFill>
                  <a:srgbClr val="ffff00"/>
                </a:solidFill>
                <a:latin typeface="Verdana"/>
                <a:cs typeface="AL-Hor"/>
              </a:rPr>
              <a:t>طرق تعريف ودراسة ظاهرة القيادة ومن هذه التعريفات ما يلى</a:t>
            </a:r>
            <a:r>
              <a:rPr b="0" lang="ar-SA" sz="3200" spc="-1" strike="noStrike">
                <a:solidFill>
                  <a:srgbClr val="ffff00"/>
                </a:solidFill>
                <a:latin typeface="Verdana"/>
                <a:ea typeface="AL-Hor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Verdana"/>
                <a:ea typeface="AL-Hor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99"/>
                </a:solidFill>
                <a:latin typeface="Verdana"/>
                <a:cs typeface="AL-Hor"/>
              </a:rPr>
              <a:t>القيادة هي التأثير في سلوك المرؤوسي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99"/>
                </a:solidFill>
                <a:latin typeface="Verdana"/>
                <a:cs typeface="AL-Hor"/>
              </a:rPr>
              <a:t>القيادة هي تمتع القائد بصفات شخصية تميزه عن غيره تجعله مؤثراً على الآخري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99"/>
                </a:solidFill>
                <a:latin typeface="Verdana"/>
                <a:cs typeface="AL-Hor"/>
              </a:rPr>
              <a:t>القيادة هي إذعان مجموعة من المرؤوسين والتابعين ينفذون ما يريده القائد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826920" y="1373040"/>
            <a:ext cx="705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79280" y="333360"/>
            <a:ext cx="8640720" cy="1111320"/>
          </a:xfrm>
          <a:prstGeom prst="rect">
            <a:avLst/>
          </a:prstGeom>
          <a:solidFill>
            <a:srgbClr val="ff505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Verdana"/>
                <a:cs typeface="SC_DUBAI"/>
              </a:rPr>
              <a:t>عناصر خصائص التنظيم</a:t>
            </a:r>
            <a:r>
              <a:rPr b="0" lang="ar-SA" sz="16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lang="ar-SA" sz="16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79280" y="1773360"/>
            <a:ext cx="8640720" cy="12240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  <a:cs typeface="AL-Hor"/>
              </a:rPr>
              <a:t>طبيعة الهدف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  <a:ea typeface="AL-Hor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9280" y="3213000"/>
            <a:ext cx="8640720" cy="93672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  <a:cs typeface="AL-Hor"/>
              </a:rPr>
              <a:t>طبيعة المخرجات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0920" y="4365720"/>
            <a:ext cx="8640720" cy="8636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  <a:cs typeface="AL-Hor"/>
              </a:rPr>
              <a:t>نمط القيادة والإدارة العلي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3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3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3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3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826920" y="1373040"/>
            <a:ext cx="705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50920" y="2060640"/>
            <a:ext cx="8640720" cy="2376360"/>
          </a:xfrm>
          <a:prstGeom prst="rect">
            <a:avLst/>
          </a:prstGeom>
          <a:solidFill>
            <a:srgbClr val="ff505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Verdana"/>
                <a:cs typeface="SC_DUBAI"/>
              </a:rPr>
              <a:t>أنماط القيادة الواردة بالقرآن</a:t>
            </a:r>
            <a:r>
              <a:rPr b="1" lang="ar-SA" sz="7200" spc="-1" strike="noStrike">
                <a:solidFill>
                  <a:srgbClr val="ffff00"/>
                </a:solidFill>
                <a:latin typeface="Verdana"/>
                <a:ea typeface="SC_DUBAI"/>
              </a:rPr>
              <a:t> </a:t>
            </a:r>
            <a:r>
              <a:rPr b="0" lang="ar-SA" sz="16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lang="ar-SA" sz="16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24000" y="0"/>
            <a:ext cx="86421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00"/>
                </a:solidFill>
                <a:latin typeface="Verdana"/>
                <a:cs typeface="SC_TARABLUS"/>
              </a:rPr>
              <a:t>محتويات الجلسة التدريبية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700280"/>
            <a:ext cx="88930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Verdana"/>
              </a:rPr>
              <a:t>دور واحتياجات الفرق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Verdana"/>
              </a:rPr>
              <a:t>الأدوار الأربعة للقيادة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Verdana"/>
              </a:rPr>
              <a:t>سلوك القائد ونمط القياد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Verdana"/>
              </a:rPr>
              <a:t>القيادة حسب الموقف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50920" y="620640"/>
            <a:ext cx="86421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A 3D Max Freedom"/>
                <a:cs typeface="A 3D Max Freedom"/>
              </a:rPr>
              <a:t>لماذا</a:t>
            </a:r>
            <a:r>
              <a:rPr b="0" lang="ar-SA" sz="4400" spc="-1" strike="noStrike">
                <a:solidFill>
                  <a:srgbClr val="ffff00"/>
                </a:solidFill>
                <a:latin typeface="A 3D Max Freedom"/>
                <a:ea typeface="A 3D Max Freedom"/>
              </a:rPr>
              <a:t></a:t>
            </a:r>
            <a:r>
              <a:rPr b="0" lang="ar-SA" sz="4400" spc="-1" strike="noStrike">
                <a:solidFill>
                  <a:srgbClr val="ffff00"/>
                </a:solidFill>
                <a:latin typeface="A 3D Max Freedom"/>
                <a:cs typeface="A 3D Max Freedom"/>
              </a:rPr>
              <a:t>سمي</a:t>
            </a:r>
            <a:r>
              <a:rPr b="0" lang="ar-SA" sz="4400" spc="-1" strike="noStrike">
                <a:solidFill>
                  <a:srgbClr val="ffff00"/>
                </a:solidFill>
                <a:latin typeface="A 3D Max Freedom"/>
                <a:ea typeface="A 3D Max Freedom"/>
              </a:rPr>
              <a:t></a:t>
            </a:r>
            <a:r>
              <a:rPr b="0" lang="ar-SA" sz="4400" spc="-1" strike="noStrike">
                <a:solidFill>
                  <a:srgbClr val="ffff00"/>
                </a:solidFill>
                <a:latin typeface="A 3D Max Freedom"/>
                <a:cs typeface="A 3D Max Freedom"/>
              </a:rPr>
              <a:t>القائد</a:t>
            </a:r>
            <a:r>
              <a:rPr b="0" lang="ar-SA" sz="4400" spc="-1" strike="noStrike">
                <a:solidFill>
                  <a:srgbClr val="ffff00"/>
                </a:solidFill>
                <a:latin typeface="A 3D Max Freedom"/>
                <a:ea typeface="A 3D Max Freedom"/>
              </a:rPr>
              <a:t></a:t>
            </a:r>
            <a:r>
              <a:rPr b="0" lang="ar-SA" sz="4400" spc="-1" strike="noStrike">
                <a:solidFill>
                  <a:srgbClr val="ffff00"/>
                </a:solidFill>
                <a:latin typeface="A 3D Max Freedom"/>
                <a:cs typeface="A 3D Max Freedom"/>
              </a:rPr>
              <a:t>الكشفي</a:t>
            </a:r>
            <a:r>
              <a:rPr b="0" lang="ar-SA" sz="4400" spc="-1" strike="noStrike">
                <a:solidFill>
                  <a:srgbClr val="ffff00"/>
                </a:solidFill>
                <a:latin typeface="A 3D Max Freedom"/>
                <a:ea typeface="A 3D Max Freedom"/>
              </a:rPr>
              <a:t></a:t>
            </a:r>
            <a:r>
              <a:rPr b="0" lang="ar-SA" sz="4400" spc="-1" strike="noStrike">
                <a:solidFill>
                  <a:srgbClr val="ffff00"/>
                </a:solidFill>
                <a:latin typeface="A 3D Max Freedom"/>
                <a:cs typeface="A 3D Max Freedom"/>
              </a:rPr>
              <a:t>قائداً</a:t>
            </a:r>
            <a:r>
              <a:rPr b="0" lang="ar-SA" sz="4400" spc="-1" strike="noStrike">
                <a:solidFill>
                  <a:srgbClr val="ffff00"/>
                </a:solidFill>
                <a:latin typeface="A 3D Max Freedom"/>
                <a:ea typeface="A 3D Max Freedom"/>
              </a:rPr>
              <a:t></a:t>
            </a:r>
            <a:r>
              <a:rPr b="0" lang="ar-SA" sz="4400" spc="-1" strike="noStrike">
                <a:solidFill>
                  <a:srgbClr val="ffff00"/>
                </a:solidFill>
                <a:latin typeface="A 3D Max Freedom"/>
                <a:cs typeface="A 3D Max Freedom"/>
              </a:rPr>
              <a:t>ولم</a:t>
            </a:r>
            <a:r>
              <a:rPr b="0" lang="ar-SA" sz="4400" spc="-1" strike="noStrike">
                <a:solidFill>
                  <a:srgbClr val="ffff00"/>
                </a:solidFill>
                <a:latin typeface="A 3D Max Freedom"/>
                <a:ea typeface="A 3D Max Freedom"/>
              </a:rPr>
              <a:t></a:t>
            </a:r>
            <a:r>
              <a:rPr b="0" lang="ar-SA" sz="4400" spc="-1" strike="noStrike">
                <a:solidFill>
                  <a:srgbClr val="ffff00"/>
                </a:solidFill>
                <a:latin typeface="A 3D Max Freedom"/>
                <a:cs typeface="A 3D Max Freedom"/>
              </a:rPr>
              <a:t>يسمى</a:t>
            </a:r>
            <a:r>
              <a:rPr b="0" lang="ar-SA" sz="4400" spc="-1" strike="noStrike">
                <a:solidFill>
                  <a:srgbClr val="ffff00"/>
                </a:solidFill>
                <a:latin typeface="A 3D Max Freedom"/>
                <a:ea typeface="A 3D Max Freedom"/>
              </a:rPr>
              <a:t></a:t>
            </a:r>
            <a:r>
              <a:rPr b="0" lang="ar-SA" sz="4400" spc="-1" strike="noStrike">
                <a:solidFill>
                  <a:srgbClr val="ffff00"/>
                </a:solidFill>
                <a:latin typeface="A 3D Max Freedom"/>
                <a:cs typeface="A 3D Max Freedom"/>
              </a:rPr>
              <a:t>مديراً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1628640"/>
            <a:ext cx="8569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99"/>
                </a:solidFill>
                <a:latin typeface="Verdana"/>
                <a:cs typeface="AL-Hor"/>
              </a:rPr>
              <a:t>مقارنة بسيطة وسريعة بين مفهومى القيادة والإدارة ( أو القائد والمدير ) وذلك تثبيتاً لما دار من نقا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116000" y="2349360"/>
          <a:ext cx="6480360" cy="4248360"/>
        </p:xfrm>
        <a:graphic>
          <a:graphicData uri="http://schemas.openxmlformats.org/drawingml/2006/table">
            <a:tbl>
              <a:tblPr/>
              <a:tblGrid>
                <a:gridCol w="3240000"/>
                <a:gridCol w="32403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AdvertisingLight"/>
                        </a:rPr>
                        <a:t>الإدارة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AdvertisingLight"/>
                        </a:rPr>
                        <a:t>القيـــــــاد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buClr>
                          <a:srgbClr val="ffff99"/>
                        </a:buClr>
                        <a:buFont typeface="Times New Roman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AdvertisingLight"/>
                        </a:rPr>
                        <a:t>تركز على السلطة الرسمية وعلى أذعان وامتثال الأفراد لهذه السلطة 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buClr>
                          <a:srgbClr val="ffff99"/>
                        </a:buClr>
                        <a:buFont typeface="Times New Roman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AdvertisingLight"/>
                        </a:rPr>
                        <a:t>التنظيم الرسمي هو مصدر السلطة 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buClr>
                          <a:srgbClr val="ffff99"/>
                        </a:buClr>
                        <a:buFont typeface="Times New Roman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AdvertisingLight"/>
                        </a:rPr>
                        <a:t>السلطة رسمية ومقننة 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buClr>
                          <a:srgbClr val="ffff99"/>
                        </a:buClr>
                        <a:buFont typeface="Times New Roman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AdvertisingLight"/>
                        </a:rPr>
                        <a:t>مفهوم أشمل من القيادة 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buClr>
                          <a:srgbClr val="ffff99"/>
                        </a:buClr>
                        <a:buFont typeface="Times New Roman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AdvertisingLight"/>
                        </a:rPr>
                        <a:t>الوصف التنظيمى للعلاقات هو جوهر التصرفات الإدارية 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buClr>
                          <a:srgbClr val="ffff99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dvertisingLight"/>
                        </a:rPr>
                        <a:t>-تركز على النفوذ والتأثير الاجتماعي وعلى قبول الأفراد لهذا النفوذ 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buClr>
                          <a:srgbClr val="ffff99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dvertisingLight"/>
                        </a:rPr>
                        <a:t>-الجماعة هي مصدر السلطة 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buClr>
                          <a:srgbClr val="ffff99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dvertisingLight"/>
                        </a:rPr>
                        <a:t>-وظيفة من وظائف المدير 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buClr>
                          <a:srgbClr val="ffff99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dvertisingLight"/>
                        </a:rPr>
                        <a:t>-التفاعل بين الأفراد هو جوهر القيادة 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00000" y="476280"/>
            <a:ext cx="676908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Verdana"/>
                <a:cs typeface="SC_DUBAI"/>
              </a:rPr>
              <a:t>دور</a:t>
            </a:r>
            <a:r>
              <a:rPr b="1" lang="ar-SA" sz="10600" spc="-1" strike="noStrike">
                <a:solidFill>
                  <a:srgbClr val="ffff00"/>
                </a:solidFill>
                <a:latin typeface="Verdana"/>
                <a:ea typeface="SC_DUBAI"/>
              </a:rPr>
              <a:t> قائد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10600" spc="-1" strike="noStrike">
                <a:solidFill>
                  <a:srgbClr val="ffff00"/>
                </a:solidFill>
                <a:latin typeface="Verdana"/>
                <a:cs typeface="SC_DUBAI"/>
              </a:rPr>
              <a:t>الوحدة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2421000"/>
            <a:ext cx="7489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2205000"/>
            <a:ext cx="82072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ar-SA" sz="2800" spc="-1" strike="noStrike">
                <a:solidFill>
                  <a:srgbClr val="66ff33"/>
                </a:solidFill>
                <a:latin typeface="Verdana"/>
                <a:cs typeface="PT Bold Heading"/>
              </a:rPr>
              <a:t>قيادة وتنظيم وإدارة فرقته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ff33"/>
                </a:solidFill>
                <a:latin typeface="Verdana"/>
                <a:ea typeface="PT Bold Heading"/>
              </a:rPr>
              <a:t>  يشبع احتياجات الأعضاء وفق رغباتهم وخصائص نموهم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ff33"/>
                </a:solidFill>
                <a:latin typeface="Verdana"/>
                <a:ea typeface="PT Bold Heading"/>
              </a:rPr>
              <a:t>  يخطط وينفذ برامج الفرقة على المدى القريب والبعيد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ff33"/>
                </a:solidFill>
                <a:latin typeface="Verdana"/>
                <a:ea typeface="PT Bold Heading"/>
              </a:rPr>
              <a:t>  ينمي العلاقات بين الفتية وأولياء الأمور والمجتمع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77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770" fill="hold"/>
                                        <p:tgtEl>
                                          <p:spTgt spid="1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24000" y="98100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Verdana"/>
                <a:cs typeface="SC_DUBAI"/>
              </a:rPr>
              <a:t>صفات ومهارات القائد الناجح</a:t>
            </a:r>
            <a:r>
              <a:rPr b="0" lang="ar-SA" sz="10600" spc="-1" strike="noStrike">
                <a:solidFill>
                  <a:srgbClr val="ffff00"/>
                </a:solidFill>
                <a:latin typeface="Verdana"/>
                <a:ea typeface="SC_DUBAI"/>
              </a:rPr>
              <a:t> 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76360" y="2781360"/>
            <a:ext cx="6696000" cy="34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ffff00"/>
                </a:solidFill>
                <a:uFillTx/>
                <a:latin typeface="Verdana"/>
                <a:ea typeface="AL-Hor Outline"/>
              </a:rPr>
              <a:t>   ورشة عمل :</a:t>
            </a:r>
            <a:r>
              <a:rPr b="1" lang="ar-SA" sz="4400" spc="-1" strike="noStrike">
                <a:solidFill>
                  <a:srgbClr val="ffff00"/>
                </a:solidFill>
                <a:latin typeface="Verdana"/>
                <a:ea typeface="SC_DUBA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Verdana"/>
                <a:ea typeface="SC_DUBAI"/>
              </a:rPr>
              <a:t>   </a:t>
            </a:r>
            <a:r>
              <a:rPr b="1" lang="ar-SA" sz="3600" spc="-1" strike="noStrike">
                <a:solidFill>
                  <a:srgbClr val="ffff00"/>
                </a:solidFill>
                <a:latin typeface="Verdana"/>
                <a:cs typeface="SC_DUBAI"/>
              </a:rPr>
              <a:t>أخي عريف الطليعة 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Verdana"/>
                <a:ea typeface="SC_DUBAI"/>
              </a:rPr>
              <a:t>   </a:t>
            </a:r>
            <a:r>
              <a:rPr b="1" lang="ar-SA" sz="3200" spc="-1" strike="noStrike">
                <a:solidFill>
                  <a:srgbClr val="003300"/>
                </a:solidFill>
                <a:latin typeface="Verdana"/>
                <a:cs typeface="AdvertisingBold"/>
              </a:rPr>
              <a:t>قم أنت وزملائك بتسجيل أبرز صفات مهارات القائد</a:t>
            </a:r>
            <a:r>
              <a:rPr b="0" lang="ar-SA" sz="3200" spc="-1" strike="noStrike">
                <a:solidFill>
                  <a:srgbClr val="003300"/>
                </a:solidFill>
                <a:latin typeface="Verdana"/>
                <a:ea typeface="AdvertisingBold"/>
              </a:rPr>
              <a:t> </a:t>
            </a:r>
            <a:r>
              <a:rPr b="1" lang="ar-SA" sz="3200" spc="-1" strike="noStrike">
                <a:solidFill>
                  <a:srgbClr val="003300"/>
                </a:solidFill>
                <a:latin typeface="Verdana"/>
                <a:cs typeface="AdvertisingBold"/>
              </a:rPr>
              <a:t>الناجح</a:t>
            </a:r>
            <a:r>
              <a:rPr b="0" lang="ar-SA" sz="4400" spc="-1" strike="noStrike">
                <a:solidFill>
                  <a:srgbClr val="003300"/>
                </a:solidFill>
                <a:latin typeface="Verdana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77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77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799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Verdana"/>
                <a:cs typeface="SC_DUBAI"/>
              </a:rPr>
              <a:t>احتياجات</a:t>
            </a:r>
            <a:r>
              <a:rPr b="1" lang="ar-SA" sz="9600" spc="-1" strike="noStrike">
                <a:solidFill>
                  <a:srgbClr val="ffff00"/>
                </a:solidFill>
                <a:latin typeface="Verdana"/>
                <a:ea typeface="SC_DUBAI"/>
              </a:rPr>
              <a:t> قائد</a:t>
            </a:r>
            <a:r>
              <a:rPr b="0" lang="ar-SA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9600" spc="-1" strike="noStrike">
                <a:solidFill>
                  <a:srgbClr val="ffff00"/>
                </a:solidFill>
                <a:latin typeface="Verdana"/>
                <a:cs typeface="SC_DUBAI"/>
              </a:rPr>
              <a:t>الوحدة</a:t>
            </a:r>
            <a:r>
              <a:rPr b="0" lang="ar-SA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2421000"/>
            <a:ext cx="7489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2205000"/>
            <a:ext cx="8207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ar-SA" sz="2800" spc="-1" strike="noStrike">
                <a:solidFill>
                  <a:srgbClr val="66ff33"/>
                </a:solidFill>
                <a:latin typeface="Verdana"/>
                <a:cs typeface="PT Bold Heading"/>
              </a:rPr>
              <a:t>القدرة على الفهم والإدراك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ff33"/>
                </a:solidFill>
                <a:latin typeface="Verdana"/>
                <a:ea typeface="PT Bold Heading"/>
              </a:rPr>
              <a:t>    إقامة العلاقات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ff33"/>
                </a:solidFill>
                <a:latin typeface="Verdana"/>
                <a:ea typeface="PT Bold Heading"/>
              </a:rPr>
              <a:t>    المهارات والفنون الكشف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ff33"/>
                </a:solidFill>
                <a:latin typeface="Verdana"/>
                <a:ea typeface="PT Bold Heading"/>
              </a:rPr>
              <a:t>    التخطيط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ff33"/>
                </a:solidFill>
                <a:latin typeface="Verdana"/>
                <a:ea typeface="PT Bold Heading"/>
              </a:rPr>
              <a:t>    القدرة على التنفيذ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2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68360" y="476280"/>
            <a:ext cx="799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Verdana"/>
                <a:cs typeface="SC_DUBAI"/>
              </a:rPr>
              <a:t>كيف تشبع تلك الاحتياجات ؟</a:t>
            </a:r>
            <a:r>
              <a:rPr b="0" lang="ar-SA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2421000"/>
            <a:ext cx="7489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2205000"/>
            <a:ext cx="8207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ar-SA" sz="2800" spc="-1" strike="noStrike">
                <a:solidFill>
                  <a:srgbClr val="66ff33"/>
                </a:solidFill>
                <a:latin typeface="Verdana"/>
                <a:cs typeface="PT Bold Heading"/>
              </a:rPr>
              <a:t>التدريب الذاتي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ff33"/>
                </a:solidFill>
                <a:latin typeface="Verdana"/>
                <a:ea typeface="PT Bold Heading"/>
              </a:rPr>
              <a:t>    التدريب عن طريق مساعدة الآخرين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ff33"/>
                </a:solidFill>
                <a:latin typeface="Verdana"/>
                <a:ea typeface="PT Bold Heading"/>
              </a:rPr>
              <a:t>    التدريب غير الشكلي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ff33"/>
                </a:solidFill>
                <a:latin typeface="Verdana"/>
                <a:ea typeface="PT Bold Heading"/>
              </a:rPr>
              <a:t>    التدريب من خلال الأبحاث والأسئلة النظر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ff33"/>
                </a:solidFill>
                <a:latin typeface="Verdana"/>
                <a:ea typeface="PT Bold Heading"/>
              </a:rPr>
              <a:t>    التدريب من خلال الدورات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4:41:03Z</dcterms:created>
  <dc:creator>***</dc:creator>
  <dc:description/>
  <dc:language>en-US</dc:language>
  <cp:lastModifiedBy>dell</cp:lastModifiedBy>
  <dcterms:modified xsi:type="dcterms:W3CDTF">2006-07-25T13:56:00Z</dcterms:modified>
  <cp:revision>19</cp:revision>
  <dc:subject/>
  <dc:title>الشريحة 1</dc:title>
</cp:coreProperties>
</file>