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8DB-2074-476D-8C03-7096CD8B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C9B9-3D93-44F4-B20E-A33F228D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E38-DE2C-4E98-A7BF-7C426B18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BB3-25B9-408E-952F-D48C7FA4C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CA36-5CF2-428B-8770-7AEFC6BA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77B8-E396-4356-BC61-4DE8BD1D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78A9-F935-4E14-ACD4-099FF905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F552-3E95-4457-B1AF-48ED8445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FCA0-B4A9-43B6-AD13-15D8BA65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6BF5-05A6-4EA8-B678-4BC160E5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DB03-37F6-4BF8-858A-B801C149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663-F281-4960-B3B5-410C61E9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9519-A952-48C5-960C-669E5D1DD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5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74920" y="2707560"/>
            <a:ext cx="44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9900"/>
                </a:solidFill>
                <a:latin typeface="Arial"/>
                <a:cs typeface="Bold Italic Art"/>
              </a:rPr>
              <a:t>قصة الحكيم والكوب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  <a:ea typeface="Bold Italic Ar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427640" y="3860640"/>
            <a:ext cx="1606320" cy="1889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flipH="1">
            <a:off x="2195280" y="3773520"/>
            <a:ext cx="13906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19040"/>
            <a:ext cx="862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كان هناك رجل يريد أن يطور ذاته ويحسن مستقبله 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وكان يسأل عن هذا الأمر كثيراً 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وفي يوم من الأيام أخبروه أنه يوجد في مكان بعيد حكيم ل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خبرات وتجارب في الحياة يستطيع أن يفيده في تطوير ذات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42920" y="3933720"/>
            <a:ext cx="1316160" cy="2087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276720" y="4173480"/>
            <a:ext cx="4680000" cy="19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98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حجز الرجل تذاكر السفر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وما كان فيه حجز .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 </a:t>
            </a: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وكان على الانتظار</a:t>
            </a: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.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وبعد مدة تأكد حجزه وسافر..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2208240" y="1483560"/>
            <a:ext cx="13803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khbar MT"/>
              </a:rPr>
              <a:t>عندما وصل الرجل لبيت الحكيم طرق الباب فخرج الخاد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khbar MT"/>
              </a:rPr>
              <a:t>وفتح الباب 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khbar MT"/>
              </a:rPr>
              <a:t>فقال له الرجل أنه أتى من مكان بعيد ليلتقي مع الحكيم 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khbar MT"/>
              </a:rPr>
              <a:t>فأدخله  لغرفة المجلس ودخل لنداء الحكيم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622920" y="4405320"/>
            <a:ext cx="1405080" cy="1760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042920" y="3933720"/>
            <a:ext cx="13161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459720"/>
            <a:ext cx="82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تأخر الحكيم على الرجل ثلاث ساعات 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وبعدها خرج له ورحب به ، أخذ الرجل ف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ذكر قصته للحكيم( وانه آخذ دورات كثيرة عند صلاح الراشد , ونجيب الرفاعي .. وفرجينا سارتير وانه سافر الى مصر والهند ولبنان لاخذ العلم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124000" y="4510080"/>
            <a:ext cx="1551240" cy="1943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0920" y="1268280"/>
            <a:ext cx="1231920" cy="1231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042920" y="4221000"/>
            <a:ext cx="1316160" cy="2087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185280" y="4916520"/>
            <a:ext cx="648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وفجأة قاطعه الحكيم وأمر الخادم بأن يحضر الشا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أستغرب الرجل من هذا التصرف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ولكنه أكمل حديثه بكل حما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053360" y="691560"/>
            <a:ext cx="11444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وفي أثناء ذلك أعطى الحكيم الرجل كأس فار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فمسك الرجل الكأس بيده وأكمل قصته 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فأخذ الحكيم يصب الشاي من البراد في كأس الرج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حتى امتلئ الكأس تماماً وبدأ يفيض الشاي على الرج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1640" y="4842360"/>
            <a:ext cx="9385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وهنا فقد الرجل أعصابه وقال له : لماذا تفعل ذلك معي 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لم تستمع مني بطريق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ناسبة وعندما أردت أن تصب الشاي لي لم تفعل ذل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بطريقة مناسب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flipH="1">
            <a:off x="-360" y="4581360"/>
            <a:ext cx="1606680" cy="1889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851280" y="3068640"/>
            <a:ext cx="205416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480" y="621000"/>
            <a:ext cx="953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فأجاب الحكيم : كنت أريد أن أقول لك أن الكأ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ت ممتلئة مهم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ضعت بها أشياء مفيدة ومناسبة فإنها سوف تفي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وتسكب خارج الكأس ،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3932640"/>
            <a:ext cx="7736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كذلك النفس البشرية ، فإذا أتيت إلي هنا وأنت مليء بالأفكار والعقلية القدي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مهم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قلت لك من أمور مفيدة ومعلومات جيدة فلن تغيير شيئ في حياتك .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9280" y="2421000"/>
            <a:ext cx="1698840" cy="1436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79280" y="4221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20:39:42Z</dcterms:created>
  <dc:creator>khkh</dc:creator>
  <dc:description/>
  <dc:language>en-US</dc:language>
  <cp:lastModifiedBy>khkh</cp:lastModifiedBy>
  <dcterms:modified xsi:type="dcterms:W3CDTF">2007-08-14T20:40:10Z</dcterms:modified>
  <cp:revision>1</cp:revision>
  <dc:subject/>
  <dc:title>الشريحة 1</dc:title>
</cp:coreProperties>
</file>