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C0EA-B942-4E51-AA63-F14662DE228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plucking it out, the eagle will wait for a new beak to grow back and then it will pluck out its’ tal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ts’ new talons grow back, the eagle starts plucking its’ old-aged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fter five months, the eagle takes its’ famous renewal flight and lives for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 more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renewal nee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times, we have to retreat for awhile and start a renew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ntinue taking successful flights, we sometimes need to get rid of memories, habits and other past tra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freed from past burdens, can we take advantage of the valuable outcomes from a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gle has the longest life-span of its’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its’ 40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’ long and flexible talons can no longer grab prey which serve as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’ long and sharp beak becomes b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’ old-aged and heavy wings, due to their thick feathers, become stuck to its’ chest and make it difficult to 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requires that the eagle fly to a mountain top and sit on its’ n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the eagle knocks its’ beak against a rock until it plucks i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68E-EBFE-45A4-901A-B8305E84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F4F-6627-49DD-B739-2B5812B1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00F8-72FA-49AE-BFE5-ACE4FA3F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C727-5AB2-425C-A742-FB425C99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D2E-81E3-49AA-A551-2D282D5D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5EA-21D4-4662-84B2-B161118A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30C2-9080-4C1D-B261-CE4A0036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92EC-D66D-4CD7-AEEC-A375672B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8CB2-CC60-4A4D-A7B6-4706C4C6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5729-13BC-45B4-BC64-F2D80241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0FEC-EF62-4574-A47E-79BF51BE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93D-4AF1-4F3E-B839-EAAB7759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7E5F-98E1-49CC-8860-5D1781A437C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18960"/>
            <a:ext cx="9145440" cy="6855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قصة الصق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0440" y="125280"/>
            <a:ext cx="8801280" cy="13737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عند الانتهاء من كسر مقدمة المنقار</a:t>
            </a:r>
            <a:r>
              <a:rPr b="1" lang="ar-SA" sz="28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ينتظر الصقر حتى ينمو المنقار من جديد</a:t>
            </a:r>
            <a:r>
              <a:rPr b="1" lang="ar-SA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ثم يقوم بعد ذلك بكسر مخالبه أيضا</a:t>
            </a:r>
            <a:r>
              <a:rPr b="1" lang="ar-SA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7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75"/>
                            </p:stCondLst>
                            <p:childTnLst>
                              <p:par>
                                <p:cTn id="93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75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150"/>
                            </p:stCondLst>
                            <p:childTnLst>
                              <p:par>
                                <p:cTn id="97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75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725"/>
                            </p:stCondLst>
                            <p:childTnLst>
                              <p:par>
                                <p:cTn id="101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75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440" y="4984920"/>
            <a:ext cx="8839440" cy="1068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بعد أن تنمو مخالب الصقر، يبدأ في نتف ريشه القد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7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75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460480" y="5881680"/>
            <a:ext cx="3999960" cy="8251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Arial"/>
                <a:ea typeface="Arial"/>
              </a:rPr>
              <a:t>30</a:t>
            </a:r>
            <a:r>
              <a:rPr b="1" lang="ar-SA" sz="4800" spc="-1" strike="noStrike">
                <a:solidFill>
                  <a:srgbClr val="ffff00"/>
                </a:solidFill>
                <a:latin typeface="Arial"/>
                <a:ea typeface="Arial"/>
              </a:rPr>
              <a:t> سنة أخر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1360" y="125280"/>
            <a:ext cx="8915400" cy="155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بعد خمسة أشهر يطير الصقر في رحلته الجديد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كأنه ولد من جديد ... ويعيش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27240" y="7786800"/>
            <a:ext cx="4446720" cy="8251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30 more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years</a:t>
            </a: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75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350"/>
                            </p:stCondLst>
                            <p:childTnLst>
                              <p:par>
                                <p:cTn id="123" nodeType="afterEffect" fill="hold" presetClass="entr" presetID="23" presetSubtype="32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7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7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525"/>
                            </p:stCondLst>
                            <p:childTnLst>
                              <p:par>
                                <p:cTn id="128" nodeType="afterEffect" fill="hold" presetClass="entr" presetID="23" presetSubtype="32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00200" y="1371600"/>
            <a:ext cx="5867280" cy="11912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كثير من الأحيان فإننا نحتاج الى الخضوع للتغيير إذا كنا نريد التكيف مع واقعنا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1" lang="pt-BR" sz="2400" spc="-1" strike="noStrike">
                <a:solidFill>
                  <a:srgbClr val="ccecff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11200" y="34920"/>
            <a:ext cx="48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Arial"/>
              </a:rPr>
              <a:t>لماذا تحتاج للتغيير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622600"/>
            <a:ext cx="7925040" cy="11912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أعلم أن عملية التغيير قد تضطرنا الى أن نتخلص من ذكرياتنا القديمة</a:t>
            </a:r>
            <a:r>
              <a:rPr b="1" lang="ar-SA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وعاداتنا المتأصلة وتقاليدنا الب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511520"/>
            <a:ext cx="7238880" cy="8254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ن تحررنا من أعباء الماضي هو وحده الكفيل بالاستفادة من حاضرنا والتخطيط لمستقبلن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7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350"/>
                            </p:stCondLst>
                            <p:childTnLst>
                              <p:par>
                                <p:cTn id="140" nodeType="afterEffect" fill="hold" presetClass="entr" presetID="4" presetSubtype="3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885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35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5514840"/>
            <a:ext cx="8893080" cy="6426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الصقر هو أطول أنواع الطيور عمر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914400"/>
            <a:ext cx="9144000" cy="11912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ولكن حتى يعيش الصقر لهذا العمر ، عليه اتخاذ قرارا صعب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152280"/>
            <a:ext cx="6674040" cy="6426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Arial"/>
              </a:rPr>
              <a:t>يعيش الصقر حتى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Arial"/>
              </a:rPr>
              <a:t>70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Arial"/>
              </a:rPr>
              <a:t> عام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75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85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7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4965840"/>
            <a:ext cx="8709120" cy="8254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تعجز أظافره التي كانت تتميز بالمرونة عن الامساك بالفريسة وهي مصدر غذائ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528480" y="189000"/>
            <a:ext cx="4511880" cy="703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Arial"/>
              </a:rPr>
              <a:t>عندما يبلغ 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  <a:ea typeface="Arial"/>
              </a:rPr>
              <a:t>40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  <a:ea typeface="Arial"/>
              </a:rPr>
              <a:t> عا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75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625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75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152280"/>
            <a:ext cx="8839440" cy="11912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يصبح منقاره القوي الحاد معقوفا شديد الانحن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9520" y="149400"/>
            <a:ext cx="8763120" cy="11912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بسبب تقدمه في العمر ، تصبح أجنحته ثقيلة بسبب ثقل وزن ريشها وتلتصق بالصدر ويصبح الطيران في غاية الصعوبة بالنسبة 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7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5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75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299880" y="-85680"/>
            <a:ext cx="9743760" cy="7029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187960"/>
            <a:ext cx="9258480" cy="11912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هذه الظروف تضع الصقر أمام خيارين</a:t>
            </a:r>
            <a:r>
              <a:rPr b="1" lang="ar-SA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ما أن يستسلم للموت أو أن يخضع نفسه لعملية تغيير مؤلمة تستمر </a:t>
            </a:r>
            <a:r>
              <a:rPr b="1" lang="ar-SA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150</a:t>
            </a:r>
            <a:r>
              <a:rPr b="1" lang="ar-SA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يوم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5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75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175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75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5240" y="5022720"/>
            <a:ext cx="8807400" cy="947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تتطلب العملية أن يقوم الصقر بالتحليق الى قمة الجبل الى حيث عش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2280" y="125280"/>
            <a:ext cx="8839440" cy="947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يقوم الصقر بضرب منقاره على صخرة بشدة</a:t>
            </a:r>
            <a:r>
              <a:rPr b="1" lang="ar-SA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حتى تنكسر مقدمته المعقو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75"/>
                            </p:stCondLst>
                            <p:childTnLst>
                              <p:par>
                                <p:cTn id="7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75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325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75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6:18:27Z</dcterms:created>
  <dc:creator>Origin Brasil</dc:creator>
  <dc:description/>
  <dc:language>en-US</dc:language>
  <cp:lastModifiedBy>Galia</cp:lastModifiedBy>
  <cp:lastPrinted>2002-10-10T12:12:05Z</cp:lastPrinted>
  <dcterms:modified xsi:type="dcterms:W3CDTF">2008-08-18T18:08:33Z</dcterms:modified>
  <cp:revision>80</cp:revision>
  <dc:subject/>
  <dc:title>Slide sem título </dc:title>
</cp:coreProperties>
</file>