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1.gif" ContentType="image/gif"/>
  <Override PartName="/ppt/media/Compagnie%20Cr%C3%A9ole_c'a%20fait%20rire%20les%20oiseaux.wav" ContentType="audio/x-wav"/>
  <Override PartName="/ppt/media/image14.png" ContentType="image/png"/>
  <Override PartName="/ppt/media/image10.jpeg" ContentType="image/jpeg"/>
  <Override PartName="/ppt/media/image2.gif" ContentType="image/gif"/>
  <Override PartName="/ppt/media/image6.gif" ContentType="image/gif"/>
  <Override PartName="/ppt/media/image17.wmf" ContentType="image/x-wmf"/>
  <Override PartName="/ppt/media/image12.gif" ContentType="image/gif"/>
  <Override PartName="/ppt/media/image7.gif" ContentType="image/gif"/>
  <Override PartName="/ppt/media/image22.gif" ContentType="image/gif"/>
  <Override PartName="/ppt/media/image8.wmf" ContentType="image/x-wm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15.wmf" ContentType="image/x-wmf"/>
  <Override PartName="/ppt/media/image5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ar-SA" sz="1200" spc="-1" strike="noStrike">
                <a:solidFill>
                  <a:srgbClr val="33669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105219-29E0-469F-ADE8-77B9B4D9E0C1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0BEDD8-CC55-4C40-9406-354461C0E293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A6C433-AD4C-45F1-A07F-29B30A26754F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F3684-B918-4FAD-A256-BE009C43756E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9DAEE0-54DF-4C20-81EB-BBDA439586F2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0C2A40-8296-4A9B-B169-661F978B83FB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47D614-C2E0-41D3-BFC6-8A35F75246BD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87D267-BA74-4204-81B4-3674624584DF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5E90DA-4231-4ACD-BF33-3CB64490D5F1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183C7D-D958-4D38-9A5A-5D3C2D52E117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1FEB53-6C2C-4351-BCF8-3DC719983FFB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E3C2C-A69C-4105-8331-0ED0C0B9CD63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DC6627-D82F-408A-B2E9-278FCE3BDD03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FF1E1E-6125-43CC-85D8-AFE7B53D1D26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7FCA2-C51D-4B94-87A9-1DF6FA5DC638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FD4B5-6ED1-409A-AE2A-8859B9D381D3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E202B6-2491-43E5-83CD-6A05700D9AD0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D7E98B-5078-4299-AF11-67CED6D974BE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809FFF-B44B-454E-95A9-067B1D30F173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0DDA7-540A-4C09-955F-0F10348DEF65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61BB43-0690-430B-90EA-0A74A1637821}" type="slidenum">
              <a:rPr b="0" lang="ar-SA" sz="12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Compagnie%20Cr&#233;ole_c&apos;a%20fait%20rire%20les%20oiseaux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8.wm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92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omic Sans MS"/>
                <a:cs typeface="Arial"/>
              </a:rPr>
              <a:t>العاطــل عن العم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2192400" cy="193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754200" y="4221000"/>
            <a:ext cx="7705440" cy="36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300720" y="6021360"/>
            <a:ext cx="209556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68360" y="6093000"/>
            <a:ext cx="942840" cy="34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  <p:sndAc>
      <p:stSnd>
        <p:snd r:embed="rId6" name="Compagnie%20Cr%C3%A9ole_c'a%20fait%20rire%20les%20oiseaux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     و بعد فترة قصيرة من الزمن اشترى دراجة بخارية ومن ثم شاحنة. في النهاية يؤسس شركة محترم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372360" y="6021360"/>
            <a:ext cx="1800000" cy="238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80000" y="1268280"/>
            <a:ext cx="1584000" cy="1055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وبعد خمس سنو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2997360"/>
            <a:ext cx="81723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  أصبح مالك أكبر مخزن للمواد الغذائية في     الولايات المتحدة الامريكي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419640" y="439560"/>
            <a:ext cx="252072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56500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3920" indent="0" algn="r" rtl="1">
              <a:lnSpc>
                <a:spcPct val="100000"/>
              </a:lnSpc>
              <a:buNone/>
              <a:tabLst>
                <a:tab algn="l" pos="0"/>
                <a:tab algn="l" pos="16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200" spc="-1" strike="noStrike">
                <a:solidFill>
                  <a:srgbClr val="3333cc"/>
                </a:solidFill>
                <a:latin typeface="Arial"/>
                <a:ea typeface="Arial"/>
              </a:rPr>
              <a:t> بدأ يفكر بالمستقبل وفكر بان يؤمن الشركة لدى أكبر شركات التأمين. ناقش مع مسؤل التأمين حول القضية، وفي نهاية المناقشة سأله موظف التأمين عن عنوان بريده الالكتروني.</a:t>
            </a:r>
            <a:br>
              <a:rPr sz="4200"/>
            </a:br>
            <a:r>
              <a:rPr b="1" lang="ar-SA" sz="4200" spc="-1" strike="noStrike">
                <a:solidFill>
                  <a:srgbClr val="3333cc"/>
                </a:solidFill>
                <a:latin typeface="Arial"/>
                <a:cs typeface="Arial"/>
              </a:rPr>
              <a:t>للاسف ليس لدي بريد الكتروني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305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ar-SA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قال موظف التأمين مستغربا: إنه أمر لا يصدق. لقد بنيت   أكبر امبراطورية في 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 سنوات وليس لديك بريدا الكترونيا،  تصور ماذا كان سيحدث لو كان لديك بريدا الكترونيا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520" y="1627920"/>
            <a:ext cx="8568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ar-SA" sz="4300" spc="-1" strike="noStrike">
                <a:solidFill>
                  <a:srgbClr val="ee0000"/>
                </a:solidFill>
                <a:latin typeface="Arial"/>
                <a:cs typeface="Arial"/>
              </a:rPr>
              <a:t>للاسف ليس لدي بريد الكتروني!</a:t>
            </a:r>
            <a:r>
              <a:rPr b="1" lang="en-US" sz="4300" spc="-1" strike="noStrike">
                <a:solidFill>
                  <a:srgbClr val="ee0000"/>
                </a:solidFill>
                <a:latin typeface="Arial"/>
                <a:ea typeface="Aria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1241280" cy="1776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611280" y="3933720"/>
            <a:ext cx="7846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5400" spc="-1" strike="noStrike">
                <a:solidFill>
                  <a:srgbClr val="ee0000"/>
                </a:solidFill>
                <a:latin typeface="Arial"/>
                <a:cs typeface="Arial"/>
              </a:rPr>
              <a:t>كنت سانظف المراحيض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5400" spc="-1" strike="noStrike">
                <a:solidFill>
                  <a:srgbClr val="3333cc"/>
                </a:solidFill>
                <a:latin typeface="Arial"/>
                <a:cs typeface="Arial"/>
              </a:rPr>
              <a:t>في مايكروسوفت</a:t>
            </a:r>
            <a:r>
              <a:rPr b="1" lang="ar-SA" sz="5400" spc="-1" strike="noStrike">
                <a:solidFill>
                  <a:srgbClr val="3333cc"/>
                </a:solidFill>
                <a:latin typeface="Arial"/>
                <a:ea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10040" y="2660760"/>
            <a:ext cx="3649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ee0000"/>
                </a:solidFill>
                <a:latin typeface="Arial"/>
                <a:cs typeface="Arial"/>
              </a:rPr>
              <a:t>يجيبه الرجل:</a:t>
            </a:r>
            <a:r>
              <a:rPr b="1" lang="ar-SA" sz="43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55640" y="2997360"/>
            <a:ext cx="4103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e0000"/>
                </a:solidFill>
                <a:latin typeface="Arial"/>
                <a:cs typeface="Arial"/>
              </a:rPr>
              <a:t>النتيجة الاولى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635280" y="765000"/>
            <a:ext cx="2232000" cy="162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57960" y="4292640"/>
            <a:ext cx="3948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3333cc"/>
                </a:solidFill>
                <a:latin typeface="Arial"/>
                <a:cs typeface="Arial"/>
              </a:rPr>
              <a:t>بدون انترنيت!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57280" y="4292640"/>
            <a:ext cx="6479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3333cc"/>
                </a:solidFill>
                <a:latin typeface="Arial"/>
                <a:cs typeface="Arial"/>
              </a:rPr>
              <a:t>ممكن أن يعيش الانسان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720" y="2852280"/>
            <a:ext cx="4464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4400" spc="-1" strike="noStrike">
                <a:solidFill>
                  <a:srgbClr val="ee0000"/>
                </a:solidFill>
                <a:latin typeface="Arial"/>
                <a:cs typeface="Arial"/>
              </a:rPr>
              <a:t>النتيجة الثاني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2147760" cy="1984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076640"/>
            <a:ext cx="763272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ee0000"/>
                </a:solidFill>
                <a:latin typeface="Arial"/>
                <a:cs typeface="Arial"/>
              </a:rPr>
              <a:t>إن لم يكن لديك كومبيوتر وتعمل كثيرا، من المحتمل أن تصبح مليونيرا!</a:t>
            </a:r>
            <a:r>
              <a:rPr b="1" lang="en-US" sz="4300" spc="-1" strike="noStrike">
                <a:solidFill>
                  <a:srgbClr val="ee0000"/>
                </a:solidFill>
                <a:latin typeface="Arial"/>
                <a:ea typeface="Aria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e0000"/>
                </a:solidFill>
                <a:latin typeface="Arial"/>
                <a:cs typeface="Arial"/>
              </a:rPr>
              <a:t>النتيجة الثالث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893960" cy="2119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3665520"/>
            <a:ext cx="820908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ee0000"/>
                </a:solidFill>
                <a:latin typeface="Arial"/>
                <a:ea typeface="Arial"/>
              </a:rPr>
              <a:t>  هذه القصة استلمتها عن طريق البريد الالكتروني، لذا فإنك أقرب إلى تنظيف المراحيض من أن تصبح مليونيرا!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877080" y="9079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3672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omic Sans MS"/>
                <a:cs typeface="Arial"/>
              </a:rPr>
              <a:t>ومع ذل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3047760" cy="2114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85400" y="4653000"/>
            <a:ext cx="64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Comic Sans MS"/>
                <a:cs typeface="Arial"/>
              </a:rPr>
              <a:t>أتمنى لك يوما ســعيدا</a:t>
            </a:r>
            <a:r>
              <a:rPr b="1" lang="ar-SA" sz="4400" spc="-1" strike="noStrike">
                <a:solidFill>
                  <a:srgbClr val="3333cc"/>
                </a:solidFill>
                <a:latin typeface="Comic Sans MS"/>
                <a:ea typeface="Arial"/>
              </a:rPr>
              <a:t> </a:t>
            </a:r>
            <a:r>
              <a:rPr b="1" lang="ar-SA" sz="4400" spc="-1" strike="noStrike">
                <a:solidFill>
                  <a:srgbClr val="3333cc"/>
                </a:solidFill>
                <a:latin typeface="Comic Sans MS"/>
                <a:ea typeface="Arial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77738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..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يتقدم أحد العاطلين عن العمل لشغل وظيفة تنظيف المراحيض في مايكروسوف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3640" y="3141360"/>
            <a:ext cx="2232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omic Sans MS"/>
                <a:cs typeface="Arial"/>
              </a:rPr>
              <a:t>ملاحظة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635280" y="620640"/>
            <a:ext cx="1846440" cy="184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1832040" cy="712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2435040" cy="4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005360"/>
            <a:ext cx="83883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ar-SA" sz="4300" spc="-1" strike="noStrike">
                <a:solidFill>
                  <a:srgbClr val="3333cc"/>
                </a:solidFill>
                <a:latin typeface="Arial"/>
                <a:cs typeface="Arial"/>
              </a:rPr>
              <a:t>لا تعيد إرسال هذه الرساله إلي ثانية، أنا ذاهب لشراء الفراولـــــة!....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08000" y="47242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20000" y="61657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Esc to Ex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9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950"/>
                            </p:stCondLst>
                            <p:childTnLst>
                              <p:par>
                                <p:cTn id="1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950"/>
                            </p:stCondLst>
                            <p:childTnLst>
                              <p:par>
                                <p:cTn id="134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9898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دعاه مدير القسم للمقاب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2472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300" spc="-1" strike="noStrike">
                <a:solidFill>
                  <a:srgbClr val="3333cc"/>
                </a:solidFill>
                <a:latin typeface="Arial"/>
                <a:cs typeface="Arial"/>
              </a:rPr>
              <a:t>في نهاية المطاف يقول له بأنك قد قبلت في الوظيفة، الرجاء أن تترك لنا عنوان بريدك</a:t>
            </a:r>
            <a:r>
              <a:rPr b="1" lang="sv-SE" sz="43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ar-SA" sz="4300" spc="-1" strike="noStrike">
                <a:solidFill>
                  <a:srgbClr val="3333cc"/>
                </a:solidFill>
                <a:latin typeface="Arial"/>
                <a:cs typeface="Arial"/>
              </a:rPr>
              <a:t>الالكتروني لكي نرسل لك عقد العم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635280" y="731880"/>
            <a:ext cx="1728720" cy="149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141360"/>
            <a:ext cx="8134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الشخص العاطل عن العمل قال بنوع من الخجل بأنه ليس لديه بريد الكتروني ولايملك حتى كومبيوتر في البيت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9200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Arial"/>
                <a:cs typeface="Arial"/>
              </a:rPr>
              <a:t>يرد عليه المدير: </a:t>
            </a:r>
            <a:br>
              <a:rPr sz="4000"/>
            </a:br>
            <a:r>
              <a:rPr b="1" lang="ar-SA" sz="4000" spc="-1" strike="noStrike">
                <a:solidFill>
                  <a:srgbClr val="3333cc"/>
                </a:solidFill>
                <a:latin typeface="Arial"/>
                <a:cs typeface="Arial"/>
              </a:rPr>
              <a:t>إن لم يكن لديك بريد الكتروني فهذا معناه بأنك لست موجودا. وبما انك لست موجودا معناه بانك لاتستطيع العمل عندنا</a:t>
            </a:r>
            <a:r>
              <a:rPr b="1" lang="ar-SA" sz="40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635280" y="69228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848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يخرج الرجل مستاء. في طريقه يشتري بكل ما يملك (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10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 دولارات) كغم واحد من الفراولة. ثم يبدأ بطرق الابواب ليبيعها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580000" y="5805360"/>
            <a:ext cx="1832040" cy="712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993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في خلال ساعتين يربح 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40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 دولارا، يكرر العملية لثلاث مرات في ذلك اليوم</a:t>
            </a:r>
            <a:r>
              <a:rPr b="0" lang="ar-SA" sz="44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1832040" cy="712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3184560"/>
            <a:ext cx="7777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v-SE" sz="44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ar-SA" sz="4400" spc="-1" strike="noStrike">
                <a:solidFill>
                  <a:srgbClr val="3333cc"/>
                </a:solidFill>
                <a:latin typeface="Arial"/>
                <a:cs typeface="Arial"/>
              </a:rPr>
              <a:t>يدرك الرجل بان العملية ليست بهذه الصعوبة. في اليوم الثاني يذهب من الصباح الباكر ليشتري اربعة أضعاف الكمية من الفراو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987640" y="765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3888000" cy="2149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8:18:23Z</dcterms:created>
  <dc:creator>Lena</dc:creator>
  <dc:description>do češtiny bihal</dc:description>
  <dc:language>en-US</dc:language>
  <cp:lastModifiedBy>oishage</cp:lastModifiedBy>
  <dcterms:modified xsi:type="dcterms:W3CDTF">2009-11-15T12:43:38Z</dcterms:modified>
  <cp:revision>4</cp:revision>
  <dc:subject/>
  <dc:title>Şomerul….</dc:title>
</cp:coreProperties>
</file>