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E5617-3675-42DD-BC67-A743F57A1E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3E765-9022-4CAF-B22F-150F9646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23D5F-D025-4DE8-8688-E05F8B80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DA96C-8597-4525-92F0-5F95242B9B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B0D193-998F-4594-BA36-4296DE631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5C76F5-37B8-464F-9238-7E4921655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387170-4EE8-4F6E-8090-57B52ACAE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127159-BEA1-465A-BADB-3CB666E3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7BE9EF-AD23-4996-A010-F74520827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4D0392-22C5-4ED3-BB4D-ABC4730DB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44D4A0-7E65-4FED-BA15-1D64B549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00734-65D5-4935-9A65-9095311A2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C836D1-D516-4156-B7FA-E0BEFEF9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C0379B-0B12-43C5-BB04-58ECDC66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42B47F-5921-4BCA-B581-58F8A4C22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1AEB1F-3C41-4474-8700-CF0AE41B0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37536D-BC43-4D49-9288-19D555A2C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C877B-8FF8-4AB0-8A9E-0F0DAEB97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69A40-EEBE-465B-9F94-B162CDC51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015A4-FDE6-4991-B4B3-C30E246C3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26137-DF66-4E23-B2ED-80AB188D6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8D7A4-09C2-4511-8AFF-36FE726FA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05B8B-40A1-4A8B-88B6-AA88F89A6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64E59-BDE0-43A6-992D-3199B35D2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05632-5253-4351-884E-8AAA688E79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1C7E4-0D73-4D99-A047-4555964C0E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loneranger2008.files.wordpress.com/2008/05/lightning-gallery-18.jpg&amp;imgrefurl=http://loneranger2008.wordpress.com/2008/05/10/when-lightning-strikes-carrying-a-concealed-weapon-247/&amp;h=320&amp;w=400&amp;sz=13&amp;tbnid=t_NmS3Ch2YoJ::&amp;tbnh=99&amp;tbnw=124&amp;prev=/images%3Fq%3Dlightning&amp;hl=en&amp;usg=__VsSgd1gFFAqeuo8R1y5-V1x4n5o=&amp;sa=X&amp;oi=image_result&amp;resnum=5&amp;ct=image&amp;cd=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om.pk/imgres?imgurl=http://images.clipartof.com/small/12096-Clay-Sculpture-Of-Girl-Screaming-With-Hair-Standing-Up.jpg&amp;imgrefurl=http://www.clipartof.com/details/clipart/12096.html&amp;usg=__VNQq2bKuPzWuB78cxOQp308Prog=&amp;h=450&amp;w=344&amp;sz=95&amp;hl=en&amp;start=1&amp;tbnid=f4wD-Aii9cmAHM:&amp;tbnh=127&amp;tbnw=97&amp;prev=/images%3Fq%3Dstanding%2Bhair%2Bend%2Bup%26gbv%3D2%26hl%3Den%26sa%3D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google.com.pk/imgres?imgurl=http://www.lightninglady.com/photos/LLLuckyTree.jpg&amp;imgrefurl=http://www.lightninglady.com/gallery.htm&amp;usg=__ewVS6Wn89PPt5Md1ADqZxt0LCd0=&amp;h=700&amp;w=540&amp;sz=195&amp;hl=en&amp;start=14&amp;tbnid=Z0vFRGhoLhblcM:&amp;tbnh=140&amp;tbnw=108&amp;prev=/images%3Fq%3Dstanding%2Bunder%2Ba%2Btree%2Bduring%2Blightning%26gbv%3D2%26hl%3Den%26sa%3D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loneranger2008.files.wordpress.com/2008/05/lightning-gallery-18.jpg&amp;imgrefurl=http://loneranger2008.wordpress.com/2008/05/10/when-lightning-strikes-carrying-a-concealed-weapon-247/&amp;h=320&amp;w=400&amp;sz=13&amp;tbnid=t_NmS3Ch2YoJ::&amp;tbnh=99&amp;tbnw=124&amp;prev=/images%3Fq%3Dlightning&amp;hl=en&amp;usg=__VsSgd1gFFAqeuo8R1y5-V1x4n5o=&amp;sa=X&amp;oi=image_result&amp;resnum=5&amp;ct=image&amp;cd=1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Emergency%20Response%20Plan.ppt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.pk/imgres?imgurl=http://i.telegraph.co.uk/telegraph/multimedia/archive/01455/lightning-tree_1455478c.jpg&amp;imgrefurl=http://www.telegraph.co.uk/news/newstopics/howaboutthat/5966280/Dog-walker-bursts-into-flames-after-being-struck-by-lightning.html&amp;usg=__kXJupaZCiXZqbZ64byr5vXALAOc=&amp;h=288&amp;w=460&amp;sz=40&amp;hl=en&amp;start=8&amp;tbnid=eFKzf76fcRAFoM:&amp;tbnh=80&amp;tbnw=128&amp;prev=/images%3Fq%3Dstanding%2Bunder%2Ba%2Btree%2Bduring%2Blightning%26gbv%3D2%26hl%3Den%26sa%3D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com.pk/imgres?imgurl=http://www.erh.noaa.gov/er/lwx/lightning/tree-after-lightning.jpg&amp;imgrefurl=http://www.erh.noaa.gov/er/lwx/lightning/va-lightning.htm&amp;usg=__RF9TabC536jj5NsmDor2U7HIKis=&amp;h=600&amp;w=400&amp;sz=93&amp;hl=en&amp;start=17&amp;tbnid=IDEcTLGGpmwqlM:&amp;tbnh=135&amp;tbnw=90&amp;prev=/images%3Fq%3Dstanding%2Bunder%2Ba%2Btree%2Bduring%2Blightning%26gbv%3D2%26hl%3Den%26sa%3DG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ERSONAL SAFETY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ur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           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LIGHTNING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80520" y="457200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olamandalam AXA Risk Services Lt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enna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66ff"/>
                </a:solidFill>
                <a:latin typeface="Times New Roman"/>
              </a:rPr>
              <a:t>Pillai_sreejith@hotmail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" descr="http://loneranger2008.wordpress.com/2008/05/10/when-lightning-strikes-carrying-a-concealed-weapon-247/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1428840"/>
            <a:ext cx="3504960" cy="28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ightning Myth - 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are completely safe inside a metal bodied car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completely true! So long as you jump out or stay inside, you are safe. DONOT STEP OUT! Safest thing to do is not to get into any vehic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UNSAFE AREA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mall structures including huts &amp; rain shelt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earby metallic objects like fences, gates, instrumentation and electrical equipment, wires, and power pol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so---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VOI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solated trees,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VOI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ter,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VOI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pen fields,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VOI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using the (hard wired) telephone and headse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Avoid being in or near high places (tanks / towers / stacks) or open fields or under isolated trees, under communication towers,flagpoles, metal fences, riv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UNSAFE AREA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When inside a building, avoid use of the telephone, taking a shower, washing your hands, electrical wiring, cable TV wiring, plumbing, being near windows &amp; balcon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king lots / Tennis Courts / Golf Courses / athletic fields / tents &amp; temporary struc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ear clothes lines, wire fences, overhead wires and rail-road trac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AFE AREA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44197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ge metal-framed &amp; enclosed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ightning protected build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y enclosed metal vehicles, with rolled-up windows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(avoid contact with metal surfaces outside or inside the vehicl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ty Street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ielded by nearby build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1640" y="1219320"/>
            <a:ext cx="4343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derground shelters such as tunnels, cav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ek depressed areas / dense wood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o not go out-of-doors or remain out, unless it is necessa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IGHTNING SAFETY CROUC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f hopelessly isolated from shelter during close-in lightning, adopt a low crouching position with feet together and hands on ears (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rouching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intain lowest possible height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5638680"/>
            <a:ext cx="624816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ightning Safety Crouc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FEST POSITION DURING THUNDERSTORMS IN THE CROUCHING POSITION!!! (when no shelters are available, in open area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air Rising!!!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4572000"/>
            <a:ext cx="8686800" cy="18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Moro Rock in California‘s National Park,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two people step aside, another person occupied this spot and was struck and killed by lightning. (NOAA)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/NWS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21200" y="990720"/>
            <a:ext cx="2788920" cy="36525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189800" y="106668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 end is an indication that lightning is about to stri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ightning Safety Rating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order of descending safety where 10 is the b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ghtning Certified Safe Shelter, Rating = (1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ghtning Protected Building, Rating = (9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rge enclosed substantially constructed building (the center of a low level interior room is better). Rating = (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nclosed metal car, bus, airplane, train or tractor, Rating = (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afety crouch position rating = (1/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doors, Rating = (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5486400"/>
            <a:ext cx="8001000" cy="1381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ting from the 45th weather squadron for the Air For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r. William P. Roeder, Chief Staff Meteorologis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ightning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Safe Aler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62520" y="1870200"/>
            <a:ext cx="4800600" cy="35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vides early warning of approaching lightning strikes from as far away as 40 mi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audible alarm sounds when there's a strike and a corresponding LED light illuminates accordingly at lightning distances of 20-40 miles, 12-24 miles, 6-12 miles and within 6 mi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6172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rce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ttp://www.weplay.com/lightning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1040" y="1676520"/>
            <a:ext cx="3351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utdoor Lightning Safety Tip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you hear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hund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suspend all outdoor activitie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you se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ightn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seek a shelter immediately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Vehicl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anes - lower boom, stop and driver to jump out of vehicle and move into a shel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trucks - Drivers to stop work, move into the shel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aining Programme Conte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ghtning -Statistics and fundament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yths &amp; Fa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 -Safe &amp; Safe are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afety crouching pos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ghtning Alert Instru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ightning safety ra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ghtning - First Aid Meas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ightning Pre-Curs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ghtning Evacuation program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utdoor Lightning Safety Tip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Those people who are working at heights - step down and take shelter in a protected building / room or in the safe areas mentione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oid unnecessary exposure to lightning (go out only if absolutely essential!!!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epend on the radio to keep updated of weather condi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ightning Pre-Cursors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(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Warning Signals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 Win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eavy Rainfa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oud cover / Cloudy Sk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ightning warning de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5638680"/>
            <a:ext cx="8458200" cy="825480"/>
          </a:xfrm>
          <a:prstGeom prst="rect">
            <a:avLst/>
          </a:prstGeom>
          <a:noFill/>
          <a:ln w="572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any casualties occur because people ignore these obvious precursor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mponents of a Lightning Evacuation Action Pla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ate a responsible person to monitor forecasted weather as well as to observe pre-cursors and to initiate evacuation when appropri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 protocol to be put in place to notify all persons at risk from lightning thr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e the evacuation rou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dentify the shelters / locations to be evacuated 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clear &amp; evacuation signals to be identifi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ction plan to be periodically reviewed &amp; drills to be conduc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ersonal Lightning Safety Programm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ate a trained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upervisor / head work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n all the outdoor work areas to execute the action pla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bserve the lightning precursors / tune to radio to local  FM and listen for a crackling s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llow the define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ightning Action Pl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hibit outdoor lightning safety tips in the pl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irst Aid Recommenda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4952880"/>
            <a:ext cx="7772400" cy="1905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lightning victims can actually survive their encounter with lightning, especially with timely medical treat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1143000"/>
            <a:ext cx="85345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-locate the victim to a low lightning risk ar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art resuscitation, if the victim is not breat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f no pulse is detected, start cardiac compre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ake to a qualified doctor immediate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5105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eing aware of lightning hazards itself is a big step towards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ightning safety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!!!!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4419720"/>
            <a:ext cx="8534160" cy="23619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" descr="http://loneranger2008.wordpress.com/2008/05/10/when-lightning-strikes-carrying-a-concealed-weapon-247/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204840"/>
            <a:ext cx="8534160" cy="4138560"/>
          </a:xfrm>
          <a:prstGeom prst="rect">
            <a:avLst/>
          </a:prstGeom>
          <a:ln w="0">
            <a:noFill/>
          </a:ln>
        </p:spPr>
      </p:pic>
      <p:sp>
        <p:nvSpPr>
          <p:cNvPr id="166" name="">
            <a:hlinkClick r:id="rId3"/>
          </p:cNvPr>
          <p:cNvSpPr/>
          <p:nvPr/>
        </p:nvSpPr>
        <p:spPr>
          <a:xfrm>
            <a:off x="7924680" y="5867280"/>
            <a:ext cx="738360" cy="662040"/>
          </a:xfrm>
          <a:custGeom>
            <a:avLst/>
            <a:gdLst>
              <a:gd name="textAreaLeft" fmla="*/ 42840 w 738360"/>
              <a:gd name="textAreaRight" fmla="*/ 695520 w 73836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4089" h="21600">
                <a:moveTo>
                  <a:pt x="0" y="0"/>
                </a:moveTo>
                <a:lnTo>
                  <a:pt x="24089" y="0"/>
                </a:lnTo>
                <a:lnTo>
                  <a:pt x="24089" y="21600"/>
                </a:lnTo>
                <a:lnTo>
                  <a:pt x="0" y="21600"/>
                </a:lnTo>
                <a:close/>
              </a:path>
              <a:path fill="lightenLess" w="24089" h="21600">
                <a:moveTo>
                  <a:pt x="0" y="0"/>
                </a:moveTo>
                <a:lnTo>
                  <a:pt x="24089" y="0"/>
                </a:lnTo>
                <a:lnTo>
                  <a:pt x="22689" y="1400"/>
                </a:lnTo>
                <a:lnTo>
                  <a:pt x="1400" y="1400"/>
                </a:lnTo>
                <a:close/>
              </a:path>
              <a:path fill="darken" w="24089" h="21600">
                <a:moveTo>
                  <a:pt x="24089" y="0"/>
                </a:moveTo>
                <a:lnTo>
                  <a:pt x="24089" y="21600"/>
                </a:lnTo>
                <a:lnTo>
                  <a:pt x="22689" y="20200"/>
                </a:lnTo>
                <a:lnTo>
                  <a:pt x="22689" y="1400"/>
                </a:lnTo>
                <a:close/>
              </a:path>
              <a:path fill="darkenLess" w="24089" h="21600">
                <a:moveTo>
                  <a:pt x="24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89" y="20200"/>
                </a:lnTo>
                <a:close/>
              </a:path>
              <a:path fill="lighten" w="24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89" h="21600">
                <a:moveTo>
                  <a:pt x="5038" y="10800"/>
                </a:moveTo>
                <a:lnTo>
                  <a:pt x="19051" y="3794"/>
                </a:lnTo>
                <a:lnTo>
                  <a:pt x="19051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ightning Accide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engineers die while inspecting road construction in south Ind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 boy was struck by lightning in a Texas football field but surviv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ents killed, 3 children injured when they sought shelter under an isolated tr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 men struck by lightning while installing a chain link f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caddies die of lightning in a golf cou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ightning - Fac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rtually anything can get struck by lightning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ree / Animal / Humans / Building / Aircraft / Ship / Bush / Light pole / Process Plant / Crane / Tru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ghtning strikes are absolutel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UN-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REDICTABLE!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lace of strike / Intensity / Destruction Potent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ightning discharges produces very high current!!-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Kilo Ampe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ightning - Fac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5% of Lightning victims di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ightning damage probability is more in summ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85% of the lightning strike victims are children and young men (10 to 35 years old) engaged in work &amp; recreation (US da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4 % under tree lightning strike deat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70% strikes happen between June &amp; Augu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ightning - Fac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ost lightning strikes occur between 2 pm t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6 p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ightning strikes are UN-Predictabl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uring a football match, one team of 11 were struck by lightning whereas the other team was untouche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ightning Myth - 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ghtning strikes only on tall object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35053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t the probability of a tall object getting struck is more! In African animal parks, mor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raff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die of lightning than any other animal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ightning Myth - 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ightning Never strikes the same place twic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70120" y="2328840"/>
            <a:ext cx="2460600" cy="36910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815080" y="2209680"/>
            <a:ext cx="2965320" cy="39625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80760" y="6248520"/>
            <a:ext cx="77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MPIRE STATE BUILDING WAS STRUCK 25 TIMES!!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ightning Myth - 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617184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nding under a tree during lightning is saf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1752480"/>
            <a:ext cx="3946320" cy="42386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6880" y="1828800"/>
            <a:ext cx="40928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5T10:25:55Z</dcterms:created>
  <dc:creator>sreejith</dc:creator>
  <dc:description/>
  <dc:language>en-US</dc:language>
  <cp:lastModifiedBy>Asim</cp:lastModifiedBy>
  <dcterms:modified xsi:type="dcterms:W3CDTF">2009-08-31T12:17:55Z</dcterms:modified>
  <cp:revision>195</cp:revision>
  <dc:subject/>
  <dc:title>PERSONAL SAFETY </dc:title>
</cp:coreProperties>
</file>