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7.wmf" ContentType="image/x-wmf"/>
  <Override PartName="/ppt/media/image6.gif" ContentType="image/gif"/>
  <Override PartName="/ppt/media/image8.gif" ContentType="image/gi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16A-9643-48D5-BE70-3A74286E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CEC-840C-4585-BDDE-DA06AAE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5DD-E616-44A6-BC90-A5951D0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1E6-2BA9-479B-87BA-882252AE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3C4-EECC-4E0F-A958-8EFFF65F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6B9-48D0-4397-B322-1937172D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A0F-AD2B-4CC8-9ABA-569192EA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91CF-08F4-41D1-8E16-1AFB726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49E-9C9C-4D44-90C1-2E85367E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072-7B54-4FDE-B92F-7BAFC41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1E3-ECA9-41DC-8F0A-B6D00967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2B2-A7EA-48E6-A149-89ABED6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9106-0B76-43D5-B6AC-7361CF1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FBEA-773B-4AEB-A66A-75CD480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6FF8-4D10-40F2-9FD6-89EB8849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4849-A226-4A3C-B456-4A85F730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24C-9B7B-48E8-A4DF-7E3B5F06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23F-8FF6-44B6-8BC7-7470D61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A53-F23C-46BB-888D-834B0B2D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260-52F5-471F-A322-4FFB5C2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934-6050-45FA-B6C3-65B3C11E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E30-F6B0-4E2F-BB8F-848C3C3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21B-2E2E-4E06-B528-F50B501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0CB-D519-4828-8375-BD86C21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217-B438-4A31-A612-7F2CEA119E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156-23AB-4DF0-8FB8-4ED4FA8385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" Target="slide5.xml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5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140360" y="5445000"/>
            <a:ext cx="1726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ميزانية المنز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993080" y="4870440"/>
            <a:ext cx="9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دور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054080"/>
            <a:ext cx="9180360" cy="35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2203560"/>
            <a:ext cx="4919400" cy="636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-108000" y="476280"/>
            <a:ext cx="882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في هذه الدورة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835280" y="2216160"/>
            <a:ext cx="2160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عوائق صنعناها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2881440"/>
            <a:ext cx="5638680" cy="618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58920" y="2924280"/>
            <a:ext cx="2160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كتشف الفر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4360" y="3573360"/>
            <a:ext cx="60483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64960" y="4221000"/>
            <a:ext cx="6467760" cy="636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3573360"/>
            <a:ext cx="1944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خطط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36600" y="4248000"/>
            <a:ext cx="2160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ميزانية خطوة خطوة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0" y="4911840"/>
            <a:ext cx="6718320" cy="63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37960" y="4938840"/>
            <a:ext cx="22449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كلمات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89156 C -0.04184 -0.87144 -0.03976 -0.85086 -0.03646 -0.83121 C -0.03577 -0.8178 -0.03334 -0.80462 -0.03334 -0.79144 C -0.03334 -0.77618 -0.0375 -0.76254 -0.03959 -0.74797 C -0.0415 -0.69734 -0.04254 -0.69086 -0.03959 -0.62936 C -0.03837 -0.60416 -0.02518 -0.55514 -0.01736 -0.53179 C -0.02275 -0.50797 -0.0349 -0.48485 -0.04115 -0.45988 C -0.04323 -0.43815 -0.0415 -0.44901 -0.04601 -0.42959 C -0.04653 -0.42728 -0.04757 -0.42265 -0.04757 -0.42242 C -0.04653 -0.40739 -0.04584 -0.3919 -0.04445 -0.37641 C -0.04254 -0.35491 -0.02604 -0.32185 -0.01424 -0.3089 C -0.01841 -0.30659 -0.02344 -0.30589 -0.02691 -0.30196 C -0.03386 -0.29364 -0.03959 -0.27884 -0.04445 -0.26705 C -0.04532 -0.2615 -0.04757 -0.25641 -0.04757 -0.25086 C -0.04757 -0.24 -0.0467 -0.22913 -0.04601 -0.21826 C -0.04566 -0.21433 -0.04584 -0.20994 -0.04445 -0.2067 C -0.03872 -0.1926 -0.02709 -0.18751 -0.01736 -0.18335 C -0.02327 -0.17017 -0.02552 -0.15468 -0.02848 -0.13942 C -0.03004 -0.11953 -0.03334 -0.10127 -0.0349 -0.08138 C -0.03125 -0.05942 -0.03056 -0.03352 -0.01893 -0.01641 C -0.01788 -0.01502 -0.01007 -0.00601 -0.00782 -0.00485 C 0.00121 0.00093 -0.00382 -0.00578 3.05556E-006 -0.00023 E">
                                      <p:cBhvr>
                                        <p:cTn id="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-0.2904 C -0.09305 -0.25711 -0.03194 -0.22774 0.04497 -0.22659 C 0.10591 -0.22381 0.15591 -0.23977 0.15695 -0.25988 C 0.15695 -0.27977 0.10799 -0.2985 0.04601 -0.29965 C 0.01493 -0.29965 -0.01302 -0.29711 -0.03298 -0.2904 C -0.06198 -0.28115 -0.07899 -0.26636 -0.07899 -0.24902 C -0.07899 -0.23977 -0.07396 -0.23052 -0.06493 -0.22243 C -0.04409 -0.20509 -0.00295 -0.19329 0.04393 -0.19191 C 0.09896 -0.18913 0.14393 -0.20393 0.14393 -0.22104 C 0.14497 -0.23977 0.1 -0.25572 0.04497 -0.2585 C 0.01702 -0.2585 -0.00798 -0.25572 -0.02708 -0.2504 C -0.05208 -0.24115 -0.06805 -0.22659 -0.06805 -0.21179 C -0.06805 -0.20393 -0.06302 -0.19584 -0.05503 -0.18774 C -0.03594 -0.17318 -2.2222200000005E-006 -0.16115 0.04306 -0.16 C 0.09306 -0.15861 0.13299 -0.17179 0.13299 -0.18774 C 0.13403 -0.20393 0.09393 -0.2185 0.04393 -0.21988 C 0.01893 -0.22104 -0.00399 -0.2185 -0.021 -0.21318 C -0.04409 -0.20509 -0.05694 -0.19329 -0.05694 -0.1785 C -0.05694 -0.17179 -0.05295 -0.16393 -0.046 -0.15722 C -0.02899 -0.14381 0.004 -0.13318 0.04202 -0.13202 C 0.08698 -0.13202 0.12292 -0.14266 0.12292 -0.15722 C 0.12292 -0.17179 0.08802 -0.1852 0.04306 -0.18659 C 0.02101 -0.18659 -2.2222200000005E-006 -0.18381 -0.01493 -0.17988 C -0.03594 -0.17318 -0.04809 -0.16115 -0.04896 -0.14913 C -0.04896 -0.14266 -0.04409 -0.13595 -0.03802 -0.13063 C -0.02309 -0.11722 0.00695 -0.10798 0.04097 -0.10798 C 0.08091 -0.10659 0.11406 -0.11584 0.11406 -0.12925 C 0.11493 -0.14266 0.08195 -0.15445 0.04202 -0.15584 C 0.02205 -0.15584 0.00295 -0.15445 -0.01007 -0.14913 C -0.02899 -0.14381 -0.03993 -0.13318 -0.03993 -0.12254 C -0.03993 -0.11584 -0.03698 -0.11052 -0.03107 -0.1052 C -0.01701 -0.09318 0.00903 -0.08532 0.03993 -0.08393 C 0.07691 -0.08393 0.10591 -0.09202 0.10591 -0.10405 C 0.10695 -0.11584 0.07795 -0.1267 0.04097 -0.12786 C 0.02292 -0.12786 0.00695 -0.1267 -0.00503 -0.12254 C -0.02205 -0.11722 -0.03194 -0.10798 -0.03194 -0.09734 C -0.03194 -0.09202 -0.02899 -0.08786 -0.02396 -0.08254 C -0.01198 -0.07191 0.01198 -0.06543 0.03993 -0.06405 C 0.07292 -0.06266 0.09896 -0.07075 0.09896 -0.08254 C 0.09896 -0.09202 0.07396 -0.10266 0.04097 -0.10266 C 0.02396 -0.10405 0.00903 -0.10127 -0.00208 -0.09873 C -0.01701 -0.09318 -0.02604 -0.08532 -0.02604 -0.07607 C -0.02604 -0.07075 -0.02309 -0.06659 -0.01805 -0.06266 C -0.00694 -0.05341 0.01493 -0.0467 0.03906 -0.04532 C 0.06893 -0.04393 0.09306 -0.05202 0.09306 -0.06127 C 0.09306 -0.07191 0.06893 -0.08 0.03993 -0.08139 C 0.02604 -0.08139 0.01198 -0.08 0.00191 -0.07607 C -0.01198 -0.07191 -0.01996 -0.06543 -0.01996 -0.05595 C -0.01996 -0.05202 -0.01701 -0.04809 -0.01302 -0.04393 C -0.00295 -0.03607 0.01597 -0.02936 0.03906 -0.02936 C 0.06493 -0.02798 0.08698 -0.03468 0.08698 -0.04393 C 0.08698 -0.05202 0.06597 -0.06011 0.03906 -0.06011 C 0.02691 -0.06127 0.01406 -0.06011 0.00504 -0.05734 C -0.00694 -0.05202 -0.01406 -0.04532 -0.01406 -0.03861 C -0.01406 -0.03468 -0.01198 -0.03075 -0.00798 -0.02798 C 0.00104 -0.02011 0.01806 -0.0148 0.03906 -0.01341 C 0.06302 -0.01341 0.08195 -0.02011 0.08195 -0.02682 C 0.08195 -0.03468 0.06302 -0.04277 0.03906 -0.04277 C 0.02691 -0.04277 0.01597 -0.04139 0.00903 -0.03861 C -0.00295 -0.03607 -0.00903 -0.02936 -0.00903 -0.02266 C -0.00903 -0.02011 -0.00694 -0.01595 -0.00399 -0.01341 C 0.004 -0.00532 0.01997 -0.00139 0.03802 -1.15607E-006 C 0.06007 -1.15607E-006 0.07691 -0.00532 0.07691 -0.01202 C 0.07691 -0.02011 0.06007 -0.02543 0.03906 -0.02682 C 0.02795 -0.02682 0.01806 -0.02543 0.01094 -0.02266 C 0.00104 -0.02011 -0.00503 -0.0148 -0.00503 -0.00809 C -0.00503 -0.00532 -0.00295 -0.00277 -2.22222E-006 -1.15607E-006 E">
                                      <p:cBhvr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89120" y="115920"/>
            <a:ext cx="5295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كلم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67280" y="1413000"/>
            <a:ext cx="47545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كرم المزي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92360" y="2781360"/>
            <a:ext cx="475488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لا تشاور أهل البيت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56000" y="4221000"/>
            <a:ext cx="475452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لا نستطيع التغير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84360" y="5589720"/>
            <a:ext cx="47545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نفق مافي الجيب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75480" y="-2700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3680" y="176040"/>
            <a:ext cx="814068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- إغفال جانب التقوى في معظم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   أعمالنا بل صار التغيب عن العمل وترك الأعمال معلقة ظاهرة طبيعية بل ربما كان الغش والكذب من أسهل الأمور  في البيع والشراء وسائر المعاملات فكيف تحصل البركة ؟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900"/>
                            </p:stCondLst>
                            <p:childTnLst>
                              <p:par>
                                <p:cTn id="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5680080"/>
            <a:ext cx="4184640" cy="1444680"/>
          </a:xfrm>
          <a:prstGeom prst="hexagon">
            <a:avLst>
              <a:gd name="adj" fmla="val 72415"/>
              <a:gd name="vf" fmla="val 115470"/>
            </a:avLst>
          </a:prstGeom>
          <a:solidFill>
            <a:srgbClr val="6633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6394400">
            <a:off x="3422160" y="1465920"/>
            <a:ext cx="2571840" cy="4622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dbbd71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6600"/>
                </a:solidFill>
                <a:latin typeface="Tahoma"/>
              </a:rPr>
              <a:t>عغغففق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75480" y="-2700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65120"/>
            <a:ext cx="83473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- ضعف التوكل الحقيقي على الله فإما حريص على الدنيا تارك  للآخرة  أو يبذل في الآخرة ويترك الواجب والوسط  خير ( ولا تجعل يدك مغلولة إلى عنقك  ولا تبسطها كل البسط فتقعد ملوما محسورا  ) 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75480" y="-2700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612720" y="47628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-عدم التورع عن المال الحرام كسبا أوإنفاق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 و المرء يسأل عن ماله في أخراه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539120" y="213372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2565360"/>
            <a:ext cx="81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- إغفال جانب الصدقة  في أموالنا ف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نقصت صدقت من مال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575480" y="414972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7280" y="4160520"/>
            <a:ext cx="81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 عدم تنظيم الإنفاق قال تعالى( والذين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إذا أنفقوا لم يسرفوا ولم يقتروا وكان بين ذلك قواما}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723888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7238880" cy="1081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43280" y="620640"/>
            <a:ext cx="44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095560" y="4175280"/>
            <a:ext cx="762120" cy="1730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55640" y="287280"/>
            <a:ext cx="82440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اكتشف الفر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28640"/>
            <a:ext cx="76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x  3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أضعاف=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12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476360" y="515952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1476x10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سنوات=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147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08000" y="3357720"/>
            <a:ext cx="7238880" cy="108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3284640"/>
            <a:ext cx="69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123x12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شهر=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147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bd71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bd71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remove" presetClass="emph" presetID="33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2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4038480" cy="227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3949200"/>
            <a:ext cx="4038480" cy="21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4648320" y="1600200"/>
          <a:ext cx="4038480" cy="45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9040" y="277920"/>
            <a:ext cx="20574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601992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827280" cy="82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1419840" y="1058760"/>
            <a:ext cx="118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تحديد قيمة المصروفات الثابتة ((أقساط -دين ...الخ)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00" y="2155680"/>
            <a:ext cx="85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- تحديد المصروفات الشهرية مع تحديد قيم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  (( مشتروات المنزل- الصدقة-الادخار..الخ)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ahoma"/>
              </a:rPr>
              <a:t>    مع تحديد الهدف للمصروفات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413856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-  وضع الميزانية المنزلية بالتشاور مع الزوجة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    حتى تشعر بمسئولية الإنفاق ويمكن أن يشر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   الأبناء الراشدين  في وضع الميزانية حت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   يشعروا بالمسئولية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050920" y="0"/>
            <a:ext cx="5295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يزانية خطوة بخطوة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0" y="6165720"/>
            <a:ext cx="611280" cy="692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92280"/>
              <a:gd name="textAreaBottom" fmla="*/ 652680 h 692280"/>
            </a:gdLst>
            <a:ahLst/>
            <a:rect l="textAreaLeft" t="textAreaTop" r="textAreaRight" b="textAreaBottom"/>
            <a:pathLst>
              <a:path w="21600" h="24461">
                <a:moveTo>
                  <a:pt x="0" y="0"/>
                </a:moveTo>
                <a:lnTo>
                  <a:pt x="21600" y="0"/>
                </a:lnTo>
                <a:lnTo>
                  <a:pt x="21600" y="24461"/>
                </a:lnTo>
                <a:lnTo>
                  <a:pt x="0" y="24461"/>
                </a:lnTo>
                <a:close/>
              </a:path>
              <a:path fill="lightenLess" w="21600" h="244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1">
                <a:moveTo>
                  <a:pt x="21600" y="0"/>
                </a:moveTo>
                <a:lnTo>
                  <a:pt x="21600" y="24461"/>
                </a:lnTo>
                <a:lnTo>
                  <a:pt x="20200" y="23061"/>
                </a:lnTo>
                <a:lnTo>
                  <a:pt x="20200" y="1400"/>
                </a:lnTo>
                <a:close/>
              </a:path>
              <a:path fill="darkenLess" w="21600" h="24461">
                <a:moveTo>
                  <a:pt x="21600" y="24461"/>
                </a:moveTo>
                <a:lnTo>
                  <a:pt x="0" y="24461"/>
                </a:lnTo>
                <a:lnTo>
                  <a:pt x="1400" y="23061"/>
                </a:lnTo>
                <a:lnTo>
                  <a:pt x="20200" y="23061"/>
                </a:lnTo>
                <a:close/>
              </a:path>
              <a:path fill="lighten" w="21600" h="24461">
                <a:moveTo>
                  <a:pt x="0" y="244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1"/>
                </a:lnTo>
                <a:close/>
              </a:path>
              <a:path fill="darken" w="21600" h="24461">
                <a:moveTo>
                  <a:pt x="3794" y="8923"/>
                </a:moveTo>
                <a:lnTo>
                  <a:pt x="7301" y="8923"/>
                </a:lnTo>
                <a:lnTo>
                  <a:pt x="7301" y="14258"/>
                </a:lnTo>
                <a:cubicBezTo>
                  <a:pt x="7301" y="15181"/>
                  <a:pt x="8102" y="15912"/>
                  <a:pt x="9138" y="15912"/>
                </a:cubicBezTo>
                <a:lnTo>
                  <a:pt x="10800" y="15912"/>
                </a:lnTo>
                <a:cubicBezTo>
                  <a:pt x="11836" y="15912"/>
                  <a:pt x="12636" y="15181"/>
                  <a:pt x="12636" y="14258"/>
                </a:cubicBezTo>
                <a:lnTo>
                  <a:pt x="12636" y="8923"/>
                </a:lnTo>
                <a:lnTo>
                  <a:pt x="10800" y="8923"/>
                </a:lnTo>
                <a:lnTo>
                  <a:pt x="14308" y="5415"/>
                </a:lnTo>
                <a:lnTo>
                  <a:pt x="17981" y="8923"/>
                </a:lnTo>
                <a:lnTo>
                  <a:pt x="16144" y="8923"/>
                </a:lnTo>
                <a:lnTo>
                  <a:pt x="16144" y="14258"/>
                </a:lnTo>
                <a:cubicBezTo>
                  <a:pt x="16144" y="17026"/>
                  <a:pt x="13568" y="19585"/>
                  <a:pt x="10800" y="19585"/>
                </a:cubicBezTo>
                <a:lnTo>
                  <a:pt x="9138" y="19585"/>
                </a:lnTo>
                <a:cubicBezTo>
                  <a:pt x="6370" y="19585"/>
                  <a:pt x="3794" y="17026"/>
                  <a:pt x="3794" y="1425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1:13:04Z</dcterms:created>
  <dc:creator>محمد سعيد بن جحلان</dc:creator>
  <dc:description/>
  <dc:language>en-US</dc:language>
  <cp:lastModifiedBy>أبو يزيد</cp:lastModifiedBy>
  <dcterms:modified xsi:type="dcterms:W3CDTF">2003-05-20T04:52:25Z</dcterms:modified>
  <cp:revision>23</cp:revision>
  <dc:subject/>
  <dc:title>Slide 1</dc:title>
</cp:coreProperties>
</file>