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4B287-013B-47DC-B36C-D49643552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A8EAA-45B4-4F35-9F14-0927D5C9C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F0A0C-6516-4A7E-8747-D41D5C7AA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795E4-4AAE-4F07-9CB6-53E0590EC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5B4EC-E2CB-4AD4-863C-67BA62F2B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4CC32-1C9E-489A-A418-FAE4F5E6E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692F9-D540-4281-837B-94E57727F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6488C-AF1E-4BA2-A525-F92B2A32C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CD342-C727-4757-8B2F-0B134177C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A9304-72B9-4522-9944-3FA24EDBC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303E1-25FD-4FC2-BE44-F577DBB3F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684C6-F93D-418B-B912-F113EDECF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ffffff"/>
            </a:gs>
            <a:gs pos="100000">
              <a:srgbClr val="66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214E9-8ED4-4A58-A67C-6DE7E5004B93}"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ffffff"/>
            </a:gs>
            <a:gs pos="100000">
              <a:srgbClr val="66cc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محاضرة التفكير الإبداعى</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2438280"/>
            <a:ext cx="6400800" cy="3200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عدد : محمد بن  تركي العنـزي</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مشرف التربوي للنشاط العلمي</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lvl="3" marL="1371600" indent="0" algn="ctr">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مكان : ثانوية المنتزه</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أحد </a:t>
            </a:r>
            <a:r>
              <a:rPr b="0" lang="ar-SA" sz="3200" spc="-1" strike="noStrike">
                <a:solidFill>
                  <a:srgbClr val="000000"/>
                </a:solidFill>
                <a:latin typeface="Times New Roman"/>
              </a:rPr>
              <a:t>28/8</a:t>
            </a:r>
            <a:r>
              <a:rPr b="0" lang="ar-SA" sz="3200" spc="-1" strike="noStrike">
                <a:solidFill>
                  <a:srgbClr val="000000"/>
                </a:solidFill>
                <a:latin typeface="Times New Roman"/>
              </a:rPr>
              <a:t>/ </a:t>
            </a:r>
            <a:r>
              <a:rPr b="0" lang="ar-SA" sz="3200" spc="-1" strike="noStrike">
                <a:solidFill>
                  <a:srgbClr val="000000"/>
                </a:solidFill>
                <a:latin typeface="Times New Roman"/>
              </a:rPr>
              <a:t>1423</a:t>
            </a:r>
            <a:r>
              <a:rPr b="0" lang="ar-SA" sz="3200" spc="-1" strike="noStrike">
                <a:solidFill>
                  <a:srgbClr val="000000"/>
                </a:solidFill>
                <a:latin typeface="Times New Roman"/>
              </a:rPr>
              <a:t>هـ</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3" name=""/>
          <p:cNvSpPr/>
          <p:nvPr/>
        </p:nvSpPr>
        <p:spPr>
          <a:xfrm>
            <a:off x="755640" y="5734080"/>
            <a:ext cx="7772400" cy="92556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Times New Roman"/>
              </a:rPr>
              <a:t>تجد عددا من الدورات لدى موقع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8000"/>
                </a:solidFill>
                <a:latin typeface="Times New Roman"/>
              </a:rPr>
              <a:t>المفكرة الدعوية </a:t>
            </a:r>
            <a:r>
              <a:rPr b="1" lang="en-US" sz="2000" spc="-1" strike="noStrike">
                <a:solidFill>
                  <a:srgbClr val="008000"/>
                </a:solidFill>
                <a:latin typeface="Times New Roman"/>
              </a:rPr>
              <a:t>www.dawahmemo.com</a:t>
            </a:r>
            <a:r>
              <a:rPr b="1" lang="en-US" sz="2000" spc="-1" strike="noStrike">
                <a:solidFill>
                  <a:srgbClr val="008000"/>
                </a:solidFill>
                <a:latin typeface="Times New Roman"/>
              </a:rPr>
              <a:t> </a:t>
            </a:r>
            <a:r>
              <a:rPr b="0" lang="ar-SA" sz="2000" spc="-1" strike="noStrike">
                <a:solidFill>
                  <a:srgbClr val="008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2">
                                            <p:txEl>
                                              <p:pRg st="1" end="1"/>
                                            </p:txEl>
                                          </p:spTgt>
                                        </p:tgtEl>
                                        <p:attrNameLst>
                                          <p:attrName>style.visibility</p:attrName>
                                        </p:attrNameLst>
                                      </p:cBhvr>
                                      <p:to>
                                        <p:strVal val="visible"/>
                                      </p:to>
                                    </p:set>
                                    <p:anim calcmode="lin" valueType="num">
                                      <p:cBhvr additive="base">
                                        <p:cTn id="13" dur="500" fill="hold"/>
                                        <p:tgtEl>
                                          <p:spTgt spid="4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2">
                                            <p:txEl>
                                              <p:pRg st="3" end="3"/>
                                            </p:txEl>
                                          </p:spTgt>
                                        </p:tgtEl>
                                        <p:attrNameLst>
                                          <p:attrName>style.visibility</p:attrName>
                                        </p:attrNameLst>
                                      </p:cBhvr>
                                      <p:to>
                                        <p:strVal val="visible"/>
                                      </p:to>
                                    </p:set>
                                    <p:anim calcmode="lin" valueType="num">
                                      <p:cBhvr additive="base">
                                        <p:cTn id="19" dur="500" fill="hold"/>
                                        <p:tgtEl>
                                          <p:spTgt spid="42">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2">
                                            <p:txEl>
                                              <p:pRg st="4" end="4"/>
                                            </p:txEl>
                                          </p:spTgt>
                                        </p:tgtEl>
                                        <p:attrNameLst>
                                          <p:attrName>style.visibility</p:attrName>
                                        </p:attrNameLst>
                                      </p:cBhvr>
                                      <p:to>
                                        <p:strVal val="visible"/>
                                      </p:to>
                                    </p:set>
                                    <p:anim calcmode="lin" valueType="num">
                                      <p:cBhvr additive="base">
                                        <p:cTn id="25" dur="500" fill="hold"/>
                                        <p:tgtEl>
                                          <p:spTgt spid="42">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ffffff"/>
            </a:gs>
            <a:gs pos="100000">
              <a:srgbClr val="66ccff"/>
            </a:gs>
          </a:gsLst>
          <a:lin ang="5400000"/>
        </a:gradFill>
      </p:bgPr>
    </p:bg>
    <p:spTree>
      <p:nvGrpSpPr>
        <p:cNvPr id="1" name=""/>
        <p:cNvGrpSpPr/>
        <p:nvPr/>
      </p:nvGrpSpPr>
      <p:grpSpPr>
        <a:xfrm>
          <a:off x="0" y="0"/>
          <a:ext cx="0" cy="0"/>
          <a:chOff x="0" y="0"/>
          <a:chExt cx="0" cy="0"/>
        </a:xfrm>
      </p:grpSpPr>
      <p:graphicFrame>
        <p:nvGraphicFramePr>
          <p:cNvPr id="71" name=""/>
          <p:cNvGraphicFramePr/>
          <p:nvPr/>
        </p:nvGraphicFramePr>
        <p:xfrm>
          <a:off x="304920" y="457200"/>
          <a:ext cx="8534160" cy="6019920"/>
        </p:xfrm>
        <a:graphic>
          <a:graphicData uri="http://schemas.openxmlformats.org/drawingml/2006/table">
            <a:tbl>
              <a:tblPr/>
              <a:tblGrid>
                <a:gridCol w="4495680"/>
                <a:gridCol w="4038480"/>
              </a:tblGrid>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نصف الأيسر</a:t>
                      </a:r>
                      <a:endParaRPr b="0" lang="en-US" sz="2800" spc="-1" strike="noStrike">
                        <a:solidFill>
                          <a:srgbClr val="000000"/>
                        </a:solidFill>
                        <a:latin typeface="Times New Roman"/>
                      </a:endParaRPr>
                    </a:p>
                  </a:txBody>
                  <a:tcPr anchor="ctr" marL="90000" marR="90000">
                    <a:lnL w="18720">
                      <a:solidFill>
                        <a:srgbClr val="000000"/>
                      </a:solidFill>
                    </a:lnL>
                    <a:lnR w="57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نصف الأيمن</a:t>
                      </a:r>
                      <a:endParaRPr b="0" lang="en-US" sz="2800" spc="-1" strike="noStrike">
                        <a:solidFill>
                          <a:srgbClr val="000000"/>
                        </a:solidFill>
                        <a:latin typeface="Times New Roman"/>
                      </a:endParaRPr>
                    </a:p>
                  </a:txBody>
                  <a:tcPr anchor="ctr" marL="90000" marR="90000">
                    <a:lnL w="5760">
                      <a:solidFill>
                        <a:srgbClr val="000000"/>
                      </a:solidFill>
                    </a:lnL>
                    <a:lnR w="18720">
                      <a:solidFill>
                        <a:srgbClr val="000000"/>
                      </a:solidFill>
                    </a:lnR>
                    <a:lnT w="38160">
                      <a:solidFill>
                        <a:srgbClr val="000000"/>
                      </a:solidFill>
                    </a:lnT>
                    <a:lnB w="38160">
                      <a:solidFill>
                        <a:srgbClr val="000000"/>
                      </a:solidFill>
                    </a:lnB>
                    <a:noFill/>
                  </a:tcPr>
                </a:tc>
              </a:tr>
              <a:tr h="1373760">
                <a:tc>
                  <a:txBody>
                    <a:bodyPr lIns="90000" rIns="90000" tIns="46800" bIns="46800" anchor="t">
                      <a:noAutofit/>
                    </a:bodyPr>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فضلون الأعمال التي تتطلب تفكيراً محسوساً</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38160">
                      <a:solidFill>
                        <a:srgbClr val="000000"/>
                      </a:solidFill>
                    </a:lnT>
                    <a:lnB w="5760">
                      <a:solidFill>
                        <a:srgbClr val="000000"/>
                      </a:solidFill>
                    </a:lnB>
                    <a:noFill/>
                  </a:tcPr>
                </a:tc>
                <a:tc>
                  <a:txBody>
                    <a:bodyPr lIns="90000" rIns="90000" tIns="46800" bIns="46800" anchor="t">
                      <a:noAutofit/>
                    </a:bodyPr>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فضلون الأعمال التي تحتاج الى تفكير مجرد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38160">
                      <a:solidFill>
                        <a:srgbClr val="000000"/>
                      </a:solidFill>
                    </a:lnT>
                    <a:lnB w="5760">
                      <a:solidFill>
                        <a:srgbClr val="000000"/>
                      </a:solidFill>
                    </a:lnB>
                    <a:noFill/>
                  </a:tcPr>
                </a:tc>
              </a:tr>
              <a:tr h="1008000">
                <a:tc>
                  <a:txBody>
                    <a:bodyPr lIns="90000" rIns="90000" tIns="46800" bIns="46800" anchor="t">
                      <a:noAutofit/>
                    </a:bodyPr>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ركزون على عمل واحد دائماً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نشغلون في أكثر من عمل في وقت واحد</a:t>
                      </a:r>
                      <a:r>
                        <a:rPr b="1" lang="ar-SA" sz="3200" spc="-1" strike="noStrike">
                          <a:solidFill>
                            <a:srgbClr val="000000"/>
                          </a:solidFill>
                          <a:latin typeface="Times New Roman"/>
                        </a:rPr>
                        <a:t> </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فضلون النشاطات التي تتطلب البحث والتنقيب</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فضلون أنشطة التأليف والتركيب</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فضلون الأعمال المنظمة المرتبة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ستطيعون الارتجال بسهول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فضلون الخبرات المحددة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فضلون الخبرات الحرة غير المحددة</a:t>
                      </a:r>
                      <a:r>
                        <a:rPr b="1" lang="ar-SA" sz="3200" spc="-1" strike="noStrike">
                          <a:solidFill>
                            <a:srgbClr val="000000"/>
                          </a:solidFill>
                          <a:latin typeface="Times New Roman"/>
                        </a:rPr>
                        <a:t> </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فضلون التفاصيل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فضلون الأفكار العامة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واجهون المشكلات بجدية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واجهون المشكلات دون جدية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ffffff"/>
            </a:gs>
            <a:gs pos="100000">
              <a:srgbClr val="66ccf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تمرين : كم مربعا في هذا الشكل</a:t>
            </a:r>
            <a:endParaRPr b="0" lang="en-US" sz="4400" spc="-1" strike="noStrike">
              <a:solidFill>
                <a:srgbClr val="000000"/>
              </a:solidFill>
              <a:latin typeface="Times New Roman"/>
            </a:endParaRPr>
          </a:p>
        </p:txBody>
      </p:sp>
      <p:graphicFrame>
        <p:nvGraphicFramePr>
          <p:cNvPr id="73" name=""/>
          <p:cNvGraphicFramePr/>
          <p:nvPr/>
        </p:nvGraphicFramePr>
        <p:xfrm>
          <a:off x="914400" y="1397160"/>
          <a:ext cx="7315200" cy="5079960"/>
        </p:xfrm>
        <a:graphic>
          <a:graphicData uri="http://schemas.openxmlformats.org/drawingml/2006/table">
            <a:tbl>
              <a:tblPr/>
              <a:tblGrid>
                <a:gridCol w="1828800"/>
                <a:gridCol w="1828800"/>
                <a:gridCol w="1828800"/>
                <a:gridCol w="1828800"/>
              </a:tblGrid>
              <a:tr h="1269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1270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1270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1270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ffffff"/>
            </a:gs>
            <a:gs pos="100000">
              <a:srgbClr val="66ccf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متطلبات الابداع</a:t>
            </a:r>
            <a:endParaRPr b="0" lang="en-US" sz="4400" spc="-1" strike="noStrike">
              <a:solidFill>
                <a:srgbClr val="000000"/>
              </a:solidFill>
              <a:latin typeface="Times New Roman"/>
            </a:endParaRPr>
          </a:p>
        </p:txBody>
      </p:sp>
      <p:sp>
        <p:nvSpPr>
          <p:cNvPr id="75" name="PlaceHolder 2"/>
          <p:cNvSpPr>
            <a:spLocks noGrp="1"/>
          </p:cNvSpPr>
          <p:nvPr>
            <p:ph type="subTitle"/>
          </p:nvPr>
        </p:nvSpPr>
        <p:spPr>
          <a:xfrm>
            <a:off x="456840" y="837720"/>
            <a:ext cx="8077320" cy="5715000"/>
          </a:xfrm>
          <a:prstGeom prst="rect">
            <a:avLst/>
          </a:prstGeom>
          <a:noFill/>
          <a:ln w="0">
            <a:noFill/>
          </a:ln>
        </p:spPr>
        <p:txBody>
          <a:bodyPr lIns="90000" rIns="90000" tIns="46800" bIns="46800"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ولاً : </a:t>
            </a:r>
            <a:r>
              <a:rPr b="1" lang="ar-SA" sz="2800" spc="-1" strike="noStrike">
                <a:solidFill>
                  <a:srgbClr val="000000"/>
                </a:solidFill>
                <a:latin typeface="Times New Roman"/>
              </a:rPr>
              <a:t>يجب ان تكون مقتنعاً بأن كل انسان عاقل يستطيع أن يكون ، مبدعاً .</a:t>
            </a:r>
            <a:endParaRPr b="0" lang="en-US" sz="2800" spc="-1" strike="noStrike">
              <a:solidFill>
                <a:srgbClr val="000000"/>
              </a:solidFill>
              <a:latin typeface="Times New Roman"/>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ثانيا : يلزمك ما يلي : </a:t>
            </a:r>
            <a:endParaRPr b="0" lang="en-US" sz="2800" spc="-1" strike="noStrike">
              <a:solidFill>
                <a:srgbClr val="000000"/>
              </a:solidFill>
              <a:latin typeface="Times New Roman"/>
            </a:endParaRPr>
          </a:p>
          <a:p>
            <a:pPr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ثقة بالنفس </a:t>
            </a:r>
            <a:endParaRPr b="0" lang="en-US" sz="2800" spc="-1" strike="noStrike">
              <a:solidFill>
                <a:srgbClr val="000000"/>
              </a:solidFill>
              <a:latin typeface="Times New Roman"/>
            </a:endParaRPr>
          </a:p>
          <a:p>
            <a:pPr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طلاق العنان للتفكير </a:t>
            </a:r>
            <a:endParaRPr b="0" lang="en-US" sz="2800" spc="-1" strike="noStrike">
              <a:solidFill>
                <a:srgbClr val="000000"/>
              </a:solidFill>
              <a:latin typeface="Times New Roman"/>
            </a:endParaRPr>
          </a:p>
          <a:p>
            <a:pPr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تفكر في بديع صنع الله </a:t>
            </a:r>
            <a:endParaRPr b="0" lang="en-US" sz="2800" spc="-1" strike="noStrike">
              <a:solidFill>
                <a:srgbClr val="000000"/>
              </a:solidFill>
              <a:latin typeface="Times New Roman"/>
            </a:endParaRPr>
          </a:p>
          <a:p>
            <a:pPr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تعود على التغيير </a:t>
            </a:r>
            <a:endParaRPr b="0" lang="en-US" sz="2800" spc="-1" strike="noStrike">
              <a:solidFill>
                <a:srgbClr val="000000"/>
              </a:solidFill>
              <a:latin typeface="Times New Roman"/>
            </a:endParaRPr>
          </a:p>
          <a:p>
            <a:pPr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بحث عن الفكرة الجديدة في غير الأماكن المعتادة </a:t>
            </a:r>
            <a:endParaRPr b="0" lang="en-US" sz="2800" spc="-1" strike="noStrike">
              <a:solidFill>
                <a:srgbClr val="000000"/>
              </a:solidFill>
              <a:latin typeface="Times New Roman"/>
            </a:endParaRPr>
          </a:p>
          <a:p>
            <a:pPr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غتنام الفرص  </a:t>
            </a:r>
            <a:endParaRPr b="0" lang="en-US" sz="2800" spc="-1" strike="noStrike">
              <a:solidFill>
                <a:srgbClr val="000000"/>
              </a:solidFill>
              <a:latin typeface="Times New Roman"/>
            </a:endParaRPr>
          </a:p>
          <a:p>
            <a:pPr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إلمام بطريقة التفكير الإبداعي وخطواته والتعايش معها </a:t>
            </a:r>
            <a:endParaRPr b="0" lang="en-US" sz="2800" spc="-1" strike="noStrike">
              <a:solidFill>
                <a:srgbClr val="000000"/>
              </a:solidFill>
              <a:latin typeface="Times New Roman"/>
            </a:endParaRPr>
          </a:p>
          <a:p>
            <a:pPr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تحلي بصفات الشخص المبدع</a:t>
            </a:r>
            <a:endParaRPr b="0" lang="en-US" sz="2800" spc="-1" strike="noStrike">
              <a:solidFill>
                <a:srgbClr val="000000"/>
              </a:solidFill>
              <a:latin typeface="Times New Roman"/>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ffffff"/>
            </a:gs>
            <a:gs pos="100000">
              <a:srgbClr val="66cc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متطلبات الابداع</a:t>
            </a:r>
            <a:endParaRPr b="0" lang="en-US" sz="4400" spc="-1" strike="noStrike">
              <a:solidFill>
                <a:srgbClr val="000000"/>
              </a:solidFill>
              <a:latin typeface="Times New Roman"/>
            </a:endParaRPr>
          </a:p>
        </p:txBody>
      </p:sp>
      <p:sp>
        <p:nvSpPr>
          <p:cNvPr id="77" name="PlaceHolder 2"/>
          <p:cNvSpPr>
            <a:spLocks noGrp="1"/>
          </p:cNvSpPr>
          <p:nvPr>
            <p:ph type="subTitle"/>
          </p:nvPr>
        </p:nvSpPr>
        <p:spPr>
          <a:xfrm>
            <a:off x="456840" y="1219320"/>
            <a:ext cx="8077320" cy="5333760"/>
          </a:xfrm>
          <a:prstGeom prst="rect">
            <a:avLst/>
          </a:prstGeom>
          <a:noFill/>
          <a:ln w="0">
            <a:noFill/>
          </a:ln>
        </p:spPr>
        <p:txBody>
          <a:bodyPr lIns="90000" rIns="90000" tIns="46800" bIns="46800"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3600" spc="-1" strike="noStrike">
                <a:solidFill>
                  <a:srgbClr val="000000"/>
                </a:solidFill>
                <a:latin typeface="Times New Roman"/>
              </a:rPr>
              <a:t>ثالثاً : يلزمك القيام بالأمور التالية :</a:t>
            </a:r>
            <a:endParaRPr b="0" lang="en-US" sz="3600" spc="-1" strike="noStrike">
              <a:solidFill>
                <a:srgbClr val="000000"/>
              </a:solidFill>
              <a:latin typeface="Times New Roman"/>
            </a:endParaRPr>
          </a:p>
          <a:p>
            <a:pPr algn="r" rtl="1">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قراءة  قصص ومواقف عن الإبداع والمبدعين </a:t>
            </a:r>
            <a:endParaRPr b="0" lang="en-US" sz="3600" spc="-1" strike="noStrike">
              <a:solidFill>
                <a:srgbClr val="000000"/>
              </a:solidFill>
              <a:latin typeface="Times New Roman"/>
            </a:endParaRPr>
          </a:p>
          <a:p>
            <a:pPr algn="r" rtl="1">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كتابة كل فكرة ترد لذهنك مهما كانت صغيرة</a:t>
            </a:r>
            <a:endParaRPr b="0" lang="en-US" sz="3600" spc="-1" strike="noStrike">
              <a:solidFill>
                <a:srgbClr val="000000"/>
              </a:solidFill>
              <a:latin typeface="Times New Roman"/>
            </a:endParaRPr>
          </a:p>
          <a:p>
            <a:pPr algn="r" rtl="1">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كتابة رسائل عقلية ايجابية عن نفسك وترديدها باستمرار </a:t>
            </a:r>
            <a:endParaRPr b="0" lang="en-US" sz="3600" spc="-1" strike="noStrike">
              <a:solidFill>
                <a:srgbClr val="000000"/>
              </a:solidFill>
              <a:latin typeface="Times New Roman"/>
            </a:endParaRPr>
          </a:p>
          <a:p>
            <a:pPr algn="r" rtl="1">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الاستفادة من أحلام اليقظة </a:t>
            </a:r>
            <a:endParaRPr b="0" lang="en-US" sz="3600" spc="-1" strike="noStrike">
              <a:solidFill>
                <a:srgbClr val="000000"/>
              </a:solidFill>
              <a:latin typeface="Times New Roman"/>
            </a:endParaRPr>
          </a:p>
          <a:p>
            <a:pPr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ffffff"/>
            </a:gs>
            <a:gs pos="100000">
              <a:srgbClr val="66cc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304560"/>
            <a:ext cx="5562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مرين الجريمة الغامضة</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9" name=""/>
          <p:cNvSpPr/>
          <p:nvPr/>
        </p:nvSpPr>
        <p:spPr>
          <a:xfrm>
            <a:off x="685800" y="1066680"/>
            <a:ext cx="79246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685800" y="1066680"/>
            <a:ext cx="7543800" cy="3810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352680" y="1981080"/>
            <a:ext cx="381240" cy="381240"/>
          </a:xfrm>
          <a:prstGeom prst="star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895480" y="2209680"/>
            <a:ext cx="381240" cy="381240"/>
          </a:xfrm>
          <a:prstGeom prst="star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657600" y="1752480"/>
            <a:ext cx="380880" cy="381240"/>
          </a:xfrm>
          <a:prstGeom prst="star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809880" y="1371600"/>
            <a:ext cx="381240" cy="380880"/>
          </a:xfrm>
          <a:prstGeom prst="star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838080" y="121932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066680" y="144792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flipH="1">
            <a:off x="990360" y="2133720"/>
            <a:ext cx="7596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8" name=""/>
          <p:cNvSpPr/>
          <p:nvPr/>
        </p:nvSpPr>
        <p:spPr>
          <a:xfrm>
            <a:off x="1295280" y="22096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9" name=""/>
          <p:cNvSpPr/>
          <p:nvPr/>
        </p:nvSpPr>
        <p:spPr>
          <a:xfrm>
            <a:off x="1523880" y="205740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676520" y="1981080"/>
            <a:ext cx="1522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752480" y="18288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752480" y="16002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1676520" y="137160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 name=""/>
          <p:cNvSpPr/>
          <p:nvPr/>
        </p:nvSpPr>
        <p:spPr>
          <a:xfrm flipH="1">
            <a:off x="761760" y="1981080"/>
            <a:ext cx="1522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1600200" y="1142640"/>
            <a:ext cx="1522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1219320" y="1066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1371600" y="106632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flipV="1">
            <a:off x="914040" y="114264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flipV="1">
            <a:off x="761760" y="1295280"/>
            <a:ext cx="1522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761760" y="152388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685440" y="17524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 name=""/>
          <p:cNvSpPr/>
          <p:nvPr/>
        </p:nvSpPr>
        <p:spPr>
          <a:xfrm flipH="1">
            <a:off x="1143000" y="2133720"/>
            <a:ext cx="763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4800240" y="228600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4800240" y="2590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4876560" y="320040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4876560" y="289548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038480" y="2133720"/>
            <a:ext cx="381240" cy="596880"/>
          </a:xfrm>
          <a:custGeom>
            <a:avLst/>
            <a:gdLst/>
            <a:ahLst/>
            <a:rect l="l" t="t" r="r" b="b"/>
            <a:pathLst>
              <a:path w="240" h="376">
                <a:moveTo>
                  <a:pt x="0" y="240"/>
                </a:moveTo>
                <a:cubicBezTo>
                  <a:pt x="4" y="308"/>
                  <a:pt x="8" y="376"/>
                  <a:pt x="48" y="336"/>
                </a:cubicBezTo>
                <a:cubicBezTo>
                  <a:pt x="88" y="296"/>
                  <a:pt x="216" y="56"/>
                  <a:pt x="240" y="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4114800" y="2743200"/>
            <a:ext cx="38088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191120" y="2819520"/>
            <a:ext cx="22860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990720" y="1523880"/>
            <a:ext cx="5331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219320" y="1600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943600" y="4495680"/>
            <a:ext cx="4572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4495680" y="44956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105520" y="4495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581280" y="4495680"/>
            <a:ext cx="4572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819520" y="4495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2286000" y="44956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09480" y="5105520"/>
            <a:ext cx="7772400" cy="23036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1</a:t>
            </a:r>
            <a:r>
              <a:rPr b="1" lang="ar-SA" sz="2400" spc="-1" strike="noStrike">
                <a:solidFill>
                  <a:srgbClr val="000000"/>
                </a:solidFill>
                <a:latin typeface="Times New Roman"/>
              </a:rPr>
              <a:t>) ماهو اسم القاتل                                </a:t>
            </a:r>
            <a:r>
              <a:rPr b="1" lang="ar-SA" sz="2400" spc="-1" strike="noStrike">
                <a:solidFill>
                  <a:srgbClr val="000000"/>
                </a:solidFill>
                <a:latin typeface="Times New Roman"/>
              </a:rPr>
              <a:t>2</a:t>
            </a:r>
            <a:r>
              <a:rPr b="1" lang="ar-SA" sz="2400" spc="-1" strike="noStrike">
                <a:solidFill>
                  <a:srgbClr val="000000"/>
                </a:solidFill>
                <a:latin typeface="Times New Roman"/>
              </a:rPr>
              <a:t>) ماهي مهنة القاتل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3</a:t>
            </a:r>
            <a:r>
              <a:rPr b="1" lang="ar-SA" sz="2400" spc="-1" strike="noStrike">
                <a:solidFill>
                  <a:srgbClr val="000000"/>
                </a:solidFill>
                <a:latin typeface="Times New Roman"/>
              </a:rPr>
              <a:t>) متى وقعت الجريمة                           </a:t>
            </a:r>
            <a:r>
              <a:rPr b="1" lang="ar-SA" sz="2400" spc="-1" strike="noStrike">
                <a:solidFill>
                  <a:srgbClr val="000000"/>
                </a:solidFill>
                <a:latin typeface="Times New Roman"/>
              </a:rPr>
              <a:t>4</a:t>
            </a:r>
            <a:r>
              <a:rPr b="1" lang="ar-SA" sz="2400" spc="-1" strike="noStrike">
                <a:solidFill>
                  <a:srgbClr val="000000"/>
                </a:solidFill>
                <a:latin typeface="Times New Roman"/>
              </a:rPr>
              <a:t>) أين كان مكان الجريمة</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5</a:t>
            </a:r>
            <a:r>
              <a:rPr b="1" lang="ar-SA" sz="2400" spc="-1" strike="noStrike">
                <a:solidFill>
                  <a:srgbClr val="000000"/>
                </a:solidFill>
                <a:latin typeface="Times New Roman"/>
              </a:rPr>
              <a:t>) ماهو اسم المقتو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ffffff"/>
            </a:gs>
            <a:gs pos="100000">
              <a:srgbClr val="66cc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هارات التفكير الابداعي</a:t>
            </a:r>
            <a:endParaRPr b="0" lang="en-US" sz="4400" spc="-1" strike="noStrike">
              <a:solidFill>
                <a:srgbClr val="000000"/>
              </a:solidFill>
              <a:latin typeface="Times New Roman"/>
            </a:endParaRPr>
          </a:p>
        </p:txBody>
      </p:sp>
      <p:sp>
        <p:nvSpPr>
          <p:cNvPr id="120" name="PlaceHolder 2"/>
          <p:cNvSpPr>
            <a:spLocks noGrp="1"/>
          </p:cNvSpPr>
          <p:nvPr>
            <p:ph/>
          </p:nvPr>
        </p:nvSpPr>
        <p:spPr>
          <a:xfrm>
            <a:off x="304920" y="1371240"/>
            <a:ext cx="8153280" cy="4724280"/>
          </a:xfrm>
          <a:prstGeom prst="rect">
            <a:avLst/>
          </a:prstGeom>
          <a:noFill/>
          <a:ln w="0">
            <a:noFill/>
          </a:ln>
        </p:spPr>
        <p:txBody>
          <a:bodyPr lIns="90000" rIns="90000" tIns="46800" bIns="46800" anchor="t">
            <a:normAutofit fontScale="95000"/>
          </a:bodyPr>
          <a:p>
            <a:pPr marL="578880" indent="-5788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طلاقة  :  القدرة على توليد عدد كبير من البدائل أاو المترادفات او الأفكار أو لا المشكلات أو الاستعمالات              وهي انواع : (لفظية: اكبر عدد من الكلمات / جميع الاستعمالات الممكنة/...........)   (شكلية:الرسم السريع لعدد من الامثلة والتفصيلات او الاستجابة لمثير بصري مثال: كون أكبر عدد من الاشكال باستخدام الخطوط او الدوائر  </a:t>
            </a:r>
            <a:endParaRPr b="0" lang="en-US" sz="3200" spc="-1" strike="noStrike">
              <a:solidFill>
                <a:srgbClr val="000000"/>
              </a:solidFill>
              <a:latin typeface="Times New Roman"/>
            </a:endParaRPr>
          </a:p>
          <a:p>
            <a:pPr marL="578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8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
          <p:cNvSpPr/>
          <p:nvPr/>
        </p:nvSpPr>
        <p:spPr>
          <a:xfrm>
            <a:off x="1676520" y="4572000"/>
            <a:ext cx="13716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752480" y="5562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971800" y="53341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ffffff"/>
            </a:gs>
            <a:gs pos="100000">
              <a:srgbClr val="66cc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762120" y="609480"/>
            <a:ext cx="7772400" cy="5562720"/>
          </a:xfrm>
          <a:prstGeom prst="rect">
            <a:avLst/>
          </a:prstGeom>
          <a:noFill/>
          <a:ln w="0">
            <a:noFill/>
          </a:ln>
        </p:spPr>
        <p:txBody>
          <a:bodyPr lIns="90000" rIns="90000" tIns="46800" bIns="46800" anchor="t">
            <a:normAutofit fontScale="91000"/>
          </a:bodyPr>
          <a:p>
            <a:pPr marL="312120" indent="-31212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ثانيا :المرونة .</a:t>
            </a:r>
            <a:endParaRPr b="0" lang="en-US" sz="2800" spc="-1" strike="noStrike">
              <a:solidFill>
                <a:srgbClr val="000000"/>
              </a:solidFill>
              <a:latin typeface="Times New Roman"/>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قدرة على توليد أفكار متنوعة ليست من نوع الأفكار المتوقعة  (فكر في جميع الطرق التي يمكن أن تصممها لوزن الاشياء الخفيفة جداً)</a:t>
            </a:r>
            <a:endParaRPr b="0" lang="en-US" sz="2800" spc="-1" strike="noStrike">
              <a:solidFill>
                <a:srgbClr val="000000"/>
              </a:solidFill>
              <a:latin typeface="Times New Roman"/>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ثالثاً :الاصالة </a:t>
            </a:r>
            <a:endParaRPr b="0" lang="en-US" sz="2800" spc="-1" strike="noStrike">
              <a:solidFill>
                <a:srgbClr val="000000"/>
              </a:solidFill>
              <a:latin typeface="Times New Roman"/>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وهي الجدة والتفرد وهي اكثر الخصائص ارتباطا بالابداع</a:t>
            </a:r>
            <a:endParaRPr b="0" lang="en-US" sz="2800" spc="-1" strike="noStrike">
              <a:solidFill>
                <a:srgbClr val="000000"/>
              </a:solidFill>
              <a:latin typeface="Times New Roman"/>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رابعاً : الافاضة : القدرة على اضافة تفاصيل جديده</a:t>
            </a:r>
            <a:endParaRPr b="0" lang="en-US" sz="2800" spc="-1" strike="noStrike">
              <a:solidFill>
                <a:srgbClr val="000000"/>
              </a:solidFill>
              <a:latin typeface="Times New Roman"/>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خامساً : الحساسية للمشكلات :</a:t>
            </a:r>
            <a:endParaRPr b="0" lang="en-US" sz="2800" spc="-1" strike="noStrike">
              <a:solidFill>
                <a:srgbClr val="000000"/>
              </a:solidFill>
              <a:latin typeface="Times New Roman"/>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وتعني ان بعض الناس اسرع من غيرهم في ملاحظة المشكلة والتحقق من وجودها .</a:t>
            </a:r>
            <a:endParaRPr b="0" lang="en-US" sz="2800" spc="-1" strike="noStrike">
              <a:solidFill>
                <a:srgbClr val="000000"/>
              </a:solidFill>
              <a:latin typeface="Times New Roman"/>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ffffff"/>
            </a:gs>
            <a:gs pos="100000">
              <a:srgbClr val="66cc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هناك عدد من الكلمات والعبارات قاتله للافكار منها</a:t>
            </a:r>
            <a:endParaRPr b="0" lang="en-US" sz="3600" spc="-1" strike="noStrike">
              <a:solidFill>
                <a:srgbClr val="000000"/>
              </a:solidFill>
              <a:latin typeface="Times New Roman"/>
            </a:endParaRPr>
          </a:p>
        </p:txBody>
      </p:sp>
      <p:sp>
        <p:nvSpPr>
          <p:cNvPr id="12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2000"/>
          </a:bodyPr>
          <a:p>
            <a:pPr marL="560520" indent="-56052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000000"/>
                </a:solidFill>
                <a:latin typeface="Times New Roman"/>
              </a:rPr>
              <a:t>جربنا هذه الفكرة من قبل</a:t>
            </a:r>
            <a:endParaRPr b="0" lang="en-US" sz="3200" spc="-1" strike="noStrike">
              <a:solidFill>
                <a:srgbClr val="000000"/>
              </a:solidFill>
              <a:latin typeface="Times New Roman"/>
            </a:endParaRPr>
          </a:p>
          <a:p>
            <a:pPr marL="560520" indent="-56052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ستستغرق هذه الفكرة وقتا طويلا</a:t>
            </a:r>
            <a:endParaRPr b="0" lang="en-US" sz="3200" spc="-1" strike="noStrike">
              <a:solidFill>
                <a:srgbClr val="000000"/>
              </a:solidFill>
              <a:latin typeface="Times New Roman"/>
            </a:endParaRPr>
          </a:p>
          <a:p>
            <a:pPr marL="560520" indent="-56052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ستكلف هذه الفكرة كثيرا من المال </a:t>
            </a:r>
            <a:endParaRPr b="0" lang="en-US" sz="3200" spc="-1" strike="noStrike">
              <a:solidFill>
                <a:srgbClr val="000000"/>
              </a:solidFill>
              <a:latin typeface="Times New Roman"/>
            </a:endParaRPr>
          </a:p>
          <a:p>
            <a:pPr marL="560520" indent="-56052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هذه ليست وظيفتي</a:t>
            </a:r>
            <a:endParaRPr b="0" lang="en-US" sz="3200" spc="-1" strike="noStrike">
              <a:solidFill>
                <a:srgbClr val="000000"/>
              </a:solidFill>
              <a:latin typeface="Times New Roman"/>
            </a:endParaRPr>
          </a:p>
          <a:p>
            <a:pPr marL="560520" indent="-56052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هذا ليس من شغلك</a:t>
            </a:r>
            <a:endParaRPr b="0" lang="en-US" sz="3200" spc="-1" strike="noStrike">
              <a:solidFill>
                <a:srgbClr val="000000"/>
              </a:solidFill>
              <a:latin typeface="Times New Roman"/>
            </a:endParaRPr>
          </a:p>
          <a:p>
            <a:pPr marL="560520" indent="-56052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هذا مستحيل</a:t>
            </a:r>
            <a:endParaRPr b="0" lang="en-US" sz="3200" spc="-1" strike="noStrike">
              <a:solidFill>
                <a:srgbClr val="000000"/>
              </a:solidFill>
              <a:latin typeface="Times New Roman"/>
            </a:endParaRPr>
          </a:p>
          <a:p>
            <a:pPr marL="560520" indent="-56052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يمكن ان نطبق هذه الفكرة في السنوات القادمة</a:t>
            </a:r>
            <a:endParaRPr b="0" lang="en-US" sz="3200" spc="-1" strike="noStrike">
              <a:solidFill>
                <a:srgbClr val="000000"/>
              </a:solidFill>
              <a:latin typeface="Times New Roman"/>
            </a:endParaRPr>
          </a:p>
          <a:p>
            <a:pPr marL="560520" indent="-56052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هذه فكره غبي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26">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26">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26">
                                            <p:txEl>
                                              <p:pRg st="3" end="3"/>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26">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26">
                                            <p:txEl>
                                              <p:pRg st="5" end="5"/>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26">
                                            <p:txEl>
                                              <p:pRg st="6" end="6"/>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2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ffffff"/>
            </a:gs>
            <a:gs pos="100000">
              <a:srgbClr val="66cc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تعريف التفكير الإبداعى</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1066320" y="2362320"/>
            <a:ext cx="7239240" cy="4038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هو نشاط عقلي ، مركب وهادف ، توجهه رغبة قويه في البحث عن حلول ، او التوصل الى نواتج اصيلة لم تكن معروفة سابقا</a:t>
            </a:r>
            <a:r>
              <a:rPr b="0" lang="ar-SA" sz="3200" spc="-1" strike="noStrike">
                <a:solidFill>
                  <a:srgbClr val="000000"/>
                </a:solidFill>
                <a:latin typeface="Times New Roman"/>
              </a:rPr>
              <a:t> ً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ويتميزا لتفكير الإبداعى بـ</a:t>
            </a:r>
            <a:r>
              <a:rPr b="0" lang="ar-SA" sz="3200" spc="-1" strike="noStrike">
                <a:solidFill>
                  <a:srgbClr val="000000"/>
                </a:solidFill>
                <a:latin typeface="Times New Roman"/>
              </a:rPr>
              <a:t> </a:t>
            </a:r>
            <a:r>
              <a:rPr b="0" lang="ar-SA" sz="3200" spc="-1" strike="noStrike">
                <a:solidFill>
                  <a:srgbClr val="000000"/>
                </a:solidFill>
                <a:latin typeface="Times New Roman"/>
              </a:rPr>
              <a:t>:</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ـ الشمولية              ـ والتعقيد</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نظرا لاحتوائه  على عناصر معرفية وانفعالية</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أخلاقية متداخلة تشكل حالة ذهنية فريد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ffffff"/>
            </a:gs>
            <a:gs pos="100000">
              <a:srgbClr val="66cc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ابداع ومخ الإنسان</a:t>
            </a: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456840" y="1676160"/>
            <a:ext cx="8077320" cy="4190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خ الإنسان عبارة عن عضو يزن </a:t>
            </a:r>
            <a:r>
              <a:rPr b="0" lang="ar-SA" sz="3200" spc="-1" strike="noStrike">
                <a:solidFill>
                  <a:srgbClr val="000000"/>
                </a:solidFill>
                <a:latin typeface="Times New Roman"/>
              </a:rPr>
              <a:t>3</a:t>
            </a:r>
            <a:r>
              <a:rPr b="0" lang="ar-SA" sz="3200" spc="-1" strike="noStrike">
                <a:solidFill>
                  <a:srgbClr val="000000"/>
                </a:solidFill>
                <a:latin typeface="Times New Roman"/>
              </a:rPr>
              <a:t> كجم</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هو مقسم الى فصين ايمن وأيسر</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كل قسم يعمل كمخ مستقل</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ـ التصالب العصبي</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ـ ذكاء الإنسان لا يعتمد على عدد الخلايا العصبية ( عشرة آلاف مليون خلية في المخ الواحد) وانما على درجة التفاعل والارتباط بين هذه الخلاي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ffffff"/>
            </a:gs>
            <a:gs pos="100000">
              <a:srgbClr val="66cc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rPr>
              <a:t>مقارنة بين مخ الإنسان بأكبر حاسوب في العالم</a:t>
            </a:r>
            <a:endParaRPr b="0" lang="en-US" sz="3600" spc="-1" strike="noStrike">
              <a:solidFill>
                <a:srgbClr val="000000"/>
              </a:solidFill>
              <a:latin typeface="Times New Roman"/>
            </a:endParaRPr>
          </a:p>
        </p:txBody>
      </p:sp>
      <p:graphicFrame>
        <p:nvGraphicFramePr>
          <p:cNvPr id="49" name=""/>
          <p:cNvGraphicFramePr/>
          <p:nvPr/>
        </p:nvGraphicFramePr>
        <p:xfrm>
          <a:off x="1295280" y="2286000"/>
          <a:ext cx="6324480" cy="3392640"/>
        </p:xfrm>
        <a:graphic>
          <a:graphicData uri="http://schemas.openxmlformats.org/drawingml/2006/table">
            <a:tbl>
              <a:tblPr/>
              <a:tblGrid>
                <a:gridCol w="3162240"/>
                <a:gridCol w="3162240"/>
              </a:tblGrid>
              <a:tr h="5983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خ الإنسان</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حاسوب كري</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9432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الوزن  ( </a:t>
                      </a:r>
                      <a:r>
                        <a:rPr b="1" lang="ar-SA" sz="2800" spc="-1" strike="noStrike">
                          <a:solidFill>
                            <a:srgbClr val="000000"/>
                          </a:solidFill>
                          <a:latin typeface="Times New Roman"/>
                        </a:rPr>
                        <a:t>3</a:t>
                      </a:r>
                      <a:r>
                        <a:rPr b="1" lang="ar-SA" sz="2800" spc="-1" strike="noStrike">
                          <a:solidFill>
                            <a:srgbClr val="000000"/>
                          </a:solidFill>
                          <a:latin typeface="Times New Roman"/>
                        </a:rPr>
                        <a:t> ) كيلو جرام</a:t>
                      </a:r>
                      <a:endParaRPr b="0" lang="en-US" sz="2800" spc="-1" strike="noStrike">
                        <a:solidFill>
                          <a:srgbClr val="000000"/>
                        </a:solidFill>
                        <a:latin typeface="Times New Roman"/>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a:t>
                      </a:r>
                      <a:r>
                        <a:rPr b="1" lang="ar-SA" sz="2800" spc="-1" strike="noStrike">
                          <a:solidFill>
                            <a:srgbClr val="000000"/>
                          </a:solidFill>
                          <a:latin typeface="Times New Roman"/>
                        </a:rPr>
                        <a:t>يقوم المخ بنفس العمليات خلال دقيقة واحدة</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الوزن (</a:t>
                      </a:r>
                      <a:r>
                        <a:rPr b="1" lang="ar-SA" sz="2800" spc="-1" strike="noStrike">
                          <a:solidFill>
                            <a:srgbClr val="000000"/>
                          </a:solidFill>
                          <a:latin typeface="Times New Roman"/>
                        </a:rPr>
                        <a:t>7</a:t>
                      </a:r>
                      <a:r>
                        <a:rPr b="1" lang="ar-SA" sz="2800" spc="-1" strike="noStrike">
                          <a:solidFill>
                            <a:srgbClr val="000000"/>
                          </a:solidFill>
                          <a:latin typeface="Times New Roman"/>
                        </a:rPr>
                        <a:t>) طن</a:t>
                      </a:r>
                      <a:endParaRPr b="0" lang="en-US" sz="2800" spc="-1" strike="noStrike">
                        <a:solidFill>
                          <a:srgbClr val="000000"/>
                        </a:solidFill>
                        <a:latin typeface="Times New Roman"/>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يعمل ( </a:t>
                      </a:r>
                      <a:r>
                        <a:rPr b="1" lang="ar-SA" sz="2800" spc="-1" strike="noStrike">
                          <a:solidFill>
                            <a:srgbClr val="000000"/>
                          </a:solidFill>
                          <a:latin typeface="Times New Roman"/>
                        </a:rPr>
                        <a:t>400</a:t>
                      </a:r>
                      <a:r>
                        <a:rPr b="1" lang="ar-SA" sz="2800" spc="-1" strike="noStrike">
                          <a:solidFill>
                            <a:srgbClr val="000000"/>
                          </a:solidFill>
                          <a:latin typeface="Times New Roman"/>
                        </a:rPr>
                        <a:t>) مليون عملية حسابية في كل ثانية ولمدة مائة عام</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ffffff"/>
            </a:gs>
            <a:gs pos="100000">
              <a:srgbClr val="66cc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تمرين :اكمل  العدد الناقص</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graphicFrame>
        <p:nvGraphicFramePr>
          <p:cNvPr id="51" name=""/>
          <p:cNvGraphicFramePr/>
          <p:nvPr/>
        </p:nvGraphicFramePr>
        <p:xfrm>
          <a:off x="1523880" y="1879560"/>
          <a:ext cx="6096240" cy="4064040"/>
        </p:xfrm>
        <a:graphic>
          <a:graphicData uri="http://schemas.openxmlformats.org/drawingml/2006/table">
            <a:tbl>
              <a:tblPr/>
              <a:tblGrid>
                <a:gridCol w="2032200"/>
                <a:gridCol w="2031840"/>
                <a:gridCol w="2032200"/>
              </a:tblGrid>
              <a:tr h="1354320">
                <a:tc>
                  <a:txBody>
                    <a:bodyPr lIns="90000" rIns="90000" tIns="46800" bIns="46800" anchor="ctr">
                      <a:no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000000"/>
                          </a:solidFill>
                          <a:latin typeface="Times New Roman"/>
                        </a:rPr>
                        <a:t>4</a:t>
                      </a:r>
                      <a:endParaRPr b="0" lang="en-US" sz="8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000000"/>
                          </a:solidFill>
                          <a:latin typeface="Times New Roman"/>
                        </a:rPr>
                        <a:t>3</a:t>
                      </a:r>
                      <a:endParaRPr b="0" lang="en-US" sz="8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000000"/>
                          </a:solidFill>
                          <a:latin typeface="Times New Roman"/>
                        </a:rPr>
                        <a:t>7</a:t>
                      </a:r>
                      <a:endParaRPr b="0" lang="en-US" sz="8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55760">
                <a:tc>
                  <a:txBody>
                    <a:bodyPr lIns="90000" rIns="90000" tIns="46800" bIns="46800" anchor="ctr">
                      <a:no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000000"/>
                          </a:solidFill>
                          <a:latin typeface="Times New Roman"/>
                        </a:rPr>
                        <a:t>3</a:t>
                      </a:r>
                      <a:endParaRPr b="0" lang="en-US" sz="8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000000"/>
                          </a:solidFill>
                          <a:latin typeface="Times New Roman"/>
                        </a:rPr>
                        <a:t>2</a:t>
                      </a:r>
                      <a:endParaRPr b="0" lang="en-US" sz="8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353960">
                <a:tc>
                  <a:txBody>
                    <a:bodyPr lIns="90000" rIns="90000" tIns="46800" bIns="46800" anchor="ctr">
                      <a:no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000000"/>
                          </a:solidFill>
                          <a:latin typeface="Times New Roman"/>
                        </a:rPr>
                        <a:t>1</a:t>
                      </a:r>
                      <a:endParaRPr b="0" lang="en-US" sz="8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000000"/>
                          </a:solidFill>
                          <a:latin typeface="Times New Roman"/>
                        </a:rPr>
                        <a:t>1</a:t>
                      </a:r>
                      <a:endParaRPr b="0" lang="en-US" sz="8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000000"/>
                          </a:solidFill>
                          <a:latin typeface="Times New Roman"/>
                        </a:rPr>
                        <a:t>2</a:t>
                      </a:r>
                      <a:endParaRPr b="0" lang="en-US" sz="8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ffffff"/>
            </a:gs>
            <a:gs pos="100000">
              <a:srgbClr val="66cc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480"/>
            <a:ext cx="7772400" cy="6019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 </a:t>
            </a:r>
            <a:r>
              <a:rPr b="1" lang="ar-SA" sz="4400" spc="-1" strike="noStrike" u="sng">
                <a:solidFill>
                  <a:srgbClr val="000000"/>
                </a:solidFill>
                <a:uFillTx/>
                <a:latin typeface="Times New Roman"/>
              </a:rPr>
              <a:t>حقائق عن مخ الإنسان</a:t>
            </a:r>
            <a:r>
              <a:rPr b="0" lang="ar-SA" sz="4400" spc="-1" strike="noStrike">
                <a:solidFill>
                  <a:srgbClr val="000000"/>
                </a:solidFill>
                <a:latin typeface="Times New Roman"/>
              </a:rPr>
              <a:t>     </a:t>
            </a:r>
            <a:br>
              <a:rPr sz="4400"/>
            </a:br>
            <a:r>
              <a:rPr b="0" lang="ar-SA" sz="4400" spc="-1" strike="noStrike">
                <a:solidFill>
                  <a:srgbClr val="000000"/>
                </a:solidFill>
                <a:latin typeface="Times New Roman"/>
              </a:rPr>
              <a:t>. </a:t>
            </a:r>
            <a:r>
              <a:rPr b="1" lang="ar-SA" sz="3200" spc="-1" strike="noStrike">
                <a:solidFill>
                  <a:srgbClr val="000000"/>
                </a:solidFill>
                <a:latin typeface="Times New Roman"/>
              </a:rPr>
              <a:t>لو جمعت الأ عمال التي تقوم بها شركات الاتصال في العالم وكلفنا ان يقوم بها المخ لقام بها جزء لا يتعدى حبة الفول .</a:t>
            </a:r>
            <a:br>
              <a:rPr sz="3200"/>
            </a:br>
            <a:r>
              <a:rPr b="0" lang="ar-SA" sz="4400" spc="-1" strike="noStrike">
                <a:solidFill>
                  <a:srgbClr val="000000"/>
                </a:solidFill>
                <a:latin typeface="Times New Roman"/>
              </a:rPr>
              <a:t> . </a:t>
            </a:r>
            <a:r>
              <a:rPr b="1" lang="ar-SA" sz="3600" spc="-1" strike="noStrike">
                <a:solidFill>
                  <a:srgbClr val="000000"/>
                </a:solidFill>
                <a:latin typeface="Times New Roman"/>
              </a:rPr>
              <a:t>اكتشف البرفسور مارك روز نزن من جامعة كاليفورنيا انه لو تم تغذية المخ بمعلومات جديدة تساوي عشر معلومات في كل ثانية ولمدة ستين سنه بدون توقف فان مقدار ماتم تغذيته من مخ الإنسان من هذه المعلومات يعادل اقل من نصف المساحة المخصصة لتخزين المعلومات فيه</a:t>
            </a:r>
            <a:r>
              <a:rPr b="1" lang="ar-SA" sz="3600" spc="-1" strike="noStrike">
                <a:solidFill>
                  <a:srgbClr val="000000"/>
                </a:solidFill>
                <a:latin typeface="Times New Roman"/>
              </a:rPr>
              <a:t> </a:t>
            </a:r>
            <a:r>
              <a:rPr b="1" lang="ar-SA"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ffffff"/>
            </a:gs>
            <a:gs pos="100000">
              <a:srgbClr val="66cc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Times New Roman"/>
              </a:rPr>
              <a:t>رسم توضيحي لمخ الإنسان</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
          <p:cNvSpPr/>
          <p:nvPr/>
        </p:nvSpPr>
        <p:spPr>
          <a:xfrm>
            <a:off x="3352680" y="2666880"/>
            <a:ext cx="236232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321080" y="2612880"/>
            <a:ext cx="561960" cy="255600"/>
          </a:xfrm>
          <a:custGeom>
            <a:avLst/>
            <a:gdLst/>
            <a:ahLst/>
            <a:rect l="l" t="t" r="r" b="b"/>
            <a:pathLst>
              <a:path w="354" h="161">
                <a:moveTo>
                  <a:pt x="354" y="95"/>
                </a:moveTo>
                <a:cubicBezTo>
                  <a:pt x="290" y="0"/>
                  <a:pt x="266" y="32"/>
                  <a:pt x="132" y="43"/>
                </a:cubicBezTo>
                <a:cubicBezTo>
                  <a:pt x="103" y="161"/>
                  <a:pt x="140" y="158"/>
                  <a:pt x="66" y="134"/>
                </a:cubicBezTo>
                <a:cubicBezTo>
                  <a:pt x="62" y="121"/>
                  <a:pt x="63" y="105"/>
                  <a:pt x="53" y="95"/>
                </a:cubicBezTo>
                <a:cubicBezTo>
                  <a:pt x="43" y="85"/>
                  <a:pt x="0" y="82"/>
                  <a:pt x="14" y="82"/>
                </a:cubicBezTo>
                <a:cubicBezTo>
                  <a:pt x="36" y="82"/>
                  <a:pt x="57" y="91"/>
                  <a:pt x="79" y="95"/>
                </a:cubicBezTo>
                <a:cubicBezTo>
                  <a:pt x="104" y="119"/>
                  <a:pt x="125" y="154"/>
                  <a:pt x="171" y="108"/>
                </a:cubicBezTo>
                <a:cubicBezTo>
                  <a:pt x="181" y="98"/>
                  <a:pt x="145" y="92"/>
                  <a:pt x="132" y="95"/>
                </a:cubicBezTo>
                <a:cubicBezTo>
                  <a:pt x="120" y="97"/>
                  <a:pt x="115" y="112"/>
                  <a:pt x="106" y="12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4384800" y="5527800"/>
            <a:ext cx="492120" cy="195120"/>
          </a:xfrm>
          <a:custGeom>
            <a:avLst/>
            <a:gdLst/>
            <a:ahLst/>
            <a:rect l="l" t="t" r="r" b="b"/>
            <a:pathLst>
              <a:path w="310" h="123">
                <a:moveTo>
                  <a:pt x="249" y="79"/>
                </a:moveTo>
                <a:cubicBezTo>
                  <a:pt x="208" y="93"/>
                  <a:pt x="179" y="109"/>
                  <a:pt x="131" y="79"/>
                </a:cubicBezTo>
                <a:cubicBezTo>
                  <a:pt x="114" y="69"/>
                  <a:pt x="114" y="44"/>
                  <a:pt x="105" y="26"/>
                </a:cubicBezTo>
                <a:cubicBezTo>
                  <a:pt x="88" y="30"/>
                  <a:pt x="64" y="25"/>
                  <a:pt x="53" y="39"/>
                </a:cubicBezTo>
                <a:cubicBezTo>
                  <a:pt x="45" y="50"/>
                  <a:pt x="53" y="85"/>
                  <a:pt x="66" y="79"/>
                </a:cubicBezTo>
                <a:cubicBezTo>
                  <a:pt x="82" y="71"/>
                  <a:pt x="75" y="44"/>
                  <a:pt x="79" y="26"/>
                </a:cubicBezTo>
                <a:cubicBezTo>
                  <a:pt x="92" y="30"/>
                  <a:pt x="110" y="28"/>
                  <a:pt x="118" y="39"/>
                </a:cubicBezTo>
                <a:cubicBezTo>
                  <a:pt x="134" y="62"/>
                  <a:pt x="144" y="118"/>
                  <a:pt x="144" y="118"/>
                </a:cubicBezTo>
                <a:cubicBezTo>
                  <a:pt x="310" y="91"/>
                  <a:pt x="177" y="123"/>
                  <a:pt x="105" y="79"/>
                </a:cubicBezTo>
                <a:cubicBezTo>
                  <a:pt x="89" y="70"/>
                  <a:pt x="105" y="39"/>
                  <a:pt x="92" y="26"/>
                </a:cubicBezTo>
                <a:cubicBezTo>
                  <a:pt x="69" y="3"/>
                  <a:pt x="30" y="10"/>
                  <a:pt x="0" y="0"/>
                </a:cubicBezTo>
                <a:cubicBezTo>
                  <a:pt x="20" y="60"/>
                  <a:pt x="13" y="25"/>
                  <a:pt x="13" y="10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467240" y="2868480"/>
            <a:ext cx="125280" cy="2784600"/>
          </a:xfrm>
          <a:custGeom>
            <a:avLst/>
            <a:gdLst/>
            <a:ahLst/>
            <a:rect l="l" t="t" r="r" b="b"/>
            <a:pathLst>
              <a:path w="79" h="1754">
                <a:moveTo>
                  <a:pt x="1" y="0"/>
                </a:moveTo>
                <a:cubicBezTo>
                  <a:pt x="11" y="243"/>
                  <a:pt x="0" y="247"/>
                  <a:pt x="40" y="405"/>
                </a:cubicBezTo>
                <a:cubicBezTo>
                  <a:pt x="51" y="869"/>
                  <a:pt x="79" y="1289"/>
                  <a:pt x="79" y="175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468680" y="2846520"/>
            <a:ext cx="171720" cy="2806560"/>
          </a:xfrm>
          <a:custGeom>
            <a:avLst/>
            <a:gdLst/>
            <a:ahLst/>
            <a:rect l="l" t="t" r="r" b="b"/>
            <a:pathLst>
              <a:path w="108" h="1768">
                <a:moveTo>
                  <a:pt x="52" y="1768"/>
                </a:moveTo>
                <a:cubicBezTo>
                  <a:pt x="53" y="1749"/>
                  <a:pt x="94" y="1403"/>
                  <a:pt x="65" y="1283"/>
                </a:cubicBezTo>
                <a:cubicBezTo>
                  <a:pt x="58" y="1084"/>
                  <a:pt x="108" y="955"/>
                  <a:pt x="13" y="812"/>
                </a:cubicBezTo>
                <a:cubicBezTo>
                  <a:pt x="20" y="592"/>
                  <a:pt x="58" y="467"/>
                  <a:pt x="0" y="288"/>
                </a:cubicBezTo>
                <a:cubicBezTo>
                  <a:pt x="4" y="227"/>
                  <a:pt x="6" y="166"/>
                  <a:pt x="13" y="105"/>
                </a:cubicBezTo>
                <a:cubicBezTo>
                  <a:pt x="15" y="87"/>
                  <a:pt x="26" y="71"/>
                  <a:pt x="26" y="53"/>
                </a:cubicBezTo>
                <a:cubicBezTo>
                  <a:pt x="26" y="35"/>
                  <a:pt x="13" y="0"/>
                  <a:pt x="13"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651200" y="3033720"/>
            <a:ext cx="1001880" cy="2663640"/>
          </a:xfrm>
          <a:custGeom>
            <a:avLst/>
            <a:gdLst/>
            <a:ahLst/>
            <a:rect l="l" t="t" r="r" b="b"/>
            <a:pathLst>
              <a:path w="631" h="1678">
                <a:moveTo>
                  <a:pt x="42" y="1610"/>
                </a:moveTo>
                <a:cubicBezTo>
                  <a:pt x="167" y="1568"/>
                  <a:pt x="312" y="1678"/>
                  <a:pt x="251" y="1493"/>
                </a:cubicBezTo>
                <a:cubicBezTo>
                  <a:pt x="247" y="1481"/>
                  <a:pt x="234" y="1475"/>
                  <a:pt x="225" y="1466"/>
                </a:cubicBezTo>
                <a:cubicBezTo>
                  <a:pt x="247" y="1378"/>
                  <a:pt x="218" y="1427"/>
                  <a:pt x="330" y="1401"/>
                </a:cubicBezTo>
                <a:cubicBezTo>
                  <a:pt x="357" y="1395"/>
                  <a:pt x="408" y="1375"/>
                  <a:pt x="408" y="1375"/>
                </a:cubicBezTo>
                <a:cubicBezTo>
                  <a:pt x="430" y="1341"/>
                  <a:pt x="475" y="1272"/>
                  <a:pt x="434" y="1231"/>
                </a:cubicBezTo>
                <a:cubicBezTo>
                  <a:pt x="421" y="1218"/>
                  <a:pt x="399" y="1222"/>
                  <a:pt x="382" y="1218"/>
                </a:cubicBezTo>
                <a:cubicBezTo>
                  <a:pt x="347" y="1227"/>
                  <a:pt x="308" y="1226"/>
                  <a:pt x="277" y="1244"/>
                </a:cubicBezTo>
                <a:cubicBezTo>
                  <a:pt x="260" y="1254"/>
                  <a:pt x="265" y="1282"/>
                  <a:pt x="251" y="1296"/>
                </a:cubicBezTo>
                <a:cubicBezTo>
                  <a:pt x="241" y="1306"/>
                  <a:pt x="225" y="1305"/>
                  <a:pt x="212" y="1309"/>
                </a:cubicBezTo>
                <a:cubicBezTo>
                  <a:pt x="122" y="1370"/>
                  <a:pt x="163" y="1352"/>
                  <a:pt x="94" y="1375"/>
                </a:cubicBezTo>
                <a:cubicBezTo>
                  <a:pt x="41" y="1295"/>
                  <a:pt x="34" y="1209"/>
                  <a:pt x="120" y="1152"/>
                </a:cubicBezTo>
                <a:cubicBezTo>
                  <a:pt x="247" y="1156"/>
                  <a:pt x="373" y="1165"/>
                  <a:pt x="500" y="1165"/>
                </a:cubicBezTo>
                <a:cubicBezTo>
                  <a:pt x="531" y="1165"/>
                  <a:pt x="574" y="1177"/>
                  <a:pt x="591" y="1152"/>
                </a:cubicBezTo>
                <a:cubicBezTo>
                  <a:pt x="631" y="1092"/>
                  <a:pt x="583" y="1053"/>
                  <a:pt x="552" y="1021"/>
                </a:cubicBezTo>
                <a:cubicBezTo>
                  <a:pt x="429" y="1031"/>
                  <a:pt x="304" y="1048"/>
                  <a:pt x="186" y="1087"/>
                </a:cubicBezTo>
                <a:cubicBezTo>
                  <a:pt x="137" y="1071"/>
                  <a:pt x="77" y="1019"/>
                  <a:pt x="133" y="956"/>
                </a:cubicBezTo>
                <a:cubicBezTo>
                  <a:pt x="151" y="935"/>
                  <a:pt x="212" y="930"/>
                  <a:pt x="212" y="930"/>
                </a:cubicBezTo>
                <a:cubicBezTo>
                  <a:pt x="314" y="947"/>
                  <a:pt x="422" y="971"/>
                  <a:pt x="500" y="890"/>
                </a:cubicBezTo>
                <a:cubicBezTo>
                  <a:pt x="518" y="836"/>
                  <a:pt x="531" y="816"/>
                  <a:pt x="500" y="746"/>
                </a:cubicBezTo>
                <a:cubicBezTo>
                  <a:pt x="494" y="733"/>
                  <a:pt x="473" y="739"/>
                  <a:pt x="461" y="733"/>
                </a:cubicBezTo>
                <a:cubicBezTo>
                  <a:pt x="447" y="726"/>
                  <a:pt x="434" y="716"/>
                  <a:pt x="421" y="707"/>
                </a:cubicBezTo>
                <a:cubicBezTo>
                  <a:pt x="381" y="711"/>
                  <a:pt x="279" y="708"/>
                  <a:pt x="264" y="746"/>
                </a:cubicBezTo>
                <a:cubicBezTo>
                  <a:pt x="204" y="896"/>
                  <a:pt x="300" y="818"/>
                  <a:pt x="212" y="877"/>
                </a:cubicBezTo>
                <a:cubicBezTo>
                  <a:pt x="183" y="870"/>
                  <a:pt x="130" y="861"/>
                  <a:pt x="107" y="838"/>
                </a:cubicBezTo>
                <a:cubicBezTo>
                  <a:pt x="85" y="816"/>
                  <a:pt x="55" y="760"/>
                  <a:pt x="55" y="760"/>
                </a:cubicBezTo>
                <a:cubicBezTo>
                  <a:pt x="49" y="736"/>
                  <a:pt x="26" y="679"/>
                  <a:pt x="55" y="655"/>
                </a:cubicBezTo>
                <a:cubicBezTo>
                  <a:pt x="76" y="637"/>
                  <a:pt x="133" y="629"/>
                  <a:pt x="133" y="629"/>
                </a:cubicBezTo>
                <a:cubicBezTo>
                  <a:pt x="248" y="637"/>
                  <a:pt x="351" y="660"/>
                  <a:pt x="461" y="642"/>
                </a:cubicBezTo>
                <a:cubicBezTo>
                  <a:pt x="507" y="571"/>
                  <a:pt x="535" y="478"/>
                  <a:pt x="434" y="445"/>
                </a:cubicBezTo>
                <a:cubicBezTo>
                  <a:pt x="408" y="449"/>
                  <a:pt x="375" y="439"/>
                  <a:pt x="356" y="458"/>
                </a:cubicBezTo>
                <a:cubicBezTo>
                  <a:pt x="337" y="477"/>
                  <a:pt x="354" y="513"/>
                  <a:pt x="343" y="537"/>
                </a:cubicBezTo>
                <a:cubicBezTo>
                  <a:pt x="335" y="554"/>
                  <a:pt x="316" y="563"/>
                  <a:pt x="303" y="576"/>
                </a:cubicBezTo>
                <a:cubicBezTo>
                  <a:pt x="245" y="547"/>
                  <a:pt x="220" y="547"/>
                  <a:pt x="199" y="485"/>
                </a:cubicBezTo>
                <a:cubicBezTo>
                  <a:pt x="211" y="424"/>
                  <a:pt x="196" y="417"/>
                  <a:pt x="251" y="393"/>
                </a:cubicBezTo>
                <a:cubicBezTo>
                  <a:pt x="276" y="382"/>
                  <a:pt x="330" y="367"/>
                  <a:pt x="330" y="367"/>
                </a:cubicBezTo>
                <a:cubicBezTo>
                  <a:pt x="333" y="365"/>
                  <a:pt x="395" y="328"/>
                  <a:pt x="395" y="314"/>
                </a:cubicBezTo>
                <a:cubicBezTo>
                  <a:pt x="395" y="222"/>
                  <a:pt x="371" y="245"/>
                  <a:pt x="317" y="210"/>
                </a:cubicBezTo>
                <a:cubicBezTo>
                  <a:pt x="293" y="194"/>
                  <a:pt x="274" y="173"/>
                  <a:pt x="251" y="157"/>
                </a:cubicBezTo>
                <a:cubicBezTo>
                  <a:pt x="234" y="161"/>
                  <a:pt x="211" y="156"/>
                  <a:pt x="199" y="170"/>
                </a:cubicBezTo>
                <a:cubicBezTo>
                  <a:pt x="178" y="194"/>
                  <a:pt x="173" y="269"/>
                  <a:pt x="159" y="301"/>
                </a:cubicBezTo>
                <a:cubicBezTo>
                  <a:pt x="153" y="316"/>
                  <a:pt x="139" y="326"/>
                  <a:pt x="133" y="341"/>
                </a:cubicBezTo>
                <a:cubicBezTo>
                  <a:pt x="122" y="366"/>
                  <a:pt x="116" y="393"/>
                  <a:pt x="107" y="419"/>
                </a:cubicBezTo>
                <a:cubicBezTo>
                  <a:pt x="103" y="432"/>
                  <a:pt x="94" y="458"/>
                  <a:pt x="94" y="458"/>
                </a:cubicBezTo>
                <a:cubicBezTo>
                  <a:pt x="68" y="454"/>
                  <a:pt x="37" y="460"/>
                  <a:pt x="15" y="445"/>
                </a:cubicBezTo>
                <a:cubicBezTo>
                  <a:pt x="0" y="435"/>
                  <a:pt x="2" y="411"/>
                  <a:pt x="2" y="393"/>
                </a:cubicBezTo>
                <a:cubicBezTo>
                  <a:pt x="2" y="343"/>
                  <a:pt x="67" y="303"/>
                  <a:pt x="94" y="262"/>
                </a:cubicBezTo>
                <a:cubicBezTo>
                  <a:pt x="90" y="210"/>
                  <a:pt x="95" y="156"/>
                  <a:pt x="81" y="105"/>
                </a:cubicBezTo>
                <a:cubicBezTo>
                  <a:pt x="77" y="90"/>
                  <a:pt x="46" y="94"/>
                  <a:pt x="42" y="79"/>
                </a:cubicBezTo>
                <a:cubicBezTo>
                  <a:pt x="23" y="11"/>
                  <a:pt x="55" y="13"/>
                  <a:pt x="94" y="0"/>
                </a:cubicBezTo>
                <a:cubicBezTo>
                  <a:pt x="125" y="4"/>
                  <a:pt x="156" y="7"/>
                  <a:pt x="186" y="13"/>
                </a:cubicBezTo>
                <a:cubicBezTo>
                  <a:pt x="199" y="16"/>
                  <a:pt x="218" y="14"/>
                  <a:pt x="225" y="26"/>
                </a:cubicBezTo>
                <a:cubicBezTo>
                  <a:pt x="236" y="46"/>
                  <a:pt x="234" y="135"/>
                  <a:pt x="251" y="144"/>
                </a:cubicBezTo>
                <a:cubicBezTo>
                  <a:pt x="283" y="161"/>
                  <a:pt x="321" y="161"/>
                  <a:pt x="356" y="170"/>
                </a:cubicBezTo>
                <a:cubicBezTo>
                  <a:pt x="425" y="206"/>
                  <a:pt x="440" y="198"/>
                  <a:pt x="461" y="275"/>
                </a:cubicBezTo>
                <a:cubicBezTo>
                  <a:pt x="465" y="327"/>
                  <a:pt x="460" y="381"/>
                  <a:pt x="474" y="432"/>
                </a:cubicBezTo>
                <a:cubicBezTo>
                  <a:pt x="478" y="447"/>
                  <a:pt x="501" y="448"/>
                  <a:pt x="513" y="458"/>
                </a:cubicBezTo>
                <a:cubicBezTo>
                  <a:pt x="548" y="486"/>
                  <a:pt x="564" y="522"/>
                  <a:pt x="578" y="563"/>
                </a:cubicBezTo>
                <a:cubicBezTo>
                  <a:pt x="557" y="816"/>
                  <a:pt x="565" y="667"/>
                  <a:pt x="565" y="10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432320" y="2892600"/>
            <a:ext cx="514440" cy="2574720"/>
          </a:xfrm>
          <a:custGeom>
            <a:avLst/>
            <a:gdLst/>
            <a:ahLst/>
            <a:rect l="l" t="t" r="r" b="b"/>
            <a:pathLst>
              <a:path w="324" h="1622">
                <a:moveTo>
                  <a:pt x="219" y="11"/>
                </a:moveTo>
                <a:cubicBezTo>
                  <a:pt x="189" y="15"/>
                  <a:pt x="93" y="0"/>
                  <a:pt x="88" y="63"/>
                </a:cubicBezTo>
                <a:cubicBezTo>
                  <a:pt x="85" y="102"/>
                  <a:pt x="93" y="142"/>
                  <a:pt x="101" y="181"/>
                </a:cubicBezTo>
                <a:cubicBezTo>
                  <a:pt x="106" y="208"/>
                  <a:pt x="127" y="259"/>
                  <a:pt x="127" y="259"/>
                </a:cubicBezTo>
                <a:cubicBezTo>
                  <a:pt x="123" y="320"/>
                  <a:pt x="124" y="382"/>
                  <a:pt x="114" y="443"/>
                </a:cubicBezTo>
                <a:cubicBezTo>
                  <a:pt x="111" y="462"/>
                  <a:pt x="89" y="476"/>
                  <a:pt x="88" y="495"/>
                </a:cubicBezTo>
                <a:cubicBezTo>
                  <a:pt x="78" y="652"/>
                  <a:pt x="64" y="628"/>
                  <a:pt x="140" y="678"/>
                </a:cubicBezTo>
                <a:cubicBezTo>
                  <a:pt x="162" y="674"/>
                  <a:pt x="186" y="655"/>
                  <a:pt x="206" y="665"/>
                </a:cubicBezTo>
                <a:cubicBezTo>
                  <a:pt x="218" y="671"/>
                  <a:pt x="201" y="693"/>
                  <a:pt x="193" y="705"/>
                </a:cubicBezTo>
                <a:cubicBezTo>
                  <a:pt x="183" y="720"/>
                  <a:pt x="166" y="731"/>
                  <a:pt x="153" y="744"/>
                </a:cubicBezTo>
                <a:cubicBezTo>
                  <a:pt x="125" y="829"/>
                  <a:pt x="112" y="900"/>
                  <a:pt x="193" y="953"/>
                </a:cubicBezTo>
                <a:cubicBezTo>
                  <a:pt x="218" y="1029"/>
                  <a:pt x="209" y="1056"/>
                  <a:pt x="153" y="1110"/>
                </a:cubicBezTo>
                <a:cubicBezTo>
                  <a:pt x="126" y="1192"/>
                  <a:pt x="138" y="1186"/>
                  <a:pt x="219" y="1202"/>
                </a:cubicBezTo>
                <a:cubicBezTo>
                  <a:pt x="215" y="1224"/>
                  <a:pt x="215" y="1247"/>
                  <a:pt x="206" y="1267"/>
                </a:cubicBezTo>
                <a:cubicBezTo>
                  <a:pt x="201" y="1279"/>
                  <a:pt x="186" y="1283"/>
                  <a:pt x="180" y="1294"/>
                </a:cubicBezTo>
                <a:cubicBezTo>
                  <a:pt x="173" y="1306"/>
                  <a:pt x="171" y="1320"/>
                  <a:pt x="167" y="1333"/>
                </a:cubicBezTo>
                <a:cubicBezTo>
                  <a:pt x="162" y="1369"/>
                  <a:pt x="131" y="1515"/>
                  <a:pt x="167" y="1542"/>
                </a:cubicBezTo>
                <a:cubicBezTo>
                  <a:pt x="209" y="1574"/>
                  <a:pt x="272" y="1551"/>
                  <a:pt x="324" y="1555"/>
                </a:cubicBezTo>
                <a:cubicBezTo>
                  <a:pt x="320" y="1573"/>
                  <a:pt x="324" y="1595"/>
                  <a:pt x="311" y="1608"/>
                </a:cubicBezTo>
                <a:cubicBezTo>
                  <a:pt x="298" y="1621"/>
                  <a:pt x="276" y="1622"/>
                  <a:pt x="258" y="1621"/>
                </a:cubicBezTo>
                <a:cubicBezTo>
                  <a:pt x="188" y="1618"/>
                  <a:pt x="49" y="1595"/>
                  <a:pt x="49" y="1595"/>
                </a:cubicBezTo>
                <a:cubicBezTo>
                  <a:pt x="0" y="1579"/>
                  <a:pt x="9" y="1596"/>
                  <a:pt x="9" y="155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759200" y="2862360"/>
            <a:ext cx="666720" cy="519120"/>
          </a:xfrm>
          <a:custGeom>
            <a:avLst/>
            <a:gdLst/>
            <a:ahLst/>
            <a:rect l="l" t="t" r="r" b="b"/>
            <a:pathLst>
              <a:path w="420" h="327">
                <a:moveTo>
                  <a:pt x="0" y="30"/>
                </a:moveTo>
                <a:cubicBezTo>
                  <a:pt x="26" y="39"/>
                  <a:pt x="52" y="47"/>
                  <a:pt x="78" y="56"/>
                </a:cubicBezTo>
                <a:cubicBezTo>
                  <a:pt x="186" y="92"/>
                  <a:pt x="123" y="97"/>
                  <a:pt x="196" y="121"/>
                </a:cubicBezTo>
                <a:cubicBezTo>
                  <a:pt x="236" y="161"/>
                  <a:pt x="268" y="208"/>
                  <a:pt x="314" y="239"/>
                </a:cubicBezTo>
                <a:cubicBezTo>
                  <a:pt x="328" y="259"/>
                  <a:pt x="366" y="327"/>
                  <a:pt x="406" y="318"/>
                </a:cubicBezTo>
                <a:cubicBezTo>
                  <a:pt x="420" y="315"/>
                  <a:pt x="415" y="291"/>
                  <a:pt x="419" y="278"/>
                </a:cubicBezTo>
                <a:cubicBezTo>
                  <a:pt x="393" y="243"/>
                  <a:pt x="366" y="209"/>
                  <a:pt x="340" y="174"/>
                </a:cubicBezTo>
                <a:cubicBezTo>
                  <a:pt x="327" y="156"/>
                  <a:pt x="322" y="128"/>
                  <a:pt x="301" y="121"/>
                </a:cubicBezTo>
                <a:cubicBezTo>
                  <a:pt x="275" y="112"/>
                  <a:pt x="222" y="95"/>
                  <a:pt x="222" y="95"/>
                </a:cubicBezTo>
                <a:cubicBezTo>
                  <a:pt x="211" y="84"/>
                  <a:pt x="150" y="0"/>
                  <a:pt x="105" y="4"/>
                </a:cubicBezTo>
                <a:cubicBezTo>
                  <a:pt x="69" y="7"/>
                  <a:pt x="35" y="21"/>
                  <a:pt x="0" y="3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448080" y="3654360"/>
            <a:ext cx="1209600" cy="1998720"/>
          </a:xfrm>
          <a:custGeom>
            <a:avLst/>
            <a:gdLst/>
            <a:ahLst/>
            <a:rect l="l" t="t" r="r" b="b"/>
            <a:pathLst>
              <a:path w="762" h="1259">
                <a:moveTo>
                  <a:pt x="656" y="1115"/>
                </a:moveTo>
                <a:cubicBezTo>
                  <a:pt x="594" y="1124"/>
                  <a:pt x="542" y="1147"/>
                  <a:pt x="485" y="1128"/>
                </a:cubicBezTo>
                <a:cubicBezTo>
                  <a:pt x="456" y="1085"/>
                  <a:pt x="423" y="1024"/>
                  <a:pt x="459" y="971"/>
                </a:cubicBezTo>
                <a:cubicBezTo>
                  <a:pt x="467" y="959"/>
                  <a:pt x="486" y="962"/>
                  <a:pt x="499" y="958"/>
                </a:cubicBezTo>
                <a:cubicBezTo>
                  <a:pt x="508" y="949"/>
                  <a:pt x="514" y="937"/>
                  <a:pt x="525" y="931"/>
                </a:cubicBezTo>
                <a:cubicBezTo>
                  <a:pt x="549" y="919"/>
                  <a:pt x="603" y="905"/>
                  <a:pt x="603" y="905"/>
                </a:cubicBezTo>
                <a:cubicBezTo>
                  <a:pt x="637" y="802"/>
                  <a:pt x="633" y="854"/>
                  <a:pt x="616" y="748"/>
                </a:cubicBezTo>
                <a:cubicBezTo>
                  <a:pt x="428" y="762"/>
                  <a:pt x="452" y="717"/>
                  <a:pt x="407" y="853"/>
                </a:cubicBezTo>
                <a:cubicBezTo>
                  <a:pt x="391" y="963"/>
                  <a:pt x="408" y="971"/>
                  <a:pt x="302" y="945"/>
                </a:cubicBezTo>
                <a:cubicBezTo>
                  <a:pt x="298" y="932"/>
                  <a:pt x="295" y="918"/>
                  <a:pt x="289" y="905"/>
                </a:cubicBezTo>
                <a:cubicBezTo>
                  <a:pt x="282" y="891"/>
                  <a:pt x="264" y="882"/>
                  <a:pt x="263" y="866"/>
                </a:cubicBezTo>
                <a:cubicBezTo>
                  <a:pt x="253" y="741"/>
                  <a:pt x="255" y="756"/>
                  <a:pt x="315" y="696"/>
                </a:cubicBezTo>
                <a:cubicBezTo>
                  <a:pt x="336" y="697"/>
                  <a:pt x="691" y="725"/>
                  <a:pt x="760" y="696"/>
                </a:cubicBezTo>
                <a:cubicBezTo>
                  <a:pt x="762" y="695"/>
                  <a:pt x="739" y="611"/>
                  <a:pt x="734" y="604"/>
                </a:cubicBezTo>
                <a:cubicBezTo>
                  <a:pt x="687" y="534"/>
                  <a:pt x="603" y="504"/>
                  <a:pt x="538" y="460"/>
                </a:cubicBezTo>
                <a:cubicBezTo>
                  <a:pt x="520" y="464"/>
                  <a:pt x="497" y="459"/>
                  <a:pt x="485" y="473"/>
                </a:cubicBezTo>
                <a:cubicBezTo>
                  <a:pt x="377" y="594"/>
                  <a:pt x="464" y="540"/>
                  <a:pt x="420" y="630"/>
                </a:cubicBezTo>
                <a:cubicBezTo>
                  <a:pt x="410" y="650"/>
                  <a:pt x="371" y="672"/>
                  <a:pt x="355" y="683"/>
                </a:cubicBezTo>
                <a:cubicBezTo>
                  <a:pt x="226" y="670"/>
                  <a:pt x="229" y="690"/>
                  <a:pt x="171" y="604"/>
                </a:cubicBezTo>
                <a:cubicBezTo>
                  <a:pt x="175" y="565"/>
                  <a:pt x="173" y="524"/>
                  <a:pt x="184" y="486"/>
                </a:cubicBezTo>
                <a:cubicBezTo>
                  <a:pt x="194" y="448"/>
                  <a:pt x="289" y="434"/>
                  <a:pt x="289" y="434"/>
                </a:cubicBezTo>
                <a:cubicBezTo>
                  <a:pt x="412" y="475"/>
                  <a:pt x="199" y="390"/>
                  <a:pt x="315" y="552"/>
                </a:cubicBezTo>
                <a:cubicBezTo>
                  <a:pt x="331" y="574"/>
                  <a:pt x="368" y="543"/>
                  <a:pt x="394" y="539"/>
                </a:cubicBezTo>
                <a:cubicBezTo>
                  <a:pt x="390" y="495"/>
                  <a:pt x="387" y="451"/>
                  <a:pt x="381" y="408"/>
                </a:cubicBezTo>
                <a:cubicBezTo>
                  <a:pt x="378" y="390"/>
                  <a:pt x="382" y="367"/>
                  <a:pt x="368" y="355"/>
                </a:cubicBezTo>
                <a:cubicBezTo>
                  <a:pt x="347" y="337"/>
                  <a:pt x="289" y="329"/>
                  <a:pt x="289" y="329"/>
                </a:cubicBezTo>
                <a:cubicBezTo>
                  <a:pt x="225" y="350"/>
                  <a:pt x="199" y="366"/>
                  <a:pt x="158" y="421"/>
                </a:cubicBezTo>
                <a:cubicBezTo>
                  <a:pt x="154" y="438"/>
                  <a:pt x="160" y="464"/>
                  <a:pt x="145" y="473"/>
                </a:cubicBezTo>
                <a:cubicBezTo>
                  <a:pt x="97" y="502"/>
                  <a:pt x="76" y="426"/>
                  <a:pt x="67" y="408"/>
                </a:cubicBezTo>
                <a:cubicBezTo>
                  <a:pt x="71" y="382"/>
                  <a:pt x="69" y="353"/>
                  <a:pt x="80" y="329"/>
                </a:cubicBezTo>
                <a:cubicBezTo>
                  <a:pt x="98" y="288"/>
                  <a:pt x="163" y="274"/>
                  <a:pt x="197" y="251"/>
                </a:cubicBezTo>
                <a:cubicBezTo>
                  <a:pt x="305" y="264"/>
                  <a:pt x="401" y="294"/>
                  <a:pt x="499" y="342"/>
                </a:cubicBezTo>
                <a:cubicBezTo>
                  <a:pt x="530" y="436"/>
                  <a:pt x="502" y="406"/>
                  <a:pt x="564" y="447"/>
                </a:cubicBezTo>
                <a:cubicBezTo>
                  <a:pt x="664" y="427"/>
                  <a:pt x="699" y="442"/>
                  <a:pt x="616" y="251"/>
                </a:cubicBezTo>
                <a:cubicBezTo>
                  <a:pt x="605" y="226"/>
                  <a:pt x="538" y="225"/>
                  <a:pt x="538" y="225"/>
                </a:cubicBezTo>
                <a:cubicBezTo>
                  <a:pt x="418" y="237"/>
                  <a:pt x="316" y="253"/>
                  <a:pt x="197" y="238"/>
                </a:cubicBezTo>
                <a:cubicBezTo>
                  <a:pt x="184" y="225"/>
                  <a:pt x="162" y="216"/>
                  <a:pt x="158" y="198"/>
                </a:cubicBezTo>
                <a:cubicBezTo>
                  <a:pt x="142" y="125"/>
                  <a:pt x="168" y="122"/>
                  <a:pt x="211" y="94"/>
                </a:cubicBezTo>
                <a:cubicBezTo>
                  <a:pt x="294" y="106"/>
                  <a:pt x="366" y="132"/>
                  <a:pt x="446" y="159"/>
                </a:cubicBezTo>
                <a:cubicBezTo>
                  <a:pt x="462" y="149"/>
                  <a:pt x="606" y="69"/>
                  <a:pt x="472" y="28"/>
                </a:cubicBezTo>
                <a:cubicBezTo>
                  <a:pt x="380" y="0"/>
                  <a:pt x="280" y="37"/>
                  <a:pt x="184" y="41"/>
                </a:cubicBezTo>
                <a:cubicBezTo>
                  <a:pt x="167" y="45"/>
                  <a:pt x="147" y="44"/>
                  <a:pt x="132" y="54"/>
                </a:cubicBezTo>
                <a:cubicBezTo>
                  <a:pt x="106" y="71"/>
                  <a:pt x="67" y="120"/>
                  <a:pt x="67" y="120"/>
                </a:cubicBezTo>
                <a:cubicBezTo>
                  <a:pt x="56" y="151"/>
                  <a:pt x="34" y="179"/>
                  <a:pt x="27" y="211"/>
                </a:cubicBezTo>
                <a:cubicBezTo>
                  <a:pt x="18" y="254"/>
                  <a:pt x="20" y="299"/>
                  <a:pt x="14" y="342"/>
                </a:cubicBezTo>
                <a:cubicBezTo>
                  <a:pt x="11" y="360"/>
                  <a:pt x="5" y="377"/>
                  <a:pt x="1" y="395"/>
                </a:cubicBezTo>
                <a:cubicBezTo>
                  <a:pt x="5" y="456"/>
                  <a:pt x="0" y="518"/>
                  <a:pt x="14" y="578"/>
                </a:cubicBezTo>
                <a:cubicBezTo>
                  <a:pt x="18" y="596"/>
                  <a:pt x="41" y="603"/>
                  <a:pt x="53" y="617"/>
                </a:cubicBezTo>
                <a:cubicBezTo>
                  <a:pt x="104" y="678"/>
                  <a:pt x="144" y="759"/>
                  <a:pt x="197" y="814"/>
                </a:cubicBezTo>
                <a:cubicBezTo>
                  <a:pt x="222" y="885"/>
                  <a:pt x="231" y="985"/>
                  <a:pt x="263" y="1049"/>
                </a:cubicBezTo>
                <a:cubicBezTo>
                  <a:pt x="325" y="1174"/>
                  <a:pt x="454" y="1204"/>
                  <a:pt x="564" y="1259"/>
                </a:cubicBezTo>
                <a:cubicBezTo>
                  <a:pt x="573" y="1246"/>
                  <a:pt x="588" y="1235"/>
                  <a:pt x="590" y="1219"/>
                </a:cubicBezTo>
                <a:cubicBezTo>
                  <a:pt x="603" y="1115"/>
                  <a:pt x="487" y="1135"/>
                  <a:pt x="420" y="1128"/>
                </a:cubicBezTo>
                <a:cubicBezTo>
                  <a:pt x="401" y="1109"/>
                  <a:pt x="353" y="1074"/>
                  <a:pt x="368" y="1036"/>
                </a:cubicBezTo>
                <a:cubicBezTo>
                  <a:pt x="373" y="1023"/>
                  <a:pt x="394" y="1027"/>
                  <a:pt x="407" y="1023"/>
                </a:cubicBezTo>
                <a:cubicBezTo>
                  <a:pt x="506" y="1039"/>
                  <a:pt x="611" y="1051"/>
                  <a:pt x="708" y="1075"/>
                </a:cubicBezTo>
                <a:cubicBezTo>
                  <a:pt x="699" y="1023"/>
                  <a:pt x="701" y="968"/>
                  <a:pt x="682" y="918"/>
                </a:cubicBezTo>
                <a:cubicBezTo>
                  <a:pt x="677" y="905"/>
                  <a:pt x="656" y="900"/>
                  <a:pt x="643" y="905"/>
                </a:cubicBezTo>
                <a:cubicBezTo>
                  <a:pt x="628" y="911"/>
                  <a:pt x="627" y="934"/>
                  <a:pt x="616" y="945"/>
                </a:cubicBezTo>
                <a:cubicBezTo>
                  <a:pt x="598" y="963"/>
                  <a:pt x="545" y="987"/>
                  <a:pt x="525" y="997"/>
                </a:cubicBezTo>
                <a:cubicBezTo>
                  <a:pt x="507" y="993"/>
                  <a:pt x="472" y="984"/>
                  <a:pt x="472" y="98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537000" y="2763720"/>
            <a:ext cx="985680" cy="1311480"/>
          </a:xfrm>
          <a:custGeom>
            <a:avLst/>
            <a:gdLst/>
            <a:ahLst/>
            <a:rect l="l" t="t" r="r" b="b"/>
            <a:pathLst>
              <a:path w="621" h="826">
                <a:moveTo>
                  <a:pt x="482" y="0"/>
                </a:moveTo>
                <a:cubicBezTo>
                  <a:pt x="437" y="30"/>
                  <a:pt x="420" y="41"/>
                  <a:pt x="403" y="92"/>
                </a:cubicBezTo>
                <a:cubicBezTo>
                  <a:pt x="407" y="114"/>
                  <a:pt x="402" y="140"/>
                  <a:pt x="416" y="157"/>
                </a:cubicBezTo>
                <a:cubicBezTo>
                  <a:pt x="435" y="182"/>
                  <a:pt x="495" y="210"/>
                  <a:pt x="495" y="210"/>
                </a:cubicBezTo>
                <a:cubicBezTo>
                  <a:pt x="516" y="273"/>
                  <a:pt x="503" y="281"/>
                  <a:pt x="443" y="301"/>
                </a:cubicBezTo>
                <a:cubicBezTo>
                  <a:pt x="347" y="254"/>
                  <a:pt x="364" y="226"/>
                  <a:pt x="351" y="118"/>
                </a:cubicBezTo>
                <a:cubicBezTo>
                  <a:pt x="211" y="132"/>
                  <a:pt x="200" y="106"/>
                  <a:pt x="168" y="236"/>
                </a:cubicBezTo>
                <a:cubicBezTo>
                  <a:pt x="172" y="258"/>
                  <a:pt x="167" y="284"/>
                  <a:pt x="181" y="301"/>
                </a:cubicBezTo>
                <a:cubicBezTo>
                  <a:pt x="192" y="315"/>
                  <a:pt x="216" y="309"/>
                  <a:pt x="233" y="314"/>
                </a:cubicBezTo>
                <a:cubicBezTo>
                  <a:pt x="260" y="322"/>
                  <a:pt x="286" y="331"/>
                  <a:pt x="312" y="340"/>
                </a:cubicBezTo>
                <a:cubicBezTo>
                  <a:pt x="333" y="383"/>
                  <a:pt x="363" y="418"/>
                  <a:pt x="325" y="471"/>
                </a:cubicBezTo>
                <a:cubicBezTo>
                  <a:pt x="314" y="486"/>
                  <a:pt x="290" y="480"/>
                  <a:pt x="272" y="484"/>
                </a:cubicBezTo>
                <a:cubicBezTo>
                  <a:pt x="235" y="411"/>
                  <a:pt x="237" y="399"/>
                  <a:pt x="155" y="419"/>
                </a:cubicBezTo>
                <a:cubicBezTo>
                  <a:pt x="159" y="454"/>
                  <a:pt x="168" y="489"/>
                  <a:pt x="168" y="524"/>
                </a:cubicBezTo>
                <a:cubicBezTo>
                  <a:pt x="168" y="542"/>
                  <a:pt x="172" y="570"/>
                  <a:pt x="155" y="576"/>
                </a:cubicBezTo>
                <a:cubicBezTo>
                  <a:pt x="140" y="581"/>
                  <a:pt x="137" y="550"/>
                  <a:pt x="128" y="537"/>
                </a:cubicBezTo>
                <a:cubicBezTo>
                  <a:pt x="118" y="495"/>
                  <a:pt x="102" y="462"/>
                  <a:pt x="128" y="419"/>
                </a:cubicBezTo>
                <a:cubicBezTo>
                  <a:pt x="144" y="393"/>
                  <a:pt x="194" y="354"/>
                  <a:pt x="194" y="354"/>
                </a:cubicBezTo>
                <a:cubicBezTo>
                  <a:pt x="143" y="301"/>
                  <a:pt x="97" y="318"/>
                  <a:pt x="50" y="367"/>
                </a:cubicBezTo>
                <a:cubicBezTo>
                  <a:pt x="0" y="516"/>
                  <a:pt x="22" y="418"/>
                  <a:pt x="37" y="668"/>
                </a:cubicBezTo>
                <a:cubicBezTo>
                  <a:pt x="151" y="649"/>
                  <a:pt x="199" y="670"/>
                  <a:pt x="246" y="576"/>
                </a:cubicBezTo>
                <a:cubicBezTo>
                  <a:pt x="252" y="564"/>
                  <a:pt x="248" y="545"/>
                  <a:pt x="259" y="537"/>
                </a:cubicBezTo>
                <a:cubicBezTo>
                  <a:pt x="282" y="521"/>
                  <a:pt x="338" y="511"/>
                  <a:pt x="338" y="511"/>
                </a:cubicBezTo>
                <a:cubicBezTo>
                  <a:pt x="347" y="502"/>
                  <a:pt x="352" y="486"/>
                  <a:pt x="364" y="484"/>
                </a:cubicBezTo>
                <a:cubicBezTo>
                  <a:pt x="371" y="483"/>
                  <a:pt x="444" y="507"/>
                  <a:pt x="456" y="511"/>
                </a:cubicBezTo>
                <a:cubicBezTo>
                  <a:pt x="472" y="558"/>
                  <a:pt x="495" y="655"/>
                  <a:pt x="495" y="655"/>
                </a:cubicBezTo>
                <a:cubicBezTo>
                  <a:pt x="491" y="690"/>
                  <a:pt x="505" y="733"/>
                  <a:pt x="482" y="759"/>
                </a:cubicBezTo>
                <a:cubicBezTo>
                  <a:pt x="461" y="782"/>
                  <a:pt x="416" y="755"/>
                  <a:pt x="390" y="772"/>
                </a:cubicBezTo>
                <a:cubicBezTo>
                  <a:pt x="378" y="780"/>
                  <a:pt x="392" y="803"/>
                  <a:pt x="403" y="812"/>
                </a:cubicBezTo>
                <a:cubicBezTo>
                  <a:pt x="417" y="823"/>
                  <a:pt x="438" y="821"/>
                  <a:pt x="456" y="825"/>
                </a:cubicBezTo>
                <a:cubicBezTo>
                  <a:pt x="491" y="821"/>
                  <a:pt x="528" y="826"/>
                  <a:pt x="560" y="812"/>
                </a:cubicBezTo>
                <a:cubicBezTo>
                  <a:pt x="573" y="806"/>
                  <a:pt x="573" y="786"/>
                  <a:pt x="573" y="772"/>
                </a:cubicBezTo>
                <a:cubicBezTo>
                  <a:pt x="573" y="648"/>
                  <a:pt x="588" y="467"/>
                  <a:pt x="443" y="419"/>
                </a:cubicBezTo>
                <a:cubicBezTo>
                  <a:pt x="417" y="382"/>
                  <a:pt x="393" y="367"/>
                  <a:pt x="429" y="314"/>
                </a:cubicBezTo>
                <a:cubicBezTo>
                  <a:pt x="437" y="302"/>
                  <a:pt x="456" y="305"/>
                  <a:pt x="469" y="301"/>
                </a:cubicBezTo>
                <a:cubicBezTo>
                  <a:pt x="537" y="324"/>
                  <a:pt x="542" y="321"/>
                  <a:pt x="560" y="393"/>
                </a:cubicBezTo>
                <a:cubicBezTo>
                  <a:pt x="564" y="454"/>
                  <a:pt x="566" y="515"/>
                  <a:pt x="573" y="576"/>
                </a:cubicBezTo>
                <a:cubicBezTo>
                  <a:pt x="575" y="598"/>
                  <a:pt x="571" y="626"/>
                  <a:pt x="587" y="642"/>
                </a:cubicBezTo>
                <a:cubicBezTo>
                  <a:pt x="596" y="651"/>
                  <a:pt x="604" y="624"/>
                  <a:pt x="613" y="615"/>
                </a:cubicBezTo>
                <a:cubicBezTo>
                  <a:pt x="600" y="484"/>
                  <a:pt x="621" y="490"/>
                  <a:pt x="534" y="432"/>
                </a:cubicBezTo>
                <a:cubicBezTo>
                  <a:pt x="495" y="315"/>
                  <a:pt x="483" y="312"/>
                  <a:pt x="521" y="144"/>
                </a:cubicBezTo>
                <a:cubicBezTo>
                  <a:pt x="528" y="114"/>
                  <a:pt x="573" y="66"/>
                  <a:pt x="573" y="66"/>
                </a:cubicBezTo>
                <a:cubicBezTo>
                  <a:pt x="490" y="10"/>
                  <a:pt x="517" y="35"/>
                  <a:pt x="482" y="0"/>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276720" y="2635200"/>
            <a:ext cx="2388960" cy="3103560"/>
          </a:xfrm>
          <a:custGeom>
            <a:avLst/>
            <a:gdLst/>
            <a:ahLst/>
            <a:rect l="l" t="t" r="r" b="b"/>
            <a:pathLst>
              <a:path w="1505" h="1955">
                <a:moveTo>
                  <a:pt x="877" y="1888"/>
                </a:moveTo>
                <a:cubicBezTo>
                  <a:pt x="922" y="1955"/>
                  <a:pt x="929" y="1943"/>
                  <a:pt x="1008" y="1927"/>
                </a:cubicBezTo>
                <a:cubicBezTo>
                  <a:pt x="1064" y="1889"/>
                  <a:pt x="1108" y="1856"/>
                  <a:pt x="1165" y="1822"/>
                </a:cubicBezTo>
                <a:cubicBezTo>
                  <a:pt x="1192" y="1806"/>
                  <a:pt x="1243" y="1770"/>
                  <a:pt x="1243" y="1770"/>
                </a:cubicBezTo>
                <a:cubicBezTo>
                  <a:pt x="1252" y="1757"/>
                  <a:pt x="1262" y="1745"/>
                  <a:pt x="1269" y="1731"/>
                </a:cubicBezTo>
                <a:cubicBezTo>
                  <a:pt x="1275" y="1718"/>
                  <a:pt x="1275" y="1703"/>
                  <a:pt x="1282" y="1691"/>
                </a:cubicBezTo>
                <a:cubicBezTo>
                  <a:pt x="1288" y="1680"/>
                  <a:pt x="1301" y="1675"/>
                  <a:pt x="1309" y="1665"/>
                </a:cubicBezTo>
                <a:cubicBezTo>
                  <a:pt x="1319" y="1653"/>
                  <a:pt x="1328" y="1640"/>
                  <a:pt x="1335" y="1626"/>
                </a:cubicBezTo>
                <a:cubicBezTo>
                  <a:pt x="1370" y="1557"/>
                  <a:pt x="1322" y="1614"/>
                  <a:pt x="1374" y="1560"/>
                </a:cubicBezTo>
                <a:cubicBezTo>
                  <a:pt x="1405" y="1467"/>
                  <a:pt x="1377" y="1497"/>
                  <a:pt x="1440" y="1456"/>
                </a:cubicBezTo>
                <a:cubicBezTo>
                  <a:pt x="1472" y="1360"/>
                  <a:pt x="1492" y="1269"/>
                  <a:pt x="1505" y="1168"/>
                </a:cubicBezTo>
                <a:cubicBezTo>
                  <a:pt x="1501" y="985"/>
                  <a:pt x="1504" y="801"/>
                  <a:pt x="1492" y="618"/>
                </a:cubicBezTo>
                <a:cubicBezTo>
                  <a:pt x="1489" y="578"/>
                  <a:pt x="1446" y="537"/>
                  <a:pt x="1413" y="526"/>
                </a:cubicBezTo>
                <a:cubicBezTo>
                  <a:pt x="1383" y="436"/>
                  <a:pt x="1406" y="468"/>
                  <a:pt x="1361" y="421"/>
                </a:cubicBezTo>
                <a:cubicBezTo>
                  <a:pt x="1328" y="323"/>
                  <a:pt x="1376" y="440"/>
                  <a:pt x="1309" y="356"/>
                </a:cubicBezTo>
                <a:cubicBezTo>
                  <a:pt x="1300" y="345"/>
                  <a:pt x="1303" y="329"/>
                  <a:pt x="1296" y="317"/>
                </a:cubicBezTo>
                <a:cubicBezTo>
                  <a:pt x="1277" y="285"/>
                  <a:pt x="1252" y="256"/>
                  <a:pt x="1230" y="225"/>
                </a:cubicBezTo>
                <a:cubicBezTo>
                  <a:pt x="1222" y="214"/>
                  <a:pt x="1203" y="218"/>
                  <a:pt x="1191" y="212"/>
                </a:cubicBezTo>
                <a:cubicBezTo>
                  <a:pt x="1177" y="205"/>
                  <a:pt x="1164" y="196"/>
                  <a:pt x="1152" y="186"/>
                </a:cubicBezTo>
                <a:cubicBezTo>
                  <a:pt x="1112" y="154"/>
                  <a:pt x="1092" y="143"/>
                  <a:pt x="1047" y="120"/>
                </a:cubicBezTo>
                <a:cubicBezTo>
                  <a:pt x="1022" y="107"/>
                  <a:pt x="1006" y="80"/>
                  <a:pt x="981" y="68"/>
                </a:cubicBezTo>
                <a:cubicBezTo>
                  <a:pt x="928" y="42"/>
                  <a:pt x="838" y="36"/>
                  <a:pt x="785" y="29"/>
                </a:cubicBezTo>
                <a:cubicBezTo>
                  <a:pt x="697" y="0"/>
                  <a:pt x="600" y="29"/>
                  <a:pt x="510" y="42"/>
                </a:cubicBezTo>
                <a:cubicBezTo>
                  <a:pt x="462" y="74"/>
                  <a:pt x="409" y="108"/>
                  <a:pt x="366" y="147"/>
                </a:cubicBezTo>
                <a:cubicBezTo>
                  <a:pt x="339" y="172"/>
                  <a:pt x="314" y="199"/>
                  <a:pt x="288" y="225"/>
                </a:cubicBezTo>
                <a:cubicBezTo>
                  <a:pt x="279" y="234"/>
                  <a:pt x="261" y="251"/>
                  <a:pt x="261" y="251"/>
                </a:cubicBezTo>
                <a:cubicBezTo>
                  <a:pt x="232" y="340"/>
                  <a:pt x="272" y="245"/>
                  <a:pt x="209" y="317"/>
                </a:cubicBezTo>
                <a:cubicBezTo>
                  <a:pt x="180" y="350"/>
                  <a:pt x="157" y="387"/>
                  <a:pt x="130" y="421"/>
                </a:cubicBezTo>
                <a:cubicBezTo>
                  <a:pt x="40" y="533"/>
                  <a:pt x="193" y="362"/>
                  <a:pt x="78" y="539"/>
                </a:cubicBezTo>
                <a:cubicBezTo>
                  <a:pt x="45" y="590"/>
                  <a:pt x="57" y="564"/>
                  <a:pt x="39" y="618"/>
                </a:cubicBezTo>
                <a:cubicBezTo>
                  <a:pt x="27" y="705"/>
                  <a:pt x="27" y="796"/>
                  <a:pt x="0" y="880"/>
                </a:cubicBezTo>
                <a:cubicBezTo>
                  <a:pt x="4" y="1015"/>
                  <a:pt x="5" y="1150"/>
                  <a:pt x="13" y="1285"/>
                </a:cubicBezTo>
                <a:cubicBezTo>
                  <a:pt x="18" y="1371"/>
                  <a:pt x="84" y="1452"/>
                  <a:pt x="130" y="1521"/>
                </a:cubicBezTo>
                <a:cubicBezTo>
                  <a:pt x="159" y="1564"/>
                  <a:pt x="180" y="1630"/>
                  <a:pt x="196" y="1678"/>
                </a:cubicBezTo>
                <a:cubicBezTo>
                  <a:pt x="217" y="1742"/>
                  <a:pt x="270" y="1781"/>
                  <a:pt x="327" y="1809"/>
                </a:cubicBezTo>
                <a:cubicBezTo>
                  <a:pt x="362" y="1826"/>
                  <a:pt x="432" y="1861"/>
                  <a:pt x="432" y="1861"/>
                </a:cubicBezTo>
                <a:cubicBezTo>
                  <a:pt x="473" y="1903"/>
                  <a:pt x="536" y="1914"/>
                  <a:pt x="589" y="1940"/>
                </a:cubicBezTo>
                <a:cubicBezTo>
                  <a:pt x="715" y="1927"/>
                  <a:pt x="726" y="1950"/>
                  <a:pt x="759" y="1848"/>
                </a:cubicBezTo>
                <a:cubicBezTo>
                  <a:pt x="772" y="1852"/>
                  <a:pt x="786" y="1854"/>
                  <a:pt x="798" y="1861"/>
                </a:cubicBezTo>
                <a:cubicBezTo>
                  <a:pt x="819" y="1874"/>
                  <a:pt x="834" y="1914"/>
                  <a:pt x="864" y="1914"/>
                </a:cubicBezTo>
                <a:cubicBezTo>
                  <a:pt x="874" y="1914"/>
                  <a:pt x="873" y="1897"/>
                  <a:pt x="877" y="188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33520" y="1676520"/>
            <a:ext cx="1904760" cy="4894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rPr>
              <a:t>المخ الأيمن</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تناسق</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 لوان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خيال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حلام اليقظة</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بعاد</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لحان</a:t>
            </a:r>
            <a:endParaRPr b="0" lang="en-US" sz="2400" spc="-1" strike="noStrike">
              <a:solidFill>
                <a:srgbClr val="000000"/>
              </a:solidFill>
              <a:latin typeface="Times New Roman"/>
            </a:endParaRPr>
          </a:p>
        </p:txBody>
      </p:sp>
      <p:sp>
        <p:nvSpPr>
          <p:cNvPr id="66" name="PlaceHolder 2"/>
          <p:cNvSpPr>
            <a:spLocks noGrp="1"/>
          </p:cNvSpPr>
          <p:nvPr>
            <p:ph type="subTitle"/>
          </p:nvPr>
        </p:nvSpPr>
        <p:spPr>
          <a:xfrm>
            <a:off x="685440" y="1523520"/>
            <a:ext cx="7467480" cy="4800600"/>
          </a:xfrm>
          <a:prstGeom prst="rect">
            <a:avLst/>
          </a:prstGeom>
          <a:noFill/>
          <a:ln w="0">
            <a:noFill/>
          </a:ln>
        </p:spPr>
        <p:txBody>
          <a:bodyPr anchor="t">
            <a:no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rPr>
              <a:t>المخ الأيسر</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كلمات</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رقام</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تحليل</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نطق</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ترتيب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قوائ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ffffff"/>
            </a:gs>
            <a:gs pos="100000">
              <a:srgbClr val="66cc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تمرين : السائق والنمر</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88000"/>
          </a:bodyPr>
          <a:p>
            <a:pPr marL="301680" indent="-3016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تخيل انك تقود سيارة مرسيدس (شبح) لونها اسود ثم جرت السيارة بسرعة فائقة ، ودخلت غابة ،واذا بالوحوش تحيط بها من كل جانب ،ثم استطاع السائق ان يفر ،ولكن نمراً مفترساً جرى وراء السيارة حتى ادركها ، وكان امام السيارة نهر، وفي نفس الوقت تعطلت السيارة ، ولم يستطع السائق فعل شي ، فأستسلم لقدره ، حتى اذا وصل النمر الى السائق فتح فمه ليلتهمه ، واذا برصاصة تاتي في رأس ذلك النمر فتقتله. </a:t>
            </a:r>
            <a:endParaRPr b="0" lang="en-US" sz="2800" spc="-1" strike="noStrike">
              <a:solidFill>
                <a:srgbClr val="000000"/>
              </a:solidFill>
              <a:latin typeface="Times New Roman"/>
            </a:endParaRPr>
          </a:p>
          <a:p>
            <a:pPr marL="301680" indent="-3016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نظر السائق ليتعرف على الفاعل (القاتل)واذا به يجد طفلا بداخل السيارة يلعب بالمسدس فخرجت رصاصة طائشة فقتلت النمر.</a:t>
            </a:r>
            <a:endParaRPr b="0" lang="en-US" sz="2800" spc="-1" strike="noStrike">
              <a:solidFill>
                <a:srgbClr val="000000"/>
              </a:solidFill>
              <a:latin typeface="Times New Roman"/>
            </a:endParaRPr>
          </a:p>
          <a:p>
            <a:pPr marL="301680" indent="-3016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سؤال : ما هو اسم السائق ؟ وكم عمره</a:t>
            </a:r>
            <a:r>
              <a:rPr b="0" lang="ar-SA" sz="3200" spc="-1" strike="noStrike">
                <a:solidFill>
                  <a:srgbClr val="000000"/>
                </a:solidFill>
                <a:latin typeface="Times New Roman"/>
              </a:rPr>
              <a:t> ؟</a:t>
            </a:r>
            <a:r>
              <a:rPr b="0" lang="ar-SA" sz="2800" spc="-1" strike="noStrike">
                <a:solidFill>
                  <a:srgbClr val="000000"/>
                </a:solidFill>
                <a:latin typeface="Times New Roman"/>
              </a:rPr>
              <a:t>   </a:t>
            </a:r>
            <a:endParaRPr b="0" lang="en-US" sz="2800" spc="-1" strike="noStrike">
              <a:solidFill>
                <a:srgbClr val="000000"/>
              </a:solidFill>
              <a:latin typeface="Times New Roman"/>
            </a:endParaRPr>
          </a:p>
          <a:p>
            <a:pPr marL="30168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ffffff"/>
            </a:gs>
            <a:gs pos="100000">
              <a:srgbClr val="66cc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rPr>
              <a:t>العلامات المميزة لمن يستخدمون النصف الأيمن من الدماغ ومن يستخدمون النصف الأيسر من الدماغ</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graphicFrame>
        <p:nvGraphicFramePr>
          <p:cNvPr id="70" name=""/>
          <p:cNvGraphicFramePr/>
          <p:nvPr/>
        </p:nvGraphicFramePr>
        <p:xfrm>
          <a:off x="304920" y="2514600"/>
          <a:ext cx="8534160" cy="3986280"/>
        </p:xfrm>
        <a:graphic>
          <a:graphicData uri="http://schemas.openxmlformats.org/drawingml/2006/table">
            <a:tbl>
              <a:tblPr/>
              <a:tblGrid>
                <a:gridCol w="3908160"/>
                <a:gridCol w="4626000"/>
              </a:tblGrid>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نصف الأيسر</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ctr" marL="90000" marR="90000">
                    <a:lnL w="18720">
                      <a:solidFill>
                        <a:srgbClr val="000000"/>
                      </a:solidFill>
                    </a:lnL>
                    <a:lnR w="5760">
                      <a:solidFill>
                        <a:srgbClr val="000000"/>
                      </a:solidFill>
                    </a:lnR>
                    <a:lnT w="38160">
                      <a:solidFill>
                        <a:srgbClr val="000000"/>
                      </a:solidFill>
                    </a:lnT>
                    <a:lnB w="381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نصف الأيمن</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ctr" marL="90000" marR="90000">
                    <a:lnL w="5760">
                      <a:solidFill>
                        <a:srgbClr val="000000"/>
                      </a:solidFill>
                    </a:lnL>
                    <a:lnR w="18720">
                      <a:solidFill>
                        <a:srgbClr val="000000"/>
                      </a:solidFill>
                    </a:lnR>
                    <a:lnT w="38160">
                      <a:solidFill>
                        <a:srgbClr val="000000"/>
                      </a:solidFill>
                    </a:lnT>
                    <a:lnB w="38160">
                      <a:solidFill>
                        <a:srgbClr val="000000"/>
                      </a:solidFill>
                    </a:lnB>
                    <a:noFill/>
                  </a:tcPr>
                </a:tc>
              </a:tr>
              <a:tr h="1462680">
                <a:tc>
                  <a:txBody>
                    <a:bodyPr lIns="90000" rIns="90000" tIns="46800" bIns="46800" anchor="t">
                      <a:noAutofit/>
                    </a:bodyPr>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فضلون الشرح اللفظي اللغوي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38160">
                      <a:solidFill>
                        <a:srgbClr val="000000"/>
                      </a:solidFill>
                    </a:lnT>
                    <a:lnB w="5760">
                      <a:solidFill>
                        <a:srgbClr val="000000"/>
                      </a:solidFill>
                    </a:lnB>
                    <a:noFill/>
                  </a:tcPr>
                </a:tc>
                <a:tc>
                  <a:txBody>
                    <a:bodyPr lIns="90000" rIns="90000" tIns="46800" bIns="46800" anchor="t">
                      <a:noAutofit/>
                    </a:bodyPr>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فضلون الشرح العملي المرئي</a:t>
                      </a:r>
                      <a:endParaRPr b="0" lang="en-US" sz="2800" spc="-1" strike="noStrike">
                        <a:solidFill>
                          <a:srgbClr val="000000"/>
                        </a:solidFill>
                        <a:latin typeface="Times New Roman"/>
                      </a:endParaRPr>
                    </a:p>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38160">
                      <a:solidFill>
                        <a:srgbClr val="000000"/>
                      </a:solidFill>
                    </a:lnT>
                    <a:lnB w="5760">
                      <a:solidFill>
                        <a:srgbClr val="000000"/>
                      </a:solidFill>
                    </a:lnB>
                    <a:noFill/>
                  </a:tcPr>
                </a:tc>
              </a:tr>
              <a:tr h="947160">
                <a:tc>
                  <a:txBody>
                    <a:bodyPr lIns="90000" rIns="90000" tIns="46800" bIns="46800" anchor="t">
                      <a:noAutofit/>
                    </a:bodyPr>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ستخدمون اللغة والتركيز</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ستخدمون الصور العقلي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عالجون المعلومات بالتتالي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عالجون المعلومات بطريقة كلي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نتجون الأفكار بالمنطق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نتجون الأفكار بالحدس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6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0"/>
                                        </p:tgtEl>
                                        <p:attrNameLst>
                                          <p:attrName>style.visibility</p:attrName>
                                        </p:attrNameLst>
                                      </p:cBhvr>
                                      <p:to>
                                        <p:strVal val="visible"/>
                                      </p:to>
                                    </p:set>
                                    <p:anim calcmode="lin" valueType="num">
                                      <p:cBhvr additive="base">
                                        <p:cTn id="37" dur="500" fill="hold"/>
                                        <p:tgtEl>
                                          <p:spTgt spid="70"/>
                                        </p:tgtEl>
                                        <p:attrNameLst>
                                          <p:attrName>ppt_x</p:attrName>
                                        </p:attrNameLst>
                                      </p:cBhvr>
                                      <p:tavLst>
                                        <p:tav tm="0">
                                          <p:val>
                                            <p:strVal val="#ppt_x"/>
                                          </p:val>
                                        </p:tav>
                                        <p:tav tm="100000">
                                          <p:val>
                                            <p:strVal val="#ppt_x"/>
                                          </p:val>
                                        </p:tav>
                                      </p:tavLst>
                                    </p:anim>
                                    <p:anim calcmode="lin" valueType="num">
                                      <p:cBhvr additive="base">
                                        <p:cTn id="38"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9T13:54:21Z</dcterms:created>
  <dc:creator>unknownuser</dc:creator>
  <dc:description/>
  <dc:language>en-US</dc:language>
  <cp:lastModifiedBy>dell</cp:lastModifiedBy>
  <dcterms:modified xsi:type="dcterms:W3CDTF">2006-07-30T08:16:15Z</dcterms:modified>
  <cp:revision>17</cp:revision>
  <dc:subject/>
  <dc:title>التفكير الإبداعى </dc:title>
</cp:coreProperties>
</file>