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3.wmf" ContentType="image/x-wmf"/>
  <Override PartName="/ppt/media/image4.wmf" ContentType="image/x-wmf"/>
  <Override PartName="/ppt/media/image25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5.wmf" ContentType="image/x-wmf"/>
  <Override PartName="/ppt/media/image27.png" ContentType="image/png"/>
  <Override PartName="/ppt/media/image30.wmf" ContentType="image/x-wmf"/>
  <Override PartName="/ppt/media/image12.jpeg" ContentType="image/jpeg"/>
  <Override PartName="/ppt/media/image8.wmf" ContentType="image/x-wmf"/>
  <Override PartName="/ppt/media/image28.png" ContentType="image/png"/>
  <Override PartName="/ppt/media/image13.wmf" ContentType="image/x-wmf"/>
  <Override PartName="/ppt/media/image9.jpeg" ContentType="image/jpeg"/>
  <Override PartName="/ppt/media/image2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26.jpeg" ContentType="image/jpeg"/>
  <Override PartName="/ppt/media/image19.wmf" ContentType="image/x-wmf"/>
  <Override PartName="/ppt/media/image21.wmf" ContentType="image/x-wmf"/>
  <Override PartName="/ppt/media/image23.png" ContentType="image/png"/>
  <Override PartName="/ppt/media/image22.png" ContentType="image/png"/>
  <Override PartName="/ppt/media/image24.jpeg" ContentType="image/jpeg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5179-2A9C-484C-8D60-116EA1C04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40DB-6C2B-4B68-91ED-FB72D55C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1D9E-8DF6-46FA-9836-4B33D0F34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58E0-19D2-4F2B-8329-106F1E273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8515-52D1-43D2-B799-19B39A9A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9C40-5A79-48D8-823D-3923D267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B433-0FD2-47AB-B521-B797EC0B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C266-4DE4-485F-B98B-4BE1E17A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464F-072B-436F-AE71-30555421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40BA-E322-4508-B30F-D835801D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C152-7E59-4EFC-831F-877A8174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6762-93AD-4279-9416-B263B4CC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0E3C-FC90-448C-AA9E-BE2068016B8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dawahmemo.com/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14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15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16.wmf"/><Relationship Id="rId9" Type="http://schemas.openxmlformats.org/officeDocument/2006/relationships/package" Target="../embeddings/oleObject5.pptx"/><Relationship Id="rId10" Type="http://schemas.openxmlformats.org/officeDocument/2006/relationships/image" Target="../media/image17.wmf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9933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ar-SA" sz="2000" spc="-1" strike="noStrike">
                <a:solidFill>
                  <a:srgbClr val="ccccff"/>
                </a:solidFill>
                <a:latin typeface="Times New Roman"/>
              </a:rPr>
              <a:t>ما هو الإبداع  ؟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ccff"/>
                </a:solidFill>
                <a:latin typeface="Times New Roman"/>
              </a:rPr>
              <a:t> خطوات حل المشكلات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ccff"/>
                </a:solidFill>
                <a:latin typeface="Times New Roman"/>
              </a:rPr>
              <a:t>يوجد هذا الجزء في موقع المفكرة الدعوي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dawahmemo.com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58920" y="1125360"/>
            <a:ext cx="6769080" cy="150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حل المشكلات بطرق إبداعية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76520" y="0"/>
            <a:ext cx="7010280" cy="74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Times New Roman"/>
              </a:rPr>
              <a:t>خواص المبدعين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تبدو عليه الثقة في قدرته على تنفيذ ما يري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لا يحب اتباع الأساليب الروتينية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يفضل التأمل والتفكير على اللغو والثرثرة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يميل إلى إيجاد أكثر من حل واحد للمشكلة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يمتلك القدرة على تحمل المسؤولية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دائم التساؤل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متعدد الميول والاهتمامات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لا يميل إلى التعصب أو التحامل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يقترح أفكارا وطرقا قد يعتبرها الآخرون غير معقولة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يحب التمرين والتجريب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1523880" y="457200"/>
            <a:ext cx="541008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733920" y="380880"/>
            <a:ext cx="5029200" cy="78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تبدو عليه الرغبة في التفوق الآكاديمي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يفضل التنافس والتحدي على المسايرة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مرح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واسع الخيال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إيجابي كثير التفاؤل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يحب التغيير والتجديد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لا يحب التبعية أو التقليد الأعمى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حازم غير متردد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يحب المجازفة والمخاطرة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- شديد الملاحظة للأمور التي تهمه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قادر على التكيف بسرعة مع المتغيرات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228600" y="380880"/>
            <a:ext cx="5257800" cy="586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04920" y="0"/>
          <a:ext cx="8458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458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2514600" y="266688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العصف الذهني الحديث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69228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27640" y="692280"/>
            <a:ext cx="403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</a:rPr>
              <a:t>من طرق الإبدا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523880" y="0"/>
            <a:ext cx="7620120" cy="77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3300"/>
                </a:solidFill>
                <a:latin typeface="Times New Roman"/>
              </a:rPr>
              <a:t>نبذة تاريخية عن العصف الذهني القدي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بتكر العال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EX OSBOR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“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ام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1941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طريقة لتوليد الأفكار الجديدة أطلق عليها اس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”  </a:t>
            </a:r>
            <a:r>
              <a:rPr b="1" lang="ar-SA" sz="2800" spc="-1" strike="noStrike">
                <a:solidFill>
                  <a:srgbClr val="ff3300"/>
                </a:solidFill>
                <a:latin typeface="Times New Roman"/>
              </a:rPr>
              <a:t>العصف الذهني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“ .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وضع شروطا وقواعد لضمان نجاحها 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لا تنتقد الأفكار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الكمية تولد النوعي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ابني على أفكار الآخري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شجع الأفكار الكبيرة والمبالغ فيه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الأفكار البسيطة قد تولد أفكارا جيدة لأنها تقوم بتوجيه مسار التفكير .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2682720"/>
          </a:xfrm>
          <a:prstGeom prst="rect">
            <a:avLst/>
          </a:prstGeom>
          <a:ln w="9360">
            <a:solidFill>
              <a:srgbClr val="00cc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819520" y="75240"/>
            <a:ext cx="555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990033"/>
                </a:solidFill>
                <a:latin typeface="Times New Roman"/>
              </a:rPr>
              <a:t>تقنيات العصف الذهني  الحديث :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996840"/>
            <a:ext cx="830592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هي  طرائق إبداعية تدمج في حلقة العصف الذهني تهدف إلى التجديد وتكوين مجموعة مثيرات لضمان توليد أفكار أكثر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33"/>
                </a:solidFill>
                <a:latin typeface="Times New Roman"/>
              </a:rPr>
              <a:t>أمثلة لتقنيات العصف الذهني الحديث :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219320" y="2819520"/>
          <a:ext cx="2819160" cy="12189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19520"/>
                    <a:ext cx="28191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3348000" y="3860640"/>
          <a:ext cx="2732040" cy="171324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3860640"/>
                    <a:ext cx="2732040" cy="17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292720" y="4811760"/>
          <a:ext cx="2503440" cy="20462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92720" y="4811760"/>
                    <a:ext cx="2503440" cy="20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5943600" y="2743200"/>
          <a:ext cx="2808360" cy="182880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3600" y="2743200"/>
                    <a:ext cx="28083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1116000" y="4705200"/>
          <a:ext cx="2873520" cy="2152800"/>
        </p:xfrm>
        <a:graphic>
          <a:graphicData uri="http://schemas.openxmlformats.org/presentationml/2006/ole">
            <p:oleObj progId="PowerPoint.Show.12" r:id="rId9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16000" y="4705200"/>
                    <a:ext cx="287352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743200" y="-120960"/>
            <a:ext cx="6492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990033"/>
                </a:solidFill>
                <a:latin typeface="Times New Roman"/>
                <a:cs typeface="Mudir MT"/>
              </a:rPr>
              <a:t>الكلمات العشوائي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594360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118200" y="41904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05120" y="22680"/>
            <a:ext cx="69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990033"/>
                </a:solidFill>
                <a:uFillTx/>
                <a:latin typeface="Times New Roman"/>
              </a:rPr>
              <a:t>خطوات استخدام الكلمات العشوائية في العصف الذهن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-166680"/>
            <a:ext cx="8915400" cy="85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الهدف من استخدام الكلمات العشوائية هو تكوين مثير لتوليد الأفكار من خلال تحويل المسار التفكيري من نمط إلى أخر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وتتلخص عملية دمج الكلمات العشوائية في عملية العصف الذهني في الخطوات التالية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 وضع قائمة بكلمات عشوائية قبل البدء بحلقة النقاش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 اختيار كلمة عشوائية بطريقة عشوائية لمحاولة ربطها بالفكرة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 تحديد خصائص عامة للكلمة العشوائية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ربط الكلمة بالفكرة من خلال تكوين “ جسر الفكرة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“ </a:t>
            </a: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 توجيه “ جسر الفكرة “ نحو تكوين أفكار جديدة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 تكرار الخطوات ( </a:t>
            </a: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 ) مرات متعددة مع كلمات مختلفة .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4267080"/>
            <a:ext cx="277812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276720" y="105480"/>
            <a:ext cx="54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990033"/>
                </a:solidFill>
                <a:latin typeface="Times New Roman"/>
              </a:rPr>
              <a:t>دراسة تطوير المطابخ المنزلية</a:t>
            </a:r>
            <a:r>
              <a:rPr b="0" lang="ar-SA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3200400" cy="2658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581280" y="605520"/>
            <a:ext cx="555624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لمة العشوائية : </a:t>
            </a:r>
            <a:r>
              <a:rPr b="1" lang="ar-SA" sz="2800" spc="-1" strike="noStrike">
                <a:solidFill>
                  <a:srgbClr val="ff3300"/>
                </a:solidFill>
                <a:latin typeface="Times New Roman"/>
              </a:rPr>
              <a:t>الفضاء الخارج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                    انعدام الوزن والجاذبي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748080" y="3253320"/>
            <a:ext cx="112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00"/>
                </a:solidFill>
                <a:latin typeface="Times New Roman"/>
              </a:rPr>
              <a:t>جسر الفكر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: ماذا لو كانت الموقد  في الفضاء الخارج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2209680"/>
            <a:ext cx="838080" cy="990720"/>
          </a:xfrm>
          <a:prstGeom prst="downArrow">
            <a:avLst>
              <a:gd name="adj1" fmla="val 67185"/>
              <a:gd name="adj2" fmla="val 1354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4675320"/>
            <a:ext cx="868680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00"/>
                </a:solidFill>
                <a:latin typeface="Times New Roman"/>
              </a:rPr>
              <a:t>الأفكار الجديدة المتوقع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وضع معناطيس داخل الحاجب الحديدي للمواقد لضمان التصاق الأوعية المعدنية وبالتالي عدم سقوطه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3809880"/>
            <a:ext cx="838440" cy="990720"/>
          </a:xfrm>
          <a:prstGeom prst="downArrow">
            <a:avLst>
              <a:gd name="adj1" fmla="val 67185"/>
              <a:gd name="adj2" fmla="val 1353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819520" y="-684360"/>
            <a:ext cx="5943600" cy="64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 u="sng">
                <a:solidFill>
                  <a:srgbClr val="990033"/>
                </a:solidFill>
                <a:uFillTx/>
                <a:latin typeface="Times New Roman"/>
              </a:rPr>
              <a:t>الصور العشوائي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cc"/>
                </a:solidFill>
                <a:latin typeface="Times New Roman"/>
              </a:rPr>
              <a:t>يمكن استخدام الصورة كمثير لتوليد الأفكار وذلك من خلال التأمل فيها وطرح الأسئلة المختلفة عن بعض جوانبها للخروج بجسر الفكرة ثم الربط بين مفاهيم الصورة و الفكرة المدروسة . ويستحسن أن تكون الصورة غير معروفة أو جديدة وذلك لانتاج مثيرات أكثر تساعد على توليد الأفكار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2590920"/>
            <a:ext cx="5235480" cy="39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1663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3300"/>
                </a:solidFill>
                <a:latin typeface="Times New Roman"/>
              </a:rPr>
              <a:t>اربط بين فكرة تطوير اطارات السيارة وفرشاة الأسنان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3657600" cy="3429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90033"/>
            </a:outerShdw>
          </a:effectLst>
        </p:spPr>
      </p:pic>
      <p:pic>
        <p:nvPicPr>
          <p:cNvPr id="100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609480" y="1600200"/>
            <a:ext cx="3657600" cy="34290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990033"/>
            </a:outerShdw>
          </a:effectLst>
        </p:spPr>
      </p:pic>
      <p:sp>
        <p:nvSpPr>
          <p:cNvPr id="101" name=""/>
          <p:cNvSpPr/>
          <p:nvPr/>
        </p:nvSpPr>
        <p:spPr>
          <a:xfrm>
            <a:off x="414360" y="5031720"/>
            <a:ext cx="834876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استخدم جسر الفكرة :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كيف استفيد من خصائص فرشاة الأسنان في تطوير عجلات السيار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00000" y="0"/>
            <a:ext cx="7696440" cy="30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3300"/>
                </a:solidFill>
                <a:latin typeface="Times New Roman"/>
                <a:cs typeface="DecoType Naskh"/>
              </a:rPr>
              <a:t>الإبداع : هو النظر إلى الأشياء المألوفة من زوايا غير مألوفة</a:t>
            </a:r>
            <a:r>
              <a:rPr b="0" lang="ar-SA" sz="3600" spc="-1" strike="noStrike">
                <a:solidFill>
                  <a:srgbClr val="cc3300"/>
                </a:solidFill>
                <a:latin typeface="Times New Roman"/>
                <a:ea typeface="DecoType Naskh"/>
              </a:rPr>
              <a:t> 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2924280"/>
            <a:ext cx="83818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15084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0033"/>
                </a:solidFill>
                <a:latin typeface="Times New Roman"/>
              </a:rPr>
              <a:t>اربط بين الصور التالية وفكرة تطوير إطارات السيارة ؟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7005600" cy="455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8915400" cy="6629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295280" y="109080"/>
            <a:ext cx="7543800" cy="43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0033"/>
                </a:solidFill>
                <a:latin typeface="Times New Roman"/>
              </a:rPr>
              <a:t>القوانين العشوائي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66ff"/>
                </a:solidFill>
                <a:latin typeface="Times New Roman"/>
              </a:rPr>
              <a:t>وهي عبارة عن قوانين قد تكون معروفة أو غير معروفة تهدف إلى تكوين مثيرات عند التأمل فيها. ويمكن اختيارها من قوانين عامة لجهاز ما أو ارشادات عامة للعبة ما</a:t>
            </a:r>
            <a:r>
              <a:rPr b="0" lang="ar-SA" sz="4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1042200" y="4118400"/>
            <a:ext cx="11795040" cy="581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ربط بين القانون الرياضي التالي وتطوير اطارات السيارة؟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4560" y="5109120"/>
            <a:ext cx="8954280" cy="581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ركلات الجزاء تعتمد على تركيز اللاعب وهدوء أعصاب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657600" y="26568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990033"/>
                </a:solidFill>
                <a:latin typeface="Times New Roman"/>
              </a:rPr>
              <a:t>لعبــة الأدوار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8001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133720" y="716760"/>
            <a:ext cx="6629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وتعني النظر إلى الفكرة المدروسة بعيون الآخرين الذين لهم علاقة بها ، وطرح أسئلة مساعدة لمعرفة وجهات نظر الأشخاص وذوي العلاقة المباشرة بالفكرة ، ومن خلال الأسئلة قد تتولد أفكار جديدة قابلة للتطبيق بناءا على النظر إلى المشكلة من زوايا مختلف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3600" y="3840840"/>
            <a:ext cx="9270000" cy="28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90033"/>
                </a:solidFill>
                <a:latin typeface="Times New Roman"/>
              </a:rPr>
              <a:t>الأسئلة المقترح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كيف يفكرون بالموضوع 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ما هو الموقف أو العمل الذي سوف يتخذونه 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كيف سيشرحون حقيقة المشكلة ؟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848720" cy="4648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553080" y="312408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90033"/>
                </a:solidFill>
                <a:latin typeface="Times New Roman"/>
              </a:rPr>
              <a:t>الأفكار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71800" y="45720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0033"/>
                </a:solidFill>
                <a:latin typeface="Times New Roman"/>
              </a:rPr>
              <a:t>معايير التقوي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25146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33"/>
                </a:solidFill>
                <a:latin typeface="Times New Roman"/>
              </a:rPr>
              <a:t>الحلول أو الأفكار المناسب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057400" y="304920"/>
            <a:ext cx="6400800" cy="1447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429000" y="533520"/>
            <a:ext cx="441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990033"/>
                </a:solidFill>
                <a:latin typeface="Times New Roman"/>
              </a:rPr>
              <a:t>  تحليــل الأفكـار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324000" y="549360"/>
          <a:ext cx="8424720" cy="5668920"/>
        </p:xfrm>
        <a:graphic>
          <a:graphicData uri="http://schemas.openxmlformats.org/drawingml/2006/table">
            <a:tbl>
              <a:tblPr/>
              <a:tblGrid>
                <a:gridCol w="1054080"/>
                <a:gridCol w="1052280"/>
                <a:gridCol w="1052640"/>
                <a:gridCol w="1054080"/>
                <a:gridCol w="1052640"/>
                <a:gridCol w="1054080"/>
                <a:gridCol w="1050840"/>
                <a:gridCol w="1054080"/>
              </a:tblGrid>
              <a:tr h="94716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عايير تقويم فكرة ( تطوير إطارات السيارات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5e755e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 Backslanted"/>
                        </a:rPr>
                        <a:t>المجمو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…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أنظم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قبول النا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جدو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تكلف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فكر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درجة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درجة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درجة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درجة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درجة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درجة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1280" y="549360"/>
            <a:ext cx="784836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ar-SA" sz="4800" spc="-1" strike="noStrike">
                <a:solidFill>
                  <a:srgbClr val="a50021"/>
                </a:solidFill>
                <a:latin typeface="Arial"/>
              </a:rPr>
              <a:t>استمت</a:t>
            </a:r>
            <a:r>
              <a:rPr b="1" lang="ar-SA" sz="4800" spc="-1" strike="noStrike">
                <a:solidFill>
                  <a:srgbClr val="00ff00"/>
                </a:solidFill>
                <a:latin typeface="Arial"/>
              </a:rPr>
              <a:t>ع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800" spc="-1" strike="noStrike">
                <a:solidFill>
                  <a:srgbClr val="ff3399"/>
                </a:solidFill>
                <a:latin typeface="Arial"/>
              </a:rPr>
              <a:t>مع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الإبدا</a:t>
            </a:r>
            <a:r>
              <a:rPr b="1" lang="ar-SA" sz="4800" spc="-1" strike="noStrike">
                <a:solidFill>
                  <a:srgbClr val="0000ff"/>
                </a:solidFill>
                <a:latin typeface="Arial"/>
              </a:rPr>
              <a:t>ع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أسئلة لتنمية تكوين الحلول والبدائل</a:t>
            </a: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2825640"/>
            <a:ext cx="4343400" cy="4032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716360" y="3645000"/>
            <a:ext cx="3851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تتضمن الأسئلة التالية أكثر من إجابة ، حاول أن تجد  أكثر قدر من الإجابة 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549360"/>
            <a:ext cx="842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Arial"/>
              </a:rPr>
              <a:t>باستعمال ست أعواد ثقاب فقط كون أربعة مثلثات متساوية الأضلاع ؟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1280" y="2637000"/>
            <a:ext cx="439236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16000" y="765000"/>
            <a:ext cx="75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سعيد يحمل قمعا زجاجيا رقيقا جدا ينكسر من أي صدمة ومع ذلك استطاع أن يرميه لمسافة متر من فوق الأرض ولم ينكسر لماذا 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42920" y="2565360"/>
            <a:ext cx="410544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42920" y="4221000"/>
            <a:ext cx="655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سار ياسين بلا مظلة في موسم الأمطار في جنيف ولم يكن معه معطف للمطر أو أي قبعة أو أية حماية من الأمطار ومع ذلك لم يتبلل كيف 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698508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11280" y="1125360"/>
            <a:ext cx="81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وقف أسامة على طرف ربطة عنق ووقف سليم على الطرف الأخر من نفس ربطة العنق ومع ذلك لم يستطع أحدهما أن يلمس الأخر كيف 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16000" y="2852640"/>
            <a:ext cx="3502080" cy="371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404640"/>
            <a:ext cx="820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صالح طار في بالون وتوقف فوق بحر العرب وألقى من البالون علبتان ، إحداها فارغة والأخرى مملؤة بالماء فأيهما أصابت الأرض أولا ؟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532908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835280" y="33336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كيف يمكنك أن لا تنام عشرة أيام ومع ذلك لا تشعر بالتعب 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7058160" cy="4464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ABIC</cp:lastModifiedBy>
  <dcterms:modified xsi:type="dcterms:W3CDTF">2005-03-29T05:51:15Z</dcterms:modified>
  <cp:revision>2</cp:revision>
  <dc:subject/>
  <dc:title>PowerPoint Presentation</dc:title>
</cp:coreProperties>
</file>