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image4.wmf" ContentType="image/x-wmf"/>
  <Override PartName="/ppt/media/image25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5.wmf" ContentType="image/x-wmf"/>
  <Override PartName="/ppt/media/image27.png" ContentType="image/png"/>
  <Override PartName="/ppt/media/image30.wmf" ContentType="image/x-wmf"/>
  <Override PartName="/ppt/media/image12.jpeg" ContentType="image/jpeg"/>
  <Override PartName="/ppt/media/image8.wmf" ContentType="image/x-wmf"/>
  <Override PartName="/ppt/media/image28.png" ContentType="image/png"/>
  <Override PartName="/ppt/media/image13.wmf" ContentType="image/x-wmf"/>
  <Override PartName="/ppt/media/image9.jpeg" ContentType="image/jpeg"/>
  <Override PartName="/ppt/media/image2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3.png" ContentType="image/png"/>
  <Override PartName="/ppt/media/image22.png" ContentType="image/png"/>
  <Override PartName="/ppt/media/image24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5A7-BA88-42B0-A0B3-BA465337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DD8B-5D94-4374-B7C8-951CC202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88CF-DBD4-4C38-9631-276896E7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C47-0D5A-401B-87B0-14E752F9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393-90BB-4030-BECE-D4D9BF73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CC8-28E8-4343-8FF7-788F52DE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5BB-31B0-400C-ABEB-040F3EC3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A49-3CC0-45E6-9583-BDE03DBC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4B5-3DD6-4CA0-8CF1-49088318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CBF8-747F-4B7E-80FA-6D324146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756-6F66-496E-83F7-67847915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B7D-D2B0-49D7-821D-3F0489B7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07F3-81FE-41DE-AFAF-294CA1C2960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dawahmemo.com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16.wmf"/><Relationship Id="rId9" Type="http://schemas.openxmlformats.org/officeDocument/2006/relationships/package" Target="../embeddings/oleObject5.pptx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2000" spc="-1" strike="noStrike">
                <a:solidFill>
                  <a:srgbClr val="ccccff"/>
                </a:solidFill>
                <a:latin typeface="Times New Roman"/>
              </a:rPr>
              <a:t>ما هو الإبداع 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ccff"/>
                </a:solidFill>
                <a:latin typeface="Times New Roman"/>
              </a:rPr>
              <a:t> خطوات حل المشكلات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ccff"/>
                </a:solidFill>
                <a:latin typeface="Times New Roman"/>
              </a:rPr>
              <a:t>يوجد هذا الجزء في موقع المفكرة الدعوي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dawahmemo.com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125360"/>
            <a:ext cx="676908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حل المشكلات بطرق إبداعية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0"/>
            <a:ext cx="7010280" cy="74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</a:rPr>
              <a:t>خواص المبدعي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تبدو عليه الثقة في قدرته على تنفيذ ما يري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لا يحب اتباع الأساليب الروتيني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فضل التأمل والتفكير على اللغو والثرثر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ميل إلى إيجاد أكثر من حل واحد للمشكل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متلك القدرة على تحمل المسؤولي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دائم التساؤ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متعدد الميول والاهتمامات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لا يميل إلى التعصب أو التحام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قترح أفكارا وطرقا قد يعتبرها الآخرون غير معقول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حب التمرين والتجريب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523880" y="457200"/>
            <a:ext cx="5410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733920" y="380880"/>
            <a:ext cx="5029200" cy="78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تبدو عليه الرغبة في التفوق الآكاديمي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فضل التنافس والتحدي على المساير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مرح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واسع الخيا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إيجابي كثير التفاؤ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حب التغيير والتجديد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لا يحب التبعية أو التقليد الأعمى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حازم غير متردد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يحب المجازفة والمخاطرة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- شديد الملاحظة للأمور التي تهمه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قادر على التكيف بسرعة مع المتغيرات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228600" y="380880"/>
            <a:ext cx="525780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0"/>
          <a:ext cx="8458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514600" y="26668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عصف الذهني الحديث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692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69228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من طرق الإبدا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3880" y="0"/>
            <a:ext cx="7620120" cy="77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</a:rPr>
              <a:t>نبذة تاريخية عن العصف الذهني القد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بتكر العال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X OSBOR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“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ام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941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طريقة لتوليد الأفكار الجديدة أطلق عليها اس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العصف الذهن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“ .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وضع شروطا وقواعد لضمان نجاحها 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لا تنتقد الأفك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الكمية تولد النوع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ابني على أفكار الآخر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شجع الأفكار الكبيرة والمبالغ في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الأفكار البسيطة قد تولد أفكارا جيدة لأنها تقوم بتوجيه مسار التفكير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268272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19520" y="75240"/>
            <a:ext cx="555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33"/>
                </a:solidFill>
                <a:latin typeface="Times New Roman"/>
              </a:rPr>
              <a:t>تقنيات العصف الذهني  الحديث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996840"/>
            <a:ext cx="830592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هي  طرائق إبداعية تدمج في حلقة العصف الذهني تهدف إلى التجديد وتكوين مجموعة مثيرات لضمان توليد أفكار أكثر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33"/>
                </a:solidFill>
                <a:latin typeface="Times New Roman"/>
              </a:rPr>
              <a:t>أمثلة لتقنيات العصف الذهني الحديث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2819520"/>
          <a:ext cx="2819160" cy="1218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28191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348000" y="3860640"/>
          <a:ext cx="2732040" cy="17132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860640"/>
                    <a:ext cx="2732040" cy="17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292720" y="4811760"/>
          <a:ext cx="2503440" cy="20462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4811760"/>
                    <a:ext cx="2503440" cy="20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943600" y="2743200"/>
          <a:ext cx="2808360" cy="182880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2743200"/>
                    <a:ext cx="2808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116000" y="4705200"/>
          <a:ext cx="2873520" cy="2152800"/>
        </p:xfrm>
        <a:graphic>
          <a:graphicData uri="http://schemas.openxmlformats.org/presentationml/2006/ole">
            <p:oleObj progId="PowerPoint.Show.12"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4705200"/>
                    <a:ext cx="287352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743200" y="-120960"/>
            <a:ext cx="649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990033"/>
                </a:solidFill>
                <a:latin typeface="Times New Roman"/>
                <a:cs typeface="Mudir MT"/>
              </a:rPr>
              <a:t>الكلمات العشوائ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94360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8200" y="41904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26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990033"/>
                </a:solidFill>
                <a:uFillTx/>
                <a:latin typeface="Times New Roman"/>
              </a:rPr>
              <a:t>خطوات استخدام الكلمات العشوائية في العصف الذه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166680"/>
            <a:ext cx="8915400" cy="85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الهدف من استخدام الكلمات العشوائية هو تكوين مثير لتوليد الأفكار من خلال تحويل المسار التفكيري من نمط إلى أخ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وتتلخص عملية دمج الكلمات العشوائية في عملية العصف الذهني في الخطوات التالية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وضع قائمة بكلمات عشوائية قبل البدء بحلقة النقاش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اختيار كلمة عشوائية بطريقة عشوائية لمحاولة ربطها بالفكر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تحديد خصائص عامة للكلمة العشوائي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ربط الكلمة بالفكرة من خلال تكوين “ جسر الفكرة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“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توجيه “ جسر الفكرة “ نحو تكوين أفكار جديدة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تكرار الخطوات ( 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 ) مرات متعددة مع كلمات مختلفة .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27781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76720" y="1054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33"/>
                </a:solidFill>
                <a:latin typeface="Times New Roman"/>
              </a:rPr>
              <a:t>دراسة تطوير المطابخ المنزلية</a:t>
            </a:r>
            <a:r>
              <a:rPr b="0" lang="ar-SA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200400" cy="2658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1280" y="605520"/>
            <a:ext cx="555624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لمة العشوائية : 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الفضاء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انعدام الوزن والجاذب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748080" y="3253320"/>
            <a:ext cx="112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جسر الفك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 ماذا لو كانت الموقد  في الفضاء الخارج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209680"/>
            <a:ext cx="838080" cy="990720"/>
          </a:xfrm>
          <a:prstGeom prst="downArrow">
            <a:avLst>
              <a:gd name="adj1" fmla="val 67185"/>
              <a:gd name="adj2" fmla="val 135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675320"/>
            <a:ext cx="86868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الأفكار الجديدة المتوقع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ضع معناطيس داخل الحاجب الحديدي للمواقد لضمان التصاق الأوعية المعدنية وبالتالي عدم سقوطه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809880"/>
            <a:ext cx="838440" cy="990720"/>
          </a:xfrm>
          <a:prstGeom prst="downArrow">
            <a:avLst>
              <a:gd name="adj1" fmla="val 67185"/>
              <a:gd name="adj2" fmla="val 135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19520" y="-684360"/>
            <a:ext cx="5943600" cy="64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990033"/>
                </a:solidFill>
                <a:uFillTx/>
                <a:latin typeface="Times New Roman"/>
              </a:rPr>
              <a:t>الصور العشوائ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Times New Roman"/>
              </a:rPr>
              <a:t>يمكن استخدام الصورة كمثير لتوليد الأفكار وذلك من خلال التأمل فيها وطرح الأسئلة المختلفة عن بعض جوانبها للخروج بجسر الفكرة ثم الربط بين مفاهيم الصورة و الفكرة المدروسة . ويستحسن أن تكون الصورة غير معروفة أو جديدة وذلك لانتاج مثيرات أكثر تساعد على توليد الأفك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5235480" cy="39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66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Times New Roman"/>
              </a:rPr>
              <a:t>اربط بين فكرة تطوير اطارات السيارة وفرشاة الأسن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657600" cy="342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90033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09480" y="1600200"/>
            <a:ext cx="3657600" cy="3429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990033"/>
            </a:outerShdw>
          </a:effectLst>
        </p:spPr>
      </p:pic>
      <p:sp>
        <p:nvSpPr>
          <p:cNvPr id="101" name=""/>
          <p:cNvSpPr/>
          <p:nvPr/>
        </p:nvSpPr>
        <p:spPr>
          <a:xfrm>
            <a:off x="414360" y="5031720"/>
            <a:ext cx="834876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استخدم جسر الفكرة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 استفيد من خصائص فرشاة الأسنان في تطوير عجلات السيار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00000" y="0"/>
            <a:ext cx="769644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DecoType Naskh"/>
              </a:rPr>
              <a:t>الإبداع : هو النظر إلى الأشياء المألوفة من زوايا غير مألوفة</a:t>
            </a:r>
            <a:r>
              <a:rPr b="0" lang="ar-SA" sz="36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8381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08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اربط بين الصور التالية وفكرة تطوير إطارات السيارة 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00560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6629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95280" y="109080"/>
            <a:ext cx="7543800" cy="43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0033"/>
                </a:solidFill>
                <a:latin typeface="Times New Roman"/>
              </a:rPr>
              <a:t>القوانين العشوائ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66ff"/>
                </a:solidFill>
                <a:latin typeface="Times New Roman"/>
              </a:rPr>
              <a:t>وهي عبارة عن قوانين قد تكون معروفة أو غير معروفة تهدف إلى تكوين مثيرات عند التأمل فيها. ويمكن اختيارها من قوانين عامة لجهاز ما أو ارشادات عامة للعبة ما</a:t>
            </a:r>
            <a:r>
              <a:rPr b="0" lang="ar-SA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042200" y="4118400"/>
            <a:ext cx="1179504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ربط بين القانون الرياضي التالي وتطوير اطارات السيارة؟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4560" y="5109120"/>
            <a:ext cx="8954280" cy="581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كلات الجزاء تعتمد على تركيز اللاعب وهدوء أعصاب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657600" y="2656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0033"/>
                </a:solidFill>
                <a:latin typeface="Times New Roman"/>
              </a:rPr>
              <a:t>لعبــة الأد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716760"/>
            <a:ext cx="66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تعني النظر إلى الفكرة المدروسة بعيون الآخرين الذين لهم علاقة بها ، وطرح أسئلة مساعدة لمعرفة وجهات نظر الأشخاص وذوي العلاقة المباشرة بالفكرة ، ومن خلال الأسئلة قد تتولد أفكار جديدة قابلة للتطبيق بناءا على النظر إلى المشكلة من زوايا مختلف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" y="3840840"/>
            <a:ext cx="927000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33"/>
                </a:solidFill>
                <a:latin typeface="Times New Roman"/>
              </a:rPr>
              <a:t>الأسئلة المقتر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كيف يفكرون بالموضوع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ما هو الموقف أو العمل الذي سوف يتخذونه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كيف سيشرحون حقيقة المشكلة 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848720" cy="4648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53080" y="31240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33"/>
                </a:solidFill>
                <a:latin typeface="Times New Roman"/>
              </a:rPr>
              <a:t>الأفكا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45720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معايير التقو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5146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الحلول أو الأفكار المناسب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57400" y="304920"/>
            <a:ext cx="6400800" cy="1447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429000" y="53352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0033"/>
                </a:solidFill>
                <a:latin typeface="Times New Roman"/>
              </a:rPr>
              <a:t>  تحليــل الأفكـ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24000" y="549360"/>
          <a:ext cx="8424720" cy="5668920"/>
        </p:xfrm>
        <a:graphic>
          <a:graphicData uri="http://schemas.openxmlformats.org/drawingml/2006/table">
            <a:tbl>
              <a:tblPr/>
              <a:tblGrid>
                <a:gridCol w="1054080"/>
                <a:gridCol w="1052280"/>
                <a:gridCol w="1052640"/>
                <a:gridCol w="1054080"/>
                <a:gridCol w="1052640"/>
                <a:gridCol w="1054080"/>
                <a:gridCol w="1050840"/>
                <a:gridCol w="1054080"/>
              </a:tblGrid>
              <a:tr h="9471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ايير تقويم فكرة ( تطوير إطارات السيارات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cc"/>
                        </a:gs>
                        <a:gs pos="100000">
                          <a:srgbClr val="5e755e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 Backslanted"/>
                        </a:rPr>
                        <a:t>المجم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أنظ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قبول النا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جدو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كلف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ك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درجة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549360"/>
            <a:ext cx="7848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ar-SA" sz="4800" spc="-1" strike="noStrike">
                <a:solidFill>
                  <a:srgbClr val="a50021"/>
                </a:solidFill>
                <a:latin typeface="Arial"/>
              </a:rPr>
              <a:t>استمت</a:t>
            </a:r>
            <a:r>
              <a:rPr b="1" lang="ar-SA" sz="4800" spc="-1" strike="noStrike">
                <a:solidFill>
                  <a:srgbClr val="00ff00"/>
                </a:solidFill>
                <a:latin typeface="Arial"/>
              </a:rPr>
              <a:t>ع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3399"/>
                </a:solidFill>
                <a:latin typeface="Arial"/>
              </a:rPr>
              <a:t>مع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الإبدا</a:t>
            </a:r>
            <a:r>
              <a:rPr b="1" lang="ar-SA" sz="4800" spc="-1" strike="noStrike">
                <a:solidFill>
                  <a:srgbClr val="0000ff"/>
                </a:solidFill>
                <a:latin typeface="Arial"/>
              </a:rPr>
              <a:t>ع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ة لتنمية تكوين الحلول والبدائل</a:t>
            </a:r>
            <a:r>
              <a:rPr b="0" lang="ar-SA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825640"/>
            <a:ext cx="4343400" cy="403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16360" y="3645000"/>
            <a:ext cx="385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تتضمن الأسئلة التالية أكثر من إجابة ، حاول أن تجد  أكثر قدر من الإجابة 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549360"/>
            <a:ext cx="842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Arial"/>
              </a:rPr>
              <a:t>باستعمال ست أعواد ثقاب فقط كون أربعة مثلثات متساوية الأضلاع ؟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43923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76500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سعيد يحمل قمعا زجاجيا رقيقا جدا ينكسر من أي صدمة ومع ذلك استطاع أن يرميه لمسافة متر من فوق الأرض ولم ينكسر لماذا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41054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42920" y="4221000"/>
            <a:ext cx="65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سار ياسين بلا مظلة في موسم الأمطار في جنيف ولم يكن معه معطف للمطر أو أي قبعة أو أية حماية من الأمطار ومع ذلك لم يتبلل كيف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69850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12536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قف أسامة على طرف ربطة عنق ووقف سليم على الطرف الأخر من نفس ربطة العنق ومع ذلك لم يستطع أحدهما أن يلمس الأخر كيف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350208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2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صالح طار في بالون وتوقف فوق بحر العرب وألقى من البالون علبتان ، إحداها فارغة والأخرى مملؤة بالماء فأيهما أصابت الأرض أولا ؟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5329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5280" y="333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يف يمكنك أن لا تنام عشرة أيام ومع ذلك لا تشعر بالتعب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0581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ABIC</cp:lastModifiedBy>
  <dcterms:modified xsi:type="dcterms:W3CDTF">2005-03-29T05:51:15Z</dcterms:modified>
  <cp:revision>2</cp:revision>
  <dc:subject/>
  <dc:title>PowerPoint Presentation</dc:title>
</cp:coreProperties>
</file>